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4949"/>
              </a:solidFill>
              <a:latin typeface="Open Sans Light"/>
            </a:endParaRPr>
          </a:p>
        </p:txBody>
      </p:sp>
      <p:sp>
        <p:nvSpPr>
          <p:cNvPr id="80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7"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0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move the slide</a:t>
            </a:r>
            <a:endParaRPr b="0" lang="en-US" sz="4400" spc="-1" strike="noStrike">
              <a:solidFill>
                <a:srgbClr val="494949"/>
              </a:solidFill>
              <a:latin typeface="Lato Heavy"/>
            </a:endParaRPr>
          </a:p>
        </p:txBody>
      </p:sp>
      <p:sp>
        <p:nvSpPr>
          <p:cNvPr id="80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0"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1"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236499-09CA-4705-86C7-B61664864C2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685800" y="1143000"/>
            <a:ext cx="5486400" cy="3086280"/>
          </a:xfrm>
          <a:prstGeom prst="rect">
            <a:avLst/>
          </a:prstGeom>
          <a:ln w="0">
            <a:noFill/>
          </a:ln>
        </p:spPr>
      </p:sp>
      <p:sp>
        <p:nvSpPr>
          <p:cNvPr id="1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id-ID" sz="1200" spc="-1" strike="noStrike">
              <a:solidFill>
                <a:srgbClr val="000000"/>
              </a:solidFill>
              <a:latin typeface="Calibri"/>
            </a:endParaRPr>
          </a:p>
        </p:txBody>
      </p:sp>
      <p:sp>
        <p:nvSpPr>
          <p:cNvPr id="1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FD947F-504C-4A2A-9587-428DA303984A}" type="slidenum">
              <a:rPr b="0" lang="id-ID"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685800" y="1143000"/>
            <a:ext cx="5486400" cy="3086280"/>
          </a:xfrm>
          <a:prstGeom prst="rect">
            <a:avLst/>
          </a:prstGeom>
          <a:ln w="0">
            <a:noFill/>
          </a:ln>
        </p:spPr>
      </p:sp>
      <p:sp>
        <p:nvSpPr>
          <p:cNvPr id="16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99E8A2-367C-44C0-9175-053A02E47BAE}"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685800" y="1143000"/>
            <a:ext cx="5486400" cy="3086280"/>
          </a:xfrm>
          <a:prstGeom prst="rect">
            <a:avLst/>
          </a:prstGeom>
          <a:ln w="0">
            <a:noFill/>
          </a:ln>
        </p:spPr>
      </p:sp>
      <p:sp>
        <p:nvSpPr>
          <p:cNvPr id="16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B85A7A-4C29-4E04-98E6-5D4419F5F89E}"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685800" y="1143000"/>
            <a:ext cx="5486400" cy="3086280"/>
          </a:xfrm>
          <a:prstGeom prst="rect">
            <a:avLst/>
          </a:prstGeom>
          <a:ln w="0">
            <a:noFill/>
          </a:ln>
        </p:spPr>
      </p:sp>
      <p:sp>
        <p:nvSpPr>
          <p:cNvPr id="16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7BDBFE-2FC0-4B0F-B3BF-A9A8BF2AF860}"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685800" y="1143000"/>
            <a:ext cx="5486400" cy="3086280"/>
          </a:xfrm>
          <a:prstGeom prst="rect">
            <a:avLst/>
          </a:prstGeom>
          <a:ln w="0">
            <a:noFill/>
          </a:ln>
        </p:spPr>
      </p:sp>
      <p:sp>
        <p:nvSpPr>
          <p:cNvPr id="16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520204-633A-481B-BB37-02F5D9699B36}"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685800" y="1143000"/>
            <a:ext cx="5486400" cy="3086280"/>
          </a:xfrm>
          <a:prstGeom prst="rect">
            <a:avLst/>
          </a:prstGeom>
          <a:ln w="0">
            <a:noFill/>
          </a:ln>
        </p:spPr>
      </p:sp>
      <p:sp>
        <p:nvSpPr>
          <p:cNvPr id="16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1D85FC-C6EF-4757-B20E-9C28E97B5077}"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685800" y="1143000"/>
            <a:ext cx="5486400" cy="3086280"/>
          </a:xfrm>
          <a:prstGeom prst="rect">
            <a:avLst/>
          </a:prstGeom>
          <a:ln w="0">
            <a:noFill/>
          </a:ln>
        </p:spPr>
      </p:sp>
      <p:sp>
        <p:nvSpPr>
          <p:cNvPr id="16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E207ED-D833-4B4B-835A-8238E2824D73}"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685800" y="1143000"/>
            <a:ext cx="5486400" cy="3086280"/>
          </a:xfrm>
          <a:prstGeom prst="rect">
            <a:avLst/>
          </a:prstGeom>
          <a:ln w="0">
            <a:noFill/>
          </a:ln>
        </p:spPr>
      </p:sp>
      <p:sp>
        <p:nvSpPr>
          <p:cNvPr id="16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B66E6A-8D94-4156-8B62-2DF308549353}"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685800" y="1143000"/>
            <a:ext cx="5486400" cy="3086280"/>
          </a:xfrm>
          <a:prstGeom prst="rect">
            <a:avLst/>
          </a:prstGeom>
          <a:ln w="0">
            <a:noFill/>
          </a:ln>
        </p:spPr>
      </p:sp>
      <p:sp>
        <p:nvSpPr>
          <p:cNvPr id="16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EA3045-678B-447F-B308-2EC60CD3A86F}"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685800" y="1143000"/>
            <a:ext cx="5486400" cy="3086280"/>
          </a:xfrm>
          <a:prstGeom prst="rect">
            <a:avLst/>
          </a:prstGeom>
          <a:ln w="0">
            <a:noFill/>
          </a:ln>
        </p:spPr>
      </p:sp>
      <p:sp>
        <p:nvSpPr>
          <p:cNvPr id="1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
        <p:nvSpPr>
          <p:cNvPr id="1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7E78B4-4529-48AD-8355-6AEDD3BB73AE}" type="slidenum">
              <a:rPr b="0" lang="en-GB" sz="1200" spc="-1" strike="noStrike">
                <a:solidFill>
                  <a:srgbClr val="494949"/>
                </a:solidFill>
                <a:latin typeface="Calibri"/>
              </a:rPr>
              <a:t>&lt;number&gt;</a:t>
            </a:fld>
            <a:endParaRPr b="0" lang="en-US" sz="1200" spc="-1" strike="noStrike">
              <a:solidFill>
                <a:srgbClr val="494949"/>
              </a:solidFill>
              <a:latin typeface="Open Sans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304A6-7771-4B18-B95D-482ECDDCA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D681-AB8C-4DA2-901A-BDFD118C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1AA2A-55FD-4875-92A3-D1EF79F86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35CB2-2F22-4B9D-A977-26E217C51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D09CA-D915-45FC-9D63-5B3DC74B0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9D370-FD35-406E-8C65-81B1312BF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C6ED4-579C-4967-83C2-E610A0E6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24217-1870-4AD5-8331-12AEDBF59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00A47-1F7A-4AFB-8EB4-5E54E9065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D667B-F104-4C4E-8678-F60222069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196F5-9641-4740-9947-135427285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F0591-0FF8-4E41-8BE7-FB6ECA63D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93971-109E-4991-8FCF-C1D5956E3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1587B-5B59-4BA5-A036-37D7A441E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B9D93-0A4E-4AD1-8E67-37A116638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A3949-3A93-437E-8B5F-CEB250AF2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C70B-FF90-4489-BDEF-6FAA8AE4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7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E166-E9FF-4166-8D62-42C70BFC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4867-C6AE-4DF0-8B66-E4B4BE39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8066-E1EB-4EB4-9155-FCDA0FF2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8D6B-AE96-4DBB-B8AD-13C8B807D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E2E6-52EA-4E32-9B33-59B6DAD49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0146-C775-4FAE-A339-6204AC48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A660-2016-43AC-BA12-2D0BD9268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2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
        <p:nvSpPr>
          <p:cNvPr id="3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494949"/>
              </a:solidFill>
              <a:latin typeface="Lato Heavy"/>
            </a:endParaRPr>
          </a:p>
        </p:txBody>
      </p:sp>
      <p:sp>
        <p:nvSpPr>
          <p:cNvPr id="3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494949"/>
              </a:solidFill>
              <a:latin typeface="Open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959595"/>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959595"/>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959595"/>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FD5BF3-7316-47EB-B9D6-C5F01E9DF262}" type="slidenum">
              <a:rPr b="0" lang="en-GB" sz="1200" spc="-1" strike="noStrike">
                <a:solidFill>
                  <a:srgbClr val="95959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354" name="Oval 7"/>
          <p:cNvSpPr/>
          <p:nvPr/>
        </p:nvSpPr>
        <p:spPr>
          <a:xfrm>
            <a:off x="5057640" y="2351160"/>
            <a:ext cx="1597320" cy="1596960"/>
          </a:xfrm>
          <a:prstGeom prst="ellipse">
            <a:avLst/>
          </a:prstGeom>
          <a:solidFill>
            <a:srgbClr val="00a09c"/>
          </a:solidFill>
          <a:ln w="12600">
            <a:solidFill>
              <a:srgbClr val="007471"/>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3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3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
        <p:nvSpPr>
          <p:cNvPr id="39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959595"/>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959595"/>
                </a:solidFill>
                <a:latin typeface="Times New Roman"/>
              </a:rPr>
              <a:t>&lt;date/time&gt;</a:t>
            </a:r>
            <a:endParaRPr b="0" lang="en-US" sz="1200" spc="-1" strike="noStrike">
              <a:solidFill>
                <a:srgbClr val="000000"/>
              </a:solidFill>
              <a:latin typeface="Times New Roman"/>
            </a:endParaRPr>
          </a:p>
        </p:txBody>
      </p:sp>
      <p:sp>
        <p:nvSpPr>
          <p:cNvPr id="39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39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959595"/>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F716E2-C356-4BDE-BC0E-B8D25B4459B8}" type="slidenum">
              <a:rPr b="0" lang="en-GB" sz="1200" spc="-1" strike="noStrike">
                <a:solidFill>
                  <a:srgbClr val="95959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6"/>
          <p:cNvGrpSpPr/>
          <p:nvPr/>
        </p:nvGrpSpPr>
        <p:grpSpPr>
          <a:xfrm>
            <a:off x="5210280" y="2647800"/>
            <a:ext cx="258480" cy="257400"/>
            <a:chOff x="5210280" y="2647800"/>
            <a:chExt cx="258480" cy="257400"/>
          </a:xfrm>
        </p:grpSpPr>
        <p:sp>
          <p:nvSpPr>
            <p:cNvPr id="474" name="Shape 87"/>
            <p:cNvSpPr/>
            <p:nvPr/>
          </p:nvSpPr>
          <p:spPr>
            <a:xfrm>
              <a:off x="5210280" y="2647800"/>
              <a:ext cx="258480" cy="2574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4175a9"/>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475" name="Shape 88"/>
            <p:cNvSpPr/>
            <p:nvPr/>
          </p:nvSpPr>
          <p:spPr>
            <a:xfrm>
              <a:off x="5307120" y="2706480"/>
              <a:ext cx="64440" cy="139680"/>
            </a:xfrm>
            <a:custGeom>
              <a:avLst/>
              <a:gdLst/>
              <a:ahLst/>
              <a:rect l="l" t="t" r="r" b="b"/>
              <a:pathLst>
                <a:path w="21600" h="21600">
                  <a:moveTo>
                    <a:pt x="6830" y="21600"/>
                  </a:moveTo>
                  <a:cubicBezTo>
                    <a:pt x="4346" y="21600"/>
                    <a:pt x="2526" y="20896"/>
                    <a:pt x="4264" y="17794"/>
                  </a:cubicBezTo>
                  <a:lnTo>
                    <a:pt x="7114" y="12295"/>
                  </a:lnTo>
                  <a:cubicBezTo>
                    <a:pt x="7609" y="11416"/>
                    <a:pt x="7692" y="11062"/>
                    <a:pt x="7114" y="11062"/>
                  </a:cubicBezTo>
                  <a:cubicBezTo>
                    <a:pt x="6370" y="11062"/>
                    <a:pt x="3149" y="11669"/>
                    <a:pt x="1240" y="12269"/>
                  </a:cubicBezTo>
                  <a:lnTo>
                    <a:pt x="0" y="11318"/>
                  </a:lnTo>
                  <a:cubicBezTo>
                    <a:pt x="6039" y="8958"/>
                    <a:pt x="12986" y="7574"/>
                    <a:pt x="15968" y="7574"/>
                  </a:cubicBezTo>
                  <a:cubicBezTo>
                    <a:pt x="18449" y="7574"/>
                    <a:pt x="18863" y="8949"/>
                    <a:pt x="17623" y="11062"/>
                  </a:cubicBezTo>
                  <a:lnTo>
                    <a:pt x="14357" y="16843"/>
                  </a:lnTo>
                  <a:cubicBezTo>
                    <a:pt x="13779" y="17863"/>
                    <a:pt x="14026" y="18215"/>
                    <a:pt x="14606" y="18215"/>
                  </a:cubicBezTo>
                  <a:cubicBezTo>
                    <a:pt x="15350" y="18215"/>
                    <a:pt x="17792" y="17792"/>
                    <a:pt x="20191" y="16912"/>
                  </a:cubicBezTo>
                  <a:lnTo>
                    <a:pt x="21600" y="17791"/>
                  </a:lnTo>
                  <a:cubicBezTo>
                    <a:pt x="15726" y="20542"/>
                    <a:pt x="9310" y="21600"/>
                    <a:pt x="6830" y="21600"/>
                  </a:cubicBezTo>
                  <a:close/>
                  <a:moveTo>
                    <a:pt x="16510" y="0"/>
                  </a:moveTo>
                  <a:cubicBezTo>
                    <a:pt x="19656" y="0"/>
                    <a:pt x="21229" y="985"/>
                    <a:pt x="21229" y="2114"/>
                  </a:cubicBezTo>
                  <a:cubicBezTo>
                    <a:pt x="21229" y="3523"/>
                    <a:pt x="18497" y="4826"/>
                    <a:pt x="14939" y="4826"/>
                  </a:cubicBezTo>
                  <a:cubicBezTo>
                    <a:pt x="11960" y="4826"/>
                    <a:pt x="10222" y="4017"/>
                    <a:pt x="10305" y="2677"/>
                  </a:cubicBezTo>
                  <a:cubicBezTo>
                    <a:pt x="10305" y="1551"/>
                    <a:pt x="12373" y="0"/>
                    <a:pt x="16510" y="0"/>
                  </a:cubicBezTo>
                  <a:close/>
                </a:path>
              </a:pathLst>
            </a:custGeom>
            <a:solidFill>
              <a:srgbClr val="ffffff"/>
            </a:solidFill>
            <a:ln w="0">
              <a:noFill/>
            </a:ln>
          </p:spPr>
          <p:style>
            <a:lnRef idx="0"/>
            <a:fillRef idx="0"/>
            <a:effectRef idx="0"/>
            <a:fontRef idx="minor"/>
          </p:style>
          <p:txBody>
            <a:bodyPr lIns="43560" rIns="43560" tIns="43560" bIns="43560" anchor="ctr">
              <a:noAutofit/>
            </a:bodyPr>
            <a:p>
              <a:endParaRPr b="0" lang="en-US" sz="1800" spc="-1" strike="noStrike">
                <a:solidFill>
                  <a:srgbClr val="494949"/>
                </a:solidFill>
                <a:latin typeface="Open Sans Light"/>
              </a:endParaRPr>
            </a:p>
          </p:txBody>
        </p:sp>
      </p:grpSp>
      <p:sp>
        <p:nvSpPr>
          <p:cNvPr id="476"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516" name="Group 7"/>
          <p:cNvGrpSpPr/>
          <p:nvPr/>
        </p:nvGrpSpPr>
        <p:grpSpPr>
          <a:xfrm>
            <a:off x="4781520" y="2209680"/>
            <a:ext cx="430200" cy="427320"/>
            <a:chOff x="4781520" y="2209680"/>
            <a:chExt cx="430200" cy="427320"/>
          </a:xfrm>
        </p:grpSpPr>
        <p:sp>
          <p:nvSpPr>
            <p:cNvPr id="517" name="Shape 113"/>
            <p:cNvSpPr/>
            <p:nvPr/>
          </p:nvSpPr>
          <p:spPr>
            <a:xfrm>
              <a:off x="4781520" y="2209680"/>
              <a:ext cx="430200" cy="427320"/>
            </a:xfrm>
            <a:prstGeom prst="ellipse">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518" name="Shape 114"/>
            <p:cNvSpPr/>
            <p:nvPr/>
          </p:nvSpPr>
          <p:spPr>
            <a:xfrm>
              <a:off x="4934160" y="2329200"/>
              <a:ext cx="130680" cy="187920"/>
            </a:xfrm>
            <a:custGeom>
              <a:avLst/>
              <a:gdLst/>
              <a:ahLst/>
              <a:rect l="l" t="t" r="r" b="b"/>
              <a:pathLst>
                <a:path w="21600" h="21600">
                  <a:moveTo>
                    <a:pt x="9000" y="9554"/>
                  </a:moveTo>
                  <a:cubicBezTo>
                    <a:pt x="9000" y="9675"/>
                    <a:pt x="8944" y="9774"/>
                    <a:pt x="8831" y="9853"/>
                  </a:cubicBezTo>
                  <a:cubicBezTo>
                    <a:pt x="8719" y="9931"/>
                    <a:pt x="8575" y="9970"/>
                    <a:pt x="8400" y="9970"/>
                  </a:cubicBezTo>
                  <a:cubicBezTo>
                    <a:pt x="8226" y="9970"/>
                    <a:pt x="8082" y="9931"/>
                    <a:pt x="7968" y="9853"/>
                  </a:cubicBezTo>
                  <a:cubicBezTo>
                    <a:pt x="7856" y="9775"/>
                    <a:pt x="7800" y="9675"/>
                    <a:pt x="7800" y="9554"/>
                  </a:cubicBezTo>
                  <a:lnTo>
                    <a:pt x="7800" y="3739"/>
                  </a:lnTo>
                  <a:cubicBezTo>
                    <a:pt x="7800" y="3618"/>
                    <a:pt x="7856" y="3518"/>
                    <a:pt x="7968" y="3440"/>
                  </a:cubicBezTo>
                  <a:cubicBezTo>
                    <a:pt x="8082" y="3362"/>
                    <a:pt x="8226" y="3323"/>
                    <a:pt x="8400" y="3323"/>
                  </a:cubicBezTo>
                  <a:cubicBezTo>
                    <a:pt x="8575" y="3323"/>
                    <a:pt x="8719" y="3362"/>
                    <a:pt x="8831" y="3440"/>
                  </a:cubicBezTo>
                  <a:cubicBezTo>
                    <a:pt x="8944" y="3518"/>
                    <a:pt x="9000" y="3618"/>
                    <a:pt x="9000" y="3739"/>
                  </a:cubicBezTo>
                  <a:cubicBezTo>
                    <a:pt x="9000" y="3739"/>
                    <a:pt x="9000" y="9554"/>
                    <a:pt x="9000" y="9554"/>
                  </a:cubicBezTo>
                  <a:close/>
                  <a:moveTo>
                    <a:pt x="20128" y="11248"/>
                  </a:moveTo>
                  <a:cubicBezTo>
                    <a:pt x="19147" y="10396"/>
                    <a:pt x="18038" y="9970"/>
                    <a:pt x="16800" y="9970"/>
                  </a:cubicBezTo>
                  <a:lnTo>
                    <a:pt x="16800" y="3323"/>
                  </a:lnTo>
                  <a:cubicBezTo>
                    <a:pt x="17450" y="3323"/>
                    <a:pt x="18012" y="3159"/>
                    <a:pt x="18487" y="2830"/>
                  </a:cubicBezTo>
                  <a:cubicBezTo>
                    <a:pt x="18963" y="2501"/>
                    <a:pt x="19200" y="2111"/>
                    <a:pt x="19200" y="1662"/>
                  </a:cubicBezTo>
                  <a:cubicBezTo>
                    <a:pt x="19200" y="1211"/>
                    <a:pt x="18963" y="822"/>
                    <a:pt x="18487" y="493"/>
                  </a:cubicBezTo>
                  <a:cubicBezTo>
                    <a:pt x="18012" y="164"/>
                    <a:pt x="17450" y="0"/>
                    <a:pt x="16800" y="0"/>
                  </a:cubicBezTo>
                  <a:lnTo>
                    <a:pt x="4800" y="0"/>
                  </a:lnTo>
                  <a:cubicBezTo>
                    <a:pt x="4150" y="0"/>
                    <a:pt x="3587" y="164"/>
                    <a:pt x="3113" y="493"/>
                  </a:cubicBezTo>
                  <a:cubicBezTo>
                    <a:pt x="2637" y="822"/>
                    <a:pt x="2400" y="1211"/>
                    <a:pt x="2400" y="1662"/>
                  </a:cubicBezTo>
                  <a:cubicBezTo>
                    <a:pt x="2400" y="2111"/>
                    <a:pt x="2637" y="2501"/>
                    <a:pt x="3113" y="2830"/>
                  </a:cubicBezTo>
                  <a:cubicBezTo>
                    <a:pt x="3587" y="3159"/>
                    <a:pt x="4150" y="3323"/>
                    <a:pt x="4800" y="3323"/>
                  </a:cubicBezTo>
                  <a:lnTo>
                    <a:pt x="4800" y="9970"/>
                  </a:lnTo>
                  <a:cubicBezTo>
                    <a:pt x="3562" y="9970"/>
                    <a:pt x="2453" y="10396"/>
                    <a:pt x="1472" y="11248"/>
                  </a:cubicBezTo>
                  <a:cubicBezTo>
                    <a:pt x="491" y="12100"/>
                    <a:pt x="0" y="13059"/>
                    <a:pt x="0" y="14123"/>
                  </a:cubicBezTo>
                  <a:cubicBezTo>
                    <a:pt x="0" y="14348"/>
                    <a:pt x="119" y="14543"/>
                    <a:pt x="356" y="14707"/>
                  </a:cubicBezTo>
                  <a:cubicBezTo>
                    <a:pt x="594" y="14871"/>
                    <a:pt x="875" y="14954"/>
                    <a:pt x="1200" y="14954"/>
                  </a:cubicBezTo>
                  <a:lnTo>
                    <a:pt x="8775" y="14954"/>
                  </a:lnTo>
                  <a:lnTo>
                    <a:pt x="10200" y="21250"/>
                  </a:lnTo>
                  <a:cubicBezTo>
                    <a:pt x="10263" y="21483"/>
                    <a:pt x="10463" y="21600"/>
                    <a:pt x="10800" y="21600"/>
                  </a:cubicBezTo>
                  <a:lnTo>
                    <a:pt x="10819" y="21600"/>
                  </a:lnTo>
                  <a:cubicBezTo>
                    <a:pt x="10969" y="21600"/>
                    <a:pt x="11097" y="21564"/>
                    <a:pt x="11203" y="21491"/>
                  </a:cubicBezTo>
                  <a:cubicBezTo>
                    <a:pt x="11309" y="21417"/>
                    <a:pt x="11375" y="21328"/>
                    <a:pt x="11400" y="21224"/>
                  </a:cubicBezTo>
                  <a:lnTo>
                    <a:pt x="12356" y="14954"/>
                  </a:lnTo>
                  <a:lnTo>
                    <a:pt x="20400" y="14954"/>
                  </a:lnTo>
                  <a:cubicBezTo>
                    <a:pt x="20725" y="14954"/>
                    <a:pt x="21007" y="14871"/>
                    <a:pt x="21244" y="14707"/>
                  </a:cubicBezTo>
                  <a:cubicBezTo>
                    <a:pt x="21481" y="14543"/>
                    <a:pt x="21600" y="14348"/>
                    <a:pt x="21600" y="14123"/>
                  </a:cubicBezTo>
                  <a:cubicBezTo>
                    <a:pt x="21600" y="13059"/>
                    <a:pt x="21109" y="12100"/>
                    <a:pt x="20128" y="11248"/>
                  </a:cubicBezTo>
                  <a:cubicBezTo>
                    <a:pt x="20128" y="11248"/>
                    <a:pt x="20128" y="11248"/>
                    <a:pt x="20128" y="1124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519" name="Group 10"/>
          <p:cNvGrpSpPr/>
          <p:nvPr/>
        </p:nvGrpSpPr>
        <p:grpSpPr>
          <a:xfrm>
            <a:off x="4781520" y="3908520"/>
            <a:ext cx="430200" cy="428400"/>
            <a:chOff x="4781520" y="3908520"/>
            <a:chExt cx="430200" cy="428400"/>
          </a:xfrm>
        </p:grpSpPr>
        <p:sp>
          <p:nvSpPr>
            <p:cNvPr id="520" name="Shape 113"/>
            <p:cNvSpPr/>
            <p:nvPr/>
          </p:nvSpPr>
          <p:spPr>
            <a:xfrm>
              <a:off x="4781520" y="3908520"/>
              <a:ext cx="430200" cy="428400"/>
            </a:xfrm>
            <a:prstGeom prst="ellipse">
              <a:avLst/>
            </a:prstGeom>
            <a:solidFill>
              <a:srgbClr val="4175a9"/>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521" name="Group 12" descr=""/>
            <p:cNvPicPr/>
            <p:nvPr/>
          </p:nvPicPr>
          <p:blipFill>
            <a:blip r:embed="rId2"/>
            <a:stretch/>
          </p:blipFill>
          <p:spPr>
            <a:xfrm>
              <a:off x="4932000" y="4047480"/>
              <a:ext cx="140400" cy="146160"/>
            </a:xfrm>
            <a:prstGeom prst="rect">
              <a:avLst/>
            </a:prstGeom>
            <a:ln w="0">
              <a:noFill/>
            </a:ln>
          </p:spPr>
        </p:pic>
      </p:grpSp>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5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56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600" name="Group 7"/>
          <p:cNvGrpSpPr/>
          <p:nvPr/>
        </p:nvGrpSpPr>
        <p:grpSpPr>
          <a:xfrm>
            <a:off x="6823080" y="2311560"/>
            <a:ext cx="378000" cy="347400"/>
            <a:chOff x="6823080" y="2311560"/>
            <a:chExt cx="378000" cy="347400"/>
          </a:xfrm>
        </p:grpSpPr>
        <p:sp>
          <p:nvSpPr>
            <p:cNvPr id="601" name="Shape 1716"/>
            <p:cNvSpPr/>
            <p:nvPr/>
          </p:nvSpPr>
          <p:spPr>
            <a:xfrm>
              <a:off x="6823080" y="2311560"/>
              <a:ext cx="346320" cy="347400"/>
            </a:xfrm>
            <a:prstGeom prst="rect">
              <a:avLst/>
            </a:prstGeom>
            <a:solidFill>
              <a:srgbClr val="00a09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494949"/>
                </a:solidFill>
                <a:latin typeface="Open Sans Light"/>
              </a:endParaRPr>
            </a:p>
          </p:txBody>
        </p:sp>
        <p:sp>
          <p:nvSpPr>
            <p:cNvPr id="602" name="Shape 1934"/>
            <p:cNvSpPr/>
            <p:nvPr/>
          </p:nvSpPr>
          <p:spPr>
            <a:xfrm>
              <a:off x="6913080" y="2351880"/>
              <a:ext cx="288000" cy="303120"/>
            </a:xfrm>
            <a:custGeom>
              <a:avLst/>
              <a:gdLst/>
              <a:ahLst/>
              <a:rect l="l" t="t" r="r" b="b"/>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ffffff"/>
            </a:solidFill>
            <a:ln w="0">
              <a:noFill/>
            </a:ln>
          </p:spPr>
          <p:style>
            <a:lnRef idx="0"/>
            <a:fillRef idx="0"/>
            <a:effectRef idx="0"/>
            <a:fontRef idx="minor"/>
          </p:style>
          <p:txBody>
            <a:bodyPr lIns="43560" rIns="43560" tIns="43560" bIns="43560" anchor="ctr">
              <a:noAutofit/>
            </a:bodyPr>
            <a:p>
              <a:endParaRPr b="0" lang="en-US" sz="1800" spc="-1" strike="noStrike">
                <a:solidFill>
                  <a:srgbClr val="494949"/>
                </a:solidFill>
                <a:latin typeface="Open Sans Light"/>
              </a:endParaRPr>
            </a:p>
          </p:txBody>
        </p:sp>
      </p:grpSp>
      <p:grpSp>
        <p:nvGrpSpPr>
          <p:cNvPr id="603" name="Group 10"/>
          <p:cNvGrpSpPr/>
          <p:nvPr/>
        </p:nvGrpSpPr>
        <p:grpSpPr>
          <a:xfrm>
            <a:off x="6823080" y="4087800"/>
            <a:ext cx="378000" cy="347760"/>
            <a:chOff x="6823080" y="4087800"/>
            <a:chExt cx="378000" cy="347760"/>
          </a:xfrm>
        </p:grpSpPr>
        <p:sp>
          <p:nvSpPr>
            <p:cNvPr id="604" name="Shape 1716"/>
            <p:cNvSpPr/>
            <p:nvPr/>
          </p:nvSpPr>
          <p:spPr>
            <a:xfrm>
              <a:off x="6823080" y="4087800"/>
              <a:ext cx="346320" cy="347760"/>
            </a:xfrm>
            <a:prstGeom prst="rect">
              <a:avLst/>
            </a:prstGeom>
            <a:solidFill>
              <a:srgbClr val="1991a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494949"/>
                </a:solidFill>
                <a:latin typeface="Open Sans Light"/>
              </a:endParaRPr>
            </a:p>
          </p:txBody>
        </p:sp>
        <p:sp>
          <p:nvSpPr>
            <p:cNvPr id="605" name="Shape 1934"/>
            <p:cNvSpPr/>
            <p:nvPr/>
          </p:nvSpPr>
          <p:spPr>
            <a:xfrm>
              <a:off x="6913080" y="4128120"/>
              <a:ext cx="288000" cy="303480"/>
            </a:xfrm>
            <a:custGeom>
              <a:avLst/>
              <a:gdLst/>
              <a:ahLst/>
              <a:rect l="l" t="t" r="r" b="b"/>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ffffff"/>
            </a:solidFill>
            <a:ln w="0">
              <a:noFill/>
            </a:ln>
          </p:spPr>
          <p:style>
            <a:lnRef idx="0"/>
            <a:fillRef idx="0"/>
            <a:effectRef idx="0"/>
            <a:fontRef idx="minor"/>
          </p:style>
          <p:txBody>
            <a:bodyPr lIns="43560" rIns="43560" tIns="43560" bIns="43560" anchor="ctr">
              <a:noAutofit/>
            </a:bodyPr>
            <a:p>
              <a:endParaRPr b="0" lang="en-US" sz="1800" spc="-1" strike="noStrike">
                <a:solidFill>
                  <a:srgbClr val="494949"/>
                </a:solidFill>
                <a:latin typeface="Open Sans Light"/>
              </a:endParaRPr>
            </a:p>
          </p:txBody>
        </p:sp>
      </p:grpSp>
      <p:grpSp>
        <p:nvGrpSpPr>
          <p:cNvPr id="606" name="Group 13"/>
          <p:cNvGrpSpPr/>
          <p:nvPr/>
        </p:nvGrpSpPr>
        <p:grpSpPr>
          <a:xfrm>
            <a:off x="7886880" y="2311560"/>
            <a:ext cx="377640" cy="347400"/>
            <a:chOff x="7886880" y="2311560"/>
            <a:chExt cx="377640" cy="347400"/>
          </a:xfrm>
        </p:grpSpPr>
        <p:sp>
          <p:nvSpPr>
            <p:cNvPr id="607" name="Shape 1716"/>
            <p:cNvSpPr/>
            <p:nvPr/>
          </p:nvSpPr>
          <p:spPr>
            <a:xfrm>
              <a:off x="7886880" y="2311560"/>
              <a:ext cx="345960" cy="347400"/>
            </a:xfrm>
            <a:prstGeom prst="rect">
              <a:avLst/>
            </a:prstGeom>
            <a:solidFill>
              <a:srgbClr val="0098a5"/>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494949"/>
                </a:solidFill>
                <a:latin typeface="Open Sans Light"/>
              </a:endParaRPr>
            </a:p>
          </p:txBody>
        </p:sp>
        <p:sp>
          <p:nvSpPr>
            <p:cNvPr id="608" name="Shape 1934"/>
            <p:cNvSpPr/>
            <p:nvPr/>
          </p:nvSpPr>
          <p:spPr>
            <a:xfrm>
              <a:off x="7976880" y="2351880"/>
              <a:ext cx="287640" cy="303120"/>
            </a:xfrm>
            <a:custGeom>
              <a:avLst/>
              <a:gdLst/>
              <a:ahLst/>
              <a:rect l="l" t="t" r="r" b="b"/>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ffffff"/>
            </a:solidFill>
            <a:ln w="0">
              <a:noFill/>
            </a:ln>
          </p:spPr>
          <p:style>
            <a:lnRef idx="0"/>
            <a:fillRef idx="0"/>
            <a:effectRef idx="0"/>
            <a:fontRef idx="minor"/>
          </p:style>
          <p:txBody>
            <a:bodyPr lIns="43560" rIns="43560" tIns="43560" bIns="43560" anchor="ctr">
              <a:noAutofit/>
            </a:bodyPr>
            <a:p>
              <a:endParaRPr b="0" lang="en-US" sz="1800" spc="-1" strike="noStrike">
                <a:solidFill>
                  <a:srgbClr val="494949"/>
                </a:solidFill>
                <a:latin typeface="Open Sans Light"/>
              </a:endParaRPr>
            </a:p>
          </p:txBody>
        </p:sp>
      </p:grpSp>
      <p:grpSp>
        <p:nvGrpSpPr>
          <p:cNvPr id="609" name="Group 16"/>
          <p:cNvGrpSpPr/>
          <p:nvPr/>
        </p:nvGrpSpPr>
        <p:grpSpPr>
          <a:xfrm>
            <a:off x="7886880" y="4087800"/>
            <a:ext cx="377640" cy="347760"/>
            <a:chOff x="7886880" y="4087800"/>
            <a:chExt cx="377640" cy="347760"/>
          </a:xfrm>
        </p:grpSpPr>
        <p:sp>
          <p:nvSpPr>
            <p:cNvPr id="610" name="Shape 1716"/>
            <p:cNvSpPr/>
            <p:nvPr/>
          </p:nvSpPr>
          <p:spPr>
            <a:xfrm>
              <a:off x="7886880" y="4087800"/>
              <a:ext cx="345960" cy="347760"/>
            </a:xfrm>
            <a:prstGeom prst="rect">
              <a:avLst/>
            </a:prstGeom>
            <a:solidFill>
              <a:srgbClr val="2b85a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494949"/>
                </a:solidFill>
                <a:latin typeface="Open Sans Light"/>
              </a:endParaRPr>
            </a:p>
          </p:txBody>
        </p:sp>
        <p:sp>
          <p:nvSpPr>
            <p:cNvPr id="611" name="Shape 1934"/>
            <p:cNvSpPr/>
            <p:nvPr/>
          </p:nvSpPr>
          <p:spPr>
            <a:xfrm>
              <a:off x="7976880" y="4128120"/>
              <a:ext cx="287640" cy="303480"/>
            </a:xfrm>
            <a:custGeom>
              <a:avLst/>
              <a:gdLst/>
              <a:ahLst/>
              <a:rect l="l" t="t" r="r" b="b"/>
              <a:pathLst>
                <a:path w="21004" h="21302">
                  <a:moveTo>
                    <a:pt x="7816" y="21302"/>
                  </a:moveTo>
                  <a:cubicBezTo>
                    <a:pt x="7132" y="21302"/>
                    <a:pt x="6483" y="20993"/>
                    <a:pt x="6068" y="20461"/>
                  </a:cubicBezTo>
                  <a:lnTo>
                    <a:pt x="445" y="13277"/>
                  </a:lnTo>
                  <a:cubicBezTo>
                    <a:pt x="-287" y="12344"/>
                    <a:pt x="-97" y="11016"/>
                    <a:pt x="870" y="10308"/>
                  </a:cubicBezTo>
                  <a:cubicBezTo>
                    <a:pt x="1838" y="9597"/>
                    <a:pt x="3211" y="9785"/>
                    <a:pt x="3943" y="10719"/>
                  </a:cubicBezTo>
                  <a:lnTo>
                    <a:pt x="7643" y="15442"/>
                  </a:lnTo>
                  <a:lnTo>
                    <a:pt x="16946" y="999"/>
                  </a:lnTo>
                  <a:cubicBezTo>
                    <a:pt x="17586" y="6"/>
                    <a:pt x="18940" y="-298"/>
                    <a:pt x="19969" y="321"/>
                  </a:cubicBezTo>
                  <a:cubicBezTo>
                    <a:pt x="20997" y="939"/>
                    <a:pt x="21313" y="2248"/>
                    <a:pt x="20671" y="3243"/>
                  </a:cubicBezTo>
                  <a:lnTo>
                    <a:pt x="9680" y="20301"/>
                  </a:lnTo>
                  <a:cubicBezTo>
                    <a:pt x="9299" y="20896"/>
                    <a:pt x="8639" y="21267"/>
                    <a:pt x="7917" y="21299"/>
                  </a:cubicBezTo>
                  <a:cubicBezTo>
                    <a:pt x="7882" y="21302"/>
                    <a:pt x="7851" y="21302"/>
                    <a:pt x="7816" y="21302"/>
                  </a:cubicBezTo>
                  <a:close/>
                </a:path>
              </a:pathLst>
            </a:custGeom>
            <a:solidFill>
              <a:srgbClr val="ffffff"/>
            </a:solidFill>
            <a:ln w="0">
              <a:noFill/>
            </a:ln>
          </p:spPr>
          <p:style>
            <a:lnRef idx="0"/>
            <a:fillRef idx="0"/>
            <a:effectRef idx="0"/>
            <a:fontRef idx="minor"/>
          </p:style>
          <p:txBody>
            <a:bodyPr lIns="43560" rIns="43560" tIns="43560" bIns="43560" anchor="ctr">
              <a:noAutofit/>
            </a:bodyPr>
            <a:p>
              <a:endParaRPr b="0" lang="en-US" sz="1800" spc="-1" strike="noStrike">
                <a:solidFill>
                  <a:srgbClr val="494949"/>
                </a:solidFill>
                <a:latin typeface="Open Sans Light"/>
              </a:endParaRPr>
            </a:p>
          </p:txBody>
        </p:sp>
      </p:grpSp>
      <p:sp>
        <p:nvSpPr>
          <p:cNvPr id="612" name="Shape 1737"/>
          <p:cNvSpPr/>
          <p:nvPr/>
        </p:nvSpPr>
        <p:spPr>
          <a:xfrm>
            <a:off x="1619280" y="1666800"/>
            <a:ext cx="2328840" cy="4122720"/>
          </a:xfrm>
          <a:custGeom>
            <a:avLst/>
            <a:gdLst/>
            <a:ahLst/>
            <a:rect l="l" t="t" r="r" b="b"/>
            <a:pathLst>
              <a:path w="21600" h="21600">
                <a:moveTo>
                  <a:pt x="19529" y="17270"/>
                </a:moveTo>
                <a:cubicBezTo>
                  <a:pt x="10800" y="17270"/>
                  <a:pt x="6436" y="17270"/>
                  <a:pt x="4253" y="17270"/>
                </a:cubicBezTo>
                <a:cubicBezTo>
                  <a:pt x="2071" y="17270"/>
                  <a:pt x="2071" y="17270"/>
                  <a:pt x="2071" y="17270"/>
                </a:cubicBezTo>
                <a:cubicBezTo>
                  <a:pt x="2071" y="9999"/>
                  <a:pt x="2071" y="6362"/>
                  <a:pt x="2071" y="4542"/>
                </a:cubicBezTo>
                <a:cubicBezTo>
                  <a:pt x="2071" y="2679"/>
                  <a:pt x="2071" y="2679"/>
                  <a:pt x="2071" y="2679"/>
                </a:cubicBezTo>
                <a:cubicBezTo>
                  <a:pt x="10800" y="2679"/>
                  <a:pt x="15164" y="2679"/>
                  <a:pt x="17347" y="2679"/>
                </a:cubicBezTo>
                <a:cubicBezTo>
                  <a:pt x="19529" y="2679"/>
                  <a:pt x="19529" y="2679"/>
                  <a:pt x="19529" y="2679"/>
                </a:cubicBezTo>
                <a:cubicBezTo>
                  <a:pt x="19529" y="3607"/>
                  <a:pt x="19529" y="4535"/>
                  <a:pt x="19529" y="5463"/>
                </a:cubicBezTo>
                <a:cubicBezTo>
                  <a:pt x="19529" y="8083"/>
                  <a:pt x="19529" y="10703"/>
                  <a:pt x="19529" y="13323"/>
                </a:cubicBezTo>
                <a:cubicBezTo>
                  <a:pt x="20564" y="13323"/>
                  <a:pt x="21082" y="13323"/>
                  <a:pt x="21341" y="13323"/>
                </a:cubicBezTo>
                <a:cubicBezTo>
                  <a:pt x="21600" y="13323"/>
                  <a:pt x="21600" y="13323"/>
                  <a:pt x="21600" y="13323"/>
                </a:cubicBezTo>
                <a:cubicBezTo>
                  <a:pt x="21600" y="9615"/>
                  <a:pt x="21600" y="5906"/>
                  <a:pt x="21600" y="2198"/>
                </a:cubicBezTo>
                <a:cubicBezTo>
                  <a:pt x="21600" y="2023"/>
                  <a:pt x="21600" y="1849"/>
                  <a:pt x="21600" y="1674"/>
                </a:cubicBezTo>
                <a:cubicBezTo>
                  <a:pt x="21600" y="837"/>
                  <a:pt x="20121" y="0"/>
                  <a:pt x="18641" y="0"/>
                </a:cubicBezTo>
                <a:cubicBezTo>
                  <a:pt x="2663" y="0"/>
                  <a:pt x="2663" y="0"/>
                  <a:pt x="2663" y="0"/>
                </a:cubicBezTo>
                <a:cubicBezTo>
                  <a:pt x="1184" y="0"/>
                  <a:pt x="0" y="837"/>
                  <a:pt x="0" y="1674"/>
                </a:cubicBezTo>
                <a:cubicBezTo>
                  <a:pt x="0" y="20093"/>
                  <a:pt x="0" y="20093"/>
                  <a:pt x="0" y="20093"/>
                </a:cubicBezTo>
                <a:cubicBezTo>
                  <a:pt x="0" y="20930"/>
                  <a:pt x="1184" y="21600"/>
                  <a:pt x="2663" y="21600"/>
                </a:cubicBezTo>
                <a:cubicBezTo>
                  <a:pt x="18641" y="21600"/>
                  <a:pt x="18641" y="21600"/>
                  <a:pt x="18641" y="21600"/>
                </a:cubicBezTo>
                <a:cubicBezTo>
                  <a:pt x="20121" y="21600"/>
                  <a:pt x="21600" y="20930"/>
                  <a:pt x="21600" y="20093"/>
                </a:cubicBezTo>
                <a:cubicBezTo>
                  <a:pt x="21600" y="13228"/>
                  <a:pt x="21600" y="13228"/>
                  <a:pt x="21600" y="13228"/>
                </a:cubicBezTo>
                <a:cubicBezTo>
                  <a:pt x="20564" y="13228"/>
                  <a:pt x="20047" y="13228"/>
                  <a:pt x="19788" y="13228"/>
                </a:cubicBezTo>
                <a:cubicBezTo>
                  <a:pt x="19529" y="13228"/>
                  <a:pt x="19529" y="13228"/>
                  <a:pt x="19529" y="13228"/>
                </a:cubicBezTo>
                <a:lnTo>
                  <a:pt x="19529" y="17270"/>
                </a:lnTo>
                <a:close/>
                <a:moveTo>
                  <a:pt x="16866" y="1005"/>
                </a:moveTo>
                <a:cubicBezTo>
                  <a:pt x="17162" y="1005"/>
                  <a:pt x="17753" y="1172"/>
                  <a:pt x="17753" y="1507"/>
                </a:cubicBezTo>
                <a:cubicBezTo>
                  <a:pt x="17753" y="1674"/>
                  <a:pt x="17162" y="1842"/>
                  <a:pt x="16866" y="1842"/>
                </a:cubicBezTo>
                <a:cubicBezTo>
                  <a:pt x="16570" y="1842"/>
                  <a:pt x="16274" y="1674"/>
                  <a:pt x="16274" y="1507"/>
                </a:cubicBezTo>
                <a:cubicBezTo>
                  <a:pt x="16274" y="1172"/>
                  <a:pt x="16570" y="1005"/>
                  <a:pt x="16866" y="1005"/>
                </a:cubicBezTo>
                <a:close/>
                <a:moveTo>
                  <a:pt x="7101" y="1172"/>
                </a:moveTo>
                <a:cubicBezTo>
                  <a:pt x="10800" y="1172"/>
                  <a:pt x="12649" y="1172"/>
                  <a:pt x="13574" y="1172"/>
                </a:cubicBezTo>
                <a:cubicBezTo>
                  <a:pt x="14499" y="1172"/>
                  <a:pt x="14499" y="1172"/>
                  <a:pt x="14499" y="1172"/>
                </a:cubicBezTo>
                <a:cubicBezTo>
                  <a:pt x="14499" y="1423"/>
                  <a:pt x="14499" y="1549"/>
                  <a:pt x="14499" y="1612"/>
                </a:cubicBezTo>
                <a:cubicBezTo>
                  <a:pt x="14499" y="1674"/>
                  <a:pt x="14499" y="1674"/>
                  <a:pt x="14499" y="1674"/>
                </a:cubicBezTo>
                <a:cubicBezTo>
                  <a:pt x="10800" y="1674"/>
                  <a:pt x="8951" y="1674"/>
                  <a:pt x="8026" y="1674"/>
                </a:cubicBezTo>
                <a:cubicBezTo>
                  <a:pt x="7101" y="1674"/>
                  <a:pt x="7101" y="1674"/>
                  <a:pt x="7101" y="1674"/>
                </a:cubicBezTo>
                <a:lnTo>
                  <a:pt x="7101" y="1172"/>
                </a:lnTo>
                <a:close/>
                <a:moveTo>
                  <a:pt x="14203" y="19926"/>
                </a:moveTo>
                <a:cubicBezTo>
                  <a:pt x="10800" y="19926"/>
                  <a:pt x="9099" y="19926"/>
                  <a:pt x="8248" y="19926"/>
                </a:cubicBezTo>
                <a:cubicBezTo>
                  <a:pt x="7397" y="19926"/>
                  <a:pt x="7397" y="19926"/>
                  <a:pt x="7397" y="19926"/>
                </a:cubicBezTo>
                <a:cubicBezTo>
                  <a:pt x="7397" y="19340"/>
                  <a:pt x="7397" y="19047"/>
                  <a:pt x="7397" y="18900"/>
                </a:cubicBezTo>
                <a:cubicBezTo>
                  <a:pt x="7397" y="18753"/>
                  <a:pt x="7397" y="18753"/>
                  <a:pt x="7397" y="18753"/>
                </a:cubicBezTo>
                <a:cubicBezTo>
                  <a:pt x="10800" y="18753"/>
                  <a:pt x="12501" y="18753"/>
                  <a:pt x="13352" y="18753"/>
                </a:cubicBezTo>
                <a:cubicBezTo>
                  <a:pt x="14203" y="18753"/>
                  <a:pt x="14203" y="18753"/>
                  <a:pt x="14203" y="18753"/>
                </a:cubicBezTo>
                <a:lnTo>
                  <a:pt x="14203" y="19926"/>
                </a:lnTo>
                <a:close/>
              </a:path>
            </a:pathLst>
          </a:custGeom>
          <a:solidFill>
            <a:srgbClr val="00a09c"/>
          </a:solidFill>
          <a:ln w="0">
            <a:noFill/>
          </a:ln>
        </p:spPr>
        <p:style>
          <a:lnRef idx="0"/>
          <a:fillRef idx="0"/>
          <a:effectRef idx="0"/>
          <a:fontRef idx="minor"/>
        </p:style>
        <p:txBody>
          <a:bodyPr lIns="45360" rIns="45360" tIns="46800" bIns="46800" anchor="t">
            <a:noAutofit/>
          </a:bodyPr>
          <a:p>
            <a:endParaRPr b="0" lang="en-US" sz="1800" spc="-1" strike="noStrike">
              <a:solidFill>
                <a:srgbClr val="494949"/>
              </a:solidFill>
              <a:latin typeface="Open Sans Light"/>
            </a:endParaRPr>
          </a:p>
        </p:txBody>
      </p:sp>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6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6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6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7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7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1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1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1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2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27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hape 2733"/>
          <p:cNvSpPr/>
          <p:nvPr/>
        </p:nvSpPr>
        <p:spPr>
          <a:xfrm>
            <a:off x="5856120" y="1190520"/>
            <a:ext cx="479520" cy="22320"/>
          </a:xfrm>
          <a:prstGeom prst="rect">
            <a:avLst/>
          </a:prstGeom>
          <a:solidFill>
            <a:srgbClr val="00a09c"/>
          </a:solidFill>
          <a:ln w="0">
            <a:noFill/>
          </a:ln>
        </p:spPr>
        <p:style>
          <a:lnRef idx="0"/>
          <a:fillRef idx="0"/>
          <a:effectRef idx="0"/>
          <a:fontRef idx="minor"/>
        </p:style>
        <p:txBody>
          <a:bodyPr lIns="50760" rIns="50760" tIns="-28440" bIns="-284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494949"/>
                </a:solidFill>
                <a:latin typeface="Lato Heavy"/>
              </a:rPr>
              <a:t>Click to edit the title text format</a:t>
            </a:r>
            <a:endParaRPr b="0" lang="en-US" sz="4400" spc="-1" strike="noStrike">
              <a:solidFill>
                <a:srgbClr val="494949"/>
              </a:solidFill>
              <a:latin typeface="Lato Heavy"/>
            </a:endParaRPr>
          </a:p>
        </p:txBody>
      </p:sp>
      <p:sp>
        <p:nvSpPr>
          <p:cNvPr id="3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Click to edit the outline text format</a:t>
            </a:r>
            <a:endParaRPr b="0" lang="en-US" sz="2800" spc="-1" strike="noStrike">
              <a:solidFill>
                <a:srgbClr val="494949"/>
              </a:solidFill>
              <a:latin typeface="Open Sans Light"/>
            </a:endParaRPr>
          </a:p>
          <a:p>
            <a:pPr lvl="1" marL="6843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cond Outline Level</a:t>
            </a:r>
            <a:endParaRPr b="0" lang="en-US" sz="2800" spc="-1" strike="noStrike">
              <a:solidFill>
                <a:srgbClr val="494949"/>
              </a:solidFill>
              <a:latin typeface="Open Sans Light"/>
            </a:endParaRPr>
          </a:p>
          <a:p>
            <a:pPr lvl="2" marL="11415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Third Outline Level</a:t>
            </a:r>
            <a:endParaRPr b="0" lang="en-US" sz="2800" spc="-1" strike="noStrike">
              <a:solidFill>
                <a:srgbClr val="494949"/>
              </a:solidFill>
              <a:latin typeface="Open Sans Light"/>
            </a:endParaRPr>
          </a:p>
          <a:p>
            <a:pPr lvl="3" marL="15987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ourth Outline Level</a:t>
            </a:r>
            <a:endParaRPr b="0" lang="en-US" sz="2800" spc="-1" strike="noStrike">
              <a:solidFill>
                <a:srgbClr val="494949"/>
              </a:solidFill>
              <a:latin typeface="Open Sans Light"/>
            </a:endParaRPr>
          </a:p>
          <a:p>
            <a:pPr lvl="4"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Fifth Outline Level</a:t>
            </a:r>
            <a:endParaRPr b="0" lang="en-US" sz="2800" spc="-1" strike="noStrike">
              <a:solidFill>
                <a:srgbClr val="494949"/>
              </a:solidFill>
              <a:latin typeface="Open Sans Light"/>
            </a:endParaRPr>
          </a:p>
          <a:p>
            <a:pPr lvl="5"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ixth Outline Level</a:t>
            </a:r>
            <a:endParaRPr b="0" lang="en-US" sz="2800" spc="-1" strike="noStrike">
              <a:solidFill>
                <a:srgbClr val="494949"/>
              </a:solidFill>
              <a:latin typeface="Open Sans Light"/>
            </a:endParaRPr>
          </a:p>
          <a:p>
            <a:pPr lvl="6" marL="2055960" indent="-227160">
              <a:lnSpc>
                <a:spcPct val="90000"/>
              </a:lnSpc>
              <a:spcBef>
                <a:spcPts val="1001"/>
              </a:spcBef>
              <a:buClr>
                <a:srgbClr val="49494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94949"/>
                </a:solidFill>
                <a:latin typeface="Open Sans Light"/>
              </a:rPr>
              <a:t>Seventh Outline Level</a:t>
            </a:r>
            <a:endParaRPr b="0" lang="en-US" sz="2800" spc="-1" strike="noStrike">
              <a:solidFill>
                <a:srgbClr val="494949"/>
              </a:solidFill>
              <a:latin typeface="Open Sans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package" Target="../embeddings/oleObject3.xlsx"/><Relationship Id="rId6" Type="http://schemas.openxmlformats.org/officeDocument/2006/relationships/image" Target="../media/image11.png"/><Relationship Id="rId7" Type="http://schemas.openxmlformats.org/officeDocument/2006/relationships/package" Target="../embeddings/oleObject4.xlsx"/><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49.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package" Target="../embeddings/oleObject2.xlsx"/><Relationship Id="rId4" Type="http://schemas.openxmlformats.org/officeDocument/2006/relationships/image" Target="../media/image14.png"/><Relationship Id="rId5" Type="http://schemas.openxmlformats.org/officeDocument/2006/relationships/package" Target="../embeddings/oleObject3.xlsx"/><Relationship Id="rId6" Type="http://schemas.openxmlformats.org/officeDocument/2006/relationships/image" Target="../media/image15.png"/><Relationship Id="rId7" Type="http://schemas.openxmlformats.org/officeDocument/2006/relationships/package" Target="../embeddings/oleObject4.xlsx"/><Relationship Id="rId8" Type="http://schemas.openxmlformats.org/officeDocument/2006/relationships/image" Target="../media/image16.png"/><Relationship Id="rId9"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7316640" y="698400"/>
            <a:ext cx="4154760" cy="5588280"/>
          </a:xfrm>
          <a:prstGeom prst="rect">
            <a:avLst/>
          </a:prstGeom>
          <a:solidFill>
            <a:srgbClr val="0098a5"/>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13" name="Text Placeholder 1"/>
          <p:cNvSpPr/>
          <p:nvPr/>
        </p:nvSpPr>
        <p:spPr>
          <a:xfrm>
            <a:off x="7618320" y="5289480"/>
            <a:ext cx="3517920" cy="538200"/>
          </a:xfrm>
          <a:prstGeom prst="rect">
            <a:avLst/>
          </a:prstGeom>
          <a:noFill/>
          <a:ln w="0">
            <a:noFill/>
          </a:ln>
        </p:spPr>
        <p:style>
          <a:lnRef idx="0"/>
          <a:fillRef idx="0"/>
          <a:effectRef idx="0"/>
          <a:fontRef idx="minor"/>
        </p:style>
        <p:txBody>
          <a:bodyPr lIns="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Open Sans Light"/>
              </a:rPr>
              <a:t>Body text here or lorem ipsum dolor sit amet, lorem consectetur Baraka tau lani kamu</a:t>
            </a:r>
            <a:endParaRPr b="0" lang="en-US" sz="1000" spc="-1" strike="noStrike">
              <a:solidFill>
                <a:srgbClr val="494949"/>
              </a:solidFill>
              <a:latin typeface="Open Sans Light"/>
            </a:endParaRPr>
          </a:p>
        </p:txBody>
      </p:sp>
      <p:sp>
        <p:nvSpPr>
          <p:cNvPr id="814" name="Text Placeholder 1"/>
          <p:cNvSpPr/>
          <p:nvPr/>
        </p:nvSpPr>
        <p:spPr>
          <a:xfrm>
            <a:off x="7618320" y="4719600"/>
            <a:ext cx="3517920" cy="223920"/>
          </a:xfrm>
          <a:prstGeom prst="rect">
            <a:avLst/>
          </a:prstGeom>
          <a:noFill/>
          <a:ln w="0">
            <a:noFill/>
          </a:ln>
        </p:spPr>
        <p:style>
          <a:lnRef idx="0"/>
          <a:fillRef idx="0"/>
          <a:effectRef idx="0"/>
          <a:fontRef idx="minor"/>
        </p:style>
        <p:txBody>
          <a:bodyPr lIns="0" rIns="90000" tIns="46800" bIns="46800" anchor="t">
            <a:norm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Open Sans Light"/>
              </a:rPr>
              <a:t>Presented by :</a:t>
            </a:r>
            <a:endParaRPr b="0" lang="en-US" sz="1000" spc="-1" strike="noStrike">
              <a:solidFill>
                <a:srgbClr val="494949"/>
              </a:solidFill>
              <a:latin typeface="Open Sans Light"/>
            </a:endParaRPr>
          </a:p>
        </p:txBody>
      </p:sp>
      <p:sp>
        <p:nvSpPr>
          <p:cNvPr id="815" name="Text Placeholder 1"/>
          <p:cNvSpPr/>
          <p:nvPr/>
        </p:nvSpPr>
        <p:spPr>
          <a:xfrm>
            <a:off x="7316640" y="5052960"/>
            <a:ext cx="4154760" cy="23652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ns Light"/>
              </a:rPr>
              <a:t>MRS. ANNA DOE</a:t>
            </a:r>
            <a:endParaRPr b="0" lang="en-US" sz="1600" spc="-1" strike="noStrike">
              <a:solidFill>
                <a:srgbClr val="494949"/>
              </a:solidFill>
              <a:latin typeface="Open Sans Light"/>
            </a:endParaRPr>
          </a:p>
        </p:txBody>
      </p:sp>
      <p:sp>
        <p:nvSpPr>
          <p:cNvPr id="816" name="Text Placeholder 1"/>
          <p:cNvSpPr/>
          <p:nvPr/>
        </p:nvSpPr>
        <p:spPr>
          <a:xfrm>
            <a:off x="7316640" y="1620720"/>
            <a:ext cx="4154760" cy="122580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Lato Heavy"/>
              </a:rPr>
              <a:t> </a:t>
            </a:r>
            <a:r>
              <a:rPr b="0" lang="en-GB" sz="3600" spc="-1" strike="noStrike">
                <a:solidFill>
                  <a:srgbClr val="ffffff"/>
                </a:solidFill>
                <a:latin typeface="Lato Heavy"/>
              </a:rPr>
              <a:t>MULTI</a:t>
            </a:r>
            <a:endParaRPr b="0" lang="en-US" sz="3600" spc="-1" strike="noStrike">
              <a:solidFill>
                <a:srgbClr val="494949"/>
              </a:solidFill>
              <a:latin typeface="Open Sans Light"/>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Lato Heavy"/>
              </a:rPr>
              <a:t>PRESENTATION</a:t>
            </a:r>
            <a:endParaRPr b="0" lang="en-US" sz="3600" spc="-1" strike="noStrike">
              <a:solidFill>
                <a:srgbClr val="494949"/>
              </a:solidFill>
              <a:latin typeface="Open Sans Light"/>
            </a:endParaRPr>
          </a:p>
        </p:txBody>
      </p:sp>
      <p:sp>
        <p:nvSpPr>
          <p:cNvPr id="817" name="TextBox 22"/>
          <p:cNvSpPr/>
          <p:nvPr/>
        </p:nvSpPr>
        <p:spPr>
          <a:xfrm>
            <a:off x="8565120" y="2846520"/>
            <a:ext cx="1657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Light"/>
                <a:ea typeface="Open Sans Extrabold"/>
              </a:rPr>
              <a:t>POWERPOINT TEMPLATE</a:t>
            </a:r>
            <a:endParaRPr b="0" lang="en-US" sz="1000" spc="-1" strike="noStrike">
              <a:solidFill>
                <a:srgbClr val="494949"/>
              </a:solidFill>
              <a:latin typeface="Open Sans Light"/>
            </a:endParaRPr>
          </a:p>
        </p:txBody>
      </p:sp>
      <p:pic>
        <p:nvPicPr>
          <p:cNvPr id="818" name="" descr=""/>
          <p:cNvPicPr/>
          <p:nvPr/>
        </p:nvPicPr>
        <p:blipFill>
          <a:blip r:embed="rId1"/>
          <a:stretch/>
        </p:blipFill>
        <p:spPr>
          <a:xfrm>
            <a:off x="774360" y="698040"/>
            <a:ext cx="10696680" cy="558828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14">
                                            <p:txEl>
                                              <p:pRg st="0" end="0"/>
                                            </p:txEl>
                                          </p:spTgt>
                                        </p:tgtEl>
                                        <p:attrNameLst>
                                          <p:attrName>style.visibility</p:attrName>
                                        </p:attrNameLst>
                                      </p:cBhvr>
                                      <p:to>
                                        <p:strVal val="visible"/>
                                      </p:to>
                                    </p:set>
                                    <p:animEffect filter="fade" transition="in">
                                      <p:cBhvr additive="repl">
                                        <p:cTn id="7" dur="500"/>
                                        <p:tgtEl>
                                          <p:spTgt spid="814">
                                            <p:txEl>
                                              <p:pRg st="0" end="0"/>
                                            </p:txEl>
                                          </p:spTgt>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15">
                                            <p:txEl>
                                              <p:pRg st="0" end="0"/>
                                            </p:txEl>
                                          </p:spTgt>
                                        </p:tgtEl>
                                        <p:attrNameLst>
                                          <p:attrName>style.visibility</p:attrName>
                                        </p:attrNameLst>
                                      </p:cBhvr>
                                      <p:to>
                                        <p:strVal val="visible"/>
                                      </p:to>
                                    </p:set>
                                    <p:animEffect filter="fade" transition="in">
                                      <p:cBhvr additive="repl">
                                        <p:cTn id="11" dur="500"/>
                                        <p:tgtEl>
                                          <p:spTgt spid="815">
                                            <p:txEl>
                                              <p:pRg st="0" end="0"/>
                                            </p:txEl>
                                          </p:spTgt>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13">
                                            <p:txEl>
                                              <p:pRg st="0" end="0"/>
                                            </p:txEl>
                                          </p:spTgt>
                                        </p:tgtEl>
                                        <p:attrNameLst>
                                          <p:attrName>style.visibility</p:attrName>
                                        </p:attrNameLst>
                                      </p:cBhvr>
                                      <p:to>
                                        <p:strVal val="visible"/>
                                      </p:to>
                                    </p:set>
                                    <p:animEffect filter="fade" transition="in">
                                      <p:cBhvr additive="repl">
                                        <p:cTn id="15" dur="500"/>
                                        <p:tgtEl>
                                          <p:spTgt spid="813">
                                            <p:txEl>
                                              <p:pRg st="0" end="0"/>
                                            </p:txEl>
                                          </p:spTgt>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816">
                                            <p:txEl>
                                              <p:pRg st="0" end="0"/>
                                            </p:txEl>
                                          </p:spTgt>
                                        </p:tgtEl>
                                        <p:attrNameLst>
                                          <p:attrName>style.visibility</p:attrName>
                                        </p:attrNameLst>
                                      </p:cBhvr>
                                      <p:to>
                                        <p:strVal val="visible"/>
                                      </p:to>
                                    </p:set>
                                    <p:animEffect filter="fade" transition="in">
                                      <p:cBhvr additive="repl">
                                        <p:cTn id="19" dur="500"/>
                                        <p:tgtEl>
                                          <p:spTgt spid="8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16">
                                            <p:txEl>
                                              <p:pRg st="1" end="1"/>
                                            </p:txEl>
                                          </p:spTgt>
                                        </p:tgtEl>
                                        <p:attrNameLst>
                                          <p:attrName>style.visibility</p:attrName>
                                        </p:attrNameLst>
                                      </p:cBhvr>
                                      <p:to>
                                        <p:strVal val="visible"/>
                                      </p:to>
                                    </p:set>
                                    <p:animEffect filter="fade" transition="in">
                                      <p:cBhvr additive="repl">
                                        <p:cTn id="24" dur="500"/>
                                        <p:tgtEl>
                                          <p:spTgt spid="8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Box 5"/>
          <p:cNvSpPr/>
          <p:nvPr/>
        </p:nvSpPr>
        <p:spPr>
          <a:xfrm>
            <a:off x="1768320" y="3944520"/>
            <a:ext cx="111492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a09c"/>
                </a:solidFill>
                <a:latin typeface="Lato"/>
              </a:rPr>
              <a:t>WEB DESIGN</a:t>
            </a:r>
            <a:endParaRPr b="0" lang="en-US" sz="1400" spc="-1" strike="noStrike">
              <a:solidFill>
                <a:srgbClr val="494949"/>
              </a:solidFill>
              <a:latin typeface="Open Sans Light"/>
            </a:endParaRPr>
          </a:p>
        </p:txBody>
      </p:sp>
      <p:sp>
        <p:nvSpPr>
          <p:cNvPr id="971" name="TextBox 6"/>
          <p:cNvSpPr/>
          <p:nvPr/>
        </p:nvSpPr>
        <p:spPr>
          <a:xfrm>
            <a:off x="1495440" y="4254480"/>
            <a:ext cx="1736640" cy="837360"/>
          </a:xfrm>
          <a:prstGeom prst="rect">
            <a:avLst/>
          </a:prstGeom>
          <a:noFill/>
          <a:ln w="0">
            <a:noFill/>
          </a:ln>
        </p:spPr>
        <p:style>
          <a:lnRef idx="0"/>
          <a:fillRef idx="0"/>
          <a:effectRef idx="0"/>
          <a:fontRef idx="minor"/>
        </p:style>
        <p:txBody>
          <a:bodyPr lIns="0" rIns="0" tIns="0" bIns="0" anchor="t">
            <a:spAutoFit/>
          </a:bodyPr>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There are many variations</a:t>
            </a:r>
            <a:br>
              <a:rPr sz="1100"/>
            </a:br>
            <a:r>
              <a:rPr b="0" lang="en-US" sz="1100" spc="-1" strike="noStrike">
                <a:solidFill>
                  <a:srgbClr val="a4a4a4"/>
                </a:solidFill>
                <a:latin typeface="Open Sans Light"/>
              </a:rPr>
              <a:t> of passages of lorem</a:t>
            </a:r>
            <a:br>
              <a:rPr sz="1100"/>
            </a:br>
            <a:r>
              <a:rPr b="0" lang="en-US" sz="1100" spc="-1" strike="noStrike">
                <a:solidFill>
                  <a:srgbClr val="a4a4a4"/>
                </a:solidFill>
                <a:latin typeface="Open Sans Light"/>
              </a:rPr>
              <a:t> ipsum available, but </a:t>
            </a:r>
            <a:br>
              <a:rPr sz="1100"/>
            </a:br>
            <a:r>
              <a:rPr b="0" lang="en-US" sz="1100" spc="-1" strike="noStrike">
                <a:solidFill>
                  <a:srgbClr val="a4a4a4"/>
                </a:solidFill>
                <a:latin typeface="Open Sans Light"/>
              </a:rPr>
              <a:t>the majority suffered</a:t>
            </a:r>
            <a:br>
              <a:rPr sz="1100"/>
            </a:br>
            <a:r>
              <a:rPr b="0" lang="en-US" sz="1100" spc="-1" strike="noStrike">
                <a:solidFill>
                  <a:srgbClr val="a4a4a4"/>
                </a:solidFill>
                <a:latin typeface="Open Sans Light"/>
              </a:rPr>
              <a:t> alteration</a:t>
            </a:r>
            <a:endParaRPr b="0" lang="en-US" sz="1100" spc="-1" strike="noStrike">
              <a:solidFill>
                <a:srgbClr val="494949"/>
              </a:solidFill>
              <a:latin typeface="Open Sans Light"/>
            </a:endParaRPr>
          </a:p>
        </p:txBody>
      </p:sp>
      <p:sp>
        <p:nvSpPr>
          <p:cNvPr id="972" name="TextBox 8"/>
          <p:cNvSpPr/>
          <p:nvPr/>
        </p:nvSpPr>
        <p:spPr>
          <a:xfrm>
            <a:off x="3587040" y="3944520"/>
            <a:ext cx="1190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98a5"/>
                </a:solidFill>
                <a:latin typeface="Lato"/>
              </a:rPr>
              <a:t>MOBILE APPS</a:t>
            </a:r>
            <a:endParaRPr b="0" lang="en-US" sz="1400" spc="-1" strike="noStrike">
              <a:solidFill>
                <a:srgbClr val="494949"/>
              </a:solidFill>
              <a:latin typeface="Open Sans Light"/>
            </a:endParaRPr>
          </a:p>
        </p:txBody>
      </p:sp>
      <p:sp>
        <p:nvSpPr>
          <p:cNvPr id="973" name="TextBox 9"/>
          <p:cNvSpPr/>
          <p:nvPr/>
        </p:nvSpPr>
        <p:spPr>
          <a:xfrm>
            <a:off x="3360600" y="4254480"/>
            <a:ext cx="1738440" cy="1039680"/>
          </a:xfrm>
          <a:prstGeom prst="rect">
            <a:avLst/>
          </a:prstGeom>
          <a:noFill/>
          <a:ln w="0">
            <a:noFill/>
          </a:ln>
        </p:spPr>
        <p:style>
          <a:lnRef idx="0"/>
          <a:fillRef idx="0"/>
          <a:effectRef idx="0"/>
          <a:fontRef idx="minor"/>
        </p:style>
        <p:txBody>
          <a:bodyPr lIns="0" rIns="0" tIns="0" bIns="0" anchor="t">
            <a:spAutoFit/>
          </a:bodyPr>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There are many variations</a:t>
            </a:r>
            <a:br>
              <a:rPr sz="1100"/>
            </a:br>
            <a:r>
              <a:rPr b="0" lang="en-US" sz="1100" spc="-1" strike="noStrike">
                <a:solidFill>
                  <a:srgbClr val="a4a4a4"/>
                </a:solidFill>
                <a:latin typeface="Open Sans Light"/>
              </a:rPr>
              <a:t> of passages of lorem </a:t>
            </a:r>
            <a:br>
              <a:rPr sz="1100"/>
            </a:br>
            <a:r>
              <a:rPr b="0" lang="en-US" sz="1100" spc="-1" strike="noStrike">
                <a:solidFill>
                  <a:srgbClr val="a4a4a4"/>
                </a:solidFill>
                <a:latin typeface="Open Sans Light"/>
              </a:rPr>
              <a:t>ipsum available, but the majority suffered</a:t>
            </a:r>
            <a:br>
              <a:rPr sz="1100"/>
            </a:br>
            <a:r>
              <a:rPr b="0" lang="en-US" sz="1100" spc="-1" strike="noStrike">
                <a:solidFill>
                  <a:srgbClr val="a4a4a4"/>
                </a:solidFill>
                <a:latin typeface="Open Sans Light"/>
              </a:rPr>
              <a:t> alteration</a:t>
            </a:r>
            <a:endParaRPr b="0" lang="en-US" sz="1100" spc="-1" strike="noStrike">
              <a:solidFill>
                <a:srgbClr val="494949"/>
              </a:solidFill>
              <a:latin typeface="Open Sans Light"/>
            </a:endParaRPr>
          </a:p>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 </a:t>
            </a:r>
            <a:endParaRPr b="0" lang="en-US" sz="1100" spc="-1" strike="noStrike">
              <a:solidFill>
                <a:srgbClr val="494949"/>
              </a:solidFill>
              <a:latin typeface="Open Sans Light"/>
            </a:endParaRPr>
          </a:p>
        </p:txBody>
      </p:sp>
      <p:sp>
        <p:nvSpPr>
          <p:cNvPr id="974" name="TextBox 11"/>
          <p:cNvSpPr/>
          <p:nvPr/>
        </p:nvSpPr>
        <p:spPr>
          <a:xfrm>
            <a:off x="5370840" y="3961800"/>
            <a:ext cx="13982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1991ab"/>
                </a:solidFill>
                <a:latin typeface="Lato"/>
              </a:rPr>
              <a:t>DATA ANALYSIS</a:t>
            </a:r>
            <a:endParaRPr b="0" lang="en-US" sz="1400" spc="-1" strike="noStrike">
              <a:solidFill>
                <a:srgbClr val="494949"/>
              </a:solidFill>
              <a:latin typeface="Open Sans Light"/>
            </a:endParaRPr>
          </a:p>
        </p:txBody>
      </p:sp>
      <p:sp>
        <p:nvSpPr>
          <p:cNvPr id="975" name="TextBox 12"/>
          <p:cNvSpPr/>
          <p:nvPr/>
        </p:nvSpPr>
        <p:spPr>
          <a:xfrm>
            <a:off x="5227560" y="4295880"/>
            <a:ext cx="1736640" cy="1004760"/>
          </a:xfrm>
          <a:prstGeom prst="rect">
            <a:avLst/>
          </a:prstGeom>
          <a:noFill/>
          <a:ln w="0">
            <a:noFill/>
          </a:ln>
        </p:spPr>
        <p:style>
          <a:lnRef idx="0"/>
          <a:fillRef idx="0"/>
          <a:effectRef idx="0"/>
          <a:fontRef idx="minor"/>
        </p:style>
        <p:txBody>
          <a:bodyPr lIns="0" rIns="0" tIns="0" bIns="0" anchor="t">
            <a:spAutoFit/>
          </a:bodyPr>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There are many variations </a:t>
            </a:r>
            <a:br>
              <a:rPr sz="1100"/>
            </a:br>
            <a:r>
              <a:rPr b="0" lang="en-US" sz="1100" spc="-1" strike="noStrike">
                <a:solidFill>
                  <a:srgbClr val="a4a4a4"/>
                </a:solidFill>
                <a:latin typeface="Open Sans Light"/>
              </a:rPr>
              <a:t>of passages of lorem</a:t>
            </a:r>
            <a:br>
              <a:rPr sz="1100"/>
            </a:br>
            <a:r>
              <a:rPr b="0" lang="en-US" sz="1100" spc="-1" strike="noStrike">
                <a:solidFill>
                  <a:srgbClr val="a4a4a4"/>
                </a:solidFill>
                <a:latin typeface="Open Sans Light"/>
              </a:rPr>
              <a:t> ipsum available, but the majority suffered </a:t>
            </a:r>
            <a:br>
              <a:rPr sz="1100"/>
            </a:br>
            <a:r>
              <a:rPr b="0" lang="en-US" sz="1100" spc="-1" strike="noStrike">
                <a:solidFill>
                  <a:srgbClr val="a4a4a4"/>
                </a:solidFill>
                <a:latin typeface="Open Sans Light"/>
              </a:rPr>
              <a:t>alteration </a:t>
            </a:r>
            <a:endParaRPr b="0" lang="en-US" sz="1100" spc="-1" strike="noStrike">
              <a:solidFill>
                <a:srgbClr val="494949"/>
              </a:solidFill>
              <a:latin typeface="Open Sans Light"/>
            </a:endParaRPr>
          </a:p>
        </p:txBody>
      </p:sp>
      <p:sp>
        <p:nvSpPr>
          <p:cNvPr id="976" name="TextBox 14"/>
          <p:cNvSpPr/>
          <p:nvPr/>
        </p:nvSpPr>
        <p:spPr>
          <a:xfrm>
            <a:off x="7255800" y="3961800"/>
            <a:ext cx="130680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b85ae"/>
                </a:solidFill>
                <a:latin typeface="Lato"/>
              </a:rPr>
              <a:t>MANAGEMENT</a:t>
            </a:r>
            <a:endParaRPr b="0" lang="en-US" sz="1400" spc="-1" strike="noStrike">
              <a:solidFill>
                <a:srgbClr val="494949"/>
              </a:solidFill>
              <a:latin typeface="Open Sans Light"/>
            </a:endParaRPr>
          </a:p>
        </p:txBody>
      </p:sp>
      <p:sp>
        <p:nvSpPr>
          <p:cNvPr id="977" name="TextBox 15"/>
          <p:cNvSpPr/>
          <p:nvPr/>
        </p:nvSpPr>
        <p:spPr>
          <a:xfrm>
            <a:off x="7093080" y="4295880"/>
            <a:ext cx="1738080" cy="837360"/>
          </a:xfrm>
          <a:prstGeom prst="rect">
            <a:avLst/>
          </a:prstGeom>
          <a:noFill/>
          <a:ln w="0">
            <a:noFill/>
          </a:ln>
        </p:spPr>
        <p:style>
          <a:lnRef idx="0"/>
          <a:fillRef idx="0"/>
          <a:effectRef idx="0"/>
          <a:fontRef idx="minor"/>
        </p:style>
        <p:txBody>
          <a:bodyPr lIns="0" rIns="0" tIns="0" bIns="0" anchor="t">
            <a:spAutoFit/>
          </a:bodyPr>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There are many variations</a:t>
            </a:r>
            <a:br>
              <a:rPr sz="1100"/>
            </a:br>
            <a:r>
              <a:rPr b="0" lang="en-US" sz="1100" spc="-1" strike="noStrike">
                <a:solidFill>
                  <a:srgbClr val="a4a4a4"/>
                </a:solidFill>
                <a:latin typeface="Open Sans Light"/>
              </a:rPr>
              <a:t> of passages of lorem</a:t>
            </a:r>
            <a:br>
              <a:rPr sz="1100"/>
            </a:br>
            <a:r>
              <a:rPr b="0" lang="en-US" sz="1100" spc="-1" strike="noStrike">
                <a:solidFill>
                  <a:srgbClr val="a4a4a4"/>
                </a:solidFill>
                <a:latin typeface="Open Sans Light"/>
              </a:rPr>
              <a:t> ipsum available, but the majority suffered</a:t>
            </a:r>
            <a:br>
              <a:rPr sz="1100"/>
            </a:br>
            <a:r>
              <a:rPr b="0" lang="en-US" sz="1100" spc="-1" strike="noStrike">
                <a:solidFill>
                  <a:srgbClr val="a4a4a4"/>
                </a:solidFill>
                <a:latin typeface="Open Sans Light"/>
              </a:rPr>
              <a:t> alteration</a:t>
            </a:r>
            <a:endParaRPr b="0" lang="en-US" sz="1100" spc="-1" strike="noStrike">
              <a:solidFill>
                <a:srgbClr val="494949"/>
              </a:solidFill>
              <a:latin typeface="Open Sans Light"/>
            </a:endParaRPr>
          </a:p>
        </p:txBody>
      </p:sp>
      <p:sp>
        <p:nvSpPr>
          <p:cNvPr id="978" name="TextBox 17"/>
          <p:cNvSpPr/>
          <p:nvPr/>
        </p:nvSpPr>
        <p:spPr>
          <a:xfrm>
            <a:off x="9275400" y="3961800"/>
            <a:ext cx="103392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175a9"/>
                </a:solidFill>
                <a:latin typeface="Lato"/>
              </a:rPr>
              <a:t>GO GLOBAL</a:t>
            </a:r>
            <a:endParaRPr b="0" lang="en-US" sz="1400" spc="-1" strike="noStrike">
              <a:solidFill>
                <a:srgbClr val="494949"/>
              </a:solidFill>
              <a:latin typeface="Open Sans Light"/>
            </a:endParaRPr>
          </a:p>
        </p:txBody>
      </p:sp>
      <p:sp>
        <p:nvSpPr>
          <p:cNvPr id="979" name="TextBox 18"/>
          <p:cNvSpPr/>
          <p:nvPr/>
        </p:nvSpPr>
        <p:spPr>
          <a:xfrm>
            <a:off x="8959680" y="4295880"/>
            <a:ext cx="1737000" cy="837360"/>
          </a:xfrm>
          <a:prstGeom prst="rect">
            <a:avLst/>
          </a:prstGeom>
          <a:noFill/>
          <a:ln w="0">
            <a:noFill/>
          </a:ln>
        </p:spPr>
        <p:style>
          <a:lnRef idx="0"/>
          <a:fillRef idx="0"/>
          <a:effectRef idx="0"/>
          <a:fontRef idx="minor"/>
        </p:style>
        <p:txBody>
          <a:bodyPr lIns="0" rIns="0" tIns="0" bIns="0" anchor="t">
            <a:spAutoFit/>
          </a:bodyPr>
          <a:p>
            <a:pPr algn="ctr">
              <a:spcBef>
                <a:spcPts val="27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a4a4a4"/>
                </a:solidFill>
                <a:latin typeface="Open Sans Light"/>
              </a:rPr>
              <a:t>There are many variations</a:t>
            </a:r>
            <a:br>
              <a:rPr sz="1100"/>
            </a:br>
            <a:r>
              <a:rPr b="0" lang="en-US" sz="1100" spc="-1" strike="noStrike">
                <a:solidFill>
                  <a:srgbClr val="a4a4a4"/>
                </a:solidFill>
                <a:latin typeface="Open Sans Light"/>
              </a:rPr>
              <a:t> of passages of lorem </a:t>
            </a:r>
            <a:br>
              <a:rPr sz="1100"/>
            </a:br>
            <a:r>
              <a:rPr b="0" lang="en-US" sz="1100" spc="-1" strike="noStrike">
                <a:solidFill>
                  <a:srgbClr val="a4a4a4"/>
                </a:solidFill>
                <a:latin typeface="Open Sans Light"/>
              </a:rPr>
              <a:t>ipsum available, but the majority suffered</a:t>
            </a:r>
            <a:br>
              <a:rPr sz="1100"/>
            </a:br>
            <a:r>
              <a:rPr b="0" lang="en-US" sz="1100" spc="-1" strike="noStrike">
                <a:solidFill>
                  <a:srgbClr val="a4a4a4"/>
                </a:solidFill>
                <a:latin typeface="Open Sans Light"/>
              </a:rPr>
              <a:t> alteration </a:t>
            </a:r>
            <a:endParaRPr b="0" lang="en-US" sz="1100" spc="-1" strike="noStrike">
              <a:solidFill>
                <a:srgbClr val="494949"/>
              </a:solidFill>
              <a:latin typeface="Open Sans Light"/>
            </a:endParaRPr>
          </a:p>
        </p:txBody>
      </p:sp>
      <p:grpSp>
        <p:nvGrpSpPr>
          <p:cNvPr id="980" name="Group 19"/>
          <p:cNvGrpSpPr/>
          <p:nvPr/>
        </p:nvGrpSpPr>
        <p:grpSpPr>
          <a:xfrm>
            <a:off x="1709640" y="2373480"/>
            <a:ext cx="1308240" cy="1307880"/>
            <a:chOff x="1709640" y="2373480"/>
            <a:chExt cx="1308240" cy="1307880"/>
          </a:xfrm>
        </p:grpSpPr>
        <p:grpSp>
          <p:nvGrpSpPr>
            <p:cNvPr id="981" name="Group 65"/>
            <p:cNvGrpSpPr/>
            <p:nvPr/>
          </p:nvGrpSpPr>
          <p:grpSpPr>
            <a:xfrm>
              <a:off x="1709640" y="2373480"/>
              <a:ext cx="1308240" cy="1307880"/>
              <a:chOff x="1709640" y="2373480"/>
              <a:chExt cx="1308240" cy="1307880"/>
            </a:xfrm>
          </p:grpSpPr>
          <p:sp>
            <p:nvSpPr>
              <p:cNvPr id="982" name="Rounded Rectangle 22"/>
              <p:cNvSpPr/>
              <p:nvPr/>
            </p:nvSpPr>
            <p:spPr>
              <a:xfrm rot="5400000">
                <a:off x="1709640" y="2373120"/>
                <a:ext cx="1307880" cy="1308240"/>
              </a:xfrm>
              <a:custGeom>
                <a:avLst/>
                <a:gdLst>
                  <a:gd name="textAreaLeft" fmla="*/ 63720 w 1307880"/>
                  <a:gd name="textAreaRight" fmla="*/ 1244160 w 1307880"/>
                  <a:gd name="textAreaTop" fmla="*/ 63720 h 1308240"/>
                  <a:gd name="textAreaBottom" fmla="*/ 1244520 h 130824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ededed"/>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83" name="Oval 23"/>
              <p:cNvSpPr/>
              <p:nvPr/>
            </p:nvSpPr>
            <p:spPr>
              <a:xfrm>
                <a:off x="1752840" y="2416680"/>
                <a:ext cx="1221840" cy="122148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984" name="Freeform 101"/>
            <p:cNvSpPr/>
            <p:nvPr/>
          </p:nvSpPr>
          <p:spPr>
            <a:xfrm>
              <a:off x="1989000" y="2779200"/>
              <a:ext cx="749520" cy="496440"/>
            </a:xfrm>
            <a:custGeom>
              <a:avLst/>
              <a:gdLst/>
              <a:ahLst/>
              <a:rect l="l" t="t" r="r" b="b"/>
              <a:pathLst>
                <a:path w="77" h="51">
                  <a:moveTo>
                    <a:pt x="77" y="43"/>
                  </a:moveTo>
                  <a:cubicBezTo>
                    <a:pt x="77" y="47"/>
                    <a:pt x="77" y="47"/>
                    <a:pt x="77" y="47"/>
                  </a:cubicBezTo>
                  <a:cubicBezTo>
                    <a:pt x="77" y="49"/>
                    <a:pt x="74" y="51"/>
                    <a:pt x="70" y="51"/>
                  </a:cubicBezTo>
                  <a:cubicBezTo>
                    <a:pt x="6" y="51"/>
                    <a:pt x="6" y="51"/>
                    <a:pt x="6" y="51"/>
                  </a:cubicBezTo>
                  <a:cubicBezTo>
                    <a:pt x="3" y="51"/>
                    <a:pt x="0" y="49"/>
                    <a:pt x="0" y="47"/>
                  </a:cubicBezTo>
                  <a:cubicBezTo>
                    <a:pt x="0" y="43"/>
                    <a:pt x="0" y="43"/>
                    <a:pt x="0" y="43"/>
                  </a:cubicBezTo>
                  <a:cubicBezTo>
                    <a:pt x="6" y="43"/>
                    <a:pt x="6" y="43"/>
                    <a:pt x="6" y="43"/>
                  </a:cubicBezTo>
                  <a:cubicBezTo>
                    <a:pt x="70" y="43"/>
                    <a:pt x="70" y="43"/>
                    <a:pt x="70" y="43"/>
                  </a:cubicBezTo>
                  <a:lnTo>
                    <a:pt x="77" y="43"/>
                  </a:lnTo>
                  <a:close/>
                  <a:moveTo>
                    <a:pt x="10" y="34"/>
                  </a:moveTo>
                  <a:cubicBezTo>
                    <a:pt x="10" y="6"/>
                    <a:pt x="10" y="6"/>
                    <a:pt x="10" y="6"/>
                  </a:cubicBezTo>
                  <a:cubicBezTo>
                    <a:pt x="10" y="2"/>
                    <a:pt x="13" y="0"/>
                    <a:pt x="16" y="0"/>
                  </a:cubicBezTo>
                  <a:cubicBezTo>
                    <a:pt x="60" y="0"/>
                    <a:pt x="60" y="0"/>
                    <a:pt x="60" y="0"/>
                  </a:cubicBezTo>
                  <a:cubicBezTo>
                    <a:pt x="64" y="0"/>
                    <a:pt x="67" y="2"/>
                    <a:pt x="67" y="6"/>
                  </a:cubicBezTo>
                  <a:cubicBezTo>
                    <a:pt x="67" y="34"/>
                    <a:pt x="67" y="34"/>
                    <a:pt x="67" y="34"/>
                  </a:cubicBezTo>
                  <a:cubicBezTo>
                    <a:pt x="67" y="38"/>
                    <a:pt x="64" y="41"/>
                    <a:pt x="60" y="41"/>
                  </a:cubicBezTo>
                  <a:cubicBezTo>
                    <a:pt x="16" y="41"/>
                    <a:pt x="16" y="41"/>
                    <a:pt x="16" y="41"/>
                  </a:cubicBezTo>
                  <a:cubicBezTo>
                    <a:pt x="13" y="41"/>
                    <a:pt x="10" y="38"/>
                    <a:pt x="10" y="34"/>
                  </a:cubicBezTo>
                  <a:close/>
                  <a:moveTo>
                    <a:pt x="15" y="34"/>
                  </a:moveTo>
                  <a:cubicBezTo>
                    <a:pt x="15" y="35"/>
                    <a:pt x="16" y="36"/>
                    <a:pt x="16" y="36"/>
                  </a:cubicBezTo>
                  <a:cubicBezTo>
                    <a:pt x="60" y="36"/>
                    <a:pt x="60" y="36"/>
                    <a:pt x="60" y="36"/>
                  </a:cubicBezTo>
                  <a:cubicBezTo>
                    <a:pt x="61" y="36"/>
                    <a:pt x="61" y="35"/>
                    <a:pt x="61" y="34"/>
                  </a:cubicBezTo>
                  <a:cubicBezTo>
                    <a:pt x="61" y="6"/>
                    <a:pt x="61" y="6"/>
                    <a:pt x="61" y="6"/>
                  </a:cubicBezTo>
                  <a:cubicBezTo>
                    <a:pt x="61" y="5"/>
                    <a:pt x="61" y="5"/>
                    <a:pt x="60" y="5"/>
                  </a:cubicBezTo>
                  <a:cubicBezTo>
                    <a:pt x="16" y="5"/>
                    <a:pt x="16" y="5"/>
                    <a:pt x="16" y="5"/>
                  </a:cubicBezTo>
                  <a:cubicBezTo>
                    <a:pt x="16" y="5"/>
                    <a:pt x="15" y="5"/>
                    <a:pt x="15" y="6"/>
                  </a:cubicBezTo>
                  <a:lnTo>
                    <a:pt x="15" y="34"/>
                  </a:lnTo>
                  <a:close/>
                  <a:moveTo>
                    <a:pt x="42" y="47"/>
                  </a:moveTo>
                  <a:cubicBezTo>
                    <a:pt x="42" y="46"/>
                    <a:pt x="42" y="46"/>
                    <a:pt x="42" y="46"/>
                  </a:cubicBezTo>
                  <a:cubicBezTo>
                    <a:pt x="35" y="46"/>
                    <a:pt x="35" y="46"/>
                    <a:pt x="35" y="46"/>
                  </a:cubicBezTo>
                  <a:cubicBezTo>
                    <a:pt x="35" y="46"/>
                    <a:pt x="34" y="46"/>
                    <a:pt x="34" y="47"/>
                  </a:cubicBezTo>
                  <a:cubicBezTo>
                    <a:pt x="34" y="47"/>
                    <a:pt x="35" y="47"/>
                    <a:pt x="35" y="47"/>
                  </a:cubicBezTo>
                  <a:cubicBezTo>
                    <a:pt x="42" y="47"/>
                    <a:pt x="42" y="47"/>
                    <a:pt x="42" y="47"/>
                  </a:cubicBezTo>
                  <a:cubicBezTo>
                    <a:pt x="42" y="47"/>
                    <a:pt x="42" y="47"/>
                    <a:pt x="42"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grpSp>
      <p:grpSp>
        <p:nvGrpSpPr>
          <p:cNvPr id="985" name="Group 24"/>
          <p:cNvGrpSpPr/>
          <p:nvPr/>
        </p:nvGrpSpPr>
        <p:grpSpPr>
          <a:xfrm>
            <a:off x="3574800" y="2373480"/>
            <a:ext cx="1307880" cy="1307880"/>
            <a:chOff x="3574800" y="2373480"/>
            <a:chExt cx="1307880" cy="1307880"/>
          </a:xfrm>
        </p:grpSpPr>
        <p:grpSp>
          <p:nvGrpSpPr>
            <p:cNvPr id="986" name="Group 68"/>
            <p:cNvGrpSpPr/>
            <p:nvPr/>
          </p:nvGrpSpPr>
          <p:grpSpPr>
            <a:xfrm>
              <a:off x="3574800" y="2373480"/>
              <a:ext cx="1307880" cy="1307880"/>
              <a:chOff x="3574800" y="2373480"/>
              <a:chExt cx="1307880" cy="1307880"/>
            </a:xfrm>
          </p:grpSpPr>
          <p:sp>
            <p:nvSpPr>
              <p:cNvPr id="987" name="Rounded Rectangle 27"/>
              <p:cNvSpPr/>
              <p:nvPr/>
            </p:nvSpPr>
            <p:spPr>
              <a:xfrm rot="5400000">
                <a:off x="3574800" y="2373480"/>
                <a:ext cx="1307880" cy="1307880"/>
              </a:xfrm>
              <a:prstGeom prst="roundRect">
                <a:avLst>
                  <a:gd name="adj" fmla="val 16667"/>
                </a:avLst>
              </a:prstGeom>
              <a:solidFill>
                <a:srgbClr val="ededed"/>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88" name="Oval 28"/>
              <p:cNvSpPr/>
              <p:nvPr/>
            </p:nvSpPr>
            <p:spPr>
              <a:xfrm>
                <a:off x="3618360" y="2416680"/>
                <a:ext cx="1221480" cy="1221480"/>
              </a:xfrm>
              <a:prstGeom prst="ellipse">
                <a:avLst/>
              </a:prstGeom>
              <a:solidFill>
                <a:srgbClr val="0098a5"/>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989" name="Freeform 157"/>
            <p:cNvSpPr/>
            <p:nvPr/>
          </p:nvSpPr>
          <p:spPr>
            <a:xfrm>
              <a:off x="4000680" y="2747520"/>
              <a:ext cx="456840" cy="559800"/>
            </a:xfrm>
            <a:custGeom>
              <a:avLst/>
              <a:gdLst/>
              <a:ahLst/>
              <a:rect l="l" t="t" r="r" b="b"/>
              <a:pathLst>
                <a:path w="41" h="50">
                  <a:moveTo>
                    <a:pt x="41" y="44"/>
                  </a:moveTo>
                  <a:cubicBezTo>
                    <a:pt x="41" y="47"/>
                    <a:pt x="38" y="50"/>
                    <a:pt x="35" y="50"/>
                  </a:cubicBezTo>
                  <a:cubicBezTo>
                    <a:pt x="5" y="50"/>
                    <a:pt x="5" y="50"/>
                    <a:pt x="5" y="50"/>
                  </a:cubicBezTo>
                  <a:cubicBezTo>
                    <a:pt x="2" y="50"/>
                    <a:pt x="0" y="47"/>
                    <a:pt x="0" y="44"/>
                  </a:cubicBezTo>
                  <a:cubicBezTo>
                    <a:pt x="0" y="5"/>
                    <a:pt x="0" y="5"/>
                    <a:pt x="0" y="5"/>
                  </a:cubicBezTo>
                  <a:cubicBezTo>
                    <a:pt x="0" y="2"/>
                    <a:pt x="2" y="0"/>
                    <a:pt x="5" y="0"/>
                  </a:cubicBezTo>
                  <a:cubicBezTo>
                    <a:pt x="35" y="0"/>
                    <a:pt x="35" y="0"/>
                    <a:pt x="35" y="0"/>
                  </a:cubicBezTo>
                  <a:cubicBezTo>
                    <a:pt x="38" y="0"/>
                    <a:pt x="41" y="2"/>
                    <a:pt x="41" y="5"/>
                  </a:cubicBezTo>
                  <a:lnTo>
                    <a:pt x="41" y="44"/>
                  </a:lnTo>
                  <a:close/>
                  <a:moveTo>
                    <a:pt x="36" y="5"/>
                  </a:moveTo>
                  <a:cubicBezTo>
                    <a:pt x="36" y="5"/>
                    <a:pt x="36" y="4"/>
                    <a:pt x="35" y="4"/>
                  </a:cubicBezTo>
                  <a:cubicBezTo>
                    <a:pt x="5" y="4"/>
                    <a:pt x="5" y="4"/>
                    <a:pt x="5" y="4"/>
                  </a:cubicBezTo>
                  <a:cubicBezTo>
                    <a:pt x="5" y="4"/>
                    <a:pt x="4" y="5"/>
                    <a:pt x="4" y="5"/>
                  </a:cubicBezTo>
                  <a:cubicBezTo>
                    <a:pt x="4" y="40"/>
                    <a:pt x="4" y="40"/>
                    <a:pt x="4" y="40"/>
                  </a:cubicBezTo>
                  <a:cubicBezTo>
                    <a:pt x="4" y="40"/>
                    <a:pt x="5" y="41"/>
                    <a:pt x="5" y="41"/>
                  </a:cubicBezTo>
                  <a:cubicBezTo>
                    <a:pt x="35" y="41"/>
                    <a:pt x="35" y="41"/>
                    <a:pt x="35" y="41"/>
                  </a:cubicBezTo>
                  <a:cubicBezTo>
                    <a:pt x="36" y="41"/>
                    <a:pt x="36" y="40"/>
                    <a:pt x="36" y="40"/>
                  </a:cubicBezTo>
                  <a:lnTo>
                    <a:pt x="36" y="5"/>
                  </a:lnTo>
                  <a:close/>
                  <a:moveTo>
                    <a:pt x="20" y="43"/>
                  </a:moveTo>
                  <a:cubicBezTo>
                    <a:pt x="19" y="43"/>
                    <a:pt x="18" y="44"/>
                    <a:pt x="18" y="45"/>
                  </a:cubicBezTo>
                  <a:cubicBezTo>
                    <a:pt x="18" y="46"/>
                    <a:pt x="19" y="48"/>
                    <a:pt x="20" y="48"/>
                  </a:cubicBezTo>
                  <a:cubicBezTo>
                    <a:pt x="22" y="48"/>
                    <a:pt x="23" y="46"/>
                    <a:pt x="23" y="45"/>
                  </a:cubicBezTo>
                  <a:cubicBezTo>
                    <a:pt x="23" y="44"/>
                    <a:pt x="22" y="43"/>
                    <a:pt x="20"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grpSp>
      <p:grpSp>
        <p:nvGrpSpPr>
          <p:cNvPr id="990" name="Group 29"/>
          <p:cNvGrpSpPr/>
          <p:nvPr/>
        </p:nvGrpSpPr>
        <p:grpSpPr>
          <a:xfrm>
            <a:off x="5441760" y="2373480"/>
            <a:ext cx="1307880" cy="1307880"/>
            <a:chOff x="5441760" y="2373480"/>
            <a:chExt cx="1307880" cy="1307880"/>
          </a:xfrm>
        </p:grpSpPr>
        <p:grpSp>
          <p:nvGrpSpPr>
            <p:cNvPr id="991" name="Group 76"/>
            <p:cNvGrpSpPr/>
            <p:nvPr/>
          </p:nvGrpSpPr>
          <p:grpSpPr>
            <a:xfrm>
              <a:off x="5441760" y="2373480"/>
              <a:ext cx="1307880" cy="1307880"/>
              <a:chOff x="5441760" y="2373480"/>
              <a:chExt cx="1307880" cy="1307880"/>
            </a:xfrm>
          </p:grpSpPr>
          <p:sp>
            <p:nvSpPr>
              <p:cNvPr id="992" name="Rounded Rectangle 32"/>
              <p:cNvSpPr/>
              <p:nvPr/>
            </p:nvSpPr>
            <p:spPr>
              <a:xfrm rot="5400000">
                <a:off x="5441760" y="2373480"/>
                <a:ext cx="1307880" cy="1307880"/>
              </a:xfrm>
              <a:prstGeom prst="roundRect">
                <a:avLst>
                  <a:gd name="adj" fmla="val 16667"/>
                </a:avLst>
              </a:prstGeom>
              <a:solidFill>
                <a:srgbClr val="ededed"/>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93" name="Oval 33"/>
              <p:cNvSpPr/>
              <p:nvPr/>
            </p:nvSpPr>
            <p:spPr>
              <a:xfrm>
                <a:off x="5485320" y="2416680"/>
                <a:ext cx="1221480" cy="1221480"/>
              </a:xfrm>
              <a:prstGeom prst="ellipse">
                <a:avLst/>
              </a:prstGeom>
              <a:solidFill>
                <a:srgbClr val="1991ab"/>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994" name="Freeform 217"/>
            <p:cNvSpPr/>
            <p:nvPr/>
          </p:nvSpPr>
          <p:spPr>
            <a:xfrm>
              <a:off x="5791320" y="2799000"/>
              <a:ext cx="609480" cy="456840"/>
            </a:xfrm>
            <a:custGeom>
              <a:avLst/>
              <a:gdLst/>
              <a:ahLst/>
              <a:rect l="l" t="t" r="r" b="b"/>
              <a:pathLst>
                <a:path w="78" h="58">
                  <a:moveTo>
                    <a:pt x="78" y="58"/>
                  </a:moveTo>
                  <a:cubicBezTo>
                    <a:pt x="0" y="58"/>
                    <a:pt x="0" y="58"/>
                    <a:pt x="0" y="58"/>
                  </a:cubicBezTo>
                  <a:cubicBezTo>
                    <a:pt x="0" y="0"/>
                    <a:pt x="0" y="0"/>
                    <a:pt x="0" y="0"/>
                  </a:cubicBezTo>
                  <a:cubicBezTo>
                    <a:pt x="5" y="0"/>
                    <a:pt x="5" y="0"/>
                    <a:pt x="5" y="0"/>
                  </a:cubicBezTo>
                  <a:cubicBezTo>
                    <a:pt x="5" y="53"/>
                    <a:pt x="5" y="53"/>
                    <a:pt x="5" y="53"/>
                  </a:cubicBezTo>
                  <a:cubicBezTo>
                    <a:pt x="78" y="53"/>
                    <a:pt x="78" y="53"/>
                    <a:pt x="78" y="53"/>
                  </a:cubicBezTo>
                  <a:lnTo>
                    <a:pt x="78" y="58"/>
                  </a:lnTo>
                  <a:close/>
                  <a:moveTo>
                    <a:pt x="73" y="22"/>
                  </a:moveTo>
                  <a:cubicBezTo>
                    <a:pt x="73" y="23"/>
                    <a:pt x="71" y="24"/>
                    <a:pt x="71" y="23"/>
                  </a:cubicBezTo>
                  <a:cubicBezTo>
                    <a:pt x="66" y="18"/>
                    <a:pt x="66" y="18"/>
                    <a:pt x="66" y="18"/>
                  </a:cubicBezTo>
                  <a:cubicBezTo>
                    <a:pt x="42" y="42"/>
                    <a:pt x="42" y="42"/>
                    <a:pt x="42" y="42"/>
                  </a:cubicBezTo>
                  <a:cubicBezTo>
                    <a:pt x="41" y="43"/>
                    <a:pt x="41" y="43"/>
                    <a:pt x="40" y="42"/>
                  </a:cubicBezTo>
                  <a:cubicBezTo>
                    <a:pt x="31" y="34"/>
                    <a:pt x="31" y="34"/>
                    <a:pt x="31" y="34"/>
                  </a:cubicBezTo>
                  <a:cubicBezTo>
                    <a:pt x="16" y="49"/>
                    <a:pt x="16" y="49"/>
                    <a:pt x="16" y="49"/>
                  </a:cubicBezTo>
                  <a:cubicBezTo>
                    <a:pt x="8" y="42"/>
                    <a:pt x="8" y="42"/>
                    <a:pt x="8" y="42"/>
                  </a:cubicBezTo>
                  <a:cubicBezTo>
                    <a:pt x="30" y="20"/>
                    <a:pt x="30" y="20"/>
                    <a:pt x="30" y="20"/>
                  </a:cubicBezTo>
                  <a:cubicBezTo>
                    <a:pt x="31" y="19"/>
                    <a:pt x="32" y="19"/>
                    <a:pt x="32" y="20"/>
                  </a:cubicBezTo>
                  <a:cubicBezTo>
                    <a:pt x="41" y="29"/>
                    <a:pt x="41" y="29"/>
                    <a:pt x="41" y="29"/>
                  </a:cubicBezTo>
                  <a:cubicBezTo>
                    <a:pt x="59" y="11"/>
                    <a:pt x="59" y="11"/>
                    <a:pt x="59" y="11"/>
                  </a:cubicBezTo>
                  <a:cubicBezTo>
                    <a:pt x="54" y="6"/>
                    <a:pt x="54" y="6"/>
                    <a:pt x="54" y="6"/>
                  </a:cubicBezTo>
                  <a:cubicBezTo>
                    <a:pt x="53" y="6"/>
                    <a:pt x="54" y="4"/>
                    <a:pt x="55" y="4"/>
                  </a:cubicBezTo>
                  <a:cubicBezTo>
                    <a:pt x="71" y="4"/>
                    <a:pt x="71" y="4"/>
                    <a:pt x="71" y="4"/>
                  </a:cubicBezTo>
                  <a:cubicBezTo>
                    <a:pt x="72" y="4"/>
                    <a:pt x="73" y="5"/>
                    <a:pt x="73" y="6"/>
                  </a:cubicBezTo>
                  <a:lnTo>
                    <a:pt x="73"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grpSp>
      <p:grpSp>
        <p:nvGrpSpPr>
          <p:cNvPr id="995" name="Group 34"/>
          <p:cNvGrpSpPr/>
          <p:nvPr/>
        </p:nvGrpSpPr>
        <p:grpSpPr>
          <a:xfrm>
            <a:off x="7308720" y="2373480"/>
            <a:ext cx="1308240" cy="1307880"/>
            <a:chOff x="7308720" y="2373480"/>
            <a:chExt cx="1308240" cy="1307880"/>
          </a:xfrm>
        </p:grpSpPr>
        <p:grpSp>
          <p:nvGrpSpPr>
            <p:cNvPr id="996" name="Group 82"/>
            <p:cNvGrpSpPr/>
            <p:nvPr/>
          </p:nvGrpSpPr>
          <p:grpSpPr>
            <a:xfrm>
              <a:off x="7308720" y="2373480"/>
              <a:ext cx="1308240" cy="1307880"/>
              <a:chOff x="7308720" y="2373480"/>
              <a:chExt cx="1308240" cy="1307880"/>
            </a:xfrm>
          </p:grpSpPr>
          <p:sp>
            <p:nvSpPr>
              <p:cNvPr id="997" name="Rounded Rectangle 37"/>
              <p:cNvSpPr/>
              <p:nvPr/>
            </p:nvSpPr>
            <p:spPr>
              <a:xfrm rot="5400000">
                <a:off x="7308720" y="2373120"/>
                <a:ext cx="1307880" cy="1308240"/>
              </a:xfrm>
              <a:custGeom>
                <a:avLst/>
                <a:gdLst>
                  <a:gd name="textAreaLeft" fmla="*/ 63720 w 1307880"/>
                  <a:gd name="textAreaRight" fmla="*/ 1244160 w 1307880"/>
                  <a:gd name="textAreaTop" fmla="*/ 63720 h 1308240"/>
                  <a:gd name="textAreaBottom" fmla="*/ 1244520 h 130824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ededed"/>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98" name="Oval 38"/>
              <p:cNvSpPr/>
              <p:nvPr/>
            </p:nvSpPr>
            <p:spPr>
              <a:xfrm>
                <a:off x="7351920" y="2416680"/>
                <a:ext cx="1221840" cy="1221480"/>
              </a:xfrm>
              <a:prstGeom prst="ellipse">
                <a:avLst/>
              </a:prstGeom>
              <a:solidFill>
                <a:srgbClr val="2b85ae"/>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999" name="Freeform 52"/>
            <p:cNvSpPr/>
            <p:nvPr/>
          </p:nvSpPr>
          <p:spPr>
            <a:xfrm>
              <a:off x="7707960" y="2753280"/>
              <a:ext cx="509760" cy="548280"/>
            </a:xfrm>
            <a:custGeom>
              <a:avLst/>
              <a:gdLst/>
              <a:ahLst/>
              <a:rect l="l" t="t" r="r" b="b"/>
              <a:pathLst>
                <a:path w="67" h="72">
                  <a:moveTo>
                    <a:pt x="67" y="67"/>
                  </a:moveTo>
                  <a:cubicBezTo>
                    <a:pt x="67" y="70"/>
                    <a:pt x="64" y="72"/>
                    <a:pt x="61" y="72"/>
                  </a:cubicBezTo>
                  <a:cubicBezTo>
                    <a:pt x="5" y="72"/>
                    <a:pt x="5" y="72"/>
                    <a:pt x="5" y="72"/>
                  </a:cubicBezTo>
                  <a:cubicBezTo>
                    <a:pt x="2" y="72"/>
                    <a:pt x="0" y="70"/>
                    <a:pt x="0" y="67"/>
                  </a:cubicBezTo>
                  <a:cubicBezTo>
                    <a:pt x="0" y="16"/>
                    <a:pt x="0" y="16"/>
                    <a:pt x="0" y="16"/>
                  </a:cubicBezTo>
                  <a:cubicBezTo>
                    <a:pt x="0" y="13"/>
                    <a:pt x="2" y="11"/>
                    <a:pt x="5" y="11"/>
                  </a:cubicBezTo>
                  <a:cubicBezTo>
                    <a:pt x="10" y="11"/>
                    <a:pt x="10" y="11"/>
                    <a:pt x="10" y="11"/>
                  </a:cubicBezTo>
                  <a:cubicBezTo>
                    <a:pt x="10" y="7"/>
                    <a:pt x="10" y="7"/>
                    <a:pt x="10" y="7"/>
                  </a:cubicBezTo>
                  <a:cubicBezTo>
                    <a:pt x="10" y="3"/>
                    <a:pt x="13" y="0"/>
                    <a:pt x="16" y="0"/>
                  </a:cubicBezTo>
                  <a:cubicBezTo>
                    <a:pt x="19" y="0"/>
                    <a:pt x="19" y="0"/>
                    <a:pt x="19" y="0"/>
                  </a:cubicBezTo>
                  <a:cubicBezTo>
                    <a:pt x="23" y="0"/>
                    <a:pt x="25" y="3"/>
                    <a:pt x="25" y="7"/>
                  </a:cubicBezTo>
                  <a:cubicBezTo>
                    <a:pt x="25" y="11"/>
                    <a:pt x="25" y="11"/>
                    <a:pt x="25" y="11"/>
                  </a:cubicBezTo>
                  <a:cubicBezTo>
                    <a:pt x="41" y="11"/>
                    <a:pt x="41" y="11"/>
                    <a:pt x="41" y="11"/>
                  </a:cubicBezTo>
                  <a:cubicBezTo>
                    <a:pt x="41" y="7"/>
                    <a:pt x="41" y="7"/>
                    <a:pt x="41" y="7"/>
                  </a:cubicBezTo>
                  <a:cubicBezTo>
                    <a:pt x="41" y="3"/>
                    <a:pt x="44" y="0"/>
                    <a:pt x="47" y="0"/>
                  </a:cubicBezTo>
                  <a:cubicBezTo>
                    <a:pt x="50" y="0"/>
                    <a:pt x="50" y="0"/>
                    <a:pt x="50" y="0"/>
                  </a:cubicBezTo>
                  <a:cubicBezTo>
                    <a:pt x="53" y="0"/>
                    <a:pt x="56" y="3"/>
                    <a:pt x="56" y="7"/>
                  </a:cubicBezTo>
                  <a:cubicBezTo>
                    <a:pt x="56" y="11"/>
                    <a:pt x="56" y="11"/>
                    <a:pt x="56" y="11"/>
                  </a:cubicBezTo>
                  <a:cubicBezTo>
                    <a:pt x="61" y="11"/>
                    <a:pt x="61" y="11"/>
                    <a:pt x="61" y="11"/>
                  </a:cubicBezTo>
                  <a:cubicBezTo>
                    <a:pt x="64" y="11"/>
                    <a:pt x="67" y="13"/>
                    <a:pt x="67" y="16"/>
                  </a:cubicBezTo>
                  <a:lnTo>
                    <a:pt x="67" y="67"/>
                  </a:lnTo>
                  <a:close/>
                  <a:moveTo>
                    <a:pt x="61" y="67"/>
                  </a:moveTo>
                  <a:cubicBezTo>
                    <a:pt x="61" y="26"/>
                    <a:pt x="61" y="26"/>
                    <a:pt x="61" y="26"/>
                  </a:cubicBezTo>
                  <a:cubicBezTo>
                    <a:pt x="5" y="26"/>
                    <a:pt x="5" y="26"/>
                    <a:pt x="5" y="26"/>
                  </a:cubicBezTo>
                  <a:cubicBezTo>
                    <a:pt x="5" y="67"/>
                    <a:pt x="5" y="67"/>
                    <a:pt x="5" y="67"/>
                  </a:cubicBezTo>
                  <a:lnTo>
                    <a:pt x="61" y="67"/>
                  </a:lnTo>
                  <a:close/>
                  <a:moveTo>
                    <a:pt x="20" y="7"/>
                  </a:moveTo>
                  <a:cubicBezTo>
                    <a:pt x="20" y="6"/>
                    <a:pt x="20" y="5"/>
                    <a:pt x="19" y="5"/>
                  </a:cubicBezTo>
                  <a:cubicBezTo>
                    <a:pt x="16" y="5"/>
                    <a:pt x="16" y="5"/>
                    <a:pt x="16" y="5"/>
                  </a:cubicBezTo>
                  <a:cubicBezTo>
                    <a:pt x="16" y="5"/>
                    <a:pt x="15" y="6"/>
                    <a:pt x="15" y="7"/>
                  </a:cubicBezTo>
                  <a:cubicBezTo>
                    <a:pt x="15" y="18"/>
                    <a:pt x="15" y="18"/>
                    <a:pt x="15" y="18"/>
                  </a:cubicBezTo>
                  <a:cubicBezTo>
                    <a:pt x="15" y="19"/>
                    <a:pt x="16" y="20"/>
                    <a:pt x="16" y="20"/>
                  </a:cubicBezTo>
                  <a:cubicBezTo>
                    <a:pt x="19" y="20"/>
                    <a:pt x="19" y="20"/>
                    <a:pt x="19" y="20"/>
                  </a:cubicBezTo>
                  <a:cubicBezTo>
                    <a:pt x="20" y="20"/>
                    <a:pt x="20" y="19"/>
                    <a:pt x="20" y="18"/>
                  </a:cubicBezTo>
                  <a:lnTo>
                    <a:pt x="20" y="7"/>
                  </a:lnTo>
                  <a:close/>
                  <a:moveTo>
                    <a:pt x="51" y="7"/>
                  </a:moveTo>
                  <a:cubicBezTo>
                    <a:pt x="51" y="6"/>
                    <a:pt x="51" y="5"/>
                    <a:pt x="50" y="5"/>
                  </a:cubicBezTo>
                  <a:cubicBezTo>
                    <a:pt x="47" y="5"/>
                    <a:pt x="47" y="5"/>
                    <a:pt x="47" y="5"/>
                  </a:cubicBezTo>
                  <a:cubicBezTo>
                    <a:pt x="47" y="5"/>
                    <a:pt x="46" y="6"/>
                    <a:pt x="46" y="7"/>
                  </a:cubicBezTo>
                  <a:cubicBezTo>
                    <a:pt x="46" y="18"/>
                    <a:pt x="46" y="18"/>
                    <a:pt x="46" y="18"/>
                  </a:cubicBezTo>
                  <a:cubicBezTo>
                    <a:pt x="46" y="19"/>
                    <a:pt x="47" y="20"/>
                    <a:pt x="47" y="20"/>
                  </a:cubicBezTo>
                  <a:cubicBezTo>
                    <a:pt x="50" y="20"/>
                    <a:pt x="50" y="20"/>
                    <a:pt x="50" y="20"/>
                  </a:cubicBezTo>
                  <a:cubicBezTo>
                    <a:pt x="51" y="20"/>
                    <a:pt x="51" y="19"/>
                    <a:pt x="51" y="18"/>
                  </a:cubicBezTo>
                  <a:lnTo>
                    <a:pt x="51"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grpSp>
      <p:grpSp>
        <p:nvGrpSpPr>
          <p:cNvPr id="1000" name="Group 39"/>
          <p:cNvGrpSpPr/>
          <p:nvPr/>
        </p:nvGrpSpPr>
        <p:grpSpPr>
          <a:xfrm>
            <a:off x="9173880" y="2373480"/>
            <a:ext cx="1307880" cy="1307880"/>
            <a:chOff x="9173880" y="2373480"/>
            <a:chExt cx="1307880" cy="1307880"/>
          </a:xfrm>
        </p:grpSpPr>
        <p:grpSp>
          <p:nvGrpSpPr>
            <p:cNvPr id="1001" name="Group 90"/>
            <p:cNvGrpSpPr/>
            <p:nvPr/>
          </p:nvGrpSpPr>
          <p:grpSpPr>
            <a:xfrm>
              <a:off x="9173880" y="2373480"/>
              <a:ext cx="1307880" cy="1307880"/>
              <a:chOff x="9173880" y="2373480"/>
              <a:chExt cx="1307880" cy="1307880"/>
            </a:xfrm>
          </p:grpSpPr>
          <p:sp>
            <p:nvSpPr>
              <p:cNvPr id="1002" name="Rounded Rectangle 42"/>
              <p:cNvSpPr/>
              <p:nvPr/>
            </p:nvSpPr>
            <p:spPr>
              <a:xfrm rot="5400000">
                <a:off x="9173880" y="2373480"/>
                <a:ext cx="1307880" cy="1307880"/>
              </a:xfrm>
              <a:prstGeom prst="roundRect">
                <a:avLst>
                  <a:gd name="adj" fmla="val 16667"/>
                </a:avLst>
              </a:prstGeom>
              <a:solidFill>
                <a:srgbClr val="ededed"/>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03" name="Oval 43"/>
              <p:cNvSpPr/>
              <p:nvPr/>
            </p:nvSpPr>
            <p:spPr>
              <a:xfrm>
                <a:off x="9217440" y="2416680"/>
                <a:ext cx="1221480" cy="1221480"/>
              </a:xfrm>
              <a:prstGeom prst="ellipse">
                <a:avLst/>
              </a:prstGeom>
              <a:solidFill>
                <a:srgbClr val="4175a9"/>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1004" name="Freeform 91"/>
            <p:cNvSpPr/>
            <p:nvPr/>
          </p:nvSpPr>
          <p:spPr>
            <a:xfrm>
              <a:off x="9534600" y="2733840"/>
              <a:ext cx="586800" cy="586800"/>
            </a:xfrm>
            <a:custGeom>
              <a:avLst/>
              <a:gdLst/>
              <a:ahLst/>
              <a:rect l="l" t="t" r="r" b="b"/>
              <a:pathLst>
                <a:path w="62" h="62">
                  <a:moveTo>
                    <a:pt x="62" y="31"/>
                  </a:moveTo>
                  <a:cubicBezTo>
                    <a:pt x="62" y="48"/>
                    <a:pt x="48" y="62"/>
                    <a:pt x="31" y="62"/>
                  </a:cubicBezTo>
                  <a:cubicBezTo>
                    <a:pt x="14" y="62"/>
                    <a:pt x="0" y="48"/>
                    <a:pt x="0" y="31"/>
                  </a:cubicBezTo>
                  <a:cubicBezTo>
                    <a:pt x="0" y="14"/>
                    <a:pt x="14" y="0"/>
                    <a:pt x="31" y="0"/>
                  </a:cubicBezTo>
                  <a:cubicBezTo>
                    <a:pt x="48" y="0"/>
                    <a:pt x="62" y="14"/>
                    <a:pt x="62" y="31"/>
                  </a:cubicBezTo>
                  <a:close/>
                  <a:moveTo>
                    <a:pt x="41" y="22"/>
                  </a:moveTo>
                  <a:cubicBezTo>
                    <a:pt x="42" y="22"/>
                    <a:pt x="42" y="21"/>
                    <a:pt x="42" y="21"/>
                  </a:cubicBezTo>
                  <a:cubicBezTo>
                    <a:pt x="42" y="21"/>
                    <a:pt x="42" y="21"/>
                    <a:pt x="43" y="21"/>
                  </a:cubicBezTo>
                  <a:cubicBezTo>
                    <a:pt x="43" y="20"/>
                    <a:pt x="44" y="20"/>
                    <a:pt x="45" y="20"/>
                  </a:cubicBezTo>
                  <a:cubicBezTo>
                    <a:pt x="46" y="20"/>
                    <a:pt x="46" y="20"/>
                    <a:pt x="47" y="21"/>
                  </a:cubicBezTo>
                  <a:cubicBezTo>
                    <a:pt x="47" y="20"/>
                    <a:pt x="48" y="20"/>
                    <a:pt x="48" y="20"/>
                  </a:cubicBezTo>
                  <a:cubicBezTo>
                    <a:pt x="48" y="19"/>
                    <a:pt x="49" y="19"/>
                    <a:pt x="49" y="19"/>
                  </a:cubicBezTo>
                  <a:cubicBezTo>
                    <a:pt x="49" y="19"/>
                    <a:pt x="49" y="18"/>
                    <a:pt x="49" y="18"/>
                  </a:cubicBezTo>
                  <a:cubicBezTo>
                    <a:pt x="49" y="18"/>
                    <a:pt x="48" y="18"/>
                    <a:pt x="48" y="17"/>
                  </a:cubicBezTo>
                  <a:cubicBezTo>
                    <a:pt x="48" y="17"/>
                    <a:pt x="48" y="17"/>
                    <a:pt x="48" y="17"/>
                  </a:cubicBezTo>
                  <a:cubicBezTo>
                    <a:pt x="48" y="17"/>
                    <a:pt x="47" y="17"/>
                    <a:pt x="47" y="17"/>
                  </a:cubicBezTo>
                  <a:cubicBezTo>
                    <a:pt x="46" y="17"/>
                    <a:pt x="46" y="16"/>
                    <a:pt x="46" y="16"/>
                  </a:cubicBezTo>
                  <a:cubicBezTo>
                    <a:pt x="46" y="15"/>
                    <a:pt x="45" y="15"/>
                    <a:pt x="45" y="15"/>
                  </a:cubicBezTo>
                  <a:cubicBezTo>
                    <a:pt x="45" y="15"/>
                    <a:pt x="45" y="14"/>
                    <a:pt x="45" y="14"/>
                  </a:cubicBezTo>
                  <a:cubicBezTo>
                    <a:pt x="44" y="14"/>
                    <a:pt x="44" y="15"/>
                    <a:pt x="44" y="15"/>
                  </a:cubicBezTo>
                  <a:cubicBezTo>
                    <a:pt x="43" y="15"/>
                    <a:pt x="43" y="15"/>
                    <a:pt x="43" y="15"/>
                  </a:cubicBezTo>
                  <a:cubicBezTo>
                    <a:pt x="43" y="15"/>
                    <a:pt x="43" y="15"/>
                    <a:pt x="42" y="15"/>
                  </a:cubicBezTo>
                  <a:cubicBezTo>
                    <a:pt x="43" y="15"/>
                    <a:pt x="42" y="15"/>
                    <a:pt x="42" y="15"/>
                  </a:cubicBezTo>
                  <a:cubicBezTo>
                    <a:pt x="42" y="14"/>
                    <a:pt x="42" y="14"/>
                    <a:pt x="42" y="14"/>
                  </a:cubicBezTo>
                  <a:cubicBezTo>
                    <a:pt x="42" y="14"/>
                    <a:pt x="42" y="14"/>
                    <a:pt x="42" y="14"/>
                  </a:cubicBezTo>
                  <a:cubicBezTo>
                    <a:pt x="42" y="13"/>
                    <a:pt x="41" y="13"/>
                    <a:pt x="40" y="13"/>
                  </a:cubicBezTo>
                  <a:cubicBezTo>
                    <a:pt x="40" y="12"/>
                    <a:pt x="38" y="12"/>
                    <a:pt x="38" y="12"/>
                  </a:cubicBezTo>
                  <a:cubicBezTo>
                    <a:pt x="37" y="13"/>
                    <a:pt x="38" y="13"/>
                    <a:pt x="38" y="14"/>
                  </a:cubicBezTo>
                  <a:cubicBezTo>
                    <a:pt x="38" y="14"/>
                    <a:pt x="37" y="14"/>
                    <a:pt x="37" y="15"/>
                  </a:cubicBezTo>
                  <a:cubicBezTo>
                    <a:pt x="37" y="15"/>
                    <a:pt x="38" y="15"/>
                    <a:pt x="38" y="16"/>
                  </a:cubicBezTo>
                  <a:cubicBezTo>
                    <a:pt x="38" y="17"/>
                    <a:pt x="37" y="17"/>
                    <a:pt x="37" y="17"/>
                  </a:cubicBezTo>
                  <a:cubicBezTo>
                    <a:pt x="37" y="18"/>
                    <a:pt x="37" y="18"/>
                    <a:pt x="37" y="19"/>
                  </a:cubicBezTo>
                  <a:cubicBezTo>
                    <a:pt x="38" y="19"/>
                    <a:pt x="37" y="19"/>
                    <a:pt x="37" y="19"/>
                  </a:cubicBezTo>
                  <a:cubicBezTo>
                    <a:pt x="36" y="20"/>
                    <a:pt x="35" y="19"/>
                    <a:pt x="35" y="18"/>
                  </a:cubicBezTo>
                  <a:cubicBezTo>
                    <a:pt x="35" y="18"/>
                    <a:pt x="35" y="17"/>
                    <a:pt x="34" y="17"/>
                  </a:cubicBezTo>
                  <a:cubicBezTo>
                    <a:pt x="34" y="17"/>
                    <a:pt x="33" y="17"/>
                    <a:pt x="33" y="17"/>
                  </a:cubicBezTo>
                  <a:cubicBezTo>
                    <a:pt x="33" y="16"/>
                    <a:pt x="32" y="16"/>
                    <a:pt x="32" y="16"/>
                  </a:cubicBezTo>
                  <a:cubicBezTo>
                    <a:pt x="31" y="16"/>
                    <a:pt x="30" y="16"/>
                    <a:pt x="29" y="16"/>
                  </a:cubicBezTo>
                  <a:cubicBezTo>
                    <a:pt x="30" y="16"/>
                    <a:pt x="29" y="15"/>
                    <a:pt x="29" y="15"/>
                  </a:cubicBezTo>
                  <a:cubicBezTo>
                    <a:pt x="29" y="14"/>
                    <a:pt x="29" y="14"/>
                    <a:pt x="29" y="14"/>
                  </a:cubicBezTo>
                  <a:cubicBezTo>
                    <a:pt x="29" y="13"/>
                    <a:pt x="29" y="13"/>
                    <a:pt x="29" y="13"/>
                  </a:cubicBezTo>
                  <a:cubicBezTo>
                    <a:pt x="29" y="12"/>
                    <a:pt x="30" y="11"/>
                    <a:pt x="30" y="11"/>
                  </a:cubicBezTo>
                  <a:cubicBezTo>
                    <a:pt x="31" y="12"/>
                    <a:pt x="31" y="12"/>
                    <a:pt x="32" y="11"/>
                  </a:cubicBezTo>
                  <a:cubicBezTo>
                    <a:pt x="32" y="11"/>
                    <a:pt x="32" y="10"/>
                    <a:pt x="33" y="10"/>
                  </a:cubicBezTo>
                  <a:cubicBezTo>
                    <a:pt x="33" y="9"/>
                    <a:pt x="34" y="10"/>
                    <a:pt x="35" y="10"/>
                  </a:cubicBezTo>
                  <a:cubicBezTo>
                    <a:pt x="35" y="10"/>
                    <a:pt x="35" y="9"/>
                    <a:pt x="35" y="9"/>
                  </a:cubicBezTo>
                  <a:cubicBezTo>
                    <a:pt x="35" y="9"/>
                    <a:pt x="35" y="8"/>
                    <a:pt x="35" y="8"/>
                  </a:cubicBezTo>
                  <a:cubicBezTo>
                    <a:pt x="34" y="7"/>
                    <a:pt x="33" y="8"/>
                    <a:pt x="34" y="8"/>
                  </a:cubicBezTo>
                  <a:cubicBezTo>
                    <a:pt x="34" y="8"/>
                    <a:pt x="33" y="10"/>
                    <a:pt x="32" y="9"/>
                  </a:cubicBezTo>
                  <a:cubicBezTo>
                    <a:pt x="32" y="9"/>
                    <a:pt x="32" y="8"/>
                    <a:pt x="31" y="8"/>
                  </a:cubicBezTo>
                  <a:cubicBezTo>
                    <a:pt x="31" y="8"/>
                    <a:pt x="31" y="8"/>
                    <a:pt x="31" y="9"/>
                  </a:cubicBezTo>
                  <a:cubicBezTo>
                    <a:pt x="31" y="8"/>
                    <a:pt x="30" y="8"/>
                    <a:pt x="29" y="8"/>
                  </a:cubicBezTo>
                  <a:cubicBezTo>
                    <a:pt x="30" y="7"/>
                    <a:pt x="29" y="7"/>
                    <a:pt x="29" y="7"/>
                  </a:cubicBezTo>
                  <a:cubicBezTo>
                    <a:pt x="29" y="6"/>
                    <a:pt x="28" y="6"/>
                    <a:pt x="27" y="6"/>
                  </a:cubicBezTo>
                  <a:cubicBezTo>
                    <a:pt x="27" y="7"/>
                    <a:pt x="28" y="8"/>
                    <a:pt x="29" y="8"/>
                  </a:cubicBezTo>
                  <a:cubicBezTo>
                    <a:pt x="29" y="8"/>
                    <a:pt x="29" y="8"/>
                    <a:pt x="29" y="8"/>
                  </a:cubicBezTo>
                  <a:cubicBezTo>
                    <a:pt x="29" y="8"/>
                    <a:pt x="28" y="9"/>
                    <a:pt x="28" y="9"/>
                  </a:cubicBezTo>
                  <a:cubicBezTo>
                    <a:pt x="28" y="9"/>
                    <a:pt x="28" y="10"/>
                    <a:pt x="28" y="10"/>
                  </a:cubicBezTo>
                  <a:cubicBezTo>
                    <a:pt x="27" y="10"/>
                    <a:pt x="27" y="9"/>
                    <a:pt x="27" y="9"/>
                  </a:cubicBezTo>
                  <a:cubicBezTo>
                    <a:pt x="28" y="9"/>
                    <a:pt x="26" y="9"/>
                    <a:pt x="26" y="9"/>
                  </a:cubicBezTo>
                  <a:cubicBezTo>
                    <a:pt x="25" y="9"/>
                    <a:pt x="24" y="9"/>
                    <a:pt x="24" y="9"/>
                  </a:cubicBezTo>
                  <a:cubicBezTo>
                    <a:pt x="24" y="8"/>
                    <a:pt x="24" y="7"/>
                    <a:pt x="24" y="8"/>
                  </a:cubicBezTo>
                  <a:cubicBezTo>
                    <a:pt x="24" y="7"/>
                    <a:pt x="23" y="7"/>
                    <a:pt x="23" y="7"/>
                  </a:cubicBezTo>
                  <a:cubicBezTo>
                    <a:pt x="22" y="7"/>
                    <a:pt x="21" y="8"/>
                    <a:pt x="19" y="9"/>
                  </a:cubicBezTo>
                  <a:cubicBezTo>
                    <a:pt x="19" y="9"/>
                    <a:pt x="20" y="9"/>
                    <a:pt x="20" y="9"/>
                  </a:cubicBezTo>
                  <a:cubicBezTo>
                    <a:pt x="20" y="8"/>
                    <a:pt x="20" y="8"/>
                    <a:pt x="21" y="8"/>
                  </a:cubicBezTo>
                  <a:cubicBezTo>
                    <a:pt x="21" y="8"/>
                    <a:pt x="22" y="7"/>
                    <a:pt x="22" y="8"/>
                  </a:cubicBezTo>
                  <a:cubicBezTo>
                    <a:pt x="22" y="8"/>
                    <a:pt x="23" y="8"/>
                    <a:pt x="23" y="8"/>
                  </a:cubicBezTo>
                  <a:cubicBezTo>
                    <a:pt x="23" y="8"/>
                    <a:pt x="23" y="8"/>
                    <a:pt x="23" y="9"/>
                  </a:cubicBezTo>
                  <a:cubicBezTo>
                    <a:pt x="23" y="8"/>
                    <a:pt x="23" y="9"/>
                    <a:pt x="22" y="9"/>
                  </a:cubicBezTo>
                  <a:cubicBezTo>
                    <a:pt x="22" y="9"/>
                    <a:pt x="21" y="9"/>
                    <a:pt x="21" y="9"/>
                  </a:cubicBezTo>
                  <a:cubicBezTo>
                    <a:pt x="21" y="9"/>
                    <a:pt x="22" y="10"/>
                    <a:pt x="22" y="10"/>
                  </a:cubicBezTo>
                  <a:cubicBezTo>
                    <a:pt x="21" y="9"/>
                    <a:pt x="21" y="9"/>
                    <a:pt x="20" y="9"/>
                  </a:cubicBezTo>
                  <a:cubicBezTo>
                    <a:pt x="20" y="9"/>
                    <a:pt x="19" y="9"/>
                    <a:pt x="19" y="9"/>
                  </a:cubicBezTo>
                  <a:cubicBezTo>
                    <a:pt x="15" y="11"/>
                    <a:pt x="12" y="14"/>
                    <a:pt x="10" y="18"/>
                  </a:cubicBezTo>
                  <a:cubicBezTo>
                    <a:pt x="10" y="18"/>
                    <a:pt x="10" y="18"/>
                    <a:pt x="10" y="18"/>
                  </a:cubicBezTo>
                  <a:cubicBezTo>
                    <a:pt x="10" y="18"/>
                    <a:pt x="10" y="19"/>
                    <a:pt x="11" y="19"/>
                  </a:cubicBezTo>
                  <a:cubicBezTo>
                    <a:pt x="11" y="19"/>
                    <a:pt x="11" y="19"/>
                    <a:pt x="11" y="19"/>
                  </a:cubicBezTo>
                  <a:cubicBezTo>
                    <a:pt x="11" y="19"/>
                    <a:pt x="13" y="20"/>
                    <a:pt x="13" y="21"/>
                  </a:cubicBezTo>
                  <a:cubicBezTo>
                    <a:pt x="13" y="21"/>
                    <a:pt x="13" y="21"/>
                    <a:pt x="14" y="21"/>
                  </a:cubicBezTo>
                  <a:cubicBezTo>
                    <a:pt x="14" y="22"/>
                    <a:pt x="13" y="22"/>
                    <a:pt x="13" y="22"/>
                  </a:cubicBezTo>
                  <a:cubicBezTo>
                    <a:pt x="13" y="22"/>
                    <a:pt x="12" y="21"/>
                    <a:pt x="12" y="22"/>
                  </a:cubicBezTo>
                  <a:cubicBezTo>
                    <a:pt x="12" y="22"/>
                    <a:pt x="12" y="23"/>
                    <a:pt x="13" y="23"/>
                  </a:cubicBezTo>
                  <a:cubicBezTo>
                    <a:pt x="12" y="23"/>
                    <a:pt x="12" y="25"/>
                    <a:pt x="12" y="26"/>
                  </a:cubicBezTo>
                  <a:cubicBezTo>
                    <a:pt x="12" y="26"/>
                    <a:pt x="12" y="26"/>
                    <a:pt x="12" y="26"/>
                  </a:cubicBezTo>
                  <a:cubicBezTo>
                    <a:pt x="12" y="26"/>
                    <a:pt x="13" y="28"/>
                    <a:pt x="13" y="28"/>
                  </a:cubicBezTo>
                  <a:cubicBezTo>
                    <a:pt x="13" y="28"/>
                    <a:pt x="14" y="30"/>
                    <a:pt x="15" y="30"/>
                  </a:cubicBezTo>
                  <a:cubicBezTo>
                    <a:pt x="15" y="30"/>
                    <a:pt x="16" y="31"/>
                    <a:pt x="16" y="31"/>
                  </a:cubicBezTo>
                  <a:cubicBezTo>
                    <a:pt x="17" y="32"/>
                    <a:pt x="17" y="33"/>
                    <a:pt x="17" y="33"/>
                  </a:cubicBezTo>
                  <a:cubicBezTo>
                    <a:pt x="17" y="34"/>
                    <a:pt x="18" y="34"/>
                    <a:pt x="18" y="35"/>
                  </a:cubicBezTo>
                  <a:cubicBezTo>
                    <a:pt x="18" y="35"/>
                    <a:pt x="18" y="35"/>
                    <a:pt x="18" y="35"/>
                  </a:cubicBezTo>
                  <a:cubicBezTo>
                    <a:pt x="18" y="35"/>
                    <a:pt x="19" y="35"/>
                    <a:pt x="19" y="36"/>
                  </a:cubicBezTo>
                  <a:cubicBezTo>
                    <a:pt x="19" y="36"/>
                    <a:pt x="19" y="37"/>
                    <a:pt x="19" y="37"/>
                  </a:cubicBezTo>
                  <a:cubicBezTo>
                    <a:pt x="20" y="36"/>
                    <a:pt x="19" y="35"/>
                    <a:pt x="18" y="34"/>
                  </a:cubicBezTo>
                  <a:cubicBezTo>
                    <a:pt x="18" y="34"/>
                    <a:pt x="18" y="34"/>
                    <a:pt x="18" y="33"/>
                  </a:cubicBezTo>
                  <a:cubicBezTo>
                    <a:pt x="18" y="33"/>
                    <a:pt x="18" y="32"/>
                    <a:pt x="17" y="32"/>
                  </a:cubicBezTo>
                  <a:cubicBezTo>
                    <a:pt x="18" y="32"/>
                    <a:pt x="18" y="32"/>
                    <a:pt x="18" y="33"/>
                  </a:cubicBezTo>
                  <a:cubicBezTo>
                    <a:pt x="18" y="33"/>
                    <a:pt x="20" y="35"/>
                    <a:pt x="20" y="35"/>
                  </a:cubicBezTo>
                  <a:cubicBezTo>
                    <a:pt x="20" y="35"/>
                    <a:pt x="21" y="37"/>
                    <a:pt x="21" y="37"/>
                  </a:cubicBezTo>
                  <a:cubicBezTo>
                    <a:pt x="21" y="37"/>
                    <a:pt x="22" y="37"/>
                    <a:pt x="22" y="38"/>
                  </a:cubicBezTo>
                  <a:cubicBezTo>
                    <a:pt x="22" y="38"/>
                    <a:pt x="22" y="39"/>
                    <a:pt x="23" y="40"/>
                  </a:cubicBezTo>
                  <a:cubicBezTo>
                    <a:pt x="23" y="41"/>
                    <a:pt x="24" y="41"/>
                    <a:pt x="25" y="41"/>
                  </a:cubicBezTo>
                  <a:cubicBezTo>
                    <a:pt x="25" y="42"/>
                    <a:pt x="26" y="42"/>
                    <a:pt x="26" y="42"/>
                  </a:cubicBezTo>
                  <a:cubicBezTo>
                    <a:pt x="27" y="43"/>
                    <a:pt x="27" y="42"/>
                    <a:pt x="28" y="42"/>
                  </a:cubicBezTo>
                  <a:cubicBezTo>
                    <a:pt x="29" y="42"/>
                    <a:pt x="29" y="43"/>
                    <a:pt x="30" y="44"/>
                  </a:cubicBezTo>
                  <a:cubicBezTo>
                    <a:pt x="31" y="44"/>
                    <a:pt x="32" y="44"/>
                    <a:pt x="32" y="44"/>
                  </a:cubicBezTo>
                  <a:cubicBezTo>
                    <a:pt x="32" y="44"/>
                    <a:pt x="33" y="46"/>
                    <a:pt x="33" y="46"/>
                  </a:cubicBezTo>
                  <a:cubicBezTo>
                    <a:pt x="34" y="46"/>
                    <a:pt x="34" y="47"/>
                    <a:pt x="35" y="47"/>
                  </a:cubicBezTo>
                  <a:cubicBezTo>
                    <a:pt x="35" y="47"/>
                    <a:pt x="35" y="47"/>
                    <a:pt x="35" y="47"/>
                  </a:cubicBezTo>
                  <a:cubicBezTo>
                    <a:pt x="35" y="47"/>
                    <a:pt x="36" y="48"/>
                    <a:pt x="36" y="48"/>
                  </a:cubicBezTo>
                  <a:cubicBezTo>
                    <a:pt x="36" y="48"/>
                    <a:pt x="36" y="47"/>
                    <a:pt x="36" y="47"/>
                  </a:cubicBezTo>
                  <a:cubicBezTo>
                    <a:pt x="36" y="47"/>
                    <a:pt x="35" y="47"/>
                    <a:pt x="34" y="46"/>
                  </a:cubicBezTo>
                  <a:cubicBezTo>
                    <a:pt x="34" y="46"/>
                    <a:pt x="34" y="45"/>
                    <a:pt x="34" y="45"/>
                  </a:cubicBezTo>
                  <a:cubicBezTo>
                    <a:pt x="35" y="45"/>
                    <a:pt x="35" y="44"/>
                    <a:pt x="34" y="43"/>
                  </a:cubicBezTo>
                  <a:cubicBezTo>
                    <a:pt x="34" y="43"/>
                    <a:pt x="34" y="43"/>
                    <a:pt x="34" y="42"/>
                  </a:cubicBezTo>
                  <a:cubicBezTo>
                    <a:pt x="33" y="43"/>
                    <a:pt x="33" y="42"/>
                    <a:pt x="32" y="42"/>
                  </a:cubicBezTo>
                  <a:cubicBezTo>
                    <a:pt x="32" y="42"/>
                    <a:pt x="32" y="42"/>
                    <a:pt x="32" y="42"/>
                  </a:cubicBezTo>
                  <a:cubicBezTo>
                    <a:pt x="32" y="42"/>
                    <a:pt x="32" y="43"/>
                    <a:pt x="32" y="42"/>
                  </a:cubicBezTo>
                  <a:cubicBezTo>
                    <a:pt x="32" y="42"/>
                    <a:pt x="32" y="41"/>
                    <a:pt x="32" y="41"/>
                  </a:cubicBezTo>
                  <a:cubicBezTo>
                    <a:pt x="32" y="40"/>
                    <a:pt x="33" y="39"/>
                    <a:pt x="32" y="39"/>
                  </a:cubicBezTo>
                  <a:cubicBezTo>
                    <a:pt x="31" y="39"/>
                    <a:pt x="31" y="39"/>
                    <a:pt x="31" y="40"/>
                  </a:cubicBezTo>
                  <a:cubicBezTo>
                    <a:pt x="30" y="40"/>
                    <a:pt x="30" y="40"/>
                    <a:pt x="30" y="41"/>
                  </a:cubicBezTo>
                  <a:cubicBezTo>
                    <a:pt x="30" y="41"/>
                    <a:pt x="28" y="41"/>
                    <a:pt x="28" y="41"/>
                  </a:cubicBezTo>
                  <a:cubicBezTo>
                    <a:pt x="27" y="40"/>
                    <a:pt x="27" y="39"/>
                    <a:pt x="27" y="38"/>
                  </a:cubicBezTo>
                  <a:cubicBezTo>
                    <a:pt x="27" y="37"/>
                    <a:pt x="27" y="36"/>
                    <a:pt x="27" y="35"/>
                  </a:cubicBezTo>
                  <a:cubicBezTo>
                    <a:pt x="27" y="35"/>
                    <a:pt x="27" y="34"/>
                    <a:pt x="27" y="34"/>
                  </a:cubicBezTo>
                  <a:cubicBezTo>
                    <a:pt x="28" y="34"/>
                    <a:pt x="28" y="34"/>
                    <a:pt x="28" y="34"/>
                  </a:cubicBezTo>
                  <a:cubicBezTo>
                    <a:pt x="28" y="34"/>
                    <a:pt x="28" y="34"/>
                    <a:pt x="28" y="34"/>
                  </a:cubicBezTo>
                  <a:cubicBezTo>
                    <a:pt x="28" y="34"/>
                    <a:pt x="29" y="33"/>
                    <a:pt x="30" y="34"/>
                  </a:cubicBezTo>
                  <a:cubicBezTo>
                    <a:pt x="30" y="34"/>
                    <a:pt x="31" y="34"/>
                    <a:pt x="31" y="33"/>
                  </a:cubicBezTo>
                  <a:cubicBezTo>
                    <a:pt x="31" y="33"/>
                    <a:pt x="31" y="33"/>
                    <a:pt x="31" y="33"/>
                  </a:cubicBezTo>
                  <a:cubicBezTo>
                    <a:pt x="31" y="33"/>
                    <a:pt x="31" y="33"/>
                    <a:pt x="32" y="33"/>
                  </a:cubicBezTo>
                  <a:cubicBezTo>
                    <a:pt x="32" y="33"/>
                    <a:pt x="33" y="33"/>
                    <a:pt x="33" y="33"/>
                  </a:cubicBezTo>
                  <a:cubicBezTo>
                    <a:pt x="34" y="34"/>
                    <a:pt x="34" y="34"/>
                    <a:pt x="34" y="33"/>
                  </a:cubicBezTo>
                  <a:cubicBezTo>
                    <a:pt x="35" y="34"/>
                    <a:pt x="35" y="34"/>
                    <a:pt x="35" y="34"/>
                  </a:cubicBezTo>
                  <a:cubicBezTo>
                    <a:pt x="35" y="35"/>
                    <a:pt x="35" y="36"/>
                    <a:pt x="36" y="36"/>
                  </a:cubicBezTo>
                  <a:cubicBezTo>
                    <a:pt x="36" y="37"/>
                    <a:pt x="36" y="35"/>
                    <a:pt x="36" y="35"/>
                  </a:cubicBezTo>
                  <a:cubicBezTo>
                    <a:pt x="36" y="35"/>
                    <a:pt x="36" y="33"/>
                    <a:pt x="36" y="33"/>
                  </a:cubicBezTo>
                  <a:cubicBezTo>
                    <a:pt x="35" y="33"/>
                    <a:pt x="35" y="32"/>
                    <a:pt x="36" y="31"/>
                  </a:cubicBezTo>
                  <a:cubicBezTo>
                    <a:pt x="36" y="31"/>
                    <a:pt x="37" y="31"/>
                    <a:pt x="37" y="31"/>
                  </a:cubicBezTo>
                  <a:cubicBezTo>
                    <a:pt x="38" y="30"/>
                    <a:pt x="38" y="30"/>
                    <a:pt x="38" y="29"/>
                  </a:cubicBezTo>
                  <a:cubicBezTo>
                    <a:pt x="38" y="29"/>
                    <a:pt x="38" y="29"/>
                    <a:pt x="38" y="29"/>
                  </a:cubicBezTo>
                  <a:cubicBezTo>
                    <a:pt x="38" y="29"/>
                    <a:pt x="38" y="28"/>
                    <a:pt x="38" y="29"/>
                  </a:cubicBezTo>
                  <a:cubicBezTo>
                    <a:pt x="38" y="28"/>
                    <a:pt x="38" y="28"/>
                    <a:pt x="38" y="28"/>
                  </a:cubicBezTo>
                  <a:cubicBezTo>
                    <a:pt x="38" y="28"/>
                    <a:pt x="38" y="27"/>
                    <a:pt x="38" y="27"/>
                  </a:cubicBezTo>
                  <a:cubicBezTo>
                    <a:pt x="39" y="28"/>
                    <a:pt x="40" y="27"/>
                    <a:pt x="39" y="26"/>
                  </a:cubicBezTo>
                  <a:cubicBezTo>
                    <a:pt x="40" y="26"/>
                    <a:pt x="41" y="26"/>
                    <a:pt x="41" y="26"/>
                  </a:cubicBezTo>
                  <a:cubicBezTo>
                    <a:pt x="41" y="26"/>
                    <a:pt x="41" y="25"/>
                    <a:pt x="41" y="25"/>
                  </a:cubicBezTo>
                  <a:cubicBezTo>
                    <a:pt x="42" y="24"/>
                    <a:pt x="42" y="24"/>
                    <a:pt x="42" y="24"/>
                  </a:cubicBezTo>
                  <a:cubicBezTo>
                    <a:pt x="42" y="24"/>
                    <a:pt x="43" y="24"/>
                    <a:pt x="43" y="23"/>
                  </a:cubicBezTo>
                  <a:cubicBezTo>
                    <a:pt x="44" y="24"/>
                    <a:pt x="45" y="23"/>
                    <a:pt x="44" y="22"/>
                  </a:cubicBezTo>
                  <a:cubicBezTo>
                    <a:pt x="44" y="22"/>
                    <a:pt x="44" y="22"/>
                    <a:pt x="43" y="22"/>
                  </a:cubicBezTo>
                  <a:cubicBezTo>
                    <a:pt x="44" y="22"/>
                    <a:pt x="44" y="22"/>
                    <a:pt x="44" y="22"/>
                  </a:cubicBezTo>
                  <a:cubicBezTo>
                    <a:pt x="45" y="21"/>
                    <a:pt x="44" y="21"/>
                    <a:pt x="44" y="21"/>
                  </a:cubicBezTo>
                  <a:cubicBezTo>
                    <a:pt x="43" y="21"/>
                    <a:pt x="43" y="21"/>
                    <a:pt x="42" y="21"/>
                  </a:cubicBezTo>
                  <a:cubicBezTo>
                    <a:pt x="42" y="22"/>
                    <a:pt x="42" y="22"/>
                    <a:pt x="41" y="22"/>
                  </a:cubicBezTo>
                  <a:close/>
                  <a:moveTo>
                    <a:pt x="50" y="49"/>
                  </a:moveTo>
                  <a:cubicBezTo>
                    <a:pt x="50" y="49"/>
                    <a:pt x="49" y="49"/>
                    <a:pt x="49" y="49"/>
                  </a:cubicBezTo>
                  <a:cubicBezTo>
                    <a:pt x="49" y="49"/>
                    <a:pt x="48" y="48"/>
                    <a:pt x="48" y="48"/>
                  </a:cubicBezTo>
                  <a:cubicBezTo>
                    <a:pt x="48" y="48"/>
                    <a:pt x="47" y="47"/>
                    <a:pt x="47" y="47"/>
                  </a:cubicBezTo>
                  <a:cubicBezTo>
                    <a:pt x="46" y="46"/>
                    <a:pt x="46" y="46"/>
                    <a:pt x="45" y="46"/>
                  </a:cubicBezTo>
                  <a:cubicBezTo>
                    <a:pt x="45" y="46"/>
                    <a:pt x="44" y="47"/>
                    <a:pt x="44" y="47"/>
                  </a:cubicBezTo>
                  <a:cubicBezTo>
                    <a:pt x="44" y="46"/>
                    <a:pt x="43" y="46"/>
                    <a:pt x="43" y="46"/>
                  </a:cubicBezTo>
                  <a:cubicBezTo>
                    <a:pt x="42" y="46"/>
                    <a:pt x="42" y="45"/>
                    <a:pt x="41" y="46"/>
                  </a:cubicBezTo>
                  <a:cubicBezTo>
                    <a:pt x="41" y="46"/>
                    <a:pt x="41" y="46"/>
                    <a:pt x="41" y="47"/>
                  </a:cubicBezTo>
                  <a:cubicBezTo>
                    <a:pt x="40" y="46"/>
                    <a:pt x="41" y="46"/>
                    <a:pt x="41" y="45"/>
                  </a:cubicBezTo>
                  <a:cubicBezTo>
                    <a:pt x="40" y="45"/>
                    <a:pt x="39" y="46"/>
                    <a:pt x="39" y="46"/>
                  </a:cubicBezTo>
                  <a:cubicBezTo>
                    <a:pt x="39" y="46"/>
                    <a:pt x="39" y="46"/>
                    <a:pt x="38" y="46"/>
                  </a:cubicBezTo>
                  <a:cubicBezTo>
                    <a:pt x="38" y="47"/>
                    <a:pt x="38" y="47"/>
                    <a:pt x="38" y="47"/>
                  </a:cubicBezTo>
                  <a:cubicBezTo>
                    <a:pt x="38" y="47"/>
                    <a:pt x="37" y="47"/>
                    <a:pt x="37" y="47"/>
                  </a:cubicBezTo>
                  <a:cubicBezTo>
                    <a:pt x="37" y="48"/>
                    <a:pt x="37" y="49"/>
                    <a:pt x="37" y="50"/>
                  </a:cubicBezTo>
                  <a:cubicBezTo>
                    <a:pt x="38" y="50"/>
                    <a:pt x="37" y="51"/>
                    <a:pt x="37" y="52"/>
                  </a:cubicBezTo>
                  <a:cubicBezTo>
                    <a:pt x="37" y="52"/>
                    <a:pt x="36" y="53"/>
                    <a:pt x="36" y="53"/>
                  </a:cubicBezTo>
                  <a:cubicBezTo>
                    <a:pt x="36" y="54"/>
                    <a:pt x="36" y="54"/>
                    <a:pt x="36" y="54"/>
                  </a:cubicBezTo>
                  <a:cubicBezTo>
                    <a:pt x="36" y="55"/>
                    <a:pt x="36" y="55"/>
                    <a:pt x="36" y="56"/>
                  </a:cubicBezTo>
                  <a:cubicBezTo>
                    <a:pt x="36" y="56"/>
                    <a:pt x="36" y="56"/>
                    <a:pt x="36" y="57"/>
                  </a:cubicBezTo>
                  <a:cubicBezTo>
                    <a:pt x="41" y="56"/>
                    <a:pt x="46" y="53"/>
                    <a:pt x="50" y="4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grpSp>
      <p:sp>
        <p:nvSpPr>
          <p:cNvPr id="1005"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3600" spc="-1" strike="noStrike">
                <a:solidFill>
                  <a:srgbClr val="2d3f51"/>
                </a:solidFill>
                <a:latin typeface="Lato Heavy"/>
              </a:rPr>
              <a:t>OUR </a:t>
            </a:r>
            <a:r>
              <a:rPr b="0" lang="en-US" sz="3600" spc="-1" strike="noStrike">
                <a:solidFill>
                  <a:srgbClr val="2d3f51"/>
                </a:solidFill>
                <a:latin typeface="Lato Heavy"/>
              </a:rPr>
              <a:t>SERVICES</a:t>
            </a:r>
            <a:endParaRPr b="0" lang="en-US" sz="3600" spc="-1" strike="noStrike">
              <a:solidFill>
                <a:srgbClr val="494949"/>
              </a:solidFill>
              <a:latin typeface="Lato Heavy"/>
            </a:endParaRPr>
          </a:p>
        </p:txBody>
      </p:sp>
      <p:sp>
        <p:nvSpPr>
          <p:cNvPr id="1006"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transition advTm="2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hape 770"/>
          <p:cNvSpPr/>
          <p:nvPr/>
        </p:nvSpPr>
        <p:spPr>
          <a:xfrm>
            <a:off x="861840" y="4937040"/>
            <a:ext cx="10469880" cy="1035000"/>
          </a:xfrm>
          <a:prstGeom prst="rect">
            <a:avLst/>
          </a:prstGeom>
          <a:noFill/>
          <a:ln w="0">
            <a:noFill/>
          </a:ln>
        </p:spPr>
        <p:style>
          <a:lnRef idx="0"/>
          <a:fillRef idx="0"/>
          <a:effectRef idx="0"/>
          <a:fontRef idx="minor"/>
        </p:style>
        <p:txBody>
          <a:bodyPr lIns="45720" rIns="45720" tIns="22680" bIns="22680" anchor="t">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898989"/>
                </a:solidFill>
                <a:latin typeface="Open Sans Light"/>
                <a:ea typeface="Lato"/>
              </a:rPr>
              <a:t>A company is an association or collection of individuals, whether natural persons, legal persons, or a mixture of both. Company members share a common purpose and unite in order to focus their various talents and organize their collectively available skills or resources to achieve specific, declared goals. A company or association of persons can be created at law as legal person so that the company in itself can accept Limited liability for civil responsibility and taxation incurred as members perform (or fail) to discharge their duty within the publicly </a:t>
            </a:r>
            <a:endParaRPr b="0" lang="en-US" sz="1100" spc="-1" strike="noStrike">
              <a:solidFill>
                <a:srgbClr val="494949"/>
              </a:solidFill>
              <a:latin typeface="Open Sans Light"/>
            </a:endParaRPr>
          </a:p>
        </p:txBody>
      </p:sp>
      <p:sp>
        <p:nvSpPr>
          <p:cNvPr id="1008" name="Shape 748"/>
          <p:cNvSpPr/>
          <p:nvPr/>
        </p:nvSpPr>
        <p:spPr>
          <a:xfrm>
            <a:off x="1708200" y="2066760"/>
            <a:ext cx="1695240" cy="2490840"/>
          </a:xfrm>
          <a:prstGeom prst="rect">
            <a:avLst/>
          </a:prstGeom>
          <a:noFill/>
          <a:ln w="9360">
            <a:solidFill>
              <a:srgbClr val="494949"/>
            </a:solidFill>
            <a:miter/>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09" name="Shape 749"/>
          <p:cNvSpPr/>
          <p:nvPr/>
        </p:nvSpPr>
        <p:spPr>
          <a:xfrm>
            <a:off x="2217600" y="3049560"/>
            <a:ext cx="685800" cy="19080"/>
          </a:xfrm>
          <a:prstGeom prst="roundRect">
            <a:avLst>
              <a:gd name="adj" fmla="val 50000"/>
            </a:avLst>
          </a:prstGeom>
          <a:solidFill>
            <a:srgbClr val="494949"/>
          </a:solidFill>
          <a:ln w="9360">
            <a:solidFill>
              <a:srgbClr val="a4a4a4"/>
            </a:solidFill>
            <a:miter/>
          </a:ln>
        </p:spPr>
        <p:style>
          <a:lnRef idx="0"/>
          <a:fillRef idx="0"/>
          <a:effectRef idx="0"/>
          <a:fontRef idx="minor"/>
        </p:style>
        <p:txBody>
          <a:bodyPr lIns="109800" rIns="10980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10" name="Shape 750"/>
          <p:cNvSpPr/>
          <p:nvPr/>
        </p:nvSpPr>
        <p:spPr>
          <a:xfrm>
            <a:off x="1832040" y="3151080"/>
            <a:ext cx="1454040" cy="249480"/>
          </a:xfrm>
          <a:prstGeom prst="rect">
            <a:avLst/>
          </a:prstGeom>
          <a:noFill/>
          <a:ln w="0">
            <a:noFill/>
          </a:ln>
        </p:spPr>
        <p:style>
          <a:lnRef idx="0"/>
          <a:fillRef idx="0"/>
          <a:effectRef idx="0"/>
          <a:fontRef idx="minor"/>
        </p:style>
        <p:txBody>
          <a:bodyPr rIns="45720" tIns="22680" bIns="2268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a:ea typeface="Lato"/>
              </a:rPr>
              <a:t>Service Name</a:t>
            </a:r>
            <a:endParaRPr b="0" lang="en-US" sz="1400" spc="-1" strike="noStrike">
              <a:solidFill>
                <a:srgbClr val="494949"/>
              </a:solidFill>
              <a:latin typeface="Open Sans Light"/>
            </a:endParaRPr>
          </a:p>
        </p:txBody>
      </p:sp>
      <p:sp>
        <p:nvSpPr>
          <p:cNvPr id="1011" name="Shape 751"/>
          <p:cNvSpPr/>
          <p:nvPr/>
        </p:nvSpPr>
        <p:spPr>
          <a:xfrm>
            <a:off x="1893960" y="3441600"/>
            <a:ext cx="1328760" cy="1016280"/>
          </a:xfrm>
          <a:prstGeom prst="rect">
            <a:avLst/>
          </a:prstGeom>
          <a:noFill/>
          <a:ln w="0">
            <a:noFill/>
          </a:ln>
        </p:spPr>
        <p:style>
          <a:lnRef idx="0"/>
          <a:fillRef idx="0"/>
          <a:effectRef idx="0"/>
          <a:fontRef idx="minor"/>
        </p:style>
        <p:txBody>
          <a:bodyPr rIns="0" tIns="0" bIns="0" anchor="ctr">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898989"/>
                </a:solidFill>
                <a:latin typeface="Open Sans Light"/>
                <a:ea typeface="Lato"/>
              </a:rPr>
              <a:t>A company is an association or collection of individuals, whether natural persons, legal persons, or a mixture of both. Company members</a:t>
            </a:r>
            <a:endParaRPr b="0" lang="en-US" sz="900" spc="-1" strike="noStrike">
              <a:solidFill>
                <a:srgbClr val="494949"/>
              </a:solidFill>
              <a:latin typeface="Open Sans Light"/>
            </a:endParaRPr>
          </a:p>
        </p:txBody>
      </p:sp>
      <p:sp>
        <p:nvSpPr>
          <p:cNvPr id="1012" name="Shape 752"/>
          <p:cNvSpPr/>
          <p:nvPr/>
        </p:nvSpPr>
        <p:spPr>
          <a:xfrm>
            <a:off x="3478320" y="2066760"/>
            <a:ext cx="1695240" cy="2490840"/>
          </a:xfrm>
          <a:prstGeom prst="rect">
            <a:avLst/>
          </a:prstGeom>
          <a:noFill/>
          <a:ln w="9360">
            <a:solidFill>
              <a:srgbClr val="494949"/>
            </a:solidFill>
            <a:miter/>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13" name="Shape 753"/>
          <p:cNvSpPr/>
          <p:nvPr/>
        </p:nvSpPr>
        <p:spPr>
          <a:xfrm>
            <a:off x="3987720" y="3049560"/>
            <a:ext cx="685800" cy="19080"/>
          </a:xfrm>
          <a:prstGeom prst="roundRect">
            <a:avLst>
              <a:gd name="adj" fmla="val 50000"/>
            </a:avLst>
          </a:prstGeom>
          <a:solidFill>
            <a:srgbClr val="494949"/>
          </a:solidFill>
          <a:ln w="9360">
            <a:solidFill>
              <a:srgbClr val="a4a4a4"/>
            </a:solidFill>
            <a:miter/>
          </a:ln>
        </p:spPr>
        <p:style>
          <a:lnRef idx="0"/>
          <a:fillRef idx="0"/>
          <a:effectRef idx="0"/>
          <a:fontRef idx="minor"/>
        </p:style>
        <p:txBody>
          <a:bodyPr lIns="109800" rIns="10980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14" name="Shape 754"/>
          <p:cNvSpPr/>
          <p:nvPr/>
        </p:nvSpPr>
        <p:spPr>
          <a:xfrm>
            <a:off x="3630600" y="3151080"/>
            <a:ext cx="1398600" cy="249480"/>
          </a:xfrm>
          <a:prstGeom prst="rect">
            <a:avLst/>
          </a:prstGeom>
          <a:noFill/>
          <a:ln w="0">
            <a:noFill/>
          </a:ln>
        </p:spPr>
        <p:style>
          <a:lnRef idx="0"/>
          <a:fillRef idx="0"/>
          <a:effectRef idx="0"/>
          <a:fontRef idx="minor"/>
        </p:style>
        <p:txBody>
          <a:bodyPr rIns="45720" tIns="22680" bIns="2268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a:ea typeface="Lato"/>
              </a:rPr>
              <a:t>Service Name</a:t>
            </a:r>
            <a:endParaRPr b="0" lang="en-US" sz="1400" spc="-1" strike="noStrike">
              <a:solidFill>
                <a:srgbClr val="494949"/>
              </a:solidFill>
              <a:latin typeface="Open Sans Light"/>
            </a:endParaRPr>
          </a:p>
        </p:txBody>
      </p:sp>
      <p:sp>
        <p:nvSpPr>
          <p:cNvPr id="1015" name="Shape 755"/>
          <p:cNvSpPr/>
          <p:nvPr/>
        </p:nvSpPr>
        <p:spPr>
          <a:xfrm>
            <a:off x="3664080" y="3441600"/>
            <a:ext cx="1330200" cy="1016280"/>
          </a:xfrm>
          <a:prstGeom prst="rect">
            <a:avLst/>
          </a:prstGeom>
          <a:noFill/>
          <a:ln w="0">
            <a:noFill/>
          </a:ln>
        </p:spPr>
        <p:style>
          <a:lnRef idx="0"/>
          <a:fillRef idx="0"/>
          <a:effectRef idx="0"/>
          <a:fontRef idx="minor"/>
        </p:style>
        <p:txBody>
          <a:bodyPr rIns="0" tIns="0" bIns="0" anchor="ctr">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898989"/>
                </a:solidFill>
                <a:latin typeface="Open Sans Light"/>
                <a:ea typeface="Lato"/>
              </a:rPr>
              <a:t>A company is an association or collection of individuals, whether natural persons, legal persons, or a mixture of both. Company members</a:t>
            </a:r>
            <a:endParaRPr b="0" lang="en-US" sz="900" spc="-1" strike="noStrike">
              <a:solidFill>
                <a:srgbClr val="494949"/>
              </a:solidFill>
              <a:latin typeface="Open Sans Light"/>
            </a:endParaRPr>
          </a:p>
        </p:txBody>
      </p:sp>
      <p:sp>
        <p:nvSpPr>
          <p:cNvPr id="1016" name="Shape 756"/>
          <p:cNvSpPr/>
          <p:nvPr/>
        </p:nvSpPr>
        <p:spPr>
          <a:xfrm>
            <a:off x="5248440" y="2066760"/>
            <a:ext cx="1695240" cy="2490840"/>
          </a:xfrm>
          <a:prstGeom prst="rect">
            <a:avLst/>
          </a:prstGeom>
          <a:noFill/>
          <a:ln w="9360">
            <a:solidFill>
              <a:srgbClr val="494949"/>
            </a:solidFill>
            <a:miter/>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17" name="Shape 757"/>
          <p:cNvSpPr/>
          <p:nvPr/>
        </p:nvSpPr>
        <p:spPr>
          <a:xfrm>
            <a:off x="5757840" y="3049560"/>
            <a:ext cx="685800" cy="19080"/>
          </a:xfrm>
          <a:prstGeom prst="roundRect">
            <a:avLst>
              <a:gd name="adj" fmla="val 50000"/>
            </a:avLst>
          </a:prstGeom>
          <a:solidFill>
            <a:srgbClr val="494949"/>
          </a:solidFill>
          <a:ln w="9360">
            <a:solidFill>
              <a:srgbClr val="a4a4a4"/>
            </a:solidFill>
            <a:miter/>
          </a:ln>
        </p:spPr>
        <p:style>
          <a:lnRef idx="0"/>
          <a:fillRef idx="0"/>
          <a:effectRef idx="0"/>
          <a:fontRef idx="minor"/>
        </p:style>
        <p:txBody>
          <a:bodyPr lIns="109800" rIns="10980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18" name="Shape 758"/>
          <p:cNvSpPr/>
          <p:nvPr/>
        </p:nvSpPr>
        <p:spPr>
          <a:xfrm>
            <a:off x="5400720" y="3151080"/>
            <a:ext cx="1398600" cy="249480"/>
          </a:xfrm>
          <a:prstGeom prst="rect">
            <a:avLst/>
          </a:prstGeom>
          <a:noFill/>
          <a:ln w="0">
            <a:noFill/>
          </a:ln>
        </p:spPr>
        <p:style>
          <a:lnRef idx="0"/>
          <a:fillRef idx="0"/>
          <a:effectRef idx="0"/>
          <a:fontRef idx="minor"/>
        </p:style>
        <p:txBody>
          <a:bodyPr rIns="45720" tIns="22680" bIns="2268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a:ea typeface="Lato"/>
              </a:rPr>
              <a:t>Service Name</a:t>
            </a:r>
            <a:endParaRPr b="0" lang="en-US" sz="1400" spc="-1" strike="noStrike">
              <a:solidFill>
                <a:srgbClr val="494949"/>
              </a:solidFill>
              <a:latin typeface="Open Sans Light"/>
            </a:endParaRPr>
          </a:p>
        </p:txBody>
      </p:sp>
      <p:sp>
        <p:nvSpPr>
          <p:cNvPr id="1019" name="Shape 759"/>
          <p:cNvSpPr/>
          <p:nvPr/>
        </p:nvSpPr>
        <p:spPr>
          <a:xfrm>
            <a:off x="5433840" y="3441600"/>
            <a:ext cx="1330560" cy="1016280"/>
          </a:xfrm>
          <a:prstGeom prst="rect">
            <a:avLst/>
          </a:prstGeom>
          <a:noFill/>
          <a:ln w="0">
            <a:noFill/>
          </a:ln>
        </p:spPr>
        <p:style>
          <a:lnRef idx="0"/>
          <a:fillRef idx="0"/>
          <a:effectRef idx="0"/>
          <a:fontRef idx="minor"/>
        </p:style>
        <p:txBody>
          <a:bodyPr rIns="0" tIns="0" bIns="0" anchor="ctr">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898989"/>
                </a:solidFill>
                <a:latin typeface="Open Sans Light"/>
                <a:ea typeface="Lato"/>
              </a:rPr>
              <a:t>A company is an association or collection of individuals, whether natural persons, legal persons, or a mixture of both. Company members</a:t>
            </a:r>
            <a:endParaRPr b="0" lang="en-US" sz="900" spc="-1" strike="noStrike">
              <a:solidFill>
                <a:srgbClr val="494949"/>
              </a:solidFill>
              <a:latin typeface="Open Sans Light"/>
            </a:endParaRPr>
          </a:p>
        </p:txBody>
      </p:sp>
      <p:sp>
        <p:nvSpPr>
          <p:cNvPr id="1020" name="Shape 760"/>
          <p:cNvSpPr/>
          <p:nvPr/>
        </p:nvSpPr>
        <p:spPr>
          <a:xfrm>
            <a:off x="7018200" y="2066760"/>
            <a:ext cx="1695600" cy="2490840"/>
          </a:xfrm>
          <a:prstGeom prst="rect">
            <a:avLst/>
          </a:prstGeom>
          <a:solidFill>
            <a:srgbClr val="0098a5"/>
          </a:solidFill>
          <a:ln w="0">
            <a:noFill/>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21" name="Shape 761"/>
          <p:cNvSpPr/>
          <p:nvPr/>
        </p:nvSpPr>
        <p:spPr>
          <a:xfrm>
            <a:off x="7527960" y="3044880"/>
            <a:ext cx="685800" cy="28440"/>
          </a:xfrm>
          <a:prstGeom prst="roundRect">
            <a:avLst>
              <a:gd name="adj" fmla="val 50000"/>
            </a:avLst>
          </a:prstGeom>
          <a:solidFill>
            <a:srgbClr val="ffffff"/>
          </a:solidFill>
          <a:ln w="0">
            <a:noFill/>
          </a:ln>
        </p:spPr>
        <p:style>
          <a:lnRef idx="0"/>
          <a:fillRef idx="0"/>
          <a:effectRef idx="0"/>
          <a:fontRef idx="minor"/>
        </p:style>
        <p:txBody>
          <a:bodyPr lIns="109800" rIns="109800" tIns="-34200" bIns="-342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22" name="Shape 762"/>
          <p:cNvSpPr/>
          <p:nvPr/>
        </p:nvSpPr>
        <p:spPr>
          <a:xfrm>
            <a:off x="7205760" y="3151080"/>
            <a:ext cx="1328760" cy="249480"/>
          </a:xfrm>
          <a:prstGeom prst="rect">
            <a:avLst/>
          </a:prstGeom>
          <a:noFill/>
          <a:ln w="0">
            <a:noFill/>
          </a:ln>
        </p:spPr>
        <p:style>
          <a:lnRef idx="0"/>
          <a:fillRef idx="0"/>
          <a:effectRef idx="0"/>
          <a:fontRef idx="minor"/>
        </p:style>
        <p:txBody>
          <a:bodyPr rIns="45720" tIns="22680" bIns="2268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Lato"/>
                <a:ea typeface="Lato"/>
              </a:rPr>
              <a:t>Service Name</a:t>
            </a:r>
            <a:endParaRPr b="0" lang="en-US" sz="1400" spc="-1" strike="noStrike">
              <a:solidFill>
                <a:srgbClr val="494949"/>
              </a:solidFill>
              <a:latin typeface="Open Sans Light"/>
            </a:endParaRPr>
          </a:p>
        </p:txBody>
      </p:sp>
      <p:sp>
        <p:nvSpPr>
          <p:cNvPr id="1023" name="Shape 763"/>
          <p:cNvSpPr/>
          <p:nvPr/>
        </p:nvSpPr>
        <p:spPr>
          <a:xfrm>
            <a:off x="7203960" y="3441600"/>
            <a:ext cx="1330560" cy="1016280"/>
          </a:xfrm>
          <a:prstGeom prst="rect">
            <a:avLst/>
          </a:prstGeom>
          <a:noFill/>
          <a:ln w="0">
            <a:noFill/>
          </a:ln>
        </p:spPr>
        <p:style>
          <a:lnRef idx="0"/>
          <a:fillRef idx="0"/>
          <a:effectRef idx="0"/>
          <a:fontRef idx="minor"/>
        </p:style>
        <p:txBody>
          <a:bodyPr rIns="0" tIns="0" bIns="0" anchor="ctr">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Open Sans Light"/>
                <a:ea typeface="Lato"/>
              </a:rPr>
              <a:t>A company is an association or collection of individuals, whether natural persons, legal persons, or a mixture of both. Company members</a:t>
            </a:r>
            <a:endParaRPr b="0" lang="en-US" sz="900" spc="-1" strike="noStrike">
              <a:solidFill>
                <a:srgbClr val="494949"/>
              </a:solidFill>
              <a:latin typeface="Open Sans Light"/>
            </a:endParaRPr>
          </a:p>
        </p:txBody>
      </p:sp>
      <p:sp>
        <p:nvSpPr>
          <p:cNvPr id="1024" name="Shape 764"/>
          <p:cNvSpPr/>
          <p:nvPr/>
        </p:nvSpPr>
        <p:spPr>
          <a:xfrm>
            <a:off x="8788320" y="2066760"/>
            <a:ext cx="1695600" cy="2490840"/>
          </a:xfrm>
          <a:prstGeom prst="rect">
            <a:avLst/>
          </a:prstGeom>
          <a:noFill/>
          <a:ln w="9360">
            <a:solidFill>
              <a:srgbClr val="494949"/>
            </a:solidFill>
            <a:miter/>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25" name="Shape 765"/>
          <p:cNvSpPr/>
          <p:nvPr/>
        </p:nvSpPr>
        <p:spPr>
          <a:xfrm>
            <a:off x="9298080" y="3049560"/>
            <a:ext cx="685800" cy="19080"/>
          </a:xfrm>
          <a:prstGeom prst="roundRect">
            <a:avLst>
              <a:gd name="adj" fmla="val 50000"/>
            </a:avLst>
          </a:prstGeom>
          <a:solidFill>
            <a:srgbClr val="494949"/>
          </a:solidFill>
          <a:ln w="9360">
            <a:solidFill>
              <a:srgbClr val="a4a4a4"/>
            </a:solidFill>
            <a:miter/>
          </a:ln>
        </p:spPr>
        <p:style>
          <a:lnRef idx="0"/>
          <a:fillRef idx="0"/>
          <a:effectRef idx="0"/>
          <a:fontRef idx="minor"/>
        </p:style>
        <p:txBody>
          <a:bodyPr lIns="109800" rIns="10980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26" name="Shape 766"/>
          <p:cNvSpPr/>
          <p:nvPr/>
        </p:nvSpPr>
        <p:spPr>
          <a:xfrm>
            <a:off x="8940960" y="3151080"/>
            <a:ext cx="1398600" cy="249480"/>
          </a:xfrm>
          <a:prstGeom prst="rect">
            <a:avLst/>
          </a:prstGeom>
          <a:noFill/>
          <a:ln w="0">
            <a:noFill/>
          </a:ln>
        </p:spPr>
        <p:style>
          <a:lnRef idx="0"/>
          <a:fillRef idx="0"/>
          <a:effectRef idx="0"/>
          <a:fontRef idx="minor"/>
        </p:style>
        <p:txBody>
          <a:bodyPr rIns="45720" tIns="22680" bIns="2268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a:ea typeface="Lato"/>
              </a:rPr>
              <a:t>Service Name</a:t>
            </a:r>
            <a:endParaRPr b="0" lang="en-US" sz="1400" spc="-1" strike="noStrike">
              <a:solidFill>
                <a:srgbClr val="494949"/>
              </a:solidFill>
              <a:latin typeface="Open Sans Light"/>
            </a:endParaRPr>
          </a:p>
        </p:txBody>
      </p:sp>
      <p:sp>
        <p:nvSpPr>
          <p:cNvPr id="1027" name="Shape 767"/>
          <p:cNvSpPr/>
          <p:nvPr/>
        </p:nvSpPr>
        <p:spPr>
          <a:xfrm>
            <a:off x="8975880" y="3441600"/>
            <a:ext cx="1328760" cy="1016280"/>
          </a:xfrm>
          <a:prstGeom prst="rect">
            <a:avLst/>
          </a:prstGeom>
          <a:noFill/>
          <a:ln w="0">
            <a:noFill/>
          </a:ln>
        </p:spPr>
        <p:style>
          <a:lnRef idx="0"/>
          <a:fillRef idx="0"/>
          <a:effectRef idx="0"/>
          <a:fontRef idx="minor"/>
        </p:style>
        <p:txBody>
          <a:bodyPr rIns="0" tIns="0" bIns="0" anchor="ctr">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898989"/>
                </a:solidFill>
                <a:latin typeface="Open Sans Light"/>
                <a:ea typeface="Lato"/>
              </a:rPr>
              <a:t>A company is an association or collection of individuals, whether natural persons, legal persons, or a mixture of both. Company members</a:t>
            </a:r>
            <a:endParaRPr b="0" lang="en-US" sz="900" spc="-1" strike="noStrike">
              <a:solidFill>
                <a:srgbClr val="494949"/>
              </a:solidFill>
              <a:latin typeface="Open Sans Light"/>
            </a:endParaRPr>
          </a:p>
        </p:txBody>
      </p:sp>
      <p:sp>
        <p:nvSpPr>
          <p:cNvPr id="1028" name="Shape 771"/>
          <p:cNvSpPr/>
          <p:nvPr/>
        </p:nvSpPr>
        <p:spPr>
          <a:xfrm>
            <a:off x="5935680" y="2471760"/>
            <a:ext cx="342720" cy="341280"/>
          </a:xfrm>
          <a:custGeom>
            <a:avLst/>
            <a:gdLst>
              <a:gd name="textAreaLeft" fmla="*/ 0 w 342720"/>
              <a:gd name="textAreaRight" fmla="*/ 343080 w 342720"/>
              <a:gd name="textAreaTop" fmla="*/ 0 h 341280"/>
              <a:gd name="textAreaBottom" fmla="*/ 341640 h 341280"/>
            </a:gdLst>
            <a:ahLst/>
            <a:rect l="textAreaLeft" t="textAreaTop" r="textAreaRight" b="textAreaBottom"/>
            <a:pathLst>
              <a:path w="120000" h="120000">
                <a:moveTo>
                  <a:pt x="120000" y="60000"/>
                </a:moveTo>
                <a:cubicBezTo>
                  <a:pt x="120000" y="91764"/>
                  <a:pt x="93529" y="120000"/>
                  <a:pt x="60000" y="120000"/>
                </a:cubicBezTo>
                <a:cubicBezTo>
                  <a:pt x="26470" y="120000"/>
                  <a:pt x="0" y="91764"/>
                  <a:pt x="0" y="60000"/>
                </a:cubicBezTo>
                <a:cubicBezTo>
                  <a:pt x="0" y="26470"/>
                  <a:pt x="26470" y="0"/>
                  <a:pt x="60000" y="0"/>
                </a:cubicBezTo>
                <a:cubicBezTo>
                  <a:pt x="93529" y="0"/>
                  <a:pt x="120000" y="26470"/>
                  <a:pt x="120000" y="60000"/>
                </a:cubicBezTo>
                <a:close/>
                <a:moveTo>
                  <a:pt x="26470" y="70588"/>
                </a:moveTo>
                <a:cubicBezTo>
                  <a:pt x="26470" y="67058"/>
                  <a:pt x="24705" y="63529"/>
                  <a:pt x="24705" y="60000"/>
                </a:cubicBezTo>
                <a:cubicBezTo>
                  <a:pt x="24705" y="54705"/>
                  <a:pt x="26470" y="51176"/>
                  <a:pt x="26470" y="47647"/>
                </a:cubicBezTo>
                <a:cubicBezTo>
                  <a:pt x="14117" y="35294"/>
                  <a:pt x="14117" y="35294"/>
                  <a:pt x="14117" y="35294"/>
                </a:cubicBezTo>
                <a:cubicBezTo>
                  <a:pt x="10588" y="42352"/>
                  <a:pt x="8823" y="51176"/>
                  <a:pt x="8823" y="60000"/>
                </a:cubicBezTo>
                <a:cubicBezTo>
                  <a:pt x="8823" y="68823"/>
                  <a:pt x="10588" y="75882"/>
                  <a:pt x="14117" y="82941"/>
                </a:cubicBezTo>
                <a:lnTo>
                  <a:pt x="26470" y="70588"/>
                </a:lnTo>
                <a:close/>
                <a:moveTo>
                  <a:pt x="84705" y="60000"/>
                </a:moveTo>
                <a:cubicBezTo>
                  <a:pt x="84705" y="45882"/>
                  <a:pt x="74117" y="33529"/>
                  <a:pt x="60000" y="33529"/>
                </a:cubicBezTo>
                <a:cubicBezTo>
                  <a:pt x="45882" y="33529"/>
                  <a:pt x="33529" y="45882"/>
                  <a:pt x="33529" y="60000"/>
                </a:cubicBezTo>
                <a:cubicBezTo>
                  <a:pt x="33529" y="74117"/>
                  <a:pt x="45882" y="84705"/>
                  <a:pt x="60000" y="84705"/>
                </a:cubicBezTo>
                <a:cubicBezTo>
                  <a:pt x="74117" y="84705"/>
                  <a:pt x="84705" y="74117"/>
                  <a:pt x="84705" y="60000"/>
                </a:cubicBezTo>
                <a:close/>
                <a:moveTo>
                  <a:pt x="35294" y="14117"/>
                </a:moveTo>
                <a:cubicBezTo>
                  <a:pt x="47647" y="26470"/>
                  <a:pt x="47647" y="26470"/>
                  <a:pt x="47647" y="26470"/>
                </a:cubicBezTo>
                <a:cubicBezTo>
                  <a:pt x="51176" y="26470"/>
                  <a:pt x="56470" y="24705"/>
                  <a:pt x="60000" y="24705"/>
                </a:cubicBezTo>
                <a:cubicBezTo>
                  <a:pt x="63529" y="24705"/>
                  <a:pt x="67058" y="26470"/>
                  <a:pt x="70588" y="26470"/>
                </a:cubicBezTo>
                <a:cubicBezTo>
                  <a:pt x="82941" y="14117"/>
                  <a:pt x="82941" y="14117"/>
                  <a:pt x="82941" y="14117"/>
                </a:cubicBezTo>
                <a:cubicBezTo>
                  <a:pt x="75882" y="10588"/>
                  <a:pt x="68823" y="8823"/>
                  <a:pt x="60000" y="8823"/>
                </a:cubicBezTo>
                <a:cubicBezTo>
                  <a:pt x="51176" y="8823"/>
                  <a:pt x="42352" y="10588"/>
                  <a:pt x="35294" y="14117"/>
                </a:cubicBezTo>
                <a:close/>
                <a:moveTo>
                  <a:pt x="82941" y="104117"/>
                </a:moveTo>
                <a:cubicBezTo>
                  <a:pt x="70588" y="91764"/>
                  <a:pt x="70588" y="91764"/>
                  <a:pt x="70588" y="91764"/>
                </a:cubicBezTo>
                <a:cubicBezTo>
                  <a:pt x="67058" y="93529"/>
                  <a:pt x="63529" y="93529"/>
                  <a:pt x="60000" y="93529"/>
                </a:cubicBezTo>
                <a:cubicBezTo>
                  <a:pt x="56470" y="93529"/>
                  <a:pt x="51176" y="93529"/>
                  <a:pt x="47647" y="91764"/>
                </a:cubicBezTo>
                <a:cubicBezTo>
                  <a:pt x="35294" y="104117"/>
                  <a:pt x="35294" y="104117"/>
                  <a:pt x="35294" y="104117"/>
                </a:cubicBezTo>
                <a:cubicBezTo>
                  <a:pt x="42352" y="109411"/>
                  <a:pt x="51176" y="111176"/>
                  <a:pt x="60000" y="111176"/>
                </a:cubicBezTo>
                <a:cubicBezTo>
                  <a:pt x="68823" y="111176"/>
                  <a:pt x="75882" y="109411"/>
                  <a:pt x="82941" y="104117"/>
                </a:cubicBezTo>
                <a:close/>
                <a:moveTo>
                  <a:pt x="105882" y="82941"/>
                </a:moveTo>
                <a:cubicBezTo>
                  <a:pt x="109411" y="75882"/>
                  <a:pt x="111176" y="68823"/>
                  <a:pt x="111176" y="60000"/>
                </a:cubicBezTo>
                <a:cubicBezTo>
                  <a:pt x="111176" y="51176"/>
                  <a:pt x="109411" y="42352"/>
                  <a:pt x="105882" y="35294"/>
                </a:cubicBezTo>
                <a:cubicBezTo>
                  <a:pt x="91764" y="47647"/>
                  <a:pt x="91764" y="47647"/>
                  <a:pt x="91764" y="47647"/>
                </a:cubicBezTo>
                <a:cubicBezTo>
                  <a:pt x="93529" y="51176"/>
                  <a:pt x="93529" y="56470"/>
                  <a:pt x="93529" y="60000"/>
                </a:cubicBezTo>
                <a:cubicBezTo>
                  <a:pt x="93529" y="63529"/>
                  <a:pt x="93529" y="67058"/>
                  <a:pt x="91764" y="70588"/>
                </a:cubicBezTo>
                <a:lnTo>
                  <a:pt x="105882" y="82941"/>
                </a:lnTo>
                <a:close/>
              </a:path>
            </a:pathLst>
          </a:custGeom>
          <a:solidFill>
            <a:srgbClr val="1991ab"/>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029" name="Shape 772"/>
          <p:cNvSpPr/>
          <p:nvPr/>
        </p:nvSpPr>
        <p:spPr>
          <a:xfrm>
            <a:off x="7659720" y="2505240"/>
            <a:ext cx="404640" cy="322200"/>
          </a:xfrm>
          <a:custGeom>
            <a:avLst/>
            <a:gdLst>
              <a:gd name="textAreaLeft" fmla="*/ 0 w 404640"/>
              <a:gd name="textAreaRight" fmla="*/ 405000 w 404640"/>
              <a:gd name="textAreaTop" fmla="*/ 0 h 322200"/>
              <a:gd name="textAreaBottom" fmla="*/ 322560 h 322200"/>
            </a:gdLst>
            <a:ahLst/>
            <a:rect l="textAreaLeft" t="textAreaTop" r="textAreaRight" b="textAreaBottom"/>
            <a:pathLst>
              <a:path w="120000" h="120000">
                <a:moveTo>
                  <a:pt x="119999" y="107586"/>
                </a:moveTo>
                <a:cubicBezTo>
                  <a:pt x="119999" y="113793"/>
                  <a:pt x="116712" y="120000"/>
                  <a:pt x="110136" y="120000"/>
                </a:cubicBezTo>
                <a:cubicBezTo>
                  <a:pt x="11506" y="120000"/>
                  <a:pt x="11506" y="120000"/>
                  <a:pt x="11506" y="120000"/>
                </a:cubicBezTo>
                <a:cubicBezTo>
                  <a:pt x="4931" y="120000"/>
                  <a:pt x="0" y="113793"/>
                  <a:pt x="0" y="107586"/>
                </a:cubicBezTo>
                <a:cubicBezTo>
                  <a:pt x="0" y="12413"/>
                  <a:pt x="0" y="12413"/>
                  <a:pt x="0" y="12413"/>
                </a:cubicBezTo>
                <a:cubicBezTo>
                  <a:pt x="0" y="4137"/>
                  <a:pt x="4931" y="0"/>
                  <a:pt x="11506" y="0"/>
                </a:cubicBezTo>
                <a:cubicBezTo>
                  <a:pt x="110136" y="0"/>
                  <a:pt x="110136" y="0"/>
                  <a:pt x="110136" y="0"/>
                </a:cubicBezTo>
                <a:cubicBezTo>
                  <a:pt x="116712" y="0"/>
                  <a:pt x="119999" y="4137"/>
                  <a:pt x="119999" y="12413"/>
                </a:cubicBezTo>
                <a:lnTo>
                  <a:pt x="119999" y="107586"/>
                </a:lnTo>
                <a:close/>
                <a:moveTo>
                  <a:pt x="11506" y="8275"/>
                </a:moveTo>
                <a:cubicBezTo>
                  <a:pt x="9863" y="8275"/>
                  <a:pt x="8219" y="10344"/>
                  <a:pt x="8219" y="12413"/>
                </a:cubicBezTo>
                <a:cubicBezTo>
                  <a:pt x="8219" y="107586"/>
                  <a:pt x="8219" y="107586"/>
                  <a:pt x="8219" y="107586"/>
                </a:cubicBezTo>
                <a:cubicBezTo>
                  <a:pt x="8219" y="107586"/>
                  <a:pt x="9863" y="109655"/>
                  <a:pt x="11506" y="109655"/>
                </a:cubicBezTo>
                <a:cubicBezTo>
                  <a:pt x="110136" y="109655"/>
                  <a:pt x="110136" y="109655"/>
                  <a:pt x="110136" y="109655"/>
                </a:cubicBezTo>
                <a:cubicBezTo>
                  <a:pt x="111780" y="109655"/>
                  <a:pt x="111780" y="107586"/>
                  <a:pt x="111780" y="107586"/>
                </a:cubicBezTo>
                <a:cubicBezTo>
                  <a:pt x="111780" y="12413"/>
                  <a:pt x="111780" y="12413"/>
                  <a:pt x="111780" y="12413"/>
                </a:cubicBezTo>
                <a:cubicBezTo>
                  <a:pt x="111780" y="10344"/>
                  <a:pt x="111780" y="8275"/>
                  <a:pt x="110136" y="8275"/>
                </a:cubicBezTo>
                <a:lnTo>
                  <a:pt x="11506" y="8275"/>
                </a:lnTo>
                <a:close/>
                <a:moveTo>
                  <a:pt x="27945" y="49655"/>
                </a:moveTo>
                <a:cubicBezTo>
                  <a:pt x="21369" y="49655"/>
                  <a:pt x="16438" y="43448"/>
                  <a:pt x="16438" y="35172"/>
                </a:cubicBezTo>
                <a:cubicBezTo>
                  <a:pt x="16438" y="26896"/>
                  <a:pt x="21369" y="18620"/>
                  <a:pt x="27945" y="18620"/>
                </a:cubicBezTo>
                <a:cubicBezTo>
                  <a:pt x="34520" y="18620"/>
                  <a:pt x="41095" y="26896"/>
                  <a:pt x="41095" y="35172"/>
                </a:cubicBezTo>
                <a:cubicBezTo>
                  <a:pt x="41095" y="43448"/>
                  <a:pt x="34520" y="49655"/>
                  <a:pt x="27945" y="49655"/>
                </a:cubicBezTo>
                <a:close/>
                <a:moveTo>
                  <a:pt x="105205" y="99310"/>
                </a:moveTo>
                <a:cubicBezTo>
                  <a:pt x="16438" y="99310"/>
                  <a:pt x="16438" y="99310"/>
                  <a:pt x="16438" y="99310"/>
                </a:cubicBezTo>
                <a:cubicBezTo>
                  <a:pt x="16438" y="84827"/>
                  <a:pt x="16438" y="84827"/>
                  <a:pt x="16438" y="84827"/>
                </a:cubicBezTo>
                <a:cubicBezTo>
                  <a:pt x="36164" y="60000"/>
                  <a:pt x="36164" y="60000"/>
                  <a:pt x="36164" y="60000"/>
                </a:cubicBezTo>
                <a:cubicBezTo>
                  <a:pt x="46027" y="72413"/>
                  <a:pt x="46027" y="72413"/>
                  <a:pt x="46027" y="72413"/>
                </a:cubicBezTo>
                <a:cubicBezTo>
                  <a:pt x="78904" y="31034"/>
                  <a:pt x="78904" y="31034"/>
                  <a:pt x="78904" y="31034"/>
                </a:cubicBezTo>
                <a:cubicBezTo>
                  <a:pt x="105205" y="64137"/>
                  <a:pt x="105205" y="64137"/>
                  <a:pt x="105205" y="64137"/>
                </a:cubicBezTo>
                <a:lnTo>
                  <a:pt x="105205" y="99310"/>
                </a:lnTo>
                <a:close/>
              </a:path>
            </a:pathLst>
          </a:custGeom>
          <a:solidFill>
            <a:srgbClr val="ffffff"/>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030" name="Shape 773"/>
          <p:cNvSpPr/>
          <p:nvPr/>
        </p:nvSpPr>
        <p:spPr>
          <a:xfrm>
            <a:off x="9480600" y="2471760"/>
            <a:ext cx="341280" cy="341280"/>
          </a:xfrm>
          <a:custGeom>
            <a:avLst/>
            <a:gdLst>
              <a:gd name="textAreaLeft" fmla="*/ 0 w 341280"/>
              <a:gd name="textAreaRight" fmla="*/ 341640 w 341280"/>
              <a:gd name="textAreaTop" fmla="*/ 0 h 341280"/>
              <a:gd name="textAreaBottom" fmla="*/ 341640 h 341280"/>
            </a:gdLst>
            <a:ahLst/>
            <a:rect l="textAreaLeft" t="textAreaTop" r="textAreaRight" b="textAreaBottom"/>
            <a:pathLst>
              <a:path w="120000" h="120000">
                <a:moveTo>
                  <a:pt x="120000" y="60000"/>
                </a:moveTo>
                <a:cubicBezTo>
                  <a:pt x="120000" y="91764"/>
                  <a:pt x="93529" y="120000"/>
                  <a:pt x="60000" y="120000"/>
                </a:cubicBezTo>
                <a:cubicBezTo>
                  <a:pt x="26470" y="120000"/>
                  <a:pt x="0" y="91764"/>
                  <a:pt x="0" y="60000"/>
                </a:cubicBezTo>
                <a:cubicBezTo>
                  <a:pt x="0" y="26470"/>
                  <a:pt x="26470" y="0"/>
                  <a:pt x="60000" y="0"/>
                </a:cubicBezTo>
                <a:cubicBezTo>
                  <a:pt x="93529" y="0"/>
                  <a:pt x="120000" y="26470"/>
                  <a:pt x="120000" y="60000"/>
                </a:cubicBezTo>
                <a:close/>
                <a:moveTo>
                  <a:pt x="116470" y="60000"/>
                </a:moveTo>
                <a:cubicBezTo>
                  <a:pt x="116470" y="28235"/>
                  <a:pt x="91764" y="1764"/>
                  <a:pt x="60000" y="1764"/>
                </a:cubicBezTo>
                <a:cubicBezTo>
                  <a:pt x="28235" y="1764"/>
                  <a:pt x="1764" y="28235"/>
                  <a:pt x="1764" y="60000"/>
                </a:cubicBezTo>
                <a:cubicBezTo>
                  <a:pt x="1764" y="91764"/>
                  <a:pt x="28235" y="116470"/>
                  <a:pt x="60000" y="116470"/>
                </a:cubicBezTo>
                <a:cubicBezTo>
                  <a:pt x="91764" y="116470"/>
                  <a:pt x="116470" y="91764"/>
                  <a:pt x="116470" y="60000"/>
                </a:cubicBezTo>
                <a:close/>
                <a:moveTo>
                  <a:pt x="12352" y="38823"/>
                </a:moveTo>
                <a:cubicBezTo>
                  <a:pt x="37058" y="105882"/>
                  <a:pt x="37058" y="105882"/>
                  <a:pt x="37058" y="105882"/>
                </a:cubicBezTo>
                <a:cubicBezTo>
                  <a:pt x="19411" y="97058"/>
                  <a:pt x="8823" y="79411"/>
                  <a:pt x="8823" y="60000"/>
                </a:cubicBezTo>
                <a:cubicBezTo>
                  <a:pt x="8823" y="51176"/>
                  <a:pt x="8823" y="44117"/>
                  <a:pt x="12352" y="38823"/>
                </a:cubicBezTo>
                <a:close/>
                <a:moveTo>
                  <a:pt x="90000" y="74117"/>
                </a:moveTo>
                <a:cubicBezTo>
                  <a:pt x="84705" y="90000"/>
                  <a:pt x="84705" y="90000"/>
                  <a:pt x="84705" y="90000"/>
                </a:cubicBezTo>
                <a:cubicBezTo>
                  <a:pt x="67058" y="35294"/>
                  <a:pt x="67058" y="35294"/>
                  <a:pt x="67058" y="35294"/>
                </a:cubicBezTo>
                <a:cubicBezTo>
                  <a:pt x="67058" y="35294"/>
                  <a:pt x="70588" y="35294"/>
                  <a:pt x="72352" y="35294"/>
                </a:cubicBezTo>
                <a:cubicBezTo>
                  <a:pt x="75882" y="35294"/>
                  <a:pt x="75882" y="30000"/>
                  <a:pt x="72352" y="30000"/>
                </a:cubicBezTo>
                <a:cubicBezTo>
                  <a:pt x="63529" y="31764"/>
                  <a:pt x="58235" y="31764"/>
                  <a:pt x="58235" y="31764"/>
                </a:cubicBezTo>
                <a:cubicBezTo>
                  <a:pt x="58235" y="31764"/>
                  <a:pt x="52941" y="31764"/>
                  <a:pt x="44117" y="30000"/>
                </a:cubicBezTo>
                <a:cubicBezTo>
                  <a:pt x="42352" y="30000"/>
                  <a:pt x="42352" y="35294"/>
                  <a:pt x="44117" y="35294"/>
                </a:cubicBezTo>
                <a:cubicBezTo>
                  <a:pt x="47647" y="35294"/>
                  <a:pt x="49411" y="35294"/>
                  <a:pt x="49411" y="35294"/>
                </a:cubicBezTo>
                <a:cubicBezTo>
                  <a:pt x="58235" y="56470"/>
                  <a:pt x="58235" y="56470"/>
                  <a:pt x="58235" y="56470"/>
                </a:cubicBezTo>
                <a:cubicBezTo>
                  <a:pt x="47647" y="91764"/>
                  <a:pt x="47647" y="91764"/>
                  <a:pt x="47647" y="91764"/>
                </a:cubicBezTo>
                <a:cubicBezTo>
                  <a:pt x="28235" y="35294"/>
                  <a:pt x="28235" y="35294"/>
                  <a:pt x="28235" y="35294"/>
                </a:cubicBezTo>
                <a:cubicBezTo>
                  <a:pt x="28235" y="35294"/>
                  <a:pt x="31764" y="35294"/>
                  <a:pt x="33529" y="35294"/>
                </a:cubicBezTo>
                <a:cubicBezTo>
                  <a:pt x="37058" y="35294"/>
                  <a:pt x="37058" y="30000"/>
                  <a:pt x="33529" y="30000"/>
                </a:cubicBezTo>
                <a:cubicBezTo>
                  <a:pt x="24705" y="31764"/>
                  <a:pt x="19411" y="31764"/>
                  <a:pt x="19411" y="31764"/>
                </a:cubicBezTo>
                <a:cubicBezTo>
                  <a:pt x="19411" y="31764"/>
                  <a:pt x="17647" y="31764"/>
                  <a:pt x="15882" y="31764"/>
                </a:cubicBezTo>
                <a:cubicBezTo>
                  <a:pt x="26470" y="17647"/>
                  <a:pt x="42352" y="8823"/>
                  <a:pt x="60000" y="8823"/>
                </a:cubicBezTo>
                <a:cubicBezTo>
                  <a:pt x="72352" y="8823"/>
                  <a:pt x="84705" y="12352"/>
                  <a:pt x="93529" y="21176"/>
                </a:cubicBezTo>
                <a:cubicBezTo>
                  <a:pt x="93529" y="21176"/>
                  <a:pt x="93529" y="21176"/>
                  <a:pt x="93529" y="21176"/>
                </a:cubicBezTo>
                <a:cubicBezTo>
                  <a:pt x="88235" y="21176"/>
                  <a:pt x="84705" y="26470"/>
                  <a:pt x="84705" y="30000"/>
                </a:cubicBezTo>
                <a:cubicBezTo>
                  <a:pt x="84705" y="35294"/>
                  <a:pt x="88235" y="38823"/>
                  <a:pt x="90000" y="42352"/>
                </a:cubicBezTo>
                <a:cubicBezTo>
                  <a:pt x="91764" y="45882"/>
                  <a:pt x="93529" y="51176"/>
                  <a:pt x="93529" y="56470"/>
                </a:cubicBezTo>
                <a:cubicBezTo>
                  <a:pt x="93529" y="61764"/>
                  <a:pt x="91764" y="67058"/>
                  <a:pt x="90000" y="74117"/>
                </a:cubicBezTo>
                <a:close/>
                <a:moveTo>
                  <a:pt x="75882" y="107647"/>
                </a:moveTo>
                <a:cubicBezTo>
                  <a:pt x="75882" y="107647"/>
                  <a:pt x="75882" y="107647"/>
                  <a:pt x="75882" y="107647"/>
                </a:cubicBezTo>
                <a:cubicBezTo>
                  <a:pt x="70588" y="109411"/>
                  <a:pt x="65294" y="111176"/>
                  <a:pt x="60000" y="111176"/>
                </a:cubicBezTo>
                <a:cubicBezTo>
                  <a:pt x="54705" y="111176"/>
                  <a:pt x="49411" y="109411"/>
                  <a:pt x="45882" y="109411"/>
                </a:cubicBezTo>
                <a:cubicBezTo>
                  <a:pt x="60000" y="63529"/>
                  <a:pt x="60000" y="63529"/>
                  <a:pt x="60000" y="63529"/>
                </a:cubicBezTo>
                <a:lnTo>
                  <a:pt x="75882" y="107647"/>
                </a:lnTo>
                <a:close/>
                <a:moveTo>
                  <a:pt x="111176" y="60000"/>
                </a:moveTo>
                <a:cubicBezTo>
                  <a:pt x="111176" y="77647"/>
                  <a:pt x="100588" y="95294"/>
                  <a:pt x="84705" y="104117"/>
                </a:cubicBezTo>
                <a:cubicBezTo>
                  <a:pt x="100588" y="58235"/>
                  <a:pt x="100588" y="58235"/>
                  <a:pt x="100588" y="58235"/>
                </a:cubicBezTo>
                <a:cubicBezTo>
                  <a:pt x="104117" y="51176"/>
                  <a:pt x="105882" y="45882"/>
                  <a:pt x="105882" y="40588"/>
                </a:cubicBezTo>
                <a:cubicBezTo>
                  <a:pt x="105882" y="38823"/>
                  <a:pt x="105882" y="37058"/>
                  <a:pt x="104117" y="35294"/>
                </a:cubicBezTo>
                <a:cubicBezTo>
                  <a:pt x="109411" y="42352"/>
                  <a:pt x="111176" y="51176"/>
                  <a:pt x="111176" y="60000"/>
                </a:cubicBezTo>
                <a:close/>
              </a:path>
            </a:pathLst>
          </a:custGeom>
          <a:solidFill>
            <a:srgbClr val="2b85ae"/>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031" name="Shape 774"/>
          <p:cNvSpPr/>
          <p:nvPr/>
        </p:nvSpPr>
        <p:spPr>
          <a:xfrm>
            <a:off x="2368440" y="2532240"/>
            <a:ext cx="343080" cy="293400"/>
          </a:xfrm>
          <a:custGeom>
            <a:avLst/>
            <a:gdLst>
              <a:gd name="textAreaLeft" fmla="*/ 0 w 343080"/>
              <a:gd name="textAreaRight" fmla="*/ 343440 w 343080"/>
              <a:gd name="textAreaTop" fmla="*/ 0 h 293400"/>
              <a:gd name="textAreaBottom" fmla="*/ 293760 h 293400"/>
            </a:gdLst>
            <a:ahLst/>
            <a:rect l="textAreaLeft" t="textAreaTop" r="textAreaRight" b="textAreaBottom"/>
            <a:pathLst>
              <a:path w="120000" h="120000">
                <a:moveTo>
                  <a:pt x="120000" y="62068"/>
                </a:moveTo>
                <a:cubicBezTo>
                  <a:pt x="0" y="62068"/>
                  <a:pt x="0" y="62068"/>
                  <a:pt x="0" y="62068"/>
                </a:cubicBezTo>
                <a:cubicBezTo>
                  <a:pt x="0" y="31034"/>
                  <a:pt x="0" y="31034"/>
                  <a:pt x="0" y="31034"/>
                </a:cubicBezTo>
                <a:cubicBezTo>
                  <a:pt x="0" y="24827"/>
                  <a:pt x="5294" y="18620"/>
                  <a:pt x="12352" y="18620"/>
                </a:cubicBezTo>
                <a:cubicBezTo>
                  <a:pt x="35294" y="18620"/>
                  <a:pt x="35294" y="18620"/>
                  <a:pt x="35294" y="18620"/>
                </a:cubicBezTo>
                <a:cubicBezTo>
                  <a:pt x="35294" y="6206"/>
                  <a:pt x="35294" y="6206"/>
                  <a:pt x="35294" y="6206"/>
                </a:cubicBezTo>
                <a:cubicBezTo>
                  <a:pt x="35294" y="2068"/>
                  <a:pt x="38823" y="0"/>
                  <a:pt x="42352" y="0"/>
                </a:cubicBezTo>
                <a:cubicBezTo>
                  <a:pt x="79411" y="0"/>
                  <a:pt x="79411" y="0"/>
                  <a:pt x="79411" y="0"/>
                </a:cubicBezTo>
                <a:cubicBezTo>
                  <a:pt x="82941" y="0"/>
                  <a:pt x="86470" y="2068"/>
                  <a:pt x="86470" y="6206"/>
                </a:cubicBezTo>
                <a:cubicBezTo>
                  <a:pt x="86470" y="18620"/>
                  <a:pt x="86470" y="18620"/>
                  <a:pt x="86470" y="18620"/>
                </a:cubicBezTo>
                <a:cubicBezTo>
                  <a:pt x="109411" y="18620"/>
                  <a:pt x="109411" y="18620"/>
                  <a:pt x="109411" y="18620"/>
                </a:cubicBezTo>
                <a:cubicBezTo>
                  <a:pt x="116470" y="18620"/>
                  <a:pt x="120000" y="24827"/>
                  <a:pt x="120000" y="31034"/>
                </a:cubicBezTo>
                <a:lnTo>
                  <a:pt x="120000" y="62068"/>
                </a:lnTo>
                <a:close/>
                <a:moveTo>
                  <a:pt x="120000" y="107586"/>
                </a:moveTo>
                <a:cubicBezTo>
                  <a:pt x="120000" y="113793"/>
                  <a:pt x="116470" y="120000"/>
                  <a:pt x="109411" y="120000"/>
                </a:cubicBezTo>
                <a:cubicBezTo>
                  <a:pt x="12352" y="120000"/>
                  <a:pt x="12352" y="120000"/>
                  <a:pt x="12352" y="120000"/>
                </a:cubicBezTo>
                <a:cubicBezTo>
                  <a:pt x="5294" y="120000"/>
                  <a:pt x="0" y="113793"/>
                  <a:pt x="0" y="107586"/>
                </a:cubicBezTo>
                <a:cubicBezTo>
                  <a:pt x="0" y="70344"/>
                  <a:pt x="0" y="70344"/>
                  <a:pt x="0" y="70344"/>
                </a:cubicBezTo>
                <a:cubicBezTo>
                  <a:pt x="45882" y="70344"/>
                  <a:pt x="45882" y="70344"/>
                  <a:pt x="45882" y="70344"/>
                </a:cubicBezTo>
                <a:cubicBezTo>
                  <a:pt x="45882" y="82758"/>
                  <a:pt x="45882" y="82758"/>
                  <a:pt x="45882" y="82758"/>
                </a:cubicBezTo>
                <a:cubicBezTo>
                  <a:pt x="45882" y="84827"/>
                  <a:pt x="47647" y="86896"/>
                  <a:pt x="49411" y="86896"/>
                </a:cubicBezTo>
                <a:cubicBezTo>
                  <a:pt x="72352" y="86896"/>
                  <a:pt x="72352" y="86896"/>
                  <a:pt x="72352" y="86896"/>
                </a:cubicBezTo>
                <a:cubicBezTo>
                  <a:pt x="74117" y="86896"/>
                  <a:pt x="75882" y="84827"/>
                  <a:pt x="75882" y="82758"/>
                </a:cubicBezTo>
                <a:cubicBezTo>
                  <a:pt x="75882" y="70344"/>
                  <a:pt x="75882" y="70344"/>
                  <a:pt x="75882" y="70344"/>
                </a:cubicBezTo>
                <a:cubicBezTo>
                  <a:pt x="120000" y="70344"/>
                  <a:pt x="120000" y="70344"/>
                  <a:pt x="120000" y="70344"/>
                </a:cubicBezTo>
                <a:lnTo>
                  <a:pt x="120000" y="107586"/>
                </a:lnTo>
                <a:close/>
                <a:moveTo>
                  <a:pt x="77647" y="18620"/>
                </a:moveTo>
                <a:cubicBezTo>
                  <a:pt x="77647" y="10344"/>
                  <a:pt x="77647" y="10344"/>
                  <a:pt x="77647" y="10344"/>
                </a:cubicBezTo>
                <a:cubicBezTo>
                  <a:pt x="44117" y="10344"/>
                  <a:pt x="44117" y="10344"/>
                  <a:pt x="44117" y="10344"/>
                </a:cubicBezTo>
                <a:cubicBezTo>
                  <a:pt x="44117" y="18620"/>
                  <a:pt x="44117" y="18620"/>
                  <a:pt x="44117" y="18620"/>
                </a:cubicBezTo>
                <a:lnTo>
                  <a:pt x="77647" y="18620"/>
                </a:lnTo>
                <a:close/>
                <a:moveTo>
                  <a:pt x="68823" y="80689"/>
                </a:moveTo>
                <a:cubicBezTo>
                  <a:pt x="52941" y="80689"/>
                  <a:pt x="52941" y="80689"/>
                  <a:pt x="52941" y="80689"/>
                </a:cubicBezTo>
                <a:cubicBezTo>
                  <a:pt x="52941" y="70344"/>
                  <a:pt x="52941" y="70344"/>
                  <a:pt x="52941" y="70344"/>
                </a:cubicBezTo>
                <a:cubicBezTo>
                  <a:pt x="68823" y="70344"/>
                  <a:pt x="68823" y="70344"/>
                  <a:pt x="68823" y="70344"/>
                </a:cubicBezTo>
                <a:lnTo>
                  <a:pt x="68823" y="80689"/>
                </a:lnTo>
                <a:close/>
              </a:path>
            </a:pathLst>
          </a:custGeom>
          <a:solidFill>
            <a:srgbClr val="00a09c"/>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032" name="Shape 775"/>
          <p:cNvSpPr/>
          <p:nvPr/>
        </p:nvSpPr>
        <p:spPr>
          <a:xfrm>
            <a:off x="4116240" y="2535120"/>
            <a:ext cx="438120" cy="290520"/>
          </a:xfrm>
          <a:custGeom>
            <a:avLst/>
            <a:gdLst>
              <a:gd name="textAreaLeft" fmla="*/ 0 w 438120"/>
              <a:gd name="textAreaRight" fmla="*/ 438480 w 438120"/>
              <a:gd name="textAreaTop" fmla="*/ 0 h 290520"/>
              <a:gd name="textAreaBottom" fmla="*/ 290880 h 290520"/>
            </a:gdLst>
            <a:ahLst/>
            <a:rect l="textAreaLeft" t="textAreaTop" r="textAreaRight" b="textAreaBottom"/>
            <a:pathLst>
              <a:path w="120000" h="120000">
                <a:moveTo>
                  <a:pt x="118620" y="31034"/>
                </a:moveTo>
                <a:cubicBezTo>
                  <a:pt x="60689" y="60000"/>
                  <a:pt x="60689" y="60000"/>
                  <a:pt x="60689" y="60000"/>
                </a:cubicBezTo>
                <a:cubicBezTo>
                  <a:pt x="60689" y="60000"/>
                  <a:pt x="60689" y="60000"/>
                  <a:pt x="59310" y="60000"/>
                </a:cubicBezTo>
                <a:cubicBezTo>
                  <a:pt x="59310" y="60000"/>
                  <a:pt x="59310" y="60000"/>
                  <a:pt x="59310" y="60000"/>
                </a:cubicBezTo>
                <a:cubicBezTo>
                  <a:pt x="24827" y="43448"/>
                  <a:pt x="24827" y="43448"/>
                  <a:pt x="24827" y="43448"/>
                </a:cubicBezTo>
                <a:cubicBezTo>
                  <a:pt x="22068" y="47586"/>
                  <a:pt x="20689" y="55862"/>
                  <a:pt x="19310" y="66206"/>
                </a:cubicBezTo>
                <a:cubicBezTo>
                  <a:pt x="22068" y="68275"/>
                  <a:pt x="23448" y="70344"/>
                  <a:pt x="23448" y="74482"/>
                </a:cubicBezTo>
                <a:cubicBezTo>
                  <a:pt x="23448" y="78620"/>
                  <a:pt x="22068" y="80689"/>
                  <a:pt x="20689" y="82758"/>
                </a:cubicBezTo>
                <a:cubicBezTo>
                  <a:pt x="23448" y="115862"/>
                  <a:pt x="23448" y="115862"/>
                  <a:pt x="23448" y="115862"/>
                </a:cubicBezTo>
                <a:cubicBezTo>
                  <a:pt x="23448" y="117931"/>
                  <a:pt x="23448" y="117931"/>
                  <a:pt x="22068" y="117931"/>
                </a:cubicBezTo>
                <a:cubicBezTo>
                  <a:pt x="22068" y="120000"/>
                  <a:pt x="22068" y="120000"/>
                  <a:pt x="22068" y="120000"/>
                </a:cubicBezTo>
                <a:cubicBezTo>
                  <a:pt x="11034" y="120000"/>
                  <a:pt x="11034" y="120000"/>
                  <a:pt x="11034" y="120000"/>
                </a:cubicBezTo>
                <a:cubicBezTo>
                  <a:pt x="11034" y="120000"/>
                  <a:pt x="11034" y="120000"/>
                  <a:pt x="9655" y="117931"/>
                </a:cubicBezTo>
                <a:cubicBezTo>
                  <a:pt x="9655" y="117931"/>
                  <a:pt x="9655" y="117931"/>
                  <a:pt x="9655" y="115862"/>
                </a:cubicBezTo>
                <a:cubicBezTo>
                  <a:pt x="12413" y="82758"/>
                  <a:pt x="12413" y="82758"/>
                  <a:pt x="12413" y="82758"/>
                </a:cubicBezTo>
                <a:cubicBezTo>
                  <a:pt x="11034" y="80689"/>
                  <a:pt x="9655" y="78620"/>
                  <a:pt x="9655" y="74482"/>
                </a:cubicBezTo>
                <a:cubicBezTo>
                  <a:pt x="9655" y="70344"/>
                  <a:pt x="11034" y="68275"/>
                  <a:pt x="13793" y="66206"/>
                </a:cubicBezTo>
                <a:cubicBezTo>
                  <a:pt x="13793" y="55862"/>
                  <a:pt x="15172" y="47586"/>
                  <a:pt x="17931" y="39310"/>
                </a:cubicBezTo>
                <a:cubicBezTo>
                  <a:pt x="1379" y="31034"/>
                  <a:pt x="1379" y="31034"/>
                  <a:pt x="1379" y="31034"/>
                </a:cubicBezTo>
                <a:cubicBezTo>
                  <a:pt x="0" y="31034"/>
                  <a:pt x="0" y="31034"/>
                  <a:pt x="0" y="28965"/>
                </a:cubicBezTo>
                <a:cubicBezTo>
                  <a:pt x="0" y="28965"/>
                  <a:pt x="0" y="26896"/>
                  <a:pt x="1379" y="26896"/>
                </a:cubicBezTo>
                <a:cubicBezTo>
                  <a:pt x="59310" y="0"/>
                  <a:pt x="59310" y="0"/>
                  <a:pt x="59310" y="0"/>
                </a:cubicBezTo>
                <a:cubicBezTo>
                  <a:pt x="59310" y="0"/>
                  <a:pt x="59310" y="0"/>
                  <a:pt x="59310" y="0"/>
                </a:cubicBezTo>
                <a:cubicBezTo>
                  <a:pt x="60689" y="0"/>
                  <a:pt x="60689" y="0"/>
                  <a:pt x="60689" y="0"/>
                </a:cubicBezTo>
                <a:cubicBezTo>
                  <a:pt x="118620" y="26896"/>
                  <a:pt x="118620" y="26896"/>
                  <a:pt x="118620" y="26896"/>
                </a:cubicBezTo>
                <a:cubicBezTo>
                  <a:pt x="120000" y="26896"/>
                  <a:pt x="120000" y="28965"/>
                  <a:pt x="120000" y="28965"/>
                </a:cubicBezTo>
                <a:cubicBezTo>
                  <a:pt x="120000" y="31034"/>
                  <a:pt x="120000" y="31034"/>
                  <a:pt x="118620" y="31034"/>
                </a:cubicBezTo>
                <a:close/>
                <a:moveTo>
                  <a:pt x="93793" y="78620"/>
                </a:moveTo>
                <a:cubicBezTo>
                  <a:pt x="93793" y="91034"/>
                  <a:pt x="78620" y="99310"/>
                  <a:pt x="59310" y="99310"/>
                </a:cubicBezTo>
                <a:cubicBezTo>
                  <a:pt x="41379" y="99310"/>
                  <a:pt x="26206" y="91034"/>
                  <a:pt x="26206" y="78620"/>
                </a:cubicBezTo>
                <a:cubicBezTo>
                  <a:pt x="27586" y="53793"/>
                  <a:pt x="27586" y="53793"/>
                  <a:pt x="27586" y="53793"/>
                </a:cubicBezTo>
                <a:cubicBezTo>
                  <a:pt x="57931" y="68275"/>
                  <a:pt x="57931" y="68275"/>
                  <a:pt x="57931" y="68275"/>
                </a:cubicBezTo>
                <a:cubicBezTo>
                  <a:pt x="57931" y="68275"/>
                  <a:pt x="59310" y="70344"/>
                  <a:pt x="59310" y="70344"/>
                </a:cubicBezTo>
                <a:cubicBezTo>
                  <a:pt x="60689" y="70344"/>
                  <a:pt x="62068" y="68275"/>
                  <a:pt x="62068" y="68275"/>
                </a:cubicBezTo>
                <a:cubicBezTo>
                  <a:pt x="92413" y="53793"/>
                  <a:pt x="92413" y="53793"/>
                  <a:pt x="92413" y="53793"/>
                </a:cubicBezTo>
                <a:lnTo>
                  <a:pt x="93793" y="78620"/>
                </a:lnTo>
                <a:close/>
              </a:path>
            </a:pathLst>
          </a:custGeom>
          <a:solidFill>
            <a:srgbClr val="0098a5"/>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033"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3600" spc="-1" strike="noStrike">
                <a:solidFill>
                  <a:srgbClr val="2d3f51"/>
                </a:solidFill>
                <a:latin typeface="Lato Heavy"/>
              </a:rPr>
              <a:t>OUR </a:t>
            </a:r>
            <a:r>
              <a:rPr b="0" lang="en-US" sz="3600" spc="-1" strike="noStrike">
                <a:solidFill>
                  <a:srgbClr val="2d3f51"/>
                </a:solidFill>
                <a:latin typeface="Lato Heavy"/>
              </a:rPr>
              <a:t>SERVICES</a:t>
            </a:r>
            <a:endParaRPr b="0" lang="en-US" sz="3600" spc="-1" strike="noStrike">
              <a:solidFill>
                <a:srgbClr val="494949"/>
              </a:solidFill>
              <a:latin typeface="Lato Heavy"/>
            </a:endParaRPr>
          </a:p>
        </p:txBody>
      </p:sp>
      <p:sp>
        <p:nvSpPr>
          <p:cNvPr id="1034"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hape 362"/>
          <p:cNvSpPr/>
          <p:nvPr/>
        </p:nvSpPr>
        <p:spPr>
          <a:xfrm>
            <a:off x="11160" y="3914640"/>
            <a:ext cx="18651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36" name="Rectangle 63"/>
          <p:cNvSpPr/>
          <p:nvPr/>
        </p:nvSpPr>
        <p:spPr>
          <a:xfrm>
            <a:off x="893880" y="2309760"/>
            <a:ext cx="2055600" cy="996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37" name="Shape 364"/>
          <p:cNvSpPr/>
          <p:nvPr/>
        </p:nvSpPr>
        <p:spPr>
          <a:xfrm>
            <a:off x="893880" y="3274920"/>
            <a:ext cx="2055600" cy="39384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38" name="Shape 367"/>
          <p:cNvSpPr/>
          <p:nvPr/>
        </p:nvSpPr>
        <p:spPr>
          <a:xfrm>
            <a:off x="1965240" y="3914640"/>
            <a:ext cx="26607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39" name="Shape 368"/>
          <p:cNvSpPr/>
          <p:nvPr/>
        </p:nvSpPr>
        <p:spPr>
          <a:xfrm>
            <a:off x="4714920" y="3914640"/>
            <a:ext cx="26607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40" name="Shape 369"/>
          <p:cNvSpPr/>
          <p:nvPr/>
        </p:nvSpPr>
        <p:spPr>
          <a:xfrm>
            <a:off x="7464600" y="3914640"/>
            <a:ext cx="266040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41" name="Shape 370"/>
          <p:cNvSpPr/>
          <p:nvPr/>
        </p:nvSpPr>
        <p:spPr>
          <a:xfrm>
            <a:off x="10213920" y="3914640"/>
            <a:ext cx="197964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42" name="Shape 371"/>
          <p:cNvSpPr/>
          <p:nvPr/>
        </p:nvSpPr>
        <p:spPr>
          <a:xfrm>
            <a:off x="462600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43" name="Shape 372"/>
          <p:cNvSpPr/>
          <p:nvPr/>
        </p:nvSpPr>
        <p:spPr>
          <a:xfrm>
            <a:off x="187632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98a5"/>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44" name="Rectangle 38"/>
          <p:cNvSpPr/>
          <p:nvPr/>
        </p:nvSpPr>
        <p:spPr>
          <a:xfrm>
            <a:off x="3648240" y="4676760"/>
            <a:ext cx="2049120" cy="995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45" name="Shape 374"/>
          <p:cNvSpPr/>
          <p:nvPr/>
        </p:nvSpPr>
        <p:spPr>
          <a:xfrm rot="10800000">
            <a:off x="3643200" y="4295520"/>
            <a:ext cx="2054160" cy="39348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46" name="Shape 377"/>
          <p:cNvSpPr/>
          <p:nvPr/>
        </p:nvSpPr>
        <p:spPr>
          <a:xfrm rot="10800000">
            <a:off x="893880" y="4295520"/>
            <a:ext cx="2055600" cy="8244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1680" bIns="31680" anchor="ctr">
            <a:noAutofit/>
          </a:bodyPr>
          <a:p>
            <a:endParaRPr b="0" lang="en-US" sz="1800" spc="-1" strike="noStrike">
              <a:solidFill>
                <a:srgbClr val="494949"/>
              </a:solidFill>
              <a:latin typeface="Open Sans Light"/>
            </a:endParaRPr>
          </a:p>
        </p:txBody>
      </p:sp>
      <p:sp>
        <p:nvSpPr>
          <p:cNvPr id="1047" name="Shape 381"/>
          <p:cNvSpPr/>
          <p:nvPr/>
        </p:nvSpPr>
        <p:spPr>
          <a:xfrm>
            <a:off x="3643200" y="3589200"/>
            <a:ext cx="2054160" cy="8280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2040" bIns="32040" anchor="ctr">
            <a:noAutofit/>
          </a:bodyPr>
          <a:p>
            <a:endParaRPr b="0" lang="en-US" sz="1800" spc="-1" strike="noStrike">
              <a:solidFill>
                <a:srgbClr val="494949"/>
              </a:solidFill>
              <a:latin typeface="Open Sans Light"/>
            </a:endParaRPr>
          </a:p>
        </p:txBody>
      </p:sp>
      <p:sp>
        <p:nvSpPr>
          <p:cNvPr id="1048" name="Rectangle 160"/>
          <p:cNvSpPr/>
          <p:nvPr/>
        </p:nvSpPr>
        <p:spPr>
          <a:xfrm>
            <a:off x="6400800" y="2316240"/>
            <a:ext cx="2039760" cy="996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49" name="Shape 386"/>
          <p:cNvSpPr/>
          <p:nvPr/>
        </p:nvSpPr>
        <p:spPr>
          <a:xfrm>
            <a:off x="6392880" y="3274920"/>
            <a:ext cx="2054160" cy="39384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50" name="Rectangle 39"/>
          <p:cNvSpPr/>
          <p:nvPr/>
        </p:nvSpPr>
        <p:spPr>
          <a:xfrm>
            <a:off x="9153360" y="4673520"/>
            <a:ext cx="2040120" cy="9972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51" name="Shape 390"/>
          <p:cNvSpPr/>
          <p:nvPr/>
        </p:nvSpPr>
        <p:spPr>
          <a:xfrm rot="10800000">
            <a:off x="9154800" y="4295520"/>
            <a:ext cx="2041560" cy="39348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52" name="Shape 393"/>
          <p:cNvSpPr/>
          <p:nvPr/>
        </p:nvSpPr>
        <p:spPr>
          <a:xfrm rot="10800000">
            <a:off x="6392880" y="4295520"/>
            <a:ext cx="2054160" cy="8244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1680" bIns="31680" anchor="ctr">
            <a:noAutofit/>
          </a:bodyPr>
          <a:p>
            <a:endParaRPr b="0" lang="en-US" sz="1800" spc="-1" strike="noStrike">
              <a:solidFill>
                <a:srgbClr val="494949"/>
              </a:solidFill>
              <a:latin typeface="Open Sans Light"/>
            </a:endParaRPr>
          </a:p>
        </p:txBody>
      </p:sp>
      <p:sp>
        <p:nvSpPr>
          <p:cNvPr id="1053" name="Shape 397"/>
          <p:cNvSpPr/>
          <p:nvPr/>
        </p:nvSpPr>
        <p:spPr>
          <a:xfrm>
            <a:off x="9142560" y="3589200"/>
            <a:ext cx="2054160" cy="8280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2040" bIns="32040" anchor="ctr">
            <a:noAutofit/>
          </a:bodyPr>
          <a:p>
            <a:endParaRPr b="0" lang="en-US" sz="1800" spc="-1" strike="noStrike">
              <a:solidFill>
                <a:srgbClr val="494949"/>
              </a:solidFill>
              <a:latin typeface="Open Sans Light"/>
            </a:endParaRPr>
          </a:p>
        </p:txBody>
      </p:sp>
      <p:sp>
        <p:nvSpPr>
          <p:cNvPr id="1054" name="Shape 401"/>
          <p:cNvSpPr/>
          <p:nvPr/>
        </p:nvSpPr>
        <p:spPr>
          <a:xfrm>
            <a:off x="737568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55" name="Shape 402"/>
          <p:cNvSpPr/>
          <p:nvPr/>
        </p:nvSpPr>
        <p:spPr>
          <a:xfrm>
            <a:off x="1012500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56"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PHOTO TIMELINE</a:t>
            </a:r>
            <a:endParaRPr b="0" lang="en-US" sz="3600" spc="-1" strike="noStrike">
              <a:solidFill>
                <a:srgbClr val="494949"/>
              </a:solidFill>
              <a:latin typeface="Lato Heavy"/>
            </a:endParaRPr>
          </a:p>
        </p:txBody>
      </p:sp>
      <p:sp>
        <p:nvSpPr>
          <p:cNvPr id="1057" name="PlaceHolder 2"/>
          <p:cNvSpPr>
            <a:spLocks noGrp="1"/>
          </p:cNvSpPr>
          <p:nvPr>
            <p:ph/>
          </p:nvPr>
        </p:nvSpPr>
        <p:spPr>
          <a:xfrm>
            <a:off x="6394320" y="327960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0</a:t>
            </a:r>
            <a:endParaRPr b="0" lang="en-US" sz="1200" spc="-1" strike="noStrike">
              <a:solidFill>
                <a:srgbClr val="494949"/>
              </a:solidFill>
              <a:latin typeface="Open Sans Light"/>
            </a:endParaRPr>
          </a:p>
        </p:txBody>
      </p:sp>
      <p:sp>
        <p:nvSpPr>
          <p:cNvPr id="1058" name="PlaceHolder 3"/>
          <p:cNvSpPr>
            <a:spLocks noGrp="1"/>
          </p:cNvSpPr>
          <p:nvPr>
            <p:ph/>
          </p:nvPr>
        </p:nvSpPr>
        <p:spPr>
          <a:xfrm>
            <a:off x="893520" y="3281400"/>
            <a:ext cx="205236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08</a:t>
            </a:r>
            <a:endParaRPr b="0" lang="en-US" sz="1200" spc="-1" strike="noStrike">
              <a:solidFill>
                <a:srgbClr val="494949"/>
              </a:solidFill>
              <a:latin typeface="Open Sans Light"/>
            </a:endParaRPr>
          </a:p>
        </p:txBody>
      </p:sp>
      <p:sp>
        <p:nvSpPr>
          <p:cNvPr id="1059" name="PlaceHolder 4"/>
          <p:cNvSpPr>
            <a:spLocks noGrp="1"/>
          </p:cNvSpPr>
          <p:nvPr>
            <p:ph/>
          </p:nvPr>
        </p:nvSpPr>
        <p:spPr>
          <a:xfrm>
            <a:off x="3646440" y="435924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09</a:t>
            </a:r>
            <a:endParaRPr b="0" lang="en-US" sz="1200" spc="-1" strike="noStrike">
              <a:solidFill>
                <a:srgbClr val="494949"/>
              </a:solidFill>
              <a:latin typeface="Open Sans Light"/>
            </a:endParaRPr>
          </a:p>
        </p:txBody>
      </p:sp>
      <p:sp>
        <p:nvSpPr>
          <p:cNvPr id="1060" name="PlaceHolder 5"/>
          <p:cNvSpPr>
            <a:spLocks noGrp="1"/>
          </p:cNvSpPr>
          <p:nvPr>
            <p:ph/>
          </p:nvPr>
        </p:nvSpPr>
        <p:spPr>
          <a:xfrm>
            <a:off x="9148680" y="435456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1</a:t>
            </a:r>
            <a:endParaRPr b="0" lang="en-US" sz="1200" spc="-1" strike="noStrike">
              <a:solidFill>
                <a:srgbClr val="494949"/>
              </a:solidFill>
              <a:latin typeface="Open Sans Light"/>
            </a:endParaRPr>
          </a:p>
        </p:txBody>
      </p:sp>
      <p:sp>
        <p:nvSpPr>
          <p:cNvPr id="1061" name="PlaceHolder 6"/>
          <p:cNvSpPr>
            <a:spLocks noGrp="1"/>
          </p:cNvSpPr>
          <p:nvPr>
            <p:ph/>
          </p:nvPr>
        </p:nvSpPr>
        <p:spPr>
          <a:xfrm>
            <a:off x="3639600" y="2616120"/>
            <a:ext cx="2054520" cy="7812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a:t>
            </a:r>
            <a:endParaRPr b="0" lang="en-US" sz="1000" spc="-1" strike="noStrike">
              <a:solidFill>
                <a:srgbClr val="494949"/>
              </a:solidFill>
              <a:latin typeface="Open Sans Light"/>
            </a:endParaRPr>
          </a:p>
        </p:txBody>
      </p:sp>
      <p:sp>
        <p:nvSpPr>
          <p:cNvPr id="1062" name="PlaceHolder 7"/>
          <p:cNvSpPr>
            <a:spLocks noGrp="1"/>
          </p:cNvSpPr>
          <p:nvPr>
            <p:ph/>
          </p:nvPr>
        </p:nvSpPr>
        <p:spPr>
          <a:xfrm>
            <a:off x="9153000" y="2560320"/>
            <a:ext cx="2055960" cy="78084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a:t>
            </a:r>
            <a:endParaRPr b="0" lang="en-US" sz="1000" spc="-1" strike="noStrike">
              <a:solidFill>
                <a:srgbClr val="494949"/>
              </a:solidFill>
              <a:latin typeface="Open Sans Light"/>
            </a:endParaRPr>
          </a:p>
        </p:txBody>
      </p:sp>
      <p:sp>
        <p:nvSpPr>
          <p:cNvPr id="1063" name="PlaceHolder 8"/>
          <p:cNvSpPr>
            <a:spLocks noGrp="1"/>
          </p:cNvSpPr>
          <p:nvPr>
            <p:ph/>
          </p:nvPr>
        </p:nvSpPr>
        <p:spPr>
          <a:xfrm>
            <a:off x="893880" y="5009760"/>
            <a:ext cx="2054160" cy="97956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 </a:t>
            </a:r>
            <a:endParaRPr b="0" lang="en-US" sz="1000" spc="-1" strike="noStrike">
              <a:solidFill>
                <a:srgbClr val="494949"/>
              </a:solidFill>
              <a:latin typeface="Open Sans Light"/>
            </a:endParaRPr>
          </a:p>
        </p:txBody>
      </p:sp>
      <p:sp>
        <p:nvSpPr>
          <p:cNvPr id="1064" name="PlaceHolder 9"/>
          <p:cNvSpPr>
            <a:spLocks noGrp="1"/>
          </p:cNvSpPr>
          <p:nvPr>
            <p:ph/>
          </p:nvPr>
        </p:nvSpPr>
        <p:spPr>
          <a:xfrm>
            <a:off x="6400800" y="4954320"/>
            <a:ext cx="2054160" cy="97956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 </a:t>
            </a:r>
            <a:endParaRPr b="0" lang="en-US" sz="1000" spc="-1" strike="noStrike">
              <a:solidFill>
                <a:srgbClr val="494949"/>
              </a:solidFill>
              <a:latin typeface="Open Sans Light"/>
            </a:endParaRPr>
          </a:p>
        </p:txBody>
      </p:sp>
      <p:sp>
        <p:nvSpPr>
          <p:cNvPr id="1065" name="PlaceHolder 10"/>
          <p:cNvSpPr>
            <a:spLocks noGrp="1"/>
          </p:cNvSpPr>
          <p:nvPr>
            <p:ph/>
          </p:nvPr>
        </p:nvSpPr>
        <p:spPr>
          <a:xfrm>
            <a:off x="3938760" y="2309400"/>
            <a:ext cx="1473120" cy="274680"/>
          </a:xfrm>
          <a:prstGeom prst="rect">
            <a:avLst/>
          </a:prstGeom>
          <a:noFill/>
          <a:ln w="0">
            <a:noFill/>
          </a:ln>
        </p:spPr>
        <p:txBody>
          <a:bodyPr anchor="t">
            <a:normAutofit/>
          </a:bodyPr>
          <a:p>
            <a:pPr indent="0" algn="ctr">
              <a:lnSpc>
                <a:spcPct val="8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Heavy"/>
              </a:rPr>
              <a:t>START</a:t>
            </a:r>
            <a:endParaRPr b="0" lang="en-US" sz="1400" spc="-1" strike="noStrike">
              <a:solidFill>
                <a:srgbClr val="494949"/>
              </a:solidFill>
              <a:latin typeface="Open Sans Light"/>
            </a:endParaRPr>
          </a:p>
        </p:txBody>
      </p:sp>
      <p:sp>
        <p:nvSpPr>
          <p:cNvPr id="1066" name="PlaceHolder 11"/>
          <p:cNvSpPr>
            <a:spLocks noGrp="1"/>
          </p:cNvSpPr>
          <p:nvPr>
            <p:ph/>
          </p:nvPr>
        </p:nvSpPr>
        <p:spPr>
          <a:xfrm>
            <a:off x="9212040" y="2315880"/>
            <a:ext cx="1912680" cy="274680"/>
          </a:xfrm>
          <a:prstGeom prst="rect">
            <a:avLst/>
          </a:prstGeom>
          <a:noFill/>
          <a:ln w="0">
            <a:noFill/>
          </a:ln>
        </p:spPr>
        <p:txBody>
          <a:bodyPr anchor="t">
            <a:normAutofit fontScale="95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Heavy"/>
              </a:rPr>
              <a:t>INTERNAL SOURCES</a:t>
            </a:r>
            <a:endParaRPr b="0" lang="en-US" sz="1400" spc="-1" strike="noStrike">
              <a:solidFill>
                <a:srgbClr val="494949"/>
              </a:solidFill>
              <a:latin typeface="Open Sans Light"/>
            </a:endParaRPr>
          </a:p>
        </p:txBody>
      </p:sp>
      <p:sp>
        <p:nvSpPr>
          <p:cNvPr id="1067" name="PlaceHolder 12"/>
          <p:cNvSpPr>
            <a:spLocks noGrp="1"/>
          </p:cNvSpPr>
          <p:nvPr>
            <p:ph/>
          </p:nvPr>
        </p:nvSpPr>
        <p:spPr>
          <a:xfrm>
            <a:off x="1177920" y="4593960"/>
            <a:ext cx="1473120" cy="29196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Heavy"/>
              </a:rPr>
              <a:t>CONCEPT</a:t>
            </a:r>
            <a:endParaRPr b="0" lang="en-US" sz="1400" spc="-1" strike="noStrike">
              <a:solidFill>
                <a:srgbClr val="494949"/>
              </a:solidFill>
              <a:latin typeface="Open Sans Light"/>
            </a:endParaRPr>
          </a:p>
        </p:txBody>
      </p:sp>
      <p:sp>
        <p:nvSpPr>
          <p:cNvPr id="1068" name="PlaceHolder 13"/>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069" name="Text Placeholder 2"/>
          <p:cNvSpPr/>
          <p:nvPr/>
        </p:nvSpPr>
        <p:spPr>
          <a:xfrm>
            <a:off x="6683400" y="4594320"/>
            <a:ext cx="1473120" cy="2919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98989"/>
                </a:solidFill>
                <a:latin typeface="Lato Heavy"/>
              </a:rPr>
              <a:t>JOIN PARTNER</a:t>
            </a:r>
            <a:endParaRPr b="0" lang="en-US" sz="1400" spc="-1" strike="noStrike">
              <a:solidFill>
                <a:srgbClr val="494949"/>
              </a:solidFill>
              <a:latin typeface="Open Sans Light"/>
            </a:endParaRPr>
          </a:p>
        </p:txBody>
      </p:sp>
      <p:pic>
        <p:nvPicPr>
          <p:cNvPr id="1070" name="" descr=""/>
          <p:cNvPicPr/>
          <p:nvPr/>
        </p:nvPicPr>
        <p:blipFill>
          <a:blip r:embed="rId1"/>
          <a:stretch/>
        </p:blipFill>
        <p:spPr>
          <a:xfrm>
            <a:off x="893880" y="2315880"/>
            <a:ext cx="2055600" cy="990360"/>
          </a:xfrm>
          <a:prstGeom prst="rect">
            <a:avLst/>
          </a:prstGeom>
          <a:ln w="0">
            <a:noFill/>
          </a:ln>
        </p:spPr>
      </p:pic>
      <p:pic>
        <p:nvPicPr>
          <p:cNvPr id="1071" name="" descr=""/>
          <p:cNvPicPr/>
          <p:nvPr/>
        </p:nvPicPr>
        <p:blipFill>
          <a:blip r:embed="rId2"/>
          <a:stretch/>
        </p:blipFill>
        <p:spPr>
          <a:xfrm>
            <a:off x="6400800" y="2315880"/>
            <a:ext cx="2054160" cy="990360"/>
          </a:xfrm>
          <a:prstGeom prst="rect">
            <a:avLst/>
          </a:prstGeom>
          <a:ln w="0">
            <a:noFill/>
          </a:ln>
        </p:spPr>
      </p:pic>
      <p:pic>
        <p:nvPicPr>
          <p:cNvPr id="1072" name="" descr=""/>
          <p:cNvPicPr/>
          <p:nvPr/>
        </p:nvPicPr>
        <p:blipFill>
          <a:blip r:embed="rId3"/>
          <a:stretch/>
        </p:blipFill>
        <p:spPr>
          <a:xfrm>
            <a:off x="3648240" y="4680000"/>
            <a:ext cx="2054160" cy="990720"/>
          </a:xfrm>
          <a:prstGeom prst="rect">
            <a:avLst/>
          </a:prstGeom>
          <a:ln w="0">
            <a:noFill/>
          </a:ln>
        </p:spPr>
      </p:pic>
      <p:pic>
        <p:nvPicPr>
          <p:cNvPr id="1073" name="" descr=""/>
          <p:cNvPicPr/>
          <p:nvPr/>
        </p:nvPicPr>
        <p:blipFill>
          <a:blip r:embed="rId4"/>
          <a:stretch/>
        </p:blipFill>
        <p:spPr>
          <a:xfrm>
            <a:off x="9153000" y="4680000"/>
            <a:ext cx="2055960" cy="990720"/>
          </a:xfrm>
          <a:prstGeom prst="rect">
            <a:avLst/>
          </a:prstGeom>
          <a:ln w="0">
            <a:noFill/>
          </a:ln>
        </p:spPr>
      </p:pic>
    </p:spTree>
  </p:cSld>
  <p:transition spd="med">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2" presetSubtype="8">
                                  <p:stCondLst>
                                    <p:cond delay="0"/>
                                  </p:stCondLst>
                                  <p:childTnLst>
                                    <p:set>
                                      <p:cBhvr>
                                        <p:cTn id="317" dur="1" fill="hold">
                                          <p:stCondLst>
                                            <p:cond delay="0"/>
                                          </p:stCondLst>
                                        </p:cTn>
                                        <p:tgtEl>
                                          <p:spTgt spid="1035"/>
                                        </p:tgtEl>
                                        <p:attrNameLst>
                                          <p:attrName>style.visibility</p:attrName>
                                        </p:attrNameLst>
                                      </p:cBhvr>
                                      <p:to>
                                        <p:strVal val="visible"/>
                                      </p:to>
                                    </p:set>
                                    <p:animEffect filter="wipe(left)" transition="in">
                                      <p:cBhvr additive="repl">
                                        <p:cTn id="318" dur="500"/>
                                        <p:tgtEl>
                                          <p:spTgt spid="1035"/>
                                        </p:tgtEl>
                                      </p:cBhvr>
                                    </p:animEffect>
                                  </p:childTnLst>
                                </p:cTn>
                              </p:par>
                            </p:childTnLst>
                          </p:cTn>
                        </p:par>
                        <p:par>
                          <p:cTn id="319" fill="hold">
                            <p:stCondLst>
                              <p:cond delay="500"/>
                            </p:stCondLst>
                            <p:childTnLst>
                              <p:par>
                                <p:cTn id="320" nodeType="afterEffect" fill="hold" presetClass="entr" presetID="10">
                                  <p:stCondLst>
                                    <p:cond delay="0"/>
                                  </p:stCondLst>
                                  <p:childTnLst>
                                    <p:set>
                                      <p:cBhvr>
                                        <p:cTn id="321" dur="1" fill="hold">
                                          <p:stCondLst>
                                            <p:cond delay="0"/>
                                          </p:stCondLst>
                                        </p:cTn>
                                        <p:tgtEl>
                                          <p:spTgt spid="1043"/>
                                        </p:tgtEl>
                                        <p:attrNameLst>
                                          <p:attrName>style.visibility</p:attrName>
                                        </p:attrNameLst>
                                      </p:cBhvr>
                                      <p:to>
                                        <p:strVal val="visible"/>
                                      </p:to>
                                    </p:set>
                                    <p:animEffect filter="fade" transition="in">
                                      <p:cBhvr additive="repl">
                                        <p:cTn id="322" dur="500"/>
                                        <p:tgtEl>
                                          <p:spTgt spid="1043"/>
                                        </p:tgtEl>
                                      </p:cBhvr>
                                    </p:animEffect>
                                  </p:childTnLst>
                                </p:cTn>
                              </p:par>
                            </p:childTnLst>
                          </p:cTn>
                        </p:par>
                        <p:par>
                          <p:cTn id="323" fill="hold">
                            <p:stCondLst>
                              <p:cond delay="1000"/>
                            </p:stCondLst>
                            <p:childTnLst>
                              <p:par>
                                <p:cTn id="324" nodeType="afterEffect" fill="hold" presetClass="entr" presetID="10">
                                  <p:stCondLst>
                                    <p:cond delay="0"/>
                                  </p:stCondLst>
                                  <p:childTnLst>
                                    <p:set>
                                      <p:cBhvr>
                                        <p:cTn id="325" dur="1" fill="hold">
                                          <p:stCondLst>
                                            <p:cond delay="0"/>
                                          </p:stCondLst>
                                        </p:cTn>
                                        <p:tgtEl>
                                          <p:spTgt spid="1058">
                                            <p:txEl>
                                              <p:pRg st="0" end="0"/>
                                            </p:txEl>
                                          </p:spTgt>
                                        </p:tgtEl>
                                        <p:attrNameLst>
                                          <p:attrName>style.visibility</p:attrName>
                                        </p:attrNameLst>
                                      </p:cBhvr>
                                      <p:to>
                                        <p:strVal val="visible"/>
                                      </p:to>
                                    </p:set>
                                    <p:animEffect filter="fade" transition="in">
                                      <p:cBhvr additive="repl">
                                        <p:cTn id="326" dur="500"/>
                                        <p:tgtEl>
                                          <p:spTgt spid="1058">
                                            <p:txEl>
                                              <p:pRg st="0" end="0"/>
                                            </p:txEl>
                                          </p:spTgt>
                                        </p:tgtEl>
                                      </p:cBhvr>
                                    </p:animEffect>
                                  </p:childTnLst>
                                </p:cTn>
                              </p:par>
                            </p:childTnLst>
                          </p:cTn>
                        </p:par>
                        <p:par>
                          <p:cTn id="327" fill="hold">
                            <p:stCondLst>
                              <p:cond delay="1500"/>
                            </p:stCondLst>
                            <p:childTnLst>
                              <p:par>
                                <p:cTn id="328" nodeType="afterEffect" fill="hold" presetClass="entr" presetID="10">
                                  <p:stCondLst>
                                    <p:cond delay="0"/>
                                  </p:stCondLst>
                                  <p:childTnLst>
                                    <p:set>
                                      <p:cBhvr>
                                        <p:cTn id="329" dur="1" fill="hold">
                                          <p:stCondLst>
                                            <p:cond delay="0"/>
                                          </p:stCondLst>
                                        </p:cTn>
                                        <p:tgtEl>
                                          <p:spTgt spid="1046"/>
                                        </p:tgtEl>
                                        <p:attrNameLst>
                                          <p:attrName>style.visibility</p:attrName>
                                        </p:attrNameLst>
                                      </p:cBhvr>
                                      <p:to>
                                        <p:strVal val="visible"/>
                                      </p:to>
                                    </p:set>
                                    <p:animEffect filter="fade" transition="in">
                                      <p:cBhvr additive="repl">
                                        <p:cTn id="330" dur="500"/>
                                        <p:tgtEl>
                                          <p:spTgt spid="1046"/>
                                        </p:tgtEl>
                                      </p:cBhvr>
                                    </p:animEffect>
                                  </p:childTnLst>
                                </p:cTn>
                              </p:par>
                            </p:childTnLst>
                          </p:cTn>
                        </p:par>
                        <p:par>
                          <p:cTn id="331" fill="hold">
                            <p:stCondLst>
                              <p:cond delay="2000"/>
                            </p:stCondLst>
                            <p:childTnLst>
                              <p:par>
                                <p:cTn id="332" nodeType="afterEffect" fill="hold" presetClass="entr" presetID="10">
                                  <p:stCondLst>
                                    <p:cond delay="0"/>
                                  </p:stCondLst>
                                  <p:childTnLst>
                                    <p:set>
                                      <p:cBhvr>
                                        <p:cTn id="333" dur="1" fill="hold">
                                          <p:stCondLst>
                                            <p:cond delay="0"/>
                                          </p:stCondLst>
                                        </p:cTn>
                                        <p:tgtEl>
                                          <p:spTgt spid="1067">
                                            <p:txEl>
                                              <p:pRg st="0" end="0"/>
                                            </p:txEl>
                                          </p:spTgt>
                                        </p:tgtEl>
                                        <p:attrNameLst>
                                          <p:attrName>style.visibility</p:attrName>
                                        </p:attrNameLst>
                                      </p:cBhvr>
                                      <p:to>
                                        <p:strVal val="visible"/>
                                      </p:to>
                                    </p:set>
                                    <p:animEffect filter="fade" transition="in">
                                      <p:cBhvr additive="repl">
                                        <p:cTn id="334" dur="500"/>
                                        <p:tgtEl>
                                          <p:spTgt spid="1067">
                                            <p:txEl>
                                              <p:pRg st="0" end="0"/>
                                            </p:txEl>
                                          </p:spTgt>
                                        </p:tgtEl>
                                      </p:cBhvr>
                                    </p:animEffect>
                                  </p:childTnLst>
                                </p:cTn>
                              </p:par>
                            </p:childTnLst>
                          </p:cTn>
                        </p:par>
                        <p:par>
                          <p:cTn id="335" fill="hold">
                            <p:stCondLst>
                              <p:cond delay="2500"/>
                            </p:stCondLst>
                            <p:childTnLst>
                              <p:par>
                                <p:cTn id="336" nodeType="afterEffect" fill="hold" presetClass="entr" presetID="22" presetSubtype="1">
                                  <p:stCondLst>
                                    <p:cond delay="0"/>
                                  </p:stCondLst>
                                  <p:childTnLst>
                                    <p:set>
                                      <p:cBhvr>
                                        <p:cTn id="337"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338" dur="500"/>
                                        <p:tgtEl>
                                          <p:spTgt spid="1063">
                                            <p:txEl>
                                              <p:pRg st="0" end="0"/>
                                            </p:txEl>
                                          </p:spTgt>
                                        </p:tgtEl>
                                      </p:cBhvr>
                                    </p:animEffect>
                                  </p:childTnLst>
                                </p:cTn>
                              </p:par>
                            </p:childTnLst>
                          </p:cTn>
                        </p:par>
                        <p:par>
                          <p:cTn id="339" fill="hold">
                            <p:stCondLst>
                              <p:cond delay="3000"/>
                            </p:stCondLst>
                            <p:childTnLst>
                              <p:par>
                                <p:cTn id="340" nodeType="afterEffect" fill="hold" presetClass="entr" presetID="22" presetSubtype="8">
                                  <p:stCondLst>
                                    <p:cond delay="0"/>
                                  </p:stCondLst>
                                  <p:childTnLst>
                                    <p:set>
                                      <p:cBhvr>
                                        <p:cTn id="341" dur="1" fill="hold">
                                          <p:stCondLst>
                                            <p:cond delay="0"/>
                                          </p:stCondLst>
                                        </p:cTn>
                                        <p:tgtEl>
                                          <p:spTgt spid="1038"/>
                                        </p:tgtEl>
                                        <p:attrNameLst>
                                          <p:attrName>style.visibility</p:attrName>
                                        </p:attrNameLst>
                                      </p:cBhvr>
                                      <p:to>
                                        <p:strVal val="visible"/>
                                      </p:to>
                                    </p:set>
                                    <p:animEffect filter="wipe(left)" transition="in">
                                      <p:cBhvr additive="repl">
                                        <p:cTn id="342" dur="500"/>
                                        <p:tgtEl>
                                          <p:spTgt spid="1038"/>
                                        </p:tgtEl>
                                      </p:cBhvr>
                                    </p:animEffect>
                                  </p:childTnLst>
                                </p:cTn>
                              </p:par>
                            </p:childTnLst>
                          </p:cTn>
                        </p:par>
                        <p:par>
                          <p:cTn id="343" fill="hold">
                            <p:stCondLst>
                              <p:cond delay="3500"/>
                            </p:stCondLst>
                            <p:childTnLst>
                              <p:par>
                                <p:cTn id="344" nodeType="afterEffect" fill="hold" presetClass="entr" presetID="10">
                                  <p:stCondLst>
                                    <p:cond delay="0"/>
                                  </p:stCondLst>
                                  <p:childTnLst>
                                    <p:set>
                                      <p:cBhvr>
                                        <p:cTn id="345" dur="1" fill="hold">
                                          <p:stCondLst>
                                            <p:cond delay="0"/>
                                          </p:stCondLst>
                                        </p:cTn>
                                        <p:tgtEl>
                                          <p:spTgt spid="1042"/>
                                        </p:tgtEl>
                                        <p:attrNameLst>
                                          <p:attrName>style.visibility</p:attrName>
                                        </p:attrNameLst>
                                      </p:cBhvr>
                                      <p:to>
                                        <p:strVal val="visible"/>
                                      </p:to>
                                    </p:set>
                                    <p:animEffect filter="fade" transition="in">
                                      <p:cBhvr additive="repl">
                                        <p:cTn id="346" dur="500"/>
                                        <p:tgtEl>
                                          <p:spTgt spid="1042"/>
                                        </p:tgtEl>
                                      </p:cBhvr>
                                    </p:animEffect>
                                  </p:childTnLst>
                                </p:cTn>
                              </p:par>
                            </p:childTnLst>
                          </p:cTn>
                        </p:par>
                        <p:par>
                          <p:cTn id="347" fill="hold">
                            <p:stCondLst>
                              <p:cond delay="4000"/>
                            </p:stCondLst>
                            <p:childTnLst>
                              <p:par>
                                <p:cTn id="348" nodeType="afterEffect" fill="hold" presetClass="entr" presetID="10">
                                  <p:stCondLst>
                                    <p:cond delay="0"/>
                                  </p:stCondLst>
                                  <p:childTnLst>
                                    <p:set>
                                      <p:cBhvr>
                                        <p:cTn id="3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350" dur="500"/>
                                        <p:tgtEl>
                                          <p:spTgt spid="1059">
                                            <p:txEl>
                                              <p:pRg st="0" end="0"/>
                                            </p:txEl>
                                          </p:spTgt>
                                        </p:tgtEl>
                                      </p:cBhvr>
                                    </p:animEffect>
                                  </p:childTnLst>
                                </p:cTn>
                              </p:par>
                            </p:childTnLst>
                          </p:cTn>
                        </p:par>
                        <p:par>
                          <p:cTn id="351" fill="hold">
                            <p:stCondLst>
                              <p:cond delay="4500"/>
                            </p:stCondLst>
                            <p:childTnLst>
                              <p:par>
                                <p:cTn id="352" nodeType="afterEffect" fill="hold" presetClass="entr" presetID="10">
                                  <p:stCondLst>
                                    <p:cond delay="0"/>
                                  </p:stCondLst>
                                  <p:childTnLst>
                                    <p:set>
                                      <p:cBhvr>
                                        <p:cTn id="353" dur="1" fill="hold">
                                          <p:stCondLst>
                                            <p:cond delay="0"/>
                                          </p:stCondLst>
                                        </p:cTn>
                                        <p:tgtEl>
                                          <p:spTgt spid="1047"/>
                                        </p:tgtEl>
                                        <p:attrNameLst>
                                          <p:attrName>style.visibility</p:attrName>
                                        </p:attrNameLst>
                                      </p:cBhvr>
                                      <p:to>
                                        <p:strVal val="visible"/>
                                      </p:to>
                                    </p:set>
                                    <p:animEffect filter="fade" transition="in">
                                      <p:cBhvr additive="repl">
                                        <p:cTn id="354" dur="500"/>
                                        <p:tgtEl>
                                          <p:spTgt spid="1047"/>
                                        </p:tgtEl>
                                      </p:cBhvr>
                                    </p:animEffect>
                                  </p:childTnLst>
                                </p:cTn>
                              </p:par>
                            </p:childTnLst>
                          </p:cTn>
                        </p:par>
                        <p:par>
                          <p:cTn id="355" fill="hold">
                            <p:stCondLst>
                              <p:cond delay="5000"/>
                            </p:stCondLst>
                            <p:childTnLst>
                              <p:par>
                                <p:cTn id="356" nodeType="afterEffect" fill="hold" presetClass="entr" presetID="22" presetSubtype="4">
                                  <p:stCondLst>
                                    <p:cond delay="0"/>
                                  </p:stCondLst>
                                  <p:childTnLst>
                                    <p:set>
                                      <p:cBhvr>
                                        <p:cTn id="357" dur="1" fill="hold">
                                          <p:stCondLst>
                                            <p:cond delay="0"/>
                                          </p:stCondLst>
                                        </p:cTn>
                                        <p:tgtEl>
                                          <p:spTgt spid="1061">
                                            <p:txEl>
                                              <p:pRg st="0" end="0"/>
                                            </p:txEl>
                                          </p:spTgt>
                                        </p:tgtEl>
                                        <p:attrNameLst>
                                          <p:attrName>style.visibility</p:attrName>
                                        </p:attrNameLst>
                                      </p:cBhvr>
                                      <p:to>
                                        <p:strVal val="visible"/>
                                      </p:to>
                                    </p:set>
                                    <p:animEffect filter="wipe(down)" transition="in">
                                      <p:cBhvr additive="repl">
                                        <p:cTn id="358" dur="500"/>
                                        <p:tgtEl>
                                          <p:spTgt spid="1061">
                                            <p:txEl>
                                              <p:pRg st="0" end="0"/>
                                            </p:txEl>
                                          </p:spTgt>
                                        </p:tgtEl>
                                      </p:cBhvr>
                                    </p:animEffect>
                                  </p:childTnLst>
                                </p:cTn>
                              </p:par>
                            </p:childTnLst>
                          </p:cTn>
                        </p:par>
                        <p:par>
                          <p:cTn id="359" fill="hold">
                            <p:stCondLst>
                              <p:cond delay="5500"/>
                            </p:stCondLst>
                            <p:childTnLst>
                              <p:par>
                                <p:cTn id="360" nodeType="afterEffect" fill="hold" presetClass="entr" presetID="10">
                                  <p:stCondLst>
                                    <p:cond delay="0"/>
                                  </p:stCondLst>
                                  <p:childTnLst>
                                    <p:set>
                                      <p:cBhvr>
                                        <p:cTn id="361" dur="1" fill="hold">
                                          <p:stCondLst>
                                            <p:cond delay="0"/>
                                          </p:stCondLst>
                                        </p:cTn>
                                        <p:tgtEl>
                                          <p:spTgt spid="1065">
                                            <p:txEl>
                                              <p:pRg st="0" end="0"/>
                                            </p:txEl>
                                          </p:spTgt>
                                        </p:tgtEl>
                                        <p:attrNameLst>
                                          <p:attrName>style.visibility</p:attrName>
                                        </p:attrNameLst>
                                      </p:cBhvr>
                                      <p:to>
                                        <p:strVal val="visible"/>
                                      </p:to>
                                    </p:set>
                                    <p:animEffect filter="fade" transition="in">
                                      <p:cBhvr additive="repl">
                                        <p:cTn id="362" dur="500"/>
                                        <p:tgtEl>
                                          <p:spTgt spid="1065">
                                            <p:txEl>
                                              <p:pRg st="0" end="0"/>
                                            </p:txEl>
                                          </p:spTgt>
                                        </p:tgtEl>
                                      </p:cBhvr>
                                    </p:animEffect>
                                  </p:childTnLst>
                                </p:cTn>
                              </p:par>
                            </p:childTnLst>
                          </p:cTn>
                        </p:par>
                        <p:par>
                          <p:cTn id="363" fill="hold">
                            <p:stCondLst>
                              <p:cond delay="6000"/>
                            </p:stCondLst>
                            <p:childTnLst>
                              <p:par>
                                <p:cTn id="364" nodeType="afterEffect" fill="hold" presetClass="entr" presetID="22" presetSubtype="8">
                                  <p:stCondLst>
                                    <p:cond delay="0"/>
                                  </p:stCondLst>
                                  <p:childTnLst>
                                    <p:set>
                                      <p:cBhvr>
                                        <p:cTn id="365" dur="1" fill="hold">
                                          <p:stCondLst>
                                            <p:cond delay="0"/>
                                          </p:stCondLst>
                                        </p:cTn>
                                        <p:tgtEl>
                                          <p:spTgt spid="1039"/>
                                        </p:tgtEl>
                                        <p:attrNameLst>
                                          <p:attrName>style.visibility</p:attrName>
                                        </p:attrNameLst>
                                      </p:cBhvr>
                                      <p:to>
                                        <p:strVal val="visible"/>
                                      </p:to>
                                    </p:set>
                                    <p:animEffect filter="wipe(left)" transition="in">
                                      <p:cBhvr additive="repl">
                                        <p:cTn id="366" dur="500"/>
                                        <p:tgtEl>
                                          <p:spTgt spid="1039"/>
                                        </p:tgtEl>
                                      </p:cBhvr>
                                    </p:animEffect>
                                  </p:childTnLst>
                                </p:cTn>
                              </p:par>
                            </p:childTnLst>
                          </p:cTn>
                        </p:par>
                        <p:par>
                          <p:cTn id="367" fill="hold">
                            <p:stCondLst>
                              <p:cond delay="6500"/>
                            </p:stCondLst>
                            <p:childTnLst>
                              <p:par>
                                <p:cTn id="368" nodeType="afterEffect" fill="hold" presetClass="entr" presetID="10">
                                  <p:stCondLst>
                                    <p:cond delay="0"/>
                                  </p:stCondLst>
                                  <p:childTnLst>
                                    <p:set>
                                      <p:cBhvr>
                                        <p:cTn id="369" dur="1" fill="hold">
                                          <p:stCondLst>
                                            <p:cond delay="0"/>
                                          </p:stCondLst>
                                        </p:cTn>
                                        <p:tgtEl>
                                          <p:spTgt spid="1054"/>
                                        </p:tgtEl>
                                        <p:attrNameLst>
                                          <p:attrName>style.visibility</p:attrName>
                                        </p:attrNameLst>
                                      </p:cBhvr>
                                      <p:to>
                                        <p:strVal val="visible"/>
                                      </p:to>
                                    </p:set>
                                    <p:animEffect filter="fade" transition="in">
                                      <p:cBhvr additive="repl">
                                        <p:cTn id="370" dur="500"/>
                                        <p:tgtEl>
                                          <p:spTgt spid="1054"/>
                                        </p:tgtEl>
                                      </p:cBhvr>
                                    </p:animEffect>
                                  </p:childTnLst>
                                </p:cTn>
                              </p:par>
                            </p:childTnLst>
                          </p:cTn>
                        </p:par>
                        <p:par>
                          <p:cTn id="371" fill="hold">
                            <p:stCondLst>
                              <p:cond delay="7000"/>
                            </p:stCondLst>
                            <p:childTnLst>
                              <p:par>
                                <p:cTn id="372" nodeType="afterEffect" fill="hold" presetClass="entr" presetID="10">
                                  <p:stCondLst>
                                    <p:cond delay="0"/>
                                  </p:stCondLst>
                                  <p:childTnLst>
                                    <p:set>
                                      <p:cBhvr>
                                        <p:cTn id="373" dur="1" fill="hold">
                                          <p:stCondLst>
                                            <p:cond delay="0"/>
                                          </p:stCondLst>
                                        </p:cTn>
                                        <p:tgtEl>
                                          <p:spTgt spid="1057">
                                            <p:txEl>
                                              <p:pRg st="0" end="0"/>
                                            </p:txEl>
                                          </p:spTgt>
                                        </p:tgtEl>
                                        <p:attrNameLst>
                                          <p:attrName>style.visibility</p:attrName>
                                        </p:attrNameLst>
                                      </p:cBhvr>
                                      <p:to>
                                        <p:strVal val="visible"/>
                                      </p:to>
                                    </p:set>
                                    <p:animEffect filter="fade" transition="in">
                                      <p:cBhvr additive="repl">
                                        <p:cTn id="374" dur="500"/>
                                        <p:tgtEl>
                                          <p:spTgt spid="1057">
                                            <p:txEl>
                                              <p:pRg st="0" end="0"/>
                                            </p:txEl>
                                          </p:spTgt>
                                        </p:tgtEl>
                                      </p:cBhvr>
                                    </p:animEffect>
                                  </p:childTnLst>
                                </p:cTn>
                              </p:par>
                            </p:childTnLst>
                          </p:cTn>
                        </p:par>
                        <p:par>
                          <p:cTn id="375" fill="hold">
                            <p:stCondLst>
                              <p:cond delay="7500"/>
                            </p:stCondLst>
                            <p:childTnLst>
                              <p:par>
                                <p:cTn id="376" nodeType="afterEffect" fill="hold" presetClass="entr" presetID="10">
                                  <p:stCondLst>
                                    <p:cond delay="0"/>
                                  </p:stCondLst>
                                  <p:childTnLst>
                                    <p:set>
                                      <p:cBhvr>
                                        <p:cTn id="377" dur="1" fill="hold">
                                          <p:stCondLst>
                                            <p:cond delay="0"/>
                                          </p:stCondLst>
                                        </p:cTn>
                                        <p:tgtEl>
                                          <p:spTgt spid="1052"/>
                                        </p:tgtEl>
                                        <p:attrNameLst>
                                          <p:attrName>style.visibility</p:attrName>
                                        </p:attrNameLst>
                                      </p:cBhvr>
                                      <p:to>
                                        <p:strVal val="visible"/>
                                      </p:to>
                                    </p:set>
                                    <p:animEffect filter="fade" transition="in">
                                      <p:cBhvr additive="repl">
                                        <p:cTn id="378" dur="500"/>
                                        <p:tgtEl>
                                          <p:spTgt spid="1052"/>
                                        </p:tgtEl>
                                      </p:cBhvr>
                                    </p:animEffect>
                                  </p:childTnLst>
                                </p:cTn>
                              </p:par>
                            </p:childTnLst>
                          </p:cTn>
                        </p:par>
                        <p:par>
                          <p:cTn id="379" fill="hold">
                            <p:stCondLst>
                              <p:cond delay="8000"/>
                            </p:stCondLst>
                            <p:childTnLst>
                              <p:par>
                                <p:cTn id="380" nodeType="afterEffect" fill="hold" presetClass="entr" presetID="22" presetSubtype="1">
                                  <p:stCondLst>
                                    <p:cond delay="0"/>
                                  </p:stCondLst>
                                  <p:childTnLst>
                                    <p:set>
                                      <p:cBhvr>
                                        <p:cTn id="381" dur="1" fill="hold">
                                          <p:stCondLst>
                                            <p:cond delay="0"/>
                                          </p:stCondLst>
                                        </p:cTn>
                                        <p:tgtEl>
                                          <p:spTgt spid="1064">
                                            <p:txEl>
                                              <p:pRg st="0" end="0"/>
                                            </p:txEl>
                                          </p:spTgt>
                                        </p:tgtEl>
                                        <p:attrNameLst>
                                          <p:attrName>style.visibility</p:attrName>
                                        </p:attrNameLst>
                                      </p:cBhvr>
                                      <p:to>
                                        <p:strVal val="visible"/>
                                      </p:to>
                                    </p:set>
                                    <p:animEffect filter="wipe(up)" transition="in">
                                      <p:cBhvr additive="repl">
                                        <p:cTn id="382" dur="500"/>
                                        <p:tgtEl>
                                          <p:spTgt spid="1064">
                                            <p:txEl>
                                              <p:pRg st="0" end="0"/>
                                            </p:txEl>
                                          </p:spTgt>
                                        </p:tgtEl>
                                      </p:cBhvr>
                                    </p:animEffect>
                                  </p:childTnLst>
                                </p:cTn>
                              </p:par>
                            </p:childTnLst>
                          </p:cTn>
                        </p:par>
                        <p:par>
                          <p:cTn id="383" fill="hold">
                            <p:stCondLst>
                              <p:cond delay="8500"/>
                            </p:stCondLst>
                            <p:childTnLst>
                              <p:par>
                                <p:cTn id="384" nodeType="afterEffect" fill="hold" presetClass="entr" presetID="22" presetSubtype="8">
                                  <p:stCondLst>
                                    <p:cond delay="0"/>
                                  </p:stCondLst>
                                  <p:childTnLst>
                                    <p:set>
                                      <p:cBhvr>
                                        <p:cTn id="385" dur="1" fill="hold">
                                          <p:stCondLst>
                                            <p:cond delay="0"/>
                                          </p:stCondLst>
                                        </p:cTn>
                                        <p:tgtEl>
                                          <p:spTgt spid="1040"/>
                                        </p:tgtEl>
                                        <p:attrNameLst>
                                          <p:attrName>style.visibility</p:attrName>
                                        </p:attrNameLst>
                                      </p:cBhvr>
                                      <p:to>
                                        <p:strVal val="visible"/>
                                      </p:to>
                                    </p:set>
                                    <p:animEffect filter="wipe(left)" transition="in">
                                      <p:cBhvr additive="repl">
                                        <p:cTn id="386" dur="500"/>
                                        <p:tgtEl>
                                          <p:spTgt spid="1040"/>
                                        </p:tgtEl>
                                      </p:cBhvr>
                                    </p:animEffect>
                                  </p:childTnLst>
                                </p:cTn>
                              </p:par>
                            </p:childTnLst>
                          </p:cTn>
                        </p:par>
                        <p:par>
                          <p:cTn id="387" fill="hold">
                            <p:stCondLst>
                              <p:cond delay="9000"/>
                            </p:stCondLst>
                            <p:childTnLst>
                              <p:par>
                                <p:cTn id="388" nodeType="afterEffect" fill="hold" presetClass="entr" presetID="10">
                                  <p:stCondLst>
                                    <p:cond delay="0"/>
                                  </p:stCondLst>
                                  <p:childTnLst>
                                    <p:set>
                                      <p:cBhvr>
                                        <p:cTn id="389" dur="1" fill="hold">
                                          <p:stCondLst>
                                            <p:cond delay="0"/>
                                          </p:stCondLst>
                                        </p:cTn>
                                        <p:tgtEl>
                                          <p:spTgt spid="1055"/>
                                        </p:tgtEl>
                                        <p:attrNameLst>
                                          <p:attrName>style.visibility</p:attrName>
                                        </p:attrNameLst>
                                      </p:cBhvr>
                                      <p:to>
                                        <p:strVal val="visible"/>
                                      </p:to>
                                    </p:set>
                                    <p:animEffect filter="fade" transition="in">
                                      <p:cBhvr additive="repl">
                                        <p:cTn id="390" dur="500"/>
                                        <p:tgtEl>
                                          <p:spTgt spid="1055"/>
                                        </p:tgtEl>
                                      </p:cBhvr>
                                    </p:animEffect>
                                  </p:childTnLst>
                                </p:cTn>
                              </p:par>
                            </p:childTnLst>
                          </p:cTn>
                        </p:par>
                        <p:par>
                          <p:cTn id="391" fill="hold">
                            <p:stCondLst>
                              <p:cond delay="9500"/>
                            </p:stCondLst>
                            <p:childTnLst>
                              <p:par>
                                <p:cTn id="392" nodeType="afterEffect" fill="hold" presetClass="entr" presetID="10">
                                  <p:stCondLst>
                                    <p:cond delay="0"/>
                                  </p:stCondLst>
                                  <p:childTnLst>
                                    <p:set>
                                      <p:cBhvr>
                                        <p:cTn id="393" dur="1" fill="hold">
                                          <p:stCondLst>
                                            <p:cond delay="0"/>
                                          </p:stCondLst>
                                        </p:cTn>
                                        <p:tgtEl>
                                          <p:spTgt spid="1060">
                                            <p:txEl>
                                              <p:pRg st="0" end="0"/>
                                            </p:txEl>
                                          </p:spTgt>
                                        </p:tgtEl>
                                        <p:attrNameLst>
                                          <p:attrName>style.visibility</p:attrName>
                                        </p:attrNameLst>
                                      </p:cBhvr>
                                      <p:to>
                                        <p:strVal val="visible"/>
                                      </p:to>
                                    </p:set>
                                    <p:animEffect filter="fade" transition="in">
                                      <p:cBhvr additive="repl">
                                        <p:cTn id="394" dur="500"/>
                                        <p:tgtEl>
                                          <p:spTgt spid="1060">
                                            <p:txEl>
                                              <p:pRg st="0" end="0"/>
                                            </p:txEl>
                                          </p:spTgt>
                                        </p:tgtEl>
                                      </p:cBhvr>
                                    </p:animEffect>
                                  </p:childTnLst>
                                </p:cTn>
                              </p:par>
                            </p:childTnLst>
                          </p:cTn>
                        </p:par>
                        <p:par>
                          <p:cTn id="395" fill="hold">
                            <p:stCondLst>
                              <p:cond delay="10000"/>
                            </p:stCondLst>
                            <p:childTnLst>
                              <p:par>
                                <p:cTn id="396" nodeType="afterEffect" fill="hold" presetClass="entr" presetID="10">
                                  <p:stCondLst>
                                    <p:cond delay="0"/>
                                  </p:stCondLst>
                                  <p:childTnLst>
                                    <p:set>
                                      <p:cBhvr>
                                        <p:cTn id="397" dur="1" fill="hold">
                                          <p:stCondLst>
                                            <p:cond delay="0"/>
                                          </p:stCondLst>
                                        </p:cTn>
                                        <p:tgtEl>
                                          <p:spTgt spid="1053"/>
                                        </p:tgtEl>
                                        <p:attrNameLst>
                                          <p:attrName>style.visibility</p:attrName>
                                        </p:attrNameLst>
                                      </p:cBhvr>
                                      <p:to>
                                        <p:strVal val="visible"/>
                                      </p:to>
                                    </p:set>
                                    <p:animEffect filter="fade" transition="in">
                                      <p:cBhvr additive="repl">
                                        <p:cTn id="398" dur="500"/>
                                        <p:tgtEl>
                                          <p:spTgt spid="1053"/>
                                        </p:tgtEl>
                                      </p:cBhvr>
                                    </p:animEffect>
                                  </p:childTnLst>
                                </p:cTn>
                              </p:par>
                            </p:childTnLst>
                          </p:cTn>
                        </p:par>
                        <p:par>
                          <p:cTn id="399" fill="hold">
                            <p:stCondLst>
                              <p:cond delay="10500"/>
                            </p:stCondLst>
                            <p:childTnLst>
                              <p:par>
                                <p:cTn id="400" nodeType="afterEffect" fill="hold" presetClass="entr" presetID="22" presetSubtype="4">
                                  <p:stCondLst>
                                    <p:cond delay="0"/>
                                  </p:stCondLst>
                                  <p:childTnLst>
                                    <p:set>
                                      <p:cBhvr>
                                        <p:cTn id="401" dur="1" fill="hold">
                                          <p:stCondLst>
                                            <p:cond delay="0"/>
                                          </p:stCondLst>
                                        </p:cTn>
                                        <p:tgtEl>
                                          <p:spTgt spid="1062">
                                            <p:txEl>
                                              <p:pRg st="0" end="0"/>
                                            </p:txEl>
                                          </p:spTgt>
                                        </p:tgtEl>
                                        <p:attrNameLst>
                                          <p:attrName>style.visibility</p:attrName>
                                        </p:attrNameLst>
                                      </p:cBhvr>
                                      <p:to>
                                        <p:strVal val="visible"/>
                                      </p:to>
                                    </p:set>
                                    <p:animEffect filter="wipe(down)" transition="in">
                                      <p:cBhvr additive="repl">
                                        <p:cTn id="402" dur="500"/>
                                        <p:tgtEl>
                                          <p:spTgt spid="1062">
                                            <p:txEl>
                                              <p:pRg st="0" end="0"/>
                                            </p:txEl>
                                          </p:spTgt>
                                        </p:tgtEl>
                                      </p:cBhvr>
                                    </p:animEffect>
                                  </p:childTnLst>
                                </p:cTn>
                              </p:par>
                            </p:childTnLst>
                          </p:cTn>
                        </p:par>
                        <p:par>
                          <p:cTn id="403" fill="hold">
                            <p:stCondLst>
                              <p:cond delay="11000"/>
                            </p:stCondLst>
                            <p:childTnLst>
                              <p:par>
                                <p:cTn id="404" nodeType="afterEffect" fill="hold" presetClass="entr" presetID="10">
                                  <p:stCondLst>
                                    <p:cond delay="0"/>
                                  </p:stCondLst>
                                  <p:childTnLst>
                                    <p:set>
                                      <p:cBhvr>
                                        <p:cTn id="405" dur="1" fill="hold">
                                          <p:stCondLst>
                                            <p:cond delay="0"/>
                                          </p:stCondLst>
                                        </p:cTn>
                                        <p:tgtEl>
                                          <p:spTgt spid="1066">
                                            <p:txEl>
                                              <p:pRg st="0" end="0"/>
                                            </p:txEl>
                                          </p:spTgt>
                                        </p:tgtEl>
                                        <p:attrNameLst>
                                          <p:attrName>style.visibility</p:attrName>
                                        </p:attrNameLst>
                                      </p:cBhvr>
                                      <p:to>
                                        <p:strVal val="visible"/>
                                      </p:to>
                                    </p:set>
                                    <p:animEffect filter="fade" transition="in">
                                      <p:cBhvr additive="repl">
                                        <p:cTn id="406" dur="500"/>
                                        <p:tgtEl>
                                          <p:spTgt spid="1066">
                                            <p:txEl>
                                              <p:pRg st="0" end="0"/>
                                            </p:txEl>
                                          </p:spTgt>
                                        </p:tgtEl>
                                      </p:cBhvr>
                                    </p:animEffect>
                                  </p:childTnLst>
                                </p:cTn>
                              </p:par>
                            </p:childTnLst>
                          </p:cTn>
                        </p:par>
                        <p:par>
                          <p:cTn id="407" fill="hold">
                            <p:stCondLst>
                              <p:cond delay="11500"/>
                            </p:stCondLst>
                            <p:childTnLst>
                              <p:par>
                                <p:cTn id="408" nodeType="afterEffect" fill="hold" presetClass="entr" presetID="22" presetSubtype="8">
                                  <p:stCondLst>
                                    <p:cond delay="0"/>
                                  </p:stCondLst>
                                  <p:childTnLst>
                                    <p:set>
                                      <p:cBhvr>
                                        <p:cTn id="409" dur="1" fill="hold">
                                          <p:stCondLst>
                                            <p:cond delay="0"/>
                                          </p:stCondLst>
                                        </p:cTn>
                                        <p:tgtEl>
                                          <p:spTgt spid="1041"/>
                                        </p:tgtEl>
                                        <p:attrNameLst>
                                          <p:attrName>style.visibility</p:attrName>
                                        </p:attrNameLst>
                                      </p:cBhvr>
                                      <p:to>
                                        <p:strVal val="visible"/>
                                      </p:to>
                                    </p:set>
                                    <p:animEffect filter="wipe(left)" transition="in">
                                      <p:cBhvr additive="repl">
                                        <p:cTn id="410" dur="500"/>
                                        <p:tgtEl>
                                          <p:spTgt spid="1041"/>
                                        </p:tgtEl>
                                      </p:cBhvr>
                                    </p:animEffect>
                                  </p:childTnLst>
                                </p:cTn>
                              </p:par>
                            </p:childTnLst>
                          </p:cTn>
                        </p:par>
                        <p:par>
                          <p:cTn id="411" fill="hold">
                            <p:stCondLst>
                              <p:cond delay="12000"/>
                            </p:stCondLst>
                            <p:childTnLst>
                              <p:par>
                                <p:cTn id="412" nodeType="afterEffect" fill="hold" presetClass="entr" presetID="10">
                                  <p:stCondLst>
                                    <p:cond delay="0"/>
                                  </p:stCondLst>
                                  <p:childTnLst>
                                    <p:set>
                                      <p:cBhvr>
                                        <p:cTn id="413"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414" dur="500"/>
                                        <p:tgtEl>
                                          <p:spTgt spid="10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hape 362"/>
          <p:cNvSpPr/>
          <p:nvPr/>
        </p:nvSpPr>
        <p:spPr>
          <a:xfrm>
            <a:off x="11160" y="3914640"/>
            <a:ext cx="18651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75" name="Rectangle 63"/>
          <p:cNvSpPr/>
          <p:nvPr/>
        </p:nvSpPr>
        <p:spPr>
          <a:xfrm>
            <a:off x="893880" y="2309760"/>
            <a:ext cx="2055600" cy="996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76" name="Shape 364"/>
          <p:cNvSpPr/>
          <p:nvPr/>
        </p:nvSpPr>
        <p:spPr>
          <a:xfrm>
            <a:off x="893880" y="3274920"/>
            <a:ext cx="2055600" cy="39384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77" name="Shape 367"/>
          <p:cNvSpPr/>
          <p:nvPr/>
        </p:nvSpPr>
        <p:spPr>
          <a:xfrm>
            <a:off x="1965240" y="3914640"/>
            <a:ext cx="26607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78" name="Shape 368"/>
          <p:cNvSpPr/>
          <p:nvPr/>
        </p:nvSpPr>
        <p:spPr>
          <a:xfrm>
            <a:off x="4714920" y="3914640"/>
            <a:ext cx="266076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79" name="Shape 369"/>
          <p:cNvSpPr/>
          <p:nvPr/>
        </p:nvSpPr>
        <p:spPr>
          <a:xfrm>
            <a:off x="7464600" y="3914640"/>
            <a:ext cx="266040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80" name="Shape 370"/>
          <p:cNvSpPr/>
          <p:nvPr/>
        </p:nvSpPr>
        <p:spPr>
          <a:xfrm>
            <a:off x="10213920" y="3914640"/>
            <a:ext cx="1979640" cy="82800"/>
          </a:xfrm>
          <a:prstGeom prst="rect">
            <a:avLst/>
          </a:prstGeom>
          <a:solidFill>
            <a:srgbClr val="494949">
              <a:alpha val="49000"/>
            </a:srgbClr>
          </a:solidFill>
          <a:ln w="0">
            <a:noFill/>
          </a:ln>
        </p:spPr>
        <p:style>
          <a:lnRef idx="0"/>
          <a:fillRef idx="0"/>
          <a:effectRef idx="0"/>
          <a:fontRef idx="minor"/>
        </p:style>
        <p:txBody>
          <a:bodyPr lIns="50760" rIns="50760" tIns="32040" bIns="3204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81" name="Shape 371"/>
          <p:cNvSpPr/>
          <p:nvPr/>
        </p:nvSpPr>
        <p:spPr>
          <a:xfrm>
            <a:off x="462600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82" name="Shape 372"/>
          <p:cNvSpPr/>
          <p:nvPr/>
        </p:nvSpPr>
        <p:spPr>
          <a:xfrm>
            <a:off x="187632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98a5"/>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83" name="Rectangle 38"/>
          <p:cNvSpPr/>
          <p:nvPr/>
        </p:nvSpPr>
        <p:spPr>
          <a:xfrm>
            <a:off x="3648240" y="4676760"/>
            <a:ext cx="2049120" cy="995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84" name="Shape 374"/>
          <p:cNvSpPr/>
          <p:nvPr/>
        </p:nvSpPr>
        <p:spPr>
          <a:xfrm rot="10800000">
            <a:off x="3643200" y="4295520"/>
            <a:ext cx="2054160" cy="39348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85" name="Shape 377"/>
          <p:cNvSpPr/>
          <p:nvPr/>
        </p:nvSpPr>
        <p:spPr>
          <a:xfrm rot="10800000">
            <a:off x="893880" y="4295520"/>
            <a:ext cx="2055600" cy="8244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1680" bIns="31680" anchor="ctr">
            <a:noAutofit/>
          </a:bodyPr>
          <a:p>
            <a:endParaRPr b="0" lang="en-US" sz="1800" spc="-1" strike="noStrike">
              <a:solidFill>
                <a:srgbClr val="494949"/>
              </a:solidFill>
              <a:latin typeface="Open Sans Light"/>
            </a:endParaRPr>
          </a:p>
        </p:txBody>
      </p:sp>
      <p:sp>
        <p:nvSpPr>
          <p:cNvPr id="1086" name="Shape 381"/>
          <p:cNvSpPr/>
          <p:nvPr/>
        </p:nvSpPr>
        <p:spPr>
          <a:xfrm>
            <a:off x="3643200" y="3589200"/>
            <a:ext cx="2054160" cy="8280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2040" bIns="32040" anchor="ctr">
            <a:noAutofit/>
          </a:bodyPr>
          <a:p>
            <a:endParaRPr b="0" lang="en-US" sz="1800" spc="-1" strike="noStrike">
              <a:solidFill>
                <a:srgbClr val="494949"/>
              </a:solidFill>
              <a:latin typeface="Open Sans Light"/>
            </a:endParaRPr>
          </a:p>
        </p:txBody>
      </p:sp>
      <p:sp>
        <p:nvSpPr>
          <p:cNvPr id="1087" name="Rectangle 160"/>
          <p:cNvSpPr/>
          <p:nvPr/>
        </p:nvSpPr>
        <p:spPr>
          <a:xfrm>
            <a:off x="6400800" y="2316240"/>
            <a:ext cx="2039760" cy="996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88" name="Shape 386"/>
          <p:cNvSpPr/>
          <p:nvPr/>
        </p:nvSpPr>
        <p:spPr>
          <a:xfrm>
            <a:off x="6392880" y="3274920"/>
            <a:ext cx="2054160" cy="39384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89" name="Rectangle 39"/>
          <p:cNvSpPr/>
          <p:nvPr/>
        </p:nvSpPr>
        <p:spPr>
          <a:xfrm>
            <a:off x="9153360" y="4673520"/>
            <a:ext cx="2040120" cy="9972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090" name="Shape 390"/>
          <p:cNvSpPr/>
          <p:nvPr/>
        </p:nvSpPr>
        <p:spPr>
          <a:xfrm rot="10800000">
            <a:off x="9154800" y="4295520"/>
            <a:ext cx="2041560" cy="393480"/>
          </a:xfrm>
          <a:custGeom>
            <a:avLst/>
            <a:gdLst/>
            <a:ahLst/>
            <a:rect l="l" t="t" r="r" b="b"/>
            <a:pathLst>
              <a:path w="21600" h="21600">
                <a:moveTo>
                  <a:pt x="328" y="0"/>
                </a:moveTo>
                <a:cubicBezTo>
                  <a:pt x="147" y="0"/>
                  <a:pt x="0" y="766"/>
                  <a:pt x="0" y="1711"/>
                </a:cubicBezTo>
                <a:lnTo>
                  <a:pt x="0" y="16685"/>
                </a:lnTo>
                <a:cubicBezTo>
                  <a:pt x="0" y="17629"/>
                  <a:pt x="147" y="18395"/>
                  <a:pt x="328" y="18395"/>
                </a:cubicBezTo>
                <a:lnTo>
                  <a:pt x="10225" y="18395"/>
                </a:lnTo>
                <a:lnTo>
                  <a:pt x="10794" y="21600"/>
                </a:lnTo>
                <a:lnTo>
                  <a:pt x="11363" y="18395"/>
                </a:lnTo>
                <a:lnTo>
                  <a:pt x="21272" y="18395"/>
                </a:lnTo>
                <a:cubicBezTo>
                  <a:pt x="21453" y="18395"/>
                  <a:pt x="21600" y="17629"/>
                  <a:pt x="21600" y="16685"/>
                </a:cubicBezTo>
                <a:lnTo>
                  <a:pt x="21600" y="1711"/>
                </a:lnTo>
                <a:cubicBezTo>
                  <a:pt x="21600" y="766"/>
                  <a:pt x="21453" y="0"/>
                  <a:pt x="21272" y="0"/>
                </a:cubicBezTo>
                <a:lnTo>
                  <a:pt x="328"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091" name="Shape 393"/>
          <p:cNvSpPr/>
          <p:nvPr/>
        </p:nvSpPr>
        <p:spPr>
          <a:xfrm rot="10800000">
            <a:off x="6392880" y="4295520"/>
            <a:ext cx="2054160" cy="8244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1680" bIns="31680" anchor="ctr">
            <a:noAutofit/>
          </a:bodyPr>
          <a:p>
            <a:endParaRPr b="0" lang="en-US" sz="1800" spc="-1" strike="noStrike">
              <a:solidFill>
                <a:srgbClr val="494949"/>
              </a:solidFill>
              <a:latin typeface="Open Sans Light"/>
            </a:endParaRPr>
          </a:p>
        </p:txBody>
      </p:sp>
      <p:sp>
        <p:nvSpPr>
          <p:cNvPr id="1092" name="Shape 397"/>
          <p:cNvSpPr/>
          <p:nvPr/>
        </p:nvSpPr>
        <p:spPr>
          <a:xfrm>
            <a:off x="9142560" y="3589200"/>
            <a:ext cx="2054160" cy="82800"/>
          </a:xfrm>
          <a:custGeom>
            <a:avLst/>
            <a:gdLst/>
            <a:ahLst/>
            <a:rect l="l" t="t" r="r" b="b"/>
            <a:pathLst>
              <a:path w="21600" h="21600">
                <a:moveTo>
                  <a:pt x="125" y="0"/>
                </a:moveTo>
                <a:cubicBezTo>
                  <a:pt x="55" y="0"/>
                  <a:pt x="0" y="1376"/>
                  <a:pt x="0" y="3108"/>
                </a:cubicBezTo>
                <a:cubicBezTo>
                  <a:pt x="0" y="4837"/>
                  <a:pt x="55" y="6268"/>
                  <a:pt x="125" y="6268"/>
                </a:cubicBezTo>
                <a:lnTo>
                  <a:pt x="10225" y="6268"/>
                </a:lnTo>
                <a:lnTo>
                  <a:pt x="10794" y="21600"/>
                </a:lnTo>
                <a:lnTo>
                  <a:pt x="11363" y="6268"/>
                </a:lnTo>
                <a:lnTo>
                  <a:pt x="21475" y="6268"/>
                </a:lnTo>
                <a:cubicBezTo>
                  <a:pt x="21545" y="6268"/>
                  <a:pt x="21600" y="4840"/>
                  <a:pt x="21600" y="3108"/>
                </a:cubicBezTo>
                <a:cubicBezTo>
                  <a:pt x="21600" y="1379"/>
                  <a:pt x="21545" y="0"/>
                  <a:pt x="21475" y="0"/>
                </a:cubicBezTo>
                <a:lnTo>
                  <a:pt x="125" y="0"/>
                </a:lnTo>
                <a:close/>
              </a:path>
            </a:pathLst>
          </a:custGeom>
          <a:solidFill>
            <a:srgbClr val="00a09c"/>
          </a:solidFill>
          <a:ln w="0">
            <a:noFill/>
          </a:ln>
        </p:spPr>
        <p:style>
          <a:lnRef idx="0"/>
          <a:fillRef idx="0"/>
          <a:effectRef idx="0"/>
          <a:fontRef idx="minor"/>
        </p:style>
        <p:txBody>
          <a:bodyPr lIns="50760" rIns="50760" tIns="32040" bIns="32040" anchor="ctr">
            <a:noAutofit/>
          </a:bodyPr>
          <a:p>
            <a:endParaRPr b="0" lang="en-US" sz="1800" spc="-1" strike="noStrike">
              <a:solidFill>
                <a:srgbClr val="494949"/>
              </a:solidFill>
              <a:latin typeface="Open Sans Light"/>
            </a:endParaRPr>
          </a:p>
        </p:txBody>
      </p:sp>
      <p:sp>
        <p:nvSpPr>
          <p:cNvPr id="1093" name="Shape 401"/>
          <p:cNvSpPr/>
          <p:nvPr/>
        </p:nvSpPr>
        <p:spPr>
          <a:xfrm>
            <a:off x="737568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94" name="Shape 402"/>
          <p:cNvSpPr/>
          <p:nvPr/>
        </p:nvSpPr>
        <p:spPr>
          <a:xfrm>
            <a:off x="10125000" y="3911760"/>
            <a:ext cx="88920" cy="889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a09c"/>
          </a:solidFill>
          <a:ln w="0">
            <a:noFill/>
          </a:ln>
        </p:spPr>
        <p:style>
          <a:lnRef idx="0"/>
          <a:fillRef idx="0"/>
          <a:effectRef idx="0"/>
          <a:fontRef idx="minor"/>
        </p:style>
        <p:txBody>
          <a:bodyPr lIns="50760" rIns="50760" tIns="38160" bIns="38160" anchor="ctr">
            <a:noAutofit/>
          </a:bodyPr>
          <a:p>
            <a:endParaRPr b="0" lang="en-US" sz="1800" spc="-1" strike="noStrike">
              <a:solidFill>
                <a:srgbClr val="494949"/>
              </a:solidFill>
              <a:latin typeface="Open Sans Light"/>
            </a:endParaRPr>
          </a:p>
        </p:txBody>
      </p:sp>
      <p:sp>
        <p:nvSpPr>
          <p:cNvPr id="1095" name="PlaceHolder 1"/>
          <p:cNvSpPr>
            <a:spLocks noGrp="1"/>
          </p:cNvSpPr>
          <p:nvPr>
            <p:ph/>
          </p:nvPr>
        </p:nvSpPr>
        <p:spPr>
          <a:xfrm>
            <a:off x="6394320" y="327960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6</a:t>
            </a:r>
            <a:endParaRPr b="0" lang="en-US" sz="1200" spc="-1" strike="noStrike">
              <a:solidFill>
                <a:srgbClr val="494949"/>
              </a:solidFill>
              <a:latin typeface="Open Sans Light"/>
            </a:endParaRPr>
          </a:p>
        </p:txBody>
      </p:sp>
      <p:sp>
        <p:nvSpPr>
          <p:cNvPr id="1096" name="PlaceHolder 2"/>
          <p:cNvSpPr>
            <a:spLocks noGrp="1"/>
          </p:cNvSpPr>
          <p:nvPr>
            <p:ph/>
          </p:nvPr>
        </p:nvSpPr>
        <p:spPr>
          <a:xfrm>
            <a:off x="893520" y="3281400"/>
            <a:ext cx="205236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2</a:t>
            </a:r>
            <a:endParaRPr b="0" lang="en-US" sz="1200" spc="-1" strike="noStrike">
              <a:solidFill>
                <a:srgbClr val="494949"/>
              </a:solidFill>
              <a:latin typeface="Open Sans Light"/>
            </a:endParaRPr>
          </a:p>
        </p:txBody>
      </p:sp>
      <p:sp>
        <p:nvSpPr>
          <p:cNvPr id="1097" name="PlaceHolder 3"/>
          <p:cNvSpPr>
            <a:spLocks noGrp="1"/>
          </p:cNvSpPr>
          <p:nvPr>
            <p:ph/>
          </p:nvPr>
        </p:nvSpPr>
        <p:spPr>
          <a:xfrm>
            <a:off x="3646440" y="435924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4</a:t>
            </a:r>
            <a:endParaRPr b="0" lang="en-US" sz="1200" spc="-1" strike="noStrike">
              <a:solidFill>
                <a:srgbClr val="494949"/>
              </a:solidFill>
              <a:latin typeface="Open Sans Light"/>
            </a:endParaRPr>
          </a:p>
        </p:txBody>
      </p:sp>
      <p:sp>
        <p:nvSpPr>
          <p:cNvPr id="1098" name="PlaceHolder 4"/>
          <p:cNvSpPr>
            <a:spLocks noGrp="1"/>
          </p:cNvSpPr>
          <p:nvPr>
            <p:ph/>
          </p:nvPr>
        </p:nvSpPr>
        <p:spPr>
          <a:xfrm>
            <a:off x="9148680" y="4354560"/>
            <a:ext cx="2052720" cy="331920"/>
          </a:xfrm>
          <a:prstGeom prst="rect">
            <a:avLst/>
          </a:prstGeom>
          <a:noFill/>
          <a:ln w="0">
            <a:noFill/>
          </a:ln>
        </p:spPr>
        <p:txBody>
          <a:bodyPr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2018</a:t>
            </a:r>
            <a:endParaRPr b="0" lang="en-US" sz="1200" spc="-1" strike="noStrike">
              <a:solidFill>
                <a:srgbClr val="494949"/>
              </a:solidFill>
              <a:latin typeface="Open Sans Light"/>
            </a:endParaRPr>
          </a:p>
        </p:txBody>
      </p:sp>
      <p:sp>
        <p:nvSpPr>
          <p:cNvPr id="1099" name="PlaceHolder 5"/>
          <p:cNvSpPr>
            <a:spLocks noGrp="1"/>
          </p:cNvSpPr>
          <p:nvPr>
            <p:ph/>
          </p:nvPr>
        </p:nvSpPr>
        <p:spPr>
          <a:xfrm>
            <a:off x="3639600" y="2616120"/>
            <a:ext cx="2054520" cy="7812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a:t>
            </a:r>
            <a:endParaRPr b="0" lang="en-US" sz="1000" spc="-1" strike="noStrike">
              <a:solidFill>
                <a:srgbClr val="494949"/>
              </a:solidFill>
              <a:latin typeface="Open Sans Light"/>
            </a:endParaRPr>
          </a:p>
        </p:txBody>
      </p:sp>
      <p:sp>
        <p:nvSpPr>
          <p:cNvPr id="1100" name="PlaceHolder 6"/>
          <p:cNvSpPr>
            <a:spLocks noGrp="1"/>
          </p:cNvSpPr>
          <p:nvPr>
            <p:ph/>
          </p:nvPr>
        </p:nvSpPr>
        <p:spPr>
          <a:xfrm>
            <a:off x="9153000" y="2560320"/>
            <a:ext cx="2055960" cy="78084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a:t>
            </a:r>
            <a:endParaRPr b="0" lang="en-US" sz="1000" spc="-1" strike="noStrike">
              <a:solidFill>
                <a:srgbClr val="494949"/>
              </a:solidFill>
              <a:latin typeface="Open Sans Light"/>
            </a:endParaRPr>
          </a:p>
        </p:txBody>
      </p:sp>
      <p:sp>
        <p:nvSpPr>
          <p:cNvPr id="1101" name="PlaceHolder 7"/>
          <p:cNvSpPr>
            <a:spLocks noGrp="1"/>
          </p:cNvSpPr>
          <p:nvPr>
            <p:ph/>
          </p:nvPr>
        </p:nvSpPr>
        <p:spPr>
          <a:xfrm>
            <a:off x="893880" y="5009760"/>
            <a:ext cx="2054160" cy="97956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 </a:t>
            </a:r>
            <a:endParaRPr b="0" lang="en-US" sz="1000" spc="-1" strike="noStrike">
              <a:solidFill>
                <a:srgbClr val="494949"/>
              </a:solidFill>
              <a:latin typeface="Open Sans Light"/>
            </a:endParaRPr>
          </a:p>
        </p:txBody>
      </p:sp>
      <p:sp>
        <p:nvSpPr>
          <p:cNvPr id="1102" name="PlaceHolder 8"/>
          <p:cNvSpPr>
            <a:spLocks noGrp="1"/>
          </p:cNvSpPr>
          <p:nvPr>
            <p:ph/>
          </p:nvPr>
        </p:nvSpPr>
        <p:spPr>
          <a:xfrm>
            <a:off x="6400800" y="4954320"/>
            <a:ext cx="2054160" cy="97956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lorem  long hana nken nyan yang here orBody text here or lookoloramet,lorem  long </a:t>
            </a:r>
            <a:endParaRPr b="0" lang="en-US" sz="1000" spc="-1" strike="noStrike">
              <a:solidFill>
                <a:srgbClr val="494949"/>
              </a:solidFill>
              <a:latin typeface="Open Sans Light"/>
            </a:endParaRPr>
          </a:p>
        </p:txBody>
      </p:sp>
      <p:sp>
        <p:nvSpPr>
          <p:cNvPr id="1103" name="Rectangle 42"/>
          <p:cNvSpPr/>
          <p:nvPr/>
        </p:nvSpPr>
        <p:spPr>
          <a:xfrm>
            <a:off x="5697360" y="1133640"/>
            <a:ext cx="703440" cy="133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04" name="PlaceHolder 9"/>
          <p:cNvSpPr>
            <a:spLocks noGrp="1"/>
          </p:cNvSpPr>
          <p:nvPr>
            <p:ph/>
          </p:nvPr>
        </p:nvSpPr>
        <p:spPr>
          <a:xfrm>
            <a:off x="1090440" y="4629240"/>
            <a:ext cx="1524240" cy="257040"/>
          </a:xfrm>
          <a:prstGeom prst="rect">
            <a:avLst/>
          </a:prstGeom>
          <a:noFill/>
          <a:ln w="0">
            <a:noFill/>
          </a:ln>
        </p:spPr>
        <p:txBody>
          <a:bodyPr anchor="ctr">
            <a:normAutofit/>
          </a:bodyPr>
          <a:p>
            <a:pPr indent="0" algn="ctr">
              <a:lnSpc>
                <a:spcPct val="8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898989"/>
                </a:solidFill>
                <a:latin typeface="Lato Heavy"/>
              </a:rPr>
              <a:t>AWARD</a:t>
            </a:r>
            <a:endParaRPr b="0" lang="en-US" sz="1300" spc="-1" strike="noStrike">
              <a:solidFill>
                <a:srgbClr val="494949"/>
              </a:solidFill>
              <a:latin typeface="Open Sans Light"/>
            </a:endParaRPr>
          </a:p>
        </p:txBody>
      </p:sp>
      <p:sp>
        <p:nvSpPr>
          <p:cNvPr id="1105" name="PlaceHolder 10"/>
          <p:cNvSpPr>
            <a:spLocks noGrp="1"/>
          </p:cNvSpPr>
          <p:nvPr>
            <p:ph/>
          </p:nvPr>
        </p:nvSpPr>
        <p:spPr>
          <a:xfrm>
            <a:off x="6663960" y="4535640"/>
            <a:ext cx="1523880" cy="257040"/>
          </a:xfrm>
          <a:prstGeom prst="rect">
            <a:avLst/>
          </a:prstGeom>
          <a:noFill/>
          <a:ln w="0">
            <a:noFill/>
          </a:ln>
        </p:spPr>
        <p:txBody>
          <a:bodyPr anchor="ctr">
            <a:normAutofit fontScale="86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GO GLOBAL</a:t>
            </a:r>
            <a:endParaRPr b="0" lang="en-US" sz="1400" spc="-1" strike="noStrike">
              <a:solidFill>
                <a:srgbClr val="494949"/>
              </a:solidFill>
              <a:latin typeface="Open Sans Light"/>
            </a:endParaRPr>
          </a:p>
        </p:txBody>
      </p:sp>
      <p:sp>
        <p:nvSpPr>
          <p:cNvPr id="1106" name="PlaceHolder 11"/>
          <p:cNvSpPr>
            <a:spLocks noGrp="1"/>
          </p:cNvSpPr>
          <p:nvPr>
            <p:ph/>
          </p:nvPr>
        </p:nvSpPr>
        <p:spPr>
          <a:xfrm>
            <a:off x="3730320" y="2304720"/>
            <a:ext cx="1888920" cy="245880"/>
          </a:xfrm>
          <a:prstGeom prst="rect">
            <a:avLst/>
          </a:prstGeom>
          <a:noFill/>
          <a:ln w="0">
            <a:noFill/>
          </a:ln>
        </p:spPr>
        <p:txBody>
          <a:bodyPr anchor="ctr">
            <a:normAutofit fontScale="80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NEW INVESTORS</a:t>
            </a:r>
            <a:endParaRPr b="0" lang="en-US" sz="1400" spc="-1" strike="noStrike">
              <a:solidFill>
                <a:srgbClr val="494949"/>
              </a:solidFill>
              <a:latin typeface="Open Sans Light"/>
            </a:endParaRPr>
          </a:p>
        </p:txBody>
      </p:sp>
      <p:sp>
        <p:nvSpPr>
          <p:cNvPr id="1107" name="PlaceHolder 12"/>
          <p:cNvSpPr>
            <a:spLocks noGrp="1"/>
          </p:cNvSpPr>
          <p:nvPr>
            <p:ph/>
          </p:nvPr>
        </p:nvSpPr>
        <p:spPr>
          <a:xfrm>
            <a:off x="9394560" y="2304720"/>
            <a:ext cx="1523880" cy="245880"/>
          </a:xfrm>
          <a:prstGeom prst="rect">
            <a:avLst/>
          </a:prstGeom>
          <a:noFill/>
          <a:ln w="0">
            <a:noFill/>
          </a:ln>
        </p:spPr>
        <p:txBody>
          <a:bodyPr anchor="ctr">
            <a:normAutofit fontScale="80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WE ARE HERE</a:t>
            </a:r>
            <a:endParaRPr b="0" lang="en-US" sz="1400" spc="-1" strike="noStrike">
              <a:solidFill>
                <a:srgbClr val="494949"/>
              </a:solidFill>
              <a:latin typeface="Open Sans Light"/>
            </a:endParaRPr>
          </a:p>
        </p:txBody>
      </p:sp>
      <p:pic>
        <p:nvPicPr>
          <p:cNvPr id="1108" name="" descr=""/>
          <p:cNvPicPr/>
          <p:nvPr/>
        </p:nvPicPr>
        <p:blipFill>
          <a:blip r:embed="rId1"/>
          <a:stretch/>
        </p:blipFill>
        <p:spPr>
          <a:xfrm>
            <a:off x="893880" y="2315880"/>
            <a:ext cx="2055600" cy="990360"/>
          </a:xfrm>
          <a:prstGeom prst="rect">
            <a:avLst/>
          </a:prstGeom>
          <a:ln w="0">
            <a:noFill/>
          </a:ln>
        </p:spPr>
      </p:pic>
      <p:pic>
        <p:nvPicPr>
          <p:cNvPr id="1109" name="" descr=""/>
          <p:cNvPicPr/>
          <p:nvPr/>
        </p:nvPicPr>
        <p:blipFill>
          <a:blip r:embed="rId2"/>
          <a:stretch/>
        </p:blipFill>
        <p:spPr>
          <a:xfrm>
            <a:off x="6400800" y="2315880"/>
            <a:ext cx="2054160" cy="990360"/>
          </a:xfrm>
          <a:prstGeom prst="rect">
            <a:avLst/>
          </a:prstGeom>
          <a:ln w="0">
            <a:noFill/>
          </a:ln>
        </p:spPr>
      </p:pic>
      <p:pic>
        <p:nvPicPr>
          <p:cNvPr id="1110" name="" descr=""/>
          <p:cNvPicPr/>
          <p:nvPr/>
        </p:nvPicPr>
        <p:blipFill>
          <a:blip r:embed="rId3"/>
          <a:stretch/>
        </p:blipFill>
        <p:spPr>
          <a:xfrm>
            <a:off x="3648240" y="4680000"/>
            <a:ext cx="2054160" cy="990720"/>
          </a:xfrm>
          <a:prstGeom prst="rect">
            <a:avLst/>
          </a:prstGeom>
          <a:ln w="0">
            <a:noFill/>
          </a:ln>
        </p:spPr>
      </p:pic>
      <p:pic>
        <p:nvPicPr>
          <p:cNvPr id="1111" name="" descr=""/>
          <p:cNvPicPr/>
          <p:nvPr/>
        </p:nvPicPr>
        <p:blipFill>
          <a:blip r:embed="rId4"/>
          <a:stretch/>
        </p:blipFill>
        <p:spPr>
          <a:xfrm>
            <a:off x="9153000" y="4680000"/>
            <a:ext cx="2055960" cy="990720"/>
          </a:xfrm>
          <a:prstGeom prst="rect">
            <a:avLst/>
          </a:prstGeom>
          <a:ln w="0">
            <a:noFill/>
          </a:ln>
        </p:spPr>
      </p:pic>
    </p:spTree>
  </p:cSld>
  <p:transition spd="med">
    <p:fade/>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074"/>
                                        </p:tgtEl>
                                        <p:attrNameLst>
                                          <p:attrName>style.visibility</p:attrName>
                                        </p:attrNameLst>
                                      </p:cBhvr>
                                      <p:to>
                                        <p:strVal val="visible"/>
                                      </p:to>
                                    </p:set>
                                    <p:animEffect filter="wipe(left)" transition="in">
                                      <p:cBhvr additive="repl">
                                        <p:cTn id="421" dur="500"/>
                                        <p:tgtEl>
                                          <p:spTgt spid="1074"/>
                                        </p:tgtEl>
                                      </p:cBhvr>
                                    </p:animEffect>
                                  </p:childTnLst>
                                </p:cTn>
                              </p:par>
                            </p:childTnLst>
                          </p:cTn>
                        </p:par>
                        <p:par>
                          <p:cTn id="422" fill="hold">
                            <p:stCondLst>
                              <p:cond delay="500"/>
                            </p:stCondLst>
                            <p:childTnLst>
                              <p:par>
                                <p:cTn id="423" nodeType="afterEffect" fill="hold" presetClass="entr" presetID="10">
                                  <p:stCondLst>
                                    <p:cond delay="0"/>
                                  </p:stCondLst>
                                  <p:childTnLst>
                                    <p:set>
                                      <p:cBhvr>
                                        <p:cTn id="424" dur="1" fill="hold">
                                          <p:stCondLst>
                                            <p:cond delay="0"/>
                                          </p:stCondLst>
                                        </p:cTn>
                                        <p:tgtEl>
                                          <p:spTgt spid="1082"/>
                                        </p:tgtEl>
                                        <p:attrNameLst>
                                          <p:attrName>style.visibility</p:attrName>
                                        </p:attrNameLst>
                                      </p:cBhvr>
                                      <p:to>
                                        <p:strVal val="visible"/>
                                      </p:to>
                                    </p:set>
                                    <p:animEffect filter="fade" transition="in">
                                      <p:cBhvr additive="repl">
                                        <p:cTn id="425" dur="500"/>
                                        <p:tgtEl>
                                          <p:spTgt spid="1082"/>
                                        </p:tgtEl>
                                      </p:cBhvr>
                                    </p:animEffect>
                                  </p:childTnLst>
                                </p:cTn>
                              </p:par>
                            </p:childTnLst>
                          </p:cTn>
                        </p:par>
                        <p:par>
                          <p:cTn id="426" fill="hold">
                            <p:stCondLst>
                              <p:cond delay="1000"/>
                            </p:stCondLst>
                            <p:childTnLst>
                              <p:par>
                                <p:cTn id="427" nodeType="afterEffect" fill="hold" presetClass="entr" presetID="10">
                                  <p:stCondLst>
                                    <p:cond delay="0"/>
                                  </p:stCondLst>
                                  <p:childTnLst>
                                    <p:set>
                                      <p:cBhvr>
                                        <p:cTn id="428" dur="1" fill="hold">
                                          <p:stCondLst>
                                            <p:cond delay="0"/>
                                          </p:stCondLst>
                                        </p:cTn>
                                        <p:tgtEl>
                                          <p:spTgt spid="1096">
                                            <p:txEl>
                                              <p:pRg st="0" end="0"/>
                                            </p:txEl>
                                          </p:spTgt>
                                        </p:tgtEl>
                                        <p:attrNameLst>
                                          <p:attrName>style.visibility</p:attrName>
                                        </p:attrNameLst>
                                      </p:cBhvr>
                                      <p:to>
                                        <p:strVal val="visible"/>
                                      </p:to>
                                    </p:set>
                                    <p:animEffect filter="fade" transition="in">
                                      <p:cBhvr additive="repl">
                                        <p:cTn id="429" dur="500"/>
                                        <p:tgtEl>
                                          <p:spTgt spid="1096">
                                            <p:txEl>
                                              <p:pRg st="0" end="0"/>
                                            </p:txEl>
                                          </p:spTgt>
                                        </p:tgtEl>
                                      </p:cBhvr>
                                    </p:animEffect>
                                  </p:childTnLst>
                                </p:cTn>
                              </p:par>
                            </p:childTnLst>
                          </p:cTn>
                        </p:par>
                        <p:par>
                          <p:cTn id="430" fill="hold">
                            <p:stCondLst>
                              <p:cond delay="1500"/>
                            </p:stCondLst>
                            <p:childTnLst>
                              <p:par>
                                <p:cTn id="431" nodeType="afterEffect" fill="hold" presetClass="entr" presetID="10">
                                  <p:stCondLst>
                                    <p:cond delay="0"/>
                                  </p:stCondLst>
                                  <p:childTnLst>
                                    <p:set>
                                      <p:cBhvr>
                                        <p:cTn id="432" dur="1" fill="hold">
                                          <p:stCondLst>
                                            <p:cond delay="0"/>
                                          </p:stCondLst>
                                        </p:cTn>
                                        <p:tgtEl>
                                          <p:spTgt spid="1085"/>
                                        </p:tgtEl>
                                        <p:attrNameLst>
                                          <p:attrName>style.visibility</p:attrName>
                                        </p:attrNameLst>
                                      </p:cBhvr>
                                      <p:to>
                                        <p:strVal val="visible"/>
                                      </p:to>
                                    </p:set>
                                    <p:animEffect filter="fade" transition="in">
                                      <p:cBhvr additive="repl">
                                        <p:cTn id="433" dur="500"/>
                                        <p:tgtEl>
                                          <p:spTgt spid="1085"/>
                                        </p:tgtEl>
                                      </p:cBhvr>
                                    </p:animEffect>
                                  </p:childTnLst>
                                </p:cTn>
                              </p:par>
                            </p:childTnLst>
                          </p:cTn>
                        </p:par>
                        <p:par>
                          <p:cTn id="434" fill="hold">
                            <p:stCondLst>
                              <p:cond delay="2000"/>
                            </p:stCondLst>
                            <p:childTnLst>
                              <p:par>
                                <p:cTn id="435" nodeType="afterEffect" fill="hold" presetClass="entr" presetID="22" presetSubtype="1">
                                  <p:stCondLst>
                                    <p:cond delay="0"/>
                                  </p:stCondLst>
                                  <p:childTnLst>
                                    <p:set>
                                      <p:cBhvr>
                                        <p:cTn id="436" dur="1" fill="hold">
                                          <p:stCondLst>
                                            <p:cond delay="0"/>
                                          </p:stCondLst>
                                        </p:cTn>
                                        <p:tgtEl>
                                          <p:spTgt spid="1101">
                                            <p:txEl>
                                              <p:pRg st="0" end="0"/>
                                            </p:txEl>
                                          </p:spTgt>
                                        </p:tgtEl>
                                        <p:attrNameLst>
                                          <p:attrName>style.visibility</p:attrName>
                                        </p:attrNameLst>
                                      </p:cBhvr>
                                      <p:to>
                                        <p:strVal val="visible"/>
                                      </p:to>
                                    </p:set>
                                    <p:animEffect filter="wipe(up)" transition="in">
                                      <p:cBhvr additive="repl">
                                        <p:cTn id="437" dur="500"/>
                                        <p:tgtEl>
                                          <p:spTgt spid="1101">
                                            <p:txEl>
                                              <p:pRg st="0" end="0"/>
                                            </p:txEl>
                                          </p:spTgt>
                                        </p:tgtEl>
                                      </p:cBhvr>
                                    </p:animEffect>
                                  </p:childTnLst>
                                </p:cTn>
                              </p:par>
                            </p:childTnLst>
                          </p:cTn>
                        </p:par>
                        <p:par>
                          <p:cTn id="438" fill="hold">
                            <p:stCondLst>
                              <p:cond delay="2500"/>
                            </p:stCondLst>
                            <p:childTnLst>
                              <p:par>
                                <p:cTn id="439" nodeType="afterEffect" fill="hold" presetClass="entr" presetID="22" presetSubtype="8">
                                  <p:stCondLst>
                                    <p:cond delay="0"/>
                                  </p:stCondLst>
                                  <p:childTnLst>
                                    <p:set>
                                      <p:cBhvr>
                                        <p:cTn id="440" dur="1" fill="hold">
                                          <p:stCondLst>
                                            <p:cond delay="0"/>
                                          </p:stCondLst>
                                        </p:cTn>
                                        <p:tgtEl>
                                          <p:spTgt spid="1077"/>
                                        </p:tgtEl>
                                        <p:attrNameLst>
                                          <p:attrName>style.visibility</p:attrName>
                                        </p:attrNameLst>
                                      </p:cBhvr>
                                      <p:to>
                                        <p:strVal val="visible"/>
                                      </p:to>
                                    </p:set>
                                    <p:animEffect filter="wipe(left)" transition="in">
                                      <p:cBhvr additive="repl">
                                        <p:cTn id="441" dur="500"/>
                                        <p:tgtEl>
                                          <p:spTgt spid="1077"/>
                                        </p:tgtEl>
                                      </p:cBhvr>
                                    </p:animEffect>
                                  </p:childTnLst>
                                </p:cTn>
                              </p:par>
                            </p:childTnLst>
                          </p:cTn>
                        </p:par>
                        <p:par>
                          <p:cTn id="442" fill="hold">
                            <p:stCondLst>
                              <p:cond delay="3000"/>
                            </p:stCondLst>
                            <p:childTnLst>
                              <p:par>
                                <p:cTn id="443" nodeType="afterEffect" fill="hold" presetClass="entr" presetID="10">
                                  <p:stCondLst>
                                    <p:cond delay="0"/>
                                  </p:stCondLst>
                                  <p:childTnLst>
                                    <p:set>
                                      <p:cBhvr>
                                        <p:cTn id="444" dur="1" fill="hold">
                                          <p:stCondLst>
                                            <p:cond delay="0"/>
                                          </p:stCondLst>
                                        </p:cTn>
                                        <p:tgtEl>
                                          <p:spTgt spid="1081"/>
                                        </p:tgtEl>
                                        <p:attrNameLst>
                                          <p:attrName>style.visibility</p:attrName>
                                        </p:attrNameLst>
                                      </p:cBhvr>
                                      <p:to>
                                        <p:strVal val="visible"/>
                                      </p:to>
                                    </p:set>
                                    <p:animEffect filter="fade" transition="in">
                                      <p:cBhvr additive="repl">
                                        <p:cTn id="445" dur="500"/>
                                        <p:tgtEl>
                                          <p:spTgt spid="1081"/>
                                        </p:tgtEl>
                                      </p:cBhvr>
                                    </p:animEffect>
                                  </p:childTnLst>
                                </p:cTn>
                              </p:par>
                            </p:childTnLst>
                          </p:cTn>
                        </p:par>
                        <p:par>
                          <p:cTn id="446" fill="hold">
                            <p:stCondLst>
                              <p:cond delay="3500"/>
                            </p:stCondLst>
                            <p:childTnLst>
                              <p:par>
                                <p:cTn id="447" nodeType="afterEffect" fill="hold" presetClass="entr" presetID="10">
                                  <p:stCondLst>
                                    <p:cond delay="0"/>
                                  </p:stCondLst>
                                  <p:childTnLst>
                                    <p:set>
                                      <p:cBhvr>
                                        <p:cTn id="448" dur="1" fill="hold">
                                          <p:stCondLst>
                                            <p:cond delay="0"/>
                                          </p:stCondLst>
                                        </p:cTn>
                                        <p:tgtEl>
                                          <p:spTgt spid="1097">
                                            <p:txEl>
                                              <p:pRg st="0" end="0"/>
                                            </p:txEl>
                                          </p:spTgt>
                                        </p:tgtEl>
                                        <p:attrNameLst>
                                          <p:attrName>style.visibility</p:attrName>
                                        </p:attrNameLst>
                                      </p:cBhvr>
                                      <p:to>
                                        <p:strVal val="visible"/>
                                      </p:to>
                                    </p:set>
                                    <p:animEffect filter="fade" transition="in">
                                      <p:cBhvr additive="repl">
                                        <p:cTn id="449" dur="500"/>
                                        <p:tgtEl>
                                          <p:spTgt spid="1097">
                                            <p:txEl>
                                              <p:pRg st="0" end="0"/>
                                            </p:txEl>
                                          </p:spTgt>
                                        </p:tgtEl>
                                      </p:cBhvr>
                                    </p:animEffect>
                                  </p:childTnLst>
                                </p:cTn>
                              </p:par>
                            </p:childTnLst>
                          </p:cTn>
                        </p:par>
                        <p:par>
                          <p:cTn id="450" fill="hold">
                            <p:stCondLst>
                              <p:cond delay="4000"/>
                            </p:stCondLst>
                            <p:childTnLst>
                              <p:par>
                                <p:cTn id="451" nodeType="afterEffect" fill="hold" presetClass="entr" presetID="10">
                                  <p:stCondLst>
                                    <p:cond delay="0"/>
                                  </p:stCondLst>
                                  <p:childTnLst>
                                    <p:set>
                                      <p:cBhvr>
                                        <p:cTn id="452" dur="1" fill="hold">
                                          <p:stCondLst>
                                            <p:cond delay="0"/>
                                          </p:stCondLst>
                                        </p:cTn>
                                        <p:tgtEl>
                                          <p:spTgt spid="1086"/>
                                        </p:tgtEl>
                                        <p:attrNameLst>
                                          <p:attrName>style.visibility</p:attrName>
                                        </p:attrNameLst>
                                      </p:cBhvr>
                                      <p:to>
                                        <p:strVal val="visible"/>
                                      </p:to>
                                    </p:set>
                                    <p:animEffect filter="fade" transition="in">
                                      <p:cBhvr additive="repl">
                                        <p:cTn id="453" dur="500"/>
                                        <p:tgtEl>
                                          <p:spTgt spid="1086"/>
                                        </p:tgtEl>
                                      </p:cBhvr>
                                    </p:animEffect>
                                  </p:childTnLst>
                                </p:cTn>
                              </p:par>
                            </p:childTnLst>
                          </p:cTn>
                        </p:par>
                        <p:par>
                          <p:cTn id="454" fill="hold">
                            <p:stCondLst>
                              <p:cond delay="4500"/>
                            </p:stCondLst>
                            <p:childTnLst>
                              <p:par>
                                <p:cTn id="455" nodeType="afterEffect" fill="hold" presetClass="entr" presetID="22" presetSubtype="4">
                                  <p:stCondLst>
                                    <p:cond delay="0"/>
                                  </p:stCondLst>
                                  <p:childTnLst>
                                    <p:set>
                                      <p:cBhvr>
                                        <p:cTn id="456" dur="1" fill="hold">
                                          <p:stCondLst>
                                            <p:cond delay="0"/>
                                          </p:stCondLst>
                                        </p:cTn>
                                        <p:tgtEl>
                                          <p:spTgt spid="1099">
                                            <p:txEl>
                                              <p:pRg st="0" end="0"/>
                                            </p:txEl>
                                          </p:spTgt>
                                        </p:tgtEl>
                                        <p:attrNameLst>
                                          <p:attrName>style.visibility</p:attrName>
                                        </p:attrNameLst>
                                      </p:cBhvr>
                                      <p:to>
                                        <p:strVal val="visible"/>
                                      </p:to>
                                    </p:set>
                                    <p:animEffect filter="wipe(down)" transition="in">
                                      <p:cBhvr additive="repl">
                                        <p:cTn id="457" dur="500"/>
                                        <p:tgtEl>
                                          <p:spTgt spid="1099">
                                            <p:txEl>
                                              <p:pRg st="0" end="0"/>
                                            </p:txEl>
                                          </p:spTgt>
                                        </p:tgtEl>
                                      </p:cBhvr>
                                    </p:animEffect>
                                  </p:childTnLst>
                                </p:cTn>
                              </p:par>
                            </p:childTnLst>
                          </p:cTn>
                        </p:par>
                        <p:par>
                          <p:cTn id="458" fill="hold">
                            <p:stCondLst>
                              <p:cond delay="5000"/>
                            </p:stCondLst>
                            <p:childTnLst>
                              <p:par>
                                <p:cTn id="459" nodeType="afterEffect" fill="hold" presetClass="entr" presetID="22" presetSubtype="8">
                                  <p:stCondLst>
                                    <p:cond delay="0"/>
                                  </p:stCondLst>
                                  <p:childTnLst>
                                    <p:set>
                                      <p:cBhvr>
                                        <p:cTn id="460" dur="1" fill="hold">
                                          <p:stCondLst>
                                            <p:cond delay="0"/>
                                          </p:stCondLst>
                                        </p:cTn>
                                        <p:tgtEl>
                                          <p:spTgt spid="1078"/>
                                        </p:tgtEl>
                                        <p:attrNameLst>
                                          <p:attrName>style.visibility</p:attrName>
                                        </p:attrNameLst>
                                      </p:cBhvr>
                                      <p:to>
                                        <p:strVal val="visible"/>
                                      </p:to>
                                    </p:set>
                                    <p:animEffect filter="wipe(left)" transition="in">
                                      <p:cBhvr additive="repl">
                                        <p:cTn id="461" dur="500"/>
                                        <p:tgtEl>
                                          <p:spTgt spid="1078"/>
                                        </p:tgtEl>
                                      </p:cBhvr>
                                    </p:animEffect>
                                  </p:childTnLst>
                                </p:cTn>
                              </p:par>
                            </p:childTnLst>
                          </p:cTn>
                        </p:par>
                        <p:par>
                          <p:cTn id="462" fill="hold">
                            <p:stCondLst>
                              <p:cond delay="5500"/>
                            </p:stCondLst>
                            <p:childTnLst>
                              <p:par>
                                <p:cTn id="463" nodeType="afterEffect" fill="hold" presetClass="entr" presetID="10">
                                  <p:stCondLst>
                                    <p:cond delay="0"/>
                                  </p:stCondLst>
                                  <p:childTnLst>
                                    <p:set>
                                      <p:cBhvr>
                                        <p:cTn id="464" dur="1" fill="hold">
                                          <p:stCondLst>
                                            <p:cond delay="0"/>
                                          </p:stCondLst>
                                        </p:cTn>
                                        <p:tgtEl>
                                          <p:spTgt spid="1093"/>
                                        </p:tgtEl>
                                        <p:attrNameLst>
                                          <p:attrName>style.visibility</p:attrName>
                                        </p:attrNameLst>
                                      </p:cBhvr>
                                      <p:to>
                                        <p:strVal val="visible"/>
                                      </p:to>
                                    </p:set>
                                    <p:animEffect filter="fade" transition="in">
                                      <p:cBhvr additive="repl">
                                        <p:cTn id="465" dur="500"/>
                                        <p:tgtEl>
                                          <p:spTgt spid="1093"/>
                                        </p:tgtEl>
                                      </p:cBhvr>
                                    </p:animEffect>
                                  </p:childTnLst>
                                </p:cTn>
                              </p:par>
                            </p:childTnLst>
                          </p:cTn>
                        </p:par>
                        <p:par>
                          <p:cTn id="466" fill="hold">
                            <p:stCondLst>
                              <p:cond delay="6000"/>
                            </p:stCondLst>
                            <p:childTnLst>
                              <p:par>
                                <p:cTn id="467" nodeType="afterEffect" fill="hold" presetClass="entr" presetID="10">
                                  <p:stCondLst>
                                    <p:cond delay="0"/>
                                  </p:stCondLst>
                                  <p:childTnLst>
                                    <p:set>
                                      <p:cBhvr>
                                        <p:cTn id="468" dur="1" fill="hold">
                                          <p:stCondLst>
                                            <p:cond delay="0"/>
                                          </p:stCondLst>
                                        </p:cTn>
                                        <p:tgtEl>
                                          <p:spTgt spid="1095">
                                            <p:txEl>
                                              <p:pRg st="0" end="0"/>
                                            </p:txEl>
                                          </p:spTgt>
                                        </p:tgtEl>
                                        <p:attrNameLst>
                                          <p:attrName>style.visibility</p:attrName>
                                        </p:attrNameLst>
                                      </p:cBhvr>
                                      <p:to>
                                        <p:strVal val="visible"/>
                                      </p:to>
                                    </p:set>
                                    <p:animEffect filter="fade" transition="in">
                                      <p:cBhvr additive="repl">
                                        <p:cTn id="469" dur="500"/>
                                        <p:tgtEl>
                                          <p:spTgt spid="1095">
                                            <p:txEl>
                                              <p:pRg st="0" end="0"/>
                                            </p:txEl>
                                          </p:spTgt>
                                        </p:tgtEl>
                                      </p:cBhvr>
                                    </p:animEffect>
                                  </p:childTnLst>
                                </p:cTn>
                              </p:par>
                            </p:childTnLst>
                          </p:cTn>
                        </p:par>
                        <p:par>
                          <p:cTn id="470" fill="hold">
                            <p:stCondLst>
                              <p:cond delay="6500"/>
                            </p:stCondLst>
                            <p:childTnLst>
                              <p:par>
                                <p:cTn id="471" nodeType="afterEffect" fill="hold" presetClass="entr" presetID="10">
                                  <p:stCondLst>
                                    <p:cond delay="0"/>
                                  </p:stCondLst>
                                  <p:childTnLst>
                                    <p:set>
                                      <p:cBhvr>
                                        <p:cTn id="472" dur="1" fill="hold">
                                          <p:stCondLst>
                                            <p:cond delay="0"/>
                                          </p:stCondLst>
                                        </p:cTn>
                                        <p:tgtEl>
                                          <p:spTgt spid="1091"/>
                                        </p:tgtEl>
                                        <p:attrNameLst>
                                          <p:attrName>style.visibility</p:attrName>
                                        </p:attrNameLst>
                                      </p:cBhvr>
                                      <p:to>
                                        <p:strVal val="visible"/>
                                      </p:to>
                                    </p:set>
                                    <p:animEffect filter="fade" transition="in">
                                      <p:cBhvr additive="repl">
                                        <p:cTn id="473" dur="500"/>
                                        <p:tgtEl>
                                          <p:spTgt spid="1091"/>
                                        </p:tgtEl>
                                      </p:cBhvr>
                                    </p:animEffect>
                                  </p:childTnLst>
                                </p:cTn>
                              </p:par>
                            </p:childTnLst>
                          </p:cTn>
                        </p:par>
                        <p:par>
                          <p:cTn id="474" fill="hold">
                            <p:stCondLst>
                              <p:cond delay="7000"/>
                            </p:stCondLst>
                            <p:childTnLst>
                              <p:par>
                                <p:cTn id="475" nodeType="afterEffect" fill="hold" presetClass="entr" presetID="22" presetSubtype="1">
                                  <p:stCondLst>
                                    <p:cond delay="0"/>
                                  </p:stCondLst>
                                  <p:childTnLst>
                                    <p:set>
                                      <p:cBhvr>
                                        <p:cTn id="476" dur="1" fill="hold">
                                          <p:stCondLst>
                                            <p:cond delay="0"/>
                                          </p:stCondLst>
                                        </p:cTn>
                                        <p:tgtEl>
                                          <p:spTgt spid="1102">
                                            <p:txEl>
                                              <p:pRg st="0" end="0"/>
                                            </p:txEl>
                                          </p:spTgt>
                                        </p:tgtEl>
                                        <p:attrNameLst>
                                          <p:attrName>style.visibility</p:attrName>
                                        </p:attrNameLst>
                                      </p:cBhvr>
                                      <p:to>
                                        <p:strVal val="visible"/>
                                      </p:to>
                                    </p:set>
                                    <p:animEffect filter="wipe(up)" transition="in">
                                      <p:cBhvr additive="repl">
                                        <p:cTn id="477" dur="500"/>
                                        <p:tgtEl>
                                          <p:spTgt spid="1102">
                                            <p:txEl>
                                              <p:pRg st="0" end="0"/>
                                            </p:txEl>
                                          </p:spTgt>
                                        </p:tgtEl>
                                      </p:cBhvr>
                                    </p:animEffect>
                                  </p:childTnLst>
                                </p:cTn>
                              </p:par>
                            </p:childTnLst>
                          </p:cTn>
                        </p:par>
                        <p:par>
                          <p:cTn id="478" fill="hold">
                            <p:stCondLst>
                              <p:cond delay="7500"/>
                            </p:stCondLst>
                            <p:childTnLst>
                              <p:par>
                                <p:cTn id="479" nodeType="afterEffect" fill="hold" presetClass="entr" presetID="22" presetSubtype="8">
                                  <p:stCondLst>
                                    <p:cond delay="0"/>
                                  </p:stCondLst>
                                  <p:childTnLst>
                                    <p:set>
                                      <p:cBhvr>
                                        <p:cTn id="480" dur="1" fill="hold">
                                          <p:stCondLst>
                                            <p:cond delay="0"/>
                                          </p:stCondLst>
                                        </p:cTn>
                                        <p:tgtEl>
                                          <p:spTgt spid="1079"/>
                                        </p:tgtEl>
                                        <p:attrNameLst>
                                          <p:attrName>style.visibility</p:attrName>
                                        </p:attrNameLst>
                                      </p:cBhvr>
                                      <p:to>
                                        <p:strVal val="visible"/>
                                      </p:to>
                                    </p:set>
                                    <p:animEffect filter="wipe(left)" transition="in">
                                      <p:cBhvr additive="repl">
                                        <p:cTn id="481" dur="500"/>
                                        <p:tgtEl>
                                          <p:spTgt spid="1079"/>
                                        </p:tgtEl>
                                      </p:cBhvr>
                                    </p:animEffect>
                                  </p:childTnLst>
                                </p:cTn>
                              </p:par>
                            </p:childTnLst>
                          </p:cTn>
                        </p:par>
                        <p:par>
                          <p:cTn id="482" fill="hold">
                            <p:stCondLst>
                              <p:cond delay="8000"/>
                            </p:stCondLst>
                            <p:childTnLst>
                              <p:par>
                                <p:cTn id="483" nodeType="afterEffect" fill="hold" presetClass="entr" presetID="10">
                                  <p:stCondLst>
                                    <p:cond delay="0"/>
                                  </p:stCondLst>
                                  <p:childTnLst>
                                    <p:set>
                                      <p:cBhvr>
                                        <p:cTn id="484" dur="1" fill="hold">
                                          <p:stCondLst>
                                            <p:cond delay="0"/>
                                          </p:stCondLst>
                                        </p:cTn>
                                        <p:tgtEl>
                                          <p:spTgt spid="1094"/>
                                        </p:tgtEl>
                                        <p:attrNameLst>
                                          <p:attrName>style.visibility</p:attrName>
                                        </p:attrNameLst>
                                      </p:cBhvr>
                                      <p:to>
                                        <p:strVal val="visible"/>
                                      </p:to>
                                    </p:set>
                                    <p:animEffect filter="fade" transition="in">
                                      <p:cBhvr additive="repl">
                                        <p:cTn id="485" dur="500"/>
                                        <p:tgtEl>
                                          <p:spTgt spid="1094"/>
                                        </p:tgtEl>
                                      </p:cBhvr>
                                    </p:animEffect>
                                  </p:childTnLst>
                                </p:cTn>
                              </p:par>
                            </p:childTnLst>
                          </p:cTn>
                        </p:par>
                        <p:par>
                          <p:cTn id="486" fill="hold">
                            <p:stCondLst>
                              <p:cond delay="8500"/>
                            </p:stCondLst>
                            <p:childTnLst>
                              <p:par>
                                <p:cTn id="487" nodeType="afterEffect" fill="hold" presetClass="entr" presetID="10">
                                  <p:stCondLst>
                                    <p:cond delay="0"/>
                                  </p:stCondLst>
                                  <p:childTnLst>
                                    <p:set>
                                      <p:cBhvr>
                                        <p:cTn id="488" dur="1" fill="hold">
                                          <p:stCondLst>
                                            <p:cond delay="0"/>
                                          </p:stCondLst>
                                        </p:cTn>
                                        <p:tgtEl>
                                          <p:spTgt spid="1098">
                                            <p:txEl>
                                              <p:pRg st="0" end="0"/>
                                            </p:txEl>
                                          </p:spTgt>
                                        </p:tgtEl>
                                        <p:attrNameLst>
                                          <p:attrName>style.visibility</p:attrName>
                                        </p:attrNameLst>
                                      </p:cBhvr>
                                      <p:to>
                                        <p:strVal val="visible"/>
                                      </p:to>
                                    </p:set>
                                    <p:animEffect filter="fade" transition="in">
                                      <p:cBhvr additive="repl">
                                        <p:cTn id="489" dur="500"/>
                                        <p:tgtEl>
                                          <p:spTgt spid="1098">
                                            <p:txEl>
                                              <p:pRg st="0" end="0"/>
                                            </p:txEl>
                                          </p:spTgt>
                                        </p:tgtEl>
                                      </p:cBhvr>
                                    </p:animEffect>
                                  </p:childTnLst>
                                </p:cTn>
                              </p:par>
                            </p:childTnLst>
                          </p:cTn>
                        </p:par>
                        <p:par>
                          <p:cTn id="490" fill="hold">
                            <p:stCondLst>
                              <p:cond delay="9000"/>
                            </p:stCondLst>
                            <p:childTnLst>
                              <p:par>
                                <p:cTn id="491" nodeType="afterEffect" fill="hold" presetClass="entr" presetID="10">
                                  <p:stCondLst>
                                    <p:cond delay="0"/>
                                  </p:stCondLst>
                                  <p:childTnLst>
                                    <p:set>
                                      <p:cBhvr>
                                        <p:cTn id="492" dur="1" fill="hold">
                                          <p:stCondLst>
                                            <p:cond delay="0"/>
                                          </p:stCondLst>
                                        </p:cTn>
                                        <p:tgtEl>
                                          <p:spTgt spid="1092"/>
                                        </p:tgtEl>
                                        <p:attrNameLst>
                                          <p:attrName>style.visibility</p:attrName>
                                        </p:attrNameLst>
                                      </p:cBhvr>
                                      <p:to>
                                        <p:strVal val="visible"/>
                                      </p:to>
                                    </p:set>
                                    <p:animEffect filter="fade" transition="in">
                                      <p:cBhvr additive="repl">
                                        <p:cTn id="493" dur="500"/>
                                        <p:tgtEl>
                                          <p:spTgt spid="1092"/>
                                        </p:tgtEl>
                                      </p:cBhvr>
                                    </p:animEffect>
                                  </p:childTnLst>
                                </p:cTn>
                              </p:par>
                            </p:childTnLst>
                          </p:cTn>
                        </p:par>
                        <p:par>
                          <p:cTn id="494" fill="hold">
                            <p:stCondLst>
                              <p:cond delay="9500"/>
                            </p:stCondLst>
                            <p:childTnLst>
                              <p:par>
                                <p:cTn id="495" nodeType="afterEffect" fill="hold" presetClass="entr" presetID="22" presetSubtype="4">
                                  <p:stCondLst>
                                    <p:cond delay="0"/>
                                  </p:stCondLst>
                                  <p:childTnLst>
                                    <p:set>
                                      <p:cBhvr>
                                        <p:cTn id="496" dur="1" fill="hold">
                                          <p:stCondLst>
                                            <p:cond delay="0"/>
                                          </p:stCondLst>
                                        </p:cTn>
                                        <p:tgtEl>
                                          <p:spTgt spid="1100">
                                            <p:txEl>
                                              <p:pRg st="0" end="0"/>
                                            </p:txEl>
                                          </p:spTgt>
                                        </p:tgtEl>
                                        <p:attrNameLst>
                                          <p:attrName>style.visibility</p:attrName>
                                        </p:attrNameLst>
                                      </p:cBhvr>
                                      <p:to>
                                        <p:strVal val="visible"/>
                                      </p:to>
                                    </p:set>
                                    <p:animEffect filter="wipe(down)" transition="in">
                                      <p:cBhvr additive="repl">
                                        <p:cTn id="497" dur="500"/>
                                        <p:tgtEl>
                                          <p:spTgt spid="1100">
                                            <p:txEl>
                                              <p:pRg st="0" end="0"/>
                                            </p:txEl>
                                          </p:spTgt>
                                        </p:tgtEl>
                                      </p:cBhvr>
                                    </p:animEffect>
                                  </p:childTnLst>
                                </p:cTn>
                              </p:par>
                            </p:childTnLst>
                          </p:cTn>
                        </p:par>
                        <p:par>
                          <p:cTn id="498" fill="hold">
                            <p:stCondLst>
                              <p:cond delay="10000"/>
                            </p:stCondLst>
                            <p:childTnLst>
                              <p:par>
                                <p:cTn id="499" nodeType="afterEffect" fill="hold" presetClass="entr" presetID="22" presetSubtype="8">
                                  <p:stCondLst>
                                    <p:cond delay="0"/>
                                  </p:stCondLst>
                                  <p:childTnLst>
                                    <p:set>
                                      <p:cBhvr>
                                        <p:cTn id="500" dur="1" fill="hold">
                                          <p:stCondLst>
                                            <p:cond delay="0"/>
                                          </p:stCondLst>
                                        </p:cTn>
                                        <p:tgtEl>
                                          <p:spTgt spid="1080"/>
                                        </p:tgtEl>
                                        <p:attrNameLst>
                                          <p:attrName>style.visibility</p:attrName>
                                        </p:attrNameLst>
                                      </p:cBhvr>
                                      <p:to>
                                        <p:strVal val="visible"/>
                                      </p:to>
                                    </p:set>
                                    <p:animEffect filter="wipe(left)" transition="in">
                                      <p:cBhvr additive="repl">
                                        <p:cTn id="501" dur="500"/>
                                        <p:tgtEl>
                                          <p:spTgt spid="1080"/>
                                        </p:tgtEl>
                                      </p:cBhvr>
                                    </p:animEffect>
                                  </p:childTnLst>
                                </p:cTn>
                              </p:par>
                            </p:childTnLst>
                          </p:cTn>
                        </p:par>
                        <p:par>
                          <p:cTn id="502" fill="hold">
                            <p:stCondLst>
                              <p:cond delay="10500"/>
                            </p:stCondLst>
                            <p:childTnLst>
                              <p:par>
                                <p:cTn id="503" nodeType="afterEffect" fill="hold" presetClass="entr" presetID="10">
                                  <p:stCondLst>
                                    <p:cond delay="0"/>
                                  </p:stCondLst>
                                  <p:childTnLst>
                                    <p:set>
                                      <p:cBhvr>
                                        <p:cTn id="504" dur="1" fill="hold">
                                          <p:stCondLst>
                                            <p:cond delay="0"/>
                                          </p:stCondLst>
                                        </p:cTn>
                                        <p:tgtEl>
                                          <p:spTgt spid="1104">
                                            <p:txEl>
                                              <p:pRg st="0" end="0"/>
                                            </p:txEl>
                                          </p:spTgt>
                                        </p:tgtEl>
                                        <p:attrNameLst>
                                          <p:attrName>style.visibility</p:attrName>
                                        </p:attrNameLst>
                                      </p:cBhvr>
                                      <p:to>
                                        <p:strVal val="visible"/>
                                      </p:to>
                                    </p:set>
                                    <p:animEffect filter="fade" transition="in">
                                      <p:cBhvr additive="repl">
                                        <p:cTn id="505" dur="500"/>
                                        <p:tgtEl>
                                          <p:spTgt spid="1104">
                                            <p:txEl>
                                              <p:pRg st="0" end="0"/>
                                            </p:txEl>
                                          </p:spTgt>
                                        </p:tgtEl>
                                      </p:cBhvr>
                                    </p:animEffect>
                                  </p:childTnLst>
                                </p:cTn>
                              </p:par>
                            </p:childTnLst>
                          </p:cTn>
                        </p:par>
                        <p:par>
                          <p:cTn id="506" fill="hold">
                            <p:stCondLst>
                              <p:cond delay="11000"/>
                            </p:stCondLst>
                            <p:childTnLst>
                              <p:par>
                                <p:cTn id="507" nodeType="afterEffect" fill="hold" presetClass="entr" presetID="10">
                                  <p:stCondLst>
                                    <p:cond delay="0"/>
                                  </p:stCondLst>
                                  <p:childTnLst>
                                    <p:set>
                                      <p:cBhvr>
                                        <p:cTn id="508" dur="1" fill="hold">
                                          <p:stCondLst>
                                            <p:cond delay="0"/>
                                          </p:stCondLst>
                                        </p:cTn>
                                        <p:tgtEl>
                                          <p:spTgt spid="1106">
                                            <p:txEl>
                                              <p:pRg st="0" end="0"/>
                                            </p:txEl>
                                          </p:spTgt>
                                        </p:tgtEl>
                                        <p:attrNameLst>
                                          <p:attrName>style.visibility</p:attrName>
                                        </p:attrNameLst>
                                      </p:cBhvr>
                                      <p:to>
                                        <p:strVal val="visible"/>
                                      </p:to>
                                    </p:set>
                                    <p:animEffect filter="fade" transition="in">
                                      <p:cBhvr additive="repl">
                                        <p:cTn id="509" dur="500"/>
                                        <p:tgtEl>
                                          <p:spTgt spid="1106">
                                            <p:txEl>
                                              <p:pRg st="0" end="0"/>
                                            </p:txEl>
                                          </p:spTgt>
                                        </p:tgtEl>
                                      </p:cBhvr>
                                    </p:animEffect>
                                  </p:childTnLst>
                                </p:cTn>
                              </p:par>
                            </p:childTnLst>
                          </p:cTn>
                        </p:par>
                        <p:par>
                          <p:cTn id="510" fill="hold">
                            <p:stCondLst>
                              <p:cond delay="11500"/>
                            </p:stCondLst>
                            <p:childTnLst>
                              <p:par>
                                <p:cTn id="511" nodeType="afterEffect" fill="hold" presetClass="entr" presetID="10">
                                  <p:stCondLst>
                                    <p:cond delay="0"/>
                                  </p:stCondLst>
                                  <p:childTnLst>
                                    <p:set>
                                      <p:cBhvr>
                                        <p:cTn id="512" dur="1" fill="hold">
                                          <p:stCondLst>
                                            <p:cond delay="0"/>
                                          </p:stCondLst>
                                        </p:cTn>
                                        <p:tgtEl>
                                          <p:spTgt spid="1105">
                                            <p:txEl>
                                              <p:pRg st="0" end="0"/>
                                            </p:txEl>
                                          </p:spTgt>
                                        </p:tgtEl>
                                        <p:attrNameLst>
                                          <p:attrName>style.visibility</p:attrName>
                                        </p:attrNameLst>
                                      </p:cBhvr>
                                      <p:to>
                                        <p:strVal val="visible"/>
                                      </p:to>
                                    </p:set>
                                    <p:animEffect filter="fade" transition="in">
                                      <p:cBhvr additive="repl">
                                        <p:cTn id="513" dur="500"/>
                                        <p:tgtEl>
                                          <p:spTgt spid="1105">
                                            <p:txEl>
                                              <p:pRg st="0" end="0"/>
                                            </p:txEl>
                                          </p:spTgt>
                                        </p:tgtEl>
                                      </p:cBhvr>
                                    </p:animEffect>
                                  </p:childTnLst>
                                </p:cTn>
                              </p:par>
                            </p:childTnLst>
                          </p:cTn>
                        </p:par>
                        <p:par>
                          <p:cTn id="514" fill="hold">
                            <p:stCondLst>
                              <p:cond delay="12000"/>
                            </p:stCondLst>
                            <p:childTnLst>
                              <p:par>
                                <p:cTn id="515" nodeType="afterEffect" fill="hold" presetClass="entr" presetID="10">
                                  <p:stCondLst>
                                    <p:cond delay="0"/>
                                  </p:stCondLst>
                                  <p:childTnLst>
                                    <p:set>
                                      <p:cBhvr>
                                        <p:cTn id="516" dur="1" fill="hold">
                                          <p:stCondLst>
                                            <p:cond delay="0"/>
                                          </p:stCondLst>
                                        </p:cTn>
                                        <p:tgtEl>
                                          <p:spTgt spid="1107">
                                            <p:txEl>
                                              <p:pRg st="0" end="0"/>
                                            </p:txEl>
                                          </p:spTgt>
                                        </p:tgtEl>
                                        <p:attrNameLst>
                                          <p:attrName>style.visibility</p:attrName>
                                        </p:attrNameLst>
                                      </p:cBhvr>
                                      <p:to>
                                        <p:strVal val="visible"/>
                                      </p:to>
                                    </p:set>
                                    <p:animEffect filter="fade" transition="in">
                                      <p:cBhvr additive="repl">
                                        <p:cTn id="517" dur="500"/>
                                        <p:tgtEl>
                                          <p:spTgt spid="1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12" name="Shape 4498"/>
          <p:cNvCxnSpPr/>
          <p:nvPr/>
        </p:nvCxnSpPr>
        <p:spPr>
          <a:xfrm>
            <a:off x="4265280" y="2028600"/>
            <a:ext cx="1080" cy="3997800"/>
          </a:xfrm>
          <a:prstGeom prst="straightConnector1">
            <a:avLst/>
          </a:prstGeom>
          <a:ln w="12600">
            <a:solidFill>
              <a:srgbClr val="d8d8d8"/>
            </a:solidFill>
            <a:miter/>
          </a:ln>
        </p:spPr>
      </p:cxnSp>
      <p:cxnSp>
        <p:nvCxnSpPr>
          <p:cNvPr id="1113" name="Shape 4499"/>
          <p:cNvCxnSpPr/>
          <p:nvPr/>
        </p:nvCxnSpPr>
        <p:spPr>
          <a:xfrm>
            <a:off x="7816320" y="2028600"/>
            <a:ext cx="1080" cy="3997800"/>
          </a:xfrm>
          <a:prstGeom prst="straightConnector1">
            <a:avLst/>
          </a:prstGeom>
          <a:ln w="12600">
            <a:solidFill>
              <a:srgbClr val="d8d8d8"/>
            </a:solidFill>
            <a:miter/>
          </a:ln>
        </p:spPr>
      </p:cxnSp>
      <p:sp>
        <p:nvSpPr>
          <p:cNvPr id="1114" name="Shape 4500"/>
          <p:cNvSpPr/>
          <p:nvPr/>
        </p:nvSpPr>
        <p:spPr>
          <a:xfrm>
            <a:off x="1874880" y="2274840"/>
            <a:ext cx="1369800" cy="1355760"/>
          </a:xfrm>
          <a:prstGeom prst="ellipse">
            <a:avLst/>
          </a:prstGeom>
          <a:solidFill>
            <a:srgbClr val="00a09c"/>
          </a:solidFill>
          <a:ln w="0">
            <a:noFill/>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15" name="Shape 4501"/>
          <p:cNvSpPr/>
          <p:nvPr/>
        </p:nvSpPr>
        <p:spPr>
          <a:xfrm>
            <a:off x="5394240" y="2273400"/>
            <a:ext cx="1370160" cy="1358640"/>
          </a:xfrm>
          <a:prstGeom prst="ellipse">
            <a:avLst/>
          </a:prstGeom>
          <a:solidFill>
            <a:srgbClr val="0098a5"/>
          </a:solidFill>
          <a:ln w="0">
            <a:noFill/>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16" name="Shape 4502"/>
          <p:cNvSpPr/>
          <p:nvPr/>
        </p:nvSpPr>
        <p:spPr>
          <a:xfrm>
            <a:off x="8947080" y="2273400"/>
            <a:ext cx="1370160" cy="1358640"/>
          </a:xfrm>
          <a:prstGeom prst="ellipse">
            <a:avLst/>
          </a:prstGeom>
          <a:solidFill>
            <a:srgbClr val="1991ab"/>
          </a:solidFill>
          <a:ln w="0">
            <a:noFill/>
          </a:ln>
        </p:spPr>
        <p:style>
          <a:lnRef idx="0"/>
          <a:fillRef idx="0"/>
          <a:effectRef idx="0"/>
          <a:fontRef idx="minor"/>
        </p:style>
        <p:txBody>
          <a:bodyPr lIns="45720" rIns="45720" tIns="22680" bIns="22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17" name="Shape 4503"/>
          <p:cNvSpPr/>
          <p:nvPr/>
        </p:nvSpPr>
        <p:spPr>
          <a:xfrm>
            <a:off x="1343160" y="4295880"/>
            <a:ext cx="2422440" cy="1247760"/>
          </a:xfrm>
          <a:prstGeom prst="rect">
            <a:avLst/>
          </a:prstGeom>
          <a:noFill/>
          <a:ln w="0">
            <a:noFill/>
          </a:ln>
        </p:spPr>
        <p:style>
          <a:lnRef idx="0"/>
          <a:fillRef idx="0"/>
          <a:effectRef idx="0"/>
          <a:fontRef idx="minor"/>
        </p:style>
        <p:txBody>
          <a:bodyPr anchor="t">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898989"/>
                </a:solidFill>
                <a:latin typeface="Open Sans Light"/>
                <a:ea typeface="Lato"/>
              </a:rPr>
              <a:t>A company is an association or collection of individuals, whether natural persons, legal persons, or a mixture of both. Company members share a common purpose and</a:t>
            </a:r>
            <a:endParaRPr b="0" lang="en-US" sz="1100" spc="-1" strike="noStrike">
              <a:solidFill>
                <a:srgbClr val="494949"/>
              </a:solidFill>
              <a:latin typeface="Open Sans Light"/>
            </a:endParaRPr>
          </a:p>
        </p:txBody>
      </p:sp>
      <p:sp>
        <p:nvSpPr>
          <p:cNvPr id="1118" name="Shape 4504"/>
          <p:cNvSpPr/>
          <p:nvPr/>
        </p:nvSpPr>
        <p:spPr>
          <a:xfrm>
            <a:off x="4884840" y="4295880"/>
            <a:ext cx="2423880" cy="1247760"/>
          </a:xfrm>
          <a:prstGeom prst="rect">
            <a:avLst/>
          </a:prstGeom>
          <a:noFill/>
          <a:ln w="0">
            <a:noFill/>
          </a:ln>
        </p:spPr>
        <p:style>
          <a:lnRef idx="0"/>
          <a:fillRef idx="0"/>
          <a:effectRef idx="0"/>
          <a:fontRef idx="minor"/>
        </p:style>
        <p:txBody>
          <a:bodyPr anchor="t">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898989"/>
                </a:solidFill>
                <a:latin typeface="Open Sans Light"/>
                <a:ea typeface="Lato"/>
              </a:rPr>
              <a:t>A company is an association or collection of individuals, whether natural persons, legal persons, or a mixture of both. Company members share a common purpose and</a:t>
            </a:r>
            <a:endParaRPr b="0" lang="en-US" sz="1100" spc="-1" strike="noStrike">
              <a:solidFill>
                <a:srgbClr val="494949"/>
              </a:solidFill>
              <a:latin typeface="Open Sans Light"/>
            </a:endParaRPr>
          </a:p>
        </p:txBody>
      </p:sp>
      <p:sp>
        <p:nvSpPr>
          <p:cNvPr id="1119" name="Shape 4505"/>
          <p:cNvSpPr/>
          <p:nvPr/>
        </p:nvSpPr>
        <p:spPr>
          <a:xfrm>
            <a:off x="8415360" y="4295880"/>
            <a:ext cx="2424240" cy="1247760"/>
          </a:xfrm>
          <a:prstGeom prst="rect">
            <a:avLst/>
          </a:prstGeom>
          <a:noFill/>
          <a:ln w="0">
            <a:noFill/>
          </a:ln>
        </p:spPr>
        <p:style>
          <a:lnRef idx="0"/>
          <a:fillRef idx="0"/>
          <a:effectRef idx="0"/>
          <a:fontRef idx="minor"/>
        </p:style>
        <p:txBody>
          <a:bodyPr anchor="t">
            <a:noAutofit/>
          </a:bodyPr>
          <a:p>
            <a:pPr algn="ctr">
              <a:lnSpc>
                <a:spcPct val="11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898989"/>
                </a:solidFill>
                <a:latin typeface="Open Sans Light"/>
                <a:ea typeface="Lato"/>
              </a:rPr>
              <a:t>A company is an association or collection of individuals, whether natural persons, legal persons, or a mixture of both. Company members share a common purpose and</a:t>
            </a:r>
            <a:endParaRPr b="0" lang="en-US" sz="1100" spc="-1" strike="noStrike">
              <a:solidFill>
                <a:srgbClr val="494949"/>
              </a:solidFill>
              <a:latin typeface="Open Sans Light"/>
            </a:endParaRPr>
          </a:p>
        </p:txBody>
      </p:sp>
      <p:sp>
        <p:nvSpPr>
          <p:cNvPr id="1120" name="Shape 4506"/>
          <p:cNvSpPr/>
          <p:nvPr/>
        </p:nvSpPr>
        <p:spPr>
          <a:xfrm>
            <a:off x="2309760" y="2665440"/>
            <a:ext cx="495360" cy="495360"/>
          </a:xfrm>
          <a:custGeom>
            <a:avLst/>
            <a:gdLst>
              <a:gd name="textAreaLeft" fmla="*/ 0 w 495360"/>
              <a:gd name="textAreaRight" fmla="*/ 495720 w 495360"/>
              <a:gd name="textAreaTop" fmla="*/ 0 h 495360"/>
              <a:gd name="textAreaBottom" fmla="*/ 495720 h 495360"/>
            </a:gdLst>
            <a:ahLst/>
            <a:rect l="textAreaLeft" t="textAreaTop" r="textAreaRight" b="textAreaBottom"/>
            <a:pathLst>
              <a:path w="120000" h="120000">
                <a:moveTo>
                  <a:pt x="105000" y="120000"/>
                </a:moveTo>
                <a:cubicBezTo>
                  <a:pt x="15000" y="120000"/>
                  <a:pt x="15000" y="120000"/>
                  <a:pt x="15000" y="120000"/>
                </a:cubicBezTo>
                <a:cubicBezTo>
                  <a:pt x="6562" y="120000"/>
                  <a:pt x="0" y="113437"/>
                  <a:pt x="0" y="105000"/>
                </a:cubicBezTo>
                <a:cubicBezTo>
                  <a:pt x="0" y="15000"/>
                  <a:pt x="0" y="15000"/>
                  <a:pt x="0" y="15000"/>
                </a:cubicBezTo>
                <a:cubicBezTo>
                  <a:pt x="0" y="6562"/>
                  <a:pt x="6562" y="0"/>
                  <a:pt x="15000" y="0"/>
                </a:cubicBezTo>
                <a:cubicBezTo>
                  <a:pt x="105000" y="0"/>
                  <a:pt x="105000" y="0"/>
                  <a:pt x="105000" y="0"/>
                </a:cubicBezTo>
                <a:cubicBezTo>
                  <a:pt x="113437" y="0"/>
                  <a:pt x="120000" y="6562"/>
                  <a:pt x="120000" y="15000"/>
                </a:cubicBezTo>
                <a:cubicBezTo>
                  <a:pt x="120000" y="105000"/>
                  <a:pt x="120000" y="105000"/>
                  <a:pt x="120000" y="105000"/>
                </a:cubicBezTo>
                <a:cubicBezTo>
                  <a:pt x="120000" y="113437"/>
                  <a:pt x="113437" y="120000"/>
                  <a:pt x="105000" y="120000"/>
                </a:cubicBezTo>
                <a:moveTo>
                  <a:pt x="60000" y="36562"/>
                </a:moveTo>
                <a:cubicBezTo>
                  <a:pt x="50625" y="36562"/>
                  <a:pt x="42656" y="42187"/>
                  <a:pt x="38906" y="50156"/>
                </a:cubicBezTo>
                <a:cubicBezTo>
                  <a:pt x="38906" y="50156"/>
                  <a:pt x="38906" y="50156"/>
                  <a:pt x="38906" y="50156"/>
                </a:cubicBezTo>
                <a:cubicBezTo>
                  <a:pt x="38906" y="50156"/>
                  <a:pt x="38906" y="50625"/>
                  <a:pt x="38906" y="50625"/>
                </a:cubicBezTo>
                <a:cubicBezTo>
                  <a:pt x="38437" y="51093"/>
                  <a:pt x="38437" y="51562"/>
                  <a:pt x="37968" y="52031"/>
                </a:cubicBezTo>
                <a:cubicBezTo>
                  <a:pt x="37968" y="52031"/>
                  <a:pt x="37968" y="52500"/>
                  <a:pt x="37968" y="52968"/>
                </a:cubicBezTo>
                <a:cubicBezTo>
                  <a:pt x="37968" y="53437"/>
                  <a:pt x="37500" y="53906"/>
                  <a:pt x="37500" y="54375"/>
                </a:cubicBezTo>
                <a:cubicBezTo>
                  <a:pt x="37500" y="54375"/>
                  <a:pt x="37500" y="54843"/>
                  <a:pt x="37500" y="55312"/>
                </a:cubicBezTo>
                <a:cubicBezTo>
                  <a:pt x="37031" y="55781"/>
                  <a:pt x="37031" y="56250"/>
                  <a:pt x="37031" y="56718"/>
                </a:cubicBezTo>
                <a:cubicBezTo>
                  <a:pt x="37031" y="57187"/>
                  <a:pt x="37031" y="57187"/>
                  <a:pt x="37031" y="57656"/>
                </a:cubicBezTo>
                <a:cubicBezTo>
                  <a:pt x="37031" y="58125"/>
                  <a:pt x="36562" y="59062"/>
                  <a:pt x="36562" y="60000"/>
                </a:cubicBezTo>
                <a:cubicBezTo>
                  <a:pt x="36562" y="72656"/>
                  <a:pt x="47343" y="83437"/>
                  <a:pt x="60000" y="83437"/>
                </a:cubicBezTo>
                <a:cubicBezTo>
                  <a:pt x="72656" y="83437"/>
                  <a:pt x="83437" y="72656"/>
                  <a:pt x="83437" y="60000"/>
                </a:cubicBezTo>
                <a:cubicBezTo>
                  <a:pt x="83437" y="59062"/>
                  <a:pt x="82968" y="58125"/>
                  <a:pt x="82968" y="57656"/>
                </a:cubicBezTo>
                <a:cubicBezTo>
                  <a:pt x="82968" y="57187"/>
                  <a:pt x="82968" y="57187"/>
                  <a:pt x="82968" y="56718"/>
                </a:cubicBezTo>
                <a:cubicBezTo>
                  <a:pt x="82968" y="56250"/>
                  <a:pt x="82968" y="55781"/>
                  <a:pt x="82500" y="55312"/>
                </a:cubicBezTo>
                <a:cubicBezTo>
                  <a:pt x="82500" y="54843"/>
                  <a:pt x="82500" y="54375"/>
                  <a:pt x="82500" y="54375"/>
                </a:cubicBezTo>
                <a:cubicBezTo>
                  <a:pt x="82500" y="53906"/>
                  <a:pt x="82031" y="53437"/>
                  <a:pt x="82031" y="52968"/>
                </a:cubicBezTo>
                <a:cubicBezTo>
                  <a:pt x="82031" y="52500"/>
                  <a:pt x="82031" y="52031"/>
                  <a:pt x="82031" y="52031"/>
                </a:cubicBezTo>
                <a:cubicBezTo>
                  <a:pt x="81562" y="51562"/>
                  <a:pt x="81562" y="51093"/>
                  <a:pt x="81093" y="50625"/>
                </a:cubicBezTo>
                <a:cubicBezTo>
                  <a:pt x="81093" y="50625"/>
                  <a:pt x="81093" y="50156"/>
                  <a:pt x="81093" y="50156"/>
                </a:cubicBezTo>
                <a:cubicBezTo>
                  <a:pt x="81093" y="50156"/>
                  <a:pt x="81093" y="50156"/>
                  <a:pt x="81093" y="50156"/>
                </a:cubicBezTo>
                <a:cubicBezTo>
                  <a:pt x="77343" y="42187"/>
                  <a:pt x="69375" y="36562"/>
                  <a:pt x="60000" y="36562"/>
                </a:cubicBezTo>
                <a:moveTo>
                  <a:pt x="106406" y="19687"/>
                </a:moveTo>
                <a:cubicBezTo>
                  <a:pt x="106406" y="16406"/>
                  <a:pt x="103593" y="13593"/>
                  <a:pt x="100312" y="13593"/>
                </a:cubicBezTo>
                <a:cubicBezTo>
                  <a:pt x="88593" y="13593"/>
                  <a:pt x="88593" y="13593"/>
                  <a:pt x="88593" y="13593"/>
                </a:cubicBezTo>
                <a:cubicBezTo>
                  <a:pt x="85312" y="13593"/>
                  <a:pt x="82500" y="16406"/>
                  <a:pt x="82500" y="19687"/>
                </a:cubicBezTo>
                <a:cubicBezTo>
                  <a:pt x="82500" y="31406"/>
                  <a:pt x="82500" y="31406"/>
                  <a:pt x="82500" y="31406"/>
                </a:cubicBezTo>
                <a:cubicBezTo>
                  <a:pt x="82500" y="34687"/>
                  <a:pt x="85312" y="37500"/>
                  <a:pt x="88593" y="37500"/>
                </a:cubicBezTo>
                <a:cubicBezTo>
                  <a:pt x="100312" y="37500"/>
                  <a:pt x="100312" y="37500"/>
                  <a:pt x="100312" y="37500"/>
                </a:cubicBezTo>
                <a:cubicBezTo>
                  <a:pt x="103593" y="37500"/>
                  <a:pt x="106406" y="34687"/>
                  <a:pt x="106406" y="31406"/>
                </a:cubicBezTo>
                <a:lnTo>
                  <a:pt x="106406" y="19687"/>
                </a:lnTo>
                <a:close/>
                <a:moveTo>
                  <a:pt x="106406" y="50156"/>
                </a:moveTo>
                <a:cubicBezTo>
                  <a:pt x="95625" y="50156"/>
                  <a:pt x="95625" y="50156"/>
                  <a:pt x="95625" y="50156"/>
                </a:cubicBezTo>
                <a:cubicBezTo>
                  <a:pt x="96093" y="53437"/>
                  <a:pt x="96562" y="56718"/>
                  <a:pt x="96562" y="60000"/>
                </a:cubicBezTo>
                <a:cubicBezTo>
                  <a:pt x="96562" y="80156"/>
                  <a:pt x="80156" y="96562"/>
                  <a:pt x="60000" y="96562"/>
                </a:cubicBezTo>
                <a:cubicBezTo>
                  <a:pt x="39843" y="96562"/>
                  <a:pt x="23437" y="80156"/>
                  <a:pt x="23437" y="60000"/>
                </a:cubicBezTo>
                <a:cubicBezTo>
                  <a:pt x="23437" y="56718"/>
                  <a:pt x="23906" y="53437"/>
                  <a:pt x="24375" y="50156"/>
                </a:cubicBezTo>
                <a:cubicBezTo>
                  <a:pt x="13593" y="50156"/>
                  <a:pt x="13593" y="50156"/>
                  <a:pt x="13593" y="50156"/>
                </a:cubicBezTo>
                <a:cubicBezTo>
                  <a:pt x="13593" y="100312"/>
                  <a:pt x="13593" y="100312"/>
                  <a:pt x="13593" y="100312"/>
                </a:cubicBezTo>
                <a:cubicBezTo>
                  <a:pt x="13593" y="103593"/>
                  <a:pt x="16406" y="106406"/>
                  <a:pt x="19687" y="106406"/>
                </a:cubicBezTo>
                <a:cubicBezTo>
                  <a:pt x="100312" y="106406"/>
                  <a:pt x="100312" y="106406"/>
                  <a:pt x="100312" y="106406"/>
                </a:cubicBezTo>
                <a:cubicBezTo>
                  <a:pt x="103593" y="106406"/>
                  <a:pt x="106406" y="103593"/>
                  <a:pt x="106406" y="100312"/>
                </a:cubicBezTo>
                <a:lnTo>
                  <a:pt x="106406" y="50156"/>
                </a:lnTo>
                <a:close/>
              </a:path>
            </a:pathLst>
          </a:custGeom>
          <a:solidFill>
            <a:srgbClr val="ffffff"/>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121" name="Shape 4507"/>
          <p:cNvSpPr/>
          <p:nvPr/>
        </p:nvSpPr>
        <p:spPr>
          <a:xfrm>
            <a:off x="5848200" y="2752560"/>
            <a:ext cx="497160" cy="408240"/>
          </a:xfrm>
          <a:custGeom>
            <a:avLst/>
            <a:gdLst>
              <a:gd name="textAreaLeft" fmla="*/ 0 w 497160"/>
              <a:gd name="textAreaRight" fmla="*/ 497520 w 497160"/>
              <a:gd name="textAreaTop" fmla="*/ 0 h 408240"/>
              <a:gd name="textAreaBottom" fmla="*/ 408600 h 408240"/>
            </a:gdLst>
            <a:ahLst/>
            <a:rect l="textAreaLeft" t="textAreaTop" r="textAreaRight" b="textAreaBottom"/>
            <a:pathLst>
              <a:path w="120000" h="120000">
                <a:moveTo>
                  <a:pt x="81562" y="0"/>
                </a:moveTo>
                <a:cubicBezTo>
                  <a:pt x="90937" y="0"/>
                  <a:pt x="96093" y="4000"/>
                  <a:pt x="101250" y="9142"/>
                </a:cubicBezTo>
                <a:cubicBezTo>
                  <a:pt x="105000" y="9142"/>
                  <a:pt x="110625" y="6285"/>
                  <a:pt x="113906" y="4000"/>
                </a:cubicBezTo>
                <a:cubicBezTo>
                  <a:pt x="114843" y="3428"/>
                  <a:pt x="115781" y="2857"/>
                  <a:pt x="116718" y="2285"/>
                </a:cubicBezTo>
                <a:cubicBezTo>
                  <a:pt x="114843" y="8000"/>
                  <a:pt x="112500" y="12571"/>
                  <a:pt x="108750" y="16571"/>
                </a:cubicBezTo>
                <a:cubicBezTo>
                  <a:pt x="107812" y="17142"/>
                  <a:pt x="107343" y="18285"/>
                  <a:pt x="105937" y="18857"/>
                </a:cubicBezTo>
                <a:cubicBezTo>
                  <a:pt x="105937" y="18857"/>
                  <a:pt x="105937" y="18857"/>
                  <a:pt x="105937" y="18857"/>
                </a:cubicBezTo>
                <a:cubicBezTo>
                  <a:pt x="111562" y="18857"/>
                  <a:pt x="115781" y="15428"/>
                  <a:pt x="120000" y="14285"/>
                </a:cubicBezTo>
                <a:cubicBezTo>
                  <a:pt x="120000" y="14285"/>
                  <a:pt x="120000" y="14285"/>
                  <a:pt x="120000" y="14285"/>
                </a:cubicBezTo>
                <a:cubicBezTo>
                  <a:pt x="117656" y="18285"/>
                  <a:pt x="114843" y="22857"/>
                  <a:pt x="111562" y="25714"/>
                </a:cubicBezTo>
                <a:cubicBezTo>
                  <a:pt x="110156" y="26857"/>
                  <a:pt x="109218" y="28571"/>
                  <a:pt x="107812" y="29714"/>
                </a:cubicBezTo>
                <a:cubicBezTo>
                  <a:pt x="107812" y="36571"/>
                  <a:pt x="107812" y="42857"/>
                  <a:pt x="106875" y="48571"/>
                </a:cubicBezTo>
                <a:cubicBezTo>
                  <a:pt x="100312" y="82285"/>
                  <a:pt x="84375" y="105142"/>
                  <a:pt x="58593" y="115428"/>
                </a:cubicBezTo>
                <a:cubicBezTo>
                  <a:pt x="49218" y="118857"/>
                  <a:pt x="34218" y="120000"/>
                  <a:pt x="23437" y="117142"/>
                </a:cubicBezTo>
                <a:cubicBezTo>
                  <a:pt x="18281" y="115428"/>
                  <a:pt x="13593" y="113714"/>
                  <a:pt x="8906" y="111428"/>
                </a:cubicBezTo>
                <a:cubicBezTo>
                  <a:pt x="6562" y="109714"/>
                  <a:pt x="4218" y="108571"/>
                  <a:pt x="2343" y="106857"/>
                </a:cubicBezTo>
                <a:cubicBezTo>
                  <a:pt x="1406" y="106285"/>
                  <a:pt x="937" y="105714"/>
                  <a:pt x="0" y="105142"/>
                </a:cubicBezTo>
                <a:cubicBezTo>
                  <a:pt x="2343" y="105142"/>
                  <a:pt x="5156" y="106285"/>
                  <a:pt x="7968" y="105714"/>
                </a:cubicBezTo>
                <a:cubicBezTo>
                  <a:pt x="10312" y="105142"/>
                  <a:pt x="12656" y="105142"/>
                  <a:pt x="15000" y="104571"/>
                </a:cubicBezTo>
                <a:cubicBezTo>
                  <a:pt x="20625" y="102857"/>
                  <a:pt x="25312" y="101142"/>
                  <a:pt x="29531" y="98285"/>
                </a:cubicBezTo>
                <a:cubicBezTo>
                  <a:pt x="31875" y="96571"/>
                  <a:pt x="34687" y="94857"/>
                  <a:pt x="36562" y="92571"/>
                </a:cubicBezTo>
                <a:cubicBezTo>
                  <a:pt x="33750" y="92571"/>
                  <a:pt x="30937" y="92000"/>
                  <a:pt x="29062" y="91428"/>
                </a:cubicBezTo>
                <a:cubicBezTo>
                  <a:pt x="21093" y="88000"/>
                  <a:pt x="16406" y="81714"/>
                  <a:pt x="13593" y="72000"/>
                </a:cubicBezTo>
                <a:cubicBezTo>
                  <a:pt x="15937" y="72571"/>
                  <a:pt x="22968" y="73142"/>
                  <a:pt x="24375" y="71428"/>
                </a:cubicBezTo>
                <a:cubicBezTo>
                  <a:pt x="21562" y="71428"/>
                  <a:pt x="18281" y="69142"/>
                  <a:pt x="16406" y="67428"/>
                </a:cubicBezTo>
                <a:cubicBezTo>
                  <a:pt x="9843" y="62285"/>
                  <a:pt x="4687" y="54285"/>
                  <a:pt x="4687" y="41714"/>
                </a:cubicBezTo>
                <a:cubicBezTo>
                  <a:pt x="5625" y="42285"/>
                  <a:pt x="6562" y="42857"/>
                  <a:pt x="7500" y="43428"/>
                </a:cubicBezTo>
                <a:cubicBezTo>
                  <a:pt x="8906" y="44000"/>
                  <a:pt x="10312" y="44571"/>
                  <a:pt x="12656" y="45142"/>
                </a:cubicBezTo>
                <a:cubicBezTo>
                  <a:pt x="13125" y="45142"/>
                  <a:pt x="15000" y="45714"/>
                  <a:pt x="15937" y="45142"/>
                </a:cubicBezTo>
                <a:cubicBezTo>
                  <a:pt x="15468" y="45142"/>
                  <a:pt x="15468" y="45142"/>
                  <a:pt x="15468" y="45142"/>
                </a:cubicBezTo>
                <a:cubicBezTo>
                  <a:pt x="14531" y="43428"/>
                  <a:pt x="12187" y="42285"/>
                  <a:pt x="11250" y="40571"/>
                </a:cubicBezTo>
                <a:cubicBezTo>
                  <a:pt x="7031" y="34285"/>
                  <a:pt x="3281" y="24571"/>
                  <a:pt x="5625" y="13142"/>
                </a:cubicBezTo>
                <a:cubicBezTo>
                  <a:pt x="6093" y="10285"/>
                  <a:pt x="7031" y="8000"/>
                  <a:pt x="8437" y="5714"/>
                </a:cubicBezTo>
                <a:cubicBezTo>
                  <a:pt x="8437" y="5714"/>
                  <a:pt x="8437" y="5714"/>
                  <a:pt x="8437" y="5714"/>
                </a:cubicBezTo>
                <a:cubicBezTo>
                  <a:pt x="8906" y="6857"/>
                  <a:pt x="9843" y="7428"/>
                  <a:pt x="10781" y="8571"/>
                </a:cubicBezTo>
                <a:cubicBezTo>
                  <a:pt x="12656" y="12000"/>
                  <a:pt x="15468" y="14857"/>
                  <a:pt x="17812" y="17142"/>
                </a:cubicBezTo>
                <a:cubicBezTo>
                  <a:pt x="26718" y="25714"/>
                  <a:pt x="35156" y="30857"/>
                  <a:pt x="48281" y="34857"/>
                </a:cubicBezTo>
                <a:cubicBezTo>
                  <a:pt x="51562" y="36000"/>
                  <a:pt x="55312" y="36571"/>
                  <a:pt x="59062" y="36571"/>
                </a:cubicBezTo>
                <a:cubicBezTo>
                  <a:pt x="58125" y="32571"/>
                  <a:pt x="58125" y="26285"/>
                  <a:pt x="59062" y="22857"/>
                </a:cubicBezTo>
                <a:cubicBezTo>
                  <a:pt x="61406" y="13142"/>
                  <a:pt x="66093" y="6285"/>
                  <a:pt x="73125" y="2285"/>
                </a:cubicBezTo>
                <a:cubicBezTo>
                  <a:pt x="75000" y="1714"/>
                  <a:pt x="76875" y="1142"/>
                  <a:pt x="78750" y="571"/>
                </a:cubicBezTo>
                <a:cubicBezTo>
                  <a:pt x="79687" y="571"/>
                  <a:pt x="80625" y="0"/>
                  <a:pt x="81562" y="0"/>
                </a:cubicBezTo>
              </a:path>
            </a:pathLst>
          </a:custGeom>
          <a:solidFill>
            <a:srgbClr val="ffffff"/>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122" name="Shape 4508"/>
          <p:cNvSpPr/>
          <p:nvPr/>
        </p:nvSpPr>
        <p:spPr>
          <a:xfrm>
            <a:off x="9505800" y="2682720"/>
            <a:ext cx="254160" cy="551160"/>
          </a:xfrm>
          <a:custGeom>
            <a:avLst/>
            <a:gdLst>
              <a:gd name="textAreaLeft" fmla="*/ 0 w 254160"/>
              <a:gd name="textAreaRight" fmla="*/ 254520 w 254160"/>
              <a:gd name="textAreaTop" fmla="*/ 0 h 551160"/>
              <a:gd name="textAreaBottom" fmla="*/ 551520 h 551160"/>
            </a:gdLst>
            <a:ahLst/>
            <a:rect l="textAreaLeft" t="textAreaTop" r="textAreaRight" b="textAreaBottom"/>
            <a:pathLst>
              <a:path w="120000" h="120000">
                <a:moveTo>
                  <a:pt x="120000" y="930"/>
                </a:moveTo>
                <a:cubicBezTo>
                  <a:pt x="120000" y="20000"/>
                  <a:pt x="120000" y="20000"/>
                  <a:pt x="120000" y="20000"/>
                </a:cubicBezTo>
                <a:cubicBezTo>
                  <a:pt x="120000" y="20000"/>
                  <a:pt x="90000" y="18604"/>
                  <a:pt x="82000" y="24186"/>
                </a:cubicBezTo>
                <a:cubicBezTo>
                  <a:pt x="78000" y="26976"/>
                  <a:pt x="80000" y="35813"/>
                  <a:pt x="80000" y="41860"/>
                </a:cubicBezTo>
                <a:cubicBezTo>
                  <a:pt x="120000" y="41860"/>
                  <a:pt x="120000" y="41860"/>
                  <a:pt x="120000" y="41860"/>
                </a:cubicBezTo>
                <a:cubicBezTo>
                  <a:pt x="117000" y="49302"/>
                  <a:pt x="114000" y="53953"/>
                  <a:pt x="112000" y="60465"/>
                </a:cubicBezTo>
                <a:cubicBezTo>
                  <a:pt x="80000" y="60465"/>
                  <a:pt x="80000" y="60465"/>
                  <a:pt x="80000" y="60465"/>
                </a:cubicBezTo>
                <a:cubicBezTo>
                  <a:pt x="80000" y="120000"/>
                  <a:pt x="80000" y="120000"/>
                  <a:pt x="80000" y="120000"/>
                </a:cubicBezTo>
                <a:cubicBezTo>
                  <a:pt x="24000" y="120000"/>
                  <a:pt x="24000" y="120000"/>
                  <a:pt x="24000" y="120000"/>
                </a:cubicBezTo>
                <a:cubicBezTo>
                  <a:pt x="24000" y="101860"/>
                  <a:pt x="24000" y="80000"/>
                  <a:pt x="24000" y="60465"/>
                </a:cubicBezTo>
                <a:cubicBezTo>
                  <a:pt x="0" y="60465"/>
                  <a:pt x="0" y="60465"/>
                  <a:pt x="0" y="60465"/>
                </a:cubicBezTo>
                <a:cubicBezTo>
                  <a:pt x="0" y="41860"/>
                  <a:pt x="0" y="41860"/>
                  <a:pt x="0" y="41860"/>
                </a:cubicBezTo>
                <a:cubicBezTo>
                  <a:pt x="24000" y="41860"/>
                  <a:pt x="24000" y="41860"/>
                  <a:pt x="24000" y="41860"/>
                </a:cubicBezTo>
                <a:cubicBezTo>
                  <a:pt x="25000" y="28372"/>
                  <a:pt x="25000" y="14883"/>
                  <a:pt x="40000" y="7906"/>
                </a:cubicBezTo>
                <a:cubicBezTo>
                  <a:pt x="56000" y="0"/>
                  <a:pt x="72000" y="930"/>
                  <a:pt x="120000" y="930"/>
                </a:cubicBezTo>
              </a:path>
            </a:pathLst>
          </a:custGeom>
          <a:solidFill>
            <a:srgbClr val="ffffff"/>
          </a:solidFill>
          <a:ln w="0">
            <a:noFill/>
          </a:ln>
        </p:spPr>
        <p:style>
          <a:lnRef idx="0"/>
          <a:fillRef idx="0"/>
          <a:effectRef idx="0"/>
          <a:fontRef idx="minor"/>
        </p:style>
        <p:txBody>
          <a:bodyPr lIns="45360" rIns="45360" tIns="22680" bIns="22680" anchor="t">
            <a:noAutofit/>
          </a:bodyPr>
          <a:p>
            <a:endParaRPr b="0" lang="en-US" sz="1800" spc="-1" strike="noStrike">
              <a:solidFill>
                <a:srgbClr val="494949"/>
              </a:solidFill>
              <a:latin typeface="Open Sans Light"/>
            </a:endParaRPr>
          </a:p>
        </p:txBody>
      </p:sp>
      <p:sp>
        <p:nvSpPr>
          <p:cNvPr id="1123"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SOCIAL MEDIA ICONS</a:t>
            </a:r>
            <a:endParaRPr b="0" lang="en-US" sz="3600" spc="-1" strike="noStrike">
              <a:solidFill>
                <a:srgbClr val="494949"/>
              </a:solidFill>
              <a:latin typeface="Lato Heavy"/>
            </a:endParaRPr>
          </a:p>
        </p:txBody>
      </p:sp>
      <p:sp>
        <p:nvSpPr>
          <p:cNvPr id="1124"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125" name="Text Placeholder 7"/>
          <p:cNvSpPr/>
          <p:nvPr/>
        </p:nvSpPr>
        <p:spPr>
          <a:xfrm>
            <a:off x="1609560" y="4021200"/>
            <a:ext cx="1889280" cy="24588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SOCIAL MEDIA</a:t>
            </a:r>
            <a:endParaRPr b="0" lang="en-US" sz="1400" spc="-1" strike="noStrike">
              <a:solidFill>
                <a:srgbClr val="494949"/>
              </a:solidFill>
              <a:latin typeface="Open Sans Light"/>
            </a:endParaRPr>
          </a:p>
        </p:txBody>
      </p:sp>
      <p:sp>
        <p:nvSpPr>
          <p:cNvPr id="1126" name="Text Placeholder 7"/>
          <p:cNvSpPr/>
          <p:nvPr/>
        </p:nvSpPr>
        <p:spPr>
          <a:xfrm>
            <a:off x="5151600" y="4021200"/>
            <a:ext cx="1888920" cy="24588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SOCIAL MEDIA</a:t>
            </a:r>
            <a:endParaRPr b="0" lang="en-US" sz="1400" spc="-1" strike="noStrike">
              <a:solidFill>
                <a:srgbClr val="494949"/>
              </a:solidFill>
              <a:latin typeface="Open Sans Light"/>
            </a:endParaRPr>
          </a:p>
        </p:txBody>
      </p:sp>
      <p:sp>
        <p:nvSpPr>
          <p:cNvPr id="1127" name="Text Placeholder 7"/>
          <p:cNvSpPr/>
          <p:nvPr/>
        </p:nvSpPr>
        <p:spPr>
          <a:xfrm>
            <a:off x="8682120" y="4021200"/>
            <a:ext cx="1890720" cy="24588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SOCIAL MEDIA</a:t>
            </a:r>
            <a:endParaRPr b="0" lang="en-US" sz="1400" spc="-1" strike="noStrike">
              <a:solidFill>
                <a:srgbClr val="494949"/>
              </a:solidFill>
              <a:latin typeface="Open Sans Light"/>
            </a:endParaRPr>
          </a:p>
        </p:txBody>
      </p:sp>
    </p:spTree>
  </p:cSld>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10">
                                  <p:stCondLst>
                                    <p:cond delay="0"/>
                                  </p:stCondLst>
                                  <p:childTnLst>
                                    <p:set>
                                      <p:cBhvr>
                                        <p:cTn id="523" dur="1" fill="hold">
                                          <p:stCondLst>
                                            <p:cond delay="0"/>
                                          </p:stCondLst>
                                        </p:cTn>
                                        <p:tgtEl>
                                          <p:spTgt spid="1125">
                                            <p:txEl>
                                              <p:pRg st="0" end="0"/>
                                            </p:txEl>
                                          </p:spTgt>
                                        </p:tgtEl>
                                        <p:attrNameLst>
                                          <p:attrName>style.visibility</p:attrName>
                                        </p:attrNameLst>
                                      </p:cBhvr>
                                      <p:to>
                                        <p:strVal val="visible"/>
                                      </p:to>
                                    </p:set>
                                    <p:animEffect filter="fade" transition="in">
                                      <p:cBhvr additive="repl">
                                        <p:cTn id="524" dur="500"/>
                                        <p:tgtEl>
                                          <p:spTgt spid="1125">
                                            <p:txEl>
                                              <p:pRg st="0" end="0"/>
                                            </p:txEl>
                                          </p:spTgt>
                                        </p:tgtEl>
                                      </p:cBhvr>
                                    </p:animEffect>
                                  </p:childTnLst>
                                </p:cTn>
                              </p:par>
                            </p:childTnLst>
                          </p:cTn>
                        </p:par>
                        <p:par>
                          <p:cTn id="525" fill="hold">
                            <p:stCondLst>
                              <p:cond delay="500"/>
                            </p:stCondLst>
                            <p:childTnLst>
                              <p:par>
                                <p:cTn id="526" nodeType="afterEffect" fill="hold" presetClass="entr" presetID="10">
                                  <p:stCondLst>
                                    <p:cond delay="0"/>
                                  </p:stCondLst>
                                  <p:childTnLst>
                                    <p:set>
                                      <p:cBhvr>
                                        <p:cTn id="527" dur="1" fill="hold">
                                          <p:stCondLst>
                                            <p:cond delay="0"/>
                                          </p:stCondLst>
                                        </p:cTn>
                                        <p:tgtEl>
                                          <p:spTgt spid="1126">
                                            <p:txEl>
                                              <p:pRg st="0" end="0"/>
                                            </p:txEl>
                                          </p:spTgt>
                                        </p:tgtEl>
                                        <p:attrNameLst>
                                          <p:attrName>style.visibility</p:attrName>
                                        </p:attrNameLst>
                                      </p:cBhvr>
                                      <p:to>
                                        <p:strVal val="visible"/>
                                      </p:to>
                                    </p:set>
                                    <p:animEffect filter="fade" transition="in">
                                      <p:cBhvr additive="repl">
                                        <p:cTn id="528" dur="500"/>
                                        <p:tgtEl>
                                          <p:spTgt spid="1126">
                                            <p:txEl>
                                              <p:pRg st="0" end="0"/>
                                            </p:txEl>
                                          </p:spTgt>
                                        </p:tgtEl>
                                      </p:cBhvr>
                                    </p:animEffect>
                                  </p:childTnLst>
                                </p:cTn>
                              </p:par>
                            </p:childTnLst>
                          </p:cTn>
                        </p:par>
                        <p:par>
                          <p:cTn id="529" fill="hold">
                            <p:stCondLst>
                              <p:cond delay="1000"/>
                            </p:stCondLst>
                            <p:childTnLst>
                              <p:par>
                                <p:cTn id="530" nodeType="afterEffect" fill="hold" presetClass="entr" presetID="10">
                                  <p:stCondLst>
                                    <p:cond delay="0"/>
                                  </p:stCondLst>
                                  <p:childTnLst>
                                    <p:set>
                                      <p:cBhvr>
                                        <p:cTn id="531" dur="1" fill="hold">
                                          <p:stCondLst>
                                            <p:cond delay="0"/>
                                          </p:stCondLst>
                                        </p:cTn>
                                        <p:tgtEl>
                                          <p:spTgt spid="1127">
                                            <p:txEl>
                                              <p:pRg st="0" end="0"/>
                                            </p:txEl>
                                          </p:spTgt>
                                        </p:tgtEl>
                                        <p:attrNameLst>
                                          <p:attrName>style.visibility</p:attrName>
                                        </p:attrNameLst>
                                      </p:cBhvr>
                                      <p:to>
                                        <p:strVal val="visible"/>
                                      </p:to>
                                    </p:set>
                                    <p:animEffect filter="fade" transition="in">
                                      <p:cBhvr additive="repl">
                                        <p:cTn id="532" dur="500"/>
                                        <p:tgtEl>
                                          <p:spTgt spid="1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61"/>
          <p:cNvSpPr/>
          <p:nvPr/>
        </p:nvSpPr>
        <p:spPr>
          <a:xfrm>
            <a:off x="8798040" y="4840200"/>
            <a:ext cx="1627200" cy="108432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29"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ORGANIZATION STRUCTURE</a:t>
            </a:r>
            <a:endParaRPr b="0" lang="en-US" sz="3600" spc="-1" strike="noStrike">
              <a:solidFill>
                <a:srgbClr val="494949"/>
              </a:solidFill>
              <a:latin typeface="Lato Heavy"/>
            </a:endParaRPr>
          </a:p>
        </p:txBody>
      </p:sp>
      <p:sp>
        <p:nvSpPr>
          <p:cNvPr id="1130"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131" name="PlaceHolder 3"/>
          <p:cNvSpPr>
            <a:spLocks noGrp="1"/>
          </p:cNvSpPr>
          <p:nvPr>
            <p:ph/>
          </p:nvPr>
        </p:nvSpPr>
        <p:spPr>
          <a:xfrm>
            <a:off x="9191160" y="5361120"/>
            <a:ext cx="839880" cy="20304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MUNI</a:t>
            </a:r>
            <a:endParaRPr b="0" lang="en-US" sz="1200" spc="-1" strike="noStrike">
              <a:solidFill>
                <a:srgbClr val="494949"/>
              </a:solidFill>
              <a:latin typeface="Open Sans Light"/>
            </a:endParaRPr>
          </a:p>
        </p:txBody>
      </p:sp>
      <p:sp>
        <p:nvSpPr>
          <p:cNvPr id="1132" name="PlaceHolder 4"/>
          <p:cNvSpPr>
            <a:spLocks noGrp="1"/>
          </p:cNvSpPr>
          <p:nvPr>
            <p:ph/>
          </p:nvPr>
        </p:nvSpPr>
        <p:spPr>
          <a:xfrm>
            <a:off x="7891560" y="3390480"/>
            <a:ext cx="83808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CFO</a:t>
            </a:r>
            <a:endParaRPr b="0" lang="en-US" sz="900" spc="-1" strike="noStrike">
              <a:solidFill>
                <a:srgbClr val="494949"/>
              </a:solidFill>
              <a:latin typeface="Open Sans Light"/>
            </a:endParaRPr>
          </a:p>
        </p:txBody>
      </p:sp>
      <p:sp>
        <p:nvSpPr>
          <p:cNvPr id="1133" name="PlaceHolder 5"/>
          <p:cNvSpPr>
            <a:spLocks noGrp="1"/>
          </p:cNvSpPr>
          <p:nvPr>
            <p:ph/>
          </p:nvPr>
        </p:nvSpPr>
        <p:spPr>
          <a:xfrm>
            <a:off x="7891560" y="3188880"/>
            <a:ext cx="83808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DOIE</a:t>
            </a:r>
            <a:endParaRPr b="0" lang="en-US" sz="1200" spc="-1" strike="noStrike">
              <a:solidFill>
                <a:srgbClr val="494949"/>
              </a:solidFill>
              <a:latin typeface="Open Sans Light"/>
            </a:endParaRPr>
          </a:p>
        </p:txBody>
      </p:sp>
      <p:sp>
        <p:nvSpPr>
          <p:cNvPr id="1134" name="PlaceHolder 6"/>
          <p:cNvSpPr>
            <a:spLocks noGrp="1"/>
          </p:cNvSpPr>
          <p:nvPr>
            <p:ph/>
          </p:nvPr>
        </p:nvSpPr>
        <p:spPr>
          <a:xfrm>
            <a:off x="3470400" y="3390480"/>
            <a:ext cx="83952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CEO</a:t>
            </a:r>
            <a:endParaRPr b="0" lang="en-US" sz="900" spc="-1" strike="noStrike">
              <a:solidFill>
                <a:srgbClr val="494949"/>
              </a:solidFill>
              <a:latin typeface="Open Sans Light"/>
            </a:endParaRPr>
          </a:p>
        </p:txBody>
      </p:sp>
      <p:sp>
        <p:nvSpPr>
          <p:cNvPr id="1135" name="PlaceHolder 7"/>
          <p:cNvSpPr>
            <a:spLocks noGrp="1"/>
          </p:cNvSpPr>
          <p:nvPr>
            <p:ph/>
          </p:nvPr>
        </p:nvSpPr>
        <p:spPr>
          <a:xfrm>
            <a:off x="3470400" y="3188880"/>
            <a:ext cx="83952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JOHN</a:t>
            </a:r>
            <a:endParaRPr b="0" lang="en-US" sz="1200" spc="-1" strike="noStrike">
              <a:solidFill>
                <a:srgbClr val="494949"/>
              </a:solidFill>
              <a:latin typeface="Open Sans Light"/>
            </a:endParaRPr>
          </a:p>
        </p:txBody>
      </p:sp>
      <p:sp>
        <p:nvSpPr>
          <p:cNvPr id="1136" name="PlaceHolder 8"/>
          <p:cNvSpPr>
            <a:spLocks noGrp="1"/>
          </p:cNvSpPr>
          <p:nvPr>
            <p:ph/>
          </p:nvPr>
        </p:nvSpPr>
        <p:spPr>
          <a:xfrm>
            <a:off x="5684400" y="5361120"/>
            <a:ext cx="839880" cy="20304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CINTI</a:t>
            </a:r>
            <a:endParaRPr b="0" lang="en-US" sz="1200" spc="-1" strike="noStrike">
              <a:solidFill>
                <a:srgbClr val="494949"/>
              </a:solidFill>
              <a:latin typeface="Open Sans Light"/>
            </a:endParaRPr>
          </a:p>
        </p:txBody>
      </p:sp>
      <p:sp>
        <p:nvSpPr>
          <p:cNvPr id="1137" name="PlaceHolder 9"/>
          <p:cNvSpPr>
            <a:spLocks noGrp="1"/>
          </p:cNvSpPr>
          <p:nvPr>
            <p:ph/>
          </p:nvPr>
        </p:nvSpPr>
        <p:spPr>
          <a:xfrm>
            <a:off x="5676480" y="5571720"/>
            <a:ext cx="83988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LUX DESIGNER</a:t>
            </a:r>
            <a:endParaRPr b="0" lang="en-US" sz="900" spc="-1" strike="noStrike">
              <a:solidFill>
                <a:srgbClr val="494949"/>
              </a:solidFill>
              <a:latin typeface="Open Sans Light"/>
            </a:endParaRPr>
          </a:p>
        </p:txBody>
      </p:sp>
      <p:sp>
        <p:nvSpPr>
          <p:cNvPr id="1138" name="PlaceHolder 10"/>
          <p:cNvSpPr>
            <a:spLocks noGrp="1"/>
          </p:cNvSpPr>
          <p:nvPr>
            <p:ph/>
          </p:nvPr>
        </p:nvSpPr>
        <p:spPr>
          <a:xfrm>
            <a:off x="3925440" y="5361120"/>
            <a:ext cx="838440" cy="20304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DINA</a:t>
            </a:r>
            <a:endParaRPr b="0" lang="en-US" sz="1200" spc="-1" strike="noStrike">
              <a:solidFill>
                <a:srgbClr val="494949"/>
              </a:solidFill>
              <a:latin typeface="Open Sans Light"/>
            </a:endParaRPr>
          </a:p>
        </p:txBody>
      </p:sp>
      <p:sp>
        <p:nvSpPr>
          <p:cNvPr id="1139" name="PlaceHolder 11"/>
          <p:cNvSpPr>
            <a:spLocks noGrp="1"/>
          </p:cNvSpPr>
          <p:nvPr>
            <p:ph/>
          </p:nvPr>
        </p:nvSpPr>
        <p:spPr>
          <a:xfrm>
            <a:off x="8986680" y="5571720"/>
            <a:ext cx="124776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PRODUCT MANAGER</a:t>
            </a:r>
            <a:endParaRPr b="0" lang="en-US" sz="900" spc="-1" strike="noStrike">
              <a:solidFill>
                <a:srgbClr val="494949"/>
              </a:solidFill>
              <a:latin typeface="Open Sans Light"/>
            </a:endParaRPr>
          </a:p>
        </p:txBody>
      </p:sp>
      <p:sp>
        <p:nvSpPr>
          <p:cNvPr id="1140" name="PlaceHolder 12"/>
          <p:cNvSpPr>
            <a:spLocks noGrp="1"/>
          </p:cNvSpPr>
          <p:nvPr>
            <p:ph/>
          </p:nvPr>
        </p:nvSpPr>
        <p:spPr>
          <a:xfrm>
            <a:off x="6490800" y="3582720"/>
            <a:ext cx="3619800" cy="51732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a:t>
            </a:r>
            <a:endParaRPr b="0" lang="en-US" sz="1000" spc="-1" strike="noStrike">
              <a:solidFill>
                <a:srgbClr val="494949"/>
              </a:solidFill>
              <a:latin typeface="Open Sans Light"/>
            </a:endParaRPr>
          </a:p>
        </p:txBody>
      </p:sp>
      <p:sp>
        <p:nvSpPr>
          <p:cNvPr id="1141" name="PlaceHolder 13"/>
          <p:cNvSpPr>
            <a:spLocks noGrp="1"/>
          </p:cNvSpPr>
          <p:nvPr>
            <p:ph/>
          </p:nvPr>
        </p:nvSpPr>
        <p:spPr>
          <a:xfrm>
            <a:off x="2081160" y="3582720"/>
            <a:ext cx="3619440" cy="51732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a:t>
            </a:r>
            <a:endParaRPr b="0" lang="en-US" sz="1000" spc="-1" strike="noStrike">
              <a:solidFill>
                <a:srgbClr val="494949"/>
              </a:solidFill>
              <a:latin typeface="Open Sans Light"/>
            </a:endParaRPr>
          </a:p>
        </p:txBody>
      </p:sp>
      <p:sp>
        <p:nvSpPr>
          <p:cNvPr id="1142" name="PlaceHolder 14"/>
          <p:cNvSpPr>
            <a:spLocks noGrp="1"/>
          </p:cNvSpPr>
          <p:nvPr>
            <p:ph/>
          </p:nvPr>
        </p:nvSpPr>
        <p:spPr>
          <a:xfrm>
            <a:off x="2004480" y="5562360"/>
            <a:ext cx="1149480" cy="21276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GRAPHIC DESIGNER</a:t>
            </a:r>
            <a:endParaRPr b="0" lang="en-US" sz="900" spc="-1" strike="noStrike">
              <a:solidFill>
                <a:srgbClr val="494949"/>
              </a:solidFill>
              <a:latin typeface="Open Sans Light"/>
            </a:endParaRPr>
          </a:p>
        </p:txBody>
      </p:sp>
      <p:sp>
        <p:nvSpPr>
          <p:cNvPr id="1143" name="PlaceHolder 15"/>
          <p:cNvSpPr>
            <a:spLocks noGrp="1"/>
          </p:cNvSpPr>
          <p:nvPr>
            <p:ph/>
          </p:nvPr>
        </p:nvSpPr>
        <p:spPr>
          <a:xfrm>
            <a:off x="2160720" y="5355720"/>
            <a:ext cx="83808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 SHIVA</a:t>
            </a:r>
            <a:endParaRPr b="0" lang="en-US" sz="1200" spc="-1" strike="noStrike">
              <a:solidFill>
                <a:srgbClr val="494949"/>
              </a:solidFill>
              <a:latin typeface="Open Sans Light"/>
            </a:endParaRPr>
          </a:p>
        </p:txBody>
      </p:sp>
      <p:sp>
        <p:nvSpPr>
          <p:cNvPr id="1144" name="PlaceHolder 16"/>
          <p:cNvSpPr>
            <a:spLocks noGrp="1"/>
          </p:cNvSpPr>
          <p:nvPr>
            <p:ph/>
          </p:nvPr>
        </p:nvSpPr>
        <p:spPr>
          <a:xfrm>
            <a:off x="7426440" y="5571720"/>
            <a:ext cx="838080" cy="2034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SUPPORT STAFF</a:t>
            </a:r>
            <a:endParaRPr b="0" lang="en-US" sz="900" spc="-1" strike="noStrike">
              <a:solidFill>
                <a:srgbClr val="494949"/>
              </a:solidFill>
              <a:latin typeface="Open Sans Light"/>
            </a:endParaRPr>
          </a:p>
        </p:txBody>
      </p:sp>
      <p:sp>
        <p:nvSpPr>
          <p:cNvPr id="1145" name="PlaceHolder 17"/>
          <p:cNvSpPr>
            <a:spLocks noGrp="1"/>
          </p:cNvSpPr>
          <p:nvPr>
            <p:ph/>
          </p:nvPr>
        </p:nvSpPr>
        <p:spPr>
          <a:xfrm>
            <a:off x="7426440" y="5361120"/>
            <a:ext cx="838080" cy="20304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898989"/>
                </a:solidFill>
                <a:latin typeface="Lato"/>
              </a:rPr>
              <a:t>MRS. ROSE</a:t>
            </a:r>
            <a:endParaRPr b="0" lang="en-US" sz="1200" spc="-1" strike="noStrike">
              <a:solidFill>
                <a:srgbClr val="494949"/>
              </a:solidFill>
              <a:latin typeface="Open Sans Light"/>
            </a:endParaRPr>
          </a:p>
        </p:txBody>
      </p:sp>
      <p:sp>
        <p:nvSpPr>
          <p:cNvPr id="1146" name="Rectangle 53"/>
          <p:cNvSpPr/>
          <p:nvPr/>
        </p:nvSpPr>
        <p:spPr>
          <a:xfrm>
            <a:off x="6195960" y="2685960"/>
            <a:ext cx="4229280" cy="144648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47" name="Rectangle 54"/>
          <p:cNvSpPr/>
          <p:nvPr/>
        </p:nvSpPr>
        <p:spPr>
          <a:xfrm>
            <a:off x="1766880" y="2685960"/>
            <a:ext cx="4248000" cy="144648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48" name="Rectangle 57"/>
          <p:cNvSpPr/>
          <p:nvPr/>
        </p:nvSpPr>
        <p:spPr>
          <a:xfrm>
            <a:off x="1766880" y="4840200"/>
            <a:ext cx="1627200" cy="108432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49" name="Rectangle 58"/>
          <p:cNvSpPr/>
          <p:nvPr/>
        </p:nvSpPr>
        <p:spPr>
          <a:xfrm>
            <a:off x="3529080" y="4840200"/>
            <a:ext cx="1627200" cy="108432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0" name="Rectangle 59"/>
          <p:cNvSpPr/>
          <p:nvPr/>
        </p:nvSpPr>
        <p:spPr>
          <a:xfrm>
            <a:off x="5291280" y="4840200"/>
            <a:ext cx="1627200" cy="108432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1" name="Rectangle 60"/>
          <p:cNvSpPr/>
          <p:nvPr/>
        </p:nvSpPr>
        <p:spPr>
          <a:xfrm>
            <a:off x="7035840" y="4840200"/>
            <a:ext cx="1627200" cy="1084320"/>
          </a:xfrm>
          <a:prstGeom prst="rect">
            <a:avLst/>
          </a:prstGeom>
          <a:noFill/>
          <a:ln w="648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2" name="Text Placeholder 1"/>
          <p:cNvSpPr/>
          <p:nvPr/>
        </p:nvSpPr>
        <p:spPr>
          <a:xfrm>
            <a:off x="3763800" y="5562720"/>
            <a:ext cx="1149480" cy="212760"/>
          </a:xfrm>
          <a:prstGeom prst="rect">
            <a:avLst/>
          </a:prstGeom>
          <a:noFill/>
          <a:ln w="0">
            <a:noFill/>
          </a:ln>
        </p:spPr>
        <p:style>
          <a:lnRef idx="0"/>
          <a:fillRef idx="0"/>
          <a:effectRef idx="0"/>
          <a:fontRef idx="minor"/>
        </p:style>
        <p:txBody>
          <a:bodyPr lIns="0" rIns="0" tIns="0" bIns="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900" spc="-1" strike="noStrike">
                <a:solidFill>
                  <a:srgbClr val="898989"/>
                </a:solidFill>
                <a:latin typeface="Open Sans Light"/>
              </a:rPr>
              <a:t>WEB DEVELOPER</a:t>
            </a:r>
            <a:endParaRPr b="0" lang="en-US" sz="900" spc="-1" strike="noStrike">
              <a:solidFill>
                <a:srgbClr val="494949"/>
              </a:solidFill>
              <a:latin typeface="Open Sans Light"/>
            </a:endParaRPr>
          </a:p>
        </p:txBody>
      </p:sp>
    </p:spTree>
  </p:cSld>
  <p:transition spd="med">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1">
                                  <p:stCondLst>
                                    <p:cond delay="0"/>
                                  </p:stCondLst>
                                  <p:childTnLst>
                                    <p:set>
                                      <p:cBhvr>
                                        <p:cTn id="538" dur="1" fill="hold">
                                          <p:stCondLst>
                                            <p:cond delay="0"/>
                                          </p:stCondLst>
                                        </p:cTn>
                                        <p:tgtEl>
                                          <p:spTgt spid="1147"/>
                                        </p:tgtEl>
                                        <p:attrNameLst>
                                          <p:attrName>style.visibility</p:attrName>
                                        </p:attrNameLst>
                                      </p:cBhvr>
                                      <p:to>
                                        <p:strVal val="visible"/>
                                      </p:to>
                                    </p:set>
                                    <p:animEffect filter="wipe(up)" transition="in">
                                      <p:cBhvr additive="repl">
                                        <p:cTn id="539" dur="500"/>
                                        <p:tgtEl>
                                          <p:spTgt spid="1147"/>
                                        </p:tgtEl>
                                      </p:cBhvr>
                                    </p:animEffect>
                                  </p:childTnLst>
                                </p:cTn>
                              </p:par>
                            </p:childTnLst>
                          </p:cTn>
                        </p:par>
                        <p:par>
                          <p:cTn id="540" fill="hold">
                            <p:stCondLst>
                              <p:cond delay="500"/>
                            </p:stCondLst>
                            <p:childTnLst>
                              <p:par>
                                <p:cTn id="541" nodeType="afterEffect" fill="hold" presetClass="entr" presetID="10">
                                  <p:stCondLst>
                                    <p:cond delay="0"/>
                                  </p:stCondLst>
                                  <p:childTnLst>
                                    <p:set>
                                      <p:cBhvr>
                                        <p:cTn id="542" dur="1" fill="hold">
                                          <p:stCondLst>
                                            <p:cond delay="0"/>
                                          </p:stCondLst>
                                        </p:cTn>
                                        <p:tgtEl>
                                          <p:spTgt spid="1135">
                                            <p:txEl>
                                              <p:pRg st="0" end="0"/>
                                            </p:txEl>
                                          </p:spTgt>
                                        </p:tgtEl>
                                        <p:attrNameLst>
                                          <p:attrName>style.visibility</p:attrName>
                                        </p:attrNameLst>
                                      </p:cBhvr>
                                      <p:to>
                                        <p:strVal val="visible"/>
                                      </p:to>
                                    </p:set>
                                    <p:animEffect filter="fade" transition="in">
                                      <p:cBhvr additive="repl">
                                        <p:cTn id="543" dur="500"/>
                                        <p:tgtEl>
                                          <p:spTgt spid="1135">
                                            <p:txEl>
                                              <p:pRg st="0" end="0"/>
                                            </p:txEl>
                                          </p:spTgt>
                                        </p:tgtEl>
                                      </p:cBhvr>
                                    </p:animEffect>
                                  </p:childTnLst>
                                </p:cTn>
                              </p:par>
                              <p:par>
                                <p:cTn id="544" nodeType="withEffect" fill="hold" presetClass="entr" presetID="10">
                                  <p:stCondLst>
                                    <p:cond delay="0"/>
                                  </p:stCondLst>
                                  <p:childTnLst>
                                    <p:set>
                                      <p:cBhvr>
                                        <p:cTn id="545" dur="1" fill="hold">
                                          <p:stCondLst>
                                            <p:cond delay="0"/>
                                          </p:stCondLst>
                                        </p:cTn>
                                        <p:tgtEl>
                                          <p:spTgt spid="1134">
                                            <p:txEl>
                                              <p:pRg st="0" end="0"/>
                                            </p:txEl>
                                          </p:spTgt>
                                        </p:tgtEl>
                                        <p:attrNameLst>
                                          <p:attrName>style.visibility</p:attrName>
                                        </p:attrNameLst>
                                      </p:cBhvr>
                                      <p:to>
                                        <p:strVal val="visible"/>
                                      </p:to>
                                    </p:set>
                                    <p:animEffect filter="fade" transition="in">
                                      <p:cBhvr additive="repl">
                                        <p:cTn id="546" dur="500"/>
                                        <p:tgtEl>
                                          <p:spTgt spid="1134">
                                            <p:txEl>
                                              <p:pRg st="0" end="0"/>
                                            </p:txEl>
                                          </p:spTgt>
                                        </p:tgtEl>
                                      </p:cBhvr>
                                    </p:animEffect>
                                  </p:childTnLst>
                                </p:cTn>
                              </p:par>
                            </p:childTnLst>
                          </p:cTn>
                        </p:par>
                        <p:par>
                          <p:cTn id="547" fill="hold">
                            <p:stCondLst>
                              <p:cond delay="1000"/>
                            </p:stCondLst>
                            <p:childTnLst>
                              <p:par>
                                <p:cTn id="548" nodeType="afterEffect" fill="hold" presetClass="entr" presetID="10">
                                  <p:stCondLst>
                                    <p:cond delay="0"/>
                                  </p:stCondLst>
                                  <p:childTnLst>
                                    <p:set>
                                      <p:cBhvr>
                                        <p:cTn id="549" dur="1" fill="hold">
                                          <p:stCondLst>
                                            <p:cond delay="0"/>
                                          </p:stCondLst>
                                        </p:cTn>
                                        <p:tgtEl>
                                          <p:spTgt spid="1141">
                                            <p:txEl>
                                              <p:pRg st="0" end="0"/>
                                            </p:txEl>
                                          </p:spTgt>
                                        </p:tgtEl>
                                        <p:attrNameLst>
                                          <p:attrName>style.visibility</p:attrName>
                                        </p:attrNameLst>
                                      </p:cBhvr>
                                      <p:to>
                                        <p:strVal val="visible"/>
                                      </p:to>
                                    </p:set>
                                    <p:animEffect filter="fade" transition="in">
                                      <p:cBhvr additive="repl">
                                        <p:cTn id="550" dur="500"/>
                                        <p:tgtEl>
                                          <p:spTgt spid="1141">
                                            <p:txEl>
                                              <p:pRg st="0" end="0"/>
                                            </p:txEl>
                                          </p:spTgt>
                                        </p:tgtEl>
                                      </p:cBhvr>
                                    </p:animEffect>
                                  </p:childTnLst>
                                </p:cTn>
                              </p:par>
                            </p:childTnLst>
                          </p:cTn>
                        </p:par>
                        <p:par>
                          <p:cTn id="551" fill="hold">
                            <p:stCondLst>
                              <p:cond delay="1500"/>
                            </p:stCondLst>
                            <p:childTnLst>
                              <p:par>
                                <p:cTn id="552" nodeType="afterEffect" fill="hold" presetClass="entr" presetID="22" presetSubtype="1">
                                  <p:stCondLst>
                                    <p:cond delay="0"/>
                                  </p:stCondLst>
                                  <p:childTnLst>
                                    <p:set>
                                      <p:cBhvr>
                                        <p:cTn id="553" dur="1" fill="hold">
                                          <p:stCondLst>
                                            <p:cond delay="0"/>
                                          </p:stCondLst>
                                        </p:cTn>
                                        <p:tgtEl>
                                          <p:spTgt spid="1146"/>
                                        </p:tgtEl>
                                        <p:attrNameLst>
                                          <p:attrName>style.visibility</p:attrName>
                                        </p:attrNameLst>
                                      </p:cBhvr>
                                      <p:to>
                                        <p:strVal val="visible"/>
                                      </p:to>
                                    </p:set>
                                    <p:animEffect filter="wipe(up)" transition="in">
                                      <p:cBhvr additive="repl">
                                        <p:cTn id="554" dur="500"/>
                                        <p:tgtEl>
                                          <p:spTgt spid="1146"/>
                                        </p:tgtEl>
                                      </p:cBhvr>
                                    </p:animEffect>
                                  </p:childTnLst>
                                </p:cTn>
                              </p:par>
                            </p:childTnLst>
                          </p:cTn>
                        </p:par>
                        <p:par>
                          <p:cTn id="555" fill="hold">
                            <p:stCondLst>
                              <p:cond delay="2000"/>
                            </p:stCondLst>
                            <p:childTnLst>
                              <p:par>
                                <p:cTn id="556" nodeType="afterEffect" fill="hold" presetClass="entr" presetID="10">
                                  <p:stCondLst>
                                    <p:cond delay="0"/>
                                  </p:stCondLst>
                                  <p:childTnLst>
                                    <p:set>
                                      <p:cBhvr>
                                        <p:cTn id="557" dur="1" fill="hold">
                                          <p:stCondLst>
                                            <p:cond delay="0"/>
                                          </p:stCondLst>
                                        </p:cTn>
                                        <p:tgtEl>
                                          <p:spTgt spid="1133">
                                            <p:txEl>
                                              <p:pRg st="0" end="0"/>
                                            </p:txEl>
                                          </p:spTgt>
                                        </p:tgtEl>
                                        <p:attrNameLst>
                                          <p:attrName>style.visibility</p:attrName>
                                        </p:attrNameLst>
                                      </p:cBhvr>
                                      <p:to>
                                        <p:strVal val="visible"/>
                                      </p:to>
                                    </p:set>
                                    <p:animEffect filter="fade" transition="in">
                                      <p:cBhvr additive="repl">
                                        <p:cTn id="558" dur="500"/>
                                        <p:tgtEl>
                                          <p:spTgt spid="1133">
                                            <p:txEl>
                                              <p:pRg st="0" end="0"/>
                                            </p:txEl>
                                          </p:spTgt>
                                        </p:tgtEl>
                                      </p:cBhvr>
                                    </p:animEffect>
                                  </p:childTnLst>
                                </p:cTn>
                              </p:par>
                              <p:par>
                                <p:cTn id="559" nodeType="withEffect" fill="hold" presetClass="entr" presetID="10">
                                  <p:stCondLst>
                                    <p:cond delay="0"/>
                                  </p:stCondLst>
                                  <p:childTnLst>
                                    <p:set>
                                      <p:cBhvr>
                                        <p:cTn id="560" dur="1" fill="hold">
                                          <p:stCondLst>
                                            <p:cond delay="0"/>
                                          </p:stCondLst>
                                        </p:cTn>
                                        <p:tgtEl>
                                          <p:spTgt spid="1132">
                                            <p:txEl>
                                              <p:pRg st="0" end="0"/>
                                            </p:txEl>
                                          </p:spTgt>
                                        </p:tgtEl>
                                        <p:attrNameLst>
                                          <p:attrName>style.visibility</p:attrName>
                                        </p:attrNameLst>
                                      </p:cBhvr>
                                      <p:to>
                                        <p:strVal val="visible"/>
                                      </p:to>
                                    </p:set>
                                    <p:animEffect filter="fade" transition="in">
                                      <p:cBhvr additive="repl">
                                        <p:cTn id="561" dur="500"/>
                                        <p:tgtEl>
                                          <p:spTgt spid="1132">
                                            <p:txEl>
                                              <p:pRg st="0" end="0"/>
                                            </p:txEl>
                                          </p:spTgt>
                                        </p:tgtEl>
                                      </p:cBhvr>
                                    </p:animEffect>
                                  </p:childTnLst>
                                </p:cTn>
                              </p:par>
                            </p:childTnLst>
                          </p:cTn>
                        </p:par>
                        <p:par>
                          <p:cTn id="562" fill="hold">
                            <p:stCondLst>
                              <p:cond delay="2500"/>
                            </p:stCondLst>
                            <p:childTnLst>
                              <p:par>
                                <p:cTn id="563" nodeType="afterEffect" fill="hold" presetClass="entr" presetID="10">
                                  <p:stCondLst>
                                    <p:cond delay="0"/>
                                  </p:stCondLst>
                                  <p:childTnLst>
                                    <p:set>
                                      <p:cBhvr>
                                        <p:cTn id="564" dur="1" fill="hold">
                                          <p:stCondLst>
                                            <p:cond delay="0"/>
                                          </p:stCondLst>
                                        </p:cTn>
                                        <p:tgtEl>
                                          <p:spTgt spid="1140">
                                            <p:txEl>
                                              <p:pRg st="0" end="0"/>
                                            </p:txEl>
                                          </p:spTgt>
                                        </p:tgtEl>
                                        <p:attrNameLst>
                                          <p:attrName>style.visibility</p:attrName>
                                        </p:attrNameLst>
                                      </p:cBhvr>
                                      <p:to>
                                        <p:strVal val="visible"/>
                                      </p:to>
                                    </p:set>
                                    <p:animEffect filter="fade" transition="in">
                                      <p:cBhvr additive="repl">
                                        <p:cTn id="565" dur="500"/>
                                        <p:tgtEl>
                                          <p:spTgt spid="1140">
                                            <p:txEl>
                                              <p:pRg st="0" end="0"/>
                                            </p:txEl>
                                          </p:spTgt>
                                        </p:tgtEl>
                                      </p:cBhvr>
                                    </p:animEffect>
                                  </p:childTnLst>
                                </p:cTn>
                              </p:par>
                            </p:childTnLst>
                          </p:cTn>
                        </p:par>
                        <p:par>
                          <p:cTn id="566"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148"/>
                                        </p:tgtEl>
                                        <p:attrNameLst>
                                          <p:attrName>style.visibility</p:attrName>
                                        </p:attrNameLst>
                                      </p:cBhvr>
                                      <p:to>
                                        <p:strVal val="visible"/>
                                      </p:to>
                                    </p:set>
                                    <p:animEffect filter="wipe(up)" transition="in">
                                      <p:cBhvr additive="repl">
                                        <p:cTn id="569" dur="500"/>
                                        <p:tgtEl>
                                          <p:spTgt spid="1148"/>
                                        </p:tgtEl>
                                      </p:cBhvr>
                                    </p:animEffect>
                                  </p:childTnLst>
                                </p:cTn>
                              </p:par>
                            </p:childTnLst>
                          </p:cTn>
                        </p:par>
                        <p:par>
                          <p:cTn id="570" fill="hold">
                            <p:stCondLst>
                              <p:cond delay="3500"/>
                            </p:stCondLst>
                            <p:childTnLst>
                              <p:par>
                                <p:cTn id="571" nodeType="afterEffect" fill="hold" presetClass="entr" presetID="10">
                                  <p:stCondLst>
                                    <p:cond delay="0"/>
                                  </p:stCondLst>
                                  <p:childTnLst>
                                    <p:set>
                                      <p:cBhvr>
                                        <p:cTn id="572" dur="1" fill="hold">
                                          <p:stCondLst>
                                            <p:cond delay="0"/>
                                          </p:stCondLst>
                                        </p:cTn>
                                        <p:tgtEl>
                                          <p:spTgt spid="1143">
                                            <p:txEl>
                                              <p:pRg st="0" end="0"/>
                                            </p:txEl>
                                          </p:spTgt>
                                        </p:tgtEl>
                                        <p:attrNameLst>
                                          <p:attrName>style.visibility</p:attrName>
                                        </p:attrNameLst>
                                      </p:cBhvr>
                                      <p:to>
                                        <p:strVal val="visible"/>
                                      </p:to>
                                    </p:set>
                                    <p:animEffect filter="fade" transition="in">
                                      <p:cBhvr additive="repl">
                                        <p:cTn id="573" dur="500"/>
                                        <p:tgtEl>
                                          <p:spTgt spid="1143">
                                            <p:txEl>
                                              <p:pRg st="0" end="0"/>
                                            </p:txEl>
                                          </p:spTgt>
                                        </p:tgtEl>
                                      </p:cBhvr>
                                    </p:animEffect>
                                  </p:childTnLst>
                                </p:cTn>
                              </p:par>
                              <p:par>
                                <p:cTn id="574" nodeType="withEffect" fill="hold" presetClass="entr" presetID="10">
                                  <p:stCondLst>
                                    <p:cond delay="0"/>
                                  </p:stCondLst>
                                  <p:childTnLst>
                                    <p:set>
                                      <p:cBhvr>
                                        <p:cTn id="575"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576" dur="500"/>
                                        <p:tgtEl>
                                          <p:spTgt spid="1142">
                                            <p:txEl>
                                              <p:pRg st="0" end="0"/>
                                            </p:txEl>
                                          </p:spTgt>
                                        </p:tgtEl>
                                      </p:cBhvr>
                                    </p:animEffect>
                                  </p:childTnLst>
                                </p:cTn>
                              </p:par>
                            </p:childTnLst>
                          </p:cTn>
                        </p:par>
                        <p:par>
                          <p:cTn id="577" fill="hold">
                            <p:stCondLst>
                              <p:cond delay="4000"/>
                            </p:stCondLst>
                            <p:childTnLst>
                              <p:par>
                                <p:cTn id="578" nodeType="afterEffect" fill="hold" presetClass="entr" presetID="22" presetSubtype="1">
                                  <p:stCondLst>
                                    <p:cond delay="0"/>
                                  </p:stCondLst>
                                  <p:childTnLst>
                                    <p:set>
                                      <p:cBhvr>
                                        <p:cTn id="579" dur="1" fill="hold">
                                          <p:stCondLst>
                                            <p:cond delay="0"/>
                                          </p:stCondLst>
                                        </p:cTn>
                                        <p:tgtEl>
                                          <p:spTgt spid="1149"/>
                                        </p:tgtEl>
                                        <p:attrNameLst>
                                          <p:attrName>style.visibility</p:attrName>
                                        </p:attrNameLst>
                                      </p:cBhvr>
                                      <p:to>
                                        <p:strVal val="visible"/>
                                      </p:to>
                                    </p:set>
                                    <p:animEffect filter="wipe(up)" transition="in">
                                      <p:cBhvr additive="repl">
                                        <p:cTn id="580" dur="500"/>
                                        <p:tgtEl>
                                          <p:spTgt spid="1149"/>
                                        </p:tgtEl>
                                      </p:cBhvr>
                                    </p:animEffect>
                                  </p:childTnLst>
                                </p:cTn>
                              </p:par>
                            </p:childTnLst>
                          </p:cTn>
                        </p:par>
                        <p:par>
                          <p:cTn id="581" fill="hold">
                            <p:stCondLst>
                              <p:cond delay="4500"/>
                            </p:stCondLst>
                            <p:childTnLst>
                              <p:par>
                                <p:cTn id="582" nodeType="afterEffect" fill="hold" presetClass="entr" presetID="10">
                                  <p:stCondLst>
                                    <p:cond delay="0"/>
                                  </p:stCondLst>
                                  <p:childTnLst>
                                    <p:set>
                                      <p:cBhvr>
                                        <p:cTn id="583" dur="1" fill="hold">
                                          <p:stCondLst>
                                            <p:cond delay="0"/>
                                          </p:stCondLst>
                                        </p:cTn>
                                        <p:tgtEl>
                                          <p:spTgt spid="1145">
                                            <p:txEl>
                                              <p:pRg st="0" end="0"/>
                                            </p:txEl>
                                          </p:spTgt>
                                        </p:tgtEl>
                                        <p:attrNameLst>
                                          <p:attrName>style.visibility</p:attrName>
                                        </p:attrNameLst>
                                      </p:cBhvr>
                                      <p:to>
                                        <p:strVal val="visible"/>
                                      </p:to>
                                    </p:set>
                                    <p:animEffect filter="fade" transition="in">
                                      <p:cBhvr additive="repl">
                                        <p:cTn id="584" dur="500"/>
                                        <p:tgtEl>
                                          <p:spTgt spid="1145">
                                            <p:txEl>
                                              <p:pRg st="0" end="0"/>
                                            </p:txEl>
                                          </p:spTgt>
                                        </p:tgtEl>
                                      </p:cBhvr>
                                    </p:animEffect>
                                  </p:childTnLst>
                                </p:cTn>
                              </p:par>
                              <p:par>
                                <p:cTn id="585" nodeType="withEffect" fill="hold" presetClass="entr" presetID="10">
                                  <p:stCondLst>
                                    <p:cond delay="0"/>
                                  </p:stCondLst>
                                  <p:childTnLst>
                                    <p:set>
                                      <p:cBhvr>
                                        <p:cTn id="586" dur="1" fill="hold">
                                          <p:stCondLst>
                                            <p:cond delay="0"/>
                                          </p:stCondLst>
                                        </p:cTn>
                                        <p:tgtEl>
                                          <p:spTgt spid="1144">
                                            <p:txEl>
                                              <p:pRg st="0" end="0"/>
                                            </p:txEl>
                                          </p:spTgt>
                                        </p:tgtEl>
                                        <p:attrNameLst>
                                          <p:attrName>style.visibility</p:attrName>
                                        </p:attrNameLst>
                                      </p:cBhvr>
                                      <p:to>
                                        <p:strVal val="visible"/>
                                      </p:to>
                                    </p:set>
                                    <p:animEffect filter="fade" transition="in">
                                      <p:cBhvr additive="repl">
                                        <p:cTn id="587" dur="500"/>
                                        <p:tgtEl>
                                          <p:spTgt spid="1144">
                                            <p:txEl>
                                              <p:pRg st="0" end="0"/>
                                            </p:txEl>
                                          </p:spTgt>
                                        </p:tgtEl>
                                      </p:cBhvr>
                                    </p:animEffect>
                                  </p:childTnLst>
                                </p:cTn>
                              </p:par>
                            </p:childTnLst>
                          </p:cTn>
                        </p:par>
                        <p:par>
                          <p:cTn id="588" fill="hold">
                            <p:stCondLst>
                              <p:cond delay="5000"/>
                            </p:stCondLst>
                            <p:childTnLst>
                              <p:par>
                                <p:cTn id="589" nodeType="afterEffect" fill="hold" presetClass="entr" presetID="22" presetSubtype="1">
                                  <p:stCondLst>
                                    <p:cond delay="0"/>
                                  </p:stCondLst>
                                  <p:childTnLst>
                                    <p:set>
                                      <p:cBhvr>
                                        <p:cTn id="590" dur="1" fill="hold">
                                          <p:stCondLst>
                                            <p:cond delay="0"/>
                                          </p:stCondLst>
                                        </p:cTn>
                                        <p:tgtEl>
                                          <p:spTgt spid="1150"/>
                                        </p:tgtEl>
                                        <p:attrNameLst>
                                          <p:attrName>style.visibility</p:attrName>
                                        </p:attrNameLst>
                                      </p:cBhvr>
                                      <p:to>
                                        <p:strVal val="visible"/>
                                      </p:to>
                                    </p:set>
                                    <p:animEffect filter="wipe(up)" transition="in">
                                      <p:cBhvr additive="repl">
                                        <p:cTn id="591" dur="500"/>
                                        <p:tgtEl>
                                          <p:spTgt spid="1150"/>
                                        </p:tgtEl>
                                      </p:cBhvr>
                                    </p:animEffect>
                                  </p:childTnLst>
                                </p:cTn>
                              </p:par>
                            </p:childTnLst>
                          </p:cTn>
                        </p:par>
                        <p:par>
                          <p:cTn id="592" fill="hold">
                            <p:stCondLst>
                              <p:cond delay="5500"/>
                            </p:stCondLst>
                            <p:childTnLst>
                              <p:par>
                                <p:cTn id="593" nodeType="afterEffect" fill="hold" presetClass="entr" presetID="10">
                                  <p:stCondLst>
                                    <p:cond delay="0"/>
                                  </p:stCondLst>
                                  <p:childTnLst>
                                    <p:set>
                                      <p:cBhvr>
                                        <p:cTn id="594" dur="1" fill="hold">
                                          <p:stCondLst>
                                            <p:cond delay="0"/>
                                          </p:stCondLst>
                                        </p:cTn>
                                        <p:tgtEl>
                                          <p:spTgt spid="1138">
                                            <p:txEl>
                                              <p:pRg st="0" end="0"/>
                                            </p:txEl>
                                          </p:spTgt>
                                        </p:tgtEl>
                                        <p:attrNameLst>
                                          <p:attrName>style.visibility</p:attrName>
                                        </p:attrNameLst>
                                      </p:cBhvr>
                                      <p:to>
                                        <p:strVal val="visible"/>
                                      </p:to>
                                    </p:set>
                                    <p:animEffect filter="fade" transition="in">
                                      <p:cBhvr additive="repl">
                                        <p:cTn id="595" dur="500"/>
                                        <p:tgtEl>
                                          <p:spTgt spid="1138">
                                            <p:txEl>
                                              <p:pRg st="0" end="0"/>
                                            </p:txEl>
                                          </p:spTgt>
                                        </p:tgtEl>
                                      </p:cBhvr>
                                    </p:animEffect>
                                  </p:childTnLst>
                                </p:cTn>
                              </p:par>
                              <p:par>
                                <p:cTn id="596" nodeType="withEffect" fill="hold" presetClass="entr" presetID="10">
                                  <p:stCondLst>
                                    <p:cond delay="0"/>
                                  </p:stCondLst>
                                  <p:childTnLst>
                                    <p:set>
                                      <p:cBhvr>
                                        <p:cTn id="597" dur="1" fill="hold">
                                          <p:stCondLst>
                                            <p:cond delay="0"/>
                                          </p:stCondLst>
                                        </p:cTn>
                                        <p:tgtEl>
                                          <p:spTgt spid="1139">
                                            <p:txEl>
                                              <p:pRg st="0" end="0"/>
                                            </p:txEl>
                                          </p:spTgt>
                                        </p:tgtEl>
                                        <p:attrNameLst>
                                          <p:attrName>style.visibility</p:attrName>
                                        </p:attrNameLst>
                                      </p:cBhvr>
                                      <p:to>
                                        <p:strVal val="visible"/>
                                      </p:to>
                                    </p:set>
                                    <p:animEffect filter="fade" transition="in">
                                      <p:cBhvr additive="repl">
                                        <p:cTn id="598" dur="500"/>
                                        <p:tgtEl>
                                          <p:spTgt spid="1139">
                                            <p:txEl>
                                              <p:pRg st="0" end="0"/>
                                            </p:txEl>
                                          </p:spTgt>
                                        </p:tgtEl>
                                      </p:cBhvr>
                                    </p:animEffect>
                                  </p:childTnLst>
                                </p:cTn>
                              </p:par>
                            </p:childTnLst>
                          </p:cTn>
                        </p:par>
                        <p:par>
                          <p:cTn id="599" fill="hold">
                            <p:stCondLst>
                              <p:cond delay="6000"/>
                            </p:stCondLst>
                            <p:childTnLst>
                              <p:par>
                                <p:cTn id="600" nodeType="afterEffect" fill="hold" presetClass="entr" presetID="22" presetSubtype="1">
                                  <p:stCondLst>
                                    <p:cond delay="0"/>
                                  </p:stCondLst>
                                  <p:childTnLst>
                                    <p:set>
                                      <p:cBhvr>
                                        <p:cTn id="601" dur="1" fill="hold">
                                          <p:stCondLst>
                                            <p:cond delay="0"/>
                                          </p:stCondLst>
                                        </p:cTn>
                                        <p:tgtEl>
                                          <p:spTgt spid="1151"/>
                                        </p:tgtEl>
                                        <p:attrNameLst>
                                          <p:attrName>style.visibility</p:attrName>
                                        </p:attrNameLst>
                                      </p:cBhvr>
                                      <p:to>
                                        <p:strVal val="visible"/>
                                      </p:to>
                                    </p:set>
                                    <p:animEffect filter="wipe(up)" transition="in">
                                      <p:cBhvr additive="repl">
                                        <p:cTn id="602" dur="500"/>
                                        <p:tgtEl>
                                          <p:spTgt spid="1151"/>
                                        </p:tgtEl>
                                      </p:cBhvr>
                                    </p:animEffect>
                                  </p:childTnLst>
                                </p:cTn>
                              </p:par>
                            </p:childTnLst>
                          </p:cTn>
                        </p:par>
                        <p:par>
                          <p:cTn id="603" fill="hold">
                            <p:stCondLst>
                              <p:cond delay="6500"/>
                            </p:stCondLst>
                            <p:childTnLst>
                              <p:par>
                                <p:cTn id="604" nodeType="afterEffect" fill="hold" presetClass="entr" presetID="10">
                                  <p:stCondLst>
                                    <p:cond delay="0"/>
                                  </p:stCondLst>
                                  <p:childTnLst>
                                    <p:set>
                                      <p:cBhvr>
                                        <p:cTn id="605" dur="1" fill="hold">
                                          <p:stCondLst>
                                            <p:cond delay="0"/>
                                          </p:stCondLst>
                                        </p:cTn>
                                        <p:tgtEl>
                                          <p:spTgt spid="1136">
                                            <p:txEl>
                                              <p:pRg st="0" end="0"/>
                                            </p:txEl>
                                          </p:spTgt>
                                        </p:tgtEl>
                                        <p:attrNameLst>
                                          <p:attrName>style.visibility</p:attrName>
                                        </p:attrNameLst>
                                      </p:cBhvr>
                                      <p:to>
                                        <p:strVal val="visible"/>
                                      </p:to>
                                    </p:set>
                                    <p:animEffect filter="fade" transition="in">
                                      <p:cBhvr additive="repl">
                                        <p:cTn id="606" dur="500"/>
                                        <p:tgtEl>
                                          <p:spTgt spid="1136">
                                            <p:txEl>
                                              <p:pRg st="0" end="0"/>
                                            </p:txEl>
                                          </p:spTgt>
                                        </p:tgtEl>
                                      </p:cBhvr>
                                    </p:animEffect>
                                  </p:childTnLst>
                                </p:cTn>
                              </p:par>
                              <p:par>
                                <p:cTn id="607" nodeType="withEffect" fill="hold" presetClass="entr" presetID="10">
                                  <p:stCondLst>
                                    <p:cond delay="0"/>
                                  </p:stCondLst>
                                  <p:childTnLst>
                                    <p:set>
                                      <p:cBhvr>
                                        <p:cTn id="608" dur="1" fill="hold">
                                          <p:stCondLst>
                                            <p:cond delay="0"/>
                                          </p:stCondLst>
                                        </p:cTn>
                                        <p:tgtEl>
                                          <p:spTgt spid="1137">
                                            <p:txEl>
                                              <p:pRg st="0" end="0"/>
                                            </p:txEl>
                                          </p:spTgt>
                                        </p:tgtEl>
                                        <p:attrNameLst>
                                          <p:attrName>style.visibility</p:attrName>
                                        </p:attrNameLst>
                                      </p:cBhvr>
                                      <p:to>
                                        <p:strVal val="visible"/>
                                      </p:to>
                                    </p:set>
                                    <p:animEffect filter="fade" transition="in">
                                      <p:cBhvr additive="repl">
                                        <p:cTn id="609" dur="500"/>
                                        <p:tgtEl>
                                          <p:spTgt spid="1137">
                                            <p:txEl>
                                              <p:pRg st="0" end="0"/>
                                            </p:txEl>
                                          </p:spTgt>
                                        </p:tgtEl>
                                      </p:cBhvr>
                                    </p:animEffect>
                                  </p:childTnLst>
                                </p:cTn>
                              </p:par>
                            </p:childTnLst>
                          </p:cTn>
                        </p:par>
                        <p:par>
                          <p:cTn id="610" fill="hold">
                            <p:stCondLst>
                              <p:cond delay="7000"/>
                            </p:stCondLst>
                            <p:childTnLst>
                              <p:par>
                                <p:cTn id="611" nodeType="afterEffect" fill="hold" presetClass="entr" presetID="22" presetSubtype="1">
                                  <p:stCondLst>
                                    <p:cond delay="0"/>
                                  </p:stCondLst>
                                  <p:childTnLst>
                                    <p:set>
                                      <p:cBhvr>
                                        <p:cTn id="612" dur="1" fill="hold">
                                          <p:stCondLst>
                                            <p:cond delay="0"/>
                                          </p:stCondLst>
                                        </p:cTn>
                                        <p:tgtEl>
                                          <p:spTgt spid="1128"/>
                                        </p:tgtEl>
                                        <p:attrNameLst>
                                          <p:attrName>style.visibility</p:attrName>
                                        </p:attrNameLst>
                                      </p:cBhvr>
                                      <p:to>
                                        <p:strVal val="visible"/>
                                      </p:to>
                                    </p:set>
                                    <p:animEffect filter="wipe(up)" transition="in">
                                      <p:cBhvr additive="repl">
                                        <p:cTn id="613" dur="500"/>
                                        <p:tgtEl>
                                          <p:spTgt spid="1128"/>
                                        </p:tgtEl>
                                      </p:cBhvr>
                                    </p:animEffect>
                                  </p:childTnLst>
                                </p:cTn>
                              </p:par>
                            </p:childTnLst>
                          </p:cTn>
                        </p:par>
                        <p:par>
                          <p:cTn id="614" fill="hold">
                            <p:stCondLst>
                              <p:cond delay="7500"/>
                            </p:stCondLst>
                            <p:childTnLst>
                              <p:par>
                                <p:cTn id="615" nodeType="afterEffect" fill="hold" presetClass="entr" presetID="10">
                                  <p:stCondLst>
                                    <p:cond delay="0"/>
                                  </p:stCondLst>
                                  <p:childTnLst>
                                    <p:set>
                                      <p:cBhvr>
                                        <p:cTn id="616" dur="1" fill="hold">
                                          <p:stCondLst>
                                            <p:cond delay="0"/>
                                          </p:stCondLst>
                                        </p:cTn>
                                        <p:tgtEl>
                                          <p:spTgt spid="1131">
                                            <p:txEl>
                                              <p:pRg st="0" end="0"/>
                                            </p:txEl>
                                          </p:spTgt>
                                        </p:tgtEl>
                                        <p:attrNameLst>
                                          <p:attrName>style.visibility</p:attrName>
                                        </p:attrNameLst>
                                      </p:cBhvr>
                                      <p:to>
                                        <p:strVal val="visible"/>
                                      </p:to>
                                    </p:set>
                                    <p:animEffect filter="fade" transition="in">
                                      <p:cBhvr additive="repl">
                                        <p:cTn id="617" dur="500"/>
                                        <p:tgtEl>
                                          <p:spTgt spid="1131">
                                            <p:txEl>
                                              <p:pRg st="0" end="0"/>
                                            </p:txEl>
                                          </p:spTgt>
                                        </p:tgtEl>
                                      </p:cBhvr>
                                    </p:animEffect>
                                  </p:childTnLst>
                                </p:cTn>
                              </p:par>
                              <p:par>
                                <p:cTn id="618" nodeType="withEffect" fill="hold" presetClass="entr" presetID="10">
                                  <p:stCondLst>
                                    <p:cond delay="0"/>
                                  </p:stCondLst>
                                  <p:childTnLst>
                                    <p:set>
                                      <p:cBhvr>
                                        <p:cTn id="619" dur="1" fill="hold">
                                          <p:stCondLst>
                                            <p:cond delay="0"/>
                                          </p:stCondLst>
                                        </p:cTn>
                                        <p:tgtEl>
                                          <p:spTgt spid="1152">
                                            <p:txEl>
                                              <p:pRg st="0" end="0"/>
                                            </p:txEl>
                                          </p:spTgt>
                                        </p:tgtEl>
                                        <p:attrNameLst>
                                          <p:attrName>style.visibility</p:attrName>
                                        </p:attrNameLst>
                                      </p:cBhvr>
                                      <p:to>
                                        <p:strVal val="visible"/>
                                      </p:to>
                                    </p:set>
                                    <p:animEffect filter="fade" transition="in">
                                      <p:cBhvr additive="repl">
                                        <p:cTn id="620" dur="500"/>
                                        <p:tgtEl>
                                          <p:spTgt spid="1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48"/>
          <p:cNvSpPr/>
          <p:nvPr/>
        </p:nvSpPr>
        <p:spPr>
          <a:xfrm>
            <a:off x="1082520" y="4137120"/>
            <a:ext cx="1962360" cy="61920"/>
          </a:xfrm>
          <a:prstGeom prst="rect">
            <a:avLst/>
          </a:prstGeom>
          <a:solidFill>
            <a:srgbClr val="00a09c"/>
          </a:solidFill>
          <a:ln w="0">
            <a:noFill/>
          </a:ln>
        </p:spPr>
        <p:style>
          <a:lnRef idx="0"/>
          <a:fillRef idx="0"/>
          <a:effectRef idx="0"/>
          <a:fontRef idx="minor"/>
        </p:style>
        <p:txBody>
          <a:bodyPr lIns="90000" rIns="90000" tIns="15120" bIns="151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4" name="Rectangle 25"/>
          <p:cNvSpPr/>
          <p:nvPr/>
        </p:nvSpPr>
        <p:spPr>
          <a:xfrm>
            <a:off x="9156600" y="4137120"/>
            <a:ext cx="1962360" cy="61920"/>
          </a:xfrm>
          <a:prstGeom prst="rect">
            <a:avLst/>
          </a:prstGeom>
          <a:solidFill>
            <a:srgbClr val="00a09c"/>
          </a:solidFill>
          <a:ln w="0">
            <a:noFill/>
          </a:ln>
        </p:spPr>
        <p:style>
          <a:lnRef idx="0"/>
          <a:fillRef idx="0"/>
          <a:effectRef idx="0"/>
          <a:fontRef idx="minor"/>
        </p:style>
        <p:txBody>
          <a:bodyPr lIns="90000" rIns="90000" tIns="15120" bIns="151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5" name="Rectangle 34"/>
          <p:cNvSpPr/>
          <p:nvPr/>
        </p:nvSpPr>
        <p:spPr>
          <a:xfrm>
            <a:off x="6589800" y="4137120"/>
            <a:ext cx="1962000" cy="61920"/>
          </a:xfrm>
          <a:prstGeom prst="rect">
            <a:avLst/>
          </a:prstGeom>
          <a:solidFill>
            <a:srgbClr val="00a09c"/>
          </a:solidFill>
          <a:ln w="0">
            <a:noFill/>
          </a:ln>
        </p:spPr>
        <p:style>
          <a:lnRef idx="0"/>
          <a:fillRef idx="0"/>
          <a:effectRef idx="0"/>
          <a:fontRef idx="minor"/>
        </p:style>
        <p:txBody>
          <a:bodyPr lIns="90000" rIns="90000" tIns="15120" bIns="151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6" name="Rectangle 39"/>
          <p:cNvSpPr/>
          <p:nvPr/>
        </p:nvSpPr>
        <p:spPr>
          <a:xfrm>
            <a:off x="3835440" y="4137120"/>
            <a:ext cx="1963800" cy="61920"/>
          </a:xfrm>
          <a:prstGeom prst="rect">
            <a:avLst/>
          </a:prstGeom>
          <a:solidFill>
            <a:srgbClr val="00a09c"/>
          </a:solidFill>
          <a:ln w="0">
            <a:noFill/>
          </a:ln>
        </p:spPr>
        <p:style>
          <a:lnRef idx="0"/>
          <a:fillRef idx="0"/>
          <a:effectRef idx="0"/>
          <a:fontRef idx="minor"/>
        </p:style>
        <p:txBody>
          <a:bodyPr lIns="90000" rIns="90000" tIns="15120" bIns="151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57" name="PlaceHolder 1"/>
          <p:cNvSpPr>
            <a:spLocks noGrp="1"/>
          </p:cNvSpPr>
          <p:nvPr>
            <p:ph/>
          </p:nvPr>
        </p:nvSpPr>
        <p:spPr>
          <a:xfrm>
            <a:off x="6589800" y="5024520"/>
            <a:ext cx="1868400" cy="9144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 lorem consectetur baraka simanuk hem barakachem tarakacheok tok</a:t>
            </a:r>
            <a:endParaRPr b="0" lang="en-US" sz="1000" spc="-1" strike="noStrike">
              <a:solidFill>
                <a:srgbClr val="494949"/>
              </a:solidFill>
              <a:latin typeface="Open Sans Light"/>
            </a:endParaRPr>
          </a:p>
        </p:txBody>
      </p:sp>
      <p:sp>
        <p:nvSpPr>
          <p:cNvPr id="1158" name="PlaceHolder 2"/>
          <p:cNvSpPr>
            <a:spLocks noGrp="1"/>
          </p:cNvSpPr>
          <p:nvPr>
            <p:ph/>
          </p:nvPr>
        </p:nvSpPr>
        <p:spPr>
          <a:xfrm>
            <a:off x="3835440" y="5024520"/>
            <a:ext cx="1913040" cy="9144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 lorem consectetur baraka simanuk hem barakachem tarakacheok tok</a:t>
            </a:r>
            <a:endParaRPr b="0" lang="en-US" sz="1000" spc="-1" strike="noStrike">
              <a:solidFill>
                <a:srgbClr val="494949"/>
              </a:solidFill>
              <a:latin typeface="Open Sans Light"/>
            </a:endParaRPr>
          </a:p>
        </p:txBody>
      </p:sp>
      <p:sp>
        <p:nvSpPr>
          <p:cNvPr id="1159" name="PlaceHolder 3"/>
          <p:cNvSpPr>
            <a:spLocks noGrp="1"/>
          </p:cNvSpPr>
          <p:nvPr>
            <p:ph/>
          </p:nvPr>
        </p:nvSpPr>
        <p:spPr>
          <a:xfrm>
            <a:off x="1082160" y="4484520"/>
            <a:ext cx="196236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98989"/>
                </a:solidFill>
                <a:latin typeface="Lato"/>
              </a:rPr>
              <a:t>MR. JOHN DOE</a:t>
            </a:r>
            <a:endParaRPr b="0" lang="en-US" sz="1400" spc="-1" strike="noStrike">
              <a:solidFill>
                <a:srgbClr val="494949"/>
              </a:solidFill>
              <a:latin typeface="Open Sans Light"/>
            </a:endParaRPr>
          </a:p>
        </p:txBody>
      </p:sp>
      <p:sp>
        <p:nvSpPr>
          <p:cNvPr id="1160" name="PlaceHolder 4"/>
          <p:cNvSpPr>
            <a:spLocks noGrp="1"/>
          </p:cNvSpPr>
          <p:nvPr>
            <p:ph/>
          </p:nvPr>
        </p:nvSpPr>
        <p:spPr>
          <a:xfrm>
            <a:off x="3835080" y="4712760"/>
            <a:ext cx="1082520" cy="20196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98989"/>
                </a:solidFill>
                <a:latin typeface="Open Sans Light"/>
              </a:rPr>
              <a:t>Art Director</a:t>
            </a:r>
            <a:endParaRPr b="0" lang="en-US" sz="1000" spc="-1" strike="noStrike">
              <a:solidFill>
                <a:srgbClr val="494949"/>
              </a:solidFill>
              <a:latin typeface="Open Sans Light"/>
            </a:endParaRPr>
          </a:p>
        </p:txBody>
      </p:sp>
      <p:sp>
        <p:nvSpPr>
          <p:cNvPr id="1161" name="PlaceHolder 5"/>
          <p:cNvSpPr>
            <a:spLocks noGrp="1"/>
          </p:cNvSpPr>
          <p:nvPr>
            <p:ph/>
          </p:nvPr>
        </p:nvSpPr>
        <p:spPr>
          <a:xfrm>
            <a:off x="3835080" y="4484520"/>
            <a:ext cx="196380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98989"/>
                </a:solidFill>
                <a:latin typeface="Lato"/>
              </a:rPr>
              <a:t>MRS. SARAH</a:t>
            </a:r>
            <a:endParaRPr b="0" lang="en-US" sz="1400" spc="-1" strike="noStrike">
              <a:solidFill>
                <a:srgbClr val="494949"/>
              </a:solidFill>
              <a:latin typeface="Open Sans Light"/>
            </a:endParaRPr>
          </a:p>
        </p:txBody>
      </p:sp>
      <p:sp>
        <p:nvSpPr>
          <p:cNvPr id="1162" name="PlaceHolder 6"/>
          <p:cNvSpPr>
            <a:spLocks noGrp="1"/>
          </p:cNvSpPr>
          <p:nvPr>
            <p:ph/>
          </p:nvPr>
        </p:nvSpPr>
        <p:spPr>
          <a:xfrm>
            <a:off x="1082520" y="4712760"/>
            <a:ext cx="1484640" cy="20196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98989"/>
                </a:solidFill>
                <a:latin typeface="Open Sans Light"/>
              </a:rPr>
              <a:t>Marketing Director</a:t>
            </a:r>
            <a:endParaRPr b="0" lang="en-US" sz="1000" spc="-1" strike="noStrike">
              <a:solidFill>
                <a:srgbClr val="494949"/>
              </a:solidFill>
              <a:latin typeface="Open Sans Light"/>
            </a:endParaRPr>
          </a:p>
        </p:txBody>
      </p:sp>
      <p:sp>
        <p:nvSpPr>
          <p:cNvPr id="1163" name="PlaceHolder 7"/>
          <p:cNvSpPr>
            <a:spLocks noGrp="1"/>
          </p:cNvSpPr>
          <p:nvPr>
            <p:ph/>
          </p:nvPr>
        </p:nvSpPr>
        <p:spPr>
          <a:xfrm>
            <a:off x="9156240" y="4484520"/>
            <a:ext cx="196236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98989"/>
                </a:solidFill>
                <a:latin typeface="Lato"/>
              </a:rPr>
              <a:t>MR. JOE CAM</a:t>
            </a:r>
            <a:endParaRPr b="0" lang="en-US" sz="1400" spc="-1" strike="noStrike">
              <a:solidFill>
                <a:srgbClr val="494949"/>
              </a:solidFill>
              <a:latin typeface="Open Sans Light"/>
            </a:endParaRPr>
          </a:p>
        </p:txBody>
      </p:sp>
      <p:sp>
        <p:nvSpPr>
          <p:cNvPr id="1164" name="PlaceHolder 8"/>
          <p:cNvSpPr>
            <a:spLocks noGrp="1"/>
          </p:cNvSpPr>
          <p:nvPr>
            <p:ph/>
          </p:nvPr>
        </p:nvSpPr>
        <p:spPr>
          <a:xfrm>
            <a:off x="9156240" y="4712760"/>
            <a:ext cx="1623960" cy="20196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98989"/>
                </a:solidFill>
                <a:latin typeface="Open Sans Light"/>
              </a:rPr>
              <a:t>Technique Director</a:t>
            </a:r>
            <a:endParaRPr b="0" lang="en-US" sz="1000" spc="-1" strike="noStrike">
              <a:solidFill>
                <a:srgbClr val="494949"/>
              </a:solidFill>
              <a:latin typeface="Open Sans Light"/>
            </a:endParaRPr>
          </a:p>
        </p:txBody>
      </p:sp>
      <p:sp>
        <p:nvSpPr>
          <p:cNvPr id="1165" name="PlaceHolder 9"/>
          <p:cNvSpPr>
            <a:spLocks noGrp="1"/>
          </p:cNvSpPr>
          <p:nvPr>
            <p:ph/>
          </p:nvPr>
        </p:nvSpPr>
        <p:spPr>
          <a:xfrm>
            <a:off x="6589800" y="4712760"/>
            <a:ext cx="1347840" cy="20196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98989"/>
                </a:solidFill>
                <a:latin typeface="Open Sans Light"/>
              </a:rPr>
              <a:t>Product Director</a:t>
            </a:r>
            <a:endParaRPr b="0" lang="en-US" sz="1000" spc="-1" strike="noStrike">
              <a:solidFill>
                <a:srgbClr val="494949"/>
              </a:solidFill>
              <a:latin typeface="Open Sans Light"/>
            </a:endParaRPr>
          </a:p>
        </p:txBody>
      </p:sp>
      <p:sp>
        <p:nvSpPr>
          <p:cNvPr id="1166" name="PlaceHolder 10"/>
          <p:cNvSpPr>
            <a:spLocks noGrp="1"/>
          </p:cNvSpPr>
          <p:nvPr>
            <p:ph/>
          </p:nvPr>
        </p:nvSpPr>
        <p:spPr>
          <a:xfrm>
            <a:off x="6589800" y="4484520"/>
            <a:ext cx="196200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98989"/>
                </a:solidFill>
                <a:latin typeface="Lato"/>
              </a:rPr>
              <a:t>MRS. RUHA</a:t>
            </a:r>
            <a:endParaRPr b="0" lang="en-US" sz="1400" spc="-1" strike="noStrike">
              <a:solidFill>
                <a:srgbClr val="494949"/>
              </a:solidFill>
              <a:latin typeface="Open Sans Light"/>
            </a:endParaRPr>
          </a:p>
        </p:txBody>
      </p:sp>
      <p:sp>
        <p:nvSpPr>
          <p:cNvPr id="1167" name="PlaceHolder 11"/>
          <p:cNvSpPr>
            <a:spLocks noGrp="1"/>
          </p:cNvSpPr>
          <p:nvPr>
            <p:ph/>
          </p:nvPr>
        </p:nvSpPr>
        <p:spPr>
          <a:xfrm>
            <a:off x="1082160" y="5024520"/>
            <a:ext cx="1892520" cy="9144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 lorem consectetur baraka simanuk hem barakachem tarakacheok tok</a:t>
            </a:r>
            <a:endParaRPr b="0" lang="en-US" sz="1000" spc="-1" strike="noStrike">
              <a:solidFill>
                <a:srgbClr val="494949"/>
              </a:solidFill>
              <a:latin typeface="Open Sans Light"/>
            </a:endParaRPr>
          </a:p>
        </p:txBody>
      </p:sp>
      <p:sp>
        <p:nvSpPr>
          <p:cNvPr id="1168" name="PlaceHolder 12"/>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PROFESSIONAL TEAM</a:t>
            </a:r>
            <a:endParaRPr b="0" lang="en-US" sz="3600" spc="-1" strike="noStrike">
              <a:solidFill>
                <a:srgbClr val="494949"/>
              </a:solidFill>
              <a:latin typeface="Lato Heavy"/>
            </a:endParaRPr>
          </a:p>
        </p:txBody>
      </p:sp>
      <p:sp>
        <p:nvSpPr>
          <p:cNvPr id="1169" name="PlaceHolder 13"/>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170" name="Text Placeholder 1"/>
          <p:cNvSpPr/>
          <p:nvPr/>
        </p:nvSpPr>
        <p:spPr>
          <a:xfrm>
            <a:off x="9156600" y="5024520"/>
            <a:ext cx="1868760" cy="914400"/>
          </a:xfrm>
          <a:prstGeom prst="rect">
            <a:avLst/>
          </a:prstGeom>
          <a:noFill/>
          <a:ln w="0">
            <a:noFill/>
          </a:ln>
        </p:spPr>
        <p:style>
          <a:lnRef idx="0"/>
          <a:fillRef idx="0"/>
          <a:effectRef idx="0"/>
          <a:fontRef idx="minor"/>
        </p:style>
        <p:txBody>
          <a:bodyPr lIns="0" rIns="0" tIns="46800" bIns="46800" anchor="t">
            <a:norm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 lorem consectetur baraka simanuk hem barakachem tarakacheok tok</a:t>
            </a:r>
            <a:endParaRPr b="0" lang="en-US" sz="1000" spc="-1" strike="noStrike">
              <a:solidFill>
                <a:srgbClr val="494949"/>
              </a:solidFill>
              <a:latin typeface="Open Sans Light"/>
            </a:endParaRPr>
          </a:p>
        </p:txBody>
      </p:sp>
      <p:pic>
        <p:nvPicPr>
          <p:cNvPr id="1171" name="" descr=""/>
          <p:cNvPicPr/>
          <p:nvPr/>
        </p:nvPicPr>
        <p:blipFill>
          <a:blip r:embed="rId1"/>
          <a:stretch/>
        </p:blipFill>
        <p:spPr>
          <a:xfrm>
            <a:off x="1082160" y="2234880"/>
            <a:ext cx="1962360" cy="1901880"/>
          </a:xfrm>
          <a:prstGeom prst="rect">
            <a:avLst/>
          </a:prstGeom>
          <a:ln w="0">
            <a:noFill/>
          </a:ln>
        </p:spPr>
      </p:pic>
      <p:pic>
        <p:nvPicPr>
          <p:cNvPr id="1172" name="" descr=""/>
          <p:cNvPicPr/>
          <p:nvPr/>
        </p:nvPicPr>
        <p:blipFill>
          <a:blip r:embed="rId2"/>
          <a:stretch/>
        </p:blipFill>
        <p:spPr>
          <a:xfrm>
            <a:off x="3835080" y="2234880"/>
            <a:ext cx="1963800" cy="1901880"/>
          </a:xfrm>
          <a:prstGeom prst="rect">
            <a:avLst/>
          </a:prstGeom>
          <a:ln w="0">
            <a:noFill/>
          </a:ln>
        </p:spPr>
      </p:pic>
      <p:pic>
        <p:nvPicPr>
          <p:cNvPr id="1173" name="" descr=""/>
          <p:cNvPicPr/>
          <p:nvPr/>
        </p:nvPicPr>
        <p:blipFill>
          <a:blip r:embed="rId3"/>
          <a:stretch/>
        </p:blipFill>
        <p:spPr>
          <a:xfrm>
            <a:off x="6589800" y="2234880"/>
            <a:ext cx="1962000" cy="1901880"/>
          </a:xfrm>
          <a:prstGeom prst="rect">
            <a:avLst/>
          </a:prstGeom>
          <a:ln w="0">
            <a:noFill/>
          </a:ln>
        </p:spPr>
      </p:pic>
      <p:pic>
        <p:nvPicPr>
          <p:cNvPr id="1174" name="" descr=""/>
          <p:cNvPicPr/>
          <p:nvPr/>
        </p:nvPicPr>
        <p:blipFill>
          <a:blip r:embed="rId4"/>
          <a:stretch/>
        </p:blipFill>
        <p:spPr>
          <a:xfrm>
            <a:off x="9156240" y="2234880"/>
            <a:ext cx="1962360" cy="1901880"/>
          </a:xfrm>
          <a:prstGeom prst="rect">
            <a:avLst/>
          </a:prstGeom>
          <a:ln w="0">
            <a:noFill/>
          </a:ln>
        </p:spPr>
      </p:pic>
    </p:spTree>
  </p:cSld>
  <p:transition spd="med">
    <p:fade/>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10">
                                  <p:stCondLst>
                                    <p:cond delay="0"/>
                                  </p:stCondLst>
                                  <p:childTnLst>
                                    <p:set>
                                      <p:cBhvr>
                                        <p:cTn id="626" dur="1" fill="hold">
                                          <p:stCondLst>
                                            <p:cond delay="0"/>
                                          </p:stCondLst>
                                        </p:cTn>
                                        <p:tgtEl>
                                          <p:spTgt spid="1153"/>
                                        </p:tgtEl>
                                        <p:attrNameLst>
                                          <p:attrName>style.visibility</p:attrName>
                                        </p:attrNameLst>
                                      </p:cBhvr>
                                      <p:to>
                                        <p:strVal val="visible"/>
                                      </p:to>
                                    </p:set>
                                    <p:animEffect filter="fade" transition="in">
                                      <p:cBhvr additive="repl">
                                        <p:cTn id="627" dur="500"/>
                                        <p:tgtEl>
                                          <p:spTgt spid="1153"/>
                                        </p:tgtEl>
                                      </p:cBhvr>
                                    </p:animEffect>
                                  </p:childTnLst>
                                </p:cTn>
                              </p:par>
                            </p:childTnLst>
                          </p:cTn>
                        </p:par>
                        <p:par>
                          <p:cTn id="628" fill="hold">
                            <p:stCondLst>
                              <p:cond delay="500"/>
                            </p:stCondLst>
                            <p:childTnLst>
                              <p:par>
                                <p:cTn id="629" nodeType="afterEffect" fill="hold" presetClass="entr" presetID="10">
                                  <p:stCondLst>
                                    <p:cond delay="0"/>
                                  </p:stCondLst>
                                  <p:childTnLst>
                                    <p:set>
                                      <p:cBhvr>
                                        <p:cTn id="630" dur="1" fill="hold">
                                          <p:stCondLst>
                                            <p:cond delay="0"/>
                                          </p:stCondLst>
                                        </p:cTn>
                                        <p:tgtEl>
                                          <p:spTgt spid="1159">
                                            <p:txEl>
                                              <p:pRg st="0" end="0"/>
                                            </p:txEl>
                                          </p:spTgt>
                                        </p:tgtEl>
                                        <p:attrNameLst>
                                          <p:attrName>style.visibility</p:attrName>
                                        </p:attrNameLst>
                                      </p:cBhvr>
                                      <p:to>
                                        <p:strVal val="visible"/>
                                      </p:to>
                                    </p:set>
                                    <p:animEffect filter="fade" transition="in">
                                      <p:cBhvr additive="repl">
                                        <p:cTn id="631" dur="500"/>
                                        <p:tgtEl>
                                          <p:spTgt spid="1159">
                                            <p:txEl>
                                              <p:pRg st="0" end="0"/>
                                            </p:txEl>
                                          </p:spTgt>
                                        </p:tgtEl>
                                      </p:cBhvr>
                                    </p:animEffect>
                                  </p:childTnLst>
                                </p:cTn>
                              </p:par>
                              <p:par>
                                <p:cTn id="632" nodeType="withEffect" fill="hold" presetClass="entr" presetID="10">
                                  <p:stCondLst>
                                    <p:cond delay="0"/>
                                  </p:stCondLst>
                                  <p:childTnLst>
                                    <p:set>
                                      <p:cBhvr>
                                        <p:cTn id="633" dur="1" fill="hold">
                                          <p:stCondLst>
                                            <p:cond delay="0"/>
                                          </p:stCondLst>
                                        </p:cTn>
                                        <p:tgtEl>
                                          <p:spTgt spid="1160">
                                            <p:txEl>
                                              <p:pRg st="0" end="0"/>
                                            </p:txEl>
                                          </p:spTgt>
                                        </p:tgtEl>
                                        <p:attrNameLst>
                                          <p:attrName>style.visibility</p:attrName>
                                        </p:attrNameLst>
                                      </p:cBhvr>
                                      <p:to>
                                        <p:strVal val="visible"/>
                                      </p:to>
                                    </p:set>
                                    <p:animEffect filter="fade" transition="in">
                                      <p:cBhvr additive="repl">
                                        <p:cTn id="634" dur="500"/>
                                        <p:tgtEl>
                                          <p:spTgt spid="1160">
                                            <p:txEl>
                                              <p:pRg st="0" end="0"/>
                                            </p:txEl>
                                          </p:spTgt>
                                        </p:tgtEl>
                                      </p:cBhvr>
                                    </p:animEffect>
                                  </p:childTnLst>
                                </p:cTn>
                              </p:par>
                              <p:par>
                                <p:cTn id="635" nodeType="withEffect" fill="hold" presetClass="entr" presetID="10">
                                  <p:stCondLst>
                                    <p:cond delay="0"/>
                                  </p:stCondLst>
                                  <p:childTnLst>
                                    <p:set>
                                      <p:cBhvr>
                                        <p:cTn id="636" dur="1" fill="hold">
                                          <p:stCondLst>
                                            <p:cond delay="0"/>
                                          </p:stCondLst>
                                        </p:cTn>
                                        <p:tgtEl>
                                          <p:spTgt spid="1156"/>
                                        </p:tgtEl>
                                        <p:attrNameLst>
                                          <p:attrName>style.visibility</p:attrName>
                                        </p:attrNameLst>
                                      </p:cBhvr>
                                      <p:to>
                                        <p:strVal val="visible"/>
                                      </p:to>
                                    </p:set>
                                    <p:animEffect filter="fade" transition="in">
                                      <p:cBhvr additive="repl">
                                        <p:cTn id="637" dur="500"/>
                                        <p:tgtEl>
                                          <p:spTgt spid="1156"/>
                                        </p:tgtEl>
                                      </p:cBhvr>
                                    </p:animEffect>
                                  </p:childTnLst>
                                </p:cTn>
                              </p:par>
                            </p:childTnLst>
                          </p:cTn>
                        </p:par>
                        <p:par>
                          <p:cTn id="638" fill="hold">
                            <p:stCondLst>
                              <p:cond delay="1000"/>
                            </p:stCondLst>
                            <p:childTnLst>
                              <p:par>
                                <p:cTn id="639" nodeType="afterEffect" fill="hold" presetClass="entr" presetID="10">
                                  <p:stCondLst>
                                    <p:cond delay="0"/>
                                  </p:stCondLst>
                                  <p:childTnLst>
                                    <p:set>
                                      <p:cBhvr>
                                        <p:cTn id="640" dur="1" fill="hold">
                                          <p:stCondLst>
                                            <p:cond delay="0"/>
                                          </p:stCondLst>
                                        </p:cTn>
                                        <p:tgtEl>
                                          <p:spTgt spid="1161">
                                            <p:txEl>
                                              <p:pRg st="0" end="0"/>
                                            </p:txEl>
                                          </p:spTgt>
                                        </p:tgtEl>
                                        <p:attrNameLst>
                                          <p:attrName>style.visibility</p:attrName>
                                        </p:attrNameLst>
                                      </p:cBhvr>
                                      <p:to>
                                        <p:strVal val="visible"/>
                                      </p:to>
                                    </p:set>
                                    <p:animEffect filter="fade" transition="in">
                                      <p:cBhvr additive="repl">
                                        <p:cTn id="641" dur="500"/>
                                        <p:tgtEl>
                                          <p:spTgt spid="1161">
                                            <p:txEl>
                                              <p:pRg st="0" end="0"/>
                                            </p:txEl>
                                          </p:spTgt>
                                        </p:tgtEl>
                                      </p:cBhvr>
                                    </p:animEffect>
                                  </p:childTnLst>
                                </p:cTn>
                              </p:par>
                              <p:par>
                                <p:cTn id="642" nodeType="withEffect" fill="hold" presetClass="entr" presetID="10">
                                  <p:stCondLst>
                                    <p:cond delay="0"/>
                                  </p:stCondLst>
                                  <p:childTnLst>
                                    <p:set>
                                      <p:cBhvr>
                                        <p:cTn id="643" dur="1" fill="hold">
                                          <p:stCondLst>
                                            <p:cond delay="0"/>
                                          </p:stCondLst>
                                        </p:cTn>
                                        <p:tgtEl>
                                          <p:spTgt spid="1162">
                                            <p:txEl>
                                              <p:pRg st="0" end="0"/>
                                            </p:txEl>
                                          </p:spTgt>
                                        </p:tgtEl>
                                        <p:attrNameLst>
                                          <p:attrName>style.visibility</p:attrName>
                                        </p:attrNameLst>
                                      </p:cBhvr>
                                      <p:to>
                                        <p:strVal val="visible"/>
                                      </p:to>
                                    </p:set>
                                    <p:animEffect filter="fade" transition="in">
                                      <p:cBhvr additive="repl">
                                        <p:cTn id="644" dur="500"/>
                                        <p:tgtEl>
                                          <p:spTgt spid="1162">
                                            <p:txEl>
                                              <p:pRg st="0" end="0"/>
                                            </p:txEl>
                                          </p:spTgt>
                                        </p:tgtEl>
                                      </p:cBhvr>
                                    </p:animEffect>
                                  </p:childTnLst>
                                </p:cTn>
                              </p:par>
                            </p:childTnLst>
                          </p:cTn>
                        </p:par>
                        <p:par>
                          <p:cTn id="645" fill="hold">
                            <p:stCondLst>
                              <p:cond delay="1500"/>
                            </p:stCondLst>
                            <p:childTnLst>
                              <p:par>
                                <p:cTn id="646" nodeType="afterEffect" fill="hold" presetClass="entr" presetID="10">
                                  <p:stCondLst>
                                    <p:cond delay="0"/>
                                  </p:stCondLst>
                                  <p:childTnLst>
                                    <p:set>
                                      <p:cBhvr>
                                        <p:cTn id="647" dur="1" fill="hold">
                                          <p:stCondLst>
                                            <p:cond delay="0"/>
                                          </p:stCondLst>
                                        </p:cTn>
                                        <p:tgtEl>
                                          <p:spTgt spid="1167">
                                            <p:txEl>
                                              <p:pRg st="0" end="0"/>
                                            </p:txEl>
                                          </p:spTgt>
                                        </p:tgtEl>
                                        <p:attrNameLst>
                                          <p:attrName>style.visibility</p:attrName>
                                        </p:attrNameLst>
                                      </p:cBhvr>
                                      <p:to>
                                        <p:strVal val="visible"/>
                                      </p:to>
                                    </p:set>
                                    <p:animEffect filter="fade" transition="in">
                                      <p:cBhvr additive="repl">
                                        <p:cTn id="648" dur="500"/>
                                        <p:tgtEl>
                                          <p:spTgt spid="1167">
                                            <p:txEl>
                                              <p:pRg st="0" end="0"/>
                                            </p:txEl>
                                          </p:spTgt>
                                        </p:tgtEl>
                                      </p:cBhvr>
                                    </p:animEffect>
                                  </p:childTnLst>
                                </p:cTn>
                              </p:par>
                              <p:par>
                                <p:cTn id="649" nodeType="withEffect" fill="hold" presetClass="entr" presetID="10">
                                  <p:stCondLst>
                                    <p:cond delay="0"/>
                                  </p:stCondLst>
                                  <p:childTnLst>
                                    <p:set>
                                      <p:cBhvr>
                                        <p:cTn id="650" dur="1" fill="hold">
                                          <p:stCondLst>
                                            <p:cond delay="0"/>
                                          </p:stCondLst>
                                        </p:cTn>
                                        <p:tgtEl>
                                          <p:spTgt spid="1155"/>
                                        </p:tgtEl>
                                        <p:attrNameLst>
                                          <p:attrName>style.visibility</p:attrName>
                                        </p:attrNameLst>
                                      </p:cBhvr>
                                      <p:to>
                                        <p:strVal val="visible"/>
                                      </p:to>
                                    </p:set>
                                    <p:animEffect filter="fade" transition="in">
                                      <p:cBhvr additive="repl">
                                        <p:cTn id="651" dur="500"/>
                                        <p:tgtEl>
                                          <p:spTgt spid="1155"/>
                                        </p:tgtEl>
                                      </p:cBhvr>
                                    </p:animEffect>
                                  </p:childTnLst>
                                </p:cTn>
                              </p:par>
                            </p:childTnLst>
                          </p:cTn>
                        </p:par>
                        <p:par>
                          <p:cTn id="652" fill="hold">
                            <p:stCondLst>
                              <p:cond delay="2000"/>
                            </p:stCondLst>
                            <p:childTnLst>
                              <p:par>
                                <p:cTn id="653" nodeType="afterEffect" fill="hold" presetClass="entr" presetID="10">
                                  <p:stCondLst>
                                    <p:cond delay="0"/>
                                  </p:stCondLst>
                                  <p:childTnLst>
                                    <p:set>
                                      <p:cBhvr>
                                        <p:cTn id="654" dur="1" fill="hold">
                                          <p:stCondLst>
                                            <p:cond delay="0"/>
                                          </p:stCondLst>
                                        </p:cTn>
                                        <p:tgtEl>
                                          <p:spTgt spid="1166">
                                            <p:txEl>
                                              <p:pRg st="0" end="0"/>
                                            </p:txEl>
                                          </p:spTgt>
                                        </p:tgtEl>
                                        <p:attrNameLst>
                                          <p:attrName>style.visibility</p:attrName>
                                        </p:attrNameLst>
                                      </p:cBhvr>
                                      <p:to>
                                        <p:strVal val="visible"/>
                                      </p:to>
                                    </p:set>
                                    <p:animEffect filter="fade" transition="in">
                                      <p:cBhvr additive="repl">
                                        <p:cTn id="655" dur="500"/>
                                        <p:tgtEl>
                                          <p:spTgt spid="1166">
                                            <p:txEl>
                                              <p:pRg st="0" end="0"/>
                                            </p:txEl>
                                          </p:spTgt>
                                        </p:tgtEl>
                                      </p:cBhvr>
                                    </p:animEffect>
                                  </p:childTnLst>
                                </p:cTn>
                              </p:par>
                              <p:par>
                                <p:cTn id="656" nodeType="withEffect" fill="hold" presetClass="entr" presetID="10">
                                  <p:stCondLst>
                                    <p:cond delay="0"/>
                                  </p:stCondLst>
                                  <p:childTnLst>
                                    <p:set>
                                      <p:cBhvr>
                                        <p:cTn id="657" dur="1" fill="hold">
                                          <p:stCondLst>
                                            <p:cond delay="0"/>
                                          </p:stCondLst>
                                        </p:cTn>
                                        <p:tgtEl>
                                          <p:spTgt spid="1165">
                                            <p:txEl>
                                              <p:pRg st="0" end="0"/>
                                            </p:txEl>
                                          </p:spTgt>
                                        </p:tgtEl>
                                        <p:attrNameLst>
                                          <p:attrName>style.visibility</p:attrName>
                                        </p:attrNameLst>
                                      </p:cBhvr>
                                      <p:to>
                                        <p:strVal val="visible"/>
                                      </p:to>
                                    </p:set>
                                    <p:animEffect filter="fade" transition="in">
                                      <p:cBhvr additive="repl">
                                        <p:cTn id="658" dur="500"/>
                                        <p:tgtEl>
                                          <p:spTgt spid="1165">
                                            <p:txEl>
                                              <p:pRg st="0" end="0"/>
                                            </p:txEl>
                                          </p:spTgt>
                                        </p:tgtEl>
                                      </p:cBhvr>
                                    </p:animEffect>
                                  </p:childTnLst>
                                </p:cTn>
                              </p:par>
                            </p:childTnLst>
                          </p:cTn>
                        </p:par>
                        <p:par>
                          <p:cTn id="659" fill="hold">
                            <p:stCondLst>
                              <p:cond delay="2500"/>
                            </p:stCondLst>
                            <p:childTnLst>
                              <p:par>
                                <p:cTn id="660" nodeType="afterEffect" fill="hold" presetClass="entr" presetID="10">
                                  <p:stCondLst>
                                    <p:cond delay="0"/>
                                  </p:stCondLst>
                                  <p:childTnLst>
                                    <p:set>
                                      <p:cBhvr>
                                        <p:cTn id="661" dur="1" fill="hold">
                                          <p:stCondLst>
                                            <p:cond delay="0"/>
                                          </p:stCondLst>
                                        </p:cTn>
                                        <p:tgtEl>
                                          <p:spTgt spid="1157">
                                            <p:txEl>
                                              <p:pRg st="0" end="0"/>
                                            </p:txEl>
                                          </p:spTgt>
                                        </p:tgtEl>
                                        <p:attrNameLst>
                                          <p:attrName>style.visibility</p:attrName>
                                        </p:attrNameLst>
                                      </p:cBhvr>
                                      <p:to>
                                        <p:strVal val="visible"/>
                                      </p:to>
                                    </p:set>
                                    <p:animEffect filter="fade" transition="in">
                                      <p:cBhvr additive="repl">
                                        <p:cTn id="662" dur="500"/>
                                        <p:tgtEl>
                                          <p:spTgt spid="1157">
                                            <p:txEl>
                                              <p:pRg st="0" end="0"/>
                                            </p:txEl>
                                          </p:spTgt>
                                        </p:tgtEl>
                                      </p:cBhvr>
                                    </p:animEffect>
                                  </p:childTnLst>
                                </p:cTn>
                              </p:par>
                              <p:par>
                                <p:cTn id="663" nodeType="withEffect" fill="hold" presetClass="entr" presetID="10">
                                  <p:stCondLst>
                                    <p:cond delay="0"/>
                                  </p:stCondLst>
                                  <p:childTnLst>
                                    <p:set>
                                      <p:cBhvr>
                                        <p:cTn id="664" dur="1" fill="hold">
                                          <p:stCondLst>
                                            <p:cond delay="0"/>
                                          </p:stCondLst>
                                        </p:cTn>
                                        <p:tgtEl>
                                          <p:spTgt spid="1154"/>
                                        </p:tgtEl>
                                        <p:attrNameLst>
                                          <p:attrName>style.visibility</p:attrName>
                                        </p:attrNameLst>
                                      </p:cBhvr>
                                      <p:to>
                                        <p:strVal val="visible"/>
                                      </p:to>
                                    </p:set>
                                    <p:animEffect filter="fade" transition="in">
                                      <p:cBhvr additive="repl">
                                        <p:cTn id="665" dur="500"/>
                                        <p:tgtEl>
                                          <p:spTgt spid="1154"/>
                                        </p:tgtEl>
                                      </p:cBhvr>
                                    </p:animEffect>
                                  </p:childTnLst>
                                </p:cTn>
                              </p:par>
                            </p:childTnLst>
                          </p:cTn>
                        </p:par>
                        <p:par>
                          <p:cTn id="666" fill="hold">
                            <p:stCondLst>
                              <p:cond delay="3000"/>
                            </p:stCondLst>
                            <p:childTnLst>
                              <p:par>
                                <p:cTn id="667" nodeType="afterEffect" fill="hold" presetClass="entr" presetID="10">
                                  <p:stCondLst>
                                    <p:cond delay="0"/>
                                  </p:stCondLst>
                                  <p:childTnLst>
                                    <p:set>
                                      <p:cBhvr>
                                        <p:cTn id="668" dur="1" fill="hold">
                                          <p:stCondLst>
                                            <p:cond delay="0"/>
                                          </p:stCondLst>
                                        </p:cTn>
                                        <p:tgtEl>
                                          <p:spTgt spid="1163">
                                            <p:txEl>
                                              <p:pRg st="0" end="0"/>
                                            </p:txEl>
                                          </p:spTgt>
                                        </p:tgtEl>
                                        <p:attrNameLst>
                                          <p:attrName>style.visibility</p:attrName>
                                        </p:attrNameLst>
                                      </p:cBhvr>
                                      <p:to>
                                        <p:strVal val="visible"/>
                                      </p:to>
                                    </p:set>
                                    <p:animEffect filter="fade" transition="in">
                                      <p:cBhvr additive="repl">
                                        <p:cTn id="669" dur="500"/>
                                        <p:tgtEl>
                                          <p:spTgt spid="1163">
                                            <p:txEl>
                                              <p:pRg st="0" end="0"/>
                                            </p:txEl>
                                          </p:spTgt>
                                        </p:tgtEl>
                                      </p:cBhvr>
                                    </p:animEffect>
                                  </p:childTnLst>
                                </p:cTn>
                              </p:par>
                              <p:par>
                                <p:cTn id="670" nodeType="withEffect" fill="hold" presetClass="entr" presetID="10">
                                  <p:stCondLst>
                                    <p:cond delay="0"/>
                                  </p:stCondLst>
                                  <p:childTnLst>
                                    <p:set>
                                      <p:cBhvr>
                                        <p:cTn id="671" dur="1" fill="hold">
                                          <p:stCondLst>
                                            <p:cond delay="0"/>
                                          </p:stCondLst>
                                        </p:cTn>
                                        <p:tgtEl>
                                          <p:spTgt spid="1164">
                                            <p:txEl>
                                              <p:pRg st="0" end="0"/>
                                            </p:txEl>
                                          </p:spTgt>
                                        </p:tgtEl>
                                        <p:attrNameLst>
                                          <p:attrName>style.visibility</p:attrName>
                                        </p:attrNameLst>
                                      </p:cBhvr>
                                      <p:to>
                                        <p:strVal val="visible"/>
                                      </p:to>
                                    </p:set>
                                    <p:animEffect filter="fade" transition="in">
                                      <p:cBhvr additive="repl">
                                        <p:cTn id="672" dur="500"/>
                                        <p:tgtEl>
                                          <p:spTgt spid="1164">
                                            <p:txEl>
                                              <p:pRg st="0" end="0"/>
                                            </p:txEl>
                                          </p:spTgt>
                                        </p:tgtEl>
                                      </p:cBhvr>
                                    </p:animEffect>
                                  </p:childTnLst>
                                </p:cTn>
                              </p:par>
                            </p:childTnLst>
                          </p:cTn>
                        </p:par>
                        <p:par>
                          <p:cTn id="673" fill="hold">
                            <p:stCondLst>
                              <p:cond delay="3500"/>
                            </p:stCondLst>
                            <p:childTnLst>
                              <p:par>
                                <p:cTn id="674" nodeType="afterEffect" fill="hold" presetClass="entr" presetID="10">
                                  <p:stCondLst>
                                    <p:cond delay="0"/>
                                  </p:stCondLst>
                                  <p:childTnLst>
                                    <p:set>
                                      <p:cBhvr>
                                        <p:cTn id="675" dur="1" fill="hold">
                                          <p:stCondLst>
                                            <p:cond delay="0"/>
                                          </p:stCondLst>
                                        </p:cTn>
                                        <p:tgtEl>
                                          <p:spTgt spid="1158">
                                            <p:txEl>
                                              <p:pRg st="0" end="0"/>
                                            </p:txEl>
                                          </p:spTgt>
                                        </p:tgtEl>
                                        <p:attrNameLst>
                                          <p:attrName>style.visibility</p:attrName>
                                        </p:attrNameLst>
                                      </p:cBhvr>
                                      <p:to>
                                        <p:strVal val="visible"/>
                                      </p:to>
                                    </p:set>
                                    <p:animEffect filter="fade" transition="in">
                                      <p:cBhvr additive="repl">
                                        <p:cTn id="676" dur="500"/>
                                        <p:tgtEl>
                                          <p:spTgt spid="1158">
                                            <p:txEl>
                                              <p:pRg st="0" end="0"/>
                                            </p:txEl>
                                          </p:spTgt>
                                        </p:tgtEl>
                                      </p:cBhvr>
                                    </p:animEffect>
                                  </p:childTnLst>
                                </p:cTn>
                              </p:par>
                            </p:childTnLst>
                          </p:cTn>
                        </p:par>
                        <p:par>
                          <p:cTn id="677" fill="hold">
                            <p:stCondLst>
                              <p:cond delay="4000"/>
                            </p:stCondLst>
                            <p:childTnLst>
                              <p:par>
                                <p:cTn id="678" nodeType="afterEffect" fill="hold" presetClass="entr" presetID="10">
                                  <p:stCondLst>
                                    <p:cond delay="0"/>
                                  </p:stCondLst>
                                  <p:childTnLst>
                                    <p:set>
                                      <p:cBhvr>
                                        <p:cTn id="679" dur="1" fill="hold">
                                          <p:stCondLst>
                                            <p:cond delay="0"/>
                                          </p:stCondLst>
                                        </p:cTn>
                                        <p:tgtEl>
                                          <p:spTgt spid="1170">
                                            <p:txEl>
                                              <p:pRg st="0" end="0"/>
                                            </p:txEl>
                                          </p:spTgt>
                                        </p:tgtEl>
                                        <p:attrNameLst>
                                          <p:attrName>style.visibility</p:attrName>
                                        </p:attrNameLst>
                                      </p:cBhvr>
                                      <p:to>
                                        <p:strVal val="visible"/>
                                      </p:to>
                                    </p:set>
                                    <p:animEffect filter="fade" transition="in">
                                      <p:cBhvr additive="repl">
                                        <p:cTn id="680" dur="500"/>
                                        <p:tgtEl>
                                          <p:spTgt spid="1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48"/>
          <p:cNvSpPr/>
          <p:nvPr/>
        </p:nvSpPr>
        <p:spPr>
          <a:xfrm>
            <a:off x="1758960" y="3808440"/>
            <a:ext cx="1574640" cy="58680"/>
          </a:xfrm>
          <a:prstGeom prst="rect">
            <a:avLst/>
          </a:prstGeom>
          <a:solidFill>
            <a:srgbClr val="00a09c"/>
          </a:solidFill>
          <a:ln w="0">
            <a:noFill/>
          </a:ln>
        </p:spPr>
        <p:style>
          <a:lnRef idx="0"/>
          <a:fillRef idx="0"/>
          <a:effectRef idx="0"/>
          <a:fontRef idx="minor"/>
        </p:style>
        <p:txBody>
          <a:bodyPr lIns="90000" rIns="90000" tIns="11880" bIns="11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176"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600" spc="-1" strike="noStrike">
                <a:solidFill>
                  <a:srgbClr val="2d3f51"/>
                </a:solidFill>
                <a:latin typeface="Lato Heavy"/>
              </a:rPr>
              <a:t>SINGLE TEAM INFO</a:t>
            </a:r>
            <a:endParaRPr b="0" lang="en-US" sz="3600" spc="-1" strike="noStrike">
              <a:solidFill>
                <a:srgbClr val="494949"/>
              </a:solidFill>
              <a:latin typeface="Lato Heavy"/>
            </a:endParaRPr>
          </a:p>
        </p:txBody>
      </p:sp>
      <p:sp>
        <p:nvSpPr>
          <p:cNvPr id="1177" name="PlaceHolder 2"/>
          <p:cNvSpPr>
            <a:spLocks noGrp="1"/>
          </p:cNvSpPr>
          <p:nvPr>
            <p:ph/>
          </p:nvPr>
        </p:nvSpPr>
        <p:spPr>
          <a:xfrm>
            <a:off x="8426160" y="3511440"/>
            <a:ext cx="1082520" cy="20160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Lato"/>
              </a:rPr>
              <a:t>INDESIGN</a:t>
            </a:r>
            <a:endParaRPr b="0" lang="en-US" sz="1000" spc="-1" strike="noStrike">
              <a:solidFill>
                <a:srgbClr val="494949"/>
              </a:solidFill>
              <a:latin typeface="Open Sans Light"/>
            </a:endParaRPr>
          </a:p>
        </p:txBody>
      </p:sp>
      <p:sp>
        <p:nvSpPr>
          <p:cNvPr id="1178" name="PlaceHolder 3"/>
          <p:cNvSpPr>
            <a:spLocks noGrp="1"/>
          </p:cNvSpPr>
          <p:nvPr>
            <p:ph/>
          </p:nvPr>
        </p:nvSpPr>
        <p:spPr>
          <a:xfrm>
            <a:off x="8437680" y="2227320"/>
            <a:ext cx="128592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SKILLS</a:t>
            </a:r>
            <a:endParaRPr b="0" lang="en-US" sz="1600" spc="-1" strike="noStrike">
              <a:solidFill>
                <a:srgbClr val="494949"/>
              </a:solidFill>
              <a:latin typeface="Open Sans Light"/>
            </a:endParaRPr>
          </a:p>
        </p:txBody>
      </p:sp>
      <p:sp>
        <p:nvSpPr>
          <p:cNvPr id="1179" name="PlaceHolder 4"/>
          <p:cNvSpPr>
            <a:spLocks noGrp="1"/>
          </p:cNvSpPr>
          <p:nvPr>
            <p:ph/>
          </p:nvPr>
        </p:nvSpPr>
        <p:spPr>
          <a:xfrm>
            <a:off x="4597200" y="2482920"/>
            <a:ext cx="1082520" cy="2030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100" spc="-1" strike="noStrike">
                <a:solidFill>
                  <a:srgbClr val="898989"/>
                </a:solidFill>
                <a:latin typeface="Open Sans Light"/>
              </a:rPr>
              <a:t>Art Director</a:t>
            </a:r>
            <a:endParaRPr b="0" lang="en-US" sz="1100" spc="-1" strike="noStrike">
              <a:solidFill>
                <a:srgbClr val="494949"/>
              </a:solidFill>
              <a:latin typeface="Open Sans Light"/>
            </a:endParaRPr>
          </a:p>
        </p:txBody>
      </p:sp>
      <p:sp>
        <p:nvSpPr>
          <p:cNvPr id="1180" name="PlaceHolder 5"/>
          <p:cNvSpPr>
            <a:spLocks noGrp="1"/>
          </p:cNvSpPr>
          <p:nvPr>
            <p:ph/>
          </p:nvPr>
        </p:nvSpPr>
        <p:spPr>
          <a:xfrm>
            <a:off x="4597200" y="2227320"/>
            <a:ext cx="1523880" cy="2318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MR. JOHN DOE</a:t>
            </a:r>
            <a:endParaRPr b="0" lang="en-US" sz="1600" spc="-1" strike="noStrike">
              <a:solidFill>
                <a:srgbClr val="494949"/>
              </a:solidFill>
              <a:latin typeface="Open Sans Light"/>
            </a:endParaRPr>
          </a:p>
        </p:txBody>
      </p:sp>
      <p:sp>
        <p:nvSpPr>
          <p:cNvPr id="1181" name="PlaceHolder 6"/>
          <p:cNvSpPr>
            <a:spLocks noGrp="1"/>
          </p:cNvSpPr>
          <p:nvPr>
            <p:ph/>
          </p:nvPr>
        </p:nvSpPr>
        <p:spPr>
          <a:xfrm>
            <a:off x="4597560" y="2924280"/>
            <a:ext cx="2622240" cy="2457360"/>
          </a:xfrm>
          <a:prstGeom prst="rect">
            <a:avLst/>
          </a:prstGeom>
          <a:noFill/>
          <a:ln w="0">
            <a:noFill/>
          </a:ln>
        </p:spPr>
        <p:txBody>
          <a:bodyPr lIns="0" rIns="0" tIns="0" b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dolor sit amet, lorem consectetur baraka simanuk hem barakachem tok tok beungek dem demi min ocopnokonrono simo nongkrong kareungteng  adipiscing elit. Lorem Ipsum unde omnis iste natus error sit alay.</a:t>
            </a:r>
            <a:endParaRPr b="0" lang="en-US" sz="1000" spc="-1" strike="noStrike">
              <a:solidFill>
                <a:srgbClr val="494949"/>
              </a:solidFill>
              <a:latin typeface="Open Sans Light"/>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accusantium doloremque laudantium, totam rem aperiam, eaque ipsa quae ab illo inventore veritatis et quasi architecto beatae vitae dicta sunt explicabo. Nemo enim ipsam voluptatem quia voluptas sit aspernatur aut odit aut fugitvitae dicta sunt explicabo. Nemo enim ipsam voluptatem quia voluptas sit aspernatur aut odit aut.</a:t>
            </a:r>
            <a:endParaRPr b="0" lang="en-US" sz="1000" spc="-1" strike="noStrike">
              <a:solidFill>
                <a:srgbClr val="494949"/>
              </a:solidFill>
              <a:latin typeface="Open Sans Light"/>
            </a:endParaRPr>
          </a:p>
          <a:p>
            <a:pPr indent="0">
              <a:lnSpc>
                <a:spcPct val="10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494949"/>
              </a:solidFill>
              <a:latin typeface="Open Sans Light"/>
            </a:endParaRPr>
          </a:p>
        </p:txBody>
      </p:sp>
      <p:sp>
        <p:nvSpPr>
          <p:cNvPr id="1182" name="PlaceHolder 7"/>
          <p:cNvSpPr>
            <a:spLocks noGrp="1"/>
          </p:cNvSpPr>
          <p:nvPr>
            <p:ph/>
          </p:nvPr>
        </p:nvSpPr>
        <p:spPr>
          <a:xfrm>
            <a:off x="8426160" y="2936880"/>
            <a:ext cx="1082520" cy="2030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Lato"/>
              </a:rPr>
              <a:t>PHOTOSHOP</a:t>
            </a:r>
            <a:endParaRPr b="0" lang="en-US" sz="1000" spc="-1" strike="noStrike">
              <a:solidFill>
                <a:srgbClr val="494949"/>
              </a:solidFill>
              <a:latin typeface="Open Sans Light"/>
            </a:endParaRPr>
          </a:p>
        </p:txBody>
      </p:sp>
      <p:sp>
        <p:nvSpPr>
          <p:cNvPr id="1183" name="PlaceHolder 8"/>
          <p:cNvSpPr>
            <a:spLocks noGrp="1"/>
          </p:cNvSpPr>
          <p:nvPr>
            <p:ph/>
          </p:nvPr>
        </p:nvSpPr>
        <p:spPr>
          <a:xfrm>
            <a:off x="10091880" y="3203640"/>
            <a:ext cx="274320" cy="203040"/>
          </a:xfrm>
          <a:prstGeom prst="rect">
            <a:avLst/>
          </a:prstGeom>
          <a:noFill/>
          <a:ln w="0">
            <a:noFill/>
          </a:ln>
        </p:spPr>
        <p:txBody>
          <a:bodyPr lIns="0" rIns="0" tIns="0" bIns="0" anchor="ctr">
            <a:normAutofit fontScale="93000"/>
          </a:bodyPr>
          <a:p>
            <a:pPr indent="0" algn="ctr">
              <a:lnSpc>
                <a:spcPct val="7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100" spc="-1" strike="noStrike">
                <a:solidFill>
                  <a:srgbClr val="898989"/>
                </a:solidFill>
                <a:latin typeface="Open Sans Light"/>
              </a:rPr>
              <a:t>70%</a:t>
            </a:r>
            <a:endParaRPr b="0" lang="en-US" sz="1100" spc="-1" strike="noStrike">
              <a:solidFill>
                <a:srgbClr val="494949"/>
              </a:solidFill>
              <a:latin typeface="Open Sans Light"/>
            </a:endParaRPr>
          </a:p>
        </p:txBody>
      </p:sp>
      <p:sp>
        <p:nvSpPr>
          <p:cNvPr id="1184" name="PlaceHolder 9"/>
          <p:cNvSpPr>
            <a:spLocks noGrp="1"/>
          </p:cNvSpPr>
          <p:nvPr>
            <p:ph/>
          </p:nvPr>
        </p:nvSpPr>
        <p:spPr>
          <a:xfrm>
            <a:off x="8426160" y="4145040"/>
            <a:ext cx="1082520" cy="20304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Lato"/>
              </a:rPr>
              <a:t>ILLUSTRATOR</a:t>
            </a:r>
            <a:endParaRPr b="0" lang="en-US" sz="1000" spc="-1" strike="noStrike">
              <a:solidFill>
                <a:srgbClr val="494949"/>
              </a:solidFill>
              <a:latin typeface="Open Sans Light"/>
            </a:endParaRPr>
          </a:p>
        </p:txBody>
      </p:sp>
      <p:sp>
        <p:nvSpPr>
          <p:cNvPr id="1185" name="PlaceHolder 10"/>
          <p:cNvSpPr>
            <a:spLocks noGrp="1"/>
          </p:cNvSpPr>
          <p:nvPr>
            <p:ph/>
          </p:nvPr>
        </p:nvSpPr>
        <p:spPr>
          <a:xfrm>
            <a:off x="2028960" y="4946760"/>
            <a:ext cx="1449360" cy="20304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898989"/>
                </a:solidFill>
                <a:latin typeface="Open Sans Light"/>
              </a:rPr>
              <a:t>Devian_John_doe55</a:t>
            </a:r>
            <a:endParaRPr b="0" lang="en-US" sz="900" spc="-1" strike="noStrike">
              <a:solidFill>
                <a:srgbClr val="494949"/>
              </a:solidFill>
              <a:latin typeface="Open Sans Light"/>
            </a:endParaRPr>
          </a:p>
        </p:txBody>
      </p:sp>
      <p:sp>
        <p:nvSpPr>
          <p:cNvPr id="1186" name="PlaceHolder 11"/>
          <p:cNvSpPr>
            <a:spLocks noGrp="1"/>
          </p:cNvSpPr>
          <p:nvPr>
            <p:ph/>
          </p:nvPr>
        </p:nvSpPr>
        <p:spPr>
          <a:xfrm>
            <a:off x="2028960" y="4660920"/>
            <a:ext cx="1449360" cy="20304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898989"/>
                </a:solidFill>
                <a:latin typeface="Open Sans Light"/>
              </a:rPr>
              <a:t>googleplusebJohn_doe55</a:t>
            </a:r>
            <a:endParaRPr b="0" lang="en-US" sz="900" spc="-1" strike="noStrike">
              <a:solidFill>
                <a:srgbClr val="494949"/>
              </a:solidFill>
              <a:latin typeface="Open Sans Light"/>
            </a:endParaRPr>
          </a:p>
        </p:txBody>
      </p:sp>
      <p:sp>
        <p:nvSpPr>
          <p:cNvPr id="1187" name="PlaceHolder 12"/>
          <p:cNvSpPr>
            <a:spLocks noGrp="1"/>
          </p:cNvSpPr>
          <p:nvPr>
            <p:ph/>
          </p:nvPr>
        </p:nvSpPr>
        <p:spPr>
          <a:xfrm>
            <a:off x="2028600" y="4378320"/>
            <a:ext cx="1447560" cy="20304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898989"/>
                </a:solidFill>
                <a:latin typeface="Open Sans Light"/>
              </a:rPr>
              <a:t>Twitter_John_doe55</a:t>
            </a:r>
            <a:endParaRPr b="0" lang="en-US" sz="900" spc="-1" strike="noStrike">
              <a:solidFill>
                <a:srgbClr val="494949"/>
              </a:solidFill>
              <a:latin typeface="Open Sans Light"/>
            </a:endParaRPr>
          </a:p>
        </p:txBody>
      </p:sp>
      <p:sp>
        <p:nvSpPr>
          <p:cNvPr id="1188" name="PlaceHolder 13"/>
          <p:cNvSpPr>
            <a:spLocks noGrp="1"/>
          </p:cNvSpPr>
          <p:nvPr>
            <p:ph/>
          </p:nvPr>
        </p:nvSpPr>
        <p:spPr>
          <a:xfrm>
            <a:off x="2028600" y="4083120"/>
            <a:ext cx="1082520" cy="20304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898989"/>
                </a:solidFill>
                <a:latin typeface="Open Sans Light"/>
              </a:rPr>
              <a:t>facebJohn_doe55</a:t>
            </a:r>
            <a:endParaRPr b="0" lang="en-US" sz="900" spc="-1" strike="noStrike">
              <a:solidFill>
                <a:srgbClr val="494949"/>
              </a:solidFill>
              <a:latin typeface="Open Sans Light"/>
            </a:endParaRPr>
          </a:p>
        </p:txBody>
      </p:sp>
      <p:sp>
        <p:nvSpPr>
          <p:cNvPr id="1189" name="PlaceHolder 14"/>
          <p:cNvSpPr>
            <a:spLocks noGrp="1"/>
          </p:cNvSpPr>
          <p:nvPr>
            <p:ph/>
          </p:nvPr>
        </p:nvSpPr>
        <p:spPr>
          <a:xfrm>
            <a:off x="10093320" y="5005440"/>
            <a:ext cx="272880" cy="203040"/>
          </a:xfrm>
          <a:prstGeom prst="rect">
            <a:avLst/>
          </a:prstGeom>
          <a:noFill/>
          <a:ln w="0">
            <a:noFill/>
          </a:ln>
        </p:spPr>
        <p:txBody>
          <a:bodyPr lIns="0" rIns="0" tIns="0" bIns="0" anchor="ctr">
            <a:normAutofit fontScale="93000"/>
          </a:bodyPr>
          <a:p>
            <a:pPr indent="0" algn="ctr">
              <a:lnSpc>
                <a:spcPct val="7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100" spc="-1" strike="noStrike">
                <a:solidFill>
                  <a:srgbClr val="898989"/>
                </a:solidFill>
                <a:latin typeface="Open Sans Light"/>
              </a:rPr>
              <a:t>90%</a:t>
            </a:r>
            <a:endParaRPr b="0" lang="en-US" sz="1100" spc="-1" strike="noStrike">
              <a:solidFill>
                <a:srgbClr val="494949"/>
              </a:solidFill>
              <a:latin typeface="Open Sans Light"/>
            </a:endParaRPr>
          </a:p>
        </p:txBody>
      </p:sp>
      <p:sp>
        <p:nvSpPr>
          <p:cNvPr id="1190" name="PlaceHolder 15"/>
          <p:cNvSpPr>
            <a:spLocks noGrp="1"/>
          </p:cNvSpPr>
          <p:nvPr>
            <p:ph/>
          </p:nvPr>
        </p:nvSpPr>
        <p:spPr>
          <a:xfrm>
            <a:off x="8426160" y="4719240"/>
            <a:ext cx="1082520" cy="203400"/>
          </a:xfrm>
          <a:prstGeom prst="rect">
            <a:avLst/>
          </a:prstGeom>
          <a:noFill/>
          <a:ln w="0">
            <a:noFill/>
          </a:ln>
        </p:spPr>
        <p:txBody>
          <a:bodyPr lIns="0" rIns="0" tIns="0" b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Lato"/>
              </a:rPr>
              <a:t>PREMIERE</a:t>
            </a:r>
            <a:endParaRPr b="0" lang="en-US" sz="1000" spc="-1" strike="noStrike">
              <a:solidFill>
                <a:srgbClr val="494949"/>
              </a:solidFill>
              <a:latin typeface="Open Sans Light"/>
            </a:endParaRPr>
          </a:p>
        </p:txBody>
      </p:sp>
      <p:sp>
        <p:nvSpPr>
          <p:cNvPr id="1191" name="PlaceHolder 16"/>
          <p:cNvSpPr>
            <a:spLocks noGrp="1"/>
          </p:cNvSpPr>
          <p:nvPr>
            <p:ph/>
          </p:nvPr>
        </p:nvSpPr>
        <p:spPr>
          <a:xfrm>
            <a:off x="10093320" y="4417560"/>
            <a:ext cx="272880" cy="203400"/>
          </a:xfrm>
          <a:prstGeom prst="rect">
            <a:avLst/>
          </a:prstGeom>
          <a:noFill/>
          <a:ln w="0">
            <a:noFill/>
          </a:ln>
        </p:spPr>
        <p:txBody>
          <a:bodyPr lIns="0" rIns="0" tIns="0" bIns="0" anchor="ctr">
            <a:normAutofit fontScale="93000"/>
          </a:bodyPr>
          <a:p>
            <a:pPr indent="0" algn="ctr">
              <a:lnSpc>
                <a:spcPct val="7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100" spc="-1" strike="noStrike">
                <a:solidFill>
                  <a:srgbClr val="898989"/>
                </a:solidFill>
                <a:latin typeface="Open Sans Light"/>
              </a:rPr>
              <a:t>60%</a:t>
            </a:r>
            <a:endParaRPr b="0" lang="en-US" sz="1100" spc="-1" strike="noStrike">
              <a:solidFill>
                <a:srgbClr val="494949"/>
              </a:solidFill>
              <a:latin typeface="Open Sans Light"/>
            </a:endParaRPr>
          </a:p>
        </p:txBody>
      </p:sp>
      <p:sp>
        <p:nvSpPr>
          <p:cNvPr id="1192" name="Shape 130"/>
          <p:cNvSpPr/>
          <p:nvPr/>
        </p:nvSpPr>
        <p:spPr>
          <a:xfrm>
            <a:off x="1785960" y="4124160"/>
            <a:ext cx="69840" cy="150840"/>
          </a:xfrm>
          <a:custGeom>
            <a:avLst/>
            <a:gdLst/>
            <a:ahLst/>
            <a:rect l="l" t="t" r="r" b="b"/>
            <a:pathLst>
              <a:path w="21600" h="21600">
                <a:moveTo>
                  <a:pt x="21600" y="6939"/>
                </a:moveTo>
                <a:cubicBezTo>
                  <a:pt x="14400" y="6939"/>
                  <a:pt x="14400" y="6939"/>
                  <a:pt x="14400" y="6939"/>
                </a:cubicBezTo>
                <a:cubicBezTo>
                  <a:pt x="14400" y="4701"/>
                  <a:pt x="14400" y="4701"/>
                  <a:pt x="14400" y="4701"/>
                </a:cubicBezTo>
                <a:cubicBezTo>
                  <a:pt x="14400" y="3917"/>
                  <a:pt x="15600" y="3693"/>
                  <a:pt x="16320" y="3693"/>
                </a:cubicBezTo>
                <a:cubicBezTo>
                  <a:pt x="17280" y="3693"/>
                  <a:pt x="21600" y="3693"/>
                  <a:pt x="21600" y="3693"/>
                </a:cubicBezTo>
                <a:cubicBezTo>
                  <a:pt x="21600" y="0"/>
                  <a:pt x="21600" y="0"/>
                  <a:pt x="21600" y="0"/>
                </a:cubicBezTo>
                <a:cubicBezTo>
                  <a:pt x="14400" y="0"/>
                  <a:pt x="14400" y="0"/>
                  <a:pt x="14400" y="0"/>
                </a:cubicBezTo>
                <a:cubicBezTo>
                  <a:pt x="6480" y="0"/>
                  <a:pt x="4800" y="2686"/>
                  <a:pt x="4800" y="4477"/>
                </a:cubicBezTo>
                <a:cubicBezTo>
                  <a:pt x="4800" y="6939"/>
                  <a:pt x="4800" y="6939"/>
                  <a:pt x="4800" y="6939"/>
                </a:cubicBezTo>
                <a:cubicBezTo>
                  <a:pt x="0" y="6939"/>
                  <a:pt x="0" y="6939"/>
                  <a:pt x="0" y="6939"/>
                </a:cubicBezTo>
                <a:cubicBezTo>
                  <a:pt x="0" y="10744"/>
                  <a:pt x="0" y="10744"/>
                  <a:pt x="0" y="10744"/>
                </a:cubicBezTo>
                <a:cubicBezTo>
                  <a:pt x="4800" y="10744"/>
                  <a:pt x="4800" y="10744"/>
                  <a:pt x="4800" y="10744"/>
                </a:cubicBezTo>
                <a:cubicBezTo>
                  <a:pt x="4800" y="15668"/>
                  <a:pt x="4800" y="21600"/>
                  <a:pt x="4800" y="21600"/>
                </a:cubicBezTo>
                <a:cubicBezTo>
                  <a:pt x="14400" y="21600"/>
                  <a:pt x="14400" y="21600"/>
                  <a:pt x="14400" y="21600"/>
                </a:cubicBezTo>
                <a:cubicBezTo>
                  <a:pt x="14400" y="21600"/>
                  <a:pt x="14400" y="15556"/>
                  <a:pt x="14400" y="10744"/>
                </a:cubicBezTo>
                <a:cubicBezTo>
                  <a:pt x="20880" y="10744"/>
                  <a:pt x="20880" y="10744"/>
                  <a:pt x="20880" y="10744"/>
                </a:cubicBezTo>
                <a:lnTo>
                  <a:pt x="21600" y="6939"/>
                </a:lnTo>
                <a:close/>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193" name="Shape 133"/>
          <p:cNvSpPr/>
          <p:nvPr/>
        </p:nvSpPr>
        <p:spPr>
          <a:xfrm>
            <a:off x="1743120" y="4437000"/>
            <a:ext cx="152280" cy="123840"/>
          </a:xfrm>
          <a:custGeom>
            <a:avLst/>
            <a:gdLst/>
            <a:ahLst/>
            <a:rect l="l" t="t" r="r" b="b"/>
            <a:pathLst>
              <a:path w="21600" h="21600">
                <a:moveTo>
                  <a:pt x="21600" y="2565"/>
                </a:moveTo>
                <a:cubicBezTo>
                  <a:pt x="20832" y="2970"/>
                  <a:pt x="19955" y="3375"/>
                  <a:pt x="19078" y="3510"/>
                </a:cubicBezTo>
                <a:cubicBezTo>
                  <a:pt x="19955" y="2835"/>
                  <a:pt x="20723" y="1755"/>
                  <a:pt x="21052" y="405"/>
                </a:cubicBezTo>
                <a:cubicBezTo>
                  <a:pt x="20175" y="1080"/>
                  <a:pt x="19188" y="1485"/>
                  <a:pt x="18201" y="1755"/>
                </a:cubicBezTo>
                <a:cubicBezTo>
                  <a:pt x="17434" y="675"/>
                  <a:pt x="16227" y="0"/>
                  <a:pt x="15021" y="0"/>
                </a:cubicBezTo>
                <a:cubicBezTo>
                  <a:pt x="12499" y="0"/>
                  <a:pt x="10526" y="2430"/>
                  <a:pt x="10526" y="5535"/>
                </a:cubicBezTo>
                <a:cubicBezTo>
                  <a:pt x="10526" y="5940"/>
                  <a:pt x="10636" y="6345"/>
                  <a:pt x="10636" y="6750"/>
                </a:cubicBezTo>
                <a:cubicBezTo>
                  <a:pt x="7017" y="6480"/>
                  <a:pt x="3728" y="4320"/>
                  <a:pt x="1535" y="1080"/>
                </a:cubicBezTo>
                <a:cubicBezTo>
                  <a:pt x="1096" y="1890"/>
                  <a:pt x="877" y="2835"/>
                  <a:pt x="877" y="3780"/>
                </a:cubicBezTo>
                <a:cubicBezTo>
                  <a:pt x="877" y="5670"/>
                  <a:pt x="1754" y="7290"/>
                  <a:pt x="2851" y="8370"/>
                </a:cubicBezTo>
                <a:cubicBezTo>
                  <a:pt x="2193" y="8235"/>
                  <a:pt x="1535" y="8100"/>
                  <a:pt x="877" y="7695"/>
                </a:cubicBezTo>
                <a:lnTo>
                  <a:pt x="877" y="7695"/>
                </a:lnTo>
                <a:cubicBezTo>
                  <a:pt x="877" y="10395"/>
                  <a:pt x="2412" y="12555"/>
                  <a:pt x="4495" y="13095"/>
                </a:cubicBezTo>
                <a:cubicBezTo>
                  <a:pt x="4057" y="13230"/>
                  <a:pt x="3728" y="13230"/>
                  <a:pt x="3289" y="13230"/>
                </a:cubicBezTo>
                <a:cubicBezTo>
                  <a:pt x="2960" y="13230"/>
                  <a:pt x="2741" y="13230"/>
                  <a:pt x="2412" y="13095"/>
                </a:cubicBezTo>
                <a:cubicBezTo>
                  <a:pt x="2960" y="15255"/>
                  <a:pt x="4605" y="16875"/>
                  <a:pt x="6579" y="16875"/>
                </a:cubicBezTo>
                <a:cubicBezTo>
                  <a:pt x="5044" y="18360"/>
                  <a:pt x="3180" y="19305"/>
                  <a:pt x="1096" y="19305"/>
                </a:cubicBezTo>
                <a:cubicBezTo>
                  <a:pt x="768" y="19305"/>
                  <a:pt x="329" y="19305"/>
                  <a:pt x="0" y="19170"/>
                </a:cubicBezTo>
                <a:cubicBezTo>
                  <a:pt x="1974" y="20790"/>
                  <a:pt x="4276" y="21600"/>
                  <a:pt x="6798" y="21600"/>
                </a:cubicBezTo>
                <a:cubicBezTo>
                  <a:pt x="15021" y="21600"/>
                  <a:pt x="19407" y="13365"/>
                  <a:pt x="19407" y="6075"/>
                </a:cubicBezTo>
                <a:cubicBezTo>
                  <a:pt x="19407" y="5940"/>
                  <a:pt x="19407" y="5670"/>
                  <a:pt x="19407" y="5400"/>
                </a:cubicBezTo>
                <a:cubicBezTo>
                  <a:pt x="20284" y="4590"/>
                  <a:pt x="21052" y="3645"/>
                  <a:pt x="21600" y="2565"/>
                </a:cubicBezTo>
                <a:close/>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194" name="Shape 136"/>
          <p:cNvSpPr/>
          <p:nvPr/>
        </p:nvSpPr>
        <p:spPr>
          <a:xfrm>
            <a:off x="1755720" y="4734000"/>
            <a:ext cx="120600" cy="125280"/>
          </a:xfrm>
          <a:custGeom>
            <a:avLst/>
            <a:gdLst/>
            <a:ahLst/>
            <a:rect l="l" t="t" r="r" b="b"/>
            <a:pathLst>
              <a:path w="21491" h="19998">
                <a:moveTo>
                  <a:pt x="20478" y="13899"/>
                </a:moveTo>
                <a:cubicBezTo>
                  <a:pt x="20478" y="17891"/>
                  <a:pt x="20478" y="17891"/>
                  <a:pt x="20478" y="17891"/>
                </a:cubicBezTo>
                <a:lnTo>
                  <a:pt x="20478" y="17891"/>
                </a:lnTo>
                <a:cubicBezTo>
                  <a:pt x="20478" y="18301"/>
                  <a:pt x="20478" y="18301"/>
                  <a:pt x="20478" y="18301"/>
                </a:cubicBezTo>
                <a:cubicBezTo>
                  <a:pt x="16203" y="20246"/>
                  <a:pt x="9003" y="20860"/>
                  <a:pt x="4841" y="18301"/>
                </a:cubicBezTo>
                <a:cubicBezTo>
                  <a:pt x="2366" y="16765"/>
                  <a:pt x="-109" y="13694"/>
                  <a:pt x="4" y="9804"/>
                </a:cubicBezTo>
                <a:cubicBezTo>
                  <a:pt x="116" y="6119"/>
                  <a:pt x="2816" y="2843"/>
                  <a:pt x="6416" y="1205"/>
                </a:cubicBezTo>
                <a:cubicBezTo>
                  <a:pt x="10578" y="-740"/>
                  <a:pt x="16766" y="-331"/>
                  <a:pt x="20478" y="2433"/>
                </a:cubicBezTo>
                <a:cubicBezTo>
                  <a:pt x="18228" y="4378"/>
                  <a:pt x="18228" y="4378"/>
                  <a:pt x="18228" y="4378"/>
                </a:cubicBezTo>
                <a:cubicBezTo>
                  <a:pt x="16878" y="4788"/>
                  <a:pt x="16878" y="4788"/>
                  <a:pt x="16878" y="4788"/>
                </a:cubicBezTo>
                <a:cubicBezTo>
                  <a:pt x="17666" y="3560"/>
                  <a:pt x="17666" y="3560"/>
                  <a:pt x="17666" y="3560"/>
                </a:cubicBezTo>
                <a:cubicBezTo>
                  <a:pt x="16541" y="2536"/>
                  <a:pt x="15303" y="1819"/>
                  <a:pt x="13953" y="1410"/>
                </a:cubicBezTo>
                <a:cubicBezTo>
                  <a:pt x="11816" y="796"/>
                  <a:pt x="9903" y="1205"/>
                  <a:pt x="8216" y="1922"/>
                </a:cubicBezTo>
                <a:cubicBezTo>
                  <a:pt x="4841" y="3355"/>
                  <a:pt x="2816" y="7040"/>
                  <a:pt x="3603" y="10930"/>
                </a:cubicBezTo>
                <a:cubicBezTo>
                  <a:pt x="4391" y="14923"/>
                  <a:pt x="7878" y="18198"/>
                  <a:pt x="12378" y="18608"/>
                </a:cubicBezTo>
                <a:cubicBezTo>
                  <a:pt x="13728" y="18710"/>
                  <a:pt x="15191" y="18608"/>
                  <a:pt x="16541" y="18301"/>
                </a:cubicBezTo>
                <a:cubicBezTo>
                  <a:pt x="17441" y="17994"/>
                  <a:pt x="17441" y="17994"/>
                  <a:pt x="17441" y="17482"/>
                </a:cubicBezTo>
                <a:cubicBezTo>
                  <a:pt x="17441" y="13899"/>
                  <a:pt x="17441" y="13899"/>
                  <a:pt x="17441" y="13899"/>
                </a:cubicBezTo>
                <a:cubicBezTo>
                  <a:pt x="12941" y="14001"/>
                  <a:pt x="12941" y="14001"/>
                  <a:pt x="12941" y="14001"/>
                </a:cubicBezTo>
                <a:cubicBezTo>
                  <a:pt x="15191" y="12773"/>
                  <a:pt x="15191" y="12773"/>
                  <a:pt x="15191" y="12773"/>
                </a:cubicBezTo>
                <a:cubicBezTo>
                  <a:pt x="21491" y="12773"/>
                  <a:pt x="21491" y="12773"/>
                  <a:pt x="21491" y="12773"/>
                </a:cubicBezTo>
                <a:lnTo>
                  <a:pt x="20478" y="13899"/>
                </a:lnTo>
                <a:close/>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195" name="Shape 139"/>
          <p:cNvSpPr/>
          <p:nvPr/>
        </p:nvSpPr>
        <p:spPr>
          <a:xfrm>
            <a:off x="1752480" y="5052960"/>
            <a:ext cx="154080" cy="84240"/>
          </a:xfrm>
          <a:custGeom>
            <a:avLst/>
            <a:gdLst/>
            <a:ahLst/>
            <a:rect l="l" t="t" r="r" b="b"/>
            <a:pathLst>
              <a:path w="19589" h="21600">
                <a:moveTo>
                  <a:pt x="7105" y="6341"/>
                </a:moveTo>
                <a:cubicBezTo>
                  <a:pt x="11563" y="3963"/>
                  <a:pt x="15229" y="9116"/>
                  <a:pt x="15229" y="9116"/>
                </a:cubicBezTo>
                <a:cubicBezTo>
                  <a:pt x="12158" y="10701"/>
                  <a:pt x="12158" y="10701"/>
                  <a:pt x="12158" y="10701"/>
                </a:cubicBezTo>
                <a:cubicBezTo>
                  <a:pt x="11365" y="7530"/>
                  <a:pt x="11365" y="7530"/>
                  <a:pt x="11365" y="7530"/>
                </a:cubicBezTo>
                <a:cubicBezTo>
                  <a:pt x="10473" y="7134"/>
                  <a:pt x="9582" y="7134"/>
                  <a:pt x="8591" y="7332"/>
                </a:cubicBezTo>
                <a:cubicBezTo>
                  <a:pt x="10672" y="15853"/>
                  <a:pt x="10672" y="15853"/>
                  <a:pt x="10672" y="15853"/>
                </a:cubicBezTo>
                <a:cubicBezTo>
                  <a:pt x="19589" y="10701"/>
                  <a:pt x="19589" y="10701"/>
                  <a:pt x="19589" y="10701"/>
                </a:cubicBezTo>
                <a:cubicBezTo>
                  <a:pt x="19589" y="10701"/>
                  <a:pt x="16319" y="396"/>
                  <a:pt x="6609" y="3765"/>
                </a:cubicBezTo>
                <a:cubicBezTo>
                  <a:pt x="6609" y="3765"/>
                  <a:pt x="6510" y="3765"/>
                  <a:pt x="6510" y="3765"/>
                </a:cubicBezTo>
                <a:cubicBezTo>
                  <a:pt x="5519" y="0"/>
                  <a:pt x="5519" y="0"/>
                  <a:pt x="5519" y="0"/>
                </a:cubicBezTo>
                <a:cubicBezTo>
                  <a:pt x="2745" y="594"/>
                  <a:pt x="2745" y="594"/>
                  <a:pt x="2745" y="594"/>
                </a:cubicBezTo>
                <a:cubicBezTo>
                  <a:pt x="3835" y="5350"/>
                  <a:pt x="3835" y="5350"/>
                  <a:pt x="3835" y="5350"/>
                </a:cubicBezTo>
                <a:cubicBezTo>
                  <a:pt x="-2011" y="10106"/>
                  <a:pt x="565" y="21600"/>
                  <a:pt x="565" y="21600"/>
                </a:cubicBezTo>
                <a:cubicBezTo>
                  <a:pt x="9582" y="16448"/>
                  <a:pt x="9582" y="16448"/>
                  <a:pt x="9582" y="16448"/>
                </a:cubicBezTo>
                <a:lnTo>
                  <a:pt x="7105" y="6341"/>
                </a:lnTo>
                <a:close/>
                <a:moveTo>
                  <a:pt x="3042" y="15655"/>
                </a:moveTo>
                <a:cubicBezTo>
                  <a:pt x="3042" y="15655"/>
                  <a:pt x="2150" y="11890"/>
                  <a:pt x="4628" y="8521"/>
                </a:cubicBezTo>
                <a:cubicBezTo>
                  <a:pt x="6015" y="14070"/>
                  <a:pt x="6015" y="14070"/>
                  <a:pt x="6015" y="14070"/>
                </a:cubicBezTo>
                <a:lnTo>
                  <a:pt x="3042" y="15655"/>
                </a:lnTo>
                <a:close/>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196" name="Shape 58"/>
          <p:cNvSpPr/>
          <p:nvPr/>
        </p:nvSpPr>
        <p:spPr>
          <a:xfrm flipV="1">
            <a:off x="7826400" y="2273400"/>
            <a:ext cx="4680" cy="3108240"/>
          </a:xfrm>
          <a:prstGeom prst="line">
            <a:avLst/>
          </a:prstGeom>
          <a:ln cap="rnd" w="9360">
            <a:solidFill>
              <a:srgbClr val="a6a6a6"/>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197" name="Shape 58"/>
          <p:cNvSpPr/>
          <p:nvPr/>
        </p:nvSpPr>
        <p:spPr>
          <a:xfrm flipV="1">
            <a:off x="3987720" y="2273400"/>
            <a:ext cx="3240" cy="3108240"/>
          </a:xfrm>
          <a:prstGeom prst="line">
            <a:avLst/>
          </a:prstGeom>
          <a:ln cap="rnd" w="9360">
            <a:solidFill>
              <a:srgbClr val="a6a6a6"/>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grpSp>
        <p:nvGrpSpPr>
          <p:cNvPr id="1198" name="Group 1"/>
          <p:cNvGrpSpPr/>
          <p:nvPr/>
        </p:nvGrpSpPr>
        <p:grpSpPr>
          <a:xfrm>
            <a:off x="8445600" y="3184560"/>
            <a:ext cx="1485720" cy="168120"/>
            <a:chOff x="8445600" y="3184560"/>
            <a:chExt cx="1485720" cy="168120"/>
          </a:xfrm>
        </p:grpSpPr>
        <p:sp>
          <p:nvSpPr>
            <p:cNvPr id="1199" name="AutoShape 19"/>
            <p:cNvSpPr/>
            <p:nvPr/>
          </p:nvSpPr>
          <p:spPr>
            <a:xfrm>
              <a:off x="9863640" y="3184560"/>
              <a:ext cx="67680" cy="168120"/>
            </a:xfrm>
            <a:custGeom>
              <a:avLst/>
              <a:gdLst/>
              <a:ahLst/>
              <a:rect l="l" t="t" r="r" b="b"/>
              <a:pathLst>
                <a:path w="21600" h="21600">
                  <a:moveTo>
                    <a:pt x="0" y="0"/>
                  </a:moveTo>
                  <a:lnTo>
                    <a:pt x="0" y="21600"/>
                  </a:lnTo>
                  <a:lnTo>
                    <a:pt x="21600" y="10799"/>
                  </a:lnTo>
                  <a:cubicBezTo>
                    <a:pt x="21600" y="10799"/>
                    <a:pt x="0" y="0"/>
                    <a:pt x="0" y="0"/>
                  </a:cubicBezTo>
                  <a:close/>
                  <a:moveTo>
                    <a:pt x="0" y="0"/>
                  </a:moveTo>
                </a:path>
              </a:pathLst>
            </a:custGeom>
            <a:solidFill>
              <a:srgbClr val="0098a5"/>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0" name="AutoShape 20"/>
            <p:cNvSpPr/>
            <p:nvPr/>
          </p:nvSpPr>
          <p:spPr>
            <a:xfrm>
              <a:off x="9007560" y="331344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1" name="AutoShape 21"/>
            <p:cNvSpPr/>
            <p:nvPr/>
          </p:nvSpPr>
          <p:spPr>
            <a:xfrm>
              <a:off x="8984160" y="318456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2" name="AutoShape 22"/>
            <p:cNvSpPr/>
            <p:nvPr/>
          </p:nvSpPr>
          <p:spPr>
            <a:xfrm>
              <a:off x="9289080" y="3313440"/>
              <a:ext cx="58680" cy="37440"/>
            </a:xfrm>
            <a:custGeom>
              <a:avLst/>
              <a:gdLst/>
              <a:ahLst/>
              <a:rect l="l" t="t" r="r" b="b"/>
              <a:pathLst>
                <a:path w="21600" h="21600">
                  <a:moveTo>
                    <a:pt x="19995" y="0"/>
                  </a:moveTo>
                  <a:lnTo>
                    <a:pt x="1630" y="0"/>
                  </a:lnTo>
                  <a:cubicBezTo>
                    <a:pt x="750" y="0"/>
                    <a:pt x="0" y="1269"/>
                    <a:pt x="0" y="2853"/>
                  </a:cubicBezTo>
                  <a:cubicBezTo>
                    <a:pt x="0" y="4430"/>
                    <a:pt x="750" y="5680"/>
                    <a:pt x="1630" y="5680"/>
                  </a:cubicBezTo>
                  <a:lnTo>
                    <a:pt x="19995" y="5680"/>
                  </a:lnTo>
                  <a:cubicBezTo>
                    <a:pt x="20892" y="5680"/>
                    <a:pt x="21600" y="4430"/>
                    <a:pt x="21600" y="2853"/>
                  </a:cubicBezTo>
                  <a:cubicBezTo>
                    <a:pt x="21600" y="1269"/>
                    <a:pt x="20892" y="0"/>
                    <a:pt x="19995" y="0"/>
                  </a:cubicBezTo>
                  <a:close/>
                  <a:moveTo>
                    <a:pt x="19995" y="8206"/>
                  </a:moveTo>
                  <a:lnTo>
                    <a:pt x="1630" y="8206"/>
                  </a:lnTo>
                  <a:cubicBezTo>
                    <a:pt x="750" y="8206"/>
                    <a:pt x="0" y="9468"/>
                    <a:pt x="0" y="11039"/>
                  </a:cubicBezTo>
                  <a:cubicBezTo>
                    <a:pt x="0" y="12596"/>
                    <a:pt x="750" y="13853"/>
                    <a:pt x="1630" y="13853"/>
                  </a:cubicBezTo>
                  <a:lnTo>
                    <a:pt x="19995" y="13853"/>
                  </a:lnTo>
                  <a:cubicBezTo>
                    <a:pt x="20892" y="13853"/>
                    <a:pt x="21600" y="12596"/>
                    <a:pt x="21600" y="11039"/>
                  </a:cubicBezTo>
                  <a:cubicBezTo>
                    <a:pt x="21600" y="9468"/>
                    <a:pt x="20892" y="8206"/>
                    <a:pt x="19995" y="8206"/>
                  </a:cubicBezTo>
                  <a:close/>
                  <a:moveTo>
                    <a:pt x="10819" y="21600"/>
                  </a:moveTo>
                  <a:cubicBezTo>
                    <a:pt x="13675" y="21600"/>
                    <a:pt x="16169" y="19761"/>
                    <a:pt x="17358" y="17072"/>
                  </a:cubicBezTo>
                  <a:lnTo>
                    <a:pt x="4268"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3" name="AutoShape 23"/>
            <p:cNvSpPr/>
            <p:nvPr/>
          </p:nvSpPr>
          <p:spPr>
            <a:xfrm>
              <a:off x="9266040" y="3184560"/>
              <a:ext cx="106920" cy="118440"/>
            </a:xfrm>
            <a:custGeom>
              <a:avLst/>
              <a:gdLst/>
              <a:ahLst/>
              <a:rect l="l" t="t" r="r" b="b"/>
              <a:pathLst>
                <a:path w="21600" h="21600">
                  <a:moveTo>
                    <a:pt x="10800" y="0"/>
                  </a:moveTo>
                  <a:cubicBezTo>
                    <a:pt x="4833" y="0"/>
                    <a:pt x="0" y="4372"/>
                    <a:pt x="0" y="9766"/>
                  </a:cubicBezTo>
                  <a:cubicBezTo>
                    <a:pt x="0" y="13421"/>
                    <a:pt x="2811" y="16042"/>
                    <a:pt x="4697" y="18977"/>
                  </a:cubicBezTo>
                  <a:cubicBezTo>
                    <a:pt x="5160" y="19694"/>
                    <a:pt x="5485" y="21600"/>
                    <a:pt x="5485" y="21600"/>
                  </a:cubicBezTo>
                  <a:lnTo>
                    <a:pt x="16122" y="21600"/>
                  </a:lnTo>
                  <a:cubicBezTo>
                    <a:pt x="16122" y="21600"/>
                    <a:pt x="16437" y="19694"/>
                    <a:pt x="16893" y="18977"/>
                  </a:cubicBezTo>
                  <a:cubicBezTo>
                    <a:pt x="18787" y="16042"/>
                    <a:pt x="21600" y="13421"/>
                    <a:pt x="21600" y="9766"/>
                  </a:cubicBezTo>
                  <a:cubicBezTo>
                    <a:pt x="21600" y="4372"/>
                    <a:pt x="16760" y="0"/>
                    <a:pt x="10800" y="0"/>
                  </a:cubicBezTo>
                  <a:close/>
                  <a:moveTo>
                    <a:pt x="10800"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4" name="AutoShape 24"/>
            <p:cNvSpPr/>
            <p:nvPr/>
          </p:nvSpPr>
          <p:spPr>
            <a:xfrm>
              <a:off x="9148680" y="3313440"/>
              <a:ext cx="58320" cy="37440"/>
            </a:xfrm>
            <a:custGeom>
              <a:avLst/>
              <a:gdLst/>
              <a:ahLst/>
              <a:rect l="l" t="t" r="r" b="b"/>
              <a:pathLst>
                <a:path w="21600" h="21600">
                  <a:moveTo>
                    <a:pt x="20003" y="0"/>
                  </a:moveTo>
                  <a:lnTo>
                    <a:pt x="1631" y="0"/>
                  </a:lnTo>
                  <a:cubicBezTo>
                    <a:pt x="750" y="0"/>
                    <a:pt x="0" y="1269"/>
                    <a:pt x="0" y="2853"/>
                  </a:cubicBezTo>
                  <a:cubicBezTo>
                    <a:pt x="0" y="4430"/>
                    <a:pt x="750" y="5680"/>
                    <a:pt x="1631" y="5680"/>
                  </a:cubicBezTo>
                  <a:lnTo>
                    <a:pt x="20003" y="5680"/>
                  </a:lnTo>
                  <a:cubicBezTo>
                    <a:pt x="20896" y="5680"/>
                    <a:pt x="21600" y="4430"/>
                    <a:pt x="21600" y="2853"/>
                  </a:cubicBezTo>
                  <a:cubicBezTo>
                    <a:pt x="21600" y="1269"/>
                    <a:pt x="20896" y="0"/>
                    <a:pt x="20003" y="0"/>
                  </a:cubicBezTo>
                  <a:close/>
                  <a:moveTo>
                    <a:pt x="20003" y="8206"/>
                  </a:moveTo>
                  <a:lnTo>
                    <a:pt x="1631" y="8206"/>
                  </a:lnTo>
                  <a:cubicBezTo>
                    <a:pt x="750" y="8206"/>
                    <a:pt x="0" y="9468"/>
                    <a:pt x="0" y="11039"/>
                  </a:cubicBezTo>
                  <a:cubicBezTo>
                    <a:pt x="0" y="12596"/>
                    <a:pt x="750" y="13853"/>
                    <a:pt x="1631" y="13853"/>
                  </a:cubicBezTo>
                  <a:lnTo>
                    <a:pt x="20003" y="13853"/>
                  </a:lnTo>
                  <a:cubicBezTo>
                    <a:pt x="20896" y="13853"/>
                    <a:pt x="21600" y="12596"/>
                    <a:pt x="21600" y="11039"/>
                  </a:cubicBezTo>
                  <a:cubicBezTo>
                    <a:pt x="21600" y="9468"/>
                    <a:pt x="20896" y="8206"/>
                    <a:pt x="20003" y="8206"/>
                  </a:cubicBezTo>
                  <a:close/>
                  <a:moveTo>
                    <a:pt x="10821" y="21600"/>
                  </a:moveTo>
                  <a:cubicBezTo>
                    <a:pt x="13678" y="21600"/>
                    <a:pt x="16173" y="19761"/>
                    <a:pt x="17357" y="17072"/>
                  </a:cubicBezTo>
                  <a:lnTo>
                    <a:pt x="4269" y="17072"/>
                  </a:lnTo>
                  <a:cubicBezTo>
                    <a:pt x="5478" y="19761"/>
                    <a:pt x="7947" y="21600"/>
                    <a:pt x="10821" y="21600"/>
                  </a:cubicBezTo>
                  <a:close/>
                  <a:moveTo>
                    <a:pt x="10821"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5" name="AutoShape 25"/>
            <p:cNvSpPr/>
            <p:nvPr/>
          </p:nvSpPr>
          <p:spPr>
            <a:xfrm>
              <a:off x="9124920" y="3184560"/>
              <a:ext cx="107640" cy="118440"/>
            </a:xfrm>
            <a:custGeom>
              <a:avLst/>
              <a:gdLst/>
              <a:ahLst/>
              <a:rect l="l" t="t" r="r" b="b"/>
              <a:pathLst>
                <a:path w="21600" h="21600">
                  <a:moveTo>
                    <a:pt x="10799" y="0"/>
                  </a:moveTo>
                  <a:cubicBezTo>
                    <a:pt x="4829"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6" name="AutoShape 26"/>
            <p:cNvSpPr/>
            <p:nvPr/>
          </p:nvSpPr>
          <p:spPr>
            <a:xfrm>
              <a:off x="9429480" y="331344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7" name="AutoShape 27"/>
            <p:cNvSpPr/>
            <p:nvPr/>
          </p:nvSpPr>
          <p:spPr>
            <a:xfrm>
              <a:off x="9406440" y="3184560"/>
              <a:ext cx="106920" cy="118440"/>
            </a:xfrm>
            <a:custGeom>
              <a:avLst/>
              <a:gdLst/>
              <a:ahLst/>
              <a:rect l="l" t="t" r="r" b="b"/>
              <a:pathLst>
                <a:path w="21600" h="21600">
                  <a:moveTo>
                    <a:pt x="10798" y="0"/>
                  </a:moveTo>
                  <a:cubicBezTo>
                    <a:pt x="4830" y="0"/>
                    <a:pt x="0" y="4372"/>
                    <a:pt x="0" y="9766"/>
                  </a:cubicBezTo>
                  <a:cubicBezTo>
                    <a:pt x="0" y="13421"/>
                    <a:pt x="2807" y="16042"/>
                    <a:pt x="4694" y="18977"/>
                  </a:cubicBezTo>
                  <a:cubicBezTo>
                    <a:pt x="5157" y="19694"/>
                    <a:pt x="5482" y="21600"/>
                    <a:pt x="5482" y="21600"/>
                  </a:cubicBezTo>
                  <a:lnTo>
                    <a:pt x="16121" y="21600"/>
                  </a:lnTo>
                  <a:cubicBezTo>
                    <a:pt x="16121" y="21600"/>
                    <a:pt x="16436" y="19694"/>
                    <a:pt x="16895" y="18977"/>
                  </a:cubicBezTo>
                  <a:cubicBezTo>
                    <a:pt x="18789" y="16042"/>
                    <a:pt x="21600" y="13421"/>
                    <a:pt x="21600" y="9766"/>
                  </a:cubicBezTo>
                  <a:cubicBezTo>
                    <a:pt x="21600" y="4372"/>
                    <a:pt x="16759" y="0"/>
                    <a:pt x="10798" y="0"/>
                  </a:cubicBezTo>
                  <a:close/>
                  <a:moveTo>
                    <a:pt x="10798"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8" name="AutoShape 28"/>
            <p:cNvSpPr/>
            <p:nvPr/>
          </p:nvSpPr>
          <p:spPr>
            <a:xfrm>
              <a:off x="8468640" y="3313440"/>
              <a:ext cx="58320" cy="37440"/>
            </a:xfrm>
            <a:custGeom>
              <a:avLst/>
              <a:gdLst/>
              <a:ahLst/>
              <a:rect l="l" t="t" r="r" b="b"/>
              <a:pathLst>
                <a:path w="21600" h="21600">
                  <a:moveTo>
                    <a:pt x="19999" y="0"/>
                  </a:moveTo>
                  <a:lnTo>
                    <a:pt x="1635" y="0"/>
                  </a:lnTo>
                  <a:cubicBezTo>
                    <a:pt x="750" y="0"/>
                    <a:pt x="0" y="1269"/>
                    <a:pt x="0" y="2853"/>
                  </a:cubicBezTo>
                  <a:cubicBezTo>
                    <a:pt x="0" y="4430"/>
                    <a:pt x="750" y="5680"/>
                    <a:pt x="1635" y="5680"/>
                  </a:cubicBezTo>
                  <a:lnTo>
                    <a:pt x="19999" y="5680"/>
                  </a:lnTo>
                  <a:cubicBezTo>
                    <a:pt x="20896" y="5680"/>
                    <a:pt x="21600" y="4430"/>
                    <a:pt x="21600" y="2853"/>
                  </a:cubicBezTo>
                  <a:cubicBezTo>
                    <a:pt x="21600" y="1269"/>
                    <a:pt x="20896" y="0"/>
                    <a:pt x="19999" y="0"/>
                  </a:cubicBezTo>
                  <a:close/>
                  <a:moveTo>
                    <a:pt x="19999" y="8206"/>
                  </a:moveTo>
                  <a:lnTo>
                    <a:pt x="1635" y="8206"/>
                  </a:lnTo>
                  <a:cubicBezTo>
                    <a:pt x="750" y="8206"/>
                    <a:pt x="0" y="9468"/>
                    <a:pt x="0" y="11039"/>
                  </a:cubicBezTo>
                  <a:cubicBezTo>
                    <a:pt x="0" y="12596"/>
                    <a:pt x="750" y="13853"/>
                    <a:pt x="1635" y="13853"/>
                  </a:cubicBezTo>
                  <a:lnTo>
                    <a:pt x="19999" y="13853"/>
                  </a:lnTo>
                  <a:cubicBezTo>
                    <a:pt x="20896" y="13853"/>
                    <a:pt x="21600" y="12596"/>
                    <a:pt x="21600" y="11039"/>
                  </a:cubicBezTo>
                  <a:cubicBezTo>
                    <a:pt x="21600" y="9468"/>
                    <a:pt x="20896" y="8206"/>
                    <a:pt x="19999"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09" name="AutoShape 29"/>
            <p:cNvSpPr/>
            <p:nvPr/>
          </p:nvSpPr>
          <p:spPr>
            <a:xfrm>
              <a:off x="8445600" y="318456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0" name="AutoShape 30"/>
            <p:cNvSpPr/>
            <p:nvPr/>
          </p:nvSpPr>
          <p:spPr>
            <a:xfrm>
              <a:off x="8738280" y="3313440"/>
              <a:ext cx="5832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1" name="AutoShape 31"/>
            <p:cNvSpPr/>
            <p:nvPr/>
          </p:nvSpPr>
          <p:spPr>
            <a:xfrm>
              <a:off x="8714520" y="3184560"/>
              <a:ext cx="10764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2" name="AutoShape 32"/>
            <p:cNvSpPr/>
            <p:nvPr/>
          </p:nvSpPr>
          <p:spPr>
            <a:xfrm>
              <a:off x="8609040" y="331344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3" name="AutoShape 33"/>
            <p:cNvSpPr/>
            <p:nvPr/>
          </p:nvSpPr>
          <p:spPr>
            <a:xfrm>
              <a:off x="8586000" y="318456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9"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4" name="AutoShape 34"/>
            <p:cNvSpPr/>
            <p:nvPr/>
          </p:nvSpPr>
          <p:spPr>
            <a:xfrm>
              <a:off x="8879040" y="3313440"/>
              <a:ext cx="58320" cy="37440"/>
            </a:xfrm>
            <a:custGeom>
              <a:avLst/>
              <a:gdLst/>
              <a:ahLst/>
              <a:rect l="l" t="t" r="r" b="b"/>
              <a:pathLst>
                <a:path w="21600" h="21600">
                  <a:moveTo>
                    <a:pt x="20003" y="0"/>
                  </a:moveTo>
                  <a:lnTo>
                    <a:pt x="1635" y="0"/>
                  </a:lnTo>
                  <a:cubicBezTo>
                    <a:pt x="750" y="0"/>
                    <a:pt x="0" y="1269"/>
                    <a:pt x="0" y="2853"/>
                  </a:cubicBezTo>
                  <a:cubicBezTo>
                    <a:pt x="0" y="4430"/>
                    <a:pt x="750" y="5680"/>
                    <a:pt x="1635" y="5680"/>
                  </a:cubicBezTo>
                  <a:lnTo>
                    <a:pt x="20003" y="5680"/>
                  </a:lnTo>
                  <a:cubicBezTo>
                    <a:pt x="20896" y="5680"/>
                    <a:pt x="21600" y="4430"/>
                    <a:pt x="21600" y="2853"/>
                  </a:cubicBezTo>
                  <a:cubicBezTo>
                    <a:pt x="21600" y="1269"/>
                    <a:pt x="20896" y="0"/>
                    <a:pt x="20003" y="0"/>
                  </a:cubicBezTo>
                  <a:close/>
                  <a:moveTo>
                    <a:pt x="20003" y="8206"/>
                  </a:moveTo>
                  <a:lnTo>
                    <a:pt x="1635" y="8206"/>
                  </a:lnTo>
                  <a:cubicBezTo>
                    <a:pt x="750" y="8206"/>
                    <a:pt x="0" y="9468"/>
                    <a:pt x="0" y="11039"/>
                  </a:cubicBezTo>
                  <a:cubicBezTo>
                    <a:pt x="0" y="12596"/>
                    <a:pt x="750" y="13853"/>
                    <a:pt x="1635" y="13853"/>
                  </a:cubicBezTo>
                  <a:lnTo>
                    <a:pt x="20003" y="13853"/>
                  </a:lnTo>
                  <a:cubicBezTo>
                    <a:pt x="20896" y="13853"/>
                    <a:pt x="21600" y="12596"/>
                    <a:pt x="21600" y="11039"/>
                  </a:cubicBezTo>
                  <a:cubicBezTo>
                    <a:pt x="21600" y="9468"/>
                    <a:pt x="20896" y="8206"/>
                    <a:pt x="20003"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5" name="AutoShape 35"/>
            <p:cNvSpPr/>
            <p:nvPr/>
          </p:nvSpPr>
          <p:spPr>
            <a:xfrm>
              <a:off x="8855640" y="318456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6" name="AutoShape 36"/>
            <p:cNvSpPr/>
            <p:nvPr/>
          </p:nvSpPr>
          <p:spPr>
            <a:xfrm>
              <a:off x="9711360" y="3313440"/>
              <a:ext cx="58320" cy="37440"/>
            </a:xfrm>
            <a:custGeom>
              <a:avLst/>
              <a:gdLst/>
              <a:ahLst/>
              <a:rect l="l" t="t" r="r" b="b"/>
              <a:pathLst>
                <a:path w="21600" h="21600">
                  <a:moveTo>
                    <a:pt x="19999" y="0"/>
                  </a:moveTo>
                  <a:lnTo>
                    <a:pt x="1630" y="0"/>
                  </a:lnTo>
                  <a:cubicBezTo>
                    <a:pt x="746" y="0"/>
                    <a:pt x="0" y="1269"/>
                    <a:pt x="0" y="2853"/>
                  </a:cubicBezTo>
                  <a:cubicBezTo>
                    <a:pt x="0" y="4430"/>
                    <a:pt x="746"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46" y="8206"/>
                    <a:pt x="0" y="9468"/>
                    <a:pt x="0" y="11039"/>
                  </a:cubicBezTo>
                  <a:cubicBezTo>
                    <a:pt x="0" y="12596"/>
                    <a:pt x="746"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1" y="21600"/>
                    <a:pt x="16169" y="19761"/>
                    <a:pt x="17353" y="17072"/>
                  </a:cubicBezTo>
                  <a:lnTo>
                    <a:pt x="4268" y="17072"/>
                  </a:lnTo>
                  <a:cubicBezTo>
                    <a:pt x="5473" y="19761"/>
                    <a:pt x="7946"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7" name="AutoShape 37"/>
            <p:cNvSpPr/>
            <p:nvPr/>
          </p:nvSpPr>
          <p:spPr>
            <a:xfrm>
              <a:off x="9687240" y="3184560"/>
              <a:ext cx="107640" cy="118440"/>
            </a:xfrm>
            <a:custGeom>
              <a:avLst/>
              <a:gdLst/>
              <a:ahLst/>
              <a:rect l="l" t="t" r="r" b="b"/>
              <a:pathLst>
                <a:path w="21600" h="21600">
                  <a:moveTo>
                    <a:pt x="10799" y="0"/>
                  </a:moveTo>
                  <a:cubicBezTo>
                    <a:pt x="4829" y="0"/>
                    <a:pt x="0" y="4372"/>
                    <a:pt x="0" y="9766"/>
                  </a:cubicBezTo>
                  <a:cubicBezTo>
                    <a:pt x="0" y="13421"/>
                    <a:pt x="2806" y="16042"/>
                    <a:pt x="4693"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8" name="AutoShape 38"/>
            <p:cNvSpPr/>
            <p:nvPr/>
          </p:nvSpPr>
          <p:spPr>
            <a:xfrm>
              <a:off x="9558720" y="3313440"/>
              <a:ext cx="58320" cy="37440"/>
            </a:xfrm>
            <a:custGeom>
              <a:avLst/>
              <a:gdLst/>
              <a:ahLst/>
              <a:rect l="l" t="t" r="r" b="b"/>
              <a:pathLst>
                <a:path w="21600" h="21600">
                  <a:moveTo>
                    <a:pt x="20003" y="0"/>
                  </a:moveTo>
                  <a:lnTo>
                    <a:pt x="1627" y="0"/>
                  </a:lnTo>
                  <a:cubicBezTo>
                    <a:pt x="750" y="0"/>
                    <a:pt x="0" y="1269"/>
                    <a:pt x="0" y="2853"/>
                  </a:cubicBezTo>
                  <a:cubicBezTo>
                    <a:pt x="0" y="4430"/>
                    <a:pt x="750" y="5680"/>
                    <a:pt x="1627" y="5680"/>
                  </a:cubicBezTo>
                  <a:lnTo>
                    <a:pt x="20003" y="5680"/>
                  </a:lnTo>
                  <a:cubicBezTo>
                    <a:pt x="20900" y="5680"/>
                    <a:pt x="21600" y="4430"/>
                    <a:pt x="21600" y="2853"/>
                  </a:cubicBezTo>
                  <a:cubicBezTo>
                    <a:pt x="21600" y="1269"/>
                    <a:pt x="20900" y="0"/>
                    <a:pt x="20003" y="0"/>
                  </a:cubicBezTo>
                  <a:close/>
                  <a:moveTo>
                    <a:pt x="20003" y="8206"/>
                  </a:moveTo>
                  <a:lnTo>
                    <a:pt x="1627" y="8206"/>
                  </a:lnTo>
                  <a:cubicBezTo>
                    <a:pt x="750" y="8206"/>
                    <a:pt x="0" y="9468"/>
                    <a:pt x="0" y="11039"/>
                  </a:cubicBezTo>
                  <a:cubicBezTo>
                    <a:pt x="0" y="12596"/>
                    <a:pt x="750" y="13853"/>
                    <a:pt x="1627" y="13853"/>
                  </a:cubicBezTo>
                  <a:lnTo>
                    <a:pt x="20003" y="13853"/>
                  </a:lnTo>
                  <a:cubicBezTo>
                    <a:pt x="20900" y="13853"/>
                    <a:pt x="21600" y="12596"/>
                    <a:pt x="21600" y="11039"/>
                  </a:cubicBezTo>
                  <a:cubicBezTo>
                    <a:pt x="21600" y="9468"/>
                    <a:pt x="20900" y="8206"/>
                    <a:pt x="20003" y="8206"/>
                  </a:cubicBezTo>
                  <a:close/>
                  <a:moveTo>
                    <a:pt x="10819" y="21600"/>
                  </a:moveTo>
                  <a:cubicBezTo>
                    <a:pt x="13676" y="21600"/>
                    <a:pt x="16172" y="19761"/>
                    <a:pt x="17356" y="17072"/>
                  </a:cubicBezTo>
                  <a:lnTo>
                    <a:pt x="4269" y="17072"/>
                  </a:lnTo>
                  <a:cubicBezTo>
                    <a:pt x="5471" y="19761"/>
                    <a:pt x="7945"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19" name="AutoShape 39"/>
            <p:cNvSpPr/>
            <p:nvPr/>
          </p:nvSpPr>
          <p:spPr>
            <a:xfrm>
              <a:off x="9534960" y="3184560"/>
              <a:ext cx="107640" cy="118440"/>
            </a:xfrm>
            <a:custGeom>
              <a:avLst/>
              <a:gdLst/>
              <a:ahLst/>
              <a:rect l="l" t="t" r="r" b="b"/>
              <a:pathLst>
                <a:path w="21600" h="21600">
                  <a:moveTo>
                    <a:pt x="10800" y="0"/>
                  </a:moveTo>
                  <a:cubicBezTo>
                    <a:pt x="4830" y="0"/>
                    <a:pt x="0" y="4372"/>
                    <a:pt x="0" y="9766"/>
                  </a:cubicBezTo>
                  <a:cubicBezTo>
                    <a:pt x="0" y="13421"/>
                    <a:pt x="2807" y="16042"/>
                    <a:pt x="4696" y="18977"/>
                  </a:cubicBezTo>
                  <a:cubicBezTo>
                    <a:pt x="5159" y="19694"/>
                    <a:pt x="5484" y="21600"/>
                    <a:pt x="5484" y="21600"/>
                  </a:cubicBezTo>
                  <a:lnTo>
                    <a:pt x="16123" y="21600"/>
                  </a:lnTo>
                  <a:cubicBezTo>
                    <a:pt x="16123" y="21600"/>
                    <a:pt x="16438" y="19694"/>
                    <a:pt x="16897" y="18977"/>
                  </a:cubicBezTo>
                  <a:cubicBezTo>
                    <a:pt x="18791" y="16042"/>
                    <a:pt x="21600" y="13421"/>
                    <a:pt x="21600" y="9766"/>
                  </a:cubicBezTo>
                  <a:cubicBezTo>
                    <a:pt x="21600" y="4372"/>
                    <a:pt x="16761" y="0"/>
                    <a:pt x="10800" y="0"/>
                  </a:cubicBezTo>
                  <a:close/>
                  <a:moveTo>
                    <a:pt x="10800"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220" name="Group 2"/>
          <p:cNvGrpSpPr/>
          <p:nvPr/>
        </p:nvGrpSpPr>
        <p:grpSpPr>
          <a:xfrm>
            <a:off x="8445600" y="3767040"/>
            <a:ext cx="1485720" cy="168480"/>
            <a:chOff x="8445600" y="3767040"/>
            <a:chExt cx="1485720" cy="168480"/>
          </a:xfrm>
        </p:grpSpPr>
        <p:sp>
          <p:nvSpPr>
            <p:cNvPr id="1221" name="AutoShape 19"/>
            <p:cNvSpPr/>
            <p:nvPr/>
          </p:nvSpPr>
          <p:spPr>
            <a:xfrm>
              <a:off x="9863640" y="3767040"/>
              <a:ext cx="67680" cy="168480"/>
            </a:xfrm>
            <a:custGeom>
              <a:avLst/>
              <a:gdLst/>
              <a:ahLst/>
              <a:rect l="l" t="t" r="r" b="b"/>
              <a:pathLst>
                <a:path w="21600" h="21600">
                  <a:moveTo>
                    <a:pt x="0" y="0"/>
                  </a:moveTo>
                  <a:lnTo>
                    <a:pt x="0" y="21600"/>
                  </a:lnTo>
                  <a:lnTo>
                    <a:pt x="21600" y="10799"/>
                  </a:lnTo>
                  <a:cubicBezTo>
                    <a:pt x="21600" y="10799"/>
                    <a:pt x="0" y="0"/>
                    <a:pt x="0" y="0"/>
                  </a:cubicBezTo>
                  <a:close/>
                  <a:moveTo>
                    <a:pt x="0" y="0"/>
                  </a:moveTo>
                </a:path>
              </a:pathLst>
            </a:custGeom>
            <a:solidFill>
              <a:srgbClr val="0098a5"/>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2" name="AutoShape 20"/>
            <p:cNvSpPr/>
            <p:nvPr/>
          </p:nvSpPr>
          <p:spPr>
            <a:xfrm>
              <a:off x="9007560" y="389628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3" name="AutoShape 21"/>
            <p:cNvSpPr/>
            <p:nvPr/>
          </p:nvSpPr>
          <p:spPr>
            <a:xfrm>
              <a:off x="8984160" y="376704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4" name="AutoShape 22"/>
            <p:cNvSpPr/>
            <p:nvPr/>
          </p:nvSpPr>
          <p:spPr>
            <a:xfrm>
              <a:off x="9289080" y="3896280"/>
              <a:ext cx="58680" cy="37440"/>
            </a:xfrm>
            <a:custGeom>
              <a:avLst/>
              <a:gdLst/>
              <a:ahLst/>
              <a:rect l="l" t="t" r="r" b="b"/>
              <a:pathLst>
                <a:path w="21600" h="21600">
                  <a:moveTo>
                    <a:pt x="19995" y="0"/>
                  </a:moveTo>
                  <a:lnTo>
                    <a:pt x="1630" y="0"/>
                  </a:lnTo>
                  <a:cubicBezTo>
                    <a:pt x="750" y="0"/>
                    <a:pt x="0" y="1269"/>
                    <a:pt x="0" y="2853"/>
                  </a:cubicBezTo>
                  <a:cubicBezTo>
                    <a:pt x="0" y="4430"/>
                    <a:pt x="750" y="5680"/>
                    <a:pt x="1630" y="5680"/>
                  </a:cubicBezTo>
                  <a:lnTo>
                    <a:pt x="19995" y="5680"/>
                  </a:lnTo>
                  <a:cubicBezTo>
                    <a:pt x="20892" y="5680"/>
                    <a:pt x="21600" y="4430"/>
                    <a:pt x="21600" y="2853"/>
                  </a:cubicBezTo>
                  <a:cubicBezTo>
                    <a:pt x="21600" y="1269"/>
                    <a:pt x="20892" y="0"/>
                    <a:pt x="19995" y="0"/>
                  </a:cubicBezTo>
                  <a:close/>
                  <a:moveTo>
                    <a:pt x="19995" y="8206"/>
                  </a:moveTo>
                  <a:lnTo>
                    <a:pt x="1630" y="8206"/>
                  </a:lnTo>
                  <a:cubicBezTo>
                    <a:pt x="750" y="8206"/>
                    <a:pt x="0" y="9468"/>
                    <a:pt x="0" y="11039"/>
                  </a:cubicBezTo>
                  <a:cubicBezTo>
                    <a:pt x="0" y="12596"/>
                    <a:pt x="750" y="13853"/>
                    <a:pt x="1630" y="13853"/>
                  </a:cubicBezTo>
                  <a:lnTo>
                    <a:pt x="19995" y="13853"/>
                  </a:lnTo>
                  <a:cubicBezTo>
                    <a:pt x="20892" y="13853"/>
                    <a:pt x="21600" y="12596"/>
                    <a:pt x="21600" y="11039"/>
                  </a:cubicBezTo>
                  <a:cubicBezTo>
                    <a:pt x="21600" y="9468"/>
                    <a:pt x="20892" y="8206"/>
                    <a:pt x="19995" y="8206"/>
                  </a:cubicBezTo>
                  <a:close/>
                  <a:moveTo>
                    <a:pt x="10819" y="21600"/>
                  </a:moveTo>
                  <a:cubicBezTo>
                    <a:pt x="13675" y="21600"/>
                    <a:pt x="16169" y="19761"/>
                    <a:pt x="17358" y="17072"/>
                  </a:cubicBezTo>
                  <a:lnTo>
                    <a:pt x="4268"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5" name="AutoShape 23"/>
            <p:cNvSpPr/>
            <p:nvPr/>
          </p:nvSpPr>
          <p:spPr>
            <a:xfrm>
              <a:off x="9266040" y="3767040"/>
              <a:ext cx="106920" cy="118440"/>
            </a:xfrm>
            <a:custGeom>
              <a:avLst/>
              <a:gdLst/>
              <a:ahLst/>
              <a:rect l="l" t="t" r="r" b="b"/>
              <a:pathLst>
                <a:path w="21600" h="21600">
                  <a:moveTo>
                    <a:pt x="10800" y="0"/>
                  </a:moveTo>
                  <a:cubicBezTo>
                    <a:pt x="4833" y="0"/>
                    <a:pt x="0" y="4372"/>
                    <a:pt x="0" y="9766"/>
                  </a:cubicBezTo>
                  <a:cubicBezTo>
                    <a:pt x="0" y="13421"/>
                    <a:pt x="2811" y="16042"/>
                    <a:pt x="4697" y="18977"/>
                  </a:cubicBezTo>
                  <a:cubicBezTo>
                    <a:pt x="5160" y="19694"/>
                    <a:pt x="5485" y="21600"/>
                    <a:pt x="5485" y="21600"/>
                  </a:cubicBezTo>
                  <a:lnTo>
                    <a:pt x="16122" y="21600"/>
                  </a:lnTo>
                  <a:cubicBezTo>
                    <a:pt x="16122" y="21600"/>
                    <a:pt x="16437" y="19694"/>
                    <a:pt x="16893" y="18977"/>
                  </a:cubicBezTo>
                  <a:cubicBezTo>
                    <a:pt x="18787" y="16042"/>
                    <a:pt x="21600" y="13421"/>
                    <a:pt x="21600" y="9766"/>
                  </a:cubicBezTo>
                  <a:cubicBezTo>
                    <a:pt x="21600" y="4372"/>
                    <a:pt x="16760" y="0"/>
                    <a:pt x="10800" y="0"/>
                  </a:cubicBezTo>
                  <a:close/>
                  <a:moveTo>
                    <a:pt x="10800"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6" name="AutoShape 24"/>
            <p:cNvSpPr/>
            <p:nvPr/>
          </p:nvSpPr>
          <p:spPr>
            <a:xfrm>
              <a:off x="9148680" y="3896280"/>
              <a:ext cx="58320" cy="37440"/>
            </a:xfrm>
            <a:custGeom>
              <a:avLst/>
              <a:gdLst/>
              <a:ahLst/>
              <a:rect l="l" t="t" r="r" b="b"/>
              <a:pathLst>
                <a:path w="21600" h="21600">
                  <a:moveTo>
                    <a:pt x="20003" y="0"/>
                  </a:moveTo>
                  <a:lnTo>
                    <a:pt x="1631" y="0"/>
                  </a:lnTo>
                  <a:cubicBezTo>
                    <a:pt x="750" y="0"/>
                    <a:pt x="0" y="1269"/>
                    <a:pt x="0" y="2853"/>
                  </a:cubicBezTo>
                  <a:cubicBezTo>
                    <a:pt x="0" y="4430"/>
                    <a:pt x="750" y="5680"/>
                    <a:pt x="1631" y="5680"/>
                  </a:cubicBezTo>
                  <a:lnTo>
                    <a:pt x="20003" y="5680"/>
                  </a:lnTo>
                  <a:cubicBezTo>
                    <a:pt x="20896" y="5680"/>
                    <a:pt x="21600" y="4430"/>
                    <a:pt x="21600" y="2853"/>
                  </a:cubicBezTo>
                  <a:cubicBezTo>
                    <a:pt x="21600" y="1269"/>
                    <a:pt x="20896" y="0"/>
                    <a:pt x="20003" y="0"/>
                  </a:cubicBezTo>
                  <a:close/>
                  <a:moveTo>
                    <a:pt x="20003" y="8206"/>
                  </a:moveTo>
                  <a:lnTo>
                    <a:pt x="1631" y="8206"/>
                  </a:lnTo>
                  <a:cubicBezTo>
                    <a:pt x="750" y="8206"/>
                    <a:pt x="0" y="9468"/>
                    <a:pt x="0" y="11039"/>
                  </a:cubicBezTo>
                  <a:cubicBezTo>
                    <a:pt x="0" y="12596"/>
                    <a:pt x="750" y="13853"/>
                    <a:pt x="1631" y="13853"/>
                  </a:cubicBezTo>
                  <a:lnTo>
                    <a:pt x="20003" y="13853"/>
                  </a:lnTo>
                  <a:cubicBezTo>
                    <a:pt x="20896" y="13853"/>
                    <a:pt x="21600" y="12596"/>
                    <a:pt x="21600" y="11039"/>
                  </a:cubicBezTo>
                  <a:cubicBezTo>
                    <a:pt x="21600" y="9468"/>
                    <a:pt x="20896" y="8206"/>
                    <a:pt x="20003" y="8206"/>
                  </a:cubicBezTo>
                  <a:close/>
                  <a:moveTo>
                    <a:pt x="10821" y="21600"/>
                  </a:moveTo>
                  <a:cubicBezTo>
                    <a:pt x="13678" y="21600"/>
                    <a:pt x="16173" y="19761"/>
                    <a:pt x="17357" y="17072"/>
                  </a:cubicBezTo>
                  <a:lnTo>
                    <a:pt x="4269" y="17072"/>
                  </a:lnTo>
                  <a:cubicBezTo>
                    <a:pt x="5478" y="19761"/>
                    <a:pt x="7947" y="21600"/>
                    <a:pt x="10821" y="21600"/>
                  </a:cubicBezTo>
                  <a:close/>
                  <a:moveTo>
                    <a:pt x="10821"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7" name="AutoShape 25"/>
            <p:cNvSpPr/>
            <p:nvPr/>
          </p:nvSpPr>
          <p:spPr>
            <a:xfrm>
              <a:off x="9124920" y="3767040"/>
              <a:ext cx="107640" cy="118440"/>
            </a:xfrm>
            <a:custGeom>
              <a:avLst/>
              <a:gdLst/>
              <a:ahLst/>
              <a:rect l="l" t="t" r="r" b="b"/>
              <a:pathLst>
                <a:path w="21600" h="21600">
                  <a:moveTo>
                    <a:pt x="10799" y="0"/>
                  </a:moveTo>
                  <a:cubicBezTo>
                    <a:pt x="4829"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8" name="AutoShape 26"/>
            <p:cNvSpPr/>
            <p:nvPr/>
          </p:nvSpPr>
          <p:spPr>
            <a:xfrm>
              <a:off x="9429480" y="389628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29" name="AutoShape 27"/>
            <p:cNvSpPr/>
            <p:nvPr/>
          </p:nvSpPr>
          <p:spPr>
            <a:xfrm>
              <a:off x="9406440" y="3767040"/>
              <a:ext cx="106920" cy="118440"/>
            </a:xfrm>
            <a:custGeom>
              <a:avLst/>
              <a:gdLst/>
              <a:ahLst/>
              <a:rect l="l" t="t" r="r" b="b"/>
              <a:pathLst>
                <a:path w="21600" h="21600">
                  <a:moveTo>
                    <a:pt x="10798" y="0"/>
                  </a:moveTo>
                  <a:cubicBezTo>
                    <a:pt x="4830" y="0"/>
                    <a:pt x="0" y="4372"/>
                    <a:pt x="0" y="9766"/>
                  </a:cubicBezTo>
                  <a:cubicBezTo>
                    <a:pt x="0" y="13421"/>
                    <a:pt x="2807" y="16042"/>
                    <a:pt x="4694" y="18977"/>
                  </a:cubicBezTo>
                  <a:cubicBezTo>
                    <a:pt x="5157" y="19694"/>
                    <a:pt x="5482" y="21600"/>
                    <a:pt x="5482" y="21600"/>
                  </a:cubicBezTo>
                  <a:lnTo>
                    <a:pt x="16121" y="21600"/>
                  </a:lnTo>
                  <a:cubicBezTo>
                    <a:pt x="16121" y="21600"/>
                    <a:pt x="16436" y="19694"/>
                    <a:pt x="16895" y="18977"/>
                  </a:cubicBezTo>
                  <a:cubicBezTo>
                    <a:pt x="18789" y="16042"/>
                    <a:pt x="21600" y="13421"/>
                    <a:pt x="21600" y="9766"/>
                  </a:cubicBezTo>
                  <a:cubicBezTo>
                    <a:pt x="21600" y="4372"/>
                    <a:pt x="16759" y="0"/>
                    <a:pt x="10798" y="0"/>
                  </a:cubicBezTo>
                  <a:close/>
                  <a:moveTo>
                    <a:pt x="10798"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0" name="AutoShape 28"/>
            <p:cNvSpPr/>
            <p:nvPr/>
          </p:nvSpPr>
          <p:spPr>
            <a:xfrm>
              <a:off x="8468640" y="3896280"/>
              <a:ext cx="58320" cy="37440"/>
            </a:xfrm>
            <a:custGeom>
              <a:avLst/>
              <a:gdLst/>
              <a:ahLst/>
              <a:rect l="l" t="t" r="r" b="b"/>
              <a:pathLst>
                <a:path w="21600" h="21600">
                  <a:moveTo>
                    <a:pt x="19999" y="0"/>
                  </a:moveTo>
                  <a:lnTo>
                    <a:pt x="1635" y="0"/>
                  </a:lnTo>
                  <a:cubicBezTo>
                    <a:pt x="750" y="0"/>
                    <a:pt x="0" y="1269"/>
                    <a:pt x="0" y="2853"/>
                  </a:cubicBezTo>
                  <a:cubicBezTo>
                    <a:pt x="0" y="4430"/>
                    <a:pt x="750" y="5680"/>
                    <a:pt x="1635" y="5680"/>
                  </a:cubicBezTo>
                  <a:lnTo>
                    <a:pt x="19999" y="5680"/>
                  </a:lnTo>
                  <a:cubicBezTo>
                    <a:pt x="20896" y="5680"/>
                    <a:pt x="21600" y="4430"/>
                    <a:pt x="21600" y="2853"/>
                  </a:cubicBezTo>
                  <a:cubicBezTo>
                    <a:pt x="21600" y="1269"/>
                    <a:pt x="20896" y="0"/>
                    <a:pt x="19999" y="0"/>
                  </a:cubicBezTo>
                  <a:close/>
                  <a:moveTo>
                    <a:pt x="19999" y="8206"/>
                  </a:moveTo>
                  <a:lnTo>
                    <a:pt x="1635" y="8206"/>
                  </a:lnTo>
                  <a:cubicBezTo>
                    <a:pt x="750" y="8206"/>
                    <a:pt x="0" y="9468"/>
                    <a:pt x="0" y="11039"/>
                  </a:cubicBezTo>
                  <a:cubicBezTo>
                    <a:pt x="0" y="12596"/>
                    <a:pt x="750" y="13853"/>
                    <a:pt x="1635" y="13853"/>
                  </a:cubicBezTo>
                  <a:lnTo>
                    <a:pt x="19999" y="13853"/>
                  </a:lnTo>
                  <a:cubicBezTo>
                    <a:pt x="20896" y="13853"/>
                    <a:pt x="21600" y="12596"/>
                    <a:pt x="21600" y="11039"/>
                  </a:cubicBezTo>
                  <a:cubicBezTo>
                    <a:pt x="21600" y="9468"/>
                    <a:pt x="20896" y="8206"/>
                    <a:pt x="19999"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1" name="AutoShape 29"/>
            <p:cNvSpPr/>
            <p:nvPr/>
          </p:nvSpPr>
          <p:spPr>
            <a:xfrm>
              <a:off x="8445600" y="376704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2" name="AutoShape 30"/>
            <p:cNvSpPr/>
            <p:nvPr/>
          </p:nvSpPr>
          <p:spPr>
            <a:xfrm>
              <a:off x="8738280" y="3896280"/>
              <a:ext cx="5832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3" name="AutoShape 31"/>
            <p:cNvSpPr/>
            <p:nvPr/>
          </p:nvSpPr>
          <p:spPr>
            <a:xfrm>
              <a:off x="8714520" y="3767040"/>
              <a:ext cx="10764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4" name="AutoShape 32"/>
            <p:cNvSpPr/>
            <p:nvPr/>
          </p:nvSpPr>
          <p:spPr>
            <a:xfrm>
              <a:off x="8609040" y="389628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5" name="AutoShape 33"/>
            <p:cNvSpPr/>
            <p:nvPr/>
          </p:nvSpPr>
          <p:spPr>
            <a:xfrm>
              <a:off x="8586000" y="376704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9"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6" name="AutoShape 34"/>
            <p:cNvSpPr/>
            <p:nvPr/>
          </p:nvSpPr>
          <p:spPr>
            <a:xfrm>
              <a:off x="8879040" y="3896280"/>
              <a:ext cx="58320" cy="37440"/>
            </a:xfrm>
            <a:custGeom>
              <a:avLst/>
              <a:gdLst/>
              <a:ahLst/>
              <a:rect l="l" t="t" r="r" b="b"/>
              <a:pathLst>
                <a:path w="21600" h="21600">
                  <a:moveTo>
                    <a:pt x="20003" y="0"/>
                  </a:moveTo>
                  <a:lnTo>
                    <a:pt x="1635" y="0"/>
                  </a:lnTo>
                  <a:cubicBezTo>
                    <a:pt x="750" y="0"/>
                    <a:pt x="0" y="1269"/>
                    <a:pt x="0" y="2853"/>
                  </a:cubicBezTo>
                  <a:cubicBezTo>
                    <a:pt x="0" y="4430"/>
                    <a:pt x="750" y="5680"/>
                    <a:pt x="1635" y="5680"/>
                  </a:cubicBezTo>
                  <a:lnTo>
                    <a:pt x="20003" y="5680"/>
                  </a:lnTo>
                  <a:cubicBezTo>
                    <a:pt x="20896" y="5680"/>
                    <a:pt x="21600" y="4430"/>
                    <a:pt x="21600" y="2853"/>
                  </a:cubicBezTo>
                  <a:cubicBezTo>
                    <a:pt x="21600" y="1269"/>
                    <a:pt x="20896" y="0"/>
                    <a:pt x="20003" y="0"/>
                  </a:cubicBezTo>
                  <a:close/>
                  <a:moveTo>
                    <a:pt x="20003" y="8206"/>
                  </a:moveTo>
                  <a:lnTo>
                    <a:pt x="1635" y="8206"/>
                  </a:lnTo>
                  <a:cubicBezTo>
                    <a:pt x="750" y="8206"/>
                    <a:pt x="0" y="9468"/>
                    <a:pt x="0" y="11039"/>
                  </a:cubicBezTo>
                  <a:cubicBezTo>
                    <a:pt x="0" y="12596"/>
                    <a:pt x="750" y="13853"/>
                    <a:pt x="1635" y="13853"/>
                  </a:cubicBezTo>
                  <a:lnTo>
                    <a:pt x="20003" y="13853"/>
                  </a:lnTo>
                  <a:cubicBezTo>
                    <a:pt x="20896" y="13853"/>
                    <a:pt x="21600" y="12596"/>
                    <a:pt x="21600" y="11039"/>
                  </a:cubicBezTo>
                  <a:cubicBezTo>
                    <a:pt x="21600" y="9468"/>
                    <a:pt x="20896" y="8206"/>
                    <a:pt x="20003"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7" name="AutoShape 35"/>
            <p:cNvSpPr/>
            <p:nvPr/>
          </p:nvSpPr>
          <p:spPr>
            <a:xfrm>
              <a:off x="8855640" y="376704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8" name="AutoShape 36"/>
            <p:cNvSpPr/>
            <p:nvPr/>
          </p:nvSpPr>
          <p:spPr>
            <a:xfrm>
              <a:off x="9711360" y="3896280"/>
              <a:ext cx="58320" cy="37440"/>
            </a:xfrm>
            <a:custGeom>
              <a:avLst/>
              <a:gdLst/>
              <a:ahLst/>
              <a:rect l="l" t="t" r="r" b="b"/>
              <a:pathLst>
                <a:path w="21600" h="21600">
                  <a:moveTo>
                    <a:pt x="19999" y="0"/>
                  </a:moveTo>
                  <a:lnTo>
                    <a:pt x="1630" y="0"/>
                  </a:lnTo>
                  <a:cubicBezTo>
                    <a:pt x="746" y="0"/>
                    <a:pt x="0" y="1269"/>
                    <a:pt x="0" y="2853"/>
                  </a:cubicBezTo>
                  <a:cubicBezTo>
                    <a:pt x="0" y="4430"/>
                    <a:pt x="746"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46" y="8206"/>
                    <a:pt x="0" y="9468"/>
                    <a:pt x="0" y="11039"/>
                  </a:cubicBezTo>
                  <a:cubicBezTo>
                    <a:pt x="0" y="12596"/>
                    <a:pt x="746"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1" y="21600"/>
                    <a:pt x="16169" y="19761"/>
                    <a:pt x="17353" y="17072"/>
                  </a:cubicBezTo>
                  <a:lnTo>
                    <a:pt x="4268" y="17072"/>
                  </a:lnTo>
                  <a:cubicBezTo>
                    <a:pt x="5473" y="19761"/>
                    <a:pt x="7946"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39" name="AutoShape 37"/>
            <p:cNvSpPr/>
            <p:nvPr/>
          </p:nvSpPr>
          <p:spPr>
            <a:xfrm>
              <a:off x="9687240" y="3767040"/>
              <a:ext cx="107640" cy="118440"/>
            </a:xfrm>
            <a:custGeom>
              <a:avLst/>
              <a:gdLst/>
              <a:ahLst/>
              <a:rect l="l" t="t" r="r" b="b"/>
              <a:pathLst>
                <a:path w="21600" h="21600">
                  <a:moveTo>
                    <a:pt x="10799" y="0"/>
                  </a:moveTo>
                  <a:cubicBezTo>
                    <a:pt x="4829" y="0"/>
                    <a:pt x="0" y="4372"/>
                    <a:pt x="0" y="9766"/>
                  </a:cubicBezTo>
                  <a:cubicBezTo>
                    <a:pt x="0" y="13421"/>
                    <a:pt x="2806" y="16042"/>
                    <a:pt x="4693"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0" name="AutoShape 38"/>
            <p:cNvSpPr/>
            <p:nvPr/>
          </p:nvSpPr>
          <p:spPr>
            <a:xfrm>
              <a:off x="9558720" y="3896280"/>
              <a:ext cx="58320" cy="37440"/>
            </a:xfrm>
            <a:custGeom>
              <a:avLst/>
              <a:gdLst/>
              <a:ahLst/>
              <a:rect l="l" t="t" r="r" b="b"/>
              <a:pathLst>
                <a:path w="21600" h="21600">
                  <a:moveTo>
                    <a:pt x="20003" y="0"/>
                  </a:moveTo>
                  <a:lnTo>
                    <a:pt x="1627" y="0"/>
                  </a:lnTo>
                  <a:cubicBezTo>
                    <a:pt x="750" y="0"/>
                    <a:pt x="0" y="1269"/>
                    <a:pt x="0" y="2853"/>
                  </a:cubicBezTo>
                  <a:cubicBezTo>
                    <a:pt x="0" y="4430"/>
                    <a:pt x="750" y="5680"/>
                    <a:pt x="1627" y="5680"/>
                  </a:cubicBezTo>
                  <a:lnTo>
                    <a:pt x="20003" y="5680"/>
                  </a:lnTo>
                  <a:cubicBezTo>
                    <a:pt x="20900" y="5680"/>
                    <a:pt x="21600" y="4430"/>
                    <a:pt x="21600" y="2853"/>
                  </a:cubicBezTo>
                  <a:cubicBezTo>
                    <a:pt x="21600" y="1269"/>
                    <a:pt x="20900" y="0"/>
                    <a:pt x="20003" y="0"/>
                  </a:cubicBezTo>
                  <a:close/>
                  <a:moveTo>
                    <a:pt x="20003" y="8206"/>
                  </a:moveTo>
                  <a:lnTo>
                    <a:pt x="1627" y="8206"/>
                  </a:lnTo>
                  <a:cubicBezTo>
                    <a:pt x="750" y="8206"/>
                    <a:pt x="0" y="9468"/>
                    <a:pt x="0" y="11039"/>
                  </a:cubicBezTo>
                  <a:cubicBezTo>
                    <a:pt x="0" y="12596"/>
                    <a:pt x="750" y="13853"/>
                    <a:pt x="1627" y="13853"/>
                  </a:cubicBezTo>
                  <a:lnTo>
                    <a:pt x="20003" y="13853"/>
                  </a:lnTo>
                  <a:cubicBezTo>
                    <a:pt x="20900" y="13853"/>
                    <a:pt x="21600" y="12596"/>
                    <a:pt x="21600" y="11039"/>
                  </a:cubicBezTo>
                  <a:cubicBezTo>
                    <a:pt x="21600" y="9468"/>
                    <a:pt x="20900" y="8206"/>
                    <a:pt x="20003" y="8206"/>
                  </a:cubicBezTo>
                  <a:close/>
                  <a:moveTo>
                    <a:pt x="10819" y="21600"/>
                  </a:moveTo>
                  <a:cubicBezTo>
                    <a:pt x="13676" y="21600"/>
                    <a:pt x="16172" y="19761"/>
                    <a:pt x="17356" y="17072"/>
                  </a:cubicBezTo>
                  <a:lnTo>
                    <a:pt x="4269" y="17072"/>
                  </a:lnTo>
                  <a:cubicBezTo>
                    <a:pt x="5471" y="19761"/>
                    <a:pt x="7945"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1" name="AutoShape 39"/>
            <p:cNvSpPr/>
            <p:nvPr/>
          </p:nvSpPr>
          <p:spPr>
            <a:xfrm>
              <a:off x="9534960" y="3767040"/>
              <a:ext cx="107640" cy="118440"/>
            </a:xfrm>
            <a:custGeom>
              <a:avLst/>
              <a:gdLst/>
              <a:ahLst/>
              <a:rect l="l" t="t" r="r" b="b"/>
              <a:pathLst>
                <a:path w="21600" h="21600">
                  <a:moveTo>
                    <a:pt x="10800" y="0"/>
                  </a:moveTo>
                  <a:cubicBezTo>
                    <a:pt x="4830" y="0"/>
                    <a:pt x="0" y="4372"/>
                    <a:pt x="0" y="9766"/>
                  </a:cubicBezTo>
                  <a:cubicBezTo>
                    <a:pt x="0" y="13421"/>
                    <a:pt x="2807" y="16042"/>
                    <a:pt x="4696" y="18977"/>
                  </a:cubicBezTo>
                  <a:cubicBezTo>
                    <a:pt x="5159" y="19694"/>
                    <a:pt x="5484" y="21600"/>
                    <a:pt x="5484" y="21600"/>
                  </a:cubicBezTo>
                  <a:lnTo>
                    <a:pt x="16123" y="21600"/>
                  </a:lnTo>
                  <a:cubicBezTo>
                    <a:pt x="16123" y="21600"/>
                    <a:pt x="16438" y="19694"/>
                    <a:pt x="16897" y="18977"/>
                  </a:cubicBezTo>
                  <a:cubicBezTo>
                    <a:pt x="18791" y="16042"/>
                    <a:pt x="21600" y="13421"/>
                    <a:pt x="21600" y="9766"/>
                  </a:cubicBezTo>
                  <a:cubicBezTo>
                    <a:pt x="21600" y="4372"/>
                    <a:pt x="16761" y="0"/>
                    <a:pt x="10800" y="0"/>
                  </a:cubicBezTo>
                  <a:close/>
                  <a:moveTo>
                    <a:pt x="10800"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242" name="Group 3"/>
          <p:cNvGrpSpPr/>
          <p:nvPr/>
        </p:nvGrpSpPr>
        <p:grpSpPr>
          <a:xfrm>
            <a:off x="8445600" y="4405320"/>
            <a:ext cx="1485720" cy="168120"/>
            <a:chOff x="8445600" y="4405320"/>
            <a:chExt cx="1485720" cy="168120"/>
          </a:xfrm>
        </p:grpSpPr>
        <p:sp>
          <p:nvSpPr>
            <p:cNvPr id="1243" name="AutoShape 19"/>
            <p:cNvSpPr/>
            <p:nvPr/>
          </p:nvSpPr>
          <p:spPr>
            <a:xfrm>
              <a:off x="9863640" y="4405320"/>
              <a:ext cx="67680" cy="168120"/>
            </a:xfrm>
            <a:custGeom>
              <a:avLst/>
              <a:gdLst/>
              <a:ahLst/>
              <a:rect l="l" t="t" r="r" b="b"/>
              <a:pathLst>
                <a:path w="21600" h="21600">
                  <a:moveTo>
                    <a:pt x="0" y="0"/>
                  </a:moveTo>
                  <a:lnTo>
                    <a:pt x="0" y="21600"/>
                  </a:lnTo>
                  <a:lnTo>
                    <a:pt x="21600" y="10799"/>
                  </a:lnTo>
                  <a:cubicBezTo>
                    <a:pt x="21600" y="10799"/>
                    <a:pt x="0" y="0"/>
                    <a:pt x="0" y="0"/>
                  </a:cubicBezTo>
                  <a:close/>
                  <a:moveTo>
                    <a:pt x="0" y="0"/>
                  </a:moveTo>
                </a:path>
              </a:pathLst>
            </a:custGeom>
            <a:solidFill>
              <a:srgbClr val="0098a5"/>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4" name="AutoShape 20"/>
            <p:cNvSpPr/>
            <p:nvPr/>
          </p:nvSpPr>
          <p:spPr>
            <a:xfrm>
              <a:off x="9007560" y="453420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5" name="AutoShape 21"/>
            <p:cNvSpPr/>
            <p:nvPr/>
          </p:nvSpPr>
          <p:spPr>
            <a:xfrm>
              <a:off x="8984160" y="440532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6" name="AutoShape 22"/>
            <p:cNvSpPr/>
            <p:nvPr/>
          </p:nvSpPr>
          <p:spPr>
            <a:xfrm>
              <a:off x="9289080" y="4534200"/>
              <a:ext cx="58680" cy="37440"/>
            </a:xfrm>
            <a:custGeom>
              <a:avLst/>
              <a:gdLst/>
              <a:ahLst/>
              <a:rect l="l" t="t" r="r" b="b"/>
              <a:pathLst>
                <a:path w="21600" h="21600">
                  <a:moveTo>
                    <a:pt x="19995" y="0"/>
                  </a:moveTo>
                  <a:lnTo>
                    <a:pt x="1630" y="0"/>
                  </a:lnTo>
                  <a:cubicBezTo>
                    <a:pt x="750" y="0"/>
                    <a:pt x="0" y="1269"/>
                    <a:pt x="0" y="2853"/>
                  </a:cubicBezTo>
                  <a:cubicBezTo>
                    <a:pt x="0" y="4430"/>
                    <a:pt x="750" y="5680"/>
                    <a:pt x="1630" y="5680"/>
                  </a:cubicBezTo>
                  <a:lnTo>
                    <a:pt x="19995" y="5680"/>
                  </a:lnTo>
                  <a:cubicBezTo>
                    <a:pt x="20892" y="5680"/>
                    <a:pt x="21600" y="4430"/>
                    <a:pt x="21600" y="2853"/>
                  </a:cubicBezTo>
                  <a:cubicBezTo>
                    <a:pt x="21600" y="1269"/>
                    <a:pt x="20892" y="0"/>
                    <a:pt x="19995" y="0"/>
                  </a:cubicBezTo>
                  <a:close/>
                  <a:moveTo>
                    <a:pt x="19995" y="8206"/>
                  </a:moveTo>
                  <a:lnTo>
                    <a:pt x="1630" y="8206"/>
                  </a:lnTo>
                  <a:cubicBezTo>
                    <a:pt x="750" y="8206"/>
                    <a:pt x="0" y="9468"/>
                    <a:pt x="0" y="11039"/>
                  </a:cubicBezTo>
                  <a:cubicBezTo>
                    <a:pt x="0" y="12596"/>
                    <a:pt x="750" y="13853"/>
                    <a:pt x="1630" y="13853"/>
                  </a:cubicBezTo>
                  <a:lnTo>
                    <a:pt x="19995" y="13853"/>
                  </a:lnTo>
                  <a:cubicBezTo>
                    <a:pt x="20892" y="13853"/>
                    <a:pt x="21600" y="12596"/>
                    <a:pt x="21600" y="11039"/>
                  </a:cubicBezTo>
                  <a:cubicBezTo>
                    <a:pt x="21600" y="9468"/>
                    <a:pt x="20892" y="8206"/>
                    <a:pt x="19995" y="8206"/>
                  </a:cubicBezTo>
                  <a:close/>
                  <a:moveTo>
                    <a:pt x="10819" y="21600"/>
                  </a:moveTo>
                  <a:cubicBezTo>
                    <a:pt x="13675" y="21600"/>
                    <a:pt x="16169" y="19761"/>
                    <a:pt x="17358" y="17072"/>
                  </a:cubicBezTo>
                  <a:lnTo>
                    <a:pt x="4268" y="17072"/>
                  </a:lnTo>
                  <a:cubicBezTo>
                    <a:pt x="5477" y="19761"/>
                    <a:pt x="7946"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7" name="AutoShape 23"/>
            <p:cNvSpPr/>
            <p:nvPr/>
          </p:nvSpPr>
          <p:spPr>
            <a:xfrm>
              <a:off x="9266040" y="4405320"/>
              <a:ext cx="106920" cy="118440"/>
            </a:xfrm>
            <a:custGeom>
              <a:avLst/>
              <a:gdLst/>
              <a:ahLst/>
              <a:rect l="l" t="t" r="r" b="b"/>
              <a:pathLst>
                <a:path w="21600" h="21600">
                  <a:moveTo>
                    <a:pt x="10800" y="0"/>
                  </a:moveTo>
                  <a:cubicBezTo>
                    <a:pt x="4833" y="0"/>
                    <a:pt x="0" y="4372"/>
                    <a:pt x="0" y="9766"/>
                  </a:cubicBezTo>
                  <a:cubicBezTo>
                    <a:pt x="0" y="13421"/>
                    <a:pt x="2811" y="16042"/>
                    <a:pt x="4697" y="18977"/>
                  </a:cubicBezTo>
                  <a:cubicBezTo>
                    <a:pt x="5160" y="19694"/>
                    <a:pt x="5485" y="21600"/>
                    <a:pt x="5485" y="21600"/>
                  </a:cubicBezTo>
                  <a:lnTo>
                    <a:pt x="16122" y="21600"/>
                  </a:lnTo>
                  <a:cubicBezTo>
                    <a:pt x="16122" y="21600"/>
                    <a:pt x="16437" y="19694"/>
                    <a:pt x="16893" y="18977"/>
                  </a:cubicBezTo>
                  <a:cubicBezTo>
                    <a:pt x="18787" y="16042"/>
                    <a:pt x="21600" y="13421"/>
                    <a:pt x="21600" y="9766"/>
                  </a:cubicBezTo>
                  <a:cubicBezTo>
                    <a:pt x="21600" y="4372"/>
                    <a:pt x="16760" y="0"/>
                    <a:pt x="10800" y="0"/>
                  </a:cubicBezTo>
                  <a:close/>
                  <a:moveTo>
                    <a:pt x="10800"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8" name="AutoShape 24"/>
            <p:cNvSpPr/>
            <p:nvPr/>
          </p:nvSpPr>
          <p:spPr>
            <a:xfrm>
              <a:off x="9148680" y="4534200"/>
              <a:ext cx="58320" cy="37440"/>
            </a:xfrm>
            <a:custGeom>
              <a:avLst/>
              <a:gdLst/>
              <a:ahLst/>
              <a:rect l="l" t="t" r="r" b="b"/>
              <a:pathLst>
                <a:path w="21600" h="21600">
                  <a:moveTo>
                    <a:pt x="20003" y="0"/>
                  </a:moveTo>
                  <a:lnTo>
                    <a:pt x="1631" y="0"/>
                  </a:lnTo>
                  <a:cubicBezTo>
                    <a:pt x="750" y="0"/>
                    <a:pt x="0" y="1269"/>
                    <a:pt x="0" y="2853"/>
                  </a:cubicBezTo>
                  <a:cubicBezTo>
                    <a:pt x="0" y="4430"/>
                    <a:pt x="750" y="5680"/>
                    <a:pt x="1631" y="5680"/>
                  </a:cubicBezTo>
                  <a:lnTo>
                    <a:pt x="20003" y="5680"/>
                  </a:lnTo>
                  <a:cubicBezTo>
                    <a:pt x="20896" y="5680"/>
                    <a:pt x="21600" y="4430"/>
                    <a:pt x="21600" y="2853"/>
                  </a:cubicBezTo>
                  <a:cubicBezTo>
                    <a:pt x="21600" y="1269"/>
                    <a:pt x="20896" y="0"/>
                    <a:pt x="20003" y="0"/>
                  </a:cubicBezTo>
                  <a:close/>
                  <a:moveTo>
                    <a:pt x="20003" y="8206"/>
                  </a:moveTo>
                  <a:lnTo>
                    <a:pt x="1631" y="8206"/>
                  </a:lnTo>
                  <a:cubicBezTo>
                    <a:pt x="750" y="8206"/>
                    <a:pt x="0" y="9468"/>
                    <a:pt x="0" y="11039"/>
                  </a:cubicBezTo>
                  <a:cubicBezTo>
                    <a:pt x="0" y="12596"/>
                    <a:pt x="750" y="13853"/>
                    <a:pt x="1631" y="13853"/>
                  </a:cubicBezTo>
                  <a:lnTo>
                    <a:pt x="20003" y="13853"/>
                  </a:lnTo>
                  <a:cubicBezTo>
                    <a:pt x="20896" y="13853"/>
                    <a:pt x="21600" y="12596"/>
                    <a:pt x="21600" y="11039"/>
                  </a:cubicBezTo>
                  <a:cubicBezTo>
                    <a:pt x="21600" y="9468"/>
                    <a:pt x="20896" y="8206"/>
                    <a:pt x="20003" y="8206"/>
                  </a:cubicBezTo>
                  <a:close/>
                  <a:moveTo>
                    <a:pt x="10821" y="21600"/>
                  </a:moveTo>
                  <a:cubicBezTo>
                    <a:pt x="13678" y="21600"/>
                    <a:pt x="16173" y="19761"/>
                    <a:pt x="17357" y="17072"/>
                  </a:cubicBezTo>
                  <a:lnTo>
                    <a:pt x="4269" y="17072"/>
                  </a:lnTo>
                  <a:cubicBezTo>
                    <a:pt x="5478" y="19761"/>
                    <a:pt x="7947" y="21600"/>
                    <a:pt x="10821" y="21600"/>
                  </a:cubicBezTo>
                  <a:close/>
                  <a:moveTo>
                    <a:pt x="10821"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49" name="AutoShape 25"/>
            <p:cNvSpPr/>
            <p:nvPr/>
          </p:nvSpPr>
          <p:spPr>
            <a:xfrm>
              <a:off x="9124920" y="4405320"/>
              <a:ext cx="107640" cy="118440"/>
            </a:xfrm>
            <a:custGeom>
              <a:avLst/>
              <a:gdLst/>
              <a:ahLst/>
              <a:rect l="l" t="t" r="r" b="b"/>
              <a:pathLst>
                <a:path w="21600" h="21600">
                  <a:moveTo>
                    <a:pt x="10799" y="0"/>
                  </a:moveTo>
                  <a:cubicBezTo>
                    <a:pt x="4829"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0" name="AutoShape 26"/>
            <p:cNvSpPr/>
            <p:nvPr/>
          </p:nvSpPr>
          <p:spPr>
            <a:xfrm>
              <a:off x="9429480" y="453420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1" name="AutoShape 27"/>
            <p:cNvSpPr/>
            <p:nvPr/>
          </p:nvSpPr>
          <p:spPr>
            <a:xfrm>
              <a:off x="9406440" y="4405320"/>
              <a:ext cx="106920" cy="118440"/>
            </a:xfrm>
            <a:custGeom>
              <a:avLst/>
              <a:gdLst/>
              <a:ahLst/>
              <a:rect l="l" t="t" r="r" b="b"/>
              <a:pathLst>
                <a:path w="21600" h="21600">
                  <a:moveTo>
                    <a:pt x="10798" y="0"/>
                  </a:moveTo>
                  <a:cubicBezTo>
                    <a:pt x="4830" y="0"/>
                    <a:pt x="0" y="4372"/>
                    <a:pt x="0" y="9766"/>
                  </a:cubicBezTo>
                  <a:cubicBezTo>
                    <a:pt x="0" y="13421"/>
                    <a:pt x="2807" y="16042"/>
                    <a:pt x="4694" y="18977"/>
                  </a:cubicBezTo>
                  <a:cubicBezTo>
                    <a:pt x="5157" y="19694"/>
                    <a:pt x="5482" y="21600"/>
                    <a:pt x="5482" y="21600"/>
                  </a:cubicBezTo>
                  <a:lnTo>
                    <a:pt x="16121" y="21600"/>
                  </a:lnTo>
                  <a:cubicBezTo>
                    <a:pt x="16121" y="21600"/>
                    <a:pt x="16436" y="19694"/>
                    <a:pt x="16895" y="18977"/>
                  </a:cubicBezTo>
                  <a:cubicBezTo>
                    <a:pt x="18789" y="16042"/>
                    <a:pt x="21600" y="13421"/>
                    <a:pt x="21600" y="9766"/>
                  </a:cubicBezTo>
                  <a:cubicBezTo>
                    <a:pt x="21600" y="4372"/>
                    <a:pt x="16759" y="0"/>
                    <a:pt x="10798" y="0"/>
                  </a:cubicBezTo>
                  <a:close/>
                  <a:moveTo>
                    <a:pt x="10798"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2" name="AutoShape 28"/>
            <p:cNvSpPr/>
            <p:nvPr/>
          </p:nvSpPr>
          <p:spPr>
            <a:xfrm>
              <a:off x="8468640" y="4534200"/>
              <a:ext cx="58320" cy="37440"/>
            </a:xfrm>
            <a:custGeom>
              <a:avLst/>
              <a:gdLst/>
              <a:ahLst/>
              <a:rect l="l" t="t" r="r" b="b"/>
              <a:pathLst>
                <a:path w="21600" h="21600">
                  <a:moveTo>
                    <a:pt x="19999" y="0"/>
                  </a:moveTo>
                  <a:lnTo>
                    <a:pt x="1635" y="0"/>
                  </a:lnTo>
                  <a:cubicBezTo>
                    <a:pt x="750" y="0"/>
                    <a:pt x="0" y="1269"/>
                    <a:pt x="0" y="2853"/>
                  </a:cubicBezTo>
                  <a:cubicBezTo>
                    <a:pt x="0" y="4430"/>
                    <a:pt x="750" y="5680"/>
                    <a:pt x="1635" y="5680"/>
                  </a:cubicBezTo>
                  <a:lnTo>
                    <a:pt x="19999" y="5680"/>
                  </a:lnTo>
                  <a:cubicBezTo>
                    <a:pt x="20896" y="5680"/>
                    <a:pt x="21600" y="4430"/>
                    <a:pt x="21600" y="2853"/>
                  </a:cubicBezTo>
                  <a:cubicBezTo>
                    <a:pt x="21600" y="1269"/>
                    <a:pt x="20896" y="0"/>
                    <a:pt x="19999" y="0"/>
                  </a:cubicBezTo>
                  <a:close/>
                  <a:moveTo>
                    <a:pt x="19999" y="8206"/>
                  </a:moveTo>
                  <a:lnTo>
                    <a:pt x="1635" y="8206"/>
                  </a:lnTo>
                  <a:cubicBezTo>
                    <a:pt x="750" y="8206"/>
                    <a:pt x="0" y="9468"/>
                    <a:pt x="0" y="11039"/>
                  </a:cubicBezTo>
                  <a:cubicBezTo>
                    <a:pt x="0" y="12596"/>
                    <a:pt x="750" y="13853"/>
                    <a:pt x="1635" y="13853"/>
                  </a:cubicBezTo>
                  <a:lnTo>
                    <a:pt x="19999" y="13853"/>
                  </a:lnTo>
                  <a:cubicBezTo>
                    <a:pt x="20896" y="13853"/>
                    <a:pt x="21600" y="12596"/>
                    <a:pt x="21600" y="11039"/>
                  </a:cubicBezTo>
                  <a:cubicBezTo>
                    <a:pt x="21600" y="9468"/>
                    <a:pt x="20896" y="8206"/>
                    <a:pt x="19999"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3" name="AutoShape 29"/>
            <p:cNvSpPr/>
            <p:nvPr/>
          </p:nvSpPr>
          <p:spPr>
            <a:xfrm>
              <a:off x="8445600" y="440532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4" name="AutoShape 30"/>
            <p:cNvSpPr/>
            <p:nvPr/>
          </p:nvSpPr>
          <p:spPr>
            <a:xfrm>
              <a:off x="8738280" y="4534200"/>
              <a:ext cx="5832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5" name="AutoShape 31"/>
            <p:cNvSpPr/>
            <p:nvPr/>
          </p:nvSpPr>
          <p:spPr>
            <a:xfrm>
              <a:off x="8714520" y="4405320"/>
              <a:ext cx="10764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6" name="AutoShape 32"/>
            <p:cNvSpPr/>
            <p:nvPr/>
          </p:nvSpPr>
          <p:spPr>
            <a:xfrm>
              <a:off x="8609040" y="453420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7" name="AutoShape 33"/>
            <p:cNvSpPr/>
            <p:nvPr/>
          </p:nvSpPr>
          <p:spPr>
            <a:xfrm>
              <a:off x="8586000" y="440532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9"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8" name="AutoShape 34"/>
            <p:cNvSpPr/>
            <p:nvPr/>
          </p:nvSpPr>
          <p:spPr>
            <a:xfrm>
              <a:off x="8879040" y="4534200"/>
              <a:ext cx="58320" cy="37440"/>
            </a:xfrm>
            <a:custGeom>
              <a:avLst/>
              <a:gdLst/>
              <a:ahLst/>
              <a:rect l="l" t="t" r="r" b="b"/>
              <a:pathLst>
                <a:path w="21600" h="21600">
                  <a:moveTo>
                    <a:pt x="20003" y="0"/>
                  </a:moveTo>
                  <a:lnTo>
                    <a:pt x="1635" y="0"/>
                  </a:lnTo>
                  <a:cubicBezTo>
                    <a:pt x="750" y="0"/>
                    <a:pt x="0" y="1269"/>
                    <a:pt x="0" y="2853"/>
                  </a:cubicBezTo>
                  <a:cubicBezTo>
                    <a:pt x="0" y="4430"/>
                    <a:pt x="750" y="5680"/>
                    <a:pt x="1635" y="5680"/>
                  </a:cubicBezTo>
                  <a:lnTo>
                    <a:pt x="20003" y="5680"/>
                  </a:lnTo>
                  <a:cubicBezTo>
                    <a:pt x="20896" y="5680"/>
                    <a:pt x="21600" y="4430"/>
                    <a:pt x="21600" y="2853"/>
                  </a:cubicBezTo>
                  <a:cubicBezTo>
                    <a:pt x="21600" y="1269"/>
                    <a:pt x="20896" y="0"/>
                    <a:pt x="20003" y="0"/>
                  </a:cubicBezTo>
                  <a:close/>
                  <a:moveTo>
                    <a:pt x="20003" y="8206"/>
                  </a:moveTo>
                  <a:lnTo>
                    <a:pt x="1635" y="8206"/>
                  </a:lnTo>
                  <a:cubicBezTo>
                    <a:pt x="750" y="8206"/>
                    <a:pt x="0" y="9468"/>
                    <a:pt x="0" y="11039"/>
                  </a:cubicBezTo>
                  <a:cubicBezTo>
                    <a:pt x="0" y="12596"/>
                    <a:pt x="750" y="13853"/>
                    <a:pt x="1635" y="13853"/>
                  </a:cubicBezTo>
                  <a:lnTo>
                    <a:pt x="20003" y="13853"/>
                  </a:lnTo>
                  <a:cubicBezTo>
                    <a:pt x="20896" y="13853"/>
                    <a:pt x="21600" y="12596"/>
                    <a:pt x="21600" y="11039"/>
                  </a:cubicBezTo>
                  <a:cubicBezTo>
                    <a:pt x="21600" y="9468"/>
                    <a:pt x="20896" y="8206"/>
                    <a:pt x="20003"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59" name="AutoShape 35"/>
            <p:cNvSpPr/>
            <p:nvPr/>
          </p:nvSpPr>
          <p:spPr>
            <a:xfrm>
              <a:off x="8855640" y="440532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0" name="AutoShape 36"/>
            <p:cNvSpPr/>
            <p:nvPr/>
          </p:nvSpPr>
          <p:spPr>
            <a:xfrm>
              <a:off x="9711360" y="4534200"/>
              <a:ext cx="58320" cy="37440"/>
            </a:xfrm>
            <a:custGeom>
              <a:avLst/>
              <a:gdLst/>
              <a:ahLst/>
              <a:rect l="l" t="t" r="r" b="b"/>
              <a:pathLst>
                <a:path w="21600" h="21600">
                  <a:moveTo>
                    <a:pt x="19999" y="0"/>
                  </a:moveTo>
                  <a:lnTo>
                    <a:pt x="1630" y="0"/>
                  </a:lnTo>
                  <a:cubicBezTo>
                    <a:pt x="746" y="0"/>
                    <a:pt x="0" y="1269"/>
                    <a:pt x="0" y="2853"/>
                  </a:cubicBezTo>
                  <a:cubicBezTo>
                    <a:pt x="0" y="4430"/>
                    <a:pt x="746"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46" y="8206"/>
                    <a:pt x="0" y="9468"/>
                    <a:pt x="0" y="11039"/>
                  </a:cubicBezTo>
                  <a:cubicBezTo>
                    <a:pt x="0" y="12596"/>
                    <a:pt x="746"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1" y="21600"/>
                    <a:pt x="16169" y="19761"/>
                    <a:pt x="17353" y="17072"/>
                  </a:cubicBezTo>
                  <a:lnTo>
                    <a:pt x="4268" y="17072"/>
                  </a:lnTo>
                  <a:cubicBezTo>
                    <a:pt x="5473" y="19761"/>
                    <a:pt x="7946"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1" name="AutoShape 37"/>
            <p:cNvSpPr/>
            <p:nvPr/>
          </p:nvSpPr>
          <p:spPr>
            <a:xfrm>
              <a:off x="9687240" y="4405320"/>
              <a:ext cx="107640" cy="118440"/>
            </a:xfrm>
            <a:custGeom>
              <a:avLst/>
              <a:gdLst/>
              <a:ahLst/>
              <a:rect l="l" t="t" r="r" b="b"/>
              <a:pathLst>
                <a:path w="21600" h="21600">
                  <a:moveTo>
                    <a:pt x="10799" y="0"/>
                  </a:moveTo>
                  <a:cubicBezTo>
                    <a:pt x="4829" y="0"/>
                    <a:pt x="0" y="4372"/>
                    <a:pt x="0" y="9766"/>
                  </a:cubicBezTo>
                  <a:cubicBezTo>
                    <a:pt x="0" y="13421"/>
                    <a:pt x="2806" y="16042"/>
                    <a:pt x="4693"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2" name="AutoShape 38"/>
            <p:cNvSpPr/>
            <p:nvPr/>
          </p:nvSpPr>
          <p:spPr>
            <a:xfrm>
              <a:off x="9558720" y="4534200"/>
              <a:ext cx="58320" cy="37440"/>
            </a:xfrm>
            <a:custGeom>
              <a:avLst/>
              <a:gdLst/>
              <a:ahLst/>
              <a:rect l="l" t="t" r="r" b="b"/>
              <a:pathLst>
                <a:path w="21600" h="21600">
                  <a:moveTo>
                    <a:pt x="20003" y="0"/>
                  </a:moveTo>
                  <a:lnTo>
                    <a:pt x="1627" y="0"/>
                  </a:lnTo>
                  <a:cubicBezTo>
                    <a:pt x="750" y="0"/>
                    <a:pt x="0" y="1269"/>
                    <a:pt x="0" y="2853"/>
                  </a:cubicBezTo>
                  <a:cubicBezTo>
                    <a:pt x="0" y="4430"/>
                    <a:pt x="750" y="5680"/>
                    <a:pt x="1627" y="5680"/>
                  </a:cubicBezTo>
                  <a:lnTo>
                    <a:pt x="20003" y="5680"/>
                  </a:lnTo>
                  <a:cubicBezTo>
                    <a:pt x="20900" y="5680"/>
                    <a:pt x="21600" y="4430"/>
                    <a:pt x="21600" y="2853"/>
                  </a:cubicBezTo>
                  <a:cubicBezTo>
                    <a:pt x="21600" y="1269"/>
                    <a:pt x="20900" y="0"/>
                    <a:pt x="20003" y="0"/>
                  </a:cubicBezTo>
                  <a:close/>
                  <a:moveTo>
                    <a:pt x="20003" y="8206"/>
                  </a:moveTo>
                  <a:lnTo>
                    <a:pt x="1627" y="8206"/>
                  </a:lnTo>
                  <a:cubicBezTo>
                    <a:pt x="750" y="8206"/>
                    <a:pt x="0" y="9468"/>
                    <a:pt x="0" y="11039"/>
                  </a:cubicBezTo>
                  <a:cubicBezTo>
                    <a:pt x="0" y="12596"/>
                    <a:pt x="750" y="13853"/>
                    <a:pt x="1627" y="13853"/>
                  </a:cubicBezTo>
                  <a:lnTo>
                    <a:pt x="20003" y="13853"/>
                  </a:lnTo>
                  <a:cubicBezTo>
                    <a:pt x="20900" y="13853"/>
                    <a:pt x="21600" y="12596"/>
                    <a:pt x="21600" y="11039"/>
                  </a:cubicBezTo>
                  <a:cubicBezTo>
                    <a:pt x="21600" y="9468"/>
                    <a:pt x="20900" y="8206"/>
                    <a:pt x="20003" y="8206"/>
                  </a:cubicBezTo>
                  <a:close/>
                  <a:moveTo>
                    <a:pt x="10819" y="21600"/>
                  </a:moveTo>
                  <a:cubicBezTo>
                    <a:pt x="13676" y="21600"/>
                    <a:pt x="16172" y="19761"/>
                    <a:pt x="17356" y="17072"/>
                  </a:cubicBezTo>
                  <a:lnTo>
                    <a:pt x="4269" y="17072"/>
                  </a:lnTo>
                  <a:cubicBezTo>
                    <a:pt x="5471" y="19761"/>
                    <a:pt x="7945"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3" name="AutoShape 39"/>
            <p:cNvSpPr/>
            <p:nvPr/>
          </p:nvSpPr>
          <p:spPr>
            <a:xfrm>
              <a:off x="9534960" y="4405320"/>
              <a:ext cx="107640" cy="118440"/>
            </a:xfrm>
            <a:custGeom>
              <a:avLst/>
              <a:gdLst/>
              <a:ahLst/>
              <a:rect l="l" t="t" r="r" b="b"/>
              <a:pathLst>
                <a:path w="21600" h="21600">
                  <a:moveTo>
                    <a:pt x="10800" y="0"/>
                  </a:moveTo>
                  <a:cubicBezTo>
                    <a:pt x="4830" y="0"/>
                    <a:pt x="0" y="4372"/>
                    <a:pt x="0" y="9766"/>
                  </a:cubicBezTo>
                  <a:cubicBezTo>
                    <a:pt x="0" y="13421"/>
                    <a:pt x="2807" y="16042"/>
                    <a:pt x="4696" y="18977"/>
                  </a:cubicBezTo>
                  <a:cubicBezTo>
                    <a:pt x="5159" y="19694"/>
                    <a:pt x="5484" y="21600"/>
                    <a:pt x="5484" y="21600"/>
                  </a:cubicBezTo>
                  <a:lnTo>
                    <a:pt x="16123" y="21600"/>
                  </a:lnTo>
                  <a:cubicBezTo>
                    <a:pt x="16123" y="21600"/>
                    <a:pt x="16438" y="19694"/>
                    <a:pt x="16897" y="18977"/>
                  </a:cubicBezTo>
                  <a:cubicBezTo>
                    <a:pt x="18791" y="16042"/>
                    <a:pt x="21600" y="13421"/>
                    <a:pt x="21600" y="9766"/>
                  </a:cubicBezTo>
                  <a:cubicBezTo>
                    <a:pt x="21600" y="4372"/>
                    <a:pt x="16761" y="0"/>
                    <a:pt x="10800" y="0"/>
                  </a:cubicBezTo>
                  <a:close/>
                  <a:moveTo>
                    <a:pt x="10800"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264" name="Group 4"/>
          <p:cNvGrpSpPr/>
          <p:nvPr/>
        </p:nvGrpSpPr>
        <p:grpSpPr>
          <a:xfrm>
            <a:off x="8445600" y="4992840"/>
            <a:ext cx="1485720" cy="168120"/>
            <a:chOff x="8445600" y="4992840"/>
            <a:chExt cx="1485720" cy="168120"/>
          </a:xfrm>
        </p:grpSpPr>
        <p:sp>
          <p:nvSpPr>
            <p:cNvPr id="1265" name="AutoShape 19"/>
            <p:cNvSpPr/>
            <p:nvPr/>
          </p:nvSpPr>
          <p:spPr>
            <a:xfrm>
              <a:off x="9863640" y="4992840"/>
              <a:ext cx="67680" cy="168120"/>
            </a:xfrm>
            <a:custGeom>
              <a:avLst/>
              <a:gdLst/>
              <a:ahLst/>
              <a:rect l="l" t="t" r="r" b="b"/>
              <a:pathLst>
                <a:path w="21600" h="21600">
                  <a:moveTo>
                    <a:pt x="0" y="0"/>
                  </a:moveTo>
                  <a:lnTo>
                    <a:pt x="0" y="21600"/>
                  </a:lnTo>
                  <a:lnTo>
                    <a:pt x="21600" y="10799"/>
                  </a:lnTo>
                  <a:cubicBezTo>
                    <a:pt x="21600" y="10799"/>
                    <a:pt x="0" y="0"/>
                    <a:pt x="0" y="0"/>
                  </a:cubicBezTo>
                  <a:close/>
                  <a:moveTo>
                    <a:pt x="0" y="0"/>
                  </a:moveTo>
                </a:path>
              </a:pathLst>
            </a:custGeom>
            <a:solidFill>
              <a:srgbClr val="0098a5"/>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6" name="AutoShape 20"/>
            <p:cNvSpPr/>
            <p:nvPr/>
          </p:nvSpPr>
          <p:spPr>
            <a:xfrm>
              <a:off x="9007560" y="512172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7" name="AutoShape 21"/>
            <p:cNvSpPr/>
            <p:nvPr/>
          </p:nvSpPr>
          <p:spPr>
            <a:xfrm>
              <a:off x="8984160" y="499284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8" name="AutoShape 22"/>
            <p:cNvSpPr/>
            <p:nvPr/>
          </p:nvSpPr>
          <p:spPr>
            <a:xfrm>
              <a:off x="9289080" y="5121720"/>
              <a:ext cx="58680" cy="37440"/>
            </a:xfrm>
            <a:custGeom>
              <a:avLst/>
              <a:gdLst/>
              <a:ahLst/>
              <a:rect l="l" t="t" r="r" b="b"/>
              <a:pathLst>
                <a:path w="21600" h="21600">
                  <a:moveTo>
                    <a:pt x="19995" y="0"/>
                  </a:moveTo>
                  <a:lnTo>
                    <a:pt x="1630" y="0"/>
                  </a:lnTo>
                  <a:cubicBezTo>
                    <a:pt x="750" y="0"/>
                    <a:pt x="0" y="1269"/>
                    <a:pt x="0" y="2853"/>
                  </a:cubicBezTo>
                  <a:cubicBezTo>
                    <a:pt x="0" y="4430"/>
                    <a:pt x="750" y="5680"/>
                    <a:pt x="1630" y="5680"/>
                  </a:cubicBezTo>
                  <a:lnTo>
                    <a:pt x="19995" y="5680"/>
                  </a:lnTo>
                  <a:cubicBezTo>
                    <a:pt x="20892" y="5680"/>
                    <a:pt x="21600" y="4430"/>
                    <a:pt x="21600" y="2853"/>
                  </a:cubicBezTo>
                  <a:cubicBezTo>
                    <a:pt x="21600" y="1269"/>
                    <a:pt x="20892" y="0"/>
                    <a:pt x="19995" y="0"/>
                  </a:cubicBezTo>
                  <a:close/>
                  <a:moveTo>
                    <a:pt x="19995" y="8206"/>
                  </a:moveTo>
                  <a:lnTo>
                    <a:pt x="1630" y="8206"/>
                  </a:lnTo>
                  <a:cubicBezTo>
                    <a:pt x="750" y="8206"/>
                    <a:pt x="0" y="9468"/>
                    <a:pt x="0" y="11039"/>
                  </a:cubicBezTo>
                  <a:cubicBezTo>
                    <a:pt x="0" y="12596"/>
                    <a:pt x="750" y="13853"/>
                    <a:pt x="1630" y="13853"/>
                  </a:cubicBezTo>
                  <a:lnTo>
                    <a:pt x="19995" y="13853"/>
                  </a:lnTo>
                  <a:cubicBezTo>
                    <a:pt x="20892" y="13853"/>
                    <a:pt x="21600" y="12596"/>
                    <a:pt x="21600" y="11039"/>
                  </a:cubicBezTo>
                  <a:cubicBezTo>
                    <a:pt x="21600" y="9468"/>
                    <a:pt x="20892" y="8206"/>
                    <a:pt x="19995" y="8206"/>
                  </a:cubicBezTo>
                  <a:close/>
                  <a:moveTo>
                    <a:pt x="10819" y="21600"/>
                  </a:moveTo>
                  <a:cubicBezTo>
                    <a:pt x="13675" y="21600"/>
                    <a:pt x="16169" y="19761"/>
                    <a:pt x="17358" y="17072"/>
                  </a:cubicBezTo>
                  <a:lnTo>
                    <a:pt x="4268"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69" name="AutoShape 23"/>
            <p:cNvSpPr/>
            <p:nvPr/>
          </p:nvSpPr>
          <p:spPr>
            <a:xfrm>
              <a:off x="9266040" y="4992840"/>
              <a:ext cx="106920" cy="118440"/>
            </a:xfrm>
            <a:custGeom>
              <a:avLst/>
              <a:gdLst/>
              <a:ahLst/>
              <a:rect l="l" t="t" r="r" b="b"/>
              <a:pathLst>
                <a:path w="21600" h="21600">
                  <a:moveTo>
                    <a:pt x="10800" y="0"/>
                  </a:moveTo>
                  <a:cubicBezTo>
                    <a:pt x="4833" y="0"/>
                    <a:pt x="0" y="4372"/>
                    <a:pt x="0" y="9766"/>
                  </a:cubicBezTo>
                  <a:cubicBezTo>
                    <a:pt x="0" y="13421"/>
                    <a:pt x="2811" y="16042"/>
                    <a:pt x="4697" y="18977"/>
                  </a:cubicBezTo>
                  <a:cubicBezTo>
                    <a:pt x="5160" y="19694"/>
                    <a:pt x="5485" y="21600"/>
                    <a:pt x="5485" y="21600"/>
                  </a:cubicBezTo>
                  <a:lnTo>
                    <a:pt x="16122" y="21600"/>
                  </a:lnTo>
                  <a:cubicBezTo>
                    <a:pt x="16122" y="21600"/>
                    <a:pt x="16437" y="19694"/>
                    <a:pt x="16893" y="18977"/>
                  </a:cubicBezTo>
                  <a:cubicBezTo>
                    <a:pt x="18787" y="16042"/>
                    <a:pt x="21600" y="13421"/>
                    <a:pt x="21600" y="9766"/>
                  </a:cubicBezTo>
                  <a:cubicBezTo>
                    <a:pt x="21600" y="4372"/>
                    <a:pt x="16760" y="0"/>
                    <a:pt x="10800" y="0"/>
                  </a:cubicBezTo>
                  <a:close/>
                  <a:moveTo>
                    <a:pt x="10800"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0" name="AutoShape 24"/>
            <p:cNvSpPr/>
            <p:nvPr/>
          </p:nvSpPr>
          <p:spPr>
            <a:xfrm>
              <a:off x="9148680" y="5121720"/>
              <a:ext cx="58320" cy="37440"/>
            </a:xfrm>
            <a:custGeom>
              <a:avLst/>
              <a:gdLst/>
              <a:ahLst/>
              <a:rect l="l" t="t" r="r" b="b"/>
              <a:pathLst>
                <a:path w="21600" h="21600">
                  <a:moveTo>
                    <a:pt x="20003" y="0"/>
                  </a:moveTo>
                  <a:lnTo>
                    <a:pt x="1631" y="0"/>
                  </a:lnTo>
                  <a:cubicBezTo>
                    <a:pt x="750" y="0"/>
                    <a:pt x="0" y="1269"/>
                    <a:pt x="0" y="2853"/>
                  </a:cubicBezTo>
                  <a:cubicBezTo>
                    <a:pt x="0" y="4430"/>
                    <a:pt x="750" y="5680"/>
                    <a:pt x="1631" y="5680"/>
                  </a:cubicBezTo>
                  <a:lnTo>
                    <a:pt x="20003" y="5680"/>
                  </a:lnTo>
                  <a:cubicBezTo>
                    <a:pt x="20896" y="5680"/>
                    <a:pt x="21600" y="4430"/>
                    <a:pt x="21600" y="2853"/>
                  </a:cubicBezTo>
                  <a:cubicBezTo>
                    <a:pt x="21600" y="1269"/>
                    <a:pt x="20896" y="0"/>
                    <a:pt x="20003" y="0"/>
                  </a:cubicBezTo>
                  <a:close/>
                  <a:moveTo>
                    <a:pt x="20003" y="8206"/>
                  </a:moveTo>
                  <a:lnTo>
                    <a:pt x="1631" y="8206"/>
                  </a:lnTo>
                  <a:cubicBezTo>
                    <a:pt x="750" y="8206"/>
                    <a:pt x="0" y="9468"/>
                    <a:pt x="0" y="11039"/>
                  </a:cubicBezTo>
                  <a:cubicBezTo>
                    <a:pt x="0" y="12596"/>
                    <a:pt x="750" y="13853"/>
                    <a:pt x="1631" y="13853"/>
                  </a:cubicBezTo>
                  <a:lnTo>
                    <a:pt x="20003" y="13853"/>
                  </a:lnTo>
                  <a:cubicBezTo>
                    <a:pt x="20896" y="13853"/>
                    <a:pt x="21600" y="12596"/>
                    <a:pt x="21600" y="11039"/>
                  </a:cubicBezTo>
                  <a:cubicBezTo>
                    <a:pt x="21600" y="9468"/>
                    <a:pt x="20896" y="8206"/>
                    <a:pt x="20003" y="8206"/>
                  </a:cubicBezTo>
                  <a:close/>
                  <a:moveTo>
                    <a:pt x="10821" y="21600"/>
                  </a:moveTo>
                  <a:cubicBezTo>
                    <a:pt x="13678" y="21600"/>
                    <a:pt x="16173" y="19761"/>
                    <a:pt x="17357" y="17072"/>
                  </a:cubicBezTo>
                  <a:lnTo>
                    <a:pt x="4269" y="17072"/>
                  </a:lnTo>
                  <a:cubicBezTo>
                    <a:pt x="5478" y="19761"/>
                    <a:pt x="7947" y="21600"/>
                    <a:pt x="10821" y="21600"/>
                  </a:cubicBezTo>
                  <a:close/>
                  <a:moveTo>
                    <a:pt x="10821"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1" name="AutoShape 25"/>
            <p:cNvSpPr/>
            <p:nvPr/>
          </p:nvSpPr>
          <p:spPr>
            <a:xfrm>
              <a:off x="9124920" y="4992840"/>
              <a:ext cx="107640" cy="118440"/>
            </a:xfrm>
            <a:custGeom>
              <a:avLst/>
              <a:gdLst/>
              <a:ahLst/>
              <a:rect l="l" t="t" r="r" b="b"/>
              <a:pathLst>
                <a:path w="21600" h="21600">
                  <a:moveTo>
                    <a:pt x="10799" y="0"/>
                  </a:moveTo>
                  <a:cubicBezTo>
                    <a:pt x="4829"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2" name="AutoShape 26"/>
            <p:cNvSpPr/>
            <p:nvPr/>
          </p:nvSpPr>
          <p:spPr>
            <a:xfrm>
              <a:off x="9429480" y="512172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3" name="AutoShape 27"/>
            <p:cNvSpPr/>
            <p:nvPr/>
          </p:nvSpPr>
          <p:spPr>
            <a:xfrm>
              <a:off x="9406440" y="4992840"/>
              <a:ext cx="106920" cy="118440"/>
            </a:xfrm>
            <a:custGeom>
              <a:avLst/>
              <a:gdLst/>
              <a:ahLst/>
              <a:rect l="l" t="t" r="r" b="b"/>
              <a:pathLst>
                <a:path w="21600" h="21600">
                  <a:moveTo>
                    <a:pt x="10798" y="0"/>
                  </a:moveTo>
                  <a:cubicBezTo>
                    <a:pt x="4830" y="0"/>
                    <a:pt x="0" y="4372"/>
                    <a:pt x="0" y="9766"/>
                  </a:cubicBezTo>
                  <a:cubicBezTo>
                    <a:pt x="0" y="13421"/>
                    <a:pt x="2807" y="16042"/>
                    <a:pt x="4694" y="18977"/>
                  </a:cubicBezTo>
                  <a:cubicBezTo>
                    <a:pt x="5157" y="19694"/>
                    <a:pt x="5482" y="21600"/>
                    <a:pt x="5482" y="21600"/>
                  </a:cubicBezTo>
                  <a:lnTo>
                    <a:pt x="16121" y="21600"/>
                  </a:lnTo>
                  <a:cubicBezTo>
                    <a:pt x="16121" y="21600"/>
                    <a:pt x="16436" y="19694"/>
                    <a:pt x="16895" y="18977"/>
                  </a:cubicBezTo>
                  <a:cubicBezTo>
                    <a:pt x="18789" y="16042"/>
                    <a:pt x="21600" y="13421"/>
                    <a:pt x="21600" y="9766"/>
                  </a:cubicBezTo>
                  <a:cubicBezTo>
                    <a:pt x="21600" y="4372"/>
                    <a:pt x="16759" y="0"/>
                    <a:pt x="10798" y="0"/>
                  </a:cubicBezTo>
                  <a:close/>
                  <a:moveTo>
                    <a:pt x="10798"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4" name="AutoShape 28"/>
            <p:cNvSpPr/>
            <p:nvPr/>
          </p:nvSpPr>
          <p:spPr>
            <a:xfrm>
              <a:off x="8468640" y="5121720"/>
              <a:ext cx="58320" cy="37440"/>
            </a:xfrm>
            <a:custGeom>
              <a:avLst/>
              <a:gdLst/>
              <a:ahLst/>
              <a:rect l="l" t="t" r="r" b="b"/>
              <a:pathLst>
                <a:path w="21600" h="21600">
                  <a:moveTo>
                    <a:pt x="19999" y="0"/>
                  </a:moveTo>
                  <a:lnTo>
                    <a:pt x="1635" y="0"/>
                  </a:lnTo>
                  <a:cubicBezTo>
                    <a:pt x="750" y="0"/>
                    <a:pt x="0" y="1269"/>
                    <a:pt x="0" y="2853"/>
                  </a:cubicBezTo>
                  <a:cubicBezTo>
                    <a:pt x="0" y="4430"/>
                    <a:pt x="750" y="5680"/>
                    <a:pt x="1635" y="5680"/>
                  </a:cubicBezTo>
                  <a:lnTo>
                    <a:pt x="19999" y="5680"/>
                  </a:lnTo>
                  <a:cubicBezTo>
                    <a:pt x="20896" y="5680"/>
                    <a:pt x="21600" y="4430"/>
                    <a:pt x="21600" y="2853"/>
                  </a:cubicBezTo>
                  <a:cubicBezTo>
                    <a:pt x="21600" y="1269"/>
                    <a:pt x="20896" y="0"/>
                    <a:pt x="19999" y="0"/>
                  </a:cubicBezTo>
                  <a:close/>
                  <a:moveTo>
                    <a:pt x="19999" y="8206"/>
                  </a:moveTo>
                  <a:lnTo>
                    <a:pt x="1635" y="8206"/>
                  </a:lnTo>
                  <a:cubicBezTo>
                    <a:pt x="750" y="8206"/>
                    <a:pt x="0" y="9468"/>
                    <a:pt x="0" y="11039"/>
                  </a:cubicBezTo>
                  <a:cubicBezTo>
                    <a:pt x="0" y="12596"/>
                    <a:pt x="750" y="13853"/>
                    <a:pt x="1635" y="13853"/>
                  </a:cubicBezTo>
                  <a:lnTo>
                    <a:pt x="19999" y="13853"/>
                  </a:lnTo>
                  <a:cubicBezTo>
                    <a:pt x="20896" y="13853"/>
                    <a:pt x="21600" y="12596"/>
                    <a:pt x="21600" y="11039"/>
                  </a:cubicBezTo>
                  <a:cubicBezTo>
                    <a:pt x="21600" y="9468"/>
                    <a:pt x="20896" y="8206"/>
                    <a:pt x="19999"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5" name="AutoShape 29"/>
            <p:cNvSpPr/>
            <p:nvPr/>
          </p:nvSpPr>
          <p:spPr>
            <a:xfrm>
              <a:off x="8445600" y="499284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6" name="AutoShape 30"/>
            <p:cNvSpPr/>
            <p:nvPr/>
          </p:nvSpPr>
          <p:spPr>
            <a:xfrm>
              <a:off x="8738280" y="5121720"/>
              <a:ext cx="5832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69" y="19761"/>
                    <a:pt x="17353" y="17072"/>
                  </a:cubicBezTo>
                  <a:lnTo>
                    <a:pt x="4272" y="17072"/>
                  </a:lnTo>
                  <a:cubicBezTo>
                    <a:pt x="5477" y="19761"/>
                    <a:pt x="7946"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7" name="AutoShape 31"/>
            <p:cNvSpPr/>
            <p:nvPr/>
          </p:nvSpPr>
          <p:spPr>
            <a:xfrm>
              <a:off x="8714520" y="4992840"/>
              <a:ext cx="10764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7" y="19694"/>
                    <a:pt x="16893"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8" name="AutoShape 32"/>
            <p:cNvSpPr/>
            <p:nvPr/>
          </p:nvSpPr>
          <p:spPr>
            <a:xfrm>
              <a:off x="8609040" y="5121720"/>
              <a:ext cx="58680" cy="37440"/>
            </a:xfrm>
            <a:custGeom>
              <a:avLst/>
              <a:gdLst/>
              <a:ahLst/>
              <a:rect l="l" t="t" r="r" b="b"/>
              <a:pathLst>
                <a:path w="21600" h="21600">
                  <a:moveTo>
                    <a:pt x="19999" y="0"/>
                  </a:moveTo>
                  <a:lnTo>
                    <a:pt x="1630" y="0"/>
                  </a:lnTo>
                  <a:cubicBezTo>
                    <a:pt x="750" y="0"/>
                    <a:pt x="0" y="1269"/>
                    <a:pt x="0" y="2853"/>
                  </a:cubicBezTo>
                  <a:cubicBezTo>
                    <a:pt x="0" y="4430"/>
                    <a:pt x="750"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50" y="8206"/>
                    <a:pt x="0" y="9468"/>
                    <a:pt x="0" y="11039"/>
                  </a:cubicBezTo>
                  <a:cubicBezTo>
                    <a:pt x="0" y="12596"/>
                    <a:pt x="750"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5" y="21600"/>
                    <a:pt x="16174" y="19761"/>
                    <a:pt x="17358" y="17072"/>
                  </a:cubicBezTo>
                  <a:lnTo>
                    <a:pt x="4272" y="17072"/>
                  </a:lnTo>
                  <a:cubicBezTo>
                    <a:pt x="5477" y="19761"/>
                    <a:pt x="7950"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79" name="AutoShape 33"/>
            <p:cNvSpPr/>
            <p:nvPr/>
          </p:nvSpPr>
          <p:spPr>
            <a:xfrm>
              <a:off x="8586000" y="4992840"/>
              <a:ext cx="106920" cy="118440"/>
            </a:xfrm>
            <a:custGeom>
              <a:avLst/>
              <a:gdLst/>
              <a:ahLst/>
              <a:rect l="l" t="t" r="r" b="b"/>
              <a:pathLst>
                <a:path w="21600" h="21600">
                  <a:moveTo>
                    <a:pt x="10799" y="0"/>
                  </a:moveTo>
                  <a:cubicBezTo>
                    <a:pt x="4831" y="0"/>
                    <a:pt x="0" y="4372"/>
                    <a:pt x="0" y="9766"/>
                  </a:cubicBezTo>
                  <a:cubicBezTo>
                    <a:pt x="0" y="13421"/>
                    <a:pt x="2809" y="16042"/>
                    <a:pt x="4696" y="18977"/>
                  </a:cubicBezTo>
                  <a:cubicBezTo>
                    <a:pt x="5159" y="19694"/>
                    <a:pt x="5484" y="21600"/>
                    <a:pt x="5484" y="21600"/>
                  </a:cubicBezTo>
                  <a:lnTo>
                    <a:pt x="16121" y="21600"/>
                  </a:lnTo>
                  <a:cubicBezTo>
                    <a:pt x="16121" y="21600"/>
                    <a:pt x="16439" y="19694"/>
                    <a:pt x="16895" y="18977"/>
                  </a:cubicBezTo>
                  <a:cubicBezTo>
                    <a:pt x="18789" y="16042"/>
                    <a:pt x="21600" y="13421"/>
                    <a:pt x="21600" y="9766"/>
                  </a:cubicBezTo>
                  <a:cubicBezTo>
                    <a:pt x="21600" y="4372"/>
                    <a:pt x="16759" y="0"/>
                    <a:pt x="10799" y="0"/>
                  </a:cubicBezTo>
                  <a:close/>
                  <a:moveTo>
                    <a:pt x="10799"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0" name="AutoShape 34"/>
            <p:cNvSpPr/>
            <p:nvPr/>
          </p:nvSpPr>
          <p:spPr>
            <a:xfrm>
              <a:off x="8879040" y="5121720"/>
              <a:ext cx="58320" cy="37440"/>
            </a:xfrm>
            <a:custGeom>
              <a:avLst/>
              <a:gdLst/>
              <a:ahLst/>
              <a:rect l="l" t="t" r="r" b="b"/>
              <a:pathLst>
                <a:path w="21600" h="21600">
                  <a:moveTo>
                    <a:pt x="20003" y="0"/>
                  </a:moveTo>
                  <a:lnTo>
                    <a:pt x="1635" y="0"/>
                  </a:lnTo>
                  <a:cubicBezTo>
                    <a:pt x="750" y="0"/>
                    <a:pt x="0" y="1269"/>
                    <a:pt x="0" y="2853"/>
                  </a:cubicBezTo>
                  <a:cubicBezTo>
                    <a:pt x="0" y="4430"/>
                    <a:pt x="750" y="5680"/>
                    <a:pt x="1635" y="5680"/>
                  </a:cubicBezTo>
                  <a:lnTo>
                    <a:pt x="20003" y="5680"/>
                  </a:lnTo>
                  <a:cubicBezTo>
                    <a:pt x="20896" y="5680"/>
                    <a:pt x="21600" y="4430"/>
                    <a:pt x="21600" y="2853"/>
                  </a:cubicBezTo>
                  <a:cubicBezTo>
                    <a:pt x="21600" y="1269"/>
                    <a:pt x="20896" y="0"/>
                    <a:pt x="20003" y="0"/>
                  </a:cubicBezTo>
                  <a:close/>
                  <a:moveTo>
                    <a:pt x="20003" y="8206"/>
                  </a:moveTo>
                  <a:lnTo>
                    <a:pt x="1635" y="8206"/>
                  </a:lnTo>
                  <a:cubicBezTo>
                    <a:pt x="750" y="8206"/>
                    <a:pt x="0" y="9468"/>
                    <a:pt x="0" y="11039"/>
                  </a:cubicBezTo>
                  <a:cubicBezTo>
                    <a:pt x="0" y="12596"/>
                    <a:pt x="750" y="13853"/>
                    <a:pt x="1635" y="13853"/>
                  </a:cubicBezTo>
                  <a:lnTo>
                    <a:pt x="20003" y="13853"/>
                  </a:lnTo>
                  <a:cubicBezTo>
                    <a:pt x="20896" y="13853"/>
                    <a:pt x="21600" y="12596"/>
                    <a:pt x="21600" y="11039"/>
                  </a:cubicBezTo>
                  <a:cubicBezTo>
                    <a:pt x="21600" y="9468"/>
                    <a:pt x="20896" y="8206"/>
                    <a:pt x="20003" y="8206"/>
                  </a:cubicBezTo>
                  <a:close/>
                  <a:moveTo>
                    <a:pt x="10823" y="21600"/>
                  </a:moveTo>
                  <a:cubicBezTo>
                    <a:pt x="13675" y="21600"/>
                    <a:pt x="16174" y="19761"/>
                    <a:pt x="17358" y="17072"/>
                  </a:cubicBezTo>
                  <a:lnTo>
                    <a:pt x="4272" y="17072"/>
                  </a:lnTo>
                  <a:cubicBezTo>
                    <a:pt x="5477" y="19761"/>
                    <a:pt x="7950" y="21600"/>
                    <a:pt x="10823" y="21600"/>
                  </a:cubicBezTo>
                  <a:close/>
                  <a:moveTo>
                    <a:pt x="10823"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1" name="AutoShape 35"/>
            <p:cNvSpPr/>
            <p:nvPr/>
          </p:nvSpPr>
          <p:spPr>
            <a:xfrm>
              <a:off x="8855640" y="4992840"/>
              <a:ext cx="106920" cy="118440"/>
            </a:xfrm>
            <a:custGeom>
              <a:avLst/>
              <a:gdLst/>
              <a:ahLst/>
              <a:rect l="l" t="t" r="r" b="b"/>
              <a:pathLst>
                <a:path w="21600" h="21600">
                  <a:moveTo>
                    <a:pt x="10801" y="0"/>
                  </a:moveTo>
                  <a:cubicBezTo>
                    <a:pt x="4831" y="0"/>
                    <a:pt x="0" y="4372"/>
                    <a:pt x="0" y="9766"/>
                  </a:cubicBezTo>
                  <a:cubicBezTo>
                    <a:pt x="0" y="13421"/>
                    <a:pt x="2809" y="16042"/>
                    <a:pt x="4698" y="18977"/>
                  </a:cubicBezTo>
                  <a:cubicBezTo>
                    <a:pt x="5161" y="19694"/>
                    <a:pt x="5484" y="21600"/>
                    <a:pt x="5484" y="21600"/>
                  </a:cubicBezTo>
                  <a:lnTo>
                    <a:pt x="16121" y="21600"/>
                  </a:lnTo>
                  <a:cubicBezTo>
                    <a:pt x="16121" y="21600"/>
                    <a:pt x="16439" y="19694"/>
                    <a:pt x="16895" y="18977"/>
                  </a:cubicBezTo>
                  <a:cubicBezTo>
                    <a:pt x="18789" y="16042"/>
                    <a:pt x="21600" y="13421"/>
                    <a:pt x="21600" y="9766"/>
                  </a:cubicBezTo>
                  <a:cubicBezTo>
                    <a:pt x="21600" y="4372"/>
                    <a:pt x="16762" y="0"/>
                    <a:pt x="10801" y="0"/>
                  </a:cubicBezTo>
                  <a:close/>
                  <a:moveTo>
                    <a:pt x="10801"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2" name="AutoShape 36"/>
            <p:cNvSpPr/>
            <p:nvPr/>
          </p:nvSpPr>
          <p:spPr>
            <a:xfrm>
              <a:off x="9711360" y="5121720"/>
              <a:ext cx="58320" cy="37440"/>
            </a:xfrm>
            <a:custGeom>
              <a:avLst/>
              <a:gdLst/>
              <a:ahLst/>
              <a:rect l="l" t="t" r="r" b="b"/>
              <a:pathLst>
                <a:path w="21600" h="21600">
                  <a:moveTo>
                    <a:pt x="19999" y="0"/>
                  </a:moveTo>
                  <a:lnTo>
                    <a:pt x="1630" y="0"/>
                  </a:lnTo>
                  <a:cubicBezTo>
                    <a:pt x="746" y="0"/>
                    <a:pt x="0" y="1269"/>
                    <a:pt x="0" y="2853"/>
                  </a:cubicBezTo>
                  <a:cubicBezTo>
                    <a:pt x="0" y="4430"/>
                    <a:pt x="746" y="5680"/>
                    <a:pt x="1630" y="5680"/>
                  </a:cubicBezTo>
                  <a:lnTo>
                    <a:pt x="19999" y="5680"/>
                  </a:lnTo>
                  <a:cubicBezTo>
                    <a:pt x="20892" y="5680"/>
                    <a:pt x="21600" y="4430"/>
                    <a:pt x="21600" y="2853"/>
                  </a:cubicBezTo>
                  <a:cubicBezTo>
                    <a:pt x="21600" y="1269"/>
                    <a:pt x="20892" y="0"/>
                    <a:pt x="19999" y="0"/>
                  </a:cubicBezTo>
                  <a:close/>
                  <a:moveTo>
                    <a:pt x="19999" y="8206"/>
                  </a:moveTo>
                  <a:lnTo>
                    <a:pt x="1630" y="8206"/>
                  </a:lnTo>
                  <a:cubicBezTo>
                    <a:pt x="746" y="8206"/>
                    <a:pt x="0" y="9468"/>
                    <a:pt x="0" y="11039"/>
                  </a:cubicBezTo>
                  <a:cubicBezTo>
                    <a:pt x="0" y="12596"/>
                    <a:pt x="746" y="13853"/>
                    <a:pt x="1630" y="13853"/>
                  </a:cubicBezTo>
                  <a:lnTo>
                    <a:pt x="19999" y="13853"/>
                  </a:lnTo>
                  <a:cubicBezTo>
                    <a:pt x="20892" y="13853"/>
                    <a:pt x="21600" y="12596"/>
                    <a:pt x="21600" y="11039"/>
                  </a:cubicBezTo>
                  <a:cubicBezTo>
                    <a:pt x="21600" y="9468"/>
                    <a:pt x="20892" y="8206"/>
                    <a:pt x="19999" y="8206"/>
                  </a:cubicBezTo>
                  <a:close/>
                  <a:moveTo>
                    <a:pt x="10819" y="21600"/>
                  </a:moveTo>
                  <a:cubicBezTo>
                    <a:pt x="13671" y="21600"/>
                    <a:pt x="16169" y="19761"/>
                    <a:pt x="17353" y="17072"/>
                  </a:cubicBezTo>
                  <a:lnTo>
                    <a:pt x="4268" y="17072"/>
                  </a:lnTo>
                  <a:cubicBezTo>
                    <a:pt x="5473" y="19761"/>
                    <a:pt x="7946" y="21600"/>
                    <a:pt x="10819" y="21600"/>
                  </a:cubicBezTo>
                  <a:close/>
                  <a:moveTo>
                    <a:pt x="10819" y="2160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3" name="AutoShape 37"/>
            <p:cNvSpPr/>
            <p:nvPr/>
          </p:nvSpPr>
          <p:spPr>
            <a:xfrm>
              <a:off x="9687240" y="4992840"/>
              <a:ext cx="107640" cy="118440"/>
            </a:xfrm>
            <a:custGeom>
              <a:avLst/>
              <a:gdLst/>
              <a:ahLst/>
              <a:rect l="l" t="t" r="r" b="b"/>
              <a:pathLst>
                <a:path w="21600" h="21600">
                  <a:moveTo>
                    <a:pt x="10799" y="0"/>
                  </a:moveTo>
                  <a:cubicBezTo>
                    <a:pt x="4829" y="0"/>
                    <a:pt x="0" y="4372"/>
                    <a:pt x="0" y="9766"/>
                  </a:cubicBezTo>
                  <a:cubicBezTo>
                    <a:pt x="0" y="13421"/>
                    <a:pt x="2806" y="16042"/>
                    <a:pt x="4693" y="18977"/>
                  </a:cubicBezTo>
                  <a:cubicBezTo>
                    <a:pt x="5159" y="19694"/>
                    <a:pt x="5484" y="21600"/>
                    <a:pt x="5484" y="21600"/>
                  </a:cubicBezTo>
                  <a:lnTo>
                    <a:pt x="16121" y="21600"/>
                  </a:lnTo>
                  <a:cubicBezTo>
                    <a:pt x="16121" y="21600"/>
                    <a:pt x="16437" y="19694"/>
                    <a:pt x="16893" y="18977"/>
                  </a:cubicBezTo>
                  <a:cubicBezTo>
                    <a:pt x="18787" y="16042"/>
                    <a:pt x="21600" y="13421"/>
                    <a:pt x="21600" y="9766"/>
                  </a:cubicBezTo>
                  <a:cubicBezTo>
                    <a:pt x="21600" y="4372"/>
                    <a:pt x="16759" y="0"/>
                    <a:pt x="10799" y="0"/>
                  </a:cubicBezTo>
                  <a:close/>
                  <a:moveTo>
                    <a:pt x="10799" y="0"/>
                  </a:moveTo>
                </a:path>
              </a:pathLst>
            </a:custGeom>
            <a:solidFill>
              <a:srgbClr val="d9d9d9"/>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4" name="AutoShape 38"/>
            <p:cNvSpPr/>
            <p:nvPr/>
          </p:nvSpPr>
          <p:spPr>
            <a:xfrm>
              <a:off x="9558720" y="5121720"/>
              <a:ext cx="58320" cy="37440"/>
            </a:xfrm>
            <a:custGeom>
              <a:avLst/>
              <a:gdLst/>
              <a:ahLst/>
              <a:rect l="l" t="t" r="r" b="b"/>
              <a:pathLst>
                <a:path w="21600" h="21600">
                  <a:moveTo>
                    <a:pt x="20003" y="0"/>
                  </a:moveTo>
                  <a:lnTo>
                    <a:pt x="1627" y="0"/>
                  </a:lnTo>
                  <a:cubicBezTo>
                    <a:pt x="750" y="0"/>
                    <a:pt x="0" y="1269"/>
                    <a:pt x="0" y="2853"/>
                  </a:cubicBezTo>
                  <a:cubicBezTo>
                    <a:pt x="0" y="4430"/>
                    <a:pt x="750" y="5680"/>
                    <a:pt x="1627" y="5680"/>
                  </a:cubicBezTo>
                  <a:lnTo>
                    <a:pt x="20003" y="5680"/>
                  </a:lnTo>
                  <a:cubicBezTo>
                    <a:pt x="20900" y="5680"/>
                    <a:pt x="21600" y="4430"/>
                    <a:pt x="21600" y="2853"/>
                  </a:cubicBezTo>
                  <a:cubicBezTo>
                    <a:pt x="21600" y="1269"/>
                    <a:pt x="20900" y="0"/>
                    <a:pt x="20003" y="0"/>
                  </a:cubicBezTo>
                  <a:close/>
                  <a:moveTo>
                    <a:pt x="20003" y="8206"/>
                  </a:moveTo>
                  <a:lnTo>
                    <a:pt x="1627" y="8206"/>
                  </a:lnTo>
                  <a:cubicBezTo>
                    <a:pt x="750" y="8206"/>
                    <a:pt x="0" y="9468"/>
                    <a:pt x="0" y="11039"/>
                  </a:cubicBezTo>
                  <a:cubicBezTo>
                    <a:pt x="0" y="12596"/>
                    <a:pt x="750" y="13853"/>
                    <a:pt x="1627" y="13853"/>
                  </a:cubicBezTo>
                  <a:lnTo>
                    <a:pt x="20003" y="13853"/>
                  </a:lnTo>
                  <a:cubicBezTo>
                    <a:pt x="20900" y="13853"/>
                    <a:pt x="21600" y="12596"/>
                    <a:pt x="21600" y="11039"/>
                  </a:cubicBezTo>
                  <a:cubicBezTo>
                    <a:pt x="21600" y="9468"/>
                    <a:pt x="20900" y="8206"/>
                    <a:pt x="20003" y="8206"/>
                  </a:cubicBezTo>
                  <a:close/>
                  <a:moveTo>
                    <a:pt x="10819" y="21600"/>
                  </a:moveTo>
                  <a:cubicBezTo>
                    <a:pt x="13676" y="21600"/>
                    <a:pt x="16172" y="19761"/>
                    <a:pt x="17356" y="17072"/>
                  </a:cubicBezTo>
                  <a:lnTo>
                    <a:pt x="4269" y="17072"/>
                  </a:lnTo>
                  <a:cubicBezTo>
                    <a:pt x="5471" y="19761"/>
                    <a:pt x="7945" y="21600"/>
                    <a:pt x="10819" y="21600"/>
                  </a:cubicBezTo>
                  <a:close/>
                  <a:moveTo>
                    <a:pt x="10819" y="2160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85" name="AutoShape 39"/>
            <p:cNvSpPr/>
            <p:nvPr/>
          </p:nvSpPr>
          <p:spPr>
            <a:xfrm>
              <a:off x="9534960" y="4992840"/>
              <a:ext cx="107640" cy="118440"/>
            </a:xfrm>
            <a:custGeom>
              <a:avLst/>
              <a:gdLst/>
              <a:ahLst/>
              <a:rect l="l" t="t" r="r" b="b"/>
              <a:pathLst>
                <a:path w="21600" h="21600">
                  <a:moveTo>
                    <a:pt x="10800" y="0"/>
                  </a:moveTo>
                  <a:cubicBezTo>
                    <a:pt x="4830" y="0"/>
                    <a:pt x="0" y="4372"/>
                    <a:pt x="0" y="9766"/>
                  </a:cubicBezTo>
                  <a:cubicBezTo>
                    <a:pt x="0" y="13421"/>
                    <a:pt x="2807" y="16042"/>
                    <a:pt x="4696" y="18977"/>
                  </a:cubicBezTo>
                  <a:cubicBezTo>
                    <a:pt x="5159" y="19694"/>
                    <a:pt x="5484" y="21600"/>
                    <a:pt x="5484" y="21600"/>
                  </a:cubicBezTo>
                  <a:lnTo>
                    <a:pt x="16123" y="21600"/>
                  </a:lnTo>
                  <a:cubicBezTo>
                    <a:pt x="16123" y="21600"/>
                    <a:pt x="16438" y="19694"/>
                    <a:pt x="16897" y="18977"/>
                  </a:cubicBezTo>
                  <a:cubicBezTo>
                    <a:pt x="18791" y="16042"/>
                    <a:pt x="21600" y="13421"/>
                    <a:pt x="21600" y="9766"/>
                  </a:cubicBezTo>
                  <a:cubicBezTo>
                    <a:pt x="21600" y="4372"/>
                    <a:pt x="16761" y="0"/>
                    <a:pt x="10800" y="0"/>
                  </a:cubicBezTo>
                  <a:close/>
                  <a:moveTo>
                    <a:pt x="10800" y="0"/>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sp>
        <p:nvSpPr>
          <p:cNvPr id="1286" name="PlaceHolder 17"/>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287" name="Text Placeholder 1"/>
          <p:cNvSpPr/>
          <p:nvPr/>
        </p:nvSpPr>
        <p:spPr>
          <a:xfrm>
            <a:off x="8431200" y="2482920"/>
            <a:ext cx="1082520" cy="203040"/>
          </a:xfrm>
          <a:prstGeom prst="rect">
            <a:avLst/>
          </a:prstGeom>
          <a:noFill/>
          <a:ln w="0">
            <a:noFill/>
          </a:ln>
        </p:spPr>
        <p:style>
          <a:lnRef idx="0"/>
          <a:fillRef idx="0"/>
          <a:effectRef idx="0"/>
          <a:fontRef idx="minor"/>
        </p:style>
        <p:txBody>
          <a:bodyPr lIns="0" rIns="0" tIns="0" bIns="0" anchor="t">
            <a:normAutofit/>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100" spc="-1" strike="noStrike">
                <a:solidFill>
                  <a:srgbClr val="898989"/>
                </a:solidFill>
                <a:latin typeface="Open Sans Light"/>
              </a:rPr>
              <a:t>Skill Infographics</a:t>
            </a:r>
            <a:endParaRPr b="0" lang="en-US" sz="1100" spc="-1" strike="noStrike">
              <a:solidFill>
                <a:srgbClr val="494949"/>
              </a:solidFill>
              <a:latin typeface="Open Sans Light"/>
            </a:endParaRPr>
          </a:p>
        </p:txBody>
      </p:sp>
      <p:sp>
        <p:nvSpPr>
          <p:cNvPr id="1288" name="Text Placeholder 1"/>
          <p:cNvSpPr/>
          <p:nvPr/>
        </p:nvSpPr>
        <p:spPr>
          <a:xfrm>
            <a:off x="10091880" y="3784680"/>
            <a:ext cx="274320" cy="203040"/>
          </a:xfrm>
          <a:prstGeom prst="rect">
            <a:avLst/>
          </a:prstGeom>
          <a:noFill/>
          <a:ln w="0">
            <a:noFill/>
          </a:ln>
        </p:spPr>
        <p:style>
          <a:lnRef idx="0"/>
          <a:fillRef idx="0"/>
          <a:effectRef idx="0"/>
          <a:fontRef idx="minor"/>
        </p:style>
        <p:txBody>
          <a:bodyPr lIns="0" rIns="0" tIns="0" bIns="0" anchor="ctr">
            <a:normAutofit fontScale="93000"/>
          </a:bodyPr>
          <a:p>
            <a:pPr algn="ctr">
              <a:lnSpc>
                <a:spcPct val="7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100" spc="-1" strike="noStrike">
                <a:solidFill>
                  <a:srgbClr val="898989"/>
                </a:solidFill>
                <a:latin typeface="Open Sans Light"/>
              </a:rPr>
              <a:t>80%</a:t>
            </a:r>
            <a:endParaRPr b="0" lang="en-US" sz="1100" spc="-1" strike="noStrike">
              <a:solidFill>
                <a:srgbClr val="494949"/>
              </a:solidFill>
              <a:latin typeface="Open Sans Light"/>
            </a:endParaRPr>
          </a:p>
        </p:txBody>
      </p:sp>
      <p:pic>
        <p:nvPicPr>
          <p:cNvPr id="1289" name="" descr=""/>
          <p:cNvPicPr/>
          <p:nvPr/>
        </p:nvPicPr>
        <p:blipFill>
          <a:blip r:embed="rId1"/>
          <a:stretch/>
        </p:blipFill>
        <p:spPr>
          <a:xfrm>
            <a:off x="1758960" y="2233080"/>
            <a:ext cx="1574640" cy="1575000"/>
          </a:xfrm>
          <a:prstGeom prst="rect">
            <a:avLst/>
          </a:prstGeom>
          <a:ln w="0">
            <a:noFill/>
          </a:ln>
        </p:spPr>
      </p:pic>
    </p:spTree>
  </p:cSld>
  <p:transition spd="med">
    <p:fad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22" presetSubtype="8">
                                  <p:stCondLst>
                                    <p:cond delay="0"/>
                                  </p:stCondLst>
                                  <p:childTnLst>
                                    <p:set>
                                      <p:cBhvr>
                                        <p:cTn id="686" dur="1" fill="hold">
                                          <p:stCondLst>
                                            <p:cond delay="0"/>
                                          </p:stCondLst>
                                        </p:cTn>
                                        <p:tgtEl>
                                          <p:spTgt spid="1176"/>
                                        </p:tgtEl>
                                        <p:attrNameLst>
                                          <p:attrName>style.visibility</p:attrName>
                                        </p:attrNameLst>
                                      </p:cBhvr>
                                      <p:to>
                                        <p:strVal val="visible"/>
                                      </p:to>
                                    </p:set>
                                    <p:animEffect filter="wipe(left)" transition="in">
                                      <p:cBhvr additive="repl">
                                        <p:cTn id="687" dur="500"/>
                                        <p:tgtEl>
                                          <p:spTgt spid="1176"/>
                                        </p:tgtEl>
                                      </p:cBhvr>
                                    </p:animEffect>
                                  </p:childTnLst>
                                </p:cTn>
                              </p:par>
                              <p:par>
                                <p:cTn id="688" nodeType="withEffect" fill="hold" presetClass="entr" presetID="10">
                                  <p:stCondLst>
                                    <p:cond delay="0"/>
                                  </p:stCondLst>
                                  <p:childTnLst>
                                    <p:set>
                                      <p:cBhvr>
                                        <p:cTn id="689" dur="1" fill="hold">
                                          <p:stCondLst>
                                            <p:cond delay="0"/>
                                          </p:stCondLst>
                                        </p:cTn>
                                        <p:tgtEl>
                                          <p:spTgt spid="1175"/>
                                        </p:tgtEl>
                                        <p:attrNameLst>
                                          <p:attrName>style.visibility</p:attrName>
                                        </p:attrNameLst>
                                      </p:cBhvr>
                                      <p:to>
                                        <p:strVal val="visible"/>
                                      </p:to>
                                    </p:set>
                                    <p:animEffect filter="fade" transition="in">
                                      <p:cBhvr additive="repl">
                                        <p:cTn id="690" dur="500"/>
                                        <p:tgtEl>
                                          <p:spTgt spid="1175"/>
                                        </p:tgtEl>
                                      </p:cBhvr>
                                    </p:animEffect>
                                  </p:childTnLst>
                                </p:cTn>
                              </p:par>
                            </p:childTnLst>
                          </p:cTn>
                        </p:par>
                        <p:par>
                          <p:cTn id="691" fill="hold">
                            <p:stCondLst>
                              <p:cond delay="500"/>
                            </p:stCondLst>
                            <p:childTnLst>
                              <p:par>
                                <p:cTn id="692" nodeType="afterEffect" fill="hold" presetClass="entr" presetID="10">
                                  <p:stCondLst>
                                    <p:cond delay="0"/>
                                  </p:stCondLst>
                                  <p:childTnLst>
                                    <p:set>
                                      <p:cBhvr>
                                        <p:cTn id="693" dur="1" fill="hold">
                                          <p:stCondLst>
                                            <p:cond delay="0"/>
                                          </p:stCondLst>
                                        </p:cTn>
                                        <p:tgtEl>
                                          <p:spTgt spid="1192"/>
                                        </p:tgtEl>
                                        <p:attrNameLst>
                                          <p:attrName>style.visibility</p:attrName>
                                        </p:attrNameLst>
                                      </p:cBhvr>
                                      <p:to>
                                        <p:strVal val="visible"/>
                                      </p:to>
                                    </p:set>
                                    <p:animEffect filter="fade" transition="in">
                                      <p:cBhvr additive="repl">
                                        <p:cTn id="694" dur="500"/>
                                        <p:tgtEl>
                                          <p:spTgt spid="1192"/>
                                        </p:tgtEl>
                                      </p:cBhvr>
                                    </p:animEffect>
                                  </p:childTnLst>
                                </p:cTn>
                              </p:par>
                              <p:par>
                                <p:cTn id="695" nodeType="withEffect" fill="hold" presetClass="entr" presetID="10">
                                  <p:stCondLst>
                                    <p:cond delay="0"/>
                                  </p:stCondLst>
                                  <p:childTnLst>
                                    <p:set>
                                      <p:cBhvr>
                                        <p:cTn id="696" dur="1" fill="hold">
                                          <p:stCondLst>
                                            <p:cond delay="0"/>
                                          </p:stCondLst>
                                        </p:cTn>
                                        <p:tgtEl>
                                          <p:spTgt spid="1188">
                                            <p:txEl>
                                              <p:pRg st="0" end="0"/>
                                            </p:txEl>
                                          </p:spTgt>
                                        </p:tgtEl>
                                        <p:attrNameLst>
                                          <p:attrName>style.visibility</p:attrName>
                                        </p:attrNameLst>
                                      </p:cBhvr>
                                      <p:to>
                                        <p:strVal val="visible"/>
                                      </p:to>
                                    </p:set>
                                    <p:animEffect filter="fade" transition="in">
                                      <p:cBhvr additive="repl">
                                        <p:cTn id="697" dur="500"/>
                                        <p:tgtEl>
                                          <p:spTgt spid="1188">
                                            <p:txEl>
                                              <p:pRg st="0" end="0"/>
                                            </p:txEl>
                                          </p:spTgt>
                                        </p:tgtEl>
                                      </p:cBhvr>
                                    </p:animEffect>
                                  </p:childTnLst>
                                </p:cTn>
                              </p:par>
                            </p:childTnLst>
                          </p:cTn>
                        </p:par>
                        <p:par>
                          <p:cTn id="698" fill="hold">
                            <p:stCondLst>
                              <p:cond delay="1000"/>
                            </p:stCondLst>
                            <p:childTnLst>
                              <p:par>
                                <p:cTn id="699" nodeType="afterEffect" fill="hold" presetClass="entr" presetID="10">
                                  <p:stCondLst>
                                    <p:cond delay="0"/>
                                  </p:stCondLst>
                                  <p:childTnLst>
                                    <p:set>
                                      <p:cBhvr>
                                        <p:cTn id="700" dur="1" fill="hold">
                                          <p:stCondLst>
                                            <p:cond delay="0"/>
                                          </p:stCondLst>
                                        </p:cTn>
                                        <p:tgtEl>
                                          <p:spTgt spid="1193"/>
                                        </p:tgtEl>
                                        <p:attrNameLst>
                                          <p:attrName>style.visibility</p:attrName>
                                        </p:attrNameLst>
                                      </p:cBhvr>
                                      <p:to>
                                        <p:strVal val="visible"/>
                                      </p:to>
                                    </p:set>
                                    <p:animEffect filter="fade" transition="in">
                                      <p:cBhvr additive="repl">
                                        <p:cTn id="701" dur="500"/>
                                        <p:tgtEl>
                                          <p:spTgt spid="1193"/>
                                        </p:tgtEl>
                                      </p:cBhvr>
                                    </p:animEffect>
                                  </p:childTnLst>
                                </p:cTn>
                              </p:par>
                              <p:par>
                                <p:cTn id="702" nodeType="withEffect" fill="hold" presetClass="entr" presetID="10">
                                  <p:stCondLst>
                                    <p:cond delay="0"/>
                                  </p:stCondLst>
                                  <p:childTnLst>
                                    <p:set>
                                      <p:cBhvr>
                                        <p:cTn id="703" dur="1" fill="hold">
                                          <p:stCondLst>
                                            <p:cond delay="0"/>
                                          </p:stCondLst>
                                        </p:cTn>
                                        <p:tgtEl>
                                          <p:spTgt spid="1187">
                                            <p:txEl>
                                              <p:pRg st="0" end="0"/>
                                            </p:txEl>
                                          </p:spTgt>
                                        </p:tgtEl>
                                        <p:attrNameLst>
                                          <p:attrName>style.visibility</p:attrName>
                                        </p:attrNameLst>
                                      </p:cBhvr>
                                      <p:to>
                                        <p:strVal val="visible"/>
                                      </p:to>
                                    </p:set>
                                    <p:animEffect filter="fade" transition="in">
                                      <p:cBhvr additive="repl">
                                        <p:cTn id="704" dur="500"/>
                                        <p:tgtEl>
                                          <p:spTgt spid="1187">
                                            <p:txEl>
                                              <p:pRg st="0" end="0"/>
                                            </p:txEl>
                                          </p:spTgt>
                                        </p:tgtEl>
                                      </p:cBhvr>
                                    </p:animEffect>
                                  </p:childTnLst>
                                </p:cTn>
                              </p:par>
                            </p:childTnLst>
                          </p:cTn>
                        </p:par>
                        <p:par>
                          <p:cTn id="705" fill="hold">
                            <p:stCondLst>
                              <p:cond delay="1500"/>
                            </p:stCondLst>
                            <p:childTnLst>
                              <p:par>
                                <p:cTn id="706" nodeType="afterEffect" fill="hold" presetClass="entr" presetID="10">
                                  <p:stCondLst>
                                    <p:cond delay="0"/>
                                  </p:stCondLst>
                                  <p:childTnLst>
                                    <p:set>
                                      <p:cBhvr>
                                        <p:cTn id="707" dur="1" fill="hold">
                                          <p:stCondLst>
                                            <p:cond delay="0"/>
                                          </p:stCondLst>
                                        </p:cTn>
                                        <p:tgtEl>
                                          <p:spTgt spid="1194"/>
                                        </p:tgtEl>
                                        <p:attrNameLst>
                                          <p:attrName>style.visibility</p:attrName>
                                        </p:attrNameLst>
                                      </p:cBhvr>
                                      <p:to>
                                        <p:strVal val="visible"/>
                                      </p:to>
                                    </p:set>
                                    <p:animEffect filter="fade" transition="in">
                                      <p:cBhvr additive="repl">
                                        <p:cTn id="708" dur="500"/>
                                        <p:tgtEl>
                                          <p:spTgt spid="1194"/>
                                        </p:tgtEl>
                                      </p:cBhvr>
                                    </p:animEffect>
                                  </p:childTnLst>
                                </p:cTn>
                              </p:par>
                              <p:par>
                                <p:cTn id="709" nodeType="withEffect" fill="hold" presetClass="entr" presetID="10">
                                  <p:stCondLst>
                                    <p:cond delay="0"/>
                                  </p:stCondLst>
                                  <p:childTnLst>
                                    <p:set>
                                      <p:cBhvr>
                                        <p:cTn id="710" dur="1" fill="hold">
                                          <p:stCondLst>
                                            <p:cond delay="0"/>
                                          </p:stCondLst>
                                        </p:cTn>
                                        <p:tgtEl>
                                          <p:spTgt spid="1186">
                                            <p:txEl>
                                              <p:pRg st="0" end="0"/>
                                            </p:txEl>
                                          </p:spTgt>
                                        </p:tgtEl>
                                        <p:attrNameLst>
                                          <p:attrName>style.visibility</p:attrName>
                                        </p:attrNameLst>
                                      </p:cBhvr>
                                      <p:to>
                                        <p:strVal val="visible"/>
                                      </p:to>
                                    </p:set>
                                    <p:animEffect filter="fade" transition="in">
                                      <p:cBhvr additive="repl">
                                        <p:cTn id="711" dur="500"/>
                                        <p:tgtEl>
                                          <p:spTgt spid="1186">
                                            <p:txEl>
                                              <p:pRg st="0" end="0"/>
                                            </p:txEl>
                                          </p:spTgt>
                                        </p:tgtEl>
                                      </p:cBhvr>
                                    </p:animEffect>
                                  </p:childTnLst>
                                </p:cTn>
                              </p:par>
                            </p:childTnLst>
                          </p:cTn>
                        </p:par>
                        <p:par>
                          <p:cTn id="712" fill="hold">
                            <p:stCondLst>
                              <p:cond delay="2000"/>
                            </p:stCondLst>
                            <p:childTnLst>
                              <p:par>
                                <p:cTn id="713" nodeType="afterEffect" fill="hold" presetClass="entr" presetID="10">
                                  <p:stCondLst>
                                    <p:cond delay="0"/>
                                  </p:stCondLst>
                                  <p:childTnLst>
                                    <p:set>
                                      <p:cBhvr>
                                        <p:cTn id="714" dur="1" fill="hold">
                                          <p:stCondLst>
                                            <p:cond delay="0"/>
                                          </p:stCondLst>
                                        </p:cTn>
                                        <p:tgtEl>
                                          <p:spTgt spid="1195"/>
                                        </p:tgtEl>
                                        <p:attrNameLst>
                                          <p:attrName>style.visibility</p:attrName>
                                        </p:attrNameLst>
                                      </p:cBhvr>
                                      <p:to>
                                        <p:strVal val="visible"/>
                                      </p:to>
                                    </p:set>
                                    <p:animEffect filter="fade" transition="in">
                                      <p:cBhvr additive="repl">
                                        <p:cTn id="715" dur="500"/>
                                        <p:tgtEl>
                                          <p:spTgt spid="1195"/>
                                        </p:tgtEl>
                                      </p:cBhvr>
                                    </p:animEffect>
                                  </p:childTnLst>
                                </p:cTn>
                              </p:par>
                              <p:par>
                                <p:cTn id="716" nodeType="withEffect" fill="hold" presetClass="entr" presetID="10">
                                  <p:stCondLst>
                                    <p:cond delay="0"/>
                                  </p:stCondLst>
                                  <p:childTnLst>
                                    <p:set>
                                      <p:cBhvr>
                                        <p:cTn id="717" dur="1" fill="hold">
                                          <p:stCondLst>
                                            <p:cond delay="0"/>
                                          </p:stCondLst>
                                        </p:cTn>
                                        <p:tgtEl>
                                          <p:spTgt spid="1185">
                                            <p:txEl>
                                              <p:pRg st="0" end="0"/>
                                            </p:txEl>
                                          </p:spTgt>
                                        </p:tgtEl>
                                        <p:attrNameLst>
                                          <p:attrName>style.visibility</p:attrName>
                                        </p:attrNameLst>
                                      </p:cBhvr>
                                      <p:to>
                                        <p:strVal val="visible"/>
                                      </p:to>
                                    </p:set>
                                    <p:animEffect filter="fade" transition="in">
                                      <p:cBhvr additive="repl">
                                        <p:cTn id="718" dur="500"/>
                                        <p:tgtEl>
                                          <p:spTgt spid="1185">
                                            <p:txEl>
                                              <p:pRg st="0" end="0"/>
                                            </p:txEl>
                                          </p:spTgt>
                                        </p:tgtEl>
                                      </p:cBhvr>
                                    </p:animEffect>
                                  </p:childTnLst>
                                </p:cTn>
                              </p:par>
                            </p:childTnLst>
                          </p:cTn>
                        </p:par>
                        <p:par>
                          <p:cTn id="719" fill="hold">
                            <p:stCondLst>
                              <p:cond delay="2500"/>
                            </p:stCondLst>
                            <p:childTnLst>
                              <p:par>
                                <p:cTn id="720" nodeType="afterEffect" fill="hold" presetClass="entr" presetID="22" presetSubtype="8">
                                  <p:stCondLst>
                                    <p:cond delay="0"/>
                                  </p:stCondLst>
                                  <p:childTnLst>
                                    <p:set>
                                      <p:cBhvr>
                                        <p:cTn id="721" dur="1" fill="hold">
                                          <p:stCondLst>
                                            <p:cond delay="0"/>
                                          </p:stCondLst>
                                        </p:cTn>
                                        <p:tgtEl>
                                          <p:spTgt spid="1180">
                                            <p:txEl>
                                              <p:pRg st="0" end="0"/>
                                            </p:txEl>
                                          </p:spTgt>
                                        </p:tgtEl>
                                        <p:attrNameLst>
                                          <p:attrName>style.visibility</p:attrName>
                                        </p:attrNameLst>
                                      </p:cBhvr>
                                      <p:to>
                                        <p:strVal val="visible"/>
                                      </p:to>
                                    </p:set>
                                    <p:animEffect filter="wipe(left)" transition="in">
                                      <p:cBhvr additive="repl">
                                        <p:cTn id="722" dur="500"/>
                                        <p:tgtEl>
                                          <p:spTgt spid="1180">
                                            <p:txEl>
                                              <p:pRg st="0" end="0"/>
                                            </p:txEl>
                                          </p:spTgt>
                                        </p:tgtEl>
                                      </p:cBhvr>
                                    </p:animEffect>
                                  </p:childTnLst>
                                </p:cTn>
                              </p:par>
                            </p:childTnLst>
                          </p:cTn>
                        </p:par>
                        <p:par>
                          <p:cTn id="723" fill="hold">
                            <p:stCondLst>
                              <p:cond delay="3000"/>
                            </p:stCondLst>
                            <p:childTnLst>
                              <p:par>
                                <p:cTn id="724" nodeType="afterEffect" fill="hold" presetClass="entr" presetID="10">
                                  <p:stCondLst>
                                    <p:cond delay="0"/>
                                  </p:stCondLst>
                                  <p:childTnLst>
                                    <p:set>
                                      <p:cBhvr>
                                        <p:cTn id="725" dur="1" fill="hold">
                                          <p:stCondLst>
                                            <p:cond delay="0"/>
                                          </p:stCondLst>
                                        </p:cTn>
                                        <p:tgtEl>
                                          <p:spTgt spid="1179">
                                            <p:txEl>
                                              <p:pRg st="0" end="0"/>
                                            </p:txEl>
                                          </p:spTgt>
                                        </p:tgtEl>
                                        <p:attrNameLst>
                                          <p:attrName>style.visibility</p:attrName>
                                        </p:attrNameLst>
                                      </p:cBhvr>
                                      <p:to>
                                        <p:strVal val="visible"/>
                                      </p:to>
                                    </p:set>
                                    <p:animEffect filter="fade" transition="in">
                                      <p:cBhvr additive="repl">
                                        <p:cTn id="726" dur="500"/>
                                        <p:tgtEl>
                                          <p:spTgt spid="1179">
                                            <p:txEl>
                                              <p:pRg st="0" end="0"/>
                                            </p:txEl>
                                          </p:spTgt>
                                        </p:tgtEl>
                                      </p:cBhvr>
                                    </p:animEffect>
                                  </p:childTnLst>
                                </p:cTn>
                              </p:par>
                            </p:childTnLst>
                          </p:cTn>
                        </p:par>
                        <p:par>
                          <p:cTn id="727" fill="hold">
                            <p:stCondLst>
                              <p:cond delay="3500"/>
                            </p:stCondLst>
                            <p:childTnLst>
                              <p:par>
                                <p:cTn id="728" nodeType="afterEffect" fill="hold" presetClass="entr" presetID="10">
                                  <p:stCondLst>
                                    <p:cond delay="0"/>
                                  </p:stCondLst>
                                  <p:childTnLst>
                                    <p:set>
                                      <p:cBhvr>
                                        <p:cTn id="729" dur="1" fill="hold">
                                          <p:stCondLst>
                                            <p:cond delay="0"/>
                                          </p:stCondLst>
                                        </p:cTn>
                                        <p:tgtEl>
                                          <p:spTgt spid="1181">
                                            <p:txEl>
                                              <p:pRg st="0" end="0"/>
                                            </p:txEl>
                                          </p:spTgt>
                                        </p:tgtEl>
                                        <p:attrNameLst>
                                          <p:attrName>style.visibility</p:attrName>
                                        </p:attrNameLst>
                                      </p:cBhvr>
                                      <p:to>
                                        <p:strVal val="visible"/>
                                      </p:to>
                                    </p:set>
                                    <p:animEffect filter="fade" transition="in">
                                      <p:cBhvr additive="repl">
                                        <p:cTn id="730" dur="500"/>
                                        <p:tgtEl>
                                          <p:spTgt spid="1181">
                                            <p:txEl>
                                              <p:pRg st="0" end="0"/>
                                            </p:txEl>
                                          </p:spTgt>
                                        </p:tgtEl>
                                      </p:cBhvr>
                                    </p:animEffect>
                                  </p:childTnLst>
                                </p:cTn>
                              </p:par>
                            </p:childTnLst>
                          </p:cTn>
                        </p:par>
                        <p:par>
                          <p:cTn id="731" fill="hold">
                            <p:stCondLst>
                              <p:cond delay="4000"/>
                            </p:stCondLst>
                            <p:childTnLst>
                              <p:par>
                                <p:cTn id="732" nodeType="afterEffect" fill="hold" presetClass="entr" presetID="10">
                                  <p:stCondLst>
                                    <p:cond delay="0"/>
                                  </p:stCondLst>
                                  <p:childTnLst>
                                    <p:set>
                                      <p:cBhvr>
                                        <p:cTn id="733"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34" dur="500"/>
                                        <p:tgtEl>
                                          <p:spTgt spid="1181">
                                            <p:txEl>
                                              <p:pRg st="1" end="1"/>
                                            </p:txEl>
                                          </p:spTgt>
                                        </p:tgtEl>
                                      </p:cBhvr>
                                    </p:animEffect>
                                  </p:childTnLst>
                                </p:cTn>
                              </p:par>
                            </p:childTnLst>
                          </p:cTn>
                        </p:par>
                        <p:par>
                          <p:cTn id="735" fill="hold">
                            <p:stCondLst>
                              <p:cond delay="4500"/>
                            </p:stCondLst>
                            <p:childTnLst>
                              <p:par>
                                <p:cTn id="736" nodeType="afterEffect" fill="hold" presetClass="entr" presetID="22" presetSubtype="8">
                                  <p:stCondLst>
                                    <p:cond delay="0"/>
                                  </p:stCondLst>
                                  <p:childTnLst>
                                    <p:set>
                                      <p:cBhvr>
                                        <p:cTn id="737" dur="1" fill="hold">
                                          <p:stCondLst>
                                            <p:cond delay="0"/>
                                          </p:stCondLst>
                                        </p:cTn>
                                        <p:tgtEl>
                                          <p:spTgt spid="1178">
                                            <p:txEl>
                                              <p:pRg st="0" end="0"/>
                                            </p:txEl>
                                          </p:spTgt>
                                        </p:tgtEl>
                                        <p:attrNameLst>
                                          <p:attrName>style.visibility</p:attrName>
                                        </p:attrNameLst>
                                      </p:cBhvr>
                                      <p:to>
                                        <p:strVal val="visible"/>
                                      </p:to>
                                    </p:set>
                                    <p:animEffect filter="wipe(left)" transition="in">
                                      <p:cBhvr additive="repl">
                                        <p:cTn id="738" dur="500"/>
                                        <p:tgtEl>
                                          <p:spTgt spid="1178">
                                            <p:txEl>
                                              <p:pRg st="0" end="0"/>
                                            </p:txEl>
                                          </p:spTgt>
                                        </p:tgtEl>
                                      </p:cBhvr>
                                    </p:animEffect>
                                  </p:childTnLst>
                                </p:cTn>
                              </p:par>
                            </p:childTnLst>
                          </p:cTn>
                        </p:par>
                        <p:par>
                          <p:cTn id="739" fill="hold">
                            <p:stCondLst>
                              <p:cond delay="5000"/>
                            </p:stCondLst>
                            <p:childTnLst>
                              <p:par>
                                <p:cTn id="740" nodeType="afterEffect" fill="hold" presetClass="entr" presetID="10">
                                  <p:stCondLst>
                                    <p:cond delay="0"/>
                                  </p:stCondLst>
                                  <p:childTnLst>
                                    <p:set>
                                      <p:cBhvr>
                                        <p:cTn id="741" dur="1" fill="hold">
                                          <p:stCondLst>
                                            <p:cond delay="0"/>
                                          </p:stCondLst>
                                        </p:cTn>
                                        <p:tgtEl>
                                          <p:spTgt spid="1182">
                                            <p:txEl>
                                              <p:pRg st="0" end="0"/>
                                            </p:txEl>
                                          </p:spTgt>
                                        </p:tgtEl>
                                        <p:attrNameLst>
                                          <p:attrName>style.visibility</p:attrName>
                                        </p:attrNameLst>
                                      </p:cBhvr>
                                      <p:to>
                                        <p:strVal val="visible"/>
                                      </p:to>
                                    </p:set>
                                    <p:animEffect filter="fade" transition="in">
                                      <p:cBhvr additive="repl">
                                        <p:cTn id="742" dur="500"/>
                                        <p:tgtEl>
                                          <p:spTgt spid="1182">
                                            <p:txEl>
                                              <p:pRg st="0" end="0"/>
                                            </p:txEl>
                                          </p:spTgt>
                                        </p:tgtEl>
                                      </p:cBhvr>
                                    </p:animEffect>
                                  </p:childTnLst>
                                </p:cTn>
                              </p:par>
                            </p:childTnLst>
                          </p:cTn>
                        </p:par>
                        <p:par>
                          <p:cTn id="743" fill="hold">
                            <p:stCondLst>
                              <p:cond delay="5500"/>
                            </p:stCondLst>
                            <p:childTnLst>
                              <p:par>
                                <p:cTn id="744" nodeType="afterEffect" fill="hold" presetClass="entr" presetID="22" presetSubtype="8">
                                  <p:stCondLst>
                                    <p:cond delay="0"/>
                                  </p:stCondLst>
                                  <p:childTnLst>
                                    <p:set>
                                      <p:cBhvr>
                                        <p:cTn id="745" dur="1" fill="hold">
                                          <p:stCondLst>
                                            <p:cond delay="0"/>
                                          </p:stCondLst>
                                        </p:cTn>
                                        <p:tgtEl>
                                          <p:spTgt spid="1198"/>
                                        </p:tgtEl>
                                        <p:attrNameLst>
                                          <p:attrName>style.visibility</p:attrName>
                                        </p:attrNameLst>
                                      </p:cBhvr>
                                      <p:to>
                                        <p:strVal val="visible"/>
                                      </p:to>
                                    </p:set>
                                    <p:animEffect filter="wipe(left)" transition="in">
                                      <p:cBhvr additive="repl">
                                        <p:cTn id="746" dur="500"/>
                                        <p:tgtEl>
                                          <p:spTgt spid="1198"/>
                                        </p:tgtEl>
                                      </p:cBhvr>
                                    </p:animEffect>
                                  </p:childTnLst>
                                </p:cTn>
                              </p:par>
                            </p:childTnLst>
                          </p:cTn>
                        </p:par>
                        <p:par>
                          <p:cTn id="747" fill="hold">
                            <p:stCondLst>
                              <p:cond delay="6000"/>
                            </p:stCondLst>
                            <p:childTnLst>
                              <p:par>
                                <p:cTn id="748" nodeType="afterEffect" fill="hold" presetClass="entr" presetID="10">
                                  <p:stCondLst>
                                    <p:cond delay="0"/>
                                  </p:stCondLst>
                                  <p:childTnLst>
                                    <p:set>
                                      <p:cBhvr>
                                        <p:cTn id="749" dur="1" fill="hold">
                                          <p:stCondLst>
                                            <p:cond delay="0"/>
                                          </p:stCondLst>
                                        </p:cTn>
                                        <p:tgtEl>
                                          <p:spTgt spid="1183">
                                            <p:txEl>
                                              <p:pRg st="0" end="0"/>
                                            </p:txEl>
                                          </p:spTgt>
                                        </p:tgtEl>
                                        <p:attrNameLst>
                                          <p:attrName>style.visibility</p:attrName>
                                        </p:attrNameLst>
                                      </p:cBhvr>
                                      <p:to>
                                        <p:strVal val="visible"/>
                                      </p:to>
                                    </p:set>
                                    <p:animEffect filter="fade" transition="in">
                                      <p:cBhvr additive="repl">
                                        <p:cTn id="750" dur="500"/>
                                        <p:tgtEl>
                                          <p:spTgt spid="1183">
                                            <p:txEl>
                                              <p:pRg st="0" end="0"/>
                                            </p:txEl>
                                          </p:spTgt>
                                        </p:tgtEl>
                                      </p:cBhvr>
                                    </p:animEffect>
                                  </p:childTnLst>
                                </p:cTn>
                              </p:par>
                            </p:childTnLst>
                          </p:cTn>
                        </p:par>
                        <p:par>
                          <p:cTn id="751" fill="hold">
                            <p:stCondLst>
                              <p:cond delay="6500"/>
                            </p:stCondLst>
                            <p:childTnLst>
                              <p:par>
                                <p:cTn id="752" nodeType="afterEffect" fill="hold" presetClass="entr" presetID="10">
                                  <p:stCondLst>
                                    <p:cond delay="0"/>
                                  </p:stCondLst>
                                  <p:childTnLst>
                                    <p:set>
                                      <p:cBhvr>
                                        <p:cTn id="753" dur="1" fill="hold">
                                          <p:stCondLst>
                                            <p:cond delay="0"/>
                                          </p:stCondLst>
                                        </p:cTn>
                                        <p:tgtEl>
                                          <p:spTgt spid="1177">
                                            <p:txEl>
                                              <p:pRg st="0" end="0"/>
                                            </p:txEl>
                                          </p:spTgt>
                                        </p:tgtEl>
                                        <p:attrNameLst>
                                          <p:attrName>style.visibility</p:attrName>
                                        </p:attrNameLst>
                                      </p:cBhvr>
                                      <p:to>
                                        <p:strVal val="visible"/>
                                      </p:to>
                                    </p:set>
                                    <p:animEffect filter="fade" transition="in">
                                      <p:cBhvr additive="repl">
                                        <p:cTn id="754" dur="500"/>
                                        <p:tgtEl>
                                          <p:spTgt spid="1177">
                                            <p:txEl>
                                              <p:pRg st="0" end="0"/>
                                            </p:txEl>
                                          </p:spTgt>
                                        </p:tgtEl>
                                      </p:cBhvr>
                                    </p:animEffect>
                                  </p:childTnLst>
                                </p:cTn>
                              </p:par>
                            </p:childTnLst>
                          </p:cTn>
                        </p:par>
                        <p:par>
                          <p:cTn id="755" fill="hold">
                            <p:stCondLst>
                              <p:cond delay="7000"/>
                            </p:stCondLst>
                            <p:childTnLst>
                              <p:par>
                                <p:cTn id="756" nodeType="afterEffect" fill="hold" presetClass="entr" presetID="22" presetSubtype="8">
                                  <p:stCondLst>
                                    <p:cond delay="0"/>
                                  </p:stCondLst>
                                  <p:childTnLst>
                                    <p:set>
                                      <p:cBhvr>
                                        <p:cTn id="757" dur="1" fill="hold">
                                          <p:stCondLst>
                                            <p:cond delay="0"/>
                                          </p:stCondLst>
                                        </p:cTn>
                                        <p:tgtEl>
                                          <p:spTgt spid="1220"/>
                                        </p:tgtEl>
                                        <p:attrNameLst>
                                          <p:attrName>style.visibility</p:attrName>
                                        </p:attrNameLst>
                                      </p:cBhvr>
                                      <p:to>
                                        <p:strVal val="visible"/>
                                      </p:to>
                                    </p:set>
                                    <p:animEffect filter="wipe(left)" transition="in">
                                      <p:cBhvr additive="repl">
                                        <p:cTn id="758" dur="500"/>
                                        <p:tgtEl>
                                          <p:spTgt spid="1220"/>
                                        </p:tgtEl>
                                      </p:cBhvr>
                                    </p:animEffect>
                                  </p:childTnLst>
                                </p:cTn>
                              </p:par>
                            </p:childTnLst>
                          </p:cTn>
                        </p:par>
                        <p:par>
                          <p:cTn id="759" fill="hold">
                            <p:stCondLst>
                              <p:cond delay="7500"/>
                            </p:stCondLst>
                            <p:childTnLst>
                              <p:par>
                                <p:cTn id="760" nodeType="afterEffect" fill="hold" presetClass="entr" presetID="10">
                                  <p:stCondLst>
                                    <p:cond delay="0"/>
                                  </p:stCondLst>
                                  <p:childTnLst>
                                    <p:set>
                                      <p:cBhvr>
                                        <p:cTn id="761" dur="1" fill="hold">
                                          <p:stCondLst>
                                            <p:cond delay="0"/>
                                          </p:stCondLst>
                                        </p:cTn>
                                        <p:tgtEl>
                                          <p:spTgt spid="1184">
                                            <p:txEl>
                                              <p:pRg st="0" end="0"/>
                                            </p:txEl>
                                          </p:spTgt>
                                        </p:tgtEl>
                                        <p:attrNameLst>
                                          <p:attrName>style.visibility</p:attrName>
                                        </p:attrNameLst>
                                      </p:cBhvr>
                                      <p:to>
                                        <p:strVal val="visible"/>
                                      </p:to>
                                    </p:set>
                                    <p:animEffect filter="fade" transition="in">
                                      <p:cBhvr additive="repl">
                                        <p:cTn id="762" dur="500"/>
                                        <p:tgtEl>
                                          <p:spTgt spid="1184">
                                            <p:txEl>
                                              <p:pRg st="0" end="0"/>
                                            </p:txEl>
                                          </p:spTgt>
                                        </p:tgtEl>
                                      </p:cBhvr>
                                    </p:animEffect>
                                  </p:childTnLst>
                                </p:cTn>
                              </p:par>
                            </p:childTnLst>
                          </p:cTn>
                        </p:par>
                        <p:par>
                          <p:cTn id="763" fill="hold">
                            <p:stCondLst>
                              <p:cond delay="8000"/>
                            </p:stCondLst>
                            <p:childTnLst>
                              <p:par>
                                <p:cTn id="764" nodeType="afterEffect" fill="hold" presetClass="entr" presetID="22" presetSubtype="8">
                                  <p:stCondLst>
                                    <p:cond delay="0"/>
                                  </p:stCondLst>
                                  <p:childTnLst>
                                    <p:set>
                                      <p:cBhvr>
                                        <p:cTn id="765" dur="1" fill="hold">
                                          <p:stCondLst>
                                            <p:cond delay="0"/>
                                          </p:stCondLst>
                                        </p:cTn>
                                        <p:tgtEl>
                                          <p:spTgt spid="1242"/>
                                        </p:tgtEl>
                                        <p:attrNameLst>
                                          <p:attrName>style.visibility</p:attrName>
                                        </p:attrNameLst>
                                      </p:cBhvr>
                                      <p:to>
                                        <p:strVal val="visible"/>
                                      </p:to>
                                    </p:set>
                                    <p:animEffect filter="wipe(left)" transition="in">
                                      <p:cBhvr additive="repl">
                                        <p:cTn id="766" dur="500"/>
                                        <p:tgtEl>
                                          <p:spTgt spid="1242"/>
                                        </p:tgtEl>
                                      </p:cBhvr>
                                    </p:animEffect>
                                  </p:childTnLst>
                                </p:cTn>
                              </p:par>
                            </p:childTnLst>
                          </p:cTn>
                        </p:par>
                        <p:par>
                          <p:cTn id="767" fill="hold">
                            <p:stCondLst>
                              <p:cond delay="8500"/>
                            </p:stCondLst>
                            <p:childTnLst>
                              <p:par>
                                <p:cTn id="768" nodeType="afterEffect" fill="hold" presetClass="entr" presetID="10">
                                  <p:stCondLst>
                                    <p:cond delay="0"/>
                                  </p:stCondLst>
                                  <p:childTnLst>
                                    <p:set>
                                      <p:cBhvr>
                                        <p:cTn id="769" dur="1" fill="hold">
                                          <p:stCondLst>
                                            <p:cond delay="0"/>
                                          </p:stCondLst>
                                        </p:cTn>
                                        <p:tgtEl>
                                          <p:spTgt spid="1191">
                                            <p:txEl>
                                              <p:pRg st="0" end="0"/>
                                            </p:txEl>
                                          </p:spTgt>
                                        </p:tgtEl>
                                        <p:attrNameLst>
                                          <p:attrName>style.visibility</p:attrName>
                                        </p:attrNameLst>
                                      </p:cBhvr>
                                      <p:to>
                                        <p:strVal val="visible"/>
                                      </p:to>
                                    </p:set>
                                    <p:animEffect filter="fade" transition="in">
                                      <p:cBhvr additive="repl">
                                        <p:cTn id="770" dur="500"/>
                                        <p:tgtEl>
                                          <p:spTgt spid="1191">
                                            <p:txEl>
                                              <p:pRg st="0" end="0"/>
                                            </p:txEl>
                                          </p:spTgt>
                                        </p:tgtEl>
                                      </p:cBhvr>
                                    </p:animEffect>
                                  </p:childTnLst>
                                </p:cTn>
                              </p:par>
                            </p:childTnLst>
                          </p:cTn>
                        </p:par>
                        <p:par>
                          <p:cTn id="771" fill="hold">
                            <p:stCondLst>
                              <p:cond delay="9000"/>
                            </p:stCondLst>
                            <p:childTnLst>
                              <p:par>
                                <p:cTn id="772" nodeType="afterEffect" fill="hold" presetClass="entr" presetID="10">
                                  <p:stCondLst>
                                    <p:cond delay="0"/>
                                  </p:stCondLst>
                                  <p:childTnLst>
                                    <p:set>
                                      <p:cBhvr>
                                        <p:cTn id="773" dur="1" fill="hold">
                                          <p:stCondLst>
                                            <p:cond delay="0"/>
                                          </p:stCondLst>
                                        </p:cTn>
                                        <p:tgtEl>
                                          <p:spTgt spid="1190">
                                            <p:txEl>
                                              <p:pRg st="0" end="0"/>
                                            </p:txEl>
                                          </p:spTgt>
                                        </p:tgtEl>
                                        <p:attrNameLst>
                                          <p:attrName>style.visibility</p:attrName>
                                        </p:attrNameLst>
                                      </p:cBhvr>
                                      <p:to>
                                        <p:strVal val="visible"/>
                                      </p:to>
                                    </p:set>
                                    <p:animEffect filter="fade" transition="in">
                                      <p:cBhvr additive="repl">
                                        <p:cTn id="774" dur="500"/>
                                        <p:tgtEl>
                                          <p:spTgt spid="1190">
                                            <p:txEl>
                                              <p:pRg st="0" end="0"/>
                                            </p:txEl>
                                          </p:spTgt>
                                        </p:tgtEl>
                                      </p:cBhvr>
                                    </p:animEffect>
                                  </p:childTnLst>
                                </p:cTn>
                              </p:par>
                            </p:childTnLst>
                          </p:cTn>
                        </p:par>
                        <p:par>
                          <p:cTn id="775" fill="hold">
                            <p:stCondLst>
                              <p:cond delay="9500"/>
                            </p:stCondLst>
                            <p:childTnLst>
                              <p:par>
                                <p:cTn id="776" nodeType="afterEffect" fill="hold" presetClass="entr" presetID="22" presetSubtype="8">
                                  <p:stCondLst>
                                    <p:cond delay="0"/>
                                  </p:stCondLst>
                                  <p:childTnLst>
                                    <p:set>
                                      <p:cBhvr>
                                        <p:cTn id="777" dur="1" fill="hold">
                                          <p:stCondLst>
                                            <p:cond delay="0"/>
                                          </p:stCondLst>
                                        </p:cTn>
                                        <p:tgtEl>
                                          <p:spTgt spid="1264"/>
                                        </p:tgtEl>
                                        <p:attrNameLst>
                                          <p:attrName>style.visibility</p:attrName>
                                        </p:attrNameLst>
                                      </p:cBhvr>
                                      <p:to>
                                        <p:strVal val="visible"/>
                                      </p:to>
                                    </p:set>
                                    <p:animEffect filter="wipe(left)" transition="in">
                                      <p:cBhvr additive="repl">
                                        <p:cTn id="778" dur="500"/>
                                        <p:tgtEl>
                                          <p:spTgt spid="1264"/>
                                        </p:tgtEl>
                                      </p:cBhvr>
                                    </p:animEffect>
                                  </p:childTnLst>
                                </p:cTn>
                              </p:par>
                            </p:childTnLst>
                          </p:cTn>
                        </p:par>
                        <p:par>
                          <p:cTn id="779" fill="hold">
                            <p:stCondLst>
                              <p:cond delay="10000"/>
                            </p:stCondLst>
                            <p:childTnLst>
                              <p:par>
                                <p:cTn id="780" nodeType="afterEffect" fill="hold" presetClass="entr" presetID="10">
                                  <p:stCondLst>
                                    <p:cond delay="0"/>
                                  </p:stCondLst>
                                  <p:childTnLst>
                                    <p:set>
                                      <p:cBhvr>
                                        <p:cTn id="781" dur="1" fill="hold">
                                          <p:stCondLst>
                                            <p:cond delay="0"/>
                                          </p:stCondLst>
                                        </p:cTn>
                                        <p:tgtEl>
                                          <p:spTgt spid="1189">
                                            <p:txEl>
                                              <p:pRg st="0" end="0"/>
                                            </p:txEl>
                                          </p:spTgt>
                                        </p:tgtEl>
                                        <p:attrNameLst>
                                          <p:attrName>style.visibility</p:attrName>
                                        </p:attrNameLst>
                                      </p:cBhvr>
                                      <p:to>
                                        <p:strVal val="visible"/>
                                      </p:to>
                                    </p:set>
                                    <p:animEffect filter="fade" transition="in">
                                      <p:cBhvr additive="repl">
                                        <p:cTn id="782" dur="500"/>
                                        <p:tgtEl>
                                          <p:spTgt spid="1189">
                                            <p:txEl>
                                              <p:pRg st="0" end="0"/>
                                            </p:txEl>
                                          </p:spTgt>
                                        </p:tgtEl>
                                      </p:cBhvr>
                                    </p:animEffect>
                                  </p:childTnLst>
                                </p:cTn>
                              </p:par>
                            </p:childTnLst>
                          </p:cTn>
                        </p:par>
                        <p:par>
                          <p:cTn id="783" fill="hold">
                            <p:stCondLst>
                              <p:cond delay="10500"/>
                            </p:stCondLst>
                            <p:childTnLst>
                              <p:par>
                                <p:cTn id="784" nodeType="afterEffect" fill="hold" presetClass="entr" presetID="10">
                                  <p:stCondLst>
                                    <p:cond delay="0"/>
                                  </p:stCondLst>
                                  <p:childTnLst>
                                    <p:set>
                                      <p:cBhvr>
                                        <p:cTn id="785" dur="1" fill="hold">
                                          <p:stCondLst>
                                            <p:cond delay="0"/>
                                          </p:stCondLst>
                                        </p:cTn>
                                        <p:tgtEl>
                                          <p:spTgt spid="1287">
                                            <p:txEl>
                                              <p:pRg st="0" end="0"/>
                                            </p:txEl>
                                          </p:spTgt>
                                        </p:tgtEl>
                                        <p:attrNameLst>
                                          <p:attrName>style.visibility</p:attrName>
                                        </p:attrNameLst>
                                      </p:cBhvr>
                                      <p:to>
                                        <p:strVal val="visible"/>
                                      </p:to>
                                    </p:set>
                                    <p:animEffect filter="fade" transition="in">
                                      <p:cBhvr additive="repl">
                                        <p:cTn id="786" dur="500"/>
                                        <p:tgtEl>
                                          <p:spTgt spid="1287">
                                            <p:txEl>
                                              <p:pRg st="0" end="0"/>
                                            </p:txEl>
                                          </p:spTgt>
                                        </p:tgtEl>
                                      </p:cBhvr>
                                    </p:animEffect>
                                  </p:childTnLst>
                                </p:cTn>
                              </p:par>
                            </p:childTnLst>
                          </p:cTn>
                        </p:par>
                        <p:par>
                          <p:cTn id="787" fill="hold">
                            <p:stCondLst>
                              <p:cond delay="11000"/>
                            </p:stCondLst>
                            <p:childTnLst>
                              <p:par>
                                <p:cTn id="788" nodeType="afterEffect" fill="hold" presetClass="entr" presetID="10">
                                  <p:stCondLst>
                                    <p:cond delay="0"/>
                                  </p:stCondLst>
                                  <p:childTnLst>
                                    <p:set>
                                      <p:cBhvr>
                                        <p:cTn id="789" dur="1" fill="hold">
                                          <p:stCondLst>
                                            <p:cond delay="0"/>
                                          </p:stCondLst>
                                        </p:cTn>
                                        <p:tgtEl>
                                          <p:spTgt spid="1288">
                                            <p:txEl>
                                              <p:pRg st="0" end="0"/>
                                            </p:txEl>
                                          </p:spTgt>
                                        </p:tgtEl>
                                        <p:attrNameLst>
                                          <p:attrName>style.visibility</p:attrName>
                                        </p:attrNameLst>
                                      </p:cBhvr>
                                      <p:to>
                                        <p:strVal val="visible"/>
                                      </p:to>
                                    </p:set>
                                    <p:animEffect filter="fade" transition="in">
                                      <p:cBhvr additive="repl">
                                        <p:cTn id="790" dur="500"/>
                                        <p:tgtEl>
                                          <p:spTgt spid="1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AutoShape 1"/>
          <p:cNvSpPr/>
          <p:nvPr/>
        </p:nvSpPr>
        <p:spPr>
          <a:xfrm>
            <a:off x="2238480" y="2463840"/>
            <a:ext cx="374400" cy="368280"/>
          </a:xfrm>
          <a:custGeom>
            <a:avLst/>
            <a:gdLst/>
            <a:ahLst/>
            <a:rect l="l" t="t" r="r" b="b"/>
            <a:pathLst>
              <a:path w="21600" h="21600">
                <a:moveTo>
                  <a:pt x="16241" y="491"/>
                </a:moveTo>
                <a:cubicBezTo>
                  <a:pt x="16241" y="164"/>
                  <a:pt x="16078" y="0"/>
                  <a:pt x="15753" y="0"/>
                </a:cubicBezTo>
                <a:cubicBezTo>
                  <a:pt x="5847" y="0"/>
                  <a:pt x="5847" y="0"/>
                  <a:pt x="5847" y="0"/>
                </a:cubicBezTo>
                <a:cubicBezTo>
                  <a:pt x="5522" y="0"/>
                  <a:pt x="5359" y="164"/>
                  <a:pt x="5359" y="491"/>
                </a:cubicBezTo>
                <a:cubicBezTo>
                  <a:pt x="5359" y="5400"/>
                  <a:pt x="5359" y="5400"/>
                  <a:pt x="5359" y="5400"/>
                </a:cubicBezTo>
                <a:cubicBezTo>
                  <a:pt x="16241" y="5400"/>
                  <a:pt x="16241" y="5400"/>
                  <a:pt x="16241" y="5400"/>
                </a:cubicBezTo>
                <a:lnTo>
                  <a:pt x="16241" y="491"/>
                </a:lnTo>
                <a:close/>
                <a:moveTo>
                  <a:pt x="16403" y="16691"/>
                </a:moveTo>
                <a:cubicBezTo>
                  <a:pt x="16241" y="16527"/>
                  <a:pt x="16078" y="16364"/>
                  <a:pt x="15916" y="16364"/>
                </a:cubicBezTo>
                <a:cubicBezTo>
                  <a:pt x="5684" y="16364"/>
                  <a:pt x="5684" y="16364"/>
                  <a:pt x="5684" y="16364"/>
                </a:cubicBezTo>
                <a:cubicBezTo>
                  <a:pt x="5522" y="16364"/>
                  <a:pt x="5359" y="16527"/>
                  <a:pt x="5197" y="16691"/>
                </a:cubicBezTo>
                <a:cubicBezTo>
                  <a:pt x="3573" y="21109"/>
                  <a:pt x="3573" y="21109"/>
                  <a:pt x="3573" y="21109"/>
                </a:cubicBezTo>
                <a:cubicBezTo>
                  <a:pt x="3573" y="21273"/>
                  <a:pt x="3573" y="21273"/>
                  <a:pt x="3735" y="21436"/>
                </a:cubicBezTo>
                <a:cubicBezTo>
                  <a:pt x="3735" y="21600"/>
                  <a:pt x="3898" y="21600"/>
                  <a:pt x="4060" y="21600"/>
                </a:cubicBezTo>
                <a:cubicBezTo>
                  <a:pt x="17540" y="21600"/>
                  <a:pt x="17540" y="21600"/>
                  <a:pt x="17540" y="21600"/>
                </a:cubicBezTo>
                <a:cubicBezTo>
                  <a:pt x="17702" y="21600"/>
                  <a:pt x="17865" y="21600"/>
                  <a:pt x="17865" y="21436"/>
                </a:cubicBezTo>
                <a:cubicBezTo>
                  <a:pt x="18027" y="21273"/>
                  <a:pt x="18027" y="21273"/>
                  <a:pt x="18027" y="21109"/>
                </a:cubicBezTo>
                <a:lnTo>
                  <a:pt x="16403" y="16691"/>
                </a:lnTo>
                <a:close/>
                <a:moveTo>
                  <a:pt x="4872" y="9164"/>
                </a:moveTo>
                <a:cubicBezTo>
                  <a:pt x="4872" y="10964"/>
                  <a:pt x="4872" y="10964"/>
                  <a:pt x="4872" y="10964"/>
                </a:cubicBezTo>
                <a:cubicBezTo>
                  <a:pt x="16565" y="10964"/>
                  <a:pt x="16565" y="10964"/>
                  <a:pt x="16565" y="10964"/>
                </a:cubicBezTo>
                <a:cubicBezTo>
                  <a:pt x="16565" y="9164"/>
                  <a:pt x="16565" y="9164"/>
                  <a:pt x="16565" y="9164"/>
                </a:cubicBezTo>
                <a:cubicBezTo>
                  <a:pt x="16565" y="9164"/>
                  <a:pt x="15266" y="6545"/>
                  <a:pt x="15266" y="6545"/>
                </a:cubicBezTo>
                <a:cubicBezTo>
                  <a:pt x="6334" y="6545"/>
                  <a:pt x="6334" y="6545"/>
                  <a:pt x="6334" y="6545"/>
                </a:cubicBezTo>
                <a:cubicBezTo>
                  <a:pt x="6334" y="6545"/>
                  <a:pt x="4872" y="9164"/>
                  <a:pt x="4872" y="9164"/>
                </a:cubicBezTo>
                <a:close/>
                <a:moveTo>
                  <a:pt x="10719" y="8345"/>
                </a:moveTo>
                <a:cubicBezTo>
                  <a:pt x="11693" y="8345"/>
                  <a:pt x="12505" y="8673"/>
                  <a:pt x="12505" y="9164"/>
                </a:cubicBezTo>
                <a:cubicBezTo>
                  <a:pt x="12505" y="9655"/>
                  <a:pt x="11693" y="10145"/>
                  <a:pt x="10719" y="10145"/>
                </a:cubicBezTo>
                <a:cubicBezTo>
                  <a:pt x="9907" y="10145"/>
                  <a:pt x="9095" y="9655"/>
                  <a:pt x="9095" y="9164"/>
                </a:cubicBezTo>
                <a:cubicBezTo>
                  <a:pt x="9095" y="8673"/>
                  <a:pt x="9907" y="8345"/>
                  <a:pt x="10719" y="8345"/>
                </a:cubicBezTo>
                <a:close/>
                <a:moveTo>
                  <a:pt x="19326" y="6545"/>
                </a:moveTo>
                <a:cubicBezTo>
                  <a:pt x="16403" y="6545"/>
                  <a:pt x="16403" y="6545"/>
                  <a:pt x="16403" y="6545"/>
                </a:cubicBezTo>
                <a:cubicBezTo>
                  <a:pt x="17540" y="8836"/>
                  <a:pt x="17540" y="8836"/>
                  <a:pt x="17540" y="8836"/>
                </a:cubicBezTo>
                <a:cubicBezTo>
                  <a:pt x="17540" y="8836"/>
                  <a:pt x="17540" y="8836"/>
                  <a:pt x="17540" y="8836"/>
                </a:cubicBezTo>
                <a:cubicBezTo>
                  <a:pt x="17702" y="8836"/>
                  <a:pt x="17702" y="8836"/>
                  <a:pt x="17702" y="9000"/>
                </a:cubicBezTo>
                <a:cubicBezTo>
                  <a:pt x="17702" y="9000"/>
                  <a:pt x="17702" y="11455"/>
                  <a:pt x="17702" y="11455"/>
                </a:cubicBezTo>
                <a:cubicBezTo>
                  <a:pt x="17702" y="11782"/>
                  <a:pt x="17540" y="11945"/>
                  <a:pt x="17215" y="11945"/>
                </a:cubicBezTo>
                <a:cubicBezTo>
                  <a:pt x="4385" y="11945"/>
                  <a:pt x="4385" y="11945"/>
                  <a:pt x="4385" y="11945"/>
                </a:cubicBezTo>
                <a:cubicBezTo>
                  <a:pt x="4060" y="11945"/>
                  <a:pt x="3898" y="11782"/>
                  <a:pt x="3898" y="11455"/>
                </a:cubicBezTo>
                <a:cubicBezTo>
                  <a:pt x="3898" y="11455"/>
                  <a:pt x="3898" y="9164"/>
                  <a:pt x="3898" y="9000"/>
                </a:cubicBezTo>
                <a:cubicBezTo>
                  <a:pt x="3898" y="8836"/>
                  <a:pt x="3898" y="8836"/>
                  <a:pt x="4060" y="8836"/>
                </a:cubicBezTo>
                <a:cubicBezTo>
                  <a:pt x="5197" y="6545"/>
                  <a:pt x="5197" y="6545"/>
                  <a:pt x="5197" y="6545"/>
                </a:cubicBezTo>
                <a:cubicBezTo>
                  <a:pt x="2274" y="6545"/>
                  <a:pt x="2274" y="6545"/>
                  <a:pt x="2274" y="6545"/>
                </a:cubicBezTo>
                <a:cubicBezTo>
                  <a:pt x="974" y="6545"/>
                  <a:pt x="0" y="7691"/>
                  <a:pt x="0" y="8836"/>
                </a:cubicBezTo>
                <a:cubicBezTo>
                  <a:pt x="0" y="16527"/>
                  <a:pt x="0" y="16527"/>
                  <a:pt x="0" y="16527"/>
                </a:cubicBezTo>
                <a:cubicBezTo>
                  <a:pt x="0" y="17836"/>
                  <a:pt x="974" y="18818"/>
                  <a:pt x="2274" y="18818"/>
                </a:cubicBezTo>
                <a:cubicBezTo>
                  <a:pt x="3086" y="18818"/>
                  <a:pt x="3086" y="18818"/>
                  <a:pt x="3086" y="18818"/>
                </a:cubicBezTo>
                <a:cubicBezTo>
                  <a:pt x="4060" y="16200"/>
                  <a:pt x="4060" y="16200"/>
                  <a:pt x="4060" y="16200"/>
                </a:cubicBezTo>
                <a:cubicBezTo>
                  <a:pt x="4223" y="15545"/>
                  <a:pt x="5035" y="15055"/>
                  <a:pt x="5684" y="15055"/>
                </a:cubicBezTo>
                <a:cubicBezTo>
                  <a:pt x="15916" y="15055"/>
                  <a:pt x="15916" y="15055"/>
                  <a:pt x="15916" y="15055"/>
                </a:cubicBezTo>
                <a:cubicBezTo>
                  <a:pt x="16565" y="15055"/>
                  <a:pt x="17377" y="15545"/>
                  <a:pt x="17540" y="16200"/>
                </a:cubicBezTo>
                <a:cubicBezTo>
                  <a:pt x="18514" y="18818"/>
                  <a:pt x="18514" y="18818"/>
                  <a:pt x="18514" y="18818"/>
                </a:cubicBezTo>
                <a:cubicBezTo>
                  <a:pt x="19326" y="18818"/>
                  <a:pt x="19326" y="18818"/>
                  <a:pt x="19326" y="18818"/>
                </a:cubicBezTo>
                <a:cubicBezTo>
                  <a:pt x="20626" y="18818"/>
                  <a:pt x="21600" y="17836"/>
                  <a:pt x="21600" y="16527"/>
                </a:cubicBezTo>
                <a:cubicBezTo>
                  <a:pt x="21600" y="8836"/>
                  <a:pt x="21600" y="8836"/>
                  <a:pt x="21600" y="8836"/>
                </a:cubicBezTo>
                <a:cubicBezTo>
                  <a:pt x="21600" y="7691"/>
                  <a:pt x="20626" y="6545"/>
                  <a:pt x="19326" y="6545"/>
                </a:cubicBezTo>
                <a:close/>
                <a:moveTo>
                  <a:pt x="19326" y="6545"/>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91" name="AutoShape 5"/>
          <p:cNvSpPr/>
          <p:nvPr/>
        </p:nvSpPr>
        <p:spPr>
          <a:xfrm>
            <a:off x="4680000" y="2455920"/>
            <a:ext cx="374760" cy="393480"/>
          </a:xfrm>
          <a:custGeom>
            <a:avLst/>
            <a:gdLst/>
            <a:ahLst/>
            <a:rect l="l" t="t" r="r" b="b"/>
            <a:pathLst>
              <a:path w="21338" h="21600">
                <a:moveTo>
                  <a:pt x="11727" y="7308"/>
                </a:moveTo>
                <a:cubicBezTo>
                  <a:pt x="9718" y="6659"/>
                  <a:pt x="7709" y="7795"/>
                  <a:pt x="7039" y="9744"/>
                </a:cubicBezTo>
                <a:cubicBezTo>
                  <a:pt x="6537" y="11693"/>
                  <a:pt x="7541" y="13642"/>
                  <a:pt x="9551" y="14292"/>
                </a:cubicBezTo>
                <a:cubicBezTo>
                  <a:pt x="11560" y="14941"/>
                  <a:pt x="13569" y="13805"/>
                  <a:pt x="14239" y="11856"/>
                </a:cubicBezTo>
                <a:cubicBezTo>
                  <a:pt x="14909" y="9907"/>
                  <a:pt x="13737" y="7958"/>
                  <a:pt x="11727" y="7308"/>
                </a:cubicBezTo>
                <a:close/>
                <a:moveTo>
                  <a:pt x="12397" y="11368"/>
                </a:moveTo>
                <a:cubicBezTo>
                  <a:pt x="12062" y="12343"/>
                  <a:pt x="11058" y="12830"/>
                  <a:pt x="10053" y="12505"/>
                </a:cubicBezTo>
                <a:cubicBezTo>
                  <a:pt x="9048" y="12180"/>
                  <a:pt x="8546" y="11206"/>
                  <a:pt x="8881" y="10232"/>
                </a:cubicBezTo>
                <a:cubicBezTo>
                  <a:pt x="9216" y="9257"/>
                  <a:pt x="10220" y="8770"/>
                  <a:pt x="11225" y="9095"/>
                </a:cubicBezTo>
                <a:cubicBezTo>
                  <a:pt x="12230" y="9420"/>
                  <a:pt x="12732" y="10394"/>
                  <a:pt x="12397" y="11368"/>
                </a:cubicBezTo>
                <a:close/>
                <a:moveTo>
                  <a:pt x="20937" y="13155"/>
                </a:moveTo>
                <a:cubicBezTo>
                  <a:pt x="18760" y="12018"/>
                  <a:pt x="18760" y="12018"/>
                  <a:pt x="18760" y="12018"/>
                </a:cubicBezTo>
                <a:cubicBezTo>
                  <a:pt x="18760" y="9420"/>
                  <a:pt x="18760" y="9420"/>
                  <a:pt x="18760" y="9420"/>
                </a:cubicBezTo>
                <a:cubicBezTo>
                  <a:pt x="20769" y="8120"/>
                  <a:pt x="20769" y="8120"/>
                  <a:pt x="20769" y="8120"/>
                </a:cubicBezTo>
                <a:cubicBezTo>
                  <a:pt x="21272" y="7958"/>
                  <a:pt x="21439" y="7308"/>
                  <a:pt x="21104" y="6983"/>
                </a:cubicBezTo>
                <a:cubicBezTo>
                  <a:pt x="18927" y="3411"/>
                  <a:pt x="18927" y="3411"/>
                  <a:pt x="18927" y="3411"/>
                </a:cubicBezTo>
                <a:cubicBezTo>
                  <a:pt x="18592" y="3086"/>
                  <a:pt x="18090" y="2923"/>
                  <a:pt x="17755" y="3086"/>
                </a:cubicBezTo>
                <a:cubicBezTo>
                  <a:pt x="15746" y="4385"/>
                  <a:pt x="15746" y="4385"/>
                  <a:pt x="15746" y="4385"/>
                </a:cubicBezTo>
                <a:cubicBezTo>
                  <a:pt x="13569" y="3248"/>
                  <a:pt x="13569" y="3248"/>
                  <a:pt x="13569" y="3248"/>
                </a:cubicBezTo>
                <a:cubicBezTo>
                  <a:pt x="13569" y="812"/>
                  <a:pt x="13569" y="812"/>
                  <a:pt x="13569" y="812"/>
                </a:cubicBezTo>
                <a:cubicBezTo>
                  <a:pt x="13569" y="325"/>
                  <a:pt x="13234" y="0"/>
                  <a:pt x="12732" y="0"/>
                </a:cubicBezTo>
                <a:cubicBezTo>
                  <a:pt x="8546" y="0"/>
                  <a:pt x="8546" y="0"/>
                  <a:pt x="8546" y="0"/>
                </a:cubicBezTo>
                <a:cubicBezTo>
                  <a:pt x="8211" y="0"/>
                  <a:pt x="8044" y="162"/>
                  <a:pt x="7876" y="325"/>
                </a:cubicBezTo>
                <a:cubicBezTo>
                  <a:pt x="7709" y="487"/>
                  <a:pt x="7541" y="650"/>
                  <a:pt x="7541" y="974"/>
                </a:cubicBezTo>
                <a:cubicBezTo>
                  <a:pt x="7541" y="3248"/>
                  <a:pt x="7541" y="3248"/>
                  <a:pt x="7541" y="3248"/>
                </a:cubicBezTo>
                <a:cubicBezTo>
                  <a:pt x="5532" y="4385"/>
                  <a:pt x="5532" y="4385"/>
                  <a:pt x="5532" y="4385"/>
                </a:cubicBezTo>
                <a:cubicBezTo>
                  <a:pt x="3355" y="3248"/>
                  <a:pt x="3355" y="3248"/>
                  <a:pt x="3355" y="3248"/>
                </a:cubicBezTo>
                <a:cubicBezTo>
                  <a:pt x="3188" y="3248"/>
                  <a:pt x="3020" y="3248"/>
                  <a:pt x="2686" y="3248"/>
                </a:cubicBezTo>
                <a:cubicBezTo>
                  <a:pt x="2518" y="3248"/>
                  <a:pt x="2351" y="3411"/>
                  <a:pt x="2183" y="3735"/>
                </a:cubicBezTo>
                <a:cubicBezTo>
                  <a:pt x="6" y="7308"/>
                  <a:pt x="6" y="7308"/>
                  <a:pt x="6" y="7308"/>
                </a:cubicBezTo>
                <a:cubicBezTo>
                  <a:pt x="6" y="7471"/>
                  <a:pt x="6" y="7633"/>
                  <a:pt x="6" y="7958"/>
                </a:cubicBezTo>
                <a:cubicBezTo>
                  <a:pt x="6" y="8120"/>
                  <a:pt x="174" y="8283"/>
                  <a:pt x="509" y="8445"/>
                </a:cubicBezTo>
                <a:cubicBezTo>
                  <a:pt x="2518" y="9582"/>
                  <a:pt x="2518" y="9582"/>
                  <a:pt x="2518" y="9582"/>
                </a:cubicBezTo>
                <a:cubicBezTo>
                  <a:pt x="2518" y="12018"/>
                  <a:pt x="2518" y="12018"/>
                  <a:pt x="2518" y="12018"/>
                </a:cubicBezTo>
                <a:cubicBezTo>
                  <a:pt x="509" y="13155"/>
                  <a:pt x="509" y="13155"/>
                  <a:pt x="509" y="13155"/>
                </a:cubicBezTo>
                <a:cubicBezTo>
                  <a:pt x="6" y="13480"/>
                  <a:pt x="-161" y="13967"/>
                  <a:pt x="174" y="14454"/>
                </a:cubicBezTo>
                <a:cubicBezTo>
                  <a:pt x="2183" y="18027"/>
                  <a:pt x="2183" y="18027"/>
                  <a:pt x="2183" y="18027"/>
                </a:cubicBezTo>
                <a:cubicBezTo>
                  <a:pt x="2518" y="18514"/>
                  <a:pt x="3020" y="18514"/>
                  <a:pt x="3523" y="18352"/>
                </a:cubicBezTo>
                <a:cubicBezTo>
                  <a:pt x="5532" y="17215"/>
                  <a:pt x="5532" y="17215"/>
                  <a:pt x="5532" y="17215"/>
                </a:cubicBezTo>
                <a:cubicBezTo>
                  <a:pt x="7709" y="18352"/>
                  <a:pt x="7709" y="18352"/>
                  <a:pt x="7709" y="18352"/>
                </a:cubicBezTo>
                <a:cubicBezTo>
                  <a:pt x="7709" y="20788"/>
                  <a:pt x="7709" y="20788"/>
                  <a:pt x="7709" y="20788"/>
                </a:cubicBezTo>
                <a:cubicBezTo>
                  <a:pt x="7709" y="20950"/>
                  <a:pt x="7876" y="21275"/>
                  <a:pt x="8044" y="21438"/>
                </a:cubicBezTo>
                <a:cubicBezTo>
                  <a:pt x="8211" y="21600"/>
                  <a:pt x="8379" y="21600"/>
                  <a:pt x="8713" y="21600"/>
                </a:cubicBezTo>
                <a:cubicBezTo>
                  <a:pt x="12899" y="21600"/>
                  <a:pt x="12899" y="21600"/>
                  <a:pt x="12899" y="21600"/>
                </a:cubicBezTo>
                <a:cubicBezTo>
                  <a:pt x="13402" y="21600"/>
                  <a:pt x="13737" y="21113"/>
                  <a:pt x="13737" y="20626"/>
                </a:cubicBezTo>
                <a:cubicBezTo>
                  <a:pt x="13737" y="18352"/>
                  <a:pt x="13737" y="18352"/>
                  <a:pt x="13737" y="18352"/>
                </a:cubicBezTo>
                <a:cubicBezTo>
                  <a:pt x="15913" y="17053"/>
                  <a:pt x="15913" y="17053"/>
                  <a:pt x="15913" y="17053"/>
                </a:cubicBezTo>
                <a:cubicBezTo>
                  <a:pt x="17923" y="18189"/>
                  <a:pt x="17923" y="18189"/>
                  <a:pt x="17923" y="18189"/>
                </a:cubicBezTo>
                <a:cubicBezTo>
                  <a:pt x="18090" y="18352"/>
                  <a:pt x="18425" y="18352"/>
                  <a:pt x="18592" y="18352"/>
                </a:cubicBezTo>
                <a:cubicBezTo>
                  <a:pt x="18927" y="18189"/>
                  <a:pt x="19095" y="18027"/>
                  <a:pt x="19262" y="17865"/>
                </a:cubicBezTo>
                <a:cubicBezTo>
                  <a:pt x="21272" y="14292"/>
                  <a:pt x="21272" y="14292"/>
                  <a:pt x="21272" y="14292"/>
                </a:cubicBezTo>
                <a:cubicBezTo>
                  <a:pt x="21439" y="13805"/>
                  <a:pt x="21272" y="13317"/>
                  <a:pt x="20937" y="13155"/>
                </a:cubicBezTo>
                <a:close/>
                <a:moveTo>
                  <a:pt x="15579" y="12343"/>
                </a:moveTo>
                <a:cubicBezTo>
                  <a:pt x="14741" y="14941"/>
                  <a:pt x="11895" y="16403"/>
                  <a:pt x="9048" y="15591"/>
                </a:cubicBezTo>
                <a:cubicBezTo>
                  <a:pt x="6369" y="14779"/>
                  <a:pt x="4862" y="12018"/>
                  <a:pt x="5699" y="9257"/>
                </a:cubicBezTo>
                <a:cubicBezTo>
                  <a:pt x="6537" y="6659"/>
                  <a:pt x="9551" y="5197"/>
                  <a:pt x="12230" y="6009"/>
                </a:cubicBezTo>
                <a:cubicBezTo>
                  <a:pt x="14909" y="6821"/>
                  <a:pt x="16416" y="9582"/>
                  <a:pt x="15579" y="12343"/>
                </a:cubicBezTo>
                <a:close/>
                <a:moveTo>
                  <a:pt x="15579" y="12343"/>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92" name="AutoShape 8"/>
          <p:cNvSpPr/>
          <p:nvPr/>
        </p:nvSpPr>
        <p:spPr>
          <a:xfrm>
            <a:off x="7134120" y="2462040"/>
            <a:ext cx="336600" cy="298800"/>
          </a:xfrm>
          <a:custGeom>
            <a:avLst/>
            <a:gdLst/>
            <a:ahLst/>
            <a:rect l="l" t="t" r="r" b="b"/>
            <a:pathLst>
              <a:path w="21600" h="21600">
                <a:moveTo>
                  <a:pt x="8071" y="8035"/>
                </a:moveTo>
                <a:lnTo>
                  <a:pt x="11327" y="9235"/>
                </a:lnTo>
                <a:lnTo>
                  <a:pt x="14583" y="4904"/>
                </a:lnTo>
                <a:lnTo>
                  <a:pt x="15088" y="4330"/>
                </a:lnTo>
                <a:lnTo>
                  <a:pt x="17289" y="6157"/>
                </a:lnTo>
                <a:lnTo>
                  <a:pt x="17289" y="3078"/>
                </a:lnTo>
                <a:lnTo>
                  <a:pt x="17289" y="0"/>
                </a:lnTo>
                <a:lnTo>
                  <a:pt x="14583" y="626"/>
                </a:lnTo>
                <a:lnTo>
                  <a:pt x="11878" y="1200"/>
                </a:lnTo>
                <a:lnTo>
                  <a:pt x="14033" y="3704"/>
                </a:lnTo>
                <a:lnTo>
                  <a:pt x="10777" y="7409"/>
                </a:lnTo>
                <a:lnTo>
                  <a:pt x="7567" y="6157"/>
                </a:lnTo>
                <a:lnTo>
                  <a:pt x="5411" y="10487"/>
                </a:lnTo>
                <a:lnTo>
                  <a:pt x="2155" y="9235"/>
                </a:lnTo>
                <a:lnTo>
                  <a:pt x="550" y="14817"/>
                </a:lnTo>
                <a:lnTo>
                  <a:pt x="0" y="16017"/>
                </a:lnTo>
                <a:lnTo>
                  <a:pt x="1055" y="16643"/>
                </a:lnTo>
                <a:lnTo>
                  <a:pt x="2706" y="11113"/>
                </a:lnTo>
                <a:lnTo>
                  <a:pt x="5916" y="12313"/>
                </a:lnTo>
                <a:lnTo>
                  <a:pt x="8071" y="8035"/>
                </a:lnTo>
                <a:close/>
                <a:moveTo>
                  <a:pt x="6466" y="21600"/>
                </a:moveTo>
                <a:lnTo>
                  <a:pt x="6466" y="16643"/>
                </a:lnTo>
                <a:lnTo>
                  <a:pt x="3761" y="16643"/>
                </a:lnTo>
                <a:lnTo>
                  <a:pt x="3761" y="21600"/>
                </a:lnTo>
                <a:lnTo>
                  <a:pt x="6466" y="21600"/>
                </a:lnTo>
                <a:close/>
                <a:moveTo>
                  <a:pt x="10227" y="21600"/>
                </a:moveTo>
                <a:lnTo>
                  <a:pt x="7567" y="21600"/>
                </a:lnTo>
                <a:lnTo>
                  <a:pt x="7567" y="14817"/>
                </a:lnTo>
                <a:lnTo>
                  <a:pt x="10227" y="14817"/>
                </a:lnTo>
                <a:lnTo>
                  <a:pt x="10227" y="21600"/>
                </a:lnTo>
                <a:close/>
                <a:moveTo>
                  <a:pt x="14033" y="21600"/>
                </a:moveTo>
                <a:lnTo>
                  <a:pt x="11327" y="21600"/>
                </a:lnTo>
                <a:lnTo>
                  <a:pt x="11327" y="12313"/>
                </a:lnTo>
                <a:lnTo>
                  <a:pt x="14033" y="12313"/>
                </a:lnTo>
                <a:lnTo>
                  <a:pt x="14033" y="21600"/>
                </a:lnTo>
                <a:close/>
                <a:moveTo>
                  <a:pt x="17794" y="21600"/>
                </a:moveTo>
                <a:lnTo>
                  <a:pt x="15088" y="21600"/>
                </a:lnTo>
                <a:lnTo>
                  <a:pt x="15088" y="9861"/>
                </a:lnTo>
                <a:lnTo>
                  <a:pt x="17794" y="9861"/>
                </a:lnTo>
                <a:lnTo>
                  <a:pt x="17794" y="21600"/>
                </a:lnTo>
                <a:close/>
                <a:moveTo>
                  <a:pt x="18894" y="6783"/>
                </a:moveTo>
                <a:lnTo>
                  <a:pt x="18894" y="21600"/>
                </a:lnTo>
                <a:lnTo>
                  <a:pt x="21600" y="21600"/>
                </a:lnTo>
                <a:lnTo>
                  <a:pt x="21600" y="6783"/>
                </a:lnTo>
                <a:lnTo>
                  <a:pt x="18894" y="6783"/>
                </a:lnTo>
                <a:close/>
                <a:moveTo>
                  <a:pt x="18894" y="6783"/>
                </a:moveTo>
              </a:path>
            </a:pathLst>
          </a:custGeom>
          <a:solidFill>
            <a:srgbClr val="00a09c"/>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pic>
        <p:nvPicPr>
          <p:cNvPr id="1293" name="Group 15" descr=""/>
          <p:cNvPicPr/>
          <p:nvPr/>
        </p:nvPicPr>
        <p:blipFill>
          <a:blip r:embed="rId1"/>
          <a:stretch/>
        </p:blipFill>
        <p:spPr>
          <a:xfrm>
            <a:off x="9564840" y="2457360"/>
            <a:ext cx="353880" cy="309600"/>
          </a:xfrm>
          <a:prstGeom prst="rect">
            <a:avLst/>
          </a:prstGeom>
          <a:ln w="0">
            <a:noFill/>
          </a:ln>
        </p:spPr>
      </p:pic>
      <p:sp>
        <p:nvSpPr>
          <p:cNvPr id="1294" name="Rectangle 18"/>
          <p:cNvSpPr/>
          <p:nvPr/>
        </p:nvSpPr>
        <p:spPr>
          <a:xfrm flipH="1" rot="10800000">
            <a:off x="-1080" y="3423960"/>
            <a:ext cx="12192120" cy="2152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1295" name="Group 31"/>
          <p:cNvGrpSpPr/>
          <p:nvPr/>
        </p:nvGrpSpPr>
        <p:grpSpPr>
          <a:xfrm>
            <a:off x="2581200" y="4035600"/>
            <a:ext cx="88920" cy="225000"/>
            <a:chOff x="2581200" y="4035600"/>
            <a:chExt cx="88920" cy="225000"/>
          </a:xfrm>
        </p:grpSpPr>
        <p:sp>
          <p:nvSpPr>
            <p:cNvPr id="1296" name="Freeform 29"/>
            <p:cNvSpPr/>
            <p:nvPr/>
          </p:nvSpPr>
          <p:spPr>
            <a:xfrm>
              <a:off x="2581200" y="4073760"/>
              <a:ext cx="88920" cy="18684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297" name="Oval 30"/>
            <p:cNvSpPr/>
            <p:nvPr/>
          </p:nvSpPr>
          <p:spPr>
            <a:xfrm>
              <a:off x="2608200" y="403560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298" name="Group 37"/>
          <p:cNvGrpSpPr/>
          <p:nvPr/>
        </p:nvGrpSpPr>
        <p:grpSpPr>
          <a:xfrm>
            <a:off x="2581200" y="4986360"/>
            <a:ext cx="88920" cy="223920"/>
            <a:chOff x="2581200" y="4986360"/>
            <a:chExt cx="88920" cy="223920"/>
          </a:xfrm>
        </p:grpSpPr>
        <p:sp>
          <p:nvSpPr>
            <p:cNvPr id="1299" name="Freeform 35"/>
            <p:cNvSpPr/>
            <p:nvPr/>
          </p:nvSpPr>
          <p:spPr>
            <a:xfrm>
              <a:off x="2581200" y="5024520"/>
              <a:ext cx="88920" cy="18576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00" name="Oval 36"/>
            <p:cNvSpPr/>
            <p:nvPr/>
          </p:nvSpPr>
          <p:spPr>
            <a:xfrm>
              <a:off x="2608200" y="498636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01" name="Group 44"/>
          <p:cNvGrpSpPr/>
          <p:nvPr/>
        </p:nvGrpSpPr>
        <p:grpSpPr>
          <a:xfrm>
            <a:off x="5014800" y="4035600"/>
            <a:ext cx="88920" cy="225000"/>
            <a:chOff x="5014800" y="4035600"/>
            <a:chExt cx="88920" cy="225000"/>
          </a:xfrm>
        </p:grpSpPr>
        <p:sp>
          <p:nvSpPr>
            <p:cNvPr id="1302" name="Freeform 42"/>
            <p:cNvSpPr/>
            <p:nvPr/>
          </p:nvSpPr>
          <p:spPr>
            <a:xfrm>
              <a:off x="5014800" y="4073760"/>
              <a:ext cx="88920" cy="18684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03" name="Oval 43"/>
            <p:cNvSpPr/>
            <p:nvPr/>
          </p:nvSpPr>
          <p:spPr>
            <a:xfrm>
              <a:off x="5041800" y="403560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04" name="Group 50"/>
          <p:cNvGrpSpPr/>
          <p:nvPr/>
        </p:nvGrpSpPr>
        <p:grpSpPr>
          <a:xfrm>
            <a:off x="5014800" y="4986360"/>
            <a:ext cx="88920" cy="223920"/>
            <a:chOff x="5014800" y="4986360"/>
            <a:chExt cx="88920" cy="223920"/>
          </a:xfrm>
        </p:grpSpPr>
        <p:sp>
          <p:nvSpPr>
            <p:cNvPr id="1305" name="Freeform 48"/>
            <p:cNvSpPr/>
            <p:nvPr/>
          </p:nvSpPr>
          <p:spPr>
            <a:xfrm>
              <a:off x="5014800" y="5024520"/>
              <a:ext cx="88920" cy="18576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06" name="Oval 49"/>
            <p:cNvSpPr/>
            <p:nvPr/>
          </p:nvSpPr>
          <p:spPr>
            <a:xfrm>
              <a:off x="5041800" y="498636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07" name="Group 57"/>
          <p:cNvGrpSpPr/>
          <p:nvPr/>
        </p:nvGrpSpPr>
        <p:grpSpPr>
          <a:xfrm>
            <a:off x="7423200" y="4035600"/>
            <a:ext cx="88920" cy="225000"/>
            <a:chOff x="7423200" y="4035600"/>
            <a:chExt cx="88920" cy="225000"/>
          </a:xfrm>
        </p:grpSpPr>
        <p:sp>
          <p:nvSpPr>
            <p:cNvPr id="1308" name="Freeform 55"/>
            <p:cNvSpPr/>
            <p:nvPr/>
          </p:nvSpPr>
          <p:spPr>
            <a:xfrm>
              <a:off x="7423200" y="4073760"/>
              <a:ext cx="88920" cy="18684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09" name="Oval 56"/>
            <p:cNvSpPr/>
            <p:nvPr/>
          </p:nvSpPr>
          <p:spPr>
            <a:xfrm>
              <a:off x="7450200" y="403560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10" name="Group 63"/>
          <p:cNvGrpSpPr/>
          <p:nvPr/>
        </p:nvGrpSpPr>
        <p:grpSpPr>
          <a:xfrm>
            <a:off x="7423200" y="4986360"/>
            <a:ext cx="88920" cy="223920"/>
            <a:chOff x="7423200" y="4986360"/>
            <a:chExt cx="88920" cy="223920"/>
          </a:xfrm>
        </p:grpSpPr>
        <p:sp>
          <p:nvSpPr>
            <p:cNvPr id="1311" name="Freeform 61"/>
            <p:cNvSpPr/>
            <p:nvPr/>
          </p:nvSpPr>
          <p:spPr>
            <a:xfrm>
              <a:off x="7423200" y="5024520"/>
              <a:ext cx="88920" cy="18576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12" name="Oval 62"/>
            <p:cNvSpPr/>
            <p:nvPr/>
          </p:nvSpPr>
          <p:spPr>
            <a:xfrm>
              <a:off x="7450200" y="498636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13" name="Group 70"/>
          <p:cNvGrpSpPr/>
          <p:nvPr/>
        </p:nvGrpSpPr>
        <p:grpSpPr>
          <a:xfrm>
            <a:off x="9906120" y="4035600"/>
            <a:ext cx="88920" cy="225000"/>
            <a:chOff x="9906120" y="4035600"/>
            <a:chExt cx="88920" cy="225000"/>
          </a:xfrm>
        </p:grpSpPr>
        <p:sp>
          <p:nvSpPr>
            <p:cNvPr id="1314" name="Freeform 68"/>
            <p:cNvSpPr/>
            <p:nvPr/>
          </p:nvSpPr>
          <p:spPr>
            <a:xfrm>
              <a:off x="9906120" y="4073760"/>
              <a:ext cx="88920" cy="18684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15" name="Oval 69"/>
            <p:cNvSpPr/>
            <p:nvPr/>
          </p:nvSpPr>
          <p:spPr>
            <a:xfrm>
              <a:off x="9933120" y="403560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1316" name="Group 76"/>
          <p:cNvGrpSpPr/>
          <p:nvPr/>
        </p:nvGrpSpPr>
        <p:grpSpPr>
          <a:xfrm>
            <a:off x="9906120" y="4986360"/>
            <a:ext cx="88920" cy="223920"/>
            <a:chOff x="9906120" y="4986360"/>
            <a:chExt cx="88920" cy="223920"/>
          </a:xfrm>
        </p:grpSpPr>
        <p:sp>
          <p:nvSpPr>
            <p:cNvPr id="1317" name="Freeform 74"/>
            <p:cNvSpPr/>
            <p:nvPr/>
          </p:nvSpPr>
          <p:spPr>
            <a:xfrm>
              <a:off x="9906120" y="5024520"/>
              <a:ext cx="88920" cy="185760"/>
            </a:xfrm>
            <a:custGeom>
              <a:avLst/>
              <a:gdLst/>
              <a:ahLst/>
              <a:rect l="l" t="t" r="r" b="b"/>
              <a:pathLst>
                <a:path w="21600" h="21600">
                  <a:moveTo>
                    <a:pt x="16338" y="0"/>
                  </a:moveTo>
                  <a:cubicBezTo>
                    <a:pt x="5538" y="0"/>
                    <a:pt x="5538" y="0"/>
                    <a:pt x="5538" y="0"/>
                  </a:cubicBezTo>
                  <a:cubicBezTo>
                    <a:pt x="1662" y="0"/>
                    <a:pt x="0" y="1580"/>
                    <a:pt x="0" y="2107"/>
                  </a:cubicBezTo>
                  <a:cubicBezTo>
                    <a:pt x="0" y="9746"/>
                    <a:pt x="0" y="9746"/>
                    <a:pt x="0" y="9746"/>
                  </a:cubicBezTo>
                  <a:cubicBezTo>
                    <a:pt x="0" y="10141"/>
                    <a:pt x="831" y="10537"/>
                    <a:pt x="1938" y="10537"/>
                  </a:cubicBezTo>
                  <a:cubicBezTo>
                    <a:pt x="3046" y="10537"/>
                    <a:pt x="3600" y="10141"/>
                    <a:pt x="3600" y="9746"/>
                  </a:cubicBezTo>
                  <a:cubicBezTo>
                    <a:pt x="3600" y="3424"/>
                    <a:pt x="3600" y="3424"/>
                    <a:pt x="3600" y="3424"/>
                  </a:cubicBezTo>
                  <a:cubicBezTo>
                    <a:pt x="5262" y="3424"/>
                    <a:pt x="5262" y="3424"/>
                    <a:pt x="5262" y="3424"/>
                  </a:cubicBezTo>
                  <a:cubicBezTo>
                    <a:pt x="5262" y="9483"/>
                    <a:pt x="5262" y="9483"/>
                    <a:pt x="5262" y="9483"/>
                  </a:cubicBezTo>
                  <a:cubicBezTo>
                    <a:pt x="5262" y="9483"/>
                    <a:pt x="5262" y="9615"/>
                    <a:pt x="5262" y="9746"/>
                  </a:cubicBezTo>
                  <a:cubicBezTo>
                    <a:pt x="5262" y="20283"/>
                    <a:pt x="5262" y="20283"/>
                    <a:pt x="5262" y="20283"/>
                  </a:cubicBezTo>
                  <a:cubicBezTo>
                    <a:pt x="5262" y="21073"/>
                    <a:pt x="6369" y="21600"/>
                    <a:pt x="7754" y="21600"/>
                  </a:cubicBezTo>
                  <a:cubicBezTo>
                    <a:pt x="9138" y="21600"/>
                    <a:pt x="10246" y="21073"/>
                    <a:pt x="10246" y="20283"/>
                  </a:cubicBezTo>
                  <a:cubicBezTo>
                    <a:pt x="10246" y="10932"/>
                    <a:pt x="10246" y="10932"/>
                    <a:pt x="10246" y="10932"/>
                  </a:cubicBezTo>
                  <a:cubicBezTo>
                    <a:pt x="11354" y="10932"/>
                    <a:pt x="11354" y="10932"/>
                    <a:pt x="11354" y="10932"/>
                  </a:cubicBezTo>
                  <a:cubicBezTo>
                    <a:pt x="11354" y="20283"/>
                    <a:pt x="11354" y="20283"/>
                    <a:pt x="11354" y="20283"/>
                  </a:cubicBezTo>
                  <a:cubicBezTo>
                    <a:pt x="11354" y="21073"/>
                    <a:pt x="12462" y="21600"/>
                    <a:pt x="13846" y="21600"/>
                  </a:cubicBezTo>
                  <a:cubicBezTo>
                    <a:pt x="15231" y="21600"/>
                    <a:pt x="16338" y="21073"/>
                    <a:pt x="16338" y="20283"/>
                  </a:cubicBezTo>
                  <a:cubicBezTo>
                    <a:pt x="16338" y="3424"/>
                    <a:pt x="16338" y="3424"/>
                    <a:pt x="16338" y="3424"/>
                  </a:cubicBezTo>
                  <a:cubicBezTo>
                    <a:pt x="17723" y="3424"/>
                    <a:pt x="17723" y="3424"/>
                    <a:pt x="17723" y="3424"/>
                  </a:cubicBezTo>
                  <a:cubicBezTo>
                    <a:pt x="17723" y="9746"/>
                    <a:pt x="17723" y="9746"/>
                    <a:pt x="17723" y="9746"/>
                  </a:cubicBezTo>
                  <a:cubicBezTo>
                    <a:pt x="17723" y="10141"/>
                    <a:pt x="18554" y="10537"/>
                    <a:pt x="19662" y="10537"/>
                  </a:cubicBezTo>
                  <a:cubicBezTo>
                    <a:pt x="20769" y="10537"/>
                    <a:pt x="21600" y="10141"/>
                    <a:pt x="21600" y="9746"/>
                  </a:cubicBezTo>
                  <a:cubicBezTo>
                    <a:pt x="21600" y="1976"/>
                    <a:pt x="21600" y="1976"/>
                    <a:pt x="21600" y="1976"/>
                  </a:cubicBezTo>
                  <a:cubicBezTo>
                    <a:pt x="21600" y="1317"/>
                    <a:pt x="19938" y="0"/>
                    <a:pt x="16338" y="0"/>
                  </a:cubicBez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318" name="Oval 75"/>
            <p:cNvSpPr/>
            <p:nvPr/>
          </p:nvSpPr>
          <p:spPr>
            <a:xfrm>
              <a:off x="9933120" y="4986360"/>
              <a:ext cx="35640" cy="34920"/>
            </a:xfrm>
            <a:prstGeom prst="ellipse">
              <a:avLst/>
            </a:prstGeom>
            <a:solidFill>
              <a:srgbClr val="ffffff"/>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1319" name="PlaceHolder 1"/>
          <p:cNvSpPr>
            <a:spLocks noGrp="1"/>
          </p:cNvSpPr>
          <p:nvPr>
            <p:ph/>
          </p:nvPr>
        </p:nvSpPr>
        <p:spPr>
          <a:xfrm>
            <a:off x="2053800" y="3978000"/>
            <a:ext cx="466920" cy="36828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10</a:t>
            </a:r>
            <a:endParaRPr b="0" lang="en-US" sz="2600" spc="-1" strike="noStrike">
              <a:solidFill>
                <a:srgbClr val="494949"/>
              </a:solidFill>
              <a:latin typeface="Open Sans Light"/>
            </a:endParaRPr>
          </a:p>
        </p:txBody>
      </p:sp>
      <p:sp>
        <p:nvSpPr>
          <p:cNvPr id="1320" name="PlaceHolder 2"/>
          <p:cNvSpPr>
            <a:spLocks noGrp="1"/>
          </p:cNvSpPr>
          <p:nvPr>
            <p:ph/>
          </p:nvPr>
        </p:nvSpPr>
        <p:spPr>
          <a:xfrm>
            <a:off x="2053800" y="4920840"/>
            <a:ext cx="466920" cy="36684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34</a:t>
            </a:r>
            <a:endParaRPr b="0" lang="en-US" sz="2600" spc="-1" strike="noStrike">
              <a:solidFill>
                <a:srgbClr val="494949"/>
              </a:solidFill>
              <a:latin typeface="Open Sans Light"/>
            </a:endParaRPr>
          </a:p>
        </p:txBody>
      </p:sp>
      <p:sp>
        <p:nvSpPr>
          <p:cNvPr id="1321" name="PlaceHolder 3"/>
          <p:cNvSpPr>
            <a:spLocks noGrp="1"/>
          </p:cNvSpPr>
          <p:nvPr>
            <p:ph/>
          </p:nvPr>
        </p:nvSpPr>
        <p:spPr>
          <a:xfrm>
            <a:off x="4494240" y="3978000"/>
            <a:ext cx="466560" cy="36828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24</a:t>
            </a:r>
            <a:endParaRPr b="0" lang="en-US" sz="2600" spc="-1" strike="noStrike">
              <a:solidFill>
                <a:srgbClr val="494949"/>
              </a:solidFill>
              <a:latin typeface="Open Sans Light"/>
            </a:endParaRPr>
          </a:p>
        </p:txBody>
      </p:sp>
      <p:sp>
        <p:nvSpPr>
          <p:cNvPr id="1322" name="PlaceHolder 4"/>
          <p:cNvSpPr>
            <a:spLocks noGrp="1"/>
          </p:cNvSpPr>
          <p:nvPr>
            <p:ph/>
          </p:nvPr>
        </p:nvSpPr>
        <p:spPr>
          <a:xfrm>
            <a:off x="4494240" y="4920840"/>
            <a:ext cx="466560" cy="36684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54</a:t>
            </a:r>
            <a:endParaRPr b="0" lang="en-US" sz="2600" spc="-1" strike="noStrike">
              <a:solidFill>
                <a:srgbClr val="494949"/>
              </a:solidFill>
              <a:latin typeface="Open Sans Light"/>
            </a:endParaRPr>
          </a:p>
        </p:txBody>
      </p:sp>
      <p:sp>
        <p:nvSpPr>
          <p:cNvPr id="1323" name="PlaceHolder 5"/>
          <p:cNvSpPr>
            <a:spLocks noGrp="1"/>
          </p:cNvSpPr>
          <p:nvPr>
            <p:ph/>
          </p:nvPr>
        </p:nvSpPr>
        <p:spPr>
          <a:xfrm>
            <a:off x="6886080" y="3978000"/>
            <a:ext cx="466920" cy="36828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13</a:t>
            </a:r>
            <a:endParaRPr b="0" lang="en-US" sz="2600" spc="-1" strike="noStrike">
              <a:solidFill>
                <a:srgbClr val="494949"/>
              </a:solidFill>
              <a:latin typeface="Open Sans Light"/>
            </a:endParaRPr>
          </a:p>
        </p:txBody>
      </p:sp>
      <p:sp>
        <p:nvSpPr>
          <p:cNvPr id="1324" name="PlaceHolder 6"/>
          <p:cNvSpPr>
            <a:spLocks noGrp="1"/>
          </p:cNvSpPr>
          <p:nvPr>
            <p:ph/>
          </p:nvPr>
        </p:nvSpPr>
        <p:spPr>
          <a:xfrm>
            <a:off x="6886080" y="4920840"/>
            <a:ext cx="466920" cy="36684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32</a:t>
            </a:r>
            <a:endParaRPr b="0" lang="en-US" sz="2600" spc="-1" strike="noStrike">
              <a:solidFill>
                <a:srgbClr val="494949"/>
              </a:solidFill>
              <a:latin typeface="Open Sans Light"/>
            </a:endParaRPr>
          </a:p>
        </p:txBody>
      </p:sp>
      <p:sp>
        <p:nvSpPr>
          <p:cNvPr id="1325" name="PlaceHolder 7"/>
          <p:cNvSpPr>
            <a:spLocks noGrp="1"/>
          </p:cNvSpPr>
          <p:nvPr>
            <p:ph/>
          </p:nvPr>
        </p:nvSpPr>
        <p:spPr>
          <a:xfrm>
            <a:off x="9342000" y="3978000"/>
            <a:ext cx="466920" cy="36828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25</a:t>
            </a:r>
            <a:endParaRPr b="0" lang="en-US" sz="2600" spc="-1" strike="noStrike">
              <a:solidFill>
                <a:srgbClr val="494949"/>
              </a:solidFill>
              <a:latin typeface="Open Sans Light"/>
            </a:endParaRPr>
          </a:p>
        </p:txBody>
      </p:sp>
      <p:sp>
        <p:nvSpPr>
          <p:cNvPr id="1326" name="PlaceHolder 8"/>
          <p:cNvSpPr>
            <a:spLocks noGrp="1"/>
          </p:cNvSpPr>
          <p:nvPr>
            <p:ph/>
          </p:nvPr>
        </p:nvSpPr>
        <p:spPr>
          <a:xfrm>
            <a:off x="9342000" y="4920840"/>
            <a:ext cx="466920" cy="366840"/>
          </a:xfrm>
          <a:prstGeom prst="rect">
            <a:avLst/>
          </a:prstGeom>
          <a:noFill/>
          <a:ln w="0">
            <a:noFill/>
          </a:ln>
        </p:spPr>
        <p:txBody>
          <a:bodyPr lIns="0" rIns="0" anchor="ctr">
            <a:normAutofit fontScale="77000"/>
          </a:bodyPr>
          <a:p>
            <a:pPr indent="0" algn="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Lato Heavy"/>
              </a:rPr>
              <a:t>18</a:t>
            </a:r>
            <a:endParaRPr b="0" lang="en-US" sz="2600" spc="-1" strike="noStrike">
              <a:solidFill>
                <a:srgbClr val="494949"/>
              </a:solidFill>
              <a:latin typeface="Open Sans Light"/>
            </a:endParaRPr>
          </a:p>
        </p:txBody>
      </p:sp>
      <p:sp>
        <p:nvSpPr>
          <p:cNvPr id="1327" name="PlaceHolder 9"/>
          <p:cNvSpPr>
            <a:spLocks noGrp="1"/>
          </p:cNvSpPr>
          <p:nvPr>
            <p:ph/>
          </p:nvPr>
        </p:nvSpPr>
        <p:spPr>
          <a:xfrm>
            <a:off x="1617840" y="370008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Promotion</a:t>
            </a:r>
            <a:endParaRPr b="0" lang="en-US" sz="1300" spc="-1" strike="noStrike">
              <a:solidFill>
                <a:srgbClr val="494949"/>
              </a:solidFill>
              <a:latin typeface="Open Sans Light"/>
            </a:endParaRPr>
          </a:p>
        </p:txBody>
      </p:sp>
      <p:sp>
        <p:nvSpPr>
          <p:cNvPr id="1328" name="PlaceHolder 10"/>
          <p:cNvSpPr>
            <a:spLocks noGrp="1"/>
          </p:cNvSpPr>
          <p:nvPr>
            <p:ph/>
          </p:nvPr>
        </p:nvSpPr>
        <p:spPr>
          <a:xfrm>
            <a:off x="1617840" y="465732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Creative Designer</a:t>
            </a:r>
            <a:endParaRPr b="0" lang="en-US" sz="1300" spc="-1" strike="noStrike">
              <a:solidFill>
                <a:srgbClr val="494949"/>
              </a:solidFill>
              <a:latin typeface="Open Sans Light"/>
            </a:endParaRPr>
          </a:p>
        </p:txBody>
      </p:sp>
      <p:sp>
        <p:nvSpPr>
          <p:cNvPr id="1329" name="PlaceHolder 11"/>
          <p:cNvSpPr>
            <a:spLocks noGrp="1"/>
          </p:cNvSpPr>
          <p:nvPr>
            <p:ph/>
          </p:nvPr>
        </p:nvSpPr>
        <p:spPr>
          <a:xfrm>
            <a:off x="4068720" y="370008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Interface Designer</a:t>
            </a:r>
            <a:endParaRPr b="0" lang="en-US" sz="1300" spc="-1" strike="noStrike">
              <a:solidFill>
                <a:srgbClr val="494949"/>
              </a:solidFill>
              <a:latin typeface="Open Sans Light"/>
            </a:endParaRPr>
          </a:p>
        </p:txBody>
      </p:sp>
      <p:sp>
        <p:nvSpPr>
          <p:cNvPr id="1330" name="PlaceHolder 12"/>
          <p:cNvSpPr>
            <a:spLocks noGrp="1"/>
          </p:cNvSpPr>
          <p:nvPr>
            <p:ph/>
          </p:nvPr>
        </p:nvSpPr>
        <p:spPr>
          <a:xfrm>
            <a:off x="4068720" y="465732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Script Coder</a:t>
            </a:r>
            <a:endParaRPr b="0" lang="en-US" sz="1300" spc="-1" strike="noStrike">
              <a:solidFill>
                <a:srgbClr val="494949"/>
              </a:solidFill>
              <a:latin typeface="Open Sans Light"/>
            </a:endParaRPr>
          </a:p>
        </p:txBody>
      </p:sp>
      <p:sp>
        <p:nvSpPr>
          <p:cNvPr id="1331" name="PlaceHolder 13"/>
          <p:cNvSpPr>
            <a:spLocks noGrp="1"/>
          </p:cNvSpPr>
          <p:nvPr>
            <p:ph/>
          </p:nvPr>
        </p:nvSpPr>
        <p:spPr>
          <a:xfrm>
            <a:off x="6500880" y="370008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Optimizer</a:t>
            </a:r>
            <a:endParaRPr b="0" lang="en-US" sz="1300" spc="-1" strike="noStrike">
              <a:solidFill>
                <a:srgbClr val="494949"/>
              </a:solidFill>
              <a:latin typeface="Open Sans Light"/>
            </a:endParaRPr>
          </a:p>
        </p:txBody>
      </p:sp>
      <p:sp>
        <p:nvSpPr>
          <p:cNvPr id="1332" name="PlaceHolder 14"/>
          <p:cNvSpPr>
            <a:spLocks noGrp="1"/>
          </p:cNvSpPr>
          <p:nvPr>
            <p:ph/>
          </p:nvPr>
        </p:nvSpPr>
        <p:spPr>
          <a:xfrm>
            <a:off x="6500880" y="465732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Analyst</a:t>
            </a:r>
            <a:endParaRPr b="0" lang="en-US" sz="1300" spc="-1" strike="noStrike">
              <a:solidFill>
                <a:srgbClr val="494949"/>
              </a:solidFill>
              <a:latin typeface="Open Sans Light"/>
            </a:endParaRPr>
          </a:p>
        </p:txBody>
      </p:sp>
      <p:sp>
        <p:nvSpPr>
          <p:cNvPr id="1333" name="PlaceHolder 15"/>
          <p:cNvSpPr>
            <a:spLocks noGrp="1"/>
          </p:cNvSpPr>
          <p:nvPr>
            <p:ph/>
          </p:nvPr>
        </p:nvSpPr>
        <p:spPr>
          <a:xfrm>
            <a:off x="8913960" y="370008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Government</a:t>
            </a:r>
            <a:endParaRPr b="0" lang="en-US" sz="1300" spc="-1" strike="noStrike">
              <a:solidFill>
                <a:srgbClr val="494949"/>
              </a:solidFill>
              <a:latin typeface="Open Sans Light"/>
            </a:endParaRPr>
          </a:p>
        </p:txBody>
      </p:sp>
      <p:sp>
        <p:nvSpPr>
          <p:cNvPr id="1334" name="PlaceHolder 16"/>
          <p:cNvSpPr>
            <a:spLocks noGrp="1"/>
          </p:cNvSpPr>
          <p:nvPr>
            <p:ph/>
          </p:nvPr>
        </p:nvSpPr>
        <p:spPr>
          <a:xfrm>
            <a:off x="8913960" y="4657320"/>
            <a:ext cx="1620720" cy="328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Lato Heavy"/>
              </a:rPr>
              <a:t>Spin</a:t>
            </a:r>
            <a:endParaRPr b="0" lang="en-US" sz="1300" spc="-1" strike="noStrike">
              <a:solidFill>
                <a:srgbClr val="494949"/>
              </a:solidFill>
              <a:latin typeface="Open Sans Light"/>
            </a:endParaRPr>
          </a:p>
        </p:txBody>
      </p:sp>
      <p:sp>
        <p:nvSpPr>
          <p:cNvPr id="1335" name="PlaceHolder 17"/>
          <p:cNvSpPr>
            <a:spLocks noGrp="1"/>
          </p:cNvSpPr>
          <p:nvPr>
            <p:ph/>
          </p:nvPr>
        </p:nvSpPr>
        <p:spPr>
          <a:xfrm>
            <a:off x="1481040" y="2965320"/>
            <a:ext cx="1889280" cy="254160"/>
          </a:xfrm>
          <a:prstGeom prst="rect">
            <a:avLst/>
          </a:prstGeom>
          <a:noFill/>
          <a:ln w="0">
            <a:noFill/>
          </a:ln>
        </p:spPr>
        <p:txBody>
          <a:bodyPr lIns="0" rIns="0" anchor="ctr">
            <a:normAutofit fontScale="7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ADVERTISING</a:t>
            </a:r>
            <a:endParaRPr b="0" lang="en-US" sz="1400" spc="-1" strike="noStrike">
              <a:solidFill>
                <a:srgbClr val="494949"/>
              </a:solidFill>
              <a:latin typeface="Open Sans Light"/>
            </a:endParaRPr>
          </a:p>
        </p:txBody>
      </p:sp>
      <p:sp>
        <p:nvSpPr>
          <p:cNvPr id="1336" name="PlaceHolder 18"/>
          <p:cNvSpPr>
            <a:spLocks noGrp="1"/>
          </p:cNvSpPr>
          <p:nvPr>
            <p:ph/>
          </p:nvPr>
        </p:nvSpPr>
        <p:spPr>
          <a:xfrm>
            <a:off x="3921120" y="2970000"/>
            <a:ext cx="1890720" cy="253800"/>
          </a:xfrm>
          <a:prstGeom prst="rect">
            <a:avLst/>
          </a:prstGeom>
          <a:noFill/>
          <a:ln w="0">
            <a:noFill/>
          </a:ln>
        </p:spPr>
        <p:txBody>
          <a:bodyPr lIns="0" rIns="0" anchor="ctr">
            <a:normAutofit fontScale="7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WEB DESIGN</a:t>
            </a:r>
            <a:endParaRPr b="0" lang="en-US" sz="1400" spc="-1" strike="noStrike">
              <a:solidFill>
                <a:srgbClr val="494949"/>
              </a:solidFill>
              <a:latin typeface="Open Sans Light"/>
            </a:endParaRPr>
          </a:p>
        </p:txBody>
      </p:sp>
      <p:sp>
        <p:nvSpPr>
          <p:cNvPr id="1337" name="PlaceHolder 19"/>
          <p:cNvSpPr>
            <a:spLocks noGrp="1"/>
          </p:cNvSpPr>
          <p:nvPr>
            <p:ph/>
          </p:nvPr>
        </p:nvSpPr>
        <p:spPr>
          <a:xfrm>
            <a:off x="6384960" y="2965320"/>
            <a:ext cx="1890720" cy="254160"/>
          </a:xfrm>
          <a:prstGeom prst="rect">
            <a:avLst/>
          </a:prstGeom>
          <a:noFill/>
          <a:ln w="0">
            <a:noFill/>
          </a:ln>
        </p:spPr>
        <p:txBody>
          <a:bodyPr lIns="0" rIns="0" anchor="ctr">
            <a:normAutofit fontScale="7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CORP ANALYSIS</a:t>
            </a:r>
            <a:endParaRPr b="0" lang="en-US" sz="1400" spc="-1" strike="noStrike">
              <a:solidFill>
                <a:srgbClr val="494949"/>
              </a:solidFill>
              <a:latin typeface="Open Sans Light"/>
            </a:endParaRPr>
          </a:p>
        </p:txBody>
      </p:sp>
      <p:sp>
        <p:nvSpPr>
          <p:cNvPr id="1338" name="PlaceHolder 20"/>
          <p:cNvSpPr>
            <a:spLocks noGrp="1"/>
          </p:cNvSpPr>
          <p:nvPr>
            <p:ph/>
          </p:nvPr>
        </p:nvSpPr>
        <p:spPr>
          <a:xfrm>
            <a:off x="8826480" y="2970000"/>
            <a:ext cx="1890720" cy="253800"/>
          </a:xfrm>
          <a:prstGeom prst="rect">
            <a:avLst/>
          </a:prstGeom>
          <a:noFill/>
          <a:ln w="0">
            <a:noFill/>
          </a:ln>
        </p:spPr>
        <p:txBody>
          <a:bodyPr lIns="0" rIns="0" anchor="ctr">
            <a:normAutofit fontScale="7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PUBLIC RELATIONS</a:t>
            </a:r>
            <a:endParaRPr b="0" lang="en-US" sz="1400" spc="-1" strike="noStrike">
              <a:solidFill>
                <a:srgbClr val="494949"/>
              </a:solidFill>
              <a:latin typeface="Open Sans Light"/>
            </a:endParaRPr>
          </a:p>
        </p:txBody>
      </p:sp>
      <p:sp>
        <p:nvSpPr>
          <p:cNvPr id="1339" name="PlaceHolder 2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DATA NUMBERS</a:t>
            </a:r>
            <a:endParaRPr b="0" lang="en-US" sz="3600" spc="-1" strike="noStrike">
              <a:solidFill>
                <a:srgbClr val="494949"/>
              </a:solidFill>
              <a:latin typeface="Lato Heavy"/>
            </a:endParaRPr>
          </a:p>
        </p:txBody>
      </p:sp>
      <p:sp>
        <p:nvSpPr>
          <p:cNvPr id="1340" name="PlaceHolder 2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10">
                                  <p:stCondLst>
                                    <p:cond delay="0"/>
                                  </p:stCondLst>
                                  <p:childTnLst>
                                    <p:set>
                                      <p:cBhvr>
                                        <p:cTn id="796" dur="1" fill="hold">
                                          <p:stCondLst>
                                            <p:cond delay="0"/>
                                          </p:stCondLst>
                                        </p:cTn>
                                        <p:tgtEl>
                                          <p:spTgt spid="1290"/>
                                        </p:tgtEl>
                                        <p:attrNameLst>
                                          <p:attrName>style.visibility</p:attrName>
                                        </p:attrNameLst>
                                      </p:cBhvr>
                                      <p:to>
                                        <p:strVal val="visible"/>
                                      </p:to>
                                    </p:set>
                                    <p:animEffect filter="fade" transition="in">
                                      <p:cBhvr additive="repl">
                                        <p:cTn id="797" dur="500"/>
                                        <p:tgtEl>
                                          <p:spTgt spid="1290"/>
                                        </p:tgtEl>
                                      </p:cBhvr>
                                    </p:animEffect>
                                  </p:childTnLst>
                                </p:cTn>
                              </p:par>
                              <p:par>
                                <p:cTn id="798" nodeType="withEffect" fill="hold" presetClass="entr" presetID="10">
                                  <p:stCondLst>
                                    <p:cond delay="0"/>
                                  </p:stCondLst>
                                  <p:childTnLst>
                                    <p:set>
                                      <p:cBhvr>
                                        <p:cTn id="799"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800" dur="500"/>
                                        <p:tgtEl>
                                          <p:spTgt spid="1335">
                                            <p:txEl>
                                              <p:pRg st="0" end="0"/>
                                            </p:txEl>
                                          </p:spTgt>
                                        </p:tgtEl>
                                      </p:cBhvr>
                                    </p:animEffect>
                                  </p:childTnLst>
                                </p:cTn>
                              </p:par>
                            </p:childTnLst>
                          </p:cTn>
                        </p:par>
                        <p:par>
                          <p:cTn id="801" fill="hold">
                            <p:stCondLst>
                              <p:cond delay="500"/>
                            </p:stCondLst>
                            <p:childTnLst>
                              <p:par>
                                <p:cTn id="802" nodeType="afterEffect" fill="hold" presetClass="entr" presetID="10">
                                  <p:stCondLst>
                                    <p:cond delay="0"/>
                                  </p:stCondLst>
                                  <p:childTnLst>
                                    <p:set>
                                      <p:cBhvr>
                                        <p:cTn id="803" dur="1" fill="hold">
                                          <p:stCondLst>
                                            <p:cond delay="0"/>
                                          </p:stCondLst>
                                        </p:cTn>
                                        <p:tgtEl>
                                          <p:spTgt spid="1291"/>
                                        </p:tgtEl>
                                        <p:attrNameLst>
                                          <p:attrName>style.visibility</p:attrName>
                                        </p:attrNameLst>
                                      </p:cBhvr>
                                      <p:to>
                                        <p:strVal val="visible"/>
                                      </p:to>
                                    </p:set>
                                    <p:animEffect filter="fade" transition="in">
                                      <p:cBhvr additive="repl">
                                        <p:cTn id="804" dur="500"/>
                                        <p:tgtEl>
                                          <p:spTgt spid="1291"/>
                                        </p:tgtEl>
                                      </p:cBhvr>
                                    </p:animEffect>
                                  </p:childTnLst>
                                </p:cTn>
                              </p:par>
                              <p:par>
                                <p:cTn id="805" nodeType="withEffect" fill="hold" presetClass="entr" presetID="10">
                                  <p:stCondLst>
                                    <p:cond delay="0"/>
                                  </p:stCondLst>
                                  <p:childTnLst>
                                    <p:set>
                                      <p:cBhvr>
                                        <p:cTn id="806" dur="1" fill="hold">
                                          <p:stCondLst>
                                            <p:cond delay="0"/>
                                          </p:stCondLst>
                                        </p:cTn>
                                        <p:tgtEl>
                                          <p:spTgt spid="1336">
                                            <p:txEl>
                                              <p:pRg st="0" end="0"/>
                                            </p:txEl>
                                          </p:spTgt>
                                        </p:tgtEl>
                                        <p:attrNameLst>
                                          <p:attrName>style.visibility</p:attrName>
                                        </p:attrNameLst>
                                      </p:cBhvr>
                                      <p:to>
                                        <p:strVal val="visible"/>
                                      </p:to>
                                    </p:set>
                                    <p:animEffect filter="fade" transition="in">
                                      <p:cBhvr additive="repl">
                                        <p:cTn id="807" dur="500"/>
                                        <p:tgtEl>
                                          <p:spTgt spid="1336">
                                            <p:txEl>
                                              <p:pRg st="0" end="0"/>
                                            </p:txEl>
                                          </p:spTgt>
                                        </p:tgtEl>
                                      </p:cBhvr>
                                    </p:animEffect>
                                  </p:childTnLst>
                                </p:cTn>
                              </p:par>
                            </p:childTnLst>
                          </p:cTn>
                        </p:par>
                        <p:par>
                          <p:cTn id="808" fill="hold">
                            <p:stCondLst>
                              <p:cond delay="1000"/>
                            </p:stCondLst>
                            <p:childTnLst>
                              <p:par>
                                <p:cTn id="809" nodeType="afterEffect" fill="hold" presetClass="entr" presetID="10">
                                  <p:stCondLst>
                                    <p:cond delay="0"/>
                                  </p:stCondLst>
                                  <p:childTnLst>
                                    <p:set>
                                      <p:cBhvr>
                                        <p:cTn id="810" dur="1" fill="hold">
                                          <p:stCondLst>
                                            <p:cond delay="0"/>
                                          </p:stCondLst>
                                        </p:cTn>
                                        <p:tgtEl>
                                          <p:spTgt spid="1292"/>
                                        </p:tgtEl>
                                        <p:attrNameLst>
                                          <p:attrName>style.visibility</p:attrName>
                                        </p:attrNameLst>
                                      </p:cBhvr>
                                      <p:to>
                                        <p:strVal val="visible"/>
                                      </p:to>
                                    </p:set>
                                    <p:animEffect filter="fade" transition="in">
                                      <p:cBhvr additive="repl">
                                        <p:cTn id="811" dur="500"/>
                                        <p:tgtEl>
                                          <p:spTgt spid="1292"/>
                                        </p:tgtEl>
                                      </p:cBhvr>
                                    </p:animEffect>
                                  </p:childTnLst>
                                </p:cTn>
                              </p:par>
                              <p:par>
                                <p:cTn id="812" nodeType="withEffect" fill="hold" presetClass="entr" presetID="10">
                                  <p:stCondLst>
                                    <p:cond delay="0"/>
                                  </p:stCondLst>
                                  <p:childTnLst>
                                    <p:set>
                                      <p:cBhvr>
                                        <p:cTn id="813" dur="1" fill="hold">
                                          <p:stCondLst>
                                            <p:cond delay="0"/>
                                          </p:stCondLst>
                                        </p:cTn>
                                        <p:tgtEl>
                                          <p:spTgt spid="1337">
                                            <p:txEl>
                                              <p:pRg st="0" end="0"/>
                                            </p:txEl>
                                          </p:spTgt>
                                        </p:tgtEl>
                                        <p:attrNameLst>
                                          <p:attrName>style.visibility</p:attrName>
                                        </p:attrNameLst>
                                      </p:cBhvr>
                                      <p:to>
                                        <p:strVal val="visible"/>
                                      </p:to>
                                    </p:set>
                                    <p:animEffect filter="fade" transition="in">
                                      <p:cBhvr additive="repl">
                                        <p:cTn id="814" dur="500"/>
                                        <p:tgtEl>
                                          <p:spTgt spid="1337">
                                            <p:txEl>
                                              <p:pRg st="0" end="0"/>
                                            </p:txEl>
                                          </p:spTgt>
                                        </p:tgtEl>
                                      </p:cBhvr>
                                    </p:animEffect>
                                  </p:childTnLst>
                                </p:cTn>
                              </p:par>
                            </p:childTnLst>
                          </p:cTn>
                        </p:par>
                        <p:par>
                          <p:cTn id="815" fill="hold">
                            <p:stCondLst>
                              <p:cond delay="1500"/>
                            </p:stCondLst>
                            <p:childTnLst>
                              <p:par>
                                <p:cTn id="816" nodeType="afterEffect" fill="hold" presetClass="entr" presetID="10">
                                  <p:stCondLst>
                                    <p:cond delay="0"/>
                                  </p:stCondLst>
                                  <p:childTnLst>
                                    <p:set>
                                      <p:cBhvr>
                                        <p:cTn id="817" dur="1" fill="hold">
                                          <p:stCondLst>
                                            <p:cond delay="0"/>
                                          </p:stCondLst>
                                        </p:cTn>
                                        <p:tgtEl>
                                          <p:spTgt spid="1293"/>
                                        </p:tgtEl>
                                        <p:attrNameLst>
                                          <p:attrName>style.visibility</p:attrName>
                                        </p:attrNameLst>
                                      </p:cBhvr>
                                      <p:to>
                                        <p:strVal val="visible"/>
                                      </p:to>
                                    </p:set>
                                    <p:animEffect filter="fade" transition="in">
                                      <p:cBhvr additive="repl">
                                        <p:cTn id="818" dur="500"/>
                                        <p:tgtEl>
                                          <p:spTgt spid="1293"/>
                                        </p:tgtEl>
                                      </p:cBhvr>
                                    </p:animEffect>
                                  </p:childTnLst>
                                </p:cTn>
                              </p:par>
                              <p:par>
                                <p:cTn id="819" nodeType="withEffect" fill="hold" presetClass="entr" presetID="10">
                                  <p:stCondLst>
                                    <p:cond delay="0"/>
                                  </p:stCondLst>
                                  <p:childTnLst>
                                    <p:set>
                                      <p:cBhvr>
                                        <p:cTn id="820" dur="1" fill="hold">
                                          <p:stCondLst>
                                            <p:cond delay="0"/>
                                          </p:stCondLst>
                                        </p:cTn>
                                        <p:tgtEl>
                                          <p:spTgt spid="1338">
                                            <p:txEl>
                                              <p:pRg st="0" end="0"/>
                                            </p:txEl>
                                          </p:spTgt>
                                        </p:tgtEl>
                                        <p:attrNameLst>
                                          <p:attrName>style.visibility</p:attrName>
                                        </p:attrNameLst>
                                      </p:cBhvr>
                                      <p:to>
                                        <p:strVal val="visible"/>
                                      </p:to>
                                    </p:set>
                                    <p:animEffect filter="fade" transition="in">
                                      <p:cBhvr additive="repl">
                                        <p:cTn id="821" dur="500"/>
                                        <p:tgtEl>
                                          <p:spTgt spid="1338">
                                            <p:txEl>
                                              <p:pRg st="0" end="0"/>
                                            </p:txEl>
                                          </p:spTgt>
                                        </p:tgtEl>
                                      </p:cBhvr>
                                    </p:animEffect>
                                  </p:childTnLst>
                                </p:cTn>
                              </p:par>
                            </p:childTnLst>
                          </p:cTn>
                        </p:par>
                        <p:par>
                          <p:cTn id="822" fill="hold">
                            <p:stCondLst>
                              <p:cond delay="2000"/>
                            </p:stCondLst>
                            <p:childTnLst>
                              <p:par>
                                <p:cTn id="823" nodeType="afterEffect" fill="hold" presetClass="entr" presetID="10">
                                  <p:stCondLst>
                                    <p:cond delay="0"/>
                                  </p:stCondLst>
                                  <p:childTnLst>
                                    <p:set>
                                      <p:cBhvr>
                                        <p:cTn id="824" dur="1" fill="hold">
                                          <p:stCondLst>
                                            <p:cond delay="0"/>
                                          </p:stCondLst>
                                        </p:cTn>
                                        <p:tgtEl>
                                          <p:spTgt spid="1294"/>
                                        </p:tgtEl>
                                        <p:attrNameLst>
                                          <p:attrName>style.visibility</p:attrName>
                                        </p:attrNameLst>
                                      </p:cBhvr>
                                      <p:to>
                                        <p:strVal val="visible"/>
                                      </p:to>
                                    </p:set>
                                    <p:animEffect filter="fade" transition="in">
                                      <p:cBhvr additive="repl">
                                        <p:cTn id="825" dur="500"/>
                                        <p:tgtEl>
                                          <p:spTgt spid="1294"/>
                                        </p:tgtEl>
                                      </p:cBhvr>
                                    </p:animEffect>
                                  </p:childTnLst>
                                </p:cTn>
                              </p:par>
                            </p:childTnLst>
                          </p:cTn>
                        </p:par>
                        <p:par>
                          <p:cTn id="826" fill="hold">
                            <p:stCondLst>
                              <p:cond delay="2500"/>
                            </p:stCondLst>
                            <p:childTnLst>
                              <p:par>
                                <p:cTn id="827" nodeType="afterEffect" fill="hold" presetClass="entr" presetID="10">
                                  <p:stCondLst>
                                    <p:cond delay="0"/>
                                  </p:stCondLst>
                                  <p:childTnLst>
                                    <p:set>
                                      <p:cBhvr>
                                        <p:cTn id="828" dur="1" fill="hold">
                                          <p:stCondLst>
                                            <p:cond delay="0"/>
                                          </p:stCondLst>
                                        </p:cTn>
                                        <p:tgtEl>
                                          <p:spTgt spid="1327">
                                            <p:txEl>
                                              <p:pRg st="0" end="0"/>
                                            </p:txEl>
                                          </p:spTgt>
                                        </p:tgtEl>
                                        <p:attrNameLst>
                                          <p:attrName>style.visibility</p:attrName>
                                        </p:attrNameLst>
                                      </p:cBhvr>
                                      <p:to>
                                        <p:strVal val="visible"/>
                                      </p:to>
                                    </p:set>
                                    <p:animEffect filter="fade" transition="in">
                                      <p:cBhvr additive="repl">
                                        <p:cTn id="829" dur="500"/>
                                        <p:tgtEl>
                                          <p:spTgt spid="1327">
                                            <p:txEl>
                                              <p:pRg st="0" end="0"/>
                                            </p:txEl>
                                          </p:spTgt>
                                        </p:tgtEl>
                                      </p:cBhvr>
                                    </p:animEffect>
                                  </p:childTnLst>
                                </p:cTn>
                              </p:par>
                            </p:childTnLst>
                          </p:cTn>
                        </p:par>
                        <p:par>
                          <p:cTn id="830" fill="hold">
                            <p:stCondLst>
                              <p:cond delay="3000"/>
                            </p:stCondLst>
                            <p:childTnLst>
                              <p:par>
                                <p:cTn id="831" nodeType="afterEffect" fill="hold" presetClass="entr" presetID="10">
                                  <p:stCondLst>
                                    <p:cond delay="0"/>
                                  </p:stCondLst>
                                  <p:childTnLst>
                                    <p:set>
                                      <p:cBhvr>
                                        <p:cTn id="832" dur="1" fill="hold">
                                          <p:stCondLst>
                                            <p:cond delay="0"/>
                                          </p:stCondLst>
                                        </p:cTn>
                                        <p:tgtEl>
                                          <p:spTgt spid="1319">
                                            <p:txEl>
                                              <p:pRg st="0" end="0"/>
                                            </p:txEl>
                                          </p:spTgt>
                                        </p:tgtEl>
                                        <p:attrNameLst>
                                          <p:attrName>style.visibility</p:attrName>
                                        </p:attrNameLst>
                                      </p:cBhvr>
                                      <p:to>
                                        <p:strVal val="visible"/>
                                      </p:to>
                                    </p:set>
                                    <p:animEffect filter="fade" transition="in">
                                      <p:cBhvr additive="repl">
                                        <p:cTn id="833" dur="500"/>
                                        <p:tgtEl>
                                          <p:spTgt spid="1319">
                                            <p:txEl>
                                              <p:pRg st="0" end="0"/>
                                            </p:txEl>
                                          </p:spTgt>
                                        </p:tgtEl>
                                      </p:cBhvr>
                                    </p:animEffect>
                                  </p:childTnLst>
                                </p:cTn>
                              </p:par>
                              <p:par>
                                <p:cTn id="834" nodeType="withEffect" fill="hold" presetClass="entr" presetID="10">
                                  <p:stCondLst>
                                    <p:cond delay="0"/>
                                  </p:stCondLst>
                                  <p:childTnLst>
                                    <p:set>
                                      <p:cBhvr>
                                        <p:cTn id="835" dur="1" fill="hold">
                                          <p:stCondLst>
                                            <p:cond delay="0"/>
                                          </p:stCondLst>
                                        </p:cTn>
                                        <p:tgtEl>
                                          <p:spTgt spid="1295"/>
                                        </p:tgtEl>
                                        <p:attrNameLst>
                                          <p:attrName>style.visibility</p:attrName>
                                        </p:attrNameLst>
                                      </p:cBhvr>
                                      <p:to>
                                        <p:strVal val="visible"/>
                                      </p:to>
                                    </p:set>
                                    <p:animEffect filter="fade" transition="in">
                                      <p:cBhvr additive="repl">
                                        <p:cTn id="836" dur="500"/>
                                        <p:tgtEl>
                                          <p:spTgt spid="1295"/>
                                        </p:tgtEl>
                                      </p:cBhvr>
                                    </p:animEffect>
                                  </p:childTnLst>
                                </p:cTn>
                              </p:par>
                            </p:childTnLst>
                          </p:cTn>
                        </p:par>
                        <p:par>
                          <p:cTn id="837" fill="hold">
                            <p:stCondLst>
                              <p:cond delay="3500"/>
                            </p:stCondLst>
                            <p:childTnLst>
                              <p:par>
                                <p:cTn id="838" nodeType="afterEffect" fill="hold" presetClass="entr" presetID="10">
                                  <p:stCondLst>
                                    <p:cond delay="0"/>
                                  </p:stCondLst>
                                  <p:childTnLst>
                                    <p:set>
                                      <p:cBhvr>
                                        <p:cTn id="839" dur="1" fill="hold">
                                          <p:stCondLst>
                                            <p:cond delay="0"/>
                                          </p:stCondLst>
                                        </p:cTn>
                                        <p:tgtEl>
                                          <p:spTgt spid="1328">
                                            <p:txEl>
                                              <p:pRg st="0" end="0"/>
                                            </p:txEl>
                                          </p:spTgt>
                                        </p:tgtEl>
                                        <p:attrNameLst>
                                          <p:attrName>style.visibility</p:attrName>
                                        </p:attrNameLst>
                                      </p:cBhvr>
                                      <p:to>
                                        <p:strVal val="visible"/>
                                      </p:to>
                                    </p:set>
                                    <p:animEffect filter="fade" transition="in">
                                      <p:cBhvr additive="repl">
                                        <p:cTn id="840" dur="500"/>
                                        <p:tgtEl>
                                          <p:spTgt spid="1328">
                                            <p:txEl>
                                              <p:pRg st="0" end="0"/>
                                            </p:txEl>
                                          </p:spTgt>
                                        </p:tgtEl>
                                      </p:cBhvr>
                                    </p:animEffect>
                                  </p:childTnLst>
                                </p:cTn>
                              </p:par>
                            </p:childTnLst>
                          </p:cTn>
                        </p:par>
                        <p:par>
                          <p:cTn id="841" fill="hold">
                            <p:stCondLst>
                              <p:cond delay="4000"/>
                            </p:stCondLst>
                            <p:childTnLst>
                              <p:par>
                                <p:cTn id="842" nodeType="afterEffect" fill="hold" presetClass="entr" presetID="10">
                                  <p:stCondLst>
                                    <p:cond delay="0"/>
                                  </p:stCondLst>
                                  <p:childTnLst>
                                    <p:set>
                                      <p:cBhvr>
                                        <p:cTn id="843" dur="1" fill="hold">
                                          <p:stCondLst>
                                            <p:cond delay="0"/>
                                          </p:stCondLst>
                                        </p:cTn>
                                        <p:tgtEl>
                                          <p:spTgt spid="1320">
                                            <p:txEl>
                                              <p:pRg st="0" end="0"/>
                                            </p:txEl>
                                          </p:spTgt>
                                        </p:tgtEl>
                                        <p:attrNameLst>
                                          <p:attrName>style.visibility</p:attrName>
                                        </p:attrNameLst>
                                      </p:cBhvr>
                                      <p:to>
                                        <p:strVal val="visible"/>
                                      </p:to>
                                    </p:set>
                                    <p:animEffect filter="fade" transition="in">
                                      <p:cBhvr additive="repl">
                                        <p:cTn id="844" dur="500"/>
                                        <p:tgtEl>
                                          <p:spTgt spid="1320">
                                            <p:txEl>
                                              <p:pRg st="0" end="0"/>
                                            </p:txEl>
                                          </p:spTgt>
                                        </p:tgtEl>
                                      </p:cBhvr>
                                    </p:animEffect>
                                  </p:childTnLst>
                                </p:cTn>
                              </p:par>
                              <p:par>
                                <p:cTn id="845" nodeType="withEffect" fill="hold" presetClass="entr" presetID="10">
                                  <p:stCondLst>
                                    <p:cond delay="0"/>
                                  </p:stCondLst>
                                  <p:childTnLst>
                                    <p:set>
                                      <p:cBhvr>
                                        <p:cTn id="846" dur="1" fill="hold">
                                          <p:stCondLst>
                                            <p:cond delay="0"/>
                                          </p:stCondLst>
                                        </p:cTn>
                                        <p:tgtEl>
                                          <p:spTgt spid="1298"/>
                                        </p:tgtEl>
                                        <p:attrNameLst>
                                          <p:attrName>style.visibility</p:attrName>
                                        </p:attrNameLst>
                                      </p:cBhvr>
                                      <p:to>
                                        <p:strVal val="visible"/>
                                      </p:to>
                                    </p:set>
                                    <p:animEffect filter="fade" transition="in">
                                      <p:cBhvr additive="repl">
                                        <p:cTn id="847" dur="500"/>
                                        <p:tgtEl>
                                          <p:spTgt spid="1298"/>
                                        </p:tgtEl>
                                      </p:cBhvr>
                                    </p:animEffect>
                                  </p:childTnLst>
                                </p:cTn>
                              </p:par>
                            </p:childTnLst>
                          </p:cTn>
                        </p:par>
                        <p:par>
                          <p:cTn id="848" fill="hold">
                            <p:stCondLst>
                              <p:cond delay="4500"/>
                            </p:stCondLst>
                            <p:childTnLst>
                              <p:par>
                                <p:cTn id="849" nodeType="afterEffect" fill="hold" presetClass="entr" presetID="10">
                                  <p:stCondLst>
                                    <p:cond delay="0"/>
                                  </p:stCondLst>
                                  <p:childTnLst>
                                    <p:set>
                                      <p:cBhvr>
                                        <p:cTn id="850" dur="1" fill="hold">
                                          <p:stCondLst>
                                            <p:cond delay="0"/>
                                          </p:stCondLst>
                                        </p:cTn>
                                        <p:tgtEl>
                                          <p:spTgt spid="1329">
                                            <p:txEl>
                                              <p:pRg st="0" end="0"/>
                                            </p:txEl>
                                          </p:spTgt>
                                        </p:tgtEl>
                                        <p:attrNameLst>
                                          <p:attrName>style.visibility</p:attrName>
                                        </p:attrNameLst>
                                      </p:cBhvr>
                                      <p:to>
                                        <p:strVal val="visible"/>
                                      </p:to>
                                    </p:set>
                                    <p:animEffect filter="fade" transition="in">
                                      <p:cBhvr additive="repl">
                                        <p:cTn id="851" dur="500"/>
                                        <p:tgtEl>
                                          <p:spTgt spid="1329">
                                            <p:txEl>
                                              <p:pRg st="0" end="0"/>
                                            </p:txEl>
                                          </p:spTgt>
                                        </p:tgtEl>
                                      </p:cBhvr>
                                    </p:animEffect>
                                  </p:childTnLst>
                                </p:cTn>
                              </p:par>
                            </p:childTnLst>
                          </p:cTn>
                        </p:par>
                        <p:par>
                          <p:cTn id="852" fill="hold">
                            <p:stCondLst>
                              <p:cond delay="5000"/>
                            </p:stCondLst>
                            <p:childTnLst>
                              <p:par>
                                <p:cTn id="853" nodeType="afterEffect" fill="hold" presetClass="entr" presetID="10">
                                  <p:stCondLst>
                                    <p:cond delay="0"/>
                                  </p:stCondLst>
                                  <p:childTnLst>
                                    <p:set>
                                      <p:cBhvr>
                                        <p:cTn id="854" dur="1" fill="hold">
                                          <p:stCondLst>
                                            <p:cond delay="0"/>
                                          </p:stCondLst>
                                        </p:cTn>
                                        <p:tgtEl>
                                          <p:spTgt spid="1321">
                                            <p:txEl>
                                              <p:pRg st="0" end="0"/>
                                            </p:txEl>
                                          </p:spTgt>
                                        </p:tgtEl>
                                        <p:attrNameLst>
                                          <p:attrName>style.visibility</p:attrName>
                                        </p:attrNameLst>
                                      </p:cBhvr>
                                      <p:to>
                                        <p:strVal val="visible"/>
                                      </p:to>
                                    </p:set>
                                    <p:animEffect filter="fade" transition="in">
                                      <p:cBhvr additive="repl">
                                        <p:cTn id="855" dur="500"/>
                                        <p:tgtEl>
                                          <p:spTgt spid="1321">
                                            <p:txEl>
                                              <p:pRg st="0" end="0"/>
                                            </p:txEl>
                                          </p:spTgt>
                                        </p:tgtEl>
                                      </p:cBhvr>
                                    </p:animEffect>
                                  </p:childTnLst>
                                </p:cTn>
                              </p:par>
                              <p:par>
                                <p:cTn id="856" nodeType="withEffect" fill="hold" presetClass="entr" presetID="10">
                                  <p:stCondLst>
                                    <p:cond delay="0"/>
                                  </p:stCondLst>
                                  <p:childTnLst>
                                    <p:set>
                                      <p:cBhvr>
                                        <p:cTn id="857" dur="1" fill="hold">
                                          <p:stCondLst>
                                            <p:cond delay="0"/>
                                          </p:stCondLst>
                                        </p:cTn>
                                        <p:tgtEl>
                                          <p:spTgt spid="1301"/>
                                        </p:tgtEl>
                                        <p:attrNameLst>
                                          <p:attrName>style.visibility</p:attrName>
                                        </p:attrNameLst>
                                      </p:cBhvr>
                                      <p:to>
                                        <p:strVal val="visible"/>
                                      </p:to>
                                    </p:set>
                                    <p:animEffect filter="fade" transition="in">
                                      <p:cBhvr additive="repl">
                                        <p:cTn id="858" dur="500"/>
                                        <p:tgtEl>
                                          <p:spTgt spid="1301"/>
                                        </p:tgtEl>
                                      </p:cBhvr>
                                    </p:animEffect>
                                  </p:childTnLst>
                                </p:cTn>
                              </p:par>
                            </p:childTnLst>
                          </p:cTn>
                        </p:par>
                        <p:par>
                          <p:cTn id="859" fill="hold">
                            <p:stCondLst>
                              <p:cond delay="5500"/>
                            </p:stCondLst>
                            <p:childTnLst>
                              <p:par>
                                <p:cTn id="860" nodeType="afterEffect" fill="hold" presetClass="entr" presetID="10">
                                  <p:stCondLst>
                                    <p:cond delay="0"/>
                                  </p:stCondLst>
                                  <p:childTnLst>
                                    <p:set>
                                      <p:cBhvr>
                                        <p:cTn id="861" dur="1" fill="hold">
                                          <p:stCondLst>
                                            <p:cond delay="0"/>
                                          </p:stCondLst>
                                        </p:cTn>
                                        <p:tgtEl>
                                          <p:spTgt spid="1330">
                                            <p:txEl>
                                              <p:pRg st="0" end="0"/>
                                            </p:txEl>
                                          </p:spTgt>
                                        </p:tgtEl>
                                        <p:attrNameLst>
                                          <p:attrName>style.visibility</p:attrName>
                                        </p:attrNameLst>
                                      </p:cBhvr>
                                      <p:to>
                                        <p:strVal val="visible"/>
                                      </p:to>
                                    </p:set>
                                    <p:animEffect filter="fade" transition="in">
                                      <p:cBhvr additive="repl">
                                        <p:cTn id="862" dur="500"/>
                                        <p:tgtEl>
                                          <p:spTgt spid="1330">
                                            <p:txEl>
                                              <p:pRg st="0" end="0"/>
                                            </p:txEl>
                                          </p:spTgt>
                                        </p:tgtEl>
                                      </p:cBhvr>
                                    </p:animEffect>
                                  </p:childTnLst>
                                </p:cTn>
                              </p:par>
                            </p:childTnLst>
                          </p:cTn>
                        </p:par>
                        <p:par>
                          <p:cTn id="863" fill="hold">
                            <p:stCondLst>
                              <p:cond delay="6000"/>
                            </p:stCondLst>
                            <p:childTnLst>
                              <p:par>
                                <p:cTn id="864" nodeType="afterEffect" fill="hold" presetClass="entr" presetID="10">
                                  <p:stCondLst>
                                    <p:cond delay="0"/>
                                  </p:stCondLst>
                                  <p:childTnLst>
                                    <p:set>
                                      <p:cBhvr>
                                        <p:cTn id="865" dur="1" fill="hold">
                                          <p:stCondLst>
                                            <p:cond delay="0"/>
                                          </p:stCondLst>
                                        </p:cTn>
                                        <p:tgtEl>
                                          <p:spTgt spid="1322">
                                            <p:txEl>
                                              <p:pRg st="0" end="0"/>
                                            </p:txEl>
                                          </p:spTgt>
                                        </p:tgtEl>
                                        <p:attrNameLst>
                                          <p:attrName>style.visibility</p:attrName>
                                        </p:attrNameLst>
                                      </p:cBhvr>
                                      <p:to>
                                        <p:strVal val="visible"/>
                                      </p:to>
                                    </p:set>
                                    <p:animEffect filter="fade" transition="in">
                                      <p:cBhvr additive="repl">
                                        <p:cTn id="866" dur="500"/>
                                        <p:tgtEl>
                                          <p:spTgt spid="1322">
                                            <p:txEl>
                                              <p:pRg st="0" end="0"/>
                                            </p:txEl>
                                          </p:spTgt>
                                        </p:tgtEl>
                                      </p:cBhvr>
                                    </p:animEffect>
                                  </p:childTnLst>
                                </p:cTn>
                              </p:par>
                              <p:par>
                                <p:cTn id="867" nodeType="withEffect" fill="hold" presetClass="entr" presetID="10">
                                  <p:stCondLst>
                                    <p:cond delay="0"/>
                                  </p:stCondLst>
                                  <p:childTnLst>
                                    <p:set>
                                      <p:cBhvr>
                                        <p:cTn id="868" dur="1" fill="hold">
                                          <p:stCondLst>
                                            <p:cond delay="0"/>
                                          </p:stCondLst>
                                        </p:cTn>
                                        <p:tgtEl>
                                          <p:spTgt spid="1304"/>
                                        </p:tgtEl>
                                        <p:attrNameLst>
                                          <p:attrName>style.visibility</p:attrName>
                                        </p:attrNameLst>
                                      </p:cBhvr>
                                      <p:to>
                                        <p:strVal val="visible"/>
                                      </p:to>
                                    </p:set>
                                    <p:animEffect filter="fade" transition="in">
                                      <p:cBhvr additive="repl">
                                        <p:cTn id="869" dur="500"/>
                                        <p:tgtEl>
                                          <p:spTgt spid="1304"/>
                                        </p:tgtEl>
                                      </p:cBhvr>
                                    </p:animEffect>
                                  </p:childTnLst>
                                </p:cTn>
                              </p:par>
                            </p:childTnLst>
                          </p:cTn>
                        </p:par>
                        <p:par>
                          <p:cTn id="870" fill="hold">
                            <p:stCondLst>
                              <p:cond delay="6500"/>
                            </p:stCondLst>
                            <p:childTnLst>
                              <p:par>
                                <p:cTn id="871" nodeType="afterEffect" fill="hold" presetClass="entr" presetID="10">
                                  <p:stCondLst>
                                    <p:cond delay="0"/>
                                  </p:stCondLst>
                                  <p:childTnLst>
                                    <p:set>
                                      <p:cBhvr>
                                        <p:cTn id="872" dur="1" fill="hold">
                                          <p:stCondLst>
                                            <p:cond delay="0"/>
                                          </p:stCondLst>
                                        </p:cTn>
                                        <p:tgtEl>
                                          <p:spTgt spid="1331">
                                            <p:txEl>
                                              <p:pRg st="0" end="0"/>
                                            </p:txEl>
                                          </p:spTgt>
                                        </p:tgtEl>
                                        <p:attrNameLst>
                                          <p:attrName>style.visibility</p:attrName>
                                        </p:attrNameLst>
                                      </p:cBhvr>
                                      <p:to>
                                        <p:strVal val="visible"/>
                                      </p:to>
                                    </p:set>
                                    <p:animEffect filter="fade" transition="in">
                                      <p:cBhvr additive="repl">
                                        <p:cTn id="873" dur="500"/>
                                        <p:tgtEl>
                                          <p:spTgt spid="1331">
                                            <p:txEl>
                                              <p:pRg st="0" end="0"/>
                                            </p:txEl>
                                          </p:spTgt>
                                        </p:tgtEl>
                                      </p:cBhvr>
                                    </p:animEffect>
                                  </p:childTnLst>
                                </p:cTn>
                              </p:par>
                            </p:childTnLst>
                          </p:cTn>
                        </p:par>
                        <p:par>
                          <p:cTn id="874" fill="hold">
                            <p:stCondLst>
                              <p:cond delay="7000"/>
                            </p:stCondLst>
                            <p:childTnLst>
                              <p:par>
                                <p:cTn id="875" nodeType="afterEffect" fill="hold" presetClass="entr" presetID="10">
                                  <p:stCondLst>
                                    <p:cond delay="0"/>
                                  </p:stCondLst>
                                  <p:childTnLst>
                                    <p:set>
                                      <p:cBhvr>
                                        <p:cTn id="876" dur="1" fill="hold">
                                          <p:stCondLst>
                                            <p:cond delay="0"/>
                                          </p:stCondLst>
                                        </p:cTn>
                                        <p:tgtEl>
                                          <p:spTgt spid="1323">
                                            <p:txEl>
                                              <p:pRg st="0" end="0"/>
                                            </p:txEl>
                                          </p:spTgt>
                                        </p:tgtEl>
                                        <p:attrNameLst>
                                          <p:attrName>style.visibility</p:attrName>
                                        </p:attrNameLst>
                                      </p:cBhvr>
                                      <p:to>
                                        <p:strVal val="visible"/>
                                      </p:to>
                                    </p:set>
                                    <p:animEffect filter="fade" transition="in">
                                      <p:cBhvr additive="repl">
                                        <p:cTn id="877" dur="500"/>
                                        <p:tgtEl>
                                          <p:spTgt spid="1323">
                                            <p:txEl>
                                              <p:pRg st="0" end="0"/>
                                            </p:txEl>
                                          </p:spTgt>
                                        </p:tgtEl>
                                      </p:cBhvr>
                                    </p:animEffect>
                                  </p:childTnLst>
                                </p:cTn>
                              </p:par>
                              <p:par>
                                <p:cTn id="878" nodeType="withEffect" fill="hold" presetClass="entr" presetID="10">
                                  <p:stCondLst>
                                    <p:cond delay="0"/>
                                  </p:stCondLst>
                                  <p:childTnLst>
                                    <p:set>
                                      <p:cBhvr>
                                        <p:cTn id="879" dur="1" fill="hold">
                                          <p:stCondLst>
                                            <p:cond delay="0"/>
                                          </p:stCondLst>
                                        </p:cTn>
                                        <p:tgtEl>
                                          <p:spTgt spid="1307"/>
                                        </p:tgtEl>
                                        <p:attrNameLst>
                                          <p:attrName>style.visibility</p:attrName>
                                        </p:attrNameLst>
                                      </p:cBhvr>
                                      <p:to>
                                        <p:strVal val="visible"/>
                                      </p:to>
                                    </p:set>
                                    <p:animEffect filter="fade" transition="in">
                                      <p:cBhvr additive="repl">
                                        <p:cTn id="880" dur="500"/>
                                        <p:tgtEl>
                                          <p:spTgt spid="1307"/>
                                        </p:tgtEl>
                                      </p:cBhvr>
                                    </p:animEffect>
                                  </p:childTnLst>
                                </p:cTn>
                              </p:par>
                            </p:childTnLst>
                          </p:cTn>
                        </p:par>
                        <p:par>
                          <p:cTn id="881" fill="hold">
                            <p:stCondLst>
                              <p:cond delay="7500"/>
                            </p:stCondLst>
                            <p:childTnLst>
                              <p:par>
                                <p:cTn id="882" nodeType="afterEffect" fill="hold" presetClass="entr" presetID="10">
                                  <p:stCondLst>
                                    <p:cond delay="0"/>
                                  </p:stCondLst>
                                  <p:childTnLst>
                                    <p:set>
                                      <p:cBhvr>
                                        <p:cTn id="883" dur="1" fill="hold">
                                          <p:stCondLst>
                                            <p:cond delay="0"/>
                                          </p:stCondLst>
                                        </p:cTn>
                                        <p:tgtEl>
                                          <p:spTgt spid="1332">
                                            <p:txEl>
                                              <p:pRg st="0" end="0"/>
                                            </p:txEl>
                                          </p:spTgt>
                                        </p:tgtEl>
                                        <p:attrNameLst>
                                          <p:attrName>style.visibility</p:attrName>
                                        </p:attrNameLst>
                                      </p:cBhvr>
                                      <p:to>
                                        <p:strVal val="visible"/>
                                      </p:to>
                                    </p:set>
                                    <p:animEffect filter="fade" transition="in">
                                      <p:cBhvr additive="repl">
                                        <p:cTn id="884" dur="500"/>
                                        <p:tgtEl>
                                          <p:spTgt spid="1332">
                                            <p:txEl>
                                              <p:pRg st="0" end="0"/>
                                            </p:txEl>
                                          </p:spTgt>
                                        </p:tgtEl>
                                      </p:cBhvr>
                                    </p:animEffect>
                                  </p:childTnLst>
                                </p:cTn>
                              </p:par>
                            </p:childTnLst>
                          </p:cTn>
                        </p:par>
                        <p:par>
                          <p:cTn id="885" fill="hold">
                            <p:stCondLst>
                              <p:cond delay="8000"/>
                            </p:stCondLst>
                            <p:childTnLst>
                              <p:par>
                                <p:cTn id="886" nodeType="afterEffect" fill="hold" presetClass="entr" presetID="10">
                                  <p:stCondLst>
                                    <p:cond delay="0"/>
                                  </p:stCondLst>
                                  <p:childTnLst>
                                    <p:set>
                                      <p:cBhvr>
                                        <p:cTn id="887" dur="1" fill="hold">
                                          <p:stCondLst>
                                            <p:cond delay="0"/>
                                          </p:stCondLst>
                                        </p:cTn>
                                        <p:tgtEl>
                                          <p:spTgt spid="1324">
                                            <p:txEl>
                                              <p:pRg st="0" end="0"/>
                                            </p:txEl>
                                          </p:spTgt>
                                        </p:tgtEl>
                                        <p:attrNameLst>
                                          <p:attrName>style.visibility</p:attrName>
                                        </p:attrNameLst>
                                      </p:cBhvr>
                                      <p:to>
                                        <p:strVal val="visible"/>
                                      </p:to>
                                    </p:set>
                                    <p:animEffect filter="fade" transition="in">
                                      <p:cBhvr additive="repl">
                                        <p:cTn id="888" dur="500"/>
                                        <p:tgtEl>
                                          <p:spTgt spid="1324">
                                            <p:txEl>
                                              <p:pRg st="0" end="0"/>
                                            </p:txEl>
                                          </p:spTgt>
                                        </p:tgtEl>
                                      </p:cBhvr>
                                    </p:animEffect>
                                  </p:childTnLst>
                                </p:cTn>
                              </p:par>
                              <p:par>
                                <p:cTn id="889" nodeType="withEffect" fill="hold" presetClass="entr" presetID="10">
                                  <p:stCondLst>
                                    <p:cond delay="0"/>
                                  </p:stCondLst>
                                  <p:childTnLst>
                                    <p:set>
                                      <p:cBhvr>
                                        <p:cTn id="890" dur="1" fill="hold">
                                          <p:stCondLst>
                                            <p:cond delay="0"/>
                                          </p:stCondLst>
                                        </p:cTn>
                                        <p:tgtEl>
                                          <p:spTgt spid="1310"/>
                                        </p:tgtEl>
                                        <p:attrNameLst>
                                          <p:attrName>style.visibility</p:attrName>
                                        </p:attrNameLst>
                                      </p:cBhvr>
                                      <p:to>
                                        <p:strVal val="visible"/>
                                      </p:to>
                                    </p:set>
                                    <p:animEffect filter="fade" transition="in">
                                      <p:cBhvr additive="repl">
                                        <p:cTn id="891" dur="500"/>
                                        <p:tgtEl>
                                          <p:spTgt spid="1310"/>
                                        </p:tgtEl>
                                      </p:cBhvr>
                                    </p:animEffect>
                                  </p:childTnLst>
                                </p:cTn>
                              </p:par>
                            </p:childTnLst>
                          </p:cTn>
                        </p:par>
                        <p:par>
                          <p:cTn id="892" fill="hold">
                            <p:stCondLst>
                              <p:cond delay="8500"/>
                            </p:stCondLst>
                            <p:childTnLst>
                              <p:par>
                                <p:cTn id="893" nodeType="afterEffect" fill="hold" presetClass="entr" presetID="10">
                                  <p:stCondLst>
                                    <p:cond delay="0"/>
                                  </p:stCondLst>
                                  <p:childTnLst>
                                    <p:set>
                                      <p:cBhvr>
                                        <p:cTn id="894" dur="1" fill="hold">
                                          <p:stCondLst>
                                            <p:cond delay="0"/>
                                          </p:stCondLst>
                                        </p:cTn>
                                        <p:tgtEl>
                                          <p:spTgt spid="1333">
                                            <p:txEl>
                                              <p:pRg st="0" end="0"/>
                                            </p:txEl>
                                          </p:spTgt>
                                        </p:tgtEl>
                                        <p:attrNameLst>
                                          <p:attrName>style.visibility</p:attrName>
                                        </p:attrNameLst>
                                      </p:cBhvr>
                                      <p:to>
                                        <p:strVal val="visible"/>
                                      </p:to>
                                    </p:set>
                                    <p:animEffect filter="fade" transition="in">
                                      <p:cBhvr additive="repl">
                                        <p:cTn id="895" dur="500"/>
                                        <p:tgtEl>
                                          <p:spTgt spid="1333">
                                            <p:txEl>
                                              <p:pRg st="0" end="0"/>
                                            </p:txEl>
                                          </p:spTgt>
                                        </p:tgtEl>
                                      </p:cBhvr>
                                    </p:animEffect>
                                  </p:childTnLst>
                                </p:cTn>
                              </p:par>
                            </p:childTnLst>
                          </p:cTn>
                        </p:par>
                        <p:par>
                          <p:cTn id="896" fill="hold">
                            <p:stCondLst>
                              <p:cond delay="9000"/>
                            </p:stCondLst>
                            <p:childTnLst>
                              <p:par>
                                <p:cTn id="897" nodeType="afterEffect" fill="hold" presetClass="entr" presetID="10">
                                  <p:stCondLst>
                                    <p:cond delay="0"/>
                                  </p:stCondLst>
                                  <p:childTnLst>
                                    <p:set>
                                      <p:cBhvr>
                                        <p:cTn id="898" dur="1" fill="hold">
                                          <p:stCondLst>
                                            <p:cond delay="0"/>
                                          </p:stCondLst>
                                        </p:cTn>
                                        <p:tgtEl>
                                          <p:spTgt spid="1325">
                                            <p:txEl>
                                              <p:pRg st="0" end="0"/>
                                            </p:txEl>
                                          </p:spTgt>
                                        </p:tgtEl>
                                        <p:attrNameLst>
                                          <p:attrName>style.visibility</p:attrName>
                                        </p:attrNameLst>
                                      </p:cBhvr>
                                      <p:to>
                                        <p:strVal val="visible"/>
                                      </p:to>
                                    </p:set>
                                    <p:animEffect filter="fade" transition="in">
                                      <p:cBhvr additive="repl">
                                        <p:cTn id="899" dur="500"/>
                                        <p:tgtEl>
                                          <p:spTgt spid="1325">
                                            <p:txEl>
                                              <p:pRg st="0" end="0"/>
                                            </p:txEl>
                                          </p:spTgt>
                                        </p:tgtEl>
                                      </p:cBhvr>
                                    </p:animEffect>
                                  </p:childTnLst>
                                </p:cTn>
                              </p:par>
                              <p:par>
                                <p:cTn id="900" nodeType="withEffect" fill="hold" presetClass="entr" presetID="10">
                                  <p:stCondLst>
                                    <p:cond delay="0"/>
                                  </p:stCondLst>
                                  <p:childTnLst>
                                    <p:set>
                                      <p:cBhvr>
                                        <p:cTn id="901" dur="1" fill="hold">
                                          <p:stCondLst>
                                            <p:cond delay="0"/>
                                          </p:stCondLst>
                                        </p:cTn>
                                        <p:tgtEl>
                                          <p:spTgt spid="1313"/>
                                        </p:tgtEl>
                                        <p:attrNameLst>
                                          <p:attrName>style.visibility</p:attrName>
                                        </p:attrNameLst>
                                      </p:cBhvr>
                                      <p:to>
                                        <p:strVal val="visible"/>
                                      </p:to>
                                    </p:set>
                                    <p:animEffect filter="fade" transition="in">
                                      <p:cBhvr additive="repl">
                                        <p:cTn id="902" dur="500"/>
                                        <p:tgtEl>
                                          <p:spTgt spid="1313"/>
                                        </p:tgtEl>
                                      </p:cBhvr>
                                    </p:animEffect>
                                  </p:childTnLst>
                                </p:cTn>
                              </p:par>
                            </p:childTnLst>
                          </p:cTn>
                        </p:par>
                        <p:par>
                          <p:cTn id="903" fill="hold">
                            <p:stCondLst>
                              <p:cond delay="9500"/>
                            </p:stCondLst>
                            <p:childTnLst>
                              <p:par>
                                <p:cTn id="904" nodeType="afterEffect" fill="hold" presetClass="entr" presetID="10">
                                  <p:stCondLst>
                                    <p:cond delay="0"/>
                                  </p:stCondLst>
                                  <p:childTnLst>
                                    <p:set>
                                      <p:cBhvr>
                                        <p:cTn id="905" dur="1" fill="hold">
                                          <p:stCondLst>
                                            <p:cond delay="0"/>
                                          </p:stCondLst>
                                        </p:cTn>
                                        <p:tgtEl>
                                          <p:spTgt spid="1334">
                                            <p:txEl>
                                              <p:pRg st="0" end="0"/>
                                            </p:txEl>
                                          </p:spTgt>
                                        </p:tgtEl>
                                        <p:attrNameLst>
                                          <p:attrName>style.visibility</p:attrName>
                                        </p:attrNameLst>
                                      </p:cBhvr>
                                      <p:to>
                                        <p:strVal val="visible"/>
                                      </p:to>
                                    </p:set>
                                    <p:animEffect filter="fade" transition="in">
                                      <p:cBhvr additive="repl">
                                        <p:cTn id="906" dur="500"/>
                                        <p:tgtEl>
                                          <p:spTgt spid="1334">
                                            <p:txEl>
                                              <p:pRg st="0" end="0"/>
                                            </p:txEl>
                                          </p:spTgt>
                                        </p:tgtEl>
                                      </p:cBhvr>
                                    </p:animEffect>
                                  </p:childTnLst>
                                </p:cTn>
                              </p:par>
                            </p:childTnLst>
                          </p:cTn>
                        </p:par>
                        <p:par>
                          <p:cTn id="907" fill="hold">
                            <p:stCondLst>
                              <p:cond delay="10000"/>
                            </p:stCondLst>
                            <p:childTnLst>
                              <p:par>
                                <p:cTn id="908" nodeType="afterEffect" fill="hold" presetClass="entr" presetID="10">
                                  <p:stCondLst>
                                    <p:cond delay="0"/>
                                  </p:stCondLst>
                                  <p:childTnLst>
                                    <p:set>
                                      <p:cBhvr>
                                        <p:cTn id="909" dur="1" fill="hold">
                                          <p:stCondLst>
                                            <p:cond delay="0"/>
                                          </p:stCondLst>
                                        </p:cTn>
                                        <p:tgtEl>
                                          <p:spTgt spid="1326">
                                            <p:txEl>
                                              <p:pRg st="0" end="0"/>
                                            </p:txEl>
                                          </p:spTgt>
                                        </p:tgtEl>
                                        <p:attrNameLst>
                                          <p:attrName>style.visibility</p:attrName>
                                        </p:attrNameLst>
                                      </p:cBhvr>
                                      <p:to>
                                        <p:strVal val="visible"/>
                                      </p:to>
                                    </p:set>
                                    <p:animEffect filter="fade" transition="in">
                                      <p:cBhvr additive="repl">
                                        <p:cTn id="910" dur="500"/>
                                        <p:tgtEl>
                                          <p:spTgt spid="1326">
                                            <p:txEl>
                                              <p:pRg st="0" end="0"/>
                                            </p:txEl>
                                          </p:spTgt>
                                        </p:tgtEl>
                                      </p:cBhvr>
                                    </p:animEffect>
                                  </p:childTnLst>
                                </p:cTn>
                              </p:par>
                              <p:par>
                                <p:cTn id="911" nodeType="withEffect" fill="hold" presetClass="entr" presetID="10">
                                  <p:stCondLst>
                                    <p:cond delay="0"/>
                                  </p:stCondLst>
                                  <p:childTnLst>
                                    <p:set>
                                      <p:cBhvr>
                                        <p:cTn id="912" dur="1" fill="hold">
                                          <p:stCondLst>
                                            <p:cond delay="0"/>
                                          </p:stCondLst>
                                        </p:cTn>
                                        <p:tgtEl>
                                          <p:spTgt spid="1316"/>
                                        </p:tgtEl>
                                        <p:attrNameLst>
                                          <p:attrName>style.visibility</p:attrName>
                                        </p:attrNameLst>
                                      </p:cBhvr>
                                      <p:to>
                                        <p:strVal val="visible"/>
                                      </p:to>
                                    </p:set>
                                    <p:animEffect filter="fade" transition="in">
                                      <p:cBhvr additive="repl">
                                        <p:cTn id="913"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13"/>
          <p:cNvSpPr/>
          <p:nvPr/>
        </p:nvSpPr>
        <p:spPr>
          <a:xfrm>
            <a:off x="1103400" y="3983040"/>
            <a:ext cx="115920" cy="13320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2" name="Rectangle 17"/>
          <p:cNvSpPr/>
          <p:nvPr/>
        </p:nvSpPr>
        <p:spPr>
          <a:xfrm>
            <a:off x="1119240" y="4307040"/>
            <a:ext cx="2197080" cy="72720"/>
          </a:xfrm>
          <a:prstGeom prst="rect">
            <a:avLst/>
          </a:prstGeom>
          <a:solidFill>
            <a:srgbClr val="5267a5"/>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3" name="Rectangle 19"/>
          <p:cNvSpPr/>
          <p:nvPr/>
        </p:nvSpPr>
        <p:spPr>
          <a:xfrm>
            <a:off x="1119240" y="4307040"/>
            <a:ext cx="1942920" cy="7272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4" name="Rectangle 29"/>
          <p:cNvSpPr/>
          <p:nvPr/>
        </p:nvSpPr>
        <p:spPr>
          <a:xfrm>
            <a:off x="3706920" y="3983040"/>
            <a:ext cx="114120" cy="13320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5" name="Rectangle 33"/>
          <p:cNvSpPr/>
          <p:nvPr/>
        </p:nvSpPr>
        <p:spPr>
          <a:xfrm>
            <a:off x="3722760" y="4307040"/>
            <a:ext cx="2197080" cy="72720"/>
          </a:xfrm>
          <a:prstGeom prst="rect">
            <a:avLst/>
          </a:prstGeom>
          <a:solidFill>
            <a:srgbClr val="5267a5"/>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6" name="Rectangle 35"/>
          <p:cNvSpPr/>
          <p:nvPr/>
        </p:nvSpPr>
        <p:spPr>
          <a:xfrm>
            <a:off x="3722760" y="4305240"/>
            <a:ext cx="939600" cy="7632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7" name="Rectangle 45"/>
          <p:cNvSpPr/>
          <p:nvPr/>
        </p:nvSpPr>
        <p:spPr>
          <a:xfrm>
            <a:off x="6321600" y="3983040"/>
            <a:ext cx="115560" cy="13320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8" name="Rectangle 49"/>
          <p:cNvSpPr/>
          <p:nvPr/>
        </p:nvSpPr>
        <p:spPr>
          <a:xfrm>
            <a:off x="6338880" y="4307040"/>
            <a:ext cx="2195640" cy="72720"/>
          </a:xfrm>
          <a:prstGeom prst="rect">
            <a:avLst/>
          </a:prstGeom>
          <a:solidFill>
            <a:srgbClr val="5267a5"/>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49" name="Rectangle 51"/>
          <p:cNvSpPr/>
          <p:nvPr/>
        </p:nvSpPr>
        <p:spPr>
          <a:xfrm>
            <a:off x="6338880" y="4305240"/>
            <a:ext cx="1087560" cy="7632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50" name="Rectangle 61"/>
          <p:cNvSpPr/>
          <p:nvPr/>
        </p:nvSpPr>
        <p:spPr>
          <a:xfrm>
            <a:off x="8924760" y="3983040"/>
            <a:ext cx="115920" cy="13320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51" name="Rectangle 65"/>
          <p:cNvSpPr/>
          <p:nvPr/>
        </p:nvSpPr>
        <p:spPr>
          <a:xfrm>
            <a:off x="8940960" y="4307040"/>
            <a:ext cx="2197080" cy="72720"/>
          </a:xfrm>
          <a:prstGeom prst="rect">
            <a:avLst/>
          </a:prstGeom>
          <a:solidFill>
            <a:srgbClr val="5267a5"/>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52" name="Rectangle 67"/>
          <p:cNvSpPr/>
          <p:nvPr/>
        </p:nvSpPr>
        <p:spPr>
          <a:xfrm>
            <a:off x="8940960" y="4305240"/>
            <a:ext cx="1714320" cy="76320"/>
          </a:xfrm>
          <a:prstGeom prst="rect">
            <a:avLst/>
          </a:prstGeom>
          <a:solidFill>
            <a:srgbClr val="00a09c"/>
          </a:solidFill>
          <a:ln w="25560">
            <a:solidFill>
              <a:srgbClr val="494949">
                <a:alpha val="0"/>
              </a:srgbClr>
            </a:solidFill>
            <a:miter/>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53"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PROJECTS UNDER WORK</a:t>
            </a:r>
            <a:endParaRPr b="0" lang="en-US" sz="3600" spc="-1" strike="noStrike">
              <a:solidFill>
                <a:srgbClr val="494949"/>
              </a:solidFill>
              <a:latin typeface="Lato Heavy"/>
            </a:endParaRPr>
          </a:p>
        </p:txBody>
      </p:sp>
      <p:sp>
        <p:nvSpPr>
          <p:cNvPr id="1354"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355" name="PlaceHolder 3"/>
          <p:cNvSpPr>
            <a:spLocks noGrp="1"/>
          </p:cNvSpPr>
          <p:nvPr>
            <p:ph/>
          </p:nvPr>
        </p:nvSpPr>
        <p:spPr>
          <a:xfrm>
            <a:off x="1120320" y="5022360"/>
            <a:ext cx="2189160" cy="105732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356" name="PlaceHolder 4"/>
          <p:cNvSpPr>
            <a:spLocks noGrp="1"/>
          </p:cNvSpPr>
          <p:nvPr>
            <p:ph/>
          </p:nvPr>
        </p:nvSpPr>
        <p:spPr>
          <a:xfrm>
            <a:off x="3706560" y="5022360"/>
            <a:ext cx="2189160" cy="105732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357" name="PlaceHolder 5"/>
          <p:cNvSpPr>
            <a:spLocks noGrp="1"/>
          </p:cNvSpPr>
          <p:nvPr>
            <p:ph/>
          </p:nvPr>
        </p:nvSpPr>
        <p:spPr>
          <a:xfrm>
            <a:off x="8940600" y="5022360"/>
            <a:ext cx="2189160" cy="105732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358" name="PlaceHolder 6"/>
          <p:cNvSpPr>
            <a:spLocks noGrp="1"/>
          </p:cNvSpPr>
          <p:nvPr>
            <p:ph/>
          </p:nvPr>
        </p:nvSpPr>
        <p:spPr>
          <a:xfrm>
            <a:off x="6343560" y="5022360"/>
            <a:ext cx="2190960" cy="105732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359" name="PlaceHolder 7"/>
          <p:cNvSpPr>
            <a:spLocks noGrp="1"/>
          </p:cNvSpPr>
          <p:nvPr>
            <p:ph/>
          </p:nvPr>
        </p:nvSpPr>
        <p:spPr>
          <a:xfrm>
            <a:off x="1118880" y="4514760"/>
            <a:ext cx="2190600" cy="295200"/>
          </a:xfrm>
          <a:prstGeom prst="rect">
            <a:avLst/>
          </a:prstGeom>
          <a:noFill/>
          <a:ln w="0">
            <a:noFill/>
          </a:ln>
        </p:spPr>
        <p:txBody>
          <a:bodyPr lIns="0" r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898989"/>
                </a:solidFill>
                <a:latin typeface="Open Sans Light"/>
              </a:rPr>
              <a:t>Progress Complete (90%)</a:t>
            </a:r>
            <a:endParaRPr b="0" lang="en-US" sz="1200" spc="-1" strike="noStrike">
              <a:solidFill>
                <a:srgbClr val="494949"/>
              </a:solidFill>
              <a:latin typeface="Open Sans Light"/>
            </a:endParaRPr>
          </a:p>
        </p:txBody>
      </p:sp>
      <p:sp>
        <p:nvSpPr>
          <p:cNvPr id="1360" name="PlaceHolder 8"/>
          <p:cNvSpPr>
            <a:spLocks noGrp="1"/>
          </p:cNvSpPr>
          <p:nvPr>
            <p:ph/>
          </p:nvPr>
        </p:nvSpPr>
        <p:spPr>
          <a:xfrm>
            <a:off x="3722400" y="4516200"/>
            <a:ext cx="2197080" cy="293400"/>
          </a:xfrm>
          <a:prstGeom prst="rect">
            <a:avLst/>
          </a:prstGeom>
          <a:noFill/>
          <a:ln w="0">
            <a:noFill/>
          </a:ln>
        </p:spPr>
        <p:txBody>
          <a:bodyPr lIns="0" r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898989"/>
                </a:solidFill>
                <a:latin typeface="Open Sans Light"/>
              </a:rPr>
              <a:t>Progress Complete (40%)</a:t>
            </a:r>
            <a:endParaRPr b="0" lang="en-US" sz="1200" spc="-1" strike="noStrike">
              <a:solidFill>
                <a:srgbClr val="494949"/>
              </a:solidFill>
              <a:latin typeface="Open Sans Light"/>
            </a:endParaRPr>
          </a:p>
        </p:txBody>
      </p:sp>
      <p:sp>
        <p:nvSpPr>
          <p:cNvPr id="1361" name="PlaceHolder 9"/>
          <p:cNvSpPr>
            <a:spLocks noGrp="1"/>
          </p:cNvSpPr>
          <p:nvPr>
            <p:ph/>
          </p:nvPr>
        </p:nvSpPr>
        <p:spPr>
          <a:xfrm>
            <a:off x="8918280" y="4514760"/>
            <a:ext cx="2190600" cy="295200"/>
          </a:xfrm>
          <a:prstGeom prst="rect">
            <a:avLst/>
          </a:prstGeom>
          <a:noFill/>
          <a:ln w="0">
            <a:noFill/>
          </a:ln>
        </p:spPr>
        <p:txBody>
          <a:bodyPr lIns="0" r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898989"/>
                </a:solidFill>
                <a:latin typeface="Open Sans Light"/>
              </a:rPr>
              <a:t>Progress Complete (50%)</a:t>
            </a:r>
            <a:endParaRPr b="0" lang="en-US" sz="1200" spc="-1" strike="noStrike">
              <a:solidFill>
                <a:srgbClr val="494949"/>
              </a:solidFill>
              <a:latin typeface="Open Sans Light"/>
            </a:endParaRPr>
          </a:p>
        </p:txBody>
      </p:sp>
      <p:sp>
        <p:nvSpPr>
          <p:cNvPr id="1362" name="PlaceHolder 10"/>
          <p:cNvSpPr>
            <a:spLocks noGrp="1"/>
          </p:cNvSpPr>
          <p:nvPr>
            <p:ph/>
          </p:nvPr>
        </p:nvSpPr>
        <p:spPr>
          <a:xfrm>
            <a:off x="6338520" y="4516200"/>
            <a:ext cx="2195640" cy="293400"/>
          </a:xfrm>
          <a:prstGeom prst="rect">
            <a:avLst/>
          </a:prstGeom>
          <a:noFill/>
          <a:ln w="0">
            <a:noFill/>
          </a:ln>
        </p:spPr>
        <p:txBody>
          <a:bodyPr lIns="0" rIns="0" anchor="t">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898989"/>
                </a:solidFill>
                <a:latin typeface="Open Sans Light"/>
              </a:rPr>
              <a:t>Progress Complete (80%)</a:t>
            </a:r>
            <a:endParaRPr b="0" lang="en-US" sz="1200" spc="-1" strike="noStrike">
              <a:solidFill>
                <a:srgbClr val="494949"/>
              </a:solidFill>
              <a:latin typeface="Open Sans Light"/>
            </a:endParaRPr>
          </a:p>
        </p:txBody>
      </p:sp>
      <p:sp>
        <p:nvSpPr>
          <p:cNvPr id="1363" name="PlaceHolder 11"/>
          <p:cNvSpPr>
            <a:spLocks noGrp="1"/>
          </p:cNvSpPr>
          <p:nvPr>
            <p:ph/>
          </p:nvPr>
        </p:nvSpPr>
        <p:spPr>
          <a:xfrm>
            <a:off x="1295280" y="3919680"/>
            <a:ext cx="1989360" cy="217440"/>
          </a:xfrm>
          <a:prstGeom prst="rect">
            <a:avLst/>
          </a:prstGeom>
          <a:noFill/>
          <a:ln w="0">
            <a:noFill/>
          </a:ln>
        </p:spPr>
        <p:txBody>
          <a:bodyPr anchor="t">
            <a:normAutofit fontScale="58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PROJECT ONE</a:t>
            </a:r>
            <a:endParaRPr b="0" lang="en-US" sz="1600" spc="-1" strike="noStrike">
              <a:solidFill>
                <a:srgbClr val="494949"/>
              </a:solidFill>
              <a:latin typeface="Open Sans Light"/>
            </a:endParaRPr>
          </a:p>
        </p:txBody>
      </p:sp>
      <p:sp>
        <p:nvSpPr>
          <p:cNvPr id="1364" name="Text Placeholder 8"/>
          <p:cNvSpPr/>
          <p:nvPr/>
        </p:nvSpPr>
        <p:spPr>
          <a:xfrm>
            <a:off x="3906720" y="3919680"/>
            <a:ext cx="1989360" cy="217440"/>
          </a:xfrm>
          <a:prstGeom prst="rect">
            <a:avLst/>
          </a:prstGeom>
          <a:noFill/>
          <a:ln w="0">
            <a:noFill/>
          </a:ln>
        </p:spPr>
        <p:style>
          <a:lnRef idx="0"/>
          <a:fillRef idx="0"/>
          <a:effectRef idx="0"/>
          <a:fontRef idx="minor"/>
        </p:style>
        <p:txBody>
          <a:bodyPr lIns="90000" rIns="90000" tIns="46800" bIns="46800" anchor="t">
            <a:normAutofit fontScale="57000"/>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PROJECT TWO</a:t>
            </a:r>
            <a:endParaRPr b="0" lang="en-US" sz="1600" spc="-1" strike="noStrike">
              <a:solidFill>
                <a:srgbClr val="494949"/>
              </a:solidFill>
              <a:latin typeface="Open Sans Light"/>
            </a:endParaRPr>
          </a:p>
        </p:txBody>
      </p:sp>
      <p:sp>
        <p:nvSpPr>
          <p:cNvPr id="1365" name="Text Placeholder 8"/>
          <p:cNvSpPr/>
          <p:nvPr/>
        </p:nvSpPr>
        <p:spPr>
          <a:xfrm>
            <a:off x="6516720" y="3919680"/>
            <a:ext cx="1989000" cy="217440"/>
          </a:xfrm>
          <a:prstGeom prst="rect">
            <a:avLst/>
          </a:prstGeom>
          <a:noFill/>
          <a:ln w="0">
            <a:noFill/>
          </a:ln>
        </p:spPr>
        <p:style>
          <a:lnRef idx="0"/>
          <a:fillRef idx="0"/>
          <a:effectRef idx="0"/>
          <a:fontRef idx="minor"/>
        </p:style>
        <p:txBody>
          <a:bodyPr lIns="90000" rIns="90000" tIns="46800" bIns="46800" anchor="t">
            <a:normAutofit fontScale="57000"/>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PROJECT THREE</a:t>
            </a:r>
            <a:endParaRPr b="0" lang="en-US" sz="1600" spc="-1" strike="noStrike">
              <a:solidFill>
                <a:srgbClr val="494949"/>
              </a:solidFill>
              <a:latin typeface="Open Sans Light"/>
            </a:endParaRPr>
          </a:p>
        </p:txBody>
      </p:sp>
      <p:sp>
        <p:nvSpPr>
          <p:cNvPr id="1366" name="Text Placeholder 8"/>
          <p:cNvSpPr/>
          <p:nvPr/>
        </p:nvSpPr>
        <p:spPr>
          <a:xfrm>
            <a:off x="9129600" y="3919680"/>
            <a:ext cx="1989360" cy="217440"/>
          </a:xfrm>
          <a:prstGeom prst="rect">
            <a:avLst/>
          </a:prstGeom>
          <a:noFill/>
          <a:ln w="0">
            <a:noFill/>
          </a:ln>
        </p:spPr>
        <p:style>
          <a:lnRef idx="0"/>
          <a:fillRef idx="0"/>
          <a:effectRef idx="0"/>
          <a:fontRef idx="minor"/>
        </p:style>
        <p:txBody>
          <a:bodyPr lIns="90000" rIns="90000" tIns="46800" bIns="46800" anchor="t">
            <a:normAutofit fontScale="57000"/>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898989"/>
                </a:solidFill>
                <a:latin typeface="Lato"/>
              </a:rPr>
              <a:t>PROJECT FOUR</a:t>
            </a:r>
            <a:endParaRPr b="0" lang="en-US" sz="1600" spc="-1" strike="noStrike">
              <a:solidFill>
                <a:srgbClr val="494949"/>
              </a:solidFill>
              <a:latin typeface="Open Sans Light"/>
            </a:endParaRPr>
          </a:p>
        </p:txBody>
      </p:sp>
      <p:pic>
        <p:nvPicPr>
          <p:cNvPr id="1367" name="" descr=""/>
          <p:cNvPicPr/>
          <p:nvPr/>
        </p:nvPicPr>
        <p:blipFill>
          <a:blip r:embed="rId1"/>
          <a:stretch/>
        </p:blipFill>
        <p:spPr>
          <a:xfrm>
            <a:off x="1079280" y="2300400"/>
            <a:ext cx="2205000" cy="1363680"/>
          </a:xfrm>
          <a:prstGeom prst="rect">
            <a:avLst/>
          </a:prstGeom>
          <a:ln w="0">
            <a:noFill/>
          </a:ln>
        </p:spPr>
      </p:pic>
      <p:pic>
        <p:nvPicPr>
          <p:cNvPr id="1368" name="" descr=""/>
          <p:cNvPicPr/>
          <p:nvPr/>
        </p:nvPicPr>
        <p:blipFill>
          <a:blip r:embed="rId2"/>
          <a:stretch/>
        </p:blipFill>
        <p:spPr>
          <a:xfrm>
            <a:off x="3690720" y="2300400"/>
            <a:ext cx="2205000" cy="1363680"/>
          </a:xfrm>
          <a:prstGeom prst="rect">
            <a:avLst/>
          </a:prstGeom>
          <a:ln w="0">
            <a:noFill/>
          </a:ln>
        </p:spPr>
      </p:pic>
      <p:pic>
        <p:nvPicPr>
          <p:cNvPr id="1369" name="" descr=""/>
          <p:cNvPicPr/>
          <p:nvPr/>
        </p:nvPicPr>
        <p:blipFill>
          <a:blip r:embed="rId3"/>
          <a:stretch/>
        </p:blipFill>
        <p:spPr>
          <a:xfrm>
            <a:off x="6300360" y="2300400"/>
            <a:ext cx="2205000" cy="1363680"/>
          </a:xfrm>
          <a:prstGeom prst="rect">
            <a:avLst/>
          </a:prstGeom>
          <a:ln w="0">
            <a:noFill/>
          </a:ln>
        </p:spPr>
      </p:pic>
      <p:pic>
        <p:nvPicPr>
          <p:cNvPr id="1370" name="" descr=""/>
          <p:cNvPicPr/>
          <p:nvPr/>
        </p:nvPicPr>
        <p:blipFill>
          <a:blip r:embed="rId4"/>
          <a:stretch/>
        </p:blipFill>
        <p:spPr>
          <a:xfrm>
            <a:off x="8911800" y="2300400"/>
            <a:ext cx="2205000" cy="1363680"/>
          </a:xfrm>
          <a:prstGeom prst="rect">
            <a:avLst/>
          </a:prstGeom>
          <a:ln w="0">
            <a:noFill/>
          </a:ln>
        </p:spPr>
      </p:pic>
    </p:spTree>
  </p:cSld>
  <p:transition spd="med">
    <p:fade/>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0">
                                  <p:stCondLst>
                                    <p:cond delay="0"/>
                                  </p:stCondLst>
                                  <p:childTnLst>
                                    <p:set>
                                      <p:cBhvr>
                                        <p:cTn id="919" dur="1" fill="hold">
                                          <p:stCondLst>
                                            <p:cond delay="0"/>
                                          </p:stCondLst>
                                        </p:cTn>
                                        <p:tgtEl>
                                          <p:spTgt spid="1341"/>
                                        </p:tgtEl>
                                        <p:attrNameLst>
                                          <p:attrName>style.visibility</p:attrName>
                                        </p:attrNameLst>
                                      </p:cBhvr>
                                      <p:to>
                                        <p:strVal val="visible"/>
                                      </p:to>
                                    </p:set>
                                    <p:animEffect filter="fade" transition="in">
                                      <p:cBhvr additive="repl">
                                        <p:cTn id="920" dur="500"/>
                                        <p:tgtEl>
                                          <p:spTgt spid="1341"/>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1363">
                                            <p:txEl>
                                              <p:pRg st="0" end="0"/>
                                            </p:txEl>
                                          </p:spTgt>
                                        </p:tgtEl>
                                        <p:attrNameLst>
                                          <p:attrName>style.visibility</p:attrName>
                                        </p:attrNameLst>
                                      </p:cBhvr>
                                      <p:to>
                                        <p:strVal val="visible"/>
                                      </p:to>
                                    </p:set>
                                    <p:animEffect filter="wipe(left)" transition="in">
                                      <p:cBhvr additive="repl">
                                        <p:cTn id="924" dur="500"/>
                                        <p:tgtEl>
                                          <p:spTgt spid="1363">
                                            <p:txEl>
                                              <p:pRg st="0" end="0"/>
                                            </p:txEl>
                                          </p:spTgt>
                                        </p:tgtEl>
                                      </p:cBhvr>
                                    </p:animEffect>
                                  </p:childTnLst>
                                </p:cTn>
                              </p:par>
                            </p:childTnLst>
                          </p:cTn>
                        </p:par>
                        <p:par>
                          <p:cTn id="925" fill="hold">
                            <p:stCondLst>
                              <p:cond delay="1000"/>
                            </p:stCondLst>
                            <p:childTnLst>
                              <p:par>
                                <p:cTn id="926" nodeType="afterEffect" fill="hold" presetClass="entr" presetID="10">
                                  <p:stCondLst>
                                    <p:cond delay="0"/>
                                  </p:stCondLst>
                                  <p:childTnLst>
                                    <p:set>
                                      <p:cBhvr>
                                        <p:cTn id="927" dur="1" fill="hold">
                                          <p:stCondLst>
                                            <p:cond delay="0"/>
                                          </p:stCondLst>
                                        </p:cTn>
                                        <p:tgtEl>
                                          <p:spTgt spid="1342"/>
                                        </p:tgtEl>
                                        <p:attrNameLst>
                                          <p:attrName>style.visibility</p:attrName>
                                        </p:attrNameLst>
                                      </p:cBhvr>
                                      <p:to>
                                        <p:strVal val="visible"/>
                                      </p:to>
                                    </p:set>
                                    <p:animEffect filter="fade" transition="in">
                                      <p:cBhvr additive="repl">
                                        <p:cTn id="928" dur="500"/>
                                        <p:tgtEl>
                                          <p:spTgt spid="1342"/>
                                        </p:tgtEl>
                                      </p:cBhvr>
                                    </p:animEffect>
                                  </p:childTnLst>
                                </p:cTn>
                              </p:par>
                            </p:childTnLst>
                          </p:cTn>
                        </p:par>
                        <p:par>
                          <p:cTn id="929" fill="hold">
                            <p:stCondLst>
                              <p:cond delay="1500"/>
                            </p:stCondLst>
                            <p:childTnLst>
                              <p:par>
                                <p:cTn id="930" nodeType="afterEffect" fill="hold" presetClass="entr" presetID="22" presetSubtype="8">
                                  <p:stCondLst>
                                    <p:cond delay="0"/>
                                  </p:stCondLst>
                                  <p:childTnLst>
                                    <p:set>
                                      <p:cBhvr>
                                        <p:cTn id="931" dur="1" fill="hold">
                                          <p:stCondLst>
                                            <p:cond delay="0"/>
                                          </p:stCondLst>
                                        </p:cTn>
                                        <p:tgtEl>
                                          <p:spTgt spid="1343"/>
                                        </p:tgtEl>
                                        <p:attrNameLst>
                                          <p:attrName>style.visibility</p:attrName>
                                        </p:attrNameLst>
                                      </p:cBhvr>
                                      <p:to>
                                        <p:strVal val="visible"/>
                                      </p:to>
                                    </p:set>
                                    <p:animEffect filter="wipe(left)" transition="in">
                                      <p:cBhvr additive="repl">
                                        <p:cTn id="932" dur="300"/>
                                        <p:tgtEl>
                                          <p:spTgt spid="1343"/>
                                        </p:tgtEl>
                                      </p:cBhvr>
                                    </p:animEffect>
                                  </p:childTnLst>
                                </p:cTn>
                              </p:par>
                            </p:childTnLst>
                          </p:cTn>
                        </p:par>
                        <p:par>
                          <p:cTn id="933" fill="hold">
                            <p:stCondLst>
                              <p:cond delay="1800"/>
                            </p:stCondLst>
                            <p:childTnLst>
                              <p:par>
                                <p:cTn id="934" nodeType="afterEffect" fill="hold" presetClass="entr" presetID="10">
                                  <p:stCondLst>
                                    <p:cond delay="0"/>
                                  </p:stCondLst>
                                  <p:childTnLst>
                                    <p:set>
                                      <p:cBhvr>
                                        <p:cTn id="935" dur="1" fill="hold">
                                          <p:stCondLst>
                                            <p:cond delay="0"/>
                                          </p:stCondLst>
                                        </p:cTn>
                                        <p:tgtEl>
                                          <p:spTgt spid="1359">
                                            <p:txEl>
                                              <p:pRg st="0" end="0"/>
                                            </p:txEl>
                                          </p:spTgt>
                                        </p:tgtEl>
                                        <p:attrNameLst>
                                          <p:attrName>style.visibility</p:attrName>
                                        </p:attrNameLst>
                                      </p:cBhvr>
                                      <p:to>
                                        <p:strVal val="visible"/>
                                      </p:to>
                                    </p:set>
                                    <p:animEffect filter="fade" transition="in">
                                      <p:cBhvr additive="repl">
                                        <p:cTn id="936" dur="500"/>
                                        <p:tgtEl>
                                          <p:spTgt spid="1359">
                                            <p:txEl>
                                              <p:pRg st="0" end="0"/>
                                            </p:txEl>
                                          </p:spTgt>
                                        </p:tgtEl>
                                      </p:cBhvr>
                                    </p:animEffect>
                                  </p:childTnLst>
                                </p:cTn>
                              </p:par>
                            </p:childTnLst>
                          </p:cTn>
                        </p:par>
                        <p:par>
                          <p:cTn id="937" fill="hold">
                            <p:stCondLst>
                              <p:cond delay="2300"/>
                            </p:stCondLst>
                            <p:childTnLst>
                              <p:par>
                                <p:cTn id="938" nodeType="afterEffect" fill="hold" presetClass="entr" presetID="18" presetSubtype="6">
                                  <p:stCondLst>
                                    <p:cond delay="0"/>
                                  </p:stCondLst>
                                  <p:childTnLst>
                                    <p:set>
                                      <p:cBhvr>
                                        <p:cTn id="939" dur="1" fill="hold">
                                          <p:stCondLst>
                                            <p:cond delay="0"/>
                                          </p:stCondLst>
                                        </p:cTn>
                                        <p:tgtEl>
                                          <p:spTgt spid="1355">
                                            <p:txEl>
                                              <p:pRg st="0" end="0"/>
                                            </p:txEl>
                                          </p:spTgt>
                                        </p:tgtEl>
                                        <p:attrNameLst>
                                          <p:attrName>style.visibility</p:attrName>
                                        </p:attrNameLst>
                                      </p:cBhvr>
                                      <p:to>
                                        <p:strVal val="visible"/>
                                      </p:to>
                                    </p:set>
                                    <p:animEffect filter="strips(downRight)" transition="in">
                                      <p:cBhvr additive="repl">
                                        <p:cTn id="940" dur="500"/>
                                        <p:tgtEl>
                                          <p:spTgt spid="1355">
                                            <p:txEl>
                                              <p:pRg st="0" end="0"/>
                                            </p:txEl>
                                          </p:spTgt>
                                        </p:tgtEl>
                                      </p:cBhvr>
                                    </p:animEffect>
                                  </p:childTnLst>
                                </p:cTn>
                              </p:par>
                              <p:par>
                                <p:cTn id="941" nodeType="withEffect" fill="hold" presetClass="entr" presetID="18" presetSubtype="6">
                                  <p:stCondLst>
                                    <p:cond delay="0"/>
                                  </p:stCondLst>
                                  <p:childTnLst>
                                    <p:set>
                                      <p:cBhvr>
                                        <p:cTn id="942" dur="1" fill="hold">
                                          <p:stCondLst>
                                            <p:cond delay="0"/>
                                          </p:stCondLst>
                                        </p:cTn>
                                        <p:tgtEl>
                                          <p:spTgt spid="1355">
                                            <p:txEl>
                                              <p:pRg st="1" end="1"/>
                                            </p:txEl>
                                          </p:spTgt>
                                        </p:tgtEl>
                                        <p:attrNameLst>
                                          <p:attrName>style.visibility</p:attrName>
                                        </p:attrNameLst>
                                      </p:cBhvr>
                                      <p:to>
                                        <p:strVal val="visible"/>
                                      </p:to>
                                    </p:set>
                                    <p:animEffect filter="strips(downRight)" transition="in">
                                      <p:cBhvr additive="repl">
                                        <p:cTn id="943" dur="500"/>
                                        <p:tgtEl>
                                          <p:spTgt spid="1355">
                                            <p:txEl>
                                              <p:pRg st="1" end="1"/>
                                            </p:txEl>
                                          </p:spTgt>
                                        </p:tgtEl>
                                      </p:cBhvr>
                                    </p:animEffect>
                                  </p:childTnLst>
                                </p:cTn>
                              </p:par>
                              <p:par>
                                <p:cTn id="944" nodeType="withEffect" fill="hold" presetClass="entr" presetID="18" presetSubtype="6">
                                  <p:stCondLst>
                                    <p:cond delay="0"/>
                                  </p:stCondLst>
                                  <p:childTnLst>
                                    <p:set>
                                      <p:cBhvr>
                                        <p:cTn id="945" dur="1" fill="hold">
                                          <p:stCondLst>
                                            <p:cond delay="0"/>
                                          </p:stCondLst>
                                        </p:cTn>
                                        <p:tgtEl>
                                          <p:spTgt spid="1355">
                                            <p:txEl>
                                              <p:pRg st="2" end="2"/>
                                            </p:txEl>
                                          </p:spTgt>
                                        </p:tgtEl>
                                        <p:attrNameLst>
                                          <p:attrName>style.visibility</p:attrName>
                                        </p:attrNameLst>
                                      </p:cBhvr>
                                      <p:to>
                                        <p:strVal val="visible"/>
                                      </p:to>
                                    </p:set>
                                    <p:animEffect filter="strips(downRight)" transition="in">
                                      <p:cBhvr additive="repl">
                                        <p:cTn id="946" dur="500"/>
                                        <p:tgtEl>
                                          <p:spTgt spid="1355">
                                            <p:txEl>
                                              <p:pRg st="2" end="2"/>
                                            </p:txEl>
                                          </p:spTgt>
                                        </p:tgtEl>
                                      </p:cBhvr>
                                    </p:animEffect>
                                  </p:childTnLst>
                                </p:cTn>
                              </p:par>
                              <p:par>
                                <p:cTn id="947" nodeType="withEffect" fill="hold" presetClass="entr" presetID="18" presetSubtype="6">
                                  <p:stCondLst>
                                    <p:cond delay="0"/>
                                  </p:stCondLst>
                                  <p:childTnLst>
                                    <p:set>
                                      <p:cBhvr>
                                        <p:cTn id="948" dur="1" fill="hold">
                                          <p:stCondLst>
                                            <p:cond delay="0"/>
                                          </p:stCondLst>
                                        </p:cTn>
                                        <p:tgtEl>
                                          <p:spTgt spid="1355">
                                            <p:txEl>
                                              <p:pRg st="3" end="3"/>
                                            </p:txEl>
                                          </p:spTgt>
                                        </p:tgtEl>
                                        <p:attrNameLst>
                                          <p:attrName>style.visibility</p:attrName>
                                        </p:attrNameLst>
                                      </p:cBhvr>
                                      <p:to>
                                        <p:strVal val="visible"/>
                                      </p:to>
                                    </p:set>
                                    <p:animEffect filter="strips(downRight)" transition="in">
                                      <p:cBhvr additive="repl">
                                        <p:cTn id="949" dur="500"/>
                                        <p:tgtEl>
                                          <p:spTgt spid="1355">
                                            <p:txEl>
                                              <p:pRg st="3" end="3"/>
                                            </p:txEl>
                                          </p:spTgt>
                                        </p:tgtEl>
                                      </p:cBhvr>
                                    </p:animEffect>
                                  </p:childTnLst>
                                </p:cTn>
                              </p:par>
                              <p:par>
                                <p:cTn id="950" nodeType="withEffect" fill="hold" presetClass="entr" presetID="18" presetSubtype="6">
                                  <p:stCondLst>
                                    <p:cond delay="0"/>
                                  </p:stCondLst>
                                  <p:childTnLst>
                                    <p:set>
                                      <p:cBhvr>
                                        <p:cTn id="951" dur="1" fill="hold">
                                          <p:stCondLst>
                                            <p:cond delay="0"/>
                                          </p:stCondLst>
                                        </p:cTn>
                                        <p:tgtEl>
                                          <p:spTgt spid="1355">
                                            <p:txEl>
                                              <p:pRg st="4" end="4"/>
                                            </p:txEl>
                                          </p:spTgt>
                                        </p:tgtEl>
                                        <p:attrNameLst>
                                          <p:attrName>style.visibility</p:attrName>
                                        </p:attrNameLst>
                                      </p:cBhvr>
                                      <p:to>
                                        <p:strVal val="visible"/>
                                      </p:to>
                                    </p:set>
                                    <p:animEffect filter="strips(downRight)" transition="in">
                                      <p:cBhvr additive="repl">
                                        <p:cTn id="952" dur="500"/>
                                        <p:tgtEl>
                                          <p:spTgt spid="1355">
                                            <p:txEl>
                                              <p:pRg st="4" end="4"/>
                                            </p:txEl>
                                          </p:spTgt>
                                        </p:tgtEl>
                                      </p:cBhvr>
                                    </p:animEffect>
                                  </p:childTnLst>
                                </p:cTn>
                              </p:par>
                            </p:childTnLst>
                          </p:cTn>
                        </p:par>
                        <p:par>
                          <p:cTn id="953" fill="hold">
                            <p:stCondLst>
                              <p:cond delay="2800"/>
                            </p:stCondLst>
                            <p:childTnLst>
                              <p:par>
                                <p:cTn id="954" nodeType="afterEffect" fill="hold" presetClass="entr" presetID="10">
                                  <p:stCondLst>
                                    <p:cond delay="0"/>
                                  </p:stCondLst>
                                  <p:childTnLst>
                                    <p:set>
                                      <p:cBhvr>
                                        <p:cTn id="955" dur="1" fill="hold">
                                          <p:stCondLst>
                                            <p:cond delay="0"/>
                                          </p:stCondLst>
                                        </p:cTn>
                                        <p:tgtEl>
                                          <p:spTgt spid="1344"/>
                                        </p:tgtEl>
                                        <p:attrNameLst>
                                          <p:attrName>style.visibility</p:attrName>
                                        </p:attrNameLst>
                                      </p:cBhvr>
                                      <p:to>
                                        <p:strVal val="visible"/>
                                      </p:to>
                                    </p:set>
                                    <p:animEffect filter="fade" transition="in">
                                      <p:cBhvr additive="repl">
                                        <p:cTn id="956" dur="500"/>
                                        <p:tgtEl>
                                          <p:spTgt spid="1344"/>
                                        </p:tgtEl>
                                      </p:cBhvr>
                                    </p:animEffect>
                                  </p:childTnLst>
                                </p:cTn>
                              </p:par>
                            </p:childTnLst>
                          </p:cTn>
                        </p:par>
                        <p:par>
                          <p:cTn id="957" fill="hold">
                            <p:stCondLst>
                              <p:cond delay="3300"/>
                            </p:stCondLst>
                            <p:childTnLst>
                              <p:par>
                                <p:cTn id="958" nodeType="afterEffect" fill="hold" presetClass="entr" presetID="22" presetSubtype="8">
                                  <p:stCondLst>
                                    <p:cond delay="0"/>
                                  </p:stCondLst>
                                  <p:childTnLst>
                                    <p:set>
                                      <p:cBhvr>
                                        <p:cTn id="959" dur="1" fill="hold">
                                          <p:stCondLst>
                                            <p:cond delay="0"/>
                                          </p:stCondLst>
                                        </p:cTn>
                                        <p:tgtEl>
                                          <p:spTgt spid="1354">
                                            <p:txEl>
                                              <p:pRg st="0" end="0"/>
                                            </p:txEl>
                                          </p:spTgt>
                                        </p:tgtEl>
                                        <p:attrNameLst>
                                          <p:attrName>style.visibility</p:attrName>
                                        </p:attrNameLst>
                                      </p:cBhvr>
                                      <p:to>
                                        <p:strVal val="visible"/>
                                      </p:to>
                                    </p:set>
                                    <p:animEffect filter="wipe(left)" transition="in">
                                      <p:cBhvr additive="repl">
                                        <p:cTn id="960" dur="500"/>
                                        <p:tgtEl>
                                          <p:spTgt spid="1354">
                                            <p:txEl>
                                              <p:pRg st="0" end="0"/>
                                            </p:txEl>
                                          </p:spTgt>
                                        </p:tgtEl>
                                      </p:cBhvr>
                                    </p:animEffect>
                                  </p:childTnLst>
                                </p:cTn>
                              </p:par>
                            </p:childTnLst>
                          </p:cTn>
                        </p:par>
                        <p:par>
                          <p:cTn id="961" fill="hold">
                            <p:stCondLst>
                              <p:cond delay="3800"/>
                            </p:stCondLst>
                            <p:childTnLst>
                              <p:par>
                                <p:cTn id="962" nodeType="afterEffect" fill="hold" presetClass="entr" presetID="10">
                                  <p:stCondLst>
                                    <p:cond delay="0"/>
                                  </p:stCondLst>
                                  <p:childTnLst>
                                    <p:set>
                                      <p:cBhvr>
                                        <p:cTn id="963" dur="1" fill="hold">
                                          <p:stCondLst>
                                            <p:cond delay="0"/>
                                          </p:stCondLst>
                                        </p:cTn>
                                        <p:tgtEl>
                                          <p:spTgt spid="1345"/>
                                        </p:tgtEl>
                                        <p:attrNameLst>
                                          <p:attrName>style.visibility</p:attrName>
                                        </p:attrNameLst>
                                      </p:cBhvr>
                                      <p:to>
                                        <p:strVal val="visible"/>
                                      </p:to>
                                    </p:set>
                                    <p:animEffect filter="fade" transition="in">
                                      <p:cBhvr additive="repl">
                                        <p:cTn id="964" dur="500"/>
                                        <p:tgtEl>
                                          <p:spTgt spid="1345"/>
                                        </p:tgtEl>
                                      </p:cBhvr>
                                    </p:animEffect>
                                  </p:childTnLst>
                                </p:cTn>
                              </p:par>
                            </p:childTnLst>
                          </p:cTn>
                        </p:par>
                        <p:par>
                          <p:cTn id="965" fill="hold">
                            <p:stCondLst>
                              <p:cond delay="4300"/>
                            </p:stCondLst>
                            <p:childTnLst>
                              <p:par>
                                <p:cTn id="966" nodeType="afterEffect" fill="hold" presetClass="entr" presetID="22" presetSubtype="8">
                                  <p:stCondLst>
                                    <p:cond delay="0"/>
                                  </p:stCondLst>
                                  <p:childTnLst>
                                    <p:set>
                                      <p:cBhvr>
                                        <p:cTn id="967" dur="1" fill="hold">
                                          <p:stCondLst>
                                            <p:cond delay="0"/>
                                          </p:stCondLst>
                                        </p:cTn>
                                        <p:tgtEl>
                                          <p:spTgt spid="1346"/>
                                        </p:tgtEl>
                                        <p:attrNameLst>
                                          <p:attrName>style.visibility</p:attrName>
                                        </p:attrNameLst>
                                      </p:cBhvr>
                                      <p:to>
                                        <p:strVal val="visible"/>
                                      </p:to>
                                    </p:set>
                                    <p:animEffect filter="wipe(left)" transition="in">
                                      <p:cBhvr additive="repl">
                                        <p:cTn id="968" dur="300"/>
                                        <p:tgtEl>
                                          <p:spTgt spid="1346"/>
                                        </p:tgtEl>
                                      </p:cBhvr>
                                    </p:animEffect>
                                  </p:childTnLst>
                                </p:cTn>
                              </p:par>
                            </p:childTnLst>
                          </p:cTn>
                        </p:par>
                        <p:par>
                          <p:cTn id="969" fill="hold">
                            <p:stCondLst>
                              <p:cond delay="4600"/>
                            </p:stCondLst>
                            <p:childTnLst>
                              <p:par>
                                <p:cTn id="970" nodeType="afterEffect" fill="hold" presetClass="entr" presetID="10">
                                  <p:stCondLst>
                                    <p:cond delay="0"/>
                                  </p:stCondLst>
                                  <p:childTnLst>
                                    <p:set>
                                      <p:cBhvr>
                                        <p:cTn id="971" dur="1" fill="hold">
                                          <p:stCondLst>
                                            <p:cond delay="0"/>
                                          </p:stCondLst>
                                        </p:cTn>
                                        <p:tgtEl>
                                          <p:spTgt spid="1360">
                                            <p:txEl>
                                              <p:pRg st="0" end="0"/>
                                            </p:txEl>
                                          </p:spTgt>
                                        </p:tgtEl>
                                        <p:attrNameLst>
                                          <p:attrName>style.visibility</p:attrName>
                                        </p:attrNameLst>
                                      </p:cBhvr>
                                      <p:to>
                                        <p:strVal val="visible"/>
                                      </p:to>
                                    </p:set>
                                    <p:animEffect filter="fade" transition="in">
                                      <p:cBhvr additive="repl">
                                        <p:cTn id="972" dur="500"/>
                                        <p:tgtEl>
                                          <p:spTgt spid="1360">
                                            <p:txEl>
                                              <p:pRg st="0" end="0"/>
                                            </p:txEl>
                                          </p:spTgt>
                                        </p:tgtEl>
                                      </p:cBhvr>
                                    </p:animEffect>
                                  </p:childTnLst>
                                </p:cTn>
                              </p:par>
                            </p:childTnLst>
                          </p:cTn>
                        </p:par>
                        <p:par>
                          <p:cTn id="973" fill="hold">
                            <p:stCondLst>
                              <p:cond delay="5100"/>
                            </p:stCondLst>
                            <p:childTnLst>
                              <p:par>
                                <p:cTn id="974" nodeType="afterEffect" fill="hold" presetClass="entr" presetID="18" presetSubtype="6">
                                  <p:stCondLst>
                                    <p:cond delay="0"/>
                                  </p:stCondLst>
                                  <p:childTnLst>
                                    <p:set>
                                      <p:cBhvr>
                                        <p:cTn id="975" dur="1" fill="hold">
                                          <p:stCondLst>
                                            <p:cond delay="0"/>
                                          </p:stCondLst>
                                        </p:cTn>
                                        <p:tgtEl>
                                          <p:spTgt spid="1356">
                                            <p:txEl>
                                              <p:pRg st="0" end="0"/>
                                            </p:txEl>
                                          </p:spTgt>
                                        </p:tgtEl>
                                        <p:attrNameLst>
                                          <p:attrName>style.visibility</p:attrName>
                                        </p:attrNameLst>
                                      </p:cBhvr>
                                      <p:to>
                                        <p:strVal val="visible"/>
                                      </p:to>
                                    </p:set>
                                    <p:animEffect filter="strips(downRight)" transition="in">
                                      <p:cBhvr additive="repl">
                                        <p:cTn id="976" dur="500"/>
                                        <p:tgtEl>
                                          <p:spTgt spid="1356">
                                            <p:txEl>
                                              <p:pRg st="0" end="0"/>
                                            </p:txEl>
                                          </p:spTgt>
                                        </p:tgtEl>
                                      </p:cBhvr>
                                    </p:animEffect>
                                  </p:childTnLst>
                                </p:cTn>
                              </p:par>
                              <p:par>
                                <p:cTn id="977" nodeType="withEffect" fill="hold" presetClass="entr" presetID="18" presetSubtype="6">
                                  <p:stCondLst>
                                    <p:cond delay="0"/>
                                  </p:stCondLst>
                                  <p:childTnLst>
                                    <p:set>
                                      <p:cBhvr>
                                        <p:cTn id="978" dur="1" fill="hold">
                                          <p:stCondLst>
                                            <p:cond delay="0"/>
                                          </p:stCondLst>
                                        </p:cTn>
                                        <p:tgtEl>
                                          <p:spTgt spid="1356">
                                            <p:txEl>
                                              <p:pRg st="1" end="1"/>
                                            </p:txEl>
                                          </p:spTgt>
                                        </p:tgtEl>
                                        <p:attrNameLst>
                                          <p:attrName>style.visibility</p:attrName>
                                        </p:attrNameLst>
                                      </p:cBhvr>
                                      <p:to>
                                        <p:strVal val="visible"/>
                                      </p:to>
                                    </p:set>
                                    <p:animEffect filter="strips(downRight)" transition="in">
                                      <p:cBhvr additive="repl">
                                        <p:cTn id="979" dur="500"/>
                                        <p:tgtEl>
                                          <p:spTgt spid="1356">
                                            <p:txEl>
                                              <p:pRg st="1" end="1"/>
                                            </p:txEl>
                                          </p:spTgt>
                                        </p:tgtEl>
                                      </p:cBhvr>
                                    </p:animEffect>
                                  </p:childTnLst>
                                </p:cTn>
                              </p:par>
                              <p:par>
                                <p:cTn id="980" nodeType="withEffect" fill="hold" presetClass="entr" presetID="18" presetSubtype="6">
                                  <p:stCondLst>
                                    <p:cond delay="0"/>
                                  </p:stCondLst>
                                  <p:childTnLst>
                                    <p:set>
                                      <p:cBhvr>
                                        <p:cTn id="981" dur="1" fill="hold">
                                          <p:stCondLst>
                                            <p:cond delay="0"/>
                                          </p:stCondLst>
                                        </p:cTn>
                                        <p:tgtEl>
                                          <p:spTgt spid="1356">
                                            <p:txEl>
                                              <p:pRg st="2" end="2"/>
                                            </p:txEl>
                                          </p:spTgt>
                                        </p:tgtEl>
                                        <p:attrNameLst>
                                          <p:attrName>style.visibility</p:attrName>
                                        </p:attrNameLst>
                                      </p:cBhvr>
                                      <p:to>
                                        <p:strVal val="visible"/>
                                      </p:to>
                                    </p:set>
                                    <p:animEffect filter="strips(downRight)" transition="in">
                                      <p:cBhvr additive="repl">
                                        <p:cTn id="982" dur="500"/>
                                        <p:tgtEl>
                                          <p:spTgt spid="1356">
                                            <p:txEl>
                                              <p:pRg st="2" end="2"/>
                                            </p:txEl>
                                          </p:spTgt>
                                        </p:tgtEl>
                                      </p:cBhvr>
                                    </p:animEffect>
                                  </p:childTnLst>
                                </p:cTn>
                              </p:par>
                              <p:par>
                                <p:cTn id="983" nodeType="withEffect" fill="hold" presetClass="entr" presetID="18" presetSubtype="6">
                                  <p:stCondLst>
                                    <p:cond delay="0"/>
                                  </p:stCondLst>
                                  <p:childTnLst>
                                    <p:set>
                                      <p:cBhvr>
                                        <p:cTn id="984" dur="1" fill="hold">
                                          <p:stCondLst>
                                            <p:cond delay="0"/>
                                          </p:stCondLst>
                                        </p:cTn>
                                        <p:tgtEl>
                                          <p:spTgt spid="1356">
                                            <p:txEl>
                                              <p:pRg st="3" end="3"/>
                                            </p:txEl>
                                          </p:spTgt>
                                        </p:tgtEl>
                                        <p:attrNameLst>
                                          <p:attrName>style.visibility</p:attrName>
                                        </p:attrNameLst>
                                      </p:cBhvr>
                                      <p:to>
                                        <p:strVal val="visible"/>
                                      </p:to>
                                    </p:set>
                                    <p:animEffect filter="strips(downRight)" transition="in">
                                      <p:cBhvr additive="repl">
                                        <p:cTn id="985" dur="500"/>
                                        <p:tgtEl>
                                          <p:spTgt spid="1356">
                                            <p:txEl>
                                              <p:pRg st="3" end="3"/>
                                            </p:txEl>
                                          </p:spTgt>
                                        </p:tgtEl>
                                      </p:cBhvr>
                                    </p:animEffect>
                                  </p:childTnLst>
                                </p:cTn>
                              </p:par>
                              <p:par>
                                <p:cTn id="986" nodeType="withEffect" fill="hold" presetClass="entr" presetID="18" presetSubtype="6">
                                  <p:stCondLst>
                                    <p:cond delay="0"/>
                                  </p:stCondLst>
                                  <p:childTnLst>
                                    <p:set>
                                      <p:cBhvr>
                                        <p:cTn id="987" dur="1" fill="hold">
                                          <p:stCondLst>
                                            <p:cond delay="0"/>
                                          </p:stCondLst>
                                        </p:cTn>
                                        <p:tgtEl>
                                          <p:spTgt spid="1356">
                                            <p:txEl>
                                              <p:pRg st="4" end="4"/>
                                            </p:txEl>
                                          </p:spTgt>
                                        </p:tgtEl>
                                        <p:attrNameLst>
                                          <p:attrName>style.visibility</p:attrName>
                                        </p:attrNameLst>
                                      </p:cBhvr>
                                      <p:to>
                                        <p:strVal val="visible"/>
                                      </p:to>
                                    </p:set>
                                    <p:animEffect filter="strips(downRight)" transition="in">
                                      <p:cBhvr additive="repl">
                                        <p:cTn id="988" dur="500"/>
                                        <p:tgtEl>
                                          <p:spTgt spid="1356">
                                            <p:txEl>
                                              <p:pRg st="4" end="4"/>
                                            </p:txEl>
                                          </p:spTgt>
                                        </p:tgtEl>
                                      </p:cBhvr>
                                    </p:animEffect>
                                  </p:childTnLst>
                                </p:cTn>
                              </p:par>
                            </p:childTnLst>
                          </p:cTn>
                        </p:par>
                        <p:par>
                          <p:cTn id="989" fill="hold">
                            <p:stCondLst>
                              <p:cond delay="5600"/>
                            </p:stCondLst>
                            <p:childTnLst>
                              <p:par>
                                <p:cTn id="990" nodeType="afterEffect" fill="hold" presetClass="entr" presetID="10">
                                  <p:stCondLst>
                                    <p:cond delay="0"/>
                                  </p:stCondLst>
                                  <p:childTnLst>
                                    <p:set>
                                      <p:cBhvr>
                                        <p:cTn id="991" dur="1" fill="hold">
                                          <p:stCondLst>
                                            <p:cond delay="0"/>
                                          </p:stCondLst>
                                        </p:cTn>
                                        <p:tgtEl>
                                          <p:spTgt spid="1347"/>
                                        </p:tgtEl>
                                        <p:attrNameLst>
                                          <p:attrName>style.visibility</p:attrName>
                                        </p:attrNameLst>
                                      </p:cBhvr>
                                      <p:to>
                                        <p:strVal val="visible"/>
                                      </p:to>
                                    </p:set>
                                    <p:animEffect filter="fade" transition="in">
                                      <p:cBhvr additive="repl">
                                        <p:cTn id="992" dur="500"/>
                                        <p:tgtEl>
                                          <p:spTgt spid="1347"/>
                                        </p:tgtEl>
                                      </p:cBhvr>
                                    </p:animEffect>
                                  </p:childTnLst>
                                </p:cTn>
                              </p:par>
                            </p:childTnLst>
                          </p:cTn>
                        </p:par>
                        <p:par>
                          <p:cTn id="993" fill="hold">
                            <p:stCondLst>
                              <p:cond delay="6100"/>
                            </p:stCondLst>
                            <p:childTnLst>
                              <p:par>
                                <p:cTn id="994" nodeType="afterEffect" fill="hold" presetClass="entr" presetID="10">
                                  <p:stCondLst>
                                    <p:cond delay="0"/>
                                  </p:stCondLst>
                                  <p:childTnLst>
                                    <p:set>
                                      <p:cBhvr>
                                        <p:cTn id="995" dur="1" fill="hold">
                                          <p:stCondLst>
                                            <p:cond delay="0"/>
                                          </p:stCondLst>
                                        </p:cTn>
                                        <p:tgtEl>
                                          <p:spTgt spid="1348"/>
                                        </p:tgtEl>
                                        <p:attrNameLst>
                                          <p:attrName>style.visibility</p:attrName>
                                        </p:attrNameLst>
                                      </p:cBhvr>
                                      <p:to>
                                        <p:strVal val="visible"/>
                                      </p:to>
                                    </p:set>
                                    <p:animEffect filter="fade" transition="in">
                                      <p:cBhvr additive="repl">
                                        <p:cTn id="996" dur="500"/>
                                        <p:tgtEl>
                                          <p:spTgt spid="1348"/>
                                        </p:tgtEl>
                                      </p:cBhvr>
                                    </p:animEffect>
                                  </p:childTnLst>
                                </p:cTn>
                              </p:par>
                            </p:childTnLst>
                          </p:cTn>
                        </p:par>
                        <p:par>
                          <p:cTn id="997" fill="hold">
                            <p:stCondLst>
                              <p:cond delay="6600"/>
                            </p:stCondLst>
                            <p:childTnLst>
                              <p:par>
                                <p:cTn id="998" nodeType="afterEffect" fill="hold" presetClass="entr" presetID="22" presetSubtype="8">
                                  <p:stCondLst>
                                    <p:cond delay="0"/>
                                  </p:stCondLst>
                                  <p:childTnLst>
                                    <p:set>
                                      <p:cBhvr>
                                        <p:cTn id="999" dur="1" fill="hold">
                                          <p:stCondLst>
                                            <p:cond delay="0"/>
                                          </p:stCondLst>
                                        </p:cTn>
                                        <p:tgtEl>
                                          <p:spTgt spid="1349"/>
                                        </p:tgtEl>
                                        <p:attrNameLst>
                                          <p:attrName>style.visibility</p:attrName>
                                        </p:attrNameLst>
                                      </p:cBhvr>
                                      <p:to>
                                        <p:strVal val="visible"/>
                                      </p:to>
                                    </p:set>
                                    <p:animEffect filter="wipe(left)" transition="in">
                                      <p:cBhvr additive="repl">
                                        <p:cTn id="1000" dur="300"/>
                                        <p:tgtEl>
                                          <p:spTgt spid="1349"/>
                                        </p:tgtEl>
                                      </p:cBhvr>
                                    </p:animEffect>
                                  </p:childTnLst>
                                </p:cTn>
                              </p:par>
                            </p:childTnLst>
                          </p:cTn>
                        </p:par>
                        <p:par>
                          <p:cTn id="1001" fill="hold">
                            <p:stCondLst>
                              <p:cond delay="6900"/>
                            </p:stCondLst>
                            <p:childTnLst>
                              <p:par>
                                <p:cTn id="1002" nodeType="afterEffect" fill="hold" presetClass="entr" presetID="10">
                                  <p:stCondLst>
                                    <p:cond delay="0"/>
                                  </p:stCondLst>
                                  <p:childTnLst>
                                    <p:set>
                                      <p:cBhvr>
                                        <p:cTn id="1003" dur="1" fill="hold">
                                          <p:stCondLst>
                                            <p:cond delay="0"/>
                                          </p:stCondLst>
                                        </p:cTn>
                                        <p:tgtEl>
                                          <p:spTgt spid="1361">
                                            <p:txEl>
                                              <p:pRg st="0" end="0"/>
                                            </p:txEl>
                                          </p:spTgt>
                                        </p:tgtEl>
                                        <p:attrNameLst>
                                          <p:attrName>style.visibility</p:attrName>
                                        </p:attrNameLst>
                                      </p:cBhvr>
                                      <p:to>
                                        <p:strVal val="visible"/>
                                      </p:to>
                                    </p:set>
                                    <p:animEffect filter="fade" transition="in">
                                      <p:cBhvr additive="repl">
                                        <p:cTn id="1004" dur="500"/>
                                        <p:tgtEl>
                                          <p:spTgt spid="1361">
                                            <p:txEl>
                                              <p:pRg st="0" end="0"/>
                                            </p:txEl>
                                          </p:spTgt>
                                        </p:tgtEl>
                                      </p:cBhvr>
                                    </p:animEffect>
                                  </p:childTnLst>
                                </p:cTn>
                              </p:par>
                            </p:childTnLst>
                          </p:cTn>
                        </p:par>
                        <p:par>
                          <p:cTn id="1005" fill="hold">
                            <p:stCondLst>
                              <p:cond delay="7400"/>
                            </p:stCondLst>
                            <p:childTnLst>
                              <p:par>
                                <p:cTn id="1006" nodeType="afterEffect" fill="hold" presetClass="entr" presetID="18" presetSubtype="6">
                                  <p:stCondLst>
                                    <p:cond delay="0"/>
                                  </p:stCondLst>
                                  <p:childTnLst>
                                    <p:set>
                                      <p:cBhvr>
                                        <p:cTn id="1007" dur="1" fill="hold">
                                          <p:stCondLst>
                                            <p:cond delay="0"/>
                                          </p:stCondLst>
                                        </p:cTn>
                                        <p:tgtEl>
                                          <p:spTgt spid="1357">
                                            <p:txEl>
                                              <p:pRg st="0" end="0"/>
                                            </p:txEl>
                                          </p:spTgt>
                                        </p:tgtEl>
                                        <p:attrNameLst>
                                          <p:attrName>style.visibility</p:attrName>
                                        </p:attrNameLst>
                                      </p:cBhvr>
                                      <p:to>
                                        <p:strVal val="visible"/>
                                      </p:to>
                                    </p:set>
                                    <p:animEffect filter="strips(downRight)" transition="in">
                                      <p:cBhvr additive="repl">
                                        <p:cTn id="1008" dur="500"/>
                                        <p:tgtEl>
                                          <p:spTgt spid="1357">
                                            <p:txEl>
                                              <p:pRg st="0" end="0"/>
                                            </p:txEl>
                                          </p:spTgt>
                                        </p:tgtEl>
                                      </p:cBhvr>
                                    </p:animEffect>
                                  </p:childTnLst>
                                </p:cTn>
                              </p:par>
                              <p:par>
                                <p:cTn id="1009" nodeType="withEffect" fill="hold" presetClass="entr" presetID="18" presetSubtype="6">
                                  <p:stCondLst>
                                    <p:cond delay="0"/>
                                  </p:stCondLst>
                                  <p:childTnLst>
                                    <p:set>
                                      <p:cBhvr>
                                        <p:cTn id="1010" dur="1" fill="hold">
                                          <p:stCondLst>
                                            <p:cond delay="0"/>
                                          </p:stCondLst>
                                        </p:cTn>
                                        <p:tgtEl>
                                          <p:spTgt spid="1357">
                                            <p:txEl>
                                              <p:pRg st="1" end="1"/>
                                            </p:txEl>
                                          </p:spTgt>
                                        </p:tgtEl>
                                        <p:attrNameLst>
                                          <p:attrName>style.visibility</p:attrName>
                                        </p:attrNameLst>
                                      </p:cBhvr>
                                      <p:to>
                                        <p:strVal val="visible"/>
                                      </p:to>
                                    </p:set>
                                    <p:animEffect filter="strips(downRight)" transition="in">
                                      <p:cBhvr additive="repl">
                                        <p:cTn id="1011" dur="500"/>
                                        <p:tgtEl>
                                          <p:spTgt spid="1357">
                                            <p:txEl>
                                              <p:pRg st="1" end="1"/>
                                            </p:txEl>
                                          </p:spTgt>
                                        </p:tgtEl>
                                      </p:cBhvr>
                                    </p:animEffect>
                                  </p:childTnLst>
                                </p:cTn>
                              </p:par>
                              <p:par>
                                <p:cTn id="1012" nodeType="withEffect" fill="hold" presetClass="entr" presetID="18" presetSubtype="6">
                                  <p:stCondLst>
                                    <p:cond delay="0"/>
                                  </p:stCondLst>
                                  <p:childTnLst>
                                    <p:set>
                                      <p:cBhvr>
                                        <p:cTn id="1013" dur="1" fill="hold">
                                          <p:stCondLst>
                                            <p:cond delay="0"/>
                                          </p:stCondLst>
                                        </p:cTn>
                                        <p:tgtEl>
                                          <p:spTgt spid="1357">
                                            <p:txEl>
                                              <p:pRg st="2" end="2"/>
                                            </p:txEl>
                                          </p:spTgt>
                                        </p:tgtEl>
                                        <p:attrNameLst>
                                          <p:attrName>style.visibility</p:attrName>
                                        </p:attrNameLst>
                                      </p:cBhvr>
                                      <p:to>
                                        <p:strVal val="visible"/>
                                      </p:to>
                                    </p:set>
                                    <p:animEffect filter="strips(downRight)" transition="in">
                                      <p:cBhvr additive="repl">
                                        <p:cTn id="1014" dur="500"/>
                                        <p:tgtEl>
                                          <p:spTgt spid="1357">
                                            <p:txEl>
                                              <p:pRg st="2" end="2"/>
                                            </p:txEl>
                                          </p:spTgt>
                                        </p:tgtEl>
                                      </p:cBhvr>
                                    </p:animEffect>
                                  </p:childTnLst>
                                </p:cTn>
                              </p:par>
                              <p:par>
                                <p:cTn id="1015" nodeType="withEffect" fill="hold" presetClass="entr" presetID="18" presetSubtype="6">
                                  <p:stCondLst>
                                    <p:cond delay="0"/>
                                  </p:stCondLst>
                                  <p:childTnLst>
                                    <p:set>
                                      <p:cBhvr>
                                        <p:cTn id="1016" dur="1" fill="hold">
                                          <p:stCondLst>
                                            <p:cond delay="0"/>
                                          </p:stCondLst>
                                        </p:cTn>
                                        <p:tgtEl>
                                          <p:spTgt spid="1357">
                                            <p:txEl>
                                              <p:pRg st="3" end="3"/>
                                            </p:txEl>
                                          </p:spTgt>
                                        </p:tgtEl>
                                        <p:attrNameLst>
                                          <p:attrName>style.visibility</p:attrName>
                                        </p:attrNameLst>
                                      </p:cBhvr>
                                      <p:to>
                                        <p:strVal val="visible"/>
                                      </p:to>
                                    </p:set>
                                    <p:animEffect filter="strips(downRight)" transition="in">
                                      <p:cBhvr additive="repl">
                                        <p:cTn id="1017" dur="500"/>
                                        <p:tgtEl>
                                          <p:spTgt spid="1357">
                                            <p:txEl>
                                              <p:pRg st="3" end="3"/>
                                            </p:txEl>
                                          </p:spTgt>
                                        </p:tgtEl>
                                      </p:cBhvr>
                                    </p:animEffect>
                                  </p:childTnLst>
                                </p:cTn>
                              </p:par>
                              <p:par>
                                <p:cTn id="1018" nodeType="withEffect" fill="hold" presetClass="entr" presetID="18" presetSubtype="6">
                                  <p:stCondLst>
                                    <p:cond delay="0"/>
                                  </p:stCondLst>
                                  <p:childTnLst>
                                    <p:set>
                                      <p:cBhvr>
                                        <p:cTn id="1019" dur="1" fill="hold">
                                          <p:stCondLst>
                                            <p:cond delay="0"/>
                                          </p:stCondLst>
                                        </p:cTn>
                                        <p:tgtEl>
                                          <p:spTgt spid="1357">
                                            <p:txEl>
                                              <p:pRg st="4" end="4"/>
                                            </p:txEl>
                                          </p:spTgt>
                                        </p:tgtEl>
                                        <p:attrNameLst>
                                          <p:attrName>style.visibility</p:attrName>
                                        </p:attrNameLst>
                                      </p:cBhvr>
                                      <p:to>
                                        <p:strVal val="visible"/>
                                      </p:to>
                                    </p:set>
                                    <p:animEffect filter="strips(downRight)" transition="in">
                                      <p:cBhvr additive="repl">
                                        <p:cTn id="1020" dur="500"/>
                                        <p:tgtEl>
                                          <p:spTgt spid="1357">
                                            <p:txEl>
                                              <p:pRg st="4" end="4"/>
                                            </p:txEl>
                                          </p:spTgt>
                                        </p:tgtEl>
                                      </p:cBhvr>
                                    </p:animEffect>
                                  </p:childTnLst>
                                </p:cTn>
                              </p:par>
                            </p:childTnLst>
                          </p:cTn>
                        </p:par>
                        <p:par>
                          <p:cTn id="1021" fill="hold">
                            <p:stCondLst>
                              <p:cond delay="7900"/>
                            </p:stCondLst>
                            <p:childTnLst>
                              <p:par>
                                <p:cTn id="1022" nodeType="afterEffect" fill="hold" presetClass="entr" presetID="10">
                                  <p:stCondLst>
                                    <p:cond delay="0"/>
                                  </p:stCondLst>
                                  <p:childTnLst>
                                    <p:set>
                                      <p:cBhvr>
                                        <p:cTn id="1023" dur="1" fill="hold">
                                          <p:stCondLst>
                                            <p:cond delay="0"/>
                                          </p:stCondLst>
                                        </p:cTn>
                                        <p:tgtEl>
                                          <p:spTgt spid="1350"/>
                                        </p:tgtEl>
                                        <p:attrNameLst>
                                          <p:attrName>style.visibility</p:attrName>
                                        </p:attrNameLst>
                                      </p:cBhvr>
                                      <p:to>
                                        <p:strVal val="visible"/>
                                      </p:to>
                                    </p:set>
                                    <p:animEffect filter="fade" transition="in">
                                      <p:cBhvr additive="repl">
                                        <p:cTn id="1024" dur="500"/>
                                        <p:tgtEl>
                                          <p:spTgt spid="1350"/>
                                        </p:tgtEl>
                                      </p:cBhvr>
                                    </p:animEffect>
                                  </p:childTnLst>
                                </p:cTn>
                              </p:par>
                            </p:childTnLst>
                          </p:cTn>
                        </p:par>
                        <p:par>
                          <p:cTn id="1025" fill="hold">
                            <p:stCondLst>
                              <p:cond delay="8400"/>
                            </p:stCondLst>
                            <p:childTnLst>
                              <p:par>
                                <p:cTn id="1026" nodeType="afterEffect" fill="hold" presetClass="entr" presetID="10">
                                  <p:stCondLst>
                                    <p:cond delay="0"/>
                                  </p:stCondLst>
                                  <p:childTnLst>
                                    <p:set>
                                      <p:cBhvr>
                                        <p:cTn id="1027" dur="1" fill="hold">
                                          <p:stCondLst>
                                            <p:cond delay="0"/>
                                          </p:stCondLst>
                                        </p:cTn>
                                        <p:tgtEl>
                                          <p:spTgt spid="1351"/>
                                        </p:tgtEl>
                                        <p:attrNameLst>
                                          <p:attrName>style.visibility</p:attrName>
                                        </p:attrNameLst>
                                      </p:cBhvr>
                                      <p:to>
                                        <p:strVal val="visible"/>
                                      </p:to>
                                    </p:set>
                                    <p:animEffect filter="fade" transition="in">
                                      <p:cBhvr additive="repl">
                                        <p:cTn id="1028" dur="500"/>
                                        <p:tgtEl>
                                          <p:spTgt spid="1351"/>
                                        </p:tgtEl>
                                      </p:cBhvr>
                                    </p:animEffect>
                                  </p:childTnLst>
                                </p:cTn>
                              </p:par>
                            </p:childTnLst>
                          </p:cTn>
                        </p:par>
                        <p:par>
                          <p:cTn id="1029" fill="hold">
                            <p:stCondLst>
                              <p:cond delay="8900"/>
                            </p:stCondLst>
                            <p:childTnLst>
                              <p:par>
                                <p:cTn id="1030" nodeType="afterEffect" fill="hold" presetClass="entr" presetID="22" presetSubtype="8">
                                  <p:stCondLst>
                                    <p:cond delay="0"/>
                                  </p:stCondLst>
                                  <p:childTnLst>
                                    <p:set>
                                      <p:cBhvr>
                                        <p:cTn id="1031" dur="1" fill="hold">
                                          <p:stCondLst>
                                            <p:cond delay="0"/>
                                          </p:stCondLst>
                                        </p:cTn>
                                        <p:tgtEl>
                                          <p:spTgt spid="1352"/>
                                        </p:tgtEl>
                                        <p:attrNameLst>
                                          <p:attrName>style.visibility</p:attrName>
                                        </p:attrNameLst>
                                      </p:cBhvr>
                                      <p:to>
                                        <p:strVal val="visible"/>
                                      </p:to>
                                    </p:set>
                                    <p:animEffect filter="wipe(left)" transition="in">
                                      <p:cBhvr additive="repl">
                                        <p:cTn id="1032" dur="300"/>
                                        <p:tgtEl>
                                          <p:spTgt spid="1352"/>
                                        </p:tgtEl>
                                      </p:cBhvr>
                                    </p:animEffect>
                                  </p:childTnLst>
                                </p:cTn>
                              </p:par>
                            </p:childTnLst>
                          </p:cTn>
                        </p:par>
                        <p:par>
                          <p:cTn id="1033" fill="hold">
                            <p:stCondLst>
                              <p:cond delay="9200"/>
                            </p:stCondLst>
                            <p:childTnLst>
                              <p:par>
                                <p:cTn id="1034" nodeType="afterEffect" fill="hold" presetClass="entr" presetID="10">
                                  <p:stCondLst>
                                    <p:cond delay="0"/>
                                  </p:stCondLst>
                                  <p:childTnLst>
                                    <p:set>
                                      <p:cBhvr>
                                        <p:cTn id="1035" dur="1" fill="hold">
                                          <p:stCondLst>
                                            <p:cond delay="0"/>
                                          </p:stCondLst>
                                        </p:cTn>
                                        <p:tgtEl>
                                          <p:spTgt spid="1362">
                                            <p:txEl>
                                              <p:pRg st="0" end="0"/>
                                            </p:txEl>
                                          </p:spTgt>
                                        </p:tgtEl>
                                        <p:attrNameLst>
                                          <p:attrName>style.visibility</p:attrName>
                                        </p:attrNameLst>
                                      </p:cBhvr>
                                      <p:to>
                                        <p:strVal val="visible"/>
                                      </p:to>
                                    </p:set>
                                    <p:animEffect filter="fade" transition="in">
                                      <p:cBhvr additive="repl">
                                        <p:cTn id="1036" dur="500"/>
                                        <p:tgtEl>
                                          <p:spTgt spid="1362">
                                            <p:txEl>
                                              <p:pRg st="0" end="0"/>
                                            </p:txEl>
                                          </p:spTgt>
                                        </p:tgtEl>
                                      </p:cBhvr>
                                    </p:animEffect>
                                  </p:childTnLst>
                                </p:cTn>
                              </p:par>
                            </p:childTnLst>
                          </p:cTn>
                        </p:par>
                        <p:par>
                          <p:cTn id="1037" fill="hold">
                            <p:stCondLst>
                              <p:cond delay="9700"/>
                            </p:stCondLst>
                            <p:childTnLst>
                              <p:par>
                                <p:cTn id="1038" nodeType="afterEffect" fill="hold" presetClass="entr" presetID="18" presetSubtype="6">
                                  <p:stCondLst>
                                    <p:cond delay="0"/>
                                  </p:stCondLst>
                                  <p:childTnLst>
                                    <p:set>
                                      <p:cBhvr>
                                        <p:cTn id="1039" dur="1" fill="hold">
                                          <p:stCondLst>
                                            <p:cond delay="0"/>
                                          </p:stCondLst>
                                        </p:cTn>
                                        <p:tgtEl>
                                          <p:spTgt spid="1358">
                                            <p:txEl>
                                              <p:pRg st="0" end="0"/>
                                            </p:txEl>
                                          </p:spTgt>
                                        </p:tgtEl>
                                        <p:attrNameLst>
                                          <p:attrName>style.visibility</p:attrName>
                                        </p:attrNameLst>
                                      </p:cBhvr>
                                      <p:to>
                                        <p:strVal val="visible"/>
                                      </p:to>
                                    </p:set>
                                    <p:animEffect filter="strips(downRight)" transition="in">
                                      <p:cBhvr additive="repl">
                                        <p:cTn id="1040" dur="500"/>
                                        <p:tgtEl>
                                          <p:spTgt spid="1358">
                                            <p:txEl>
                                              <p:pRg st="0" end="0"/>
                                            </p:txEl>
                                          </p:spTgt>
                                        </p:tgtEl>
                                      </p:cBhvr>
                                    </p:animEffect>
                                  </p:childTnLst>
                                </p:cTn>
                              </p:par>
                              <p:par>
                                <p:cTn id="1041" nodeType="withEffect" fill="hold" presetClass="entr" presetID="18" presetSubtype="6">
                                  <p:stCondLst>
                                    <p:cond delay="0"/>
                                  </p:stCondLst>
                                  <p:childTnLst>
                                    <p:set>
                                      <p:cBhvr>
                                        <p:cTn id="1042" dur="1" fill="hold">
                                          <p:stCondLst>
                                            <p:cond delay="0"/>
                                          </p:stCondLst>
                                        </p:cTn>
                                        <p:tgtEl>
                                          <p:spTgt spid="1358">
                                            <p:txEl>
                                              <p:pRg st="1" end="1"/>
                                            </p:txEl>
                                          </p:spTgt>
                                        </p:tgtEl>
                                        <p:attrNameLst>
                                          <p:attrName>style.visibility</p:attrName>
                                        </p:attrNameLst>
                                      </p:cBhvr>
                                      <p:to>
                                        <p:strVal val="visible"/>
                                      </p:to>
                                    </p:set>
                                    <p:animEffect filter="strips(downRight)" transition="in">
                                      <p:cBhvr additive="repl">
                                        <p:cTn id="1043" dur="500"/>
                                        <p:tgtEl>
                                          <p:spTgt spid="1358">
                                            <p:txEl>
                                              <p:pRg st="1" end="1"/>
                                            </p:txEl>
                                          </p:spTgt>
                                        </p:tgtEl>
                                      </p:cBhvr>
                                    </p:animEffect>
                                  </p:childTnLst>
                                </p:cTn>
                              </p:par>
                              <p:par>
                                <p:cTn id="1044" nodeType="withEffect" fill="hold" presetClass="entr" presetID="18" presetSubtype="6">
                                  <p:stCondLst>
                                    <p:cond delay="0"/>
                                  </p:stCondLst>
                                  <p:childTnLst>
                                    <p:set>
                                      <p:cBhvr>
                                        <p:cTn id="1045" dur="1" fill="hold">
                                          <p:stCondLst>
                                            <p:cond delay="0"/>
                                          </p:stCondLst>
                                        </p:cTn>
                                        <p:tgtEl>
                                          <p:spTgt spid="1358">
                                            <p:txEl>
                                              <p:pRg st="2" end="2"/>
                                            </p:txEl>
                                          </p:spTgt>
                                        </p:tgtEl>
                                        <p:attrNameLst>
                                          <p:attrName>style.visibility</p:attrName>
                                        </p:attrNameLst>
                                      </p:cBhvr>
                                      <p:to>
                                        <p:strVal val="visible"/>
                                      </p:to>
                                    </p:set>
                                    <p:animEffect filter="strips(downRight)" transition="in">
                                      <p:cBhvr additive="repl">
                                        <p:cTn id="1046" dur="500"/>
                                        <p:tgtEl>
                                          <p:spTgt spid="1358">
                                            <p:txEl>
                                              <p:pRg st="2" end="2"/>
                                            </p:txEl>
                                          </p:spTgt>
                                        </p:tgtEl>
                                      </p:cBhvr>
                                    </p:animEffect>
                                  </p:childTnLst>
                                </p:cTn>
                              </p:par>
                              <p:par>
                                <p:cTn id="1047" nodeType="withEffect" fill="hold" presetClass="entr" presetID="18" presetSubtype="6">
                                  <p:stCondLst>
                                    <p:cond delay="0"/>
                                  </p:stCondLst>
                                  <p:childTnLst>
                                    <p:set>
                                      <p:cBhvr>
                                        <p:cTn id="1048" dur="1" fill="hold">
                                          <p:stCondLst>
                                            <p:cond delay="0"/>
                                          </p:stCondLst>
                                        </p:cTn>
                                        <p:tgtEl>
                                          <p:spTgt spid="1358">
                                            <p:txEl>
                                              <p:pRg st="3" end="3"/>
                                            </p:txEl>
                                          </p:spTgt>
                                        </p:tgtEl>
                                        <p:attrNameLst>
                                          <p:attrName>style.visibility</p:attrName>
                                        </p:attrNameLst>
                                      </p:cBhvr>
                                      <p:to>
                                        <p:strVal val="visible"/>
                                      </p:to>
                                    </p:set>
                                    <p:animEffect filter="strips(downRight)" transition="in">
                                      <p:cBhvr additive="repl">
                                        <p:cTn id="1049" dur="500"/>
                                        <p:tgtEl>
                                          <p:spTgt spid="1358">
                                            <p:txEl>
                                              <p:pRg st="3" end="3"/>
                                            </p:txEl>
                                          </p:spTgt>
                                        </p:tgtEl>
                                      </p:cBhvr>
                                    </p:animEffect>
                                  </p:childTnLst>
                                </p:cTn>
                              </p:par>
                              <p:par>
                                <p:cTn id="1050" nodeType="withEffect" fill="hold" presetClass="entr" presetID="18" presetSubtype="6">
                                  <p:stCondLst>
                                    <p:cond delay="0"/>
                                  </p:stCondLst>
                                  <p:childTnLst>
                                    <p:set>
                                      <p:cBhvr>
                                        <p:cTn id="1051" dur="1" fill="hold">
                                          <p:stCondLst>
                                            <p:cond delay="0"/>
                                          </p:stCondLst>
                                        </p:cTn>
                                        <p:tgtEl>
                                          <p:spTgt spid="1358">
                                            <p:txEl>
                                              <p:pRg st="4" end="4"/>
                                            </p:txEl>
                                          </p:spTgt>
                                        </p:tgtEl>
                                        <p:attrNameLst>
                                          <p:attrName>style.visibility</p:attrName>
                                        </p:attrNameLst>
                                      </p:cBhvr>
                                      <p:to>
                                        <p:strVal val="visible"/>
                                      </p:to>
                                    </p:set>
                                    <p:animEffect filter="strips(downRight)" transition="in">
                                      <p:cBhvr additive="repl">
                                        <p:cTn id="1052" dur="500"/>
                                        <p:tgtEl>
                                          <p:spTgt spid="1358">
                                            <p:txEl>
                                              <p:pRg st="4" end="4"/>
                                            </p:txEl>
                                          </p:spTgt>
                                        </p:tgtEl>
                                      </p:cBhvr>
                                    </p:animEffect>
                                  </p:childTnLst>
                                </p:cTn>
                              </p:par>
                            </p:childTnLst>
                          </p:cTn>
                        </p:par>
                        <p:par>
                          <p:cTn id="1053" fill="hold">
                            <p:stCondLst>
                              <p:cond delay="10200"/>
                            </p:stCondLst>
                            <p:childTnLst>
                              <p:par>
                                <p:cTn id="1054" nodeType="afterEffect" fill="hold" presetClass="entr" presetID="22" presetSubtype="8">
                                  <p:stCondLst>
                                    <p:cond delay="0"/>
                                  </p:stCondLst>
                                  <p:childTnLst>
                                    <p:set>
                                      <p:cBhvr>
                                        <p:cTn id="1055" dur="1" fill="hold">
                                          <p:stCondLst>
                                            <p:cond delay="0"/>
                                          </p:stCondLst>
                                        </p:cTn>
                                        <p:tgtEl>
                                          <p:spTgt spid="1364">
                                            <p:txEl>
                                              <p:pRg st="0" end="0"/>
                                            </p:txEl>
                                          </p:spTgt>
                                        </p:tgtEl>
                                        <p:attrNameLst>
                                          <p:attrName>style.visibility</p:attrName>
                                        </p:attrNameLst>
                                      </p:cBhvr>
                                      <p:to>
                                        <p:strVal val="visible"/>
                                      </p:to>
                                    </p:set>
                                    <p:animEffect filter="wipe(left)" transition="in">
                                      <p:cBhvr additive="repl">
                                        <p:cTn id="1056" dur="500"/>
                                        <p:tgtEl>
                                          <p:spTgt spid="1364">
                                            <p:txEl>
                                              <p:pRg st="0" end="0"/>
                                            </p:txEl>
                                          </p:spTgt>
                                        </p:tgtEl>
                                      </p:cBhvr>
                                    </p:animEffect>
                                  </p:childTnLst>
                                </p:cTn>
                              </p:par>
                            </p:childTnLst>
                          </p:cTn>
                        </p:par>
                        <p:par>
                          <p:cTn id="1057" fill="hold">
                            <p:stCondLst>
                              <p:cond delay="10700"/>
                            </p:stCondLst>
                            <p:childTnLst>
                              <p:par>
                                <p:cTn id="1058" nodeType="afterEffect" fill="hold" presetClass="entr" presetID="22" presetSubtype="8">
                                  <p:stCondLst>
                                    <p:cond delay="0"/>
                                  </p:stCondLst>
                                  <p:childTnLst>
                                    <p:set>
                                      <p:cBhvr>
                                        <p:cTn id="1059" dur="1" fill="hold">
                                          <p:stCondLst>
                                            <p:cond delay="0"/>
                                          </p:stCondLst>
                                        </p:cTn>
                                        <p:tgtEl>
                                          <p:spTgt spid="1365">
                                            <p:txEl>
                                              <p:pRg st="0" end="0"/>
                                            </p:txEl>
                                          </p:spTgt>
                                        </p:tgtEl>
                                        <p:attrNameLst>
                                          <p:attrName>style.visibility</p:attrName>
                                        </p:attrNameLst>
                                      </p:cBhvr>
                                      <p:to>
                                        <p:strVal val="visible"/>
                                      </p:to>
                                    </p:set>
                                    <p:animEffect filter="wipe(left)" transition="in">
                                      <p:cBhvr additive="repl">
                                        <p:cTn id="1060" dur="500"/>
                                        <p:tgtEl>
                                          <p:spTgt spid="1365">
                                            <p:txEl>
                                              <p:pRg st="0" end="0"/>
                                            </p:txEl>
                                          </p:spTgt>
                                        </p:tgtEl>
                                      </p:cBhvr>
                                    </p:animEffect>
                                  </p:childTnLst>
                                </p:cTn>
                              </p:par>
                            </p:childTnLst>
                          </p:cTn>
                        </p:par>
                        <p:par>
                          <p:cTn id="1061" fill="hold">
                            <p:stCondLst>
                              <p:cond delay="11200"/>
                            </p:stCondLst>
                            <p:childTnLst>
                              <p:par>
                                <p:cTn id="1062" nodeType="afterEffect" fill="hold" presetClass="entr" presetID="22" presetSubtype="8">
                                  <p:stCondLst>
                                    <p:cond delay="0"/>
                                  </p:stCondLst>
                                  <p:childTnLst>
                                    <p:set>
                                      <p:cBhvr>
                                        <p:cTn id="1063" dur="1" fill="hold">
                                          <p:stCondLst>
                                            <p:cond delay="0"/>
                                          </p:stCondLst>
                                        </p:cTn>
                                        <p:tgtEl>
                                          <p:spTgt spid="1366">
                                            <p:txEl>
                                              <p:pRg st="0" end="0"/>
                                            </p:txEl>
                                          </p:spTgt>
                                        </p:tgtEl>
                                        <p:attrNameLst>
                                          <p:attrName>style.visibility</p:attrName>
                                        </p:attrNameLst>
                                      </p:cBhvr>
                                      <p:to>
                                        <p:strVal val="visible"/>
                                      </p:to>
                                    </p:set>
                                    <p:animEffect filter="wipe(left)" transition="in">
                                      <p:cBhvr additive="repl">
                                        <p:cTn id="1064" dur="500"/>
                                        <p:tgtEl>
                                          <p:spTgt spid="1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3600" spc="-1" strike="noStrike">
                <a:solidFill>
                  <a:srgbClr val="2d3f51"/>
                </a:solidFill>
                <a:latin typeface="Lato Heavy"/>
              </a:rPr>
              <a:t>INTRODUCTION</a:t>
            </a:r>
            <a:endParaRPr b="0" lang="en-US" sz="3600" spc="-1" strike="noStrike">
              <a:solidFill>
                <a:srgbClr val="494949"/>
              </a:solidFill>
              <a:latin typeface="Lato Heavy"/>
            </a:endParaRPr>
          </a:p>
        </p:txBody>
      </p:sp>
      <p:sp>
        <p:nvSpPr>
          <p:cNvPr id="820" name="PlaceHolder 2"/>
          <p:cNvSpPr>
            <a:spLocks noGrp="1"/>
          </p:cNvSpPr>
          <p:nvPr>
            <p:ph/>
          </p:nvPr>
        </p:nvSpPr>
        <p:spPr>
          <a:xfrm>
            <a:off x="4433760" y="3180960"/>
            <a:ext cx="3354480" cy="1771560"/>
          </a:xfrm>
          <a:prstGeom prst="rect">
            <a:avLst/>
          </a:prstGeom>
          <a:noFill/>
          <a:ln w="0">
            <a:noFill/>
          </a:ln>
        </p:spPr>
        <p:txBody>
          <a:bodyPr lIns="0" rIns="0" tIns="0" bIns="0" anchor="t">
            <a:normAutofit fontScale="96000"/>
          </a:bodyPr>
          <a:p>
            <a:pPr indent="0" algn="ct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100" spc="-1" strike="noStrike">
                <a:solidFill>
                  <a:srgbClr val="373737"/>
                </a:solidFill>
                <a:latin typeface="Open Sans Light"/>
              </a:rPr>
              <a:t>conseSed ut perspiciatis unde omnis iste natus error sit voluptatem accusantium doloremque laudantium, totam rem aperiam, eaque ipsa quae ab illoconseSed ut perspiciatis unde omnis iste natus error sit </a:t>
            </a:r>
            <a:endParaRPr b="0" lang="en-US" sz="1100" spc="-1" strike="noStrike">
              <a:solidFill>
                <a:srgbClr val="494949"/>
              </a:solidFill>
              <a:latin typeface="Open Sans Light"/>
            </a:endParaRPr>
          </a:p>
          <a:p>
            <a:pPr indent="0" algn="ct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100" spc="-1" strike="noStrike">
                <a:solidFill>
                  <a:srgbClr val="373737"/>
                </a:solidFill>
                <a:latin typeface="Open Sans Light"/>
              </a:rPr>
              <a:t>voluptatem accusantium doloremque laudantium, totam rem aperiam, eaque ipsa quae ab illo inventor inventor</a:t>
            </a:r>
            <a:endParaRPr b="0" lang="en-US" sz="1100" spc="-1" strike="noStrike">
              <a:solidFill>
                <a:srgbClr val="494949"/>
              </a:solidFill>
              <a:latin typeface="Open Sans Light"/>
            </a:endParaRPr>
          </a:p>
        </p:txBody>
      </p:sp>
      <p:sp>
        <p:nvSpPr>
          <p:cNvPr id="821" name=""/>
          <p:cNvSpPr txBox="1"/>
          <p:nvPr/>
        </p:nvSpPr>
        <p:spPr>
          <a:xfrm>
            <a:off x="5702040" y="2706480"/>
            <a:ext cx="1917720" cy="291960"/>
          </a:xfrm>
          <a:prstGeom prst="rect">
            <a:avLst/>
          </a:prstGeom>
          <a:noFill/>
          <a:ln w="0">
            <a:noFill/>
          </a:ln>
        </p:spPr>
        <p:txBody>
          <a:bodyPr lIns="0" rIns="0" tIns="0" bIns="0" anchor="t">
            <a:normAutofit/>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600" spc="-1" strike="noStrike">
                <a:solidFill>
                  <a:srgbClr val="7f7f7f"/>
                </a:solidFill>
                <a:latin typeface="Lato Heavy"/>
              </a:rPr>
              <a:t>WELCOME</a:t>
            </a:r>
            <a:endParaRPr b="0" lang="en-US" sz="1600" spc="-1" strike="noStrike">
              <a:solidFill>
                <a:srgbClr val="494949"/>
              </a:solidFill>
              <a:latin typeface="Open Sans Light"/>
            </a:endParaRPr>
          </a:p>
        </p:txBody>
      </p:sp>
      <p:sp>
        <p:nvSpPr>
          <p:cNvPr id="822" name="PlaceHolder 3"/>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373737"/>
                </a:solidFill>
                <a:latin typeface="Open Sans Light"/>
              </a:rPr>
              <a:t>write your relevant text here</a:t>
            </a:r>
            <a:endParaRPr b="0" lang="en-US" sz="1000" spc="-1" strike="noStrike">
              <a:solidFill>
                <a:srgbClr val="494949"/>
              </a:solidFill>
              <a:latin typeface="Open Sans Light"/>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1" name=""/>
          <p:cNvGraphicFramePr/>
          <p:nvPr/>
        </p:nvGraphicFramePr>
        <p:xfrm>
          <a:off x="1523880" y="2022480"/>
          <a:ext cx="9358560" cy="4121280"/>
        </p:xfrm>
        <a:graphic>
          <a:graphicData uri="http://schemas.openxmlformats.org/drawingml/2006/table">
            <a:tbl>
              <a:tblPr/>
              <a:tblGrid>
                <a:gridCol w="1560600"/>
                <a:gridCol w="1558800"/>
                <a:gridCol w="1560600"/>
                <a:gridCol w="1559160"/>
                <a:gridCol w="1560240"/>
                <a:gridCol w="1559160"/>
              </a:tblGrid>
              <a:tr h="55260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494949"/>
                          </a:solidFill>
                          <a:latin typeface="Lato"/>
                        </a:rPr>
                        <a:t>Column One</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494949"/>
                          </a:solidFill>
                          <a:latin typeface="Lato"/>
                        </a:rPr>
                        <a:t>Column Two</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494949"/>
                          </a:solidFill>
                          <a:latin typeface="Lato"/>
                        </a:rPr>
                        <a:t>Column Three</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494949"/>
                          </a:solidFill>
                          <a:latin typeface="Lato"/>
                        </a:rPr>
                        <a:t>Column Four</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494949"/>
                          </a:solidFill>
                          <a:latin typeface="Lato"/>
                        </a:rPr>
                        <a:t>Column Five</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r>
              <a:tr h="43164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One</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w="5760">
                      <a:solidFill>
                        <a:srgbClr val="00a09c"/>
                      </a:solidFill>
                    </a:lnT>
                    <a:lnB>
                      <a:noFill/>
                    </a:lnB>
                    <a:solidFill>
                      <a:srgbClr val="00a09c">
                        <a:alpha val="20000"/>
                      </a:srgbClr>
                    </a:solidFill>
                  </a:tcPr>
                </a:tc>
              </a:tr>
              <a:tr h="43164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Two</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r>
              <a:tr h="43020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Three</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r>
              <a:tr h="43200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Four</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r>
              <a:tr h="43164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Five</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solidFill>
                      <a:srgbClr val="00a09c">
                        <a:alpha val="20000"/>
                      </a:srgbClr>
                    </a:solidFill>
                  </a:tcPr>
                </a:tc>
              </a:tr>
              <a:tr h="43020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Six</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a:noFill/>
                    </a:lnB>
                    <a:noFill/>
                  </a:tcPr>
                </a:tc>
              </a:tr>
              <a:tr h="43200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a:rPr>
                        <a:t>Row Seven</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c>
                  <a:txBody>
                    <a:bodyPr lIns="21600" rIns="21600" tIns="21600" bIns="21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Open Sans Light"/>
                        </a:rPr>
                        <a:t>$33,878.31</a:t>
                      </a:r>
                      <a:endParaRPr b="0" lang="en-US" sz="1200" spc="-1" strike="noStrike">
                        <a:solidFill>
                          <a:srgbClr val="494949"/>
                        </a:solidFill>
                        <a:latin typeface="Open Sans Light"/>
                      </a:endParaRPr>
                    </a:p>
                  </a:txBody>
                  <a:tcPr anchor="ctr" marL="21600" marR="21600">
                    <a:lnL>
                      <a:noFill/>
                    </a:lnL>
                    <a:lnR>
                      <a:noFill/>
                    </a:lnR>
                    <a:lnT>
                      <a:noFill/>
                    </a:lnT>
                    <a:lnB w="5760">
                      <a:solidFill>
                        <a:srgbClr val="00a09c"/>
                      </a:solidFill>
                    </a:lnB>
                    <a:solidFill>
                      <a:srgbClr val="00a09c">
                        <a:alpha val="20000"/>
                      </a:srgbClr>
                    </a:solidFill>
                  </a:tcPr>
                </a:tc>
              </a:tr>
              <a:tr h="549360">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Amount</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33,878.31</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33,878.31</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33,878.31</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33,878.31</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c>
                  <a:txBody>
                    <a:bodyPr lIns="21600" rIns="21600" tIns="21600" bIns="216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a:rPr>
                        <a:t>$33,878.31</a:t>
                      </a:r>
                      <a:endParaRPr b="0" lang="en-US" sz="1400" spc="-1" strike="noStrike">
                        <a:solidFill>
                          <a:srgbClr val="494949"/>
                        </a:solidFill>
                        <a:latin typeface="Open Sans Light"/>
                      </a:endParaRPr>
                    </a:p>
                  </a:txBody>
                  <a:tcPr anchor="ctr" marL="21600" marR="21600">
                    <a:lnL>
                      <a:noFill/>
                    </a:lnL>
                    <a:lnR>
                      <a:noFill/>
                    </a:lnR>
                    <a:lnT w="5760">
                      <a:solidFill>
                        <a:srgbClr val="00a09c"/>
                      </a:solidFill>
                    </a:lnT>
                    <a:lnB w="5760">
                      <a:solidFill>
                        <a:srgbClr val="00a09c"/>
                      </a:solidFill>
                    </a:lnB>
                    <a:noFill/>
                  </a:tcPr>
                </a:tc>
              </a:tr>
            </a:tbl>
          </a:graphicData>
        </a:graphic>
      </p:graphicFrame>
      <p:sp>
        <p:nvSpPr>
          <p:cNvPr id="1372"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SALES REPORT TABLE</a:t>
            </a:r>
            <a:endParaRPr b="0" lang="en-US" sz="3600" spc="-1" strike="noStrike">
              <a:solidFill>
                <a:srgbClr val="494949"/>
              </a:solidFill>
              <a:latin typeface="Lato Heavy"/>
            </a:endParaRPr>
          </a:p>
        </p:txBody>
      </p:sp>
      <p:sp>
        <p:nvSpPr>
          <p:cNvPr id="1373" name="PlaceHolder 2"/>
          <p:cNvSpPr>
            <a:spLocks noGrp="1"/>
          </p:cNvSpPr>
          <p:nvPr>
            <p:ph/>
          </p:nvPr>
        </p:nvSpPr>
        <p:spPr>
          <a:xfrm>
            <a:off x="1523880" y="1285920"/>
            <a:ext cx="9144000" cy="24768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1372"/>
                                        </p:tgtEl>
                                        <p:attrNameLst>
                                          <p:attrName>style.visibility</p:attrName>
                                        </p:attrNameLst>
                                      </p:cBhvr>
                                      <p:to>
                                        <p:strVal val="visible"/>
                                      </p:to>
                                    </p:set>
                                    <p:animEffect filter="wipe(left)" transition="in">
                                      <p:cBhvr additive="repl">
                                        <p:cTn id="1071" dur="500"/>
                                        <p:tgtEl>
                                          <p:spTgt spid="1372"/>
                                        </p:tgtEl>
                                      </p:cBhvr>
                                    </p:animEffect>
                                  </p:childTnLst>
                                </p:cTn>
                              </p:par>
                            </p:childTnLst>
                          </p:cTn>
                        </p:par>
                        <p:par>
                          <p:cTn id="1072" fill="hold">
                            <p:stCondLst>
                              <p:cond delay="500"/>
                            </p:stCondLst>
                            <p:childTnLst>
                              <p:par>
                                <p:cTn id="1073" nodeType="afterEffect" fill="hold" presetClass="entr" presetID="22" presetSubtype="8">
                                  <p:stCondLst>
                                    <p:cond delay="0"/>
                                  </p:stCondLst>
                                  <p:childTnLst>
                                    <p:set>
                                      <p:cBhvr>
                                        <p:cTn id="1074" dur="1" fill="hold">
                                          <p:stCondLst>
                                            <p:cond delay="0"/>
                                          </p:stCondLst>
                                        </p:cTn>
                                        <p:tgtEl>
                                          <p:spTgt spid="1373">
                                            <p:txEl>
                                              <p:pRg st="0" end="0"/>
                                            </p:txEl>
                                          </p:spTgt>
                                        </p:tgtEl>
                                        <p:attrNameLst>
                                          <p:attrName>style.visibility</p:attrName>
                                        </p:attrNameLst>
                                      </p:cBhvr>
                                      <p:to>
                                        <p:strVal val="visible"/>
                                      </p:to>
                                    </p:set>
                                    <p:animEffect filter="wipe(left)" transition="in">
                                      <p:cBhvr additive="repl">
                                        <p:cTn id="1075" dur="500"/>
                                        <p:tgtEl>
                                          <p:spTgt spid="1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Shape 1096"/>
          <p:cNvSpPr/>
          <p:nvPr/>
        </p:nvSpPr>
        <p:spPr>
          <a:xfrm>
            <a:off x="5614920" y="2473200"/>
            <a:ext cx="961920" cy="962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a6aaa9"/>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375" name="Shape 1093"/>
          <p:cNvSpPr/>
          <p:nvPr/>
        </p:nvSpPr>
        <p:spPr>
          <a:xfrm>
            <a:off x="7188120" y="2308320"/>
            <a:ext cx="2076480" cy="1415880"/>
          </a:xfrm>
          <a:prstGeom prst="roundRect">
            <a:avLst>
              <a:gd name="adj" fmla="val 15000"/>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76" name="Rounded Rectangle 134"/>
          <p:cNvSpPr/>
          <p:nvPr/>
        </p:nvSpPr>
        <p:spPr>
          <a:xfrm>
            <a:off x="7188120" y="2225520"/>
            <a:ext cx="2076480" cy="135432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77" name="Shape 1090"/>
          <p:cNvSpPr/>
          <p:nvPr/>
        </p:nvSpPr>
        <p:spPr>
          <a:xfrm>
            <a:off x="2927520" y="2308320"/>
            <a:ext cx="2076120" cy="1415880"/>
          </a:xfrm>
          <a:prstGeom prst="roundRect">
            <a:avLst>
              <a:gd name="adj" fmla="val 15000"/>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378" name="Rounded Rectangle 135"/>
          <p:cNvSpPr/>
          <p:nvPr/>
        </p:nvSpPr>
        <p:spPr>
          <a:xfrm>
            <a:off x="2927520" y="2225520"/>
            <a:ext cx="2076120" cy="135432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1379" name="Group 18"/>
          <p:cNvGrpSpPr/>
          <p:nvPr/>
        </p:nvGrpSpPr>
        <p:grpSpPr>
          <a:xfrm>
            <a:off x="3592440" y="4062240"/>
            <a:ext cx="781200" cy="327240"/>
            <a:chOff x="3592440" y="4062240"/>
            <a:chExt cx="781200" cy="327240"/>
          </a:xfrm>
        </p:grpSpPr>
        <p:grpSp>
          <p:nvGrpSpPr>
            <p:cNvPr id="1380" name="Group 62"/>
            <p:cNvGrpSpPr/>
            <p:nvPr/>
          </p:nvGrpSpPr>
          <p:grpSpPr>
            <a:xfrm>
              <a:off x="3592440" y="4063680"/>
              <a:ext cx="325440" cy="325800"/>
              <a:chOff x="3592440" y="4063680"/>
              <a:chExt cx="325440" cy="325800"/>
            </a:xfrm>
          </p:grpSpPr>
          <p:sp>
            <p:nvSpPr>
              <p:cNvPr id="1381" name="Oval 63"/>
              <p:cNvSpPr/>
              <p:nvPr/>
            </p:nvSpPr>
            <p:spPr>
              <a:xfrm>
                <a:off x="3592440" y="4063680"/>
                <a:ext cx="325440" cy="32580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382" name="Picture 64" descr=""/>
              <p:cNvPicPr/>
              <p:nvPr/>
            </p:nvPicPr>
            <p:blipFill>
              <a:blip r:embed="rId1"/>
              <a:stretch/>
            </p:blipFill>
            <p:spPr>
              <a:xfrm>
                <a:off x="3625560" y="4112280"/>
                <a:ext cx="258840" cy="228240"/>
              </a:xfrm>
              <a:prstGeom prst="rect">
                <a:avLst/>
              </a:prstGeom>
              <a:ln w="0">
                <a:noFill/>
              </a:ln>
            </p:spPr>
          </p:pic>
        </p:grpSp>
        <p:grpSp>
          <p:nvGrpSpPr>
            <p:cNvPr id="1383" name="Group 65"/>
            <p:cNvGrpSpPr/>
            <p:nvPr/>
          </p:nvGrpSpPr>
          <p:grpSpPr>
            <a:xfrm>
              <a:off x="4048200" y="4062240"/>
              <a:ext cx="325440" cy="325800"/>
              <a:chOff x="4048200" y="4062240"/>
              <a:chExt cx="325440" cy="325800"/>
            </a:xfrm>
          </p:grpSpPr>
          <p:sp>
            <p:nvSpPr>
              <p:cNvPr id="1384" name="Oval 66"/>
              <p:cNvSpPr/>
              <p:nvPr/>
            </p:nvSpPr>
            <p:spPr>
              <a:xfrm>
                <a:off x="4048200" y="4062240"/>
                <a:ext cx="325440" cy="32580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385" name="Picture 77" descr=""/>
              <p:cNvPicPr/>
              <p:nvPr/>
            </p:nvPicPr>
            <p:blipFill>
              <a:blip r:embed="rId2"/>
              <a:stretch/>
            </p:blipFill>
            <p:spPr>
              <a:xfrm>
                <a:off x="4081320" y="4110840"/>
                <a:ext cx="258840" cy="228240"/>
              </a:xfrm>
              <a:prstGeom prst="rect">
                <a:avLst/>
              </a:prstGeom>
              <a:ln w="0">
                <a:noFill/>
              </a:ln>
            </p:spPr>
          </p:pic>
        </p:grpSp>
      </p:grpSp>
      <p:grpSp>
        <p:nvGrpSpPr>
          <p:cNvPr id="1386" name="Group 96"/>
          <p:cNvGrpSpPr/>
          <p:nvPr/>
        </p:nvGrpSpPr>
        <p:grpSpPr>
          <a:xfrm>
            <a:off x="7834320" y="4011480"/>
            <a:ext cx="782640" cy="327240"/>
            <a:chOff x="7834320" y="4011480"/>
            <a:chExt cx="782640" cy="327240"/>
          </a:xfrm>
        </p:grpSpPr>
        <p:grpSp>
          <p:nvGrpSpPr>
            <p:cNvPr id="1387" name="Group 97"/>
            <p:cNvGrpSpPr/>
            <p:nvPr/>
          </p:nvGrpSpPr>
          <p:grpSpPr>
            <a:xfrm>
              <a:off x="7834320" y="4012920"/>
              <a:ext cx="325800" cy="325800"/>
              <a:chOff x="7834320" y="4012920"/>
              <a:chExt cx="325800" cy="325800"/>
            </a:xfrm>
          </p:grpSpPr>
          <p:sp>
            <p:nvSpPr>
              <p:cNvPr id="1388" name="Oval 101"/>
              <p:cNvSpPr/>
              <p:nvPr/>
            </p:nvSpPr>
            <p:spPr>
              <a:xfrm>
                <a:off x="7834320" y="4012920"/>
                <a:ext cx="325800" cy="32580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389" name="Picture 102" descr=""/>
              <p:cNvPicPr/>
              <p:nvPr/>
            </p:nvPicPr>
            <p:blipFill>
              <a:blip r:embed="rId3"/>
              <a:stretch/>
            </p:blipFill>
            <p:spPr>
              <a:xfrm>
                <a:off x="7867440" y="4061520"/>
                <a:ext cx="259200" cy="228240"/>
              </a:xfrm>
              <a:prstGeom prst="rect">
                <a:avLst/>
              </a:prstGeom>
              <a:ln w="0">
                <a:noFill/>
              </a:ln>
            </p:spPr>
          </p:pic>
        </p:grpSp>
        <p:grpSp>
          <p:nvGrpSpPr>
            <p:cNvPr id="1390" name="Group 98"/>
            <p:cNvGrpSpPr/>
            <p:nvPr/>
          </p:nvGrpSpPr>
          <p:grpSpPr>
            <a:xfrm>
              <a:off x="8291160" y="4011480"/>
              <a:ext cx="325800" cy="325800"/>
              <a:chOff x="8291160" y="4011480"/>
              <a:chExt cx="325800" cy="325800"/>
            </a:xfrm>
          </p:grpSpPr>
          <p:sp>
            <p:nvSpPr>
              <p:cNvPr id="1391" name="Oval 99"/>
              <p:cNvSpPr/>
              <p:nvPr/>
            </p:nvSpPr>
            <p:spPr>
              <a:xfrm>
                <a:off x="8291160" y="4011480"/>
                <a:ext cx="325800" cy="32580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392" name="Picture 100" descr=""/>
              <p:cNvPicPr/>
              <p:nvPr/>
            </p:nvPicPr>
            <p:blipFill>
              <a:blip r:embed="rId4"/>
              <a:stretch/>
            </p:blipFill>
            <p:spPr>
              <a:xfrm>
                <a:off x="8324280" y="4060080"/>
                <a:ext cx="259200" cy="228240"/>
              </a:xfrm>
              <a:prstGeom prst="rect">
                <a:avLst/>
              </a:prstGeom>
              <a:ln w="0">
                <a:noFill/>
              </a:ln>
            </p:spPr>
          </p:pic>
        </p:grpSp>
      </p:grpSp>
      <p:sp>
        <p:nvSpPr>
          <p:cNvPr id="1393"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PRODUCTS COMPARISON</a:t>
            </a:r>
            <a:endParaRPr b="0" lang="en-US" sz="3600" spc="-1" strike="noStrike">
              <a:solidFill>
                <a:srgbClr val="494949"/>
              </a:solidFill>
              <a:latin typeface="Lato Heavy"/>
            </a:endParaRPr>
          </a:p>
        </p:txBody>
      </p:sp>
      <p:sp>
        <p:nvSpPr>
          <p:cNvPr id="1394" name="PlaceHolder 2"/>
          <p:cNvSpPr>
            <a:spLocks noGrp="1"/>
          </p:cNvSpPr>
          <p:nvPr>
            <p:ph/>
          </p:nvPr>
        </p:nvSpPr>
        <p:spPr>
          <a:xfrm>
            <a:off x="8325000" y="4624200"/>
            <a:ext cx="1614240" cy="136836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373737"/>
                </a:solidFill>
                <a:latin typeface="Open Sans Light"/>
              </a:rPr>
              <a:t>Very expensive</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373737"/>
                </a:solidFill>
                <a:latin typeface="Open Sans Light"/>
              </a:rPr>
              <a:t>Only work on HQ device</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373737"/>
                </a:solidFill>
                <a:latin typeface="Open Sans Light"/>
              </a:rPr>
              <a:t>Work on latest OS</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373737"/>
                </a:solidFill>
                <a:latin typeface="Open Sans Light"/>
              </a:rPr>
              <a:t>Difficult to use</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373737"/>
                </a:solidFill>
                <a:latin typeface="Open Sans Light"/>
              </a:rPr>
              <a:t>No secure to safe</a:t>
            </a:r>
            <a:endParaRPr b="0" lang="en-US" sz="1100" spc="-1" strike="noStrike">
              <a:solidFill>
                <a:srgbClr val="494949"/>
              </a:solidFill>
              <a:latin typeface="Open Sans Light"/>
            </a:endParaRPr>
          </a:p>
        </p:txBody>
      </p:sp>
      <p:sp>
        <p:nvSpPr>
          <p:cNvPr id="1395" name="PlaceHolder 3"/>
          <p:cNvSpPr>
            <a:spLocks noGrp="1"/>
          </p:cNvSpPr>
          <p:nvPr>
            <p:ph/>
          </p:nvPr>
        </p:nvSpPr>
        <p:spPr>
          <a:xfrm>
            <a:off x="5614920" y="2472840"/>
            <a:ext cx="961920" cy="962280"/>
          </a:xfrm>
          <a:prstGeom prst="rect">
            <a:avLst/>
          </a:prstGeom>
          <a:noFill/>
          <a:ln w="0">
            <a:noFill/>
          </a:ln>
        </p:spPr>
        <p:txBody>
          <a:bodyPr lIns="0" rIns="0" tIns="0" b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4000" spc="-1" strike="noStrike">
                <a:solidFill>
                  <a:srgbClr val="494949"/>
                </a:solidFill>
                <a:latin typeface="Lato Heavy"/>
              </a:rPr>
              <a:t>VS</a:t>
            </a:r>
            <a:endParaRPr b="0" lang="en-US" sz="4000" spc="-1" strike="noStrike">
              <a:solidFill>
                <a:srgbClr val="494949"/>
              </a:solidFill>
              <a:latin typeface="Open Sans Light"/>
            </a:endParaRPr>
          </a:p>
        </p:txBody>
      </p:sp>
      <p:sp>
        <p:nvSpPr>
          <p:cNvPr id="1396" name="PlaceHolder 4"/>
          <p:cNvSpPr>
            <a:spLocks noGrp="1"/>
          </p:cNvSpPr>
          <p:nvPr>
            <p:ph/>
          </p:nvPr>
        </p:nvSpPr>
        <p:spPr>
          <a:xfrm>
            <a:off x="6230880" y="4624560"/>
            <a:ext cx="1928880" cy="1056960"/>
          </a:xfrm>
          <a:prstGeom prst="rect">
            <a:avLst/>
          </a:prstGeom>
          <a:noFill/>
          <a:ln w="0">
            <a:noFill/>
          </a:ln>
        </p:spPr>
        <p:txBody>
          <a:bodyPr lIns="0" rIns="0" tIns="0" bIns="0" anchor="t">
            <a:normAutofit/>
          </a:bodyPr>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Minimal / clean design</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Nice / professional looking</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24 H online support</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1 year warranty</a:t>
            </a:r>
            <a:endParaRPr b="0" lang="en-US" sz="1100" spc="-1" strike="noStrike">
              <a:solidFill>
                <a:srgbClr val="494949"/>
              </a:solidFill>
              <a:latin typeface="Open Sans Light"/>
            </a:endParaRPr>
          </a:p>
        </p:txBody>
      </p:sp>
      <p:sp>
        <p:nvSpPr>
          <p:cNvPr id="1397" name="PlaceHolder 5"/>
          <p:cNvSpPr>
            <a:spLocks noGrp="1"/>
          </p:cNvSpPr>
          <p:nvPr>
            <p:ph/>
          </p:nvPr>
        </p:nvSpPr>
        <p:spPr>
          <a:xfrm>
            <a:off x="4048200" y="4632480"/>
            <a:ext cx="1869840" cy="1056960"/>
          </a:xfrm>
          <a:prstGeom prst="rect">
            <a:avLst/>
          </a:prstGeom>
          <a:noFill/>
          <a:ln w="0">
            <a:noFill/>
          </a:ln>
        </p:spPr>
        <p:txBody>
          <a:bodyPr lIns="0" rIns="0" tIns="0" bIns="0" anchor="t">
            <a:normAutofit/>
          </a:bodyPr>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Very expensive</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Only work on HQ device</a:t>
            </a:r>
            <a:endParaRPr b="0" lang="en-US" sz="1100" spc="-1" strike="noStrike">
              <a:solidFill>
                <a:srgbClr val="494949"/>
              </a:solidFill>
              <a:latin typeface="Open Sans Light"/>
            </a:endParaRPr>
          </a:p>
          <a:p>
            <a:pPr indent="0">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Work on latest OS</a:t>
            </a:r>
            <a:endParaRPr b="0" lang="en-US" sz="1100" spc="-1" strike="noStrike">
              <a:solidFill>
                <a:srgbClr val="494949"/>
              </a:solidFill>
              <a:latin typeface="Open Sans Light"/>
            </a:endParaRPr>
          </a:p>
        </p:txBody>
      </p:sp>
      <p:sp>
        <p:nvSpPr>
          <p:cNvPr id="1398" name="PlaceHolder 6"/>
          <p:cNvSpPr>
            <a:spLocks noGrp="1"/>
          </p:cNvSpPr>
          <p:nvPr>
            <p:ph/>
          </p:nvPr>
        </p:nvSpPr>
        <p:spPr>
          <a:xfrm>
            <a:off x="1955880" y="4632480"/>
            <a:ext cx="1928880" cy="1056960"/>
          </a:xfrm>
          <a:prstGeom prst="rect">
            <a:avLst/>
          </a:prstGeom>
          <a:noFill/>
          <a:ln w="0">
            <a:noFill/>
          </a:ln>
        </p:spPr>
        <p:txBody>
          <a:bodyPr lIns="0" rIns="0" tIns="0" bIns="0" anchor="t">
            <a:normAutofit/>
          </a:bodyPr>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Easy to use</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Minimal / clean design</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Nice / professional looking</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24 H online support</a:t>
            </a:r>
            <a:endParaRPr b="0" lang="en-US" sz="1100" spc="-1" strike="noStrike">
              <a:solidFill>
                <a:srgbClr val="494949"/>
              </a:solidFill>
              <a:latin typeface="Open Sans Light"/>
            </a:endParaRPr>
          </a:p>
          <a:p>
            <a:pPr indent="0" algn="r">
              <a:lnSpc>
                <a:spcPts val="5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494949"/>
                </a:solidFill>
                <a:latin typeface="Open Sans Light"/>
              </a:rPr>
              <a:t>1 year warranty</a:t>
            </a:r>
            <a:endParaRPr b="0" lang="en-US" sz="1100" spc="-1" strike="noStrike">
              <a:solidFill>
                <a:srgbClr val="494949"/>
              </a:solidFill>
              <a:latin typeface="Open Sans Light"/>
            </a:endParaRPr>
          </a:p>
        </p:txBody>
      </p:sp>
      <p:sp>
        <p:nvSpPr>
          <p:cNvPr id="1399"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10">
                                  <p:stCondLst>
                                    <p:cond delay="0"/>
                                  </p:stCondLst>
                                  <p:childTnLst>
                                    <p:set>
                                      <p:cBhvr>
                                        <p:cTn id="1081" dur="1" fill="hold">
                                          <p:stCondLst>
                                            <p:cond delay="0"/>
                                          </p:stCondLst>
                                        </p:cTn>
                                        <p:tgtEl>
                                          <p:spTgt spid="1374"/>
                                        </p:tgtEl>
                                        <p:attrNameLst>
                                          <p:attrName>style.visibility</p:attrName>
                                        </p:attrNameLst>
                                      </p:cBhvr>
                                      <p:to>
                                        <p:strVal val="visible"/>
                                      </p:to>
                                    </p:set>
                                    <p:animEffect filter="fade" transition="in">
                                      <p:cBhvr additive="repl">
                                        <p:cTn id="1082" dur="500"/>
                                        <p:tgtEl>
                                          <p:spTgt spid="1374"/>
                                        </p:tgtEl>
                                      </p:cBhvr>
                                    </p:animEffect>
                                  </p:childTnLst>
                                </p:cTn>
                              </p:par>
                            </p:childTnLst>
                          </p:cTn>
                        </p:par>
                        <p:par>
                          <p:cTn id="1083" fill="hold">
                            <p:stCondLst>
                              <p:cond delay="500"/>
                            </p:stCondLst>
                            <p:childTnLst>
                              <p:par>
                                <p:cTn id="1084" nodeType="afterEffect" fill="hold" presetClass="entr" presetID="18" presetSubtype="12">
                                  <p:stCondLst>
                                    <p:cond delay="0"/>
                                  </p:stCondLst>
                                  <p:childTnLst>
                                    <p:set>
                                      <p:cBhvr>
                                        <p:cTn id="1085" dur="1" fill="hold">
                                          <p:stCondLst>
                                            <p:cond delay="0"/>
                                          </p:stCondLst>
                                        </p:cTn>
                                        <p:tgtEl>
                                          <p:spTgt spid="1395">
                                            <p:txEl>
                                              <p:pRg st="0" end="0"/>
                                            </p:txEl>
                                          </p:spTgt>
                                        </p:tgtEl>
                                        <p:attrNameLst>
                                          <p:attrName>style.visibility</p:attrName>
                                        </p:attrNameLst>
                                      </p:cBhvr>
                                      <p:to>
                                        <p:strVal val="visible"/>
                                      </p:to>
                                    </p:set>
                                    <p:animEffect filter="strips(downLeft)" transition="in">
                                      <p:cBhvr additive="repl">
                                        <p:cTn id="1086" dur="500"/>
                                        <p:tgtEl>
                                          <p:spTgt spid="1395">
                                            <p:txEl>
                                              <p:pRg st="0" end="0"/>
                                            </p:txEl>
                                          </p:spTgt>
                                        </p:tgtEl>
                                      </p:cBhvr>
                                    </p:animEffect>
                                  </p:childTnLst>
                                </p:cTn>
                              </p:par>
                            </p:childTnLst>
                          </p:cTn>
                        </p:par>
                        <p:par>
                          <p:cTn id="1087" fill="hold">
                            <p:stCondLst>
                              <p:cond delay="1000"/>
                            </p:stCondLst>
                            <p:childTnLst>
                              <p:par>
                                <p:cTn id="1088" nodeType="afterEffect" fill="hold" presetClass="entr" presetID="10">
                                  <p:stCondLst>
                                    <p:cond delay="0"/>
                                  </p:stCondLst>
                                  <p:childTnLst>
                                    <p:set>
                                      <p:cBhvr>
                                        <p:cTn id="1089" dur="1" fill="hold">
                                          <p:stCondLst>
                                            <p:cond delay="0"/>
                                          </p:stCondLst>
                                        </p:cTn>
                                        <p:tgtEl>
                                          <p:spTgt spid="1379"/>
                                        </p:tgtEl>
                                        <p:attrNameLst>
                                          <p:attrName>style.visibility</p:attrName>
                                        </p:attrNameLst>
                                      </p:cBhvr>
                                      <p:to>
                                        <p:strVal val="visible"/>
                                      </p:to>
                                    </p:set>
                                    <p:animEffect filter="fade" transition="in">
                                      <p:cBhvr additive="repl">
                                        <p:cTn id="1090" dur="500"/>
                                        <p:tgtEl>
                                          <p:spTgt spid="1379"/>
                                        </p:tgtEl>
                                      </p:cBhvr>
                                    </p:animEffect>
                                  </p:childTnLst>
                                </p:cTn>
                              </p:par>
                              <p:par>
                                <p:cTn id="1091" nodeType="withEffect" fill="hold" presetClass="entr" presetID="10">
                                  <p:stCondLst>
                                    <p:cond delay="0"/>
                                  </p:stCondLst>
                                  <p:childTnLst>
                                    <p:set>
                                      <p:cBhvr>
                                        <p:cTn id="1092" dur="1" fill="hold">
                                          <p:stCondLst>
                                            <p:cond delay="0"/>
                                          </p:stCondLst>
                                        </p:cTn>
                                        <p:tgtEl>
                                          <p:spTgt spid="1386"/>
                                        </p:tgtEl>
                                        <p:attrNameLst>
                                          <p:attrName>style.visibility</p:attrName>
                                        </p:attrNameLst>
                                      </p:cBhvr>
                                      <p:to>
                                        <p:strVal val="visible"/>
                                      </p:to>
                                    </p:set>
                                    <p:animEffect filter="fade" transition="in">
                                      <p:cBhvr additive="repl">
                                        <p:cTn id="1093" dur="500"/>
                                        <p:tgtEl>
                                          <p:spTgt spid="1386"/>
                                        </p:tgtEl>
                                      </p:cBhvr>
                                    </p:animEffect>
                                  </p:childTnLst>
                                </p:cTn>
                              </p:par>
                            </p:childTnLst>
                          </p:cTn>
                        </p:par>
                        <p:par>
                          <p:cTn id="1094" fill="hold">
                            <p:stCondLst>
                              <p:cond delay="1500"/>
                            </p:stCondLst>
                            <p:childTnLst>
                              <p:par>
                                <p:cTn id="1095" nodeType="afterEffect" fill="hold" presetClass="entr" presetID="10">
                                  <p:stCondLst>
                                    <p:cond delay="0"/>
                                  </p:stCondLst>
                                  <p:childTnLst>
                                    <p:set>
                                      <p:cBhvr>
                                        <p:cTn id="1096" dur="1" fill="hold">
                                          <p:stCondLst>
                                            <p:cond delay="0"/>
                                          </p:stCondLst>
                                        </p:cTn>
                                        <p:tgtEl>
                                          <p:spTgt spid="1398">
                                            <p:txEl>
                                              <p:pRg st="0" end="0"/>
                                            </p:txEl>
                                          </p:spTgt>
                                        </p:tgtEl>
                                        <p:attrNameLst>
                                          <p:attrName>style.visibility</p:attrName>
                                        </p:attrNameLst>
                                      </p:cBhvr>
                                      <p:to>
                                        <p:strVal val="visible"/>
                                      </p:to>
                                    </p:set>
                                    <p:animEffect filter="fade" transition="in">
                                      <p:cBhvr additive="repl">
                                        <p:cTn id="1097" dur="500"/>
                                        <p:tgtEl>
                                          <p:spTgt spid="1398">
                                            <p:txEl>
                                              <p:pRg st="0" end="0"/>
                                            </p:txEl>
                                          </p:spTgt>
                                        </p:tgtEl>
                                      </p:cBhvr>
                                    </p:animEffect>
                                  </p:childTnLst>
                                </p:cTn>
                              </p:par>
                              <p:par>
                                <p:cTn id="1098" nodeType="withEffect" fill="hold" presetClass="entr" presetID="10">
                                  <p:stCondLst>
                                    <p:cond delay="0"/>
                                  </p:stCondLst>
                                  <p:childTnLst>
                                    <p:set>
                                      <p:cBhvr>
                                        <p:cTn id="1099" dur="1" fill="hold">
                                          <p:stCondLst>
                                            <p:cond delay="0"/>
                                          </p:stCondLst>
                                        </p:cTn>
                                        <p:tgtEl>
                                          <p:spTgt spid="1398">
                                            <p:txEl>
                                              <p:pRg st="1" end="1"/>
                                            </p:txEl>
                                          </p:spTgt>
                                        </p:tgtEl>
                                        <p:attrNameLst>
                                          <p:attrName>style.visibility</p:attrName>
                                        </p:attrNameLst>
                                      </p:cBhvr>
                                      <p:to>
                                        <p:strVal val="visible"/>
                                      </p:to>
                                    </p:set>
                                    <p:animEffect filter="fade" transition="in">
                                      <p:cBhvr additive="repl">
                                        <p:cTn id="1100" dur="500"/>
                                        <p:tgtEl>
                                          <p:spTgt spid="1398">
                                            <p:txEl>
                                              <p:pRg st="1" end="1"/>
                                            </p:txEl>
                                          </p:spTgt>
                                        </p:tgtEl>
                                      </p:cBhvr>
                                    </p:animEffect>
                                  </p:childTnLst>
                                </p:cTn>
                              </p:par>
                              <p:par>
                                <p:cTn id="1101" nodeType="withEffect" fill="hold" presetClass="entr" presetID="10">
                                  <p:stCondLst>
                                    <p:cond delay="0"/>
                                  </p:stCondLst>
                                  <p:childTnLst>
                                    <p:set>
                                      <p:cBhvr>
                                        <p:cTn id="1102" dur="1" fill="hold">
                                          <p:stCondLst>
                                            <p:cond delay="0"/>
                                          </p:stCondLst>
                                        </p:cTn>
                                        <p:tgtEl>
                                          <p:spTgt spid="1398">
                                            <p:txEl>
                                              <p:pRg st="2" end="2"/>
                                            </p:txEl>
                                          </p:spTgt>
                                        </p:tgtEl>
                                        <p:attrNameLst>
                                          <p:attrName>style.visibility</p:attrName>
                                        </p:attrNameLst>
                                      </p:cBhvr>
                                      <p:to>
                                        <p:strVal val="visible"/>
                                      </p:to>
                                    </p:set>
                                    <p:animEffect filter="fade" transition="in">
                                      <p:cBhvr additive="repl">
                                        <p:cTn id="1103" dur="500"/>
                                        <p:tgtEl>
                                          <p:spTgt spid="1398">
                                            <p:txEl>
                                              <p:pRg st="2" end="2"/>
                                            </p:txEl>
                                          </p:spTgt>
                                        </p:tgtEl>
                                      </p:cBhvr>
                                    </p:animEffect>
                                  </p:childTnLst>
                                </p:cTn>
                              </p:par>
                              <p:par>
                                <p:cTn id="1104" nodeType="withEffect" fill="hold" presetClass="entr" presetID="10">
                                  <p:stCondLst>
                                    <p:cond delay="0"/>
                                  </p:stCondLst>
                                  <p:childTnLst>
                                    <p:set>
                                      <p:cBhvr>
                                        <p:cTn id="1105" dur="1" fill="hold">
                                          <p:stCondLst>
                                            <p:cond delay="0"/>
                                          </p:stCondLst>
                                        </p:cTn>
                                        <p:tgtEl>
                                          <p:spTgt spid="1398">
                                            <p:txEl>
                                              <p:pRg st="3" end="3"/>
                                            </p:txEl>
                                          </p:spTgt>
                                        </p:tgtEl>
                                        <p:attrNameLst>
                                          <p:attrName>style.visibility</p:attrName>
                                        </p:attrNameLst>
                                      </p:cBhvr>
                                      <p:to>
                                        <p:strVal val="visible"/>
                                      </p:to>
                                    </p:set>
                                    <p:animEffect filter="fade" transition="in">
                                      <p:cBhvr additive="repl">
                                        <p:cTn id="1106" dur="500"/>
                                        <p:tgtEl>
                                          <p:spTgt spid="1398">
                                            <p:txEl>
                                              <p:pRg st="3" end="3"/>
                                            </p:txEl>
                                          </p:spTgt>
                                        </p:tgtEl>
                                      </p:cBhvr>
                                    </p:animEffect>
                                  </p:childTnLst>
                                </p:cTn>
                              </p:par>
                              <p:par>
                                <p:cTn id="1107" nodeType="withEffect" fill="hold" presetClass="entr" presetID="10">
                                  <p:stCondLst>
                                    <p:cond delay="0"/>
                                  </p:stCondLst>
                                  <p:childTnLst>
                                    <p:set>
                                      <p:cBhvr>
                                        <p:cTn id="1108" dur="1" fill="hold">
                                          <p:stCondLst>
                                            <p:cond delay="0"/>
                                          </p:stCondLst>
                                        </p:cTn>
                                        <p:tgtEl>
                                          <p:spTgt spid="1398">
                                            <p:txEl>
                                              <p:pRg st="4" end="4"/>
                                            </p:txEl>
                                          </p:spTgt>
                                        </p:tgtEl>
                                        <p:attrNameLst>
                                          <p:attrName>style.visibility</p:attrName>
                                        </p:attrNameLst>
                                      </p:cBhvr>
                                      <p:to>
                                        <p:strVal val="visible"/>
                                      </p:to>
                                    </p:set>
                                    <p:animEffect filter="fade" transition="in">
                                      <p:cBhvr additive="repl">
                                        <p:cTn id="1109" dur="500"/>
                                        <p:tgtEl>
                                          <p:spTgt spid="1398">
                                            <p:txEl>
                                              <p:pRg st="4" end="4"/>
                                            </p:txEl>
                                          </p:spTgt>
                                        </p:tgtEl>
                                      </p:cBhvr>
                                    </p:animEffect>
                                  </p:childTnLst>
                                </p:cTn>
                              </p:par>
                            </p:childTnLst>
                          </p:cTn>
                        </p:par>
                        <p:par>
                          <p:cTn id="1110" fill="hold">
                            <p:stCondLst>
                              <p:cond delay="2000"/>
                            </p:stCondLst>
                            <p:childTnLst>
                              <p:par>
                                <p:cTn id="1111" nodeType="afterEffect" fill="hold" presetClass="entr" presetID="10">
                                  <p:stCondLst>
                                    <p:cond delay="0"/>
                                  </p:stCondLst>
                                  <p:childTnLst>
                                    <p:set>
                                      <p:cBhvr>
                                        <p:cTn id="1112" dur="1" fill="hold">
                                          <p:stCondLst>
                                            <p:cond delay="0"/>
                                          </p:stCondLst>
                                        </p:cTn>
                                        <p:tgtEl>
                                          <p:spTgt spid="1397">
                                            <p:txEl>
                                              <p:pRg st="0" end="0"/>
                                            </p:txEl>
                                          </p:spTgt>
                                        </p:tgtEl>
                                        <p:attrNameLst>
                                          <p:attrName>style.visibility</p:attrName>
                                        </p:attrNameLst>
                                      </p:cBhvr>
                                      <p:to>
                                        <p:strVal val="visible"/>
                                      </p:to>
                                    </p:set>
                                    <p:animEffect filter="fade" transition="in">
                                      <p:cBhvr additive="repl">
                                        <p:cTn id="1113" dur="500"/>
                                        <p:tgtEl>
                                          <p:spTgt spid="1397">
                                            <p:txEl>
                                              <p:pRg st="0" end="0"/>
                                            </p:txEl>
                                          </p:spTgt>
                                        </p:tgtEl>
                                      </p:cBhvr>
                                    </p:animEffect>
                                  </p:childTnLst>
                                </p:cTn>
                              </p:par>
                              <p:par>
                                <p:cTn id="1114" nodeType="withEffect" fill="hold" presetClass="entr" presetID="10">
                                  <p:stCondLst>
                                    <p:cond delay="0"/>
                                  </p:stCondLst>
                                  <p:childTnLst>
                                    <p:set>
                                      <p:cBhvr>
                                        <p:cTn id="1115" dur="1" fill="hold">
                                          <p:stCondLst>
                                            <p:cond delay="0"/>
                                          </p:stCondLst>
                                        </p:cTn>
                                        <p:tgtEl>
                                          <p:spTgt spid="1397">
                                            <p:txEl>
                                              <p:pRg st="1" end="1"/>
                                            </p:txEl>
                                          </p:spTgt>
                                        </p:tgtEl>
                                        <p:attrNameLst>
                                          <p:attrName>style.visibility</p:attrName>
                                        </p:attrNameLst>
                                      </p:cBhvr>
                                      <p:to>
                                        <p:strVal val="visible"/>
                                      </p:to>
                                    </p:set>
                                    <p:animEffect filter="fade" transition="in">
                                      <p:cBhvr additive="repl">
                                        <p:cTn id="1116" dur="500"/>
                                        <p:tgtEl>
                                          <p:spTgt spid="1397">
                                            <p:txEl>
                                              <p:pRg st="1" end="1"/>
                                            </p:txEl>
                                          </p:spTgt>
                                        </p:tgtEl>
                                      </p:cBhvr>
                                    </p:animEffect>
                                  </p:childTnLst>
                                </p:cTn>
                              </p:par>
                              <p:par>
                                <p:cTn id="1117" nodeType="withEffect" fill="hold" presetClass="entr" presetID="10">
                                  <p:stCondLst>
                                    <p:cond delay="0"/>
                                  </p:stCondLst>
                                  <p:childTnLst>
                                    <p:set>
                                      <p:cBhvr>
                                        <p:cTn id="1118" dur="1" fill="hold">
                                          <p:stCondLst>
                                            <p:cond delay="0"/>
                                          </p:stCondLst>
                                        </p:cTn>
                                        <p:tgtEl>
                                          <p:spTgt spid="1397">
                                            <p:txEl>
                                              <p:pRg st="2" end="2"/>
                                            </p:txEl>
                                          </p:spTgt>
                                        </p:tgtEl>
                                        <p:attrNameLst>
                                          <p:attrName>style.visibility</p:attrName>
                                        </p:attrNameLst>
                                      </p:cBhvr>
                                      <p:to>
                                        <p:strVal val="visible"/>
                                      </p:to>
                                    </p:set>
                                    <p:animEffect filter="fade" transition="in">
                                      <p:cBhvr additive="repl">
                                        <p:cTn id="1119" dur="500"/>
                                        <p:tgtEl>
                                          <p:spTgt spid="1397">
                                            <p:txEl>
                                              <p:pRg st="2" end="2"/>
                                            </p:txEl>
                                          </p:spTgt>
                                        </p:tgtEl>
                                      </p:cBhvr>
                                    </p:animEffect>
                                  </p:childTnLst>
                                </p:cTn>
                              </p:par>
                            </p:childTnLst>
                          </p:cTn>
                        </p:par>
                        <p:par>
                          <p:cTn id="1120" fill="hold">
                            <p:stCondLst>
                              <p:cond delay="2500"/>
                            </p:stCondLst>
                            <p:childTnLst>
                              <p:par>
                                <p:cTn id="1121" nodeType="afterEffect" fill="hold" presetClass="entr" presetID="10">
                                  <p:stCondLst>
                                    <p:cond delay="0"/>
                                  </p:stCondLst>
                                  <p:childTnLst>
                                    <p:set>
                                      <p:cBhvr>
                                        <p:cTn id="1122" dur="1" fill="hold">
                                          <p:stCondLst>
                                            <p:cond delay="0"/>
                                          </p:stCondLst>
                                        </p:cTn>
                                        <p:tgtEl>
                                          <p:spTgt spid="1396">
                                            <p:txEl>
                                              <p:pRg st="0" end="0"/>
                                            </p:txEl>
                                          </p:spTgt>
                                        </p:tgtEl>
                                        <p:attrNameLst>
                                          <p:attrName>style.visibility</p:attrName>
                                        </p:attrNameLst>
                                      </p:cBhvr>
                                      <p:to>
                                        <p:strVal val="visible"/>
                                      </p:to>
                                    </p:set>
                                    <p:animEffect filter="fade" transition="in">
                                      <p:cBhvr additive="repl">
                                        <p:cTn id="1123" dur="500"/>
                                        <p:tgtEl>
                                          <p:spTgt spid="1396">
                                            <p:txEl>
                                              <p:pRg st="0" end="0"/>
                                            </p:txEl>
                                          </p:spTgt>
                                        </p:tgtEl>
                                      </p:cBhvr>
                                    </p:animEffect>
                                  </p:childTnLst>
                                </p:cTn>
                              </p:par>
                              <p:par>
                                <p:cTn id="1124" nodeType="withEffect" fill="hold" presetClass="entr" presetID="10">
                                  <p:stCondLst>
                                    <p:cond delay="0"/>
                                  </p:stCondLst>
                                  <p:childTnLst>
                                    <p:set>
                                      <p:cBhvr>
                                        <p:cTn id="1125" dur="1" fill="hold">
                                          <p:stCondLst>
                                            <p:cond delay="0"/>
                                          </p:stCondLst>
                                        </p:cTn>
                                        <p:tgtEl>
                                          <p:spTgt spid="1396">
                                            <p:txEl>
                                              <p:pRg st="1" end="1"/>
                                            </p:txEl>
                                          </p:spTgt>
                                        </p:tgtEl>
                                        <p:attrNameLst>
                                          <p:attrName>style.visibility</p:attrName>
                                        </p:attrNameLst>
                                      </p:cBhvr>
                                      <p:to>
                                        <p:strVal val="visible"/>
                                      </p:to>
                                    </p:set>
                                    <p:animEffect filter="fade" transition="in">
                                      <p:cBhvr additive="repl">
                                        <p:cTn id="1126" dur="500"/>
                                        <p:tgtEl>
                                          <p:spTgt spid="1396">
                                            <p:txEl>
                                              <p:pRg st="1" end="1"/>
                                            </p:txEl>
                                          </p:spTgt>
                                        </p:tgtEl>
                                      </p:cBhvr>
                                    </p:animEffect>
                                  </p:childTnLst>
                                </p:cTn>
                              </p:par>
                              <p:par>
                                <p:cTn id="1127" nodeType="withEffect" fill="hold" presetClass="entr" presetID="10">
                                  <p:stCondLst>
                                    <p:cond delay="0"/>
                                  </p:stCondLst>
                                  <p:childTnLst>
                                    <p:set>
                                      <p:cBhvr>
                                        <p:cTn id="1128" dur="1" fill="hold">
                                          <p:stCondLst>
                                            <p:cond delay="0"/>
                                          </p:stCondLst>
                                        </p:cTn>
                                        <p:tgtEl>
                                          <p:spTgt spid="1396">
                                            <p:txEl>
                                              <p:pRg st="2" end="2"/>
                                            </p:txEl>
                                          </p:spTgt>
                                        </p:tgtEl>
                                        <p:attrNameLst>
                                          <p:attrName>style.visibility</p:attrName>
                                        </p:attrNameLst>
                                      </p:cBhvr>
                                      <p:to>
                                        <p:strVal val="visible"/>
                                      </p:to>
                                    </p:set>
                                    <p:animEffect filter="fade" transition="in">
                                      <p:cBhvr additive="repl">
                                        <p:cTn id="1129" dur="500"/>
                                        <p:tgtEl>
                                          <p:spTgt spid="1396">
                                            <p:txEl>
                                              <p:pRg st="2" end="2"/>
                                            </p:txEl>
                                          </p:spTgt>
                                        </p:tgtEl>
                                      </p:cBhvr>
                                    </p:animEffect>
                                  </p:childTnLst>
                                </p:cTn>
                              </p:par>
                              <p:par>
                                <p:cTn id="1130" nodeType="withEffect" fill="hold" presetClass="entr" presetID="10">
                                  <p:stCondLst>
                                    <p:cond delay="0"/>
                                  </p:stCondLst>
                                  <p:childTnLst>
                                    <p:set>
                                      <p:cBhvr>
                                        <p:cTn id="1131" dur="1" fill="hold">
                                          <p:stCondLst>
                                            <p:cond delay="0"/>
                                          </p:stCondLst>
                                        </p:cTn>
                                        <p:tgtEl>
                                          <p:spTgt spid="1396">
                                            <p:txEl>
                                              <p:pRg st="3" end="3"/>
                                            </p:txEl>
                                          </p:spTgt>
                                        </p:tgtEl>
                                        <p:attrNameLst>
                                          <p:attrName>style.visibility</p:attrName>
                                        </p:attrNameLst>
                                      </p:cBhvr>
                                      <p:to>
                                        <p:strVal val="visible"/>
                                      </p:to>
                                    </p:set>
                                    <p:animEffect filter="fade" transition="in">
                                      <p:cBhvr additive="repl">
                                        <p:cTn id="1132" dur="500"/>
                                        <p:tgtEl>
                                          <p:spTgt spid="1396">
                                            <p:txEl>
                                              <p:pRg st="3" end="3"/>
                                            </p:txEl>
                                          </p:spTgt>
                                        </p:tgtEl>
                                      </p:cBhvr>
                                    </p:animEffect>
                                  </p:childTnLst>
                                </p:cTn>
                              </p:par>
                            </p:childTnLst>
                          </p:cTn>
                        </p:par>
                        <p:par>
                          <p:cTn id="1133" fill="hold">
                            <p:stCondLst>
                              <p:cond delay="3000"/>
                            </p:stCondLst>
                            <p:childTnLst>
                              <p:par>
                                <p:cTn id="1134" nodeType="afterEffect" fill="hold" presetClass="entr" presetID="10">
                                  <p:stCondLst>
                                    <p:cond delay="0"/>
                                  </p:stCondLst>
                                  <p:childTnLst>
                                    <p:set>
                                      <p:cBhvr>
                                        <p:cTn id="1135" dur="1" fill="hold">
                                          <p:stCondLst>
                                            <p:cond delay="0"/>
                                          </p:stCondLst>
                                        </p:cTn>
                                        <p:tgtEl>
                                          <p:spTgt spid="1394">
                                            <p:txEl>
                                              <p:pRg st="0" end="0"/>
                                            </p:txEl>
                                          </p:spTgt>
                                        </p:tgtEl>
                                        <p:attrNameLst>
                                          <p:attrName>style.visibility</p:attrName>
                                        </p:attrNameLst>
                                      </p:cBhvr>
                                      <p:to>
                                        <p:strVal val="visible"/>
                                      </p:to>
                                    </p:set>
                                    <p:animEffect filter="fade" transition="in">
                                      <p:cBhvr additive="repl">
                                        <p:cTn id="1136" dur="500"/>
                                        <p:tgtEl>
                                          <p:spTgt spid="1394">
                                            <p:txEl>
                                              <p:pRg st="0" end="0"/>
                                            </p:txEl>
                                          </p:spTgt>
                                        </p:tgtEl>
                                      </p:cBhvr>
                                    </p:animEffect>
                                  </p:childTnLst>
                                </p:cTn>
                              </p:par>
                              <p:par>
                                <p:cTn id="1137" nodeType="withEffect" fill="hold" presetClass="entr" presetID="10">
                                  <p:stCondLst>
                                    <p:cond delay="0"/>
                                  </p:stCondLst>
                                  <p:childTnLst>
                                    <p:set>
                                      <p:cBhvr>
                                        <p:cTn id="1138" dur="1" fill="hold">
                                          <p:stCondLst>
                                            <p:cond delay="0"/>
                                          </p:stCondLst>
                                        </p:cTn>
                                        <p:tgtEl>
                                          <p:spTgt spid="1394">
                                            <p:txEl>
                                              <p:pRg st="1" end="1"/>
                                            </p:txEl>
                                          </p:spTgt>
                                        </p:tgtEl>
                                        <p:attrNameLst>
                                          <p:attrName>style.visibility</p:attrName>
                                        </p:attrNameLst>
                                      </p:cBhvr>
                                      <p:to>
                                        <p:strVal val="visible"/>
                                      </p:to>
                                    </p:set>
                                    <p:animEffect filter="fade" transition="in">
                                      <p:cBhvr additive="repl">
                                        <p:cTn id="1139" dur="500"/>
                                        <p:tgtEl>
                                          <p:spTgt spid="1394">
                                            <p:txEl>
                                              <p:pRg st="1" end="1"/>
                                            </p:txEl>
                                          </p:spTgt>
                                        </p:tgtEl>
                                      </p:cBhvr>
                                    </p:animEffect>
                                  </p:childTnLst>
                                </p:cTn>
                              </p:par>
                              <p:par>
                                <p:cTn id="1140" nodeType="withEffect" fill="hold" presetClass="entr" presetID="10">
                                  <p:stCondLst>
                                    <p:cond delay="0"/>
                                  </p:stCondLst>
                                  <p:childTnLst>
                                    <p:set>
                                      <p:cBhvr>
                                        <p:cTn id="1141" dur="1" fill="hold">
                                          <p:stCondLst>
                                            <p:cond delay="0"/>
                                          </p:stCondLst>
                                        </p:cTn>
                                        <p:tgtEl>
                                          <p:spTgt spid="1394">
                                            <p:txEl>
                                              <p:pRg st="2" end="2"/>
                                            </p:txEl>
                                          </p:spTgt>
                                        </p:tgtEl>
                                        <p:attrNameLst>
                                          <p:attrName>style.visibility</p:attrName>
                                        </p:attrNameLst>
                                      </p:cBhvr>
                                      <p:to>
                                        <p:strVal val="visible"/>
                                      </p:to>
                                    </p:set>
                                    <p:animEffect filter="fade" transition="in">
                                      <p:cBhvr additive="repl">
                                        <p:cTn id="1142" dur="500"/>
                                        <p:tgtEl>
                                          <p:spTgt spid="1394">
                                            <p:txEl>
                                              <p:pRg st="2" end="2"/>
                                            </p:txEl>
                                          </p:spTgt>
                                        </p:tgtEl>
                                      </p:cBhvr>
                                    </p:animEffect>
                                  </p:childTnLst>
                                </p:cTn>
                              </p:par>
                              <p:par>
                                <p:cTn id="1143" nodeType="withEffect" fill="hold" presetClass="entr" presetID="10">
                                  <p:stCondLst>
                                    <p:cond delay="0"/>
                                  </p:stCondLst>
                                  <p:childTnLst>
                                    <p:set>
                                      <p:cBhvr>
                                        <p:cTn id="1144" dur="1" fill="hold">
                                          <p:stCondLst>
                                            <p:cond delay="0"/>
                                          </p:stCondLst>
                                        </p:cTn>
                                        <p:tgtEl>
                                          <p:spTgt spid="1394">
                                            <p:txEl>
                                              <p:pRg st="3" end="3"/>
                                            </p:txEl>
                                          </p:spTgt>
                                        </p:tgtEl>
                                        <p:attrNameLst>
                                          <p:attrName>style.visibility</p:attrName>
                                        </p:attrNameLst>
                                      </p:cBhvr>
                                      <p:to>
                                        <p:strVal val="visible"/>
                                      </p:to>
                                    </p:set>
                                    <p:animEffect filter="fade" transition="in">
                                      <p:cBhvr additive="repl">
                                        <p:cTn id="1145" dur="500"/>
                                        <p:tgtEl>
                                          <p:spTgt spid="1394">
                                            <p:txEl>
                                              <p:pRg st="3" end="3"/>
                                            </p:txEl>
                                          </p:spTgt>
                                        </p:tgtEl>
                                      </p:cBhvr>
                                    </p:animEffect>
                                  </p:childTnLst>
                                </p:cTn>
                              </p:par>
                              <p:par>
                                <p:cTn id="1146" nodeType="withEffect" fill="hold" presetClass="entr" presetID="10">
                                  <p:stCondLst>
                                    <p:cond delay="0"/>
                                  </p:stCondLst>
                                  <p:childTnLst>
                                    <p:set>
                                      <p:cBhvr>
                                        <p:cTn id="1147" dur="1" fill="hold">
                                          <p:stCondLst>
                                            <p:cond delay="0"/>
                                          </p:stCondLst>
                                        </p:cTn>
                                        <p:tgtEl>
                                          <p:spTgt spid="1394">
                                            <p:txEl>
                                              <p:pRg st="4" end="4"/>
                                            </p:txEl>
                                          </p:spTgt>
                                        </p:tgtEl>
                                        <p:attrNameLst>
                                          <p:attrName>style.visibility</p:attrName>
                                        </p:attrNameLst>
                                      </p:cBhvr>
                                      <p:to>
                                        <p:strVal val="visible"/>
                                      </p:to>
                                    </p:set>
                                    <p:animEffect filter="fade" transition="in">
                                      <p:cBhvr additive="repl">
                                        <p:cTn id="1148" dur="500"/>
                                        <p:tgtEl>
                                          <p:spTgt spid="1394">
                                            <p:txEl>
                                              <p:pRg st="4" end="4"/>
                                            </p:txEl>
                                          </p:spTgt>
                                        </p:tgtEl>
                                      </p:cBhvr>
                                    </p:animEffect>
                                  </p:childTnLst>
                                </p:cTn>
                              </p:par>
                            </p:childTnLst>
                          </p:cTn>
                        </p:par>
                        <p:par>
                          <p:cTn id="1149" fill="hold">
                            <p:stCondLst>
                              <p:cond delay="3500"/>
                            </p:stCondLst>
                            <p:childTnLst>
                              <p:par>
                                <p:cTn id="1150" nodeType="afterEffect" fill="hold" presetClass="entr" presetID="22" presetSubtype="8">
                                  <p:stCondLst>
                                    <p:cond delay="0"/>
                                  </p:stCondLst>
                                  <p:childTnLst>
                                    <p:set>
                                      <p:cBhvr>
                                        <p:cTn id="1151" dur="1" fill="hold">
                                          <p:stCondLst>
                                            <p:cond delay="0"/>
                                          </p:stCondLst>
                                        </p:cTn>
                                        <p:tgtEl>
                                          <p:spTgt spid="1399">
                                            <p:txEl>
                                              <p:pRg st="0" end="0"/>
                                            </p:txEl>
                                          </p:spTgt>
                                        </p:tgtEl>
                                        <p:attrNameLst>
                                          <p:attrName>style.visibility</p:attrName>
                                        </p:attrNameLst>
                                      </p:cBhvr>
                                      <p:to>
                                        <p:strVal val="visible"/>
                                      </p:to>
                                    </p:set>
                                    <p:animEffect filter="wipe(left)" transition="in">
                                      <p:cBhvr additive="repl">
                                        <p:cTn id="1152" dur="500"/>
                                        <p:tgtEl>
                                          <p:spTgt spid="13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0" name="Group 25"/>
          <p:cNvGrpSpPr/>
          <p:nvPr/>
        </p:nvGrpSpPr>
        <p:grpSpPr>
          <a:xfrm>
            <a:off x="6084720" y="2112840"/>
            <a:ext cx="5299200" cy="3500640"/>
            <a:chOff x="6084720" y="2112840"/>
            <a:chExt cx="5299200" cy="3500640"/>
          </a:xfrm>
        </p:grpSpPr>
        <p:grpSp>
          <p:nvGrpSpPr>
            <p:cNvPr id="1401" name="Group 26"/>
            <p:cNvGrpSpPr/>
            <p:nvPr/>
          </p:nvGrpSpPr>
          <p:grpSpPr>
            <a:xfrm>
              <a:off x="6084720" y="2112840"/>
              <a:ext cx="5299200" cy="3500640"/>
              <a:chOff x="6084720" y="2112840"/>
              <a:chExt cx="5299200" cy="3500640"/>
            </a:xfrm>
          </p:grpSpPr>
          <p:sp>
            <p:nvSpPr>
              <p:cNvPr id="1402" name="AutoShape 1"/>
              <p:cNvSpPr/>
              <p:nvPr/>
            </p:nvSpPr>
            <p:spPr>
              <a:xfrm>
                <a:off x="6093720" y="2112840"/>
                <a:ext cx="5290200" cy="3500640"/>
              </a:xfrm>
              <a:prstGeom prst="roundRect">
                <a:avLst>
                  <a:gd name="adj" fmla="val 1292"/>
                </a:avLst>
              </a:prstGeom>
              <a:solidFill>
                <a:srgbClr val="343434"/>
              </a:solidFill>
              <a:ln w="0">
                <a:noFill/>
              </a:ln>
              <a:effectLst>
                <a:outerShdw dist="114140" dir="5334940" blurRad="0" rotWithShape="0">
                  <a:srgbClr val="ffffff">
                    <a:alpha val="39000"/>
                  </a:srgbClr>
                </a:outerShdw>
              </a:effectLst>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3" name="Rectangle 2"/>
              <p:cNvSpPr/>
              <p:nvPr/>
            </p:nvSpPr>
            <p:spPr>
              <a:xfrm>
                <a:off x="6084720" y="2372400"/>
                <a:ext cx="5290200" cy="247680"/>
              </a:xfrm>
              <a:prstGeom prst="rect">
                <a:avLst/>
              </a:prstGeom>
              <a:solidFill>
                <a:srgbClr val="cdcdcd"/>
              </a:solidFill>
              <a:ln w="25560">
                <a:solidFill>
                  <a:srgbClr val="cdcdcd"/>
                </a:solidFill>
                <a:miter/>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4" name="AutoShape 3"/>
              <p:cNvSpPr/>
              <p:nvPr/>
            </p:nvSpPr>
            <p:spPr>
              <a:xfrm>
                <a:off x="6877080" y="2179440"/>
                <a:ext cx="2116080" cy="440280"/>
              </a:xfrm>
              <a:prstGeom prst="roundRect">
                <a:avLst>
                  <a:gd name="adj" fmla="val 11986"/>
                </a:avLst>
              </a:prstGeom>
              <a:solidFill>
                <a:srgbClr val="cdcdcd"/>
              </a:solidFill>
              <a:ln w="25560">
                <a:solidFill>
                  <a:srgbClr val="cdcdcd"/>
                </a:solidFill>
                <a:miter/>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5" name="Oval 4"/>
              <p:cNvSpPr/>
              <p:nvPr/>
            </p:nvSpPr>
            <p:spPr>
              <a:xfrm>
                <a:off x="6178320" y="2207160"/>
                <a:ext cx="74520" cy="74520"/>
              </a:xfrm>
              <a:prstGeom prst="ellipse">
                <a:avLst/>
              </a:prstGeom>
              <a:solidFill>
                <a:srgbClr val="0098a5"/>
              </a:solidFill>
              <a:ln w="0">
                <a:noFill/>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6" name="Oval 5"/>
              <p:cNvSpPr/>
              <p:nvPr/>
            </p:nvSpPr>
            <p:spPr>
              <a:xfrm>
                <a:off x="6310440" y="2207160"/>
                <a:ext cx="74520" cy="74520"/>
              </a:xfrm>
              <a:prstGeom prst="ellipse">
                <a:avLst/>
              </a:prstGeom>
              <a:solidFill>
                <a:srgbClr val="1991ab"/>
              </a:solidFill>
              <a:ln w="0">
                <a:noFill/>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7" name="Oval 6"/>
              <p:cNvSpPr/>
              <p:nvPr/>
            </p:nvSpPr>
            <p:spPr>
              <a:xfrm>
                <a:off x="6442920" y="2207160"/>
                <a:ext cx="74520" cy="74520"/>
              </a:xfrm>
              <a:prstGeom prst="ellipse">
                <a:avLst/>
              </a:prstGeom>
              <a:solidFill>
                <a:srgbClr val="2b85ae"/>
              </a:solidFill>
              <a:ln w="0">
                <a:noFill/>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8" name="Rectangle 11"/>
              <p:cNvSpPr/>
              <p:nvPr/>
            </p:nvSpPr>
            <p:spPr>
              <a:xfrm>
                <a:off x="7009920" y="2419560"/>
                <a:ext cx="3974400" cy="157320"/>
              </a:xfrm>
              <a:prstGeom prst="rect">
                <a:avLst/>
              </a:prstGeom>
              <a:solidFill>
                <a:srgbClr val="ffffff"/>
              </a:solidFill>
              <a:ln w="25560">
                <a:solidFill>
                  <a:srgbClr val="b3b3b3"/>
                </a:solidFill>
                <a:miter/>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09" name="Freeform 9"/>
              <p:cNvSpPr/>
              <p:nvPr/>
            </p:nvSpPr>
            <p:spPr>
              <a:xfrm rot="18900000">
                <a:off x="8858520" y="2234520"/>
                <a:ext cx="77400" cy="77760"/>
              </a:xfrm>
              <a:custGeom>
                <a:avLst/>
                <a:gdLst/>
                <a:ahLst/>
                <a:rect l="l" t="t" r="r" b="b"/>
                <a:pathLst>
                  <a:path w="64" h="64">
                    <a:moveTo>
                      <a:pt x="42" y="0"/>
                    </a:moveTo>
                    <a:lnTo>
                      <a:pt x="21" y="0"/>
                    </a:lnTo>
                    <a:lnTo>
                      <a:pt x="21" y="21"/>
                    </a:lnTo>
                    <a:lnTo>
                      <a:pt x="0" y="21"/>
                    </a:lnTo>
                    <a:lnTo>
                      <a:pt x="0" y="42"/>
                    </a:lnTo>
                    <a:lnTo>
                      <a:pt x="21" y="42"/>
                    </a:lnTo>
                    <a:lnTo>
                      <a:pt x="21" y="64"/>
                    </a:lnTo>
                    <a:lnTo>
                      <a:pt x="42" y="64"/>
                    </a:lnTo>
                    <a:lnTo>
                      <a:pt x="42" y="42"/>
                    </a:lnTo>
                    <a:lnTo>
                      <a:pt x="64" y="42"/>
                    </a:lnTo>
                    <a:lnTo>
                      <a:pt x="64" y="21"/>
                    </a:lnTo>
                    <a:lnTo>
                      <a:pt x="42" y="21"/>
                    </a:lnTo>
                    <a:lnTo>
                      <a:pt x="42" y="0"/>
                    </a:lnTo>
                    <a:close/>
                  </a:path>
                </a:pathLst>
              </a:custGeom>
              <a:solidFill>
                <a:srgbClr val="7f7f7f"/>
              </a:solidFill>
              <a:ln w="0">
                <a:noFill/>
              </a:ln>
            </p:spPr>
            <p:style>
              <a:lnRef idx="0"/>
              <a:fillRef idx="0"/>
              <a:effectRef idx="0"/>
              <a:fontRef idx="minor"/>
            </p:style>
            <p:txBody>
              <a:bodyPr lIns="45720" rIns="45720" tIns="22680" bIns="22680" anchor="t">
                <a:noAutofit/>
              </a:bodyPr>
              <a:p>
                <a:endParaRPr b="0" lang="en-US" sz="1800" spc="-1" strike="noStrike">
                  <a:solidFill>
                    <a:srgbClr val="494949"/>
                  </a:solidFill>
                  <a:latin typeface="Open Sans Light"/>
                </a:endParaRPr>
              </a:p>
            </p:txBody>
          </p:sp>
          <p:pic>
            <p:nvPicPr>
              <p:cNvPr id="1410" name="Group 40" descr=""/>
              <p:cNvPicPr/>
              <p:nvPr/>
            </p:nvPicPr>
            <p:blipFill>
              <a:blip r:embed="rId1"/>
              <a:stretch/>
            </p:blipFill>
            <p:spPr>
              <a:xfrm>
                <a:off x="11125440" y="2181600"/>
                <a:ext cx="121680" cy="121680"/>
              </a:xfrm>
              <a:prstGeom prst="rect">
                <a:avLst/>
              </a:prstGeom>
              <a:ln w="0">
                <a:noFill/>
              </a:ln>
            </p:spPr>
          </p:pic>
          <p:sp>
            <p:nvSpPr>
              <p:cNvPr id="1411" name="Freeform 25"/>
              <p:cNvSpPr/>
              <p:nvPr/>
            </p:nvSpPr>
            <p:spPr>
              <a:xfrm rot="5400000">
                <a:off x="11129040" y="2444040"/>
                <a:ext cx="115200" cy="100080"/>
              </a:xfrm>
              <a:custGeom>
                <a:avLst/>
                <a:gdLst/>
                <a:ahLst/>
                <a:rect l="l" t="t" r="r" b="b"/>
                <a:pathLst>
                  <a:path w="896" h="784">
                    <a:moveTo>
                      <a:pt x="504" y="0"/>
                    </a:moveTo>
                    <a:cubicBezTo>
                      <a:pt x="307" y="0"/>
                      <a:pt x="144" y="146"/>
                      <a:pt x="116" y="336"/>
                    </a:cubicBezTo>
                    <a:cubicBezTo>
                      <a:pt x="0" y="336"/>
                      <a:pt x="0" y="336"/>
                      <a:pt x="0" y="336"/>
                    </a:cubicBezTo>
                    <a:cubicBezTo>
                      <a:pt x="168" y="560"/>
                      <a:pt x="168" y="560"/>
                      <a:pt x="168" y="560"/>
                    </a:cubicBezTo>
                    <a:cubicBezTo>
                      <a:pt x="336" y="336"/>
                      <a:pt x="336" y="336"/>
                      <a:pt x="336" y="336"/>
                    </a:cubicBezTo>
                    <a:cubicBezTo>
                      <a:pt x="230" y="336"/>
                      <a:pt x="230" y="336"/>
                      <a:pt x="230" y="336"/>
                    </a:cubicBezTo>
                    <a:cubicBezTo>
                      <a:pt x="256" y="208"/>
                      <a:pt x="369" y="112"/>
                      <a:pt x="504" y="112"/>
                    </a:cubicBezTo>
                    <a:cubicBezTo>
                      <a:pt x="658" y="112"/>
                      <a:pt x="784" y="238"/>
                      <a:pt x="784" y="392"/>
                    </a:cubicBezTo>
                    <a:cubicBezTo>
                      <a:pt x="784" y="546"/>
                      <a:pt x="658" y="672"/>
                      <a:pt x="504" y="672"/>
                    </a:cubicBezTo>
                    <a:cubicBezTo>
                      <a:pt x="504" y="784"/>
                      <a:pt x="504" y="784"/>
                      <a:pt x="504" y="784"/>
                    </a:cubicBezTo>
                    <a:cubicBezTo>
                      <a:pt x="721" y="784"/>
                      <a:pt x="896" y="609"/>
                      <a:pt x="896" y="392"/>
                    </a:cubicBezTo>
                    <a:cubicBezTo>
                      <a:pt x="896" y="175"/>
                      <a:pt x="721" y="0"/>
                      <a:pt x="504" y="0"/>
                    </a:cubicBezTo>
                    <a:close/>
                  </a:path>
                </a:pathLst>
              </a:custGeom>
              <a:solidFill>
                <a:srgbClr val="7f7f7f"/>
              </a:solidFill>
              <a:ln w="0">
                <a:noFill/>
              </a:ln>
            </p:spPr>
            <p:style>
              <a:lnRef idx="0"/>
              <a:fillRef idx="0"/>
              <a:effectRef idx="0"/>
              <a:fontRef idx="minor"/>
            </p:style>
            <p:txBody>
              <a:bodyPr lIns="45720" rIns="45720" tIns="22680" bIns="22680" anchor="t">
                <a:noAutofit/>
              </a:bodyPr>
              <a:p>
                <a:endParaRPr b="0" lang="en-US" sz="1800" spc="-1" strike="noStrike">
                  <a:solidFill>
                    <a:srgbClr val="494949"/>
                  </a:solidFill>
                  <a:latin typeface="Open Sans Light"/>
                </a:endParaRPr>
              </a:p>
            </p:txBody>
          </p:sp>
          <p:sp>
            <p:nvSpPr>
              <p:cNvPr id="1412" name="Oval 6"/>
              <p:cNvSpPr/>
              <p:nvPr/>
            </p:nvSpPr>
            <p:spPr>
              <a:xfrm>
                <a:off x="6581520" y="2207160"/>
                <a:ext cx="74520" cy="74520"/>
              </a:xfrm>
              <a:prstGeom prst="ellipse">
                <a:avLst/>
              </a:prstGeom>
              <a:solidFill>
                <a:srgbClr val="4175a9"/>
              </a:solidFill>
              <a:ln w="0">
                <a:noFill/>
              </a:ln>
            </p:spPr>
            <p:style>
              <a:lnRef idx="0"/>
              <a:fillRef idx="0"/>
              <a:effectRef idx="0"/>
              <a:fontRef idx="minor"/>
            </p:style>
            <p:txBody>
              <a:bodyPr lIns="0" rIns="0" tIns="0" bIns="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1413" name="TextBox 27"/>
            <p:cNvSpPr/>
            <p:nvPr/>
          </p:nvSpPr>
          <p:spPr>
            <a:xfrm>
              <a:off x="7048440" y="2402280"/>
              <a:ext cx="1782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900" spc="-1" strike="noStrike">
                  <a:solidFill>
                    <a:srgbClr val="a6a6a6"/>
                  </a:solidFill>
                  <a:latin typeface="Lato Light"/>
                  <a:ea typeface="Lato Light"/>
                </a:rPr>
                <a:t>www.yourcompanyname.com</a:t>
              </a:r>
              <a:endParaRPr b="0" lang="en-US" sz="900" spc="-1" strike="noStrike">
                <a:solidFill>
                  <a:srgbClr val="494949"/>
                </a:solidFill>
                <a:latin typeface="Open Sans Light"/>
              </a:endParaRPr>
            </a:p>
          </p:txBody>
        </p:sp>
        <p:sp>
          <p:nvSpPr>
            <p:cNvPr id="1414" name="Freeform 29"/>
            <p:cNvSpPr/>
            <p:nvPr/>
          </p:nvSpPr>
          <p:spPr>
            <a:xfrm>
              <a:off x="7059600" y="2454840"/>
              <a:ext cx="89640" cy="90360"/>
            </a:xfrm>
            <a:custGeom>
              <a:avLst/>
              <a:gdLst/>
              <a:ahLst/>
              <a:rect l="l" t="t" r="r" b="b"/>
              <a:pathLst>
                <a:path w="636" h="636">
                  <a:moveTo>
                    <a:pt x="318" y="0"/>
                  </a:moveTo>
                  <a:cubicBezTo>
                    <a:pt x="142" y="0"/>
                    <a:pt x="0" y="142"/>
                    <a:pt x="0" y="318"/>
                  </a:cubicBezTo>
                  <a:cubicBezTo>
                    <a:pt x="0" y="494"/>
                    <a:pt x="142" y="636"/>
                    <a:pt x="318" y="636"/>
                  </a:cubicBezTo>
                  <a:cubicBezTo>
                    <a:pt x="494" y="636"/>
                    <a:pt x="636" y="494"/>
                    <a:pt x="636" y="318"/>
                  </a:cubicBezTo>
                  <a:cubicBezTo>
                    <a:pt x="636" y="142"/>
                    <a:pt x="494" y="0"/>
                    <a:pt x="318" y="0"/>
                  </a:cubicBezTo>
                  <a:close/>
                  <a:moveTo>
                    <a:pt x="594" y="308"/>
                  </a:moveTo>
                  <a:cubicBezTo>
                    <a:pt x="471" y="308"/>
                    <a:pt x="471" y="308"/>
                    <a:pt x="471" y="308"/>
                  </a:cubicBezTo>
                  <a:cubicBezTo>
                    <a:pt x="470" y="262"/>
                    <a:pt x="462" y="219"/>
                    <a:pt x="448" y="179"/>
                  </a:cubicBezTo>
                  <a:cubicBezTo>
                    <a:pt x="476" y="168"/>
                    <a:pt x="501" y="152"/>
                    <a:pt x="525" y="134"/>
                  </a:cubicBezTo>
                  <a:cubicBezTo>
                    <a:pt x="566" y="181"/>
                    <a:pt x="592" y="241"/>
                    <a:pt x="594" y="308"/>
                  </a:cubicBezTo>
                  <a:close/>
                  <a:moveTo>
                    <a:pt x="307" y="594"/>
                  </a:moveTo>
                  <a:cubicBezTo>
                    <a:pt x="273" y="566"/>
                    <a:pt x="244" y="529"/>
                    <a:pt x="223" y="486"/>
                  </a:cubicBezTo>
                  <a:cubicBezTo>
                    <a:pt x="250" y="478"/>
                    <a:pt x="278" y="473"/>
                    <a:pt x="308" y="472"/>
                  </a:cubicBezTo>
                  <a:cubicBezTo>
                    <a:pt x="308" y="594"/>
                    <a:pt x="308" y="594"/>
                    <a:pt x="308" y="594"/>
                  </a:cubicBezTo>
                  <a:cubicBezTo>
                    <a:pt x="307" y="594"/>
                    <a:pt x="307" y="594"/>
                    <a:pt x="307" y="594"/>
                  </a:cubicBezTo>
                  <a:close/>
                  <a:moveTo>
                    <a:pt x="329" y="42"/>
                  </a:moveTo>
                  <a:cubicBezTo>
                    <a:pt x="368" y="74"/>
                    <a:pt x="400" y="117"/>
                    <a:pt x="421" y="167"/>
                  </a:cubicBezTo>
                  <a:cubicBezTo>
                    <a:pt x="392" y="177"/>
                    <a:pt x="361" y="183"/>
                    <a:pt x="328" y="184"/>
                  </a:cubicBezTo>
                  <a:cubicBezTo>
                    <a:pt x="328" y="42"/>
                    <a:pt x="328" y="42"/>
                    <a:pt x="328" y="42"/>
                  </a:cubicBezTo>
                  <a:cubicBezTo>
                    <a:pt x="329" y="42"/>
                    <a:pt x="329" y="42"/>
                    <a:pt x="329" y="42"/>
                  </a:cubicBezTo>
                  <a:close/>
                  <a:moveTo>
                    <a:pt x="363" y="45"/>
                  </a:moveTo>
                  <a:cubicBezTo>
                    <a:pt x="420" y="55"/>
                    <a:pt x="471" y="81"/>
                    <a:pt x="510" y="119"/>
                  </a:cubicBezTo>
                  <a:cubicBezTo>
                    <a:pt x="489" y="136"/>
                    <a:pt x="466" y="150"/>
                    <a:pt x="440" y="160"/>
                  </a:cubicBezTo>
                  <a:cubicBezTo>
                    <a:pt x="421" y="116"/>
                    <a:pt x="395" y="77"/>
                    <a:pt x="363" y="45"/>
                  </a:cubicBezTo>
                  <a:close/>
                  <a:moveTo>
                    <a:pt x="308" y="42"/>
                  </a:moveTo>
                  <a:cubicBezTo>
                    <a:pt x="308" y="184"/>
                    <a:pt x="308" y="184"/>
                    <a:pt x="308" y="184"/>
                  </a:cubicBezTo>
                  <a:cubicBezTo>
                    <a:pt x="275" y="183"/>
                    <a:pt x="244" y="177"/>
                    <a:pt x="215" y="167"/>
                  </a:cubicBezTo>
                  <a:cubicBezTo>
                    <a:pt x="236" y="117"/>
                    <a:pt x="268" y="74"/>
                    <a:pt x="307" y="42"/>
                  </a:cubicBezTo>
                  <a:cubicBezTo>
                    <a:pt x="307" y="42"/>
                    <a:pt x="307" y="42"/>
                    <a:pt x="308" y="42"/>
                  </a:cubicBezTo>
                  <a:close/>
                  <a:moveTo>
                    <a:pt x="196" y="160"/>
                  </a:moveTo>
                  <a:cubicBezTo>
                    <a:pt x="171" y="150"/>
                    <a:pt x="147" y="136"/>
                    <a:pt x="126" y="119"/>
                  </a:cubicBezTo>
                  <a:cubicBezTo>
                    <a:pt x="165" y="81"/>
                    <a:pt x="216" y="55"/>
                    <a:pt x="273" y="45"/>
                  </a:cubicBezTo>
                  <a:cubicBezTo>
                    <a:pt x="241" y="77"/>
                    <a:pt x="215" y="116"/>
                    <a:pt x="196" y="160"/>
                  </a:cubicBezTo>
                  <a:close/>
                  <a:moveTo>
                    <a:pt x="207" y="186"/>
                  </a:moveTo>
                  <a:cubicBezTo>
                    <a:pt x="239" y="197"/>
                    <a:pt x="273" y="204"/>
                    <a:pt x="308" y="205"/>
                  </a:cubicBezTo>
                  <a:cubicBezTo>
                    <a:pt x="308" y="308"/>
                    <a:pt x="308" y="308"/>
                    <a:pt x="308" y="308"/>
                  </a:cubicBezTo>
                  <a:cubicBezTo>
                    <a:pt x="185" y="308"/>
                    <a:pt x="185" y="308"/>
                    <a:pt x="185" y="308"/>
                  </a:cubicBezTo>
                  <a:cubicBezTo>
                    <a:pt x="186" y="265"/>
                    <a:pt x="194" y="224"/>
                    <a:pt x="207" y="186"/>
                  </a:cubicBezTo>
                  <a:close/>
                  <a:moveTo>
                    <a:pt x="308" y="328"/>
                  </a:moveTo>
                  <a:cubicBezTo>
                    <a:pt x="308" y="452"/>
                    <a:pt x="308" y="452"/>
                    <a:pt x="308" y="452"/>
                  </a:cubicBezTo>
                  <a:cubicBezTo>
                    <a:pt x="275" y="453"/>
                    <a:pt x="244" y="458"/>
                    <a:pt x="215" y="468"/>
                  </a:cubicBezTo>
                  <a:cubicBezTo>
                    <a:pt x="197" y="425"/>
                    <a:pt x="186" y="378"/>
                    <a:pt x="185" y="328"/>
                  </a:cubicBezTo>
                  <a:lnTo>
                    <a:pt x="308" y="328"/>
                  </a:lnTo>
                  <a:close/>
                  <a:moveTo>
                    <a:pt x="273" y="591"/>
                  </a:moveTo>
                  <a:cubicBezTo>
                    <a:pt x="222" y="582"/>
                    <a:pt x="176" y="560"/>
                    <a:pt x="138" y="528"/>
                  </a:cubicBezTo>
                  <a:cubicBezTo>
                    <a:pt x="158" y="514"/>
                    <a:pt x="180" y="502"/>
                    <a:pt x="204" y="493"/>
                  </a:cubicBezTo>
                  <a:cubicBezTo>
                    <a:pt x="222" y="531"/>
                    <a:pt x="245" y="563"/>
                    <a:pt x="273" y="591"/>
                  </a:cubicBezTo>
                  <a:close/>
                  <a:moveTo>
                    <a:pt x="328" y="594"/>
                  </a:moveTo>
                  <a:cubicBezTo>
                    <a:pt x="328" y="472"/>
                    <a:pt x="328" y="472"/>
                    <a:pt x="328" y="472"/>
                  </a:cubicBezTo>
                  <a:cubicBezTo>
                    <a:pt x="358" y="473"/>
                    <a:pt x="386" y="478"/>
                    <a:pt x="413" y="486"/>
                  </a:cubicBezTo>
                  <a:cubicBezTo>
                    <a:pt x="392" y="529"/>
                    <a:pt x="363" y="566"/>
                    <a:pt x="329" y="594"/>
                  </a:cubicBezTo>
                  <a:cubicBezTo>
                    <a:pt x="329" y="594"/>
                    <a:pt x="329" y="594"/>
                    <a:pt x="328" y="594"/>
                  </a:cubicBezTo>
                  <a:close/>
                  <a:moveTo>
                    <a:pt x="432" y="493"/>
                  </a:moveTo>
                  <a:cubicBezTo>
                    <a:pt x="456" y="502"/>
                    <a:pt x="478" y="514"/>
                    <a:pt x="498" y="528"/>
                  </a:cubicBezTo>
                  <a:cubicBezTo>
                    <a:pt x="460" y="560"/>
                    <a:pt x="414" y="582"/>
                    <a:pt x="363" y="591"/>
                  </a:cubicBezTo>
                  <a:cubicBezTo>
                    <a:pt x="391" y="563"/>
                    <a:pt x="414" y="531"/>
                    <a:pt x="432" y="493"/>
                  </a:cubicBezTo>
                  <a:close/>
                  <a:moveTo>
                    <a:pt x="421" y="468"/>
                  </a:moveTo>
                  <a:cubicBezTo>
                    <a:pt x="392" y="458"/>
                    <a:pt x="361" y="453"/>
                    <a:pt x="328" y="452"/>
                  </a:cubicBezTo>
                  <a:cubicBezTo>
                    <a:pt x="328" y="328"/>
                    <a:pt x="328" y="328"/>
                    <a:pt x="328" y="328"/>
                  </a:cubicBezTo>
                  <a:cubicBezTo>
                    <a:pt x="451" y="328"/>
                    <a:pt x="451" y="328"/>
                    <a:pt x="451" y="328"/>
                  </a:cubicBezTo>
                  <a:cubicBezTo>
                    <a:pt x="450" y="378"/>
                    <a:pt x="439" y="425"/>
                    <a:pt x="421" y="468"/>
                  </a:cubicBezTo>
                  <a:close/>
                  <a:moveTo>
                    <a:pt x="328" y="308"/>
                  </a:moveTo>
                  <a:cubicBezTo>
                    <a:pt x="328" y="205"/>
                    <a:pt x="328" y="205"/>
                    <a:pt x="328" y="205"/>
                  </a:cubicBezTo>
                  <a:cubicBezTo>
                    <a:pt x="363" y="204"/>
                    <a:pt x="397" y="197"/>
                    <a:pt x="429" y="186"/>
                  </a:cubicBezTo>
                  <a:cubicBezTo>
                    <a:pt x="442" y="224"/>
                    <a:pt x="450" y="265"/>
                    <a:pt x="451" y="308"/>
                  </a:cubicBezTo>
                  <a:lnTo>
                    <a:pt x="328" y="308"/>
                  </a:lnTo>
                  <a:close/>
                  <a:moveTo>
                    <a:pt x="111" y="134"/>
                  </a:moveTo>
                  <a:cubicBezTo>
                    <a:pt x="135" y="152"/>
                    <a:pt x="160" y="168"/>
                    <a:pt x="188" y="179"/>
                  </a:cubicBezTo>
                  <a:cubicBezTo>
                    <a:pt x="174" y="219"/>
                    <a:pt x="166" y="262"/>
                    <a:pt x="165" y="308"/>
                  </a:cubicBezTo>
                  <a:cubicBezTo>
                    <a:pt x="42" y="308"/>
                    <a:pt x="42" y="308"/>
                    <a:pt x="42" y="308"/>
                  </a:cubicBezTo>
                  <a:cubicBezTo>
                    <a:pt x="44" y="241"/>
                    <a:pt x="70" y="181"/>
                    <a:pt x="111" y="134"/>
                  </a:cubicBezTo>
                  <a:close/>
                  <a:moveTo>
                    <a:pt x="42" y="328"/>
                  </a:moveTo>
                  <a:cubicBezTo>
                    <a:pt x="165" y="328"/>
                    <a:pt x="165" y="328"/>
                    <a:pt x="165" y="328"/>
                  </a:cubicBezTo>
                  <a:cubicBezTo>
                    <a:pt x="166" y="381"/>
                    <a:pt x="177" y="430"/>
                    <a:pt x="195" y="475"/>
                  </a:cubicBezTo>
                  <a:cubicBezTo>
                    <a:pt x="169" y="485"/>
                    <a:pt x="145" y="498"/>
                    <a:pt x="123" y="514"/>
                  </a:cubicBezTo>
                  <a:cubicBezTo>
                    <a:pt x="75" y="466"/>
                    <a:pt x="44" y="401"/>
                    <a:pt x="42" y="328"/>
                  </a:cubicBezTo>
                  <a:close/>
                  <a:moveTo>
                    <a:pt x="513" y="514"/>
                  </a:moveTo>
                  <a:cubicBezTo>
                    <a:pt x="491" y="498"/>
                    <a:pt x="467" y="485"/>
                    <a:pt x="441" y="475"/>
                  </a:cubicBezTo>
                  <a:cubicBezTo>
                    <a:pt x="459" y="430"/>
                    <a:pt x="470" y="381"/>
                    <a:pt x="471" y="328"/>
                  </a:cubicBezTo>
                  <a:cubicBezTo>
                    <a:pt x="594" y="328"/>
                    <a:pt x="594" y="328"/>
                    <a:pt x="594" y="328"/>
                  </a:cubicBezTo>
                  <a:cubicBezTo>
                    <a:pt x="592" y="401"/>
                    <a:pt x="561" y="466"/>
                    <a:pt x="513" y="514"/>
                  </a:cubicBezTo>
                  <a:close/>
                </a:path>
              </a:pathLst>
            </a:custGeom>
            <a:solidFill>
              <a:srgbClr val="7f7f7f"/>
            </a:solidFill>
            <a:ln w="0">
              <a:noFill/>
            </a:ln>
          </p:spPr>
          <p:style>
            <a:lnRef idx="0"/>
            <a:fillRef idx="0"/>
            <a:effectRef idx="0"/>
            <a:fontRef idx="minor"/>
          </p:style>
          <p:txBody>
            <a:bodyPr lIns="45720" rIns="45720" tIns="22680" bIns="22680" anchor="t">
              <a:noAutofit/>
            </a:bodyPr>
            <a:p>
              <a:endParaRPr b="0" lang="en-US" sz="1800" spc="-1" strike="noStrike">
                <a:solidFill>
                  <a:srgbClr val="494949"/>
                </a:solidFill>
                <a:latin typeface="Open Sans Light"/>
              </a:endParaRPr>
            </a:p>
          </p:txBody>
        </p:sp>
      </p:grpSp>
      <p:sp>
        <p:nvSpPr>
          <p:cNvPr id="1415" name="TextBox 61"/>
          <p:cNvSpPr/>
          <p:nvPr/>
        </p:nvSpPr>
        <p:spPr>
          <a:xfrm>
            <a:off x="1456560" y="2811600"/>
            <a:ext cx="898200" cy="236880"/>
          </a:xfrm>
          <a:prstGeom prst="rect">
            <a:avLst/>
          </a:prstGeom>
          <a:noFill/>
          <a:ln w="0">
            <a:noFill/>
          </a:ln>
        </p:spPr>
        <p:style>
          <a:lnRef idx="0"/>
          <a:fillRef idx="0"/>
          <a:effectRef idx="0"/>
          <a:fontRef idx="minor"/>
        </p:style>
        <p:txBody>
          <a:bodyPr wrap="none" lIns="0" rIns="0" tIns="0" bIns="0" anchor="t">
            <a:spAutoFit/>
          </a:bodyPr>
          <a:p>
            <a:pPr algn="ctr">
              <a:lnSpc>
                <a:spcPts val="1862"/>
              </a:lnSpc>
              <a:spcAft>
                <a:spcPts val="15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Regular"/>
                <a:ea typeface="Lato Regular"/>
              </a:rPr>
              <a:t>WELCOME</a:t>
            </a:r>
            <a:endParaRPr b="0" lang="en-US" sz="1400" spc="-1" strike="noStrike">
              <a:solidFill>
                <a:srgbClr val="494949"/>
              </a:solidFill>
              <a:latin typeface="Open Sans Light"/>
            </a:endParaRPr>
          </a:p>
        </p:txBody>
      </p:sp>
      <p:sp>
        <p:nvSpPr>
          <p:cNvPr id="1416" name="TextBox 62"/>
          <p:cNvSpPr/>
          <p:nvPr/>
        </p:nvSpPr>
        <p:spPr>
          <a:xfrm>
            <a:off x="898560" y="3097080"/>
            <a:ext cx="2016000" cy="767160"/>
          </a:xfrm>
          <a:prstGeom prst="rect">
            <a:avLst/>
          </a:prstGeom>
          <a:noFill/>
          <a:ln w="0">
            <a:noFill/>
          </a:ln>
        </p:spPr>
        <p:style>
          <a:lnRef idx="0"/>
          <a:fillRef idx="0"/>
          <a:effectRef idx="0"/>
          <a:fontRef idx="minor"/>
        </p:style>
        <p:txBody>
          <a:bodyPr lIns="0" rIns="0" tIns="0" bIns="0" anchor="t">
            <a:spAutoFit/>
          </a:bodyPr>
          <a:p>
            <a:pPr algn="ctr">
              <a:lnSpc>
                <a:spcPts val="2013"/>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Light"/>
                <a:ea typeface="Lato Light"/>
              </a:rPr>
              <a:t>Tools that allow people companies to create content</a:t>
            </a:r>
            <a:endParaRPr b="0" lang="en-US" sz="1200" spc="-1" strike="noStrike">
              <a:solidFill>
                <a:srgbClr val="494949"/>
              </a:solidFill>
              <a:latin typeface="Open Sans Light"/>
            </a:endParaRPr>
          </a:p>
        </p:txBody>
      </p:sp>
      <p:sp>
        <p:nvSpPr>
          <p:cNvPr id="1417" name="TextBox 63"/>
          <p:cNvSpPr/>
          <p:nvPr/>
        </p:nvSpPr>
        <p:spPr>
          <a:xfrm>
            <a:off x="4012560" y="2811600"/>
            <a:ext cx="496080" cy="236880"/>
          </a:xfrm>
          <a:prstGeom prst="rect">
            <a:avLst/>
          </a:prstGeom>
          <a:noFill/>
          <a:ln w="0">
            <a:noFill/>
          </a:ln>
        </p:spPr>
        <p:style>
          <a:lnRef idx="0"/>
          <a:fillRef idx="0"/>
          <a:effectRef idx="0"/>
          <a:fontRef idx="minor"/>
        </p:style>
        <p:txBody>
          <a:bodyPr wrap="none" lIns="0" rIns="0" tIns="0" bIns="0" anchor="t">
            <a:spAutoFit/>
          </a:bodyPr>
          <a:p>
            <a:pPr algn="ctr">
              <a:lnSpc>
                <a:spcPts val="1862"/>
              </a:lnSpc>
              <a:spcAft>
                <a:spcPts val="15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Regular"/>
                <a:ea typeface="Lato Regular"/>
              </a:rPr>
              <a:t>TEAM</a:t>
            </a:r>
            <a:endParaRPr b="0" lang="en-US" sz="1400" spc="-1" strike="noStrike">
              <a:solidFill>
                <a:srgbClr val="494949"/>
              </a:solidFill>
              <a:latin typeface="Open Sans Light"/>
            </a:endParaRPr>
          </a:p>
        </p:txBody>
      </p:sp>
      <p:sp>
        <p:nvSpPr>
          <p:cNvPr id="1418" name="TextBox 64"/>
          <p:cNvSpPr/>
          <p:nvPr/>
        </p:nvSpPr>
        <p:spPr>
          <a:xfrm>
            <a:off x="3254400" y="3097080"/>
            <a:ext cx="2014560" cy="767160"/>
          </a:xfrm>
          <a:prstGeom prst="rect">
            <a:avLst/>
          </a:prstGeom>
          <a:noFill/>
          <a:ln w="0">
            <a:noFill/>
          </a:ln>
        </p:spPr>
        <p:style>
          <a:lnRef idx="0"/>
          <a:fillRef idx="0"/>
          <a:effectRef idx="0"/>
          <a:fontRef idx="minor"/>
        </p:style>
        <p:txBody>
          <a:bodyPr lIns="0" rIns="0" tIns="0" bIns="0" anchor="t">
            <a:spAutoFit/>
          </a:bodyPr>
          <a:p>
            <a:pPr algn="ctr">
              <a:lnSpc>
                <a:spcPts val="2013"/>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Light"/>
                <a:ea typeface="Lato Light"/>
              </a:rPr>
              <a:t>Tools that allow people companies to create content</a:t>
            </a:r>
            <a:endParaRPr b="0" lang="en-US" sz="1200" spc="-1" strike="noStrike">
              <a:solidFill>
                <a:srgbClr val="494949"/>
              </a:solidFill>
              <a:latin typeface="Open Sans Light"/>
            </a:endParaRPr>
          </a:p>
        </p:txBody>
      </p:sp>
      <p:sp>
        <p:nvSpPr>
          <p:cNvPr id="1419" name="TextBox 65"/>
          <p:cNvSpPr/>
          <p:nvPr/>
        </p:nvSpPr>
        <p:spPr>
          <a:xfrm>
            <a:off x="1320840" y="4924440"/>
            <a:ext cx="1171080" cy="236880"/>
          </a:xfrm>
          <a:prstGeom prst="rect">
            <a:avLst/>
          </a:prstGeom>
          <a:noFill/>
          <a:ln w="0">
            <a:noFill/>
          </a:ln>
        </p:spPr>
        <p:style>
          <a:lnRef idx="0"/>
          <a:fillRef idx="0"/>
          <a:effectRef idx="0"/>
          <a:fontRef idx="minor"/>
        </p:style>
        <p:txBody>
          <a:bodyPr wrap="none" lIns="0" rIns="0" tIns="0" bIns="0" anchor="t">
            <a:spAutoFit/>
          </a:bodyPr>
          <a:p>
            <a:pPr algn="ctr">
              <a:lnSpc>
                <a:spcPts val="1862"/>
              </a:lnSpc>
              <a:spcAft>
                <a:spcPts val="15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Regular"/>
                <a:ea typeface="Lato Regular"/>
              </a:rPr>
              <a:t>OUR DEVICES</a:t>
            </a:r>
            <a:endParaRPr b="0" lang="en-US" sz="1400" spc="-1" strike="noStrike">
              <a:solidFill>
                <a:srgbClr val="494949"/>
              </a:solidFill>
              <a:latin typeface="Open Sans Light"/>
            </a:endParaRPr>
          </a:p>
        </p:txBody>
      </p:sp>
      <p:sp>
        <p:nvSpPr>
          <p:cNvPr id="1420" name="TextBox 66"/>
          <p:cNvSpPr/>
          <p:nvPr/>
        </p:nvSpPr>
        <p:spPr>
          <a:xfrm>
            <a:off x="898560" y="5210280"/>
            <a:ext cx="2016000" cy="767160"/>
          </a:xfrm>
          <a:prstGeom prst="rect">
            <a:avLst/>
          </a:prstGeom>
          <a:noFill/>
          <a:ln w="0">
            <a:noFill/>
          </a:ln>
        </p:spPr>
        <p:style>
          <a:lnRef idx="0"/>
          <a:fillRef idx="0"/>
          <a:effectRef idx="0"/>
          <a:fontRef idx="minor"/>
        </p:style>
        <p:txBody>
          <a:bodyPr lIns="0" rIns="0" tIns="0" bIns="0" anchor="t">
            <a:spAutoFit/>
          </a:bodyPr>
          <a:p>
            <a:pPr algn="ctr">
              <a:lnSpc>
                <a:spcPts val="2013"/>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Light"/>
                <a:ea typeface="Lato Light"/>
              </a:rPr>
              <a:t>Tools that allow people companies to create content</a:t>
            </a:r>
            <a:endParaRPr b="0" lang="en-US" sz="1200" spc="-1" strike="noStrike">
              <a:solidFill>
                <a:srgbClr val="494949"/>
              </a:solidFill>
              <a:latin typeface="Open Sans Light"/>
            </a:endParaRPr>
          </a:p>
        </p:txBody>
      </p:sp>
      <p:sp>
        <p:nvSpPr>
          <p:cNvPr id="1421" name="TextBox 67"/>
          <p:cNvSpPr/>
          <p:nvPr/>
        </p:nvSpPr>
        <p:spPr>
          <a:xfrm>
            <a:off x="3618000" y="4924440"/>
            <a:ext cx="1285560" cy="236880"/>
          </a:xfrm>
          <a:prstGeom prst="rect">
            <a:avLst/>
          </a:prstGeom>
          <a:noFill/>
          <a:ln w="0">
            <a:noFill/>
          </a:ln>
        </p:spPr>
        <p:style>
          <a:lnRef idx="0"/>
          <a:fillRef idx="0"/>
          <a:effectRef idx="0"/>
          <a:fontRef idx="minor"/>
        </p:style>
        <p:txBody>
          <a:bodyPr wrap="none" lIns="0" rIns="0" tIns="0" bIns="0" anchor="t">
            <a:spAutoFit/>
          </a:bodyPr>
          <a:p>
            <a:pPr algn="ctr">
              <a:lnSpc>
                <a:spcPts val="1862"/>
              </a:lnSpc>
              <a:spcAft>
                <a:spcPts val="15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494949"/>
                </a:solidFill>
                <a:latin typeface="Lato Regular"/>
                <a:ea typeface="Lato Regular"/>
              </a:rPr>
              <a:t>OUR PROJECTS</a:t>
            </a:r>
            <a:endParaRPr b="0" lang="en-US" sz="1400" spc="-1" strike="noStrike">
              <a:solidFill>
                <a:srgbClr val="494949"/>
              </a:solidFill>
              <a:latin typeface="Open Sans Light"/>
            </a:endParaRPr>
          </a:p>
        </p:txBody>
      </p:sp>
      <p:sp>
        <p:nvSpPr>
          <p:cNvPr id="1422" name="TextBox 68"/>
          <p:cNvSpPr/>
          <p:nvPr/>
        </p:nvSpPr>
        <p:spPr>
          <a:xfrm>
            <a:off x="3254400" y="5210280"/>
            <a:ext cx="2014560" cy="767160"/>
          </a:xfrm>
          <a:prstGeom prst="rect">
            <a:avLst/>
          </a:prstGeom>
          <a:noFill/>
          <a:ln w="0">
            <a:noFill/>
          </a:ln>
        </p:spPr>
        <p:style>
          <a:lnRef idx="0"/>
          <a:fillRef idx="0"/>
          <a:effectRef idx="0"/>
          <a:fontRef idx="minor"/>
        </p:style>
        <p:txBody>
          <a:bodyPr lIns="0" rIns="0" tIns="0" bIns="0" anchor="t">
            <a:spAutoFit/>
          </a:bodyPr>
          <a:p>
            <a:pPr algn="ctr">
              <a:lnSpc>
                <a:spcPts val="2013"/>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494949"/>
                </a:solidFill>
                <a:latin typeface="Lato Light"/>
                <a:ea typeface="Lato Light"/>
              </a:rPr>
              <a:t>Tools that allow people companies to create content</a:t>
            </a:r>
            <a:endParaRPr b="0" lang="en-US" sz="1200" spc="-1" strike="noStrike">
              <a:solidFill>
                <a:srgbClr val="494949"/>
              </a:solidFill>
              <a:latin typeface="Open Sans Light"/>
            </a:endParaRPr>
          </a:p>
        </p:txBody>
      </p:sp>
      <p:sp>
        <p:nvSpPr>
          <p:cNvPr id="1423" name="Shape 2690"/>
          <p:cNvSpPr/>
          <p:nvPr/>
        </p:nvSpPr>
        <p:spPr>
          <a:xfrm>
            <a:off x="3987720" y="2001960"/>
            <a:ext cx="546120" cy="496800"/>
          </a:xfrm>
          <a:custGeom>
            <a:avLst/>
            <a:gdLst/>
            <a:ahLst/>
            <a:rect l="l" t="t" r="r" b="b"/>
            <a:pathLst>
              <a:path w="21600" h="21600">
                <a:moveTo>
                  <a:pt x="20618" y="11880"/>
                </a:moveTo>
                <a:cubicBezTo>
                  <a:pt x="20618" y="12476"/>
                  <a:pt x="20178" y="12960"/>
                  <a:pt x="19636" y="12960"/>
                </a:cubicBezTo>
                <a:lnTo>
                  <a:pt x="19636" y="8640"/>
                </a:lnTo>
                <a:cubicBezTo>
                  <a:pt x="20178" y="8640"/>
                  <a:pt x="20618" y="9124"/>
                  <a:pt x="20618" y="9720"/>
                </a:cubicBezTo>
                <a:cubicBezTo>
                  <a:pt x="20618" y="9720"/>
                  <a:pt x="20618" y="11880"/>
                  <a:pt x="20618" y="11880"/>
                </a:cubicBezTo>
                <a:close/>
                <a:moveTo>
                  <a:pt x="18655" y="19980"/>
                </a:moveTo>
                <a:cubicBezTo>
                  <a:pt x="18655" y="20279"/>
                  <a:pt x="18434" y="20520"/>
                  <a:pt x="18164" y="20520"/>
                </a:cubicBezTo>
                <a:cubicBezTo>
                  <a:pt x="17893" y="20520"/>
                  <a:pt x="17673" y="20279"/>
                  <a:pt x="17673" y="19980"/>
                </a:cubicBezTo>
                <a:lnTo>
                  <a:pt x="17673" y="1620"/>
                </a:lnTo>
                <a:cubicBezTo>
                  <a:pt x="17673" y="1322"/>
                  <a:pt x="17893" y="1080"/>
                  <a:pt x="18164" y="1080"/>
                </a:cubicBezTo>
                <a:cubicBezTo>
                  <a:pt x="18434" y="1080"/>
                  <a:pt x="18655" y="1322"/>
                  <a:pt x="18655" y="1620"/>
                </a:cubicBezTo>
                <a:cubicBezTo>
                  <a:pt x="18655" y="1620"/>
                  <a:pt x="18655" y="19980"/>
                  <a:pt x="18655" y="19980"/>
                </a:cubicBezTo>
                <a:close/>
                <a:moveTo>
                  <a:pt x="16691" y="18404"/>
                </a:moveTo>
                <a:lnTo>
                  <a:pt x="2944" y="13512"/>
                </a:lnTo>
                <a:cubicBezTo>
                  <a:pt x="2944" y="13508"/>
                  <a:pt x="2945" y="13504"/>
                  <a:pt x="2945" y="13500"/>
                </a:cubicBezTo>
                <a:lnTo>
                  <a:pt x="2945" y="8100"/>
                </a:lnTo>
                <a:cubicBezTo>
                  <a:pt x="2945" y="8096"/>
                  <a:pt x="2944" y="8093"/>
                  <a:pt x="2944" y="8089"/>
                </a:cubicBezTo>
                <a:lnTo>
                  <a:pt x="16691" y="3197"/>
                </a:lnTo>
                <a:cubicBezTo>
                  <a:pt x="16691" y="3197"/>
                  <a:pt x="16691" y="18404"/>
                  <a:pt x="16691" y="18404"/>
                </a:cubicBezTo>
                <a:close/>
                <a:moveTo>
                  <a:pt x="12480" y="18725"/>
                </a:moveTo>
                <a:cubicBezTo>
                  <a:pt x="12316" y="19294"/>
                  <a:pt x="11764" y="19608"/>
                  <a:pt x="11247" y="19428"/>
                </a:cubicBezTo>
                <a:lnTo>
                  <a:pt x="6102" y="17625"/>
                </a:lnTo>
                <a:cubicBezTo>
                  <a:pt x="5585" y="17444"/>
                  <a:pt x="5299" y="16837"/>
                  <a:pt x="5464" y="16269"/>
                </a:cubicBezTo>
                <a:lnTo>
                  <a:pt x="5654" y="15610"/>
                </a:lnTo>
                <a:lnTo>
                  <a:pt x="12661" y="18104"/>
                </a:lnTo>
                <a:cubicBezTo>
                  <a:pt x="12661" y="18104"/>
                  <a:pt x="12480" y="18725"/>
                  <a:pt x="12480" y="18725"/>
                </a:cubicBezTo>
                <a:close/>
                <a:moveTo>
                  <a:pt x="1964" y="13500"/>
                </a:moveTo>
                <a:lnTo>
                  <a:pt x="982" y="13500"/>
                </a:lnTo>
                <a:lnTo>
                  <a:pt x="982" y="8100"/>
                </a:lnTo>
                <a:lnTo>
                  <a:pt x="1964" y="8100"/>
                </a:lnTo>
                <a:cubicBezTo>
                  <a:pt x="1964" y="8100"/>
                  <a:pt x="1964" y="13500"/>
                  <a:pt x="1964" y="13500"/>
                </a:cubicBezTo>
                <a:close/>
                <a:moveTo>
                  <a:pt x="19636" y="7560"/>
                </a:moveTo>
                <a:lnTo>
                  <a:pt x="19636" y="1620"/>
                </a:lnTo>
                <a:cubicBezTo>
                  <a:pt x="19636" y="725"/>
                  <a:pt x="18977" y="0"/>
                  <a:pt x="18164" y="0"/>
                </a:cubicBezTo>
                <a:cubicBezTo>
                  <a:pt x="17350" y="0"/>
                  <a:pt x="16691" y="725"/>
                  <a:pt x="16691" y="1620"/>
                </a:cubicBezTo>
                <a:lnTo>
                  <a:pt x="16691" y="2062"/>
                </a:lnTo>
                <a:lnTo>
                  <a:pt x="2411" y="7144"/>
                </a:lnTo>
                <a:cubicBezTo>
                  <a:pt x="2276" y="7067"/>
                  <a:pt x="2126" y="7020"/>
                  <a:pt x="1964" y="7020"/>
                </a:cubicBezTo>
                <a:lnTo>
                  <a:pt x="982" y="7020"/>
                </a:lnTo>
                <a:cubicBezTo>
                  <a:pt x="440" y="7020"/>
                  <a:pt x="0" y="7504"/>
                  <a:pt x="0" y="8100"/>
                </a:cubicBezTo>
                <a:lnTo>
                  <a:pt x="0" y="13500"/>
                </a:lnTo>
                <a:cubicBezTo>
                  <a:pt x="0" y="14097"/>
                  <a:pt x="440" y="14580"/>
                  <a:pt x="982" y="14580"/>
                </a:cubicBezTo>
                <a:lnTo>
                  <a:pt x="1964" y="14580"/>
                </a:lnTo>
                <a:cubicBezTo>
                  <a:pt x="2126" y="14580"/>
                  <a:pt x="2276" y="14533"/>
                  <a:pt x="2411" y="14457"/>
                </a:cubicBezTo>
                <a:lnTo>
                  <a:pt x="4720" y="15278"/>
                </a:lnTo>
                <a:lnTo>
                  <a:pt x="4529" y="15941"/>
                </a:lnTo>
                <a:cubicBezTo>
                  <a:pt x="4199" y="17078"/>
                  <a:pt x="4770" y="18292"/>
                  <a:pt x="5803" y="18654"/>
                </a:cubicBezTo>
                <a:lnTo>
                  <a:pt x="10949" y="20456"/>
                </a:lnTo>
                <a:cubicBezTo>
                  <a:pt x="11983" y="20819"/>
                  <a:pt x="13087" y="20190"/>
                  <a:pt x="13416" y="19053"/>
                </a:cubicBezTo>
                <a:lnTo>
                  <a:pt x="13595" y="18437"/>
                </a:lnTo>
                <a:lnTo>
                  <a:pt x="16691" y="19538"/>
                </a:lnTo>
                <a:lnTo>
                  <a:pt x="16691" y="19980"/>
                </a:lnTo>
                <a:cubicBezTo>
                  <a:pt x="16691" y="20875"/>
                  <a:pt x="17350" y="21600"/>
                  <a:pt x="18164" y="21600"/>
                </a:cubicBezTo>
                <a:cubicBezTo>
                  <a:pt x="18977" y="21600"/>
                  <a:pt x="19636" y="20875"/>
                  <a:pt x="19636" y="19980"/>
                </a:cubicBezTo>
                <a:lnTo>
                  <a:pt x="19636" y="14040"/>
                </a:lnTo>
                <a:cubicBezTo>
                  <a:pt x="20721" y="14040"/>
                  <a:pt x="21600" y="13073"/>
                  <a:pt x="21600" y="11880"/>
                </a:cubicBezTo>
                <a:lnTo>
                  <a:pt x="21600" y="9720"/>
                </a:lnTo>
                <a:cubicBezTo>
                  <a:pt x="21600" y="8527"/>
                  <a:pt x="20721" y="7560"/>
                  <a:pt x="19636" y="7560"/>
                </a:cubicBezTo>
              </a:path>
            </a:pathLst>
          </a:custGeom>
          <a:solidFill>
            <a:srgbClr val="0098a5"/>
          </a:solidFill>
          <a:ln w="0">
            <a:noFill/>
          </a:ln>
        </p:spPr>
        <p:style>
          <a:lnRef idx="0"/>
          <a:fillRef idx="0"/>
          <a:effectRef idx="0"/>
          <a:fontRef idx="minor"/>
        </p:style>
        <p:txBody>
          <a:bodyPr lIns="18720" rIns="18720" tIns="18720" bIns="18720" anchor="ctr">
            <a:noAutofit/>
          </a:bodyPr>
          <a:p>
            <a:endParaRPr b="0" lang="en-US" sz="1800" spc="-1" strike="noStrike">
              <a:solidFill>
                <a:srgbClr val="494949"/>
              </a:solidFill>
              <a:latin typeface="Open Sans Light"/>
            </a:endParaRPr>
          </a:p>
        </p:txBody>
      </p:sp>
      <p:sp>
        <p:nvSpPr>
          <p:cNvPr id="1424" name="Shape 2645"/>
          <p:cNvSpPr/>
          <p:nvPr/>
        </p:nvSpPr>
        <p:spPr>
          <a:xfrm>
            <a:off x="1636560" y="4181400"/>
            <a:ext cx="546120" cy="398520"/>
          </a:xfrm>
          <a:custGeom>
            <a:avLst/>
            <a:gdLst/>
            <a:ahLst/>
            <a:rect l="l" t="t" r="r" b="b"/>
            <a:pathLst>
              <a:path w="21600" h="21600">
                <a:moveTo>
                  <a:pt x="1408" y="20250"/>
                </a:moveTo>
                <a:lnTo>
                  <a:pt x="2740" y="17504"/>
                </a:lnTo>
                <a:cubicBezTo>
                  <a:pt x="2807" y="17526"/>
                  <a:pt x="2874" y="17550"/>
                  <a:pt x="2945" y="17550"/>
                </a:cubicBezTo>
                <a:lnTo>
                  <a:pt x="18655" y="17550"/>
                </a:lnTo>
                <a:cubicBezTo>
                  <a:pt x="18726" y="17550"/>
                  <a:pt x="18793" y="17526"/>
                  <a:pt x="18860" y="17504"/>
                </a:cubicBezTo>
                <a:lnTo>
                  <a:pt x="20192" y="20250"/>
                </a:lnTo>
                <a:cubicBezTo>
                  <a:pt x="20192" y="20250"/>
                  <a:pt x="1408" y="20250"/>
                  <a:pt x="1408" y="20250"/>
                </a:cubicBezTo>
                <a:close/>
                <a:moveTo>
                  <a:pt x="2945" y="1350"/>
                </a:moveTo>
                <a:lnTo>
                  <a:pt x="18655" y="1350"/>
                </a:lnTo>
                <a:lnTo>
                  <a:pt x="18655" y="16200"/>
                </a:lnTo>
                <a:lnTo>
                  <a:pt x="2945" y="16200"/>
                </a:lnTo>
                <a:cubicBezTo>
                  <a:pt x="2945" y="16200"/>
                  <a:pt x="2945" y="1350"/>
                  <a:pt x="2945" y="1350"/>
                </a:cubicBezTo>
                <a:close/>
                <a:moveTo>
                  <a:pt x="21510" y="20558"/>
                </a:moveTo>
                <a:lnTo>
                  <a:pt x="21518" y="20551"/>
                </a:lnTo>
                <a:lnTo>
                  <a:pt x="19591" y="16577"/>
                </a:lnTo>
                <a:cubicBezTo>
                  <a:pt x="19617" y="16457"/>
                  <a:pt x="19636" y="16332"/>
                  <a:pt x="19636" y="16200"/>
                </a:cubicBezTo>
                <a:lnTo>
                  <a:pt x="19636" y="1350"/>
                </a:lnTo>
                <a:cubicBezTo>
                  <a:pt x="19636" y="605"/>
                  <a:pt x="19197" y="0"/>
                  <a:pt x="18655" y="0"/>
                </a:cubicBezTo>
                <a:lnTo>
                  <a:pt x="2945" y="0"/>
                </a:lnTo>
                <a:cubicBezTo>
                  <a:pt x="2403" y="0"/>
                  <a:pt x="1964" y="605"/>
                  <a:pt x="1964" y="1350"/>
                </a:cubicBezTo>
                <a:lnTo>
                  <a:pt x="1964" y="16200"/>
                </a:lnTo>
                <a:cubicBezTo>
                  <a:pt x="1964" y="16332"/>
                  <a:pt x="1983" y="16457"/>
                  <a:pt x="2009" y="16577"/>
                </a:cubicBezTo>
                <a:lnTo>
                  <a:pt x="82" y="20551"/>
                </a:lnTo>
                <a:lnTo>
                  <a:pt x="90" y="20558"/>
                </a:lnTo>
                <a:cubicBezTo>
                  <a:pt x="38" y="20665"/>
                  <a:pt x="0" y="20787"/>
                  <a:pt x="0" y="20925"/>
                </a:cubicBezTo>
                <a:cubicBezTo>
                  <a:pt x="0" y="21298"/>
                  <a:pt x="220" y="21600"/>
                  <a:pt x="491" y="21600"/>
                </a:cubicBezTo>
                <a:lnTo>
                  <a:pt x="21109" y="21600"/>
                </a:lnTo>
                <a:cubicBezTo>
                  <a:pt x="21380" y="21600"/>
                  <a:pt x="21600" y="21298"/>
                  <a:pt x="21600" y="20925"/>
                </a:cubicBezTo>
                <a:cubicBezTo>
                  <a:pt x="21600" y="20787"/>
                  <a:pt x="21562" y="20665"/>
                  <a:pt x="21510" y="20558"/>
                </a:cubicBezTo>
              </a:path>
            </a:pathLst>
          </a:custGeom>
          <a:solidFill>
            <a:srgbClr val="1991ab"/>
          </a:solidFill>
          <a:ln w="0">
            <a:noFill/>
          </a:ln>
        </p:spPr>
        <p:style>
          <a:lnRef idx="0"/>
          <a:fillRef idx="0"/>
          <a:effectRef idx="0"/>
          <a:fontRef idx="minor"/>
        </p:style>
        <p:txBody>
          <a:bodyPr lIns="18720" rIns="18720" tIns="18720" bIns="18720" anchor="ctr">
            <a:noAutofit/>
          </a:bodyPr>
          <a:p>
            <a:endParaRPr b="0" lang="en-US" sz="1800" spc="-1" strike="noStrike">
              <a:solidFill>
                <a:srgbClr val="494949"/>
              </a:solidFill>
              <a:latin typeface="Open Sans Light"/>
            </a:endParaRPr>
          </a:p>
        </p:txBody>
      </p:sp>
      <p:sp>
        <p:nvSpPr>
          <p:cNvPr id="1425" name="Shape 2525"/>
          <p:cNvSpPr/>
          <p:nvPr/>
        </p:nvSpPr>
        <p:spPr>
          <a:xfrm>
            <a:off x="1600200" y="1957320"/>
            <a:ext cx="585720" cy="585720"/>
          </a:xfrm>
          <a:custGeom>
            <a:avLst/>
            <a:gdLst/>
            <a:ahLst/>
            <a:rect l="l" t="t" r="r" b="b"/>
            <a:pathLst>
              <a:path w="21600" h="21600">
                <a:moveTo>
                  <a:pt x="11291" y="17673"/>
                </a:moveTo>
                <a:cubicBezTo>
                  <a:pt x="11562" y="17673"/>
                  <a:pt x="11782" y="17453"/>
                  <a:pt x="11782" y="17182"/>
                </a:cubicBezTo>
                <a:cubicBezTo>
                  <a:pt x="11782" y="16911"/>
                  <a:pt x="11562" y="16691"/>
                  <a:pt x="11291" y="16691"/>
                </a:cubicBezTo>
                <a:cubicBezTo>
                  <a:pt x="11020" y="16691"/>
                  <a:pt x="10800" y="16911"/>
                  <a:pt x="10800" y="17182"/>
                </a:cubicBezTo>
                <a:cubicBezTo>
                  <a:pt x="10800" y="17453"/>
                  <a:pt x="11020" y="17673"/>
                  <a:pt x="11291" y="17673"/>
                </a:cubicBezTo>
                <a:moveTo>
                  <a:pt x="17673" y="18655"/>
                </a:moveTo>
                <a:lnTo>
                  <a:pt x="13745" y="18655"/>
                </a:lnTo>
                <a:lnTo>
                  <a:pt x="13745" y="12273"/>
                </a:lnTo>
                <a:cubicBezTo>
                  <a:pt x="13745" y="12002"/>
                  <a:pt x="13525" y="11782"/>
                  <a:pt x="13255" y="11782"/>
                </a:cubicBezTo>
                <a:lnTo>
                  <a:pt x="8345" y="11782"/>
                </a:lnTo>
                <a:cubicBezTo>
                  <a:pt x="8075" y="11782"/>
                  <a:pt x="7855" y="12002"/>
                  <a:pt x="7855" y="12273"/>
                </a:cubicBezTo>
                <a:lnTo>
                  <a:pt x="7855" y="18655"/>
                </a:lnTo>
                <a:lnTo>
                  <a:pt x="3927" y="18655"/>
                </a:lnTo>
                <a:lnTo>
                  <a:pt x="3927" y="8058"/>
                </a:lnTo>
                <a:lnTo>
                  <a:pt x="10800" y="1185"/>
                </a:lnTo>
                <a:lnTo>
                  <a:pt x="17673" y="8058"/>
                </a:lnTo>
                <a:cubicBezTo>
                  <a:pt x="17673" y="8058"/>
                  <a:pt x="17673" y="18655"/>
                  <a:pt x="17673" y="18655"/>
                </a:cubicBezTo>
                <a:close/>
                <a:moveTo>
                  <a:pt x="17673" y="20618"/>
                </a:moveTo>
                <a:lnTo>
                  <a:pt x="13745" y="20618"/>
                </a:lnTo>
                <a:lnTo>
                  <a:pt x="13745" y="19636"/>
                </a:lnTo>
                <a:lnTo>
                  <a:pt x="17673" y="19636"/>
                </a:lnTo>
                <a:cubicBezTo>
                  <a:pt x="17673" y="19636"/>
                  <a:pt x="17673" y="20618"/>
                  <a:pt x="17673" y="20618"/>
                </a:cubicBezTo>
                <a:close/>
                <a:moveTo>
                  <a:pt x="12764" y="20618"/>
                </a:moveTo>
                <a:lnTo>
                  <a:pt x="8836" y="20618"/>
                </a:lnTo>
                <a:lnTo>
                  <a:pt x="8836" y="12764"/>
                </a:lnTo>
                <a:lnTo>
                  <a:pt x="12764" y="12764"/>
                </a:lnTo>
                <a:cubicBezTo>
                  <a:pt x="12764" y="12764"/>
                  <a:pt x="12764" y="20618"/>
                  <a:pt x="12764" y="20618"/>
                </a:cubicBezTo>
                <a:close/>
                <a:moveTo>
                  <a:pt x="7855" y="20618"/>
                </a:moveTo>
                <a:lnTo>
                  <a:pt x="3927" y="20618"/>
                </a:lnTo>
                <a:lnTo>
                  <a:pt x="3927" y="19636"/>
                </a:lnTo>
                <a:lnTo>
                  <a:pt x="7855" y="19636"/>
                </a:lnTo>
                <a:cubicBezTo>
                  <a:pt x="7855" y="19636"/>
                  <a:pt x="7855" y="20618"/>
                  <a:pt x="7855" y="20618"/>
                </a:cubicBezTo>
                <a:close/>
                <a:moveTo>
                  <a:pt x="14727" y="1964"/>
                </a:moveTo>
                <a:lnTo>
                  <a:pt x="16691" y="1964"/>
                </a:lnTo>
                <a:lnTo>
                  <a:pt x="16691" y="5688"/>
                </a:lnTo>
                <a:lnTo>
                  <a:pt x="14727" y="3724"/>
                </a:lnTo>
                <a:cubicBezTo>
                  <a:pt x="14727" y="3724"/>
                  <a:pt x="14727" y="1964"/>
                  <a:pt x="14727" y="1964"/>
                </a:cubicBezTo>
                <a:close/>
                <a:moveTo>
                  <a:pt x="21456" y="10453"/>
                </a:moveTo>
                <a:lnTo>
                  <a:pt x="17673" y="6670"/>
                </a:lnTo>
                <a:lnTo>
                  <a:pt x="17673" y="1473"/>
                </a:lnTo>
                <a:cubicBezTo>
                  <a:pt x="17673" y="1202"/>
                  <a:pt x="17453" y="982"/>
                  <a:pt x="17182" y="982"/>
                </a:cubicBezTo>
                <a:lnTo>
                  <a:pt x="14236" y="982"/>
                </a:lnTo>
                <a:cubicBezTo>
                  <a:pt x="13966" y="982"/>
                  <a:pt x="13745" y="1202"/>
                  <a:pt x="13745" y="1473"/>
                </a:cubicBezTo>
                <a:lnTo>
                  <a:pt x="13745" y="2742"/>
                </a:lnTo>
                <a:lnTo>
                  <a:pt x="11147" y="144"/>
                </a:lnTo>
                <a:cubicBezTo>
                  <a:pt x="11058" y="55"/>
                  <a:pt x="10935" y="0"/>
                  <a:pt x="10800" y="0"/>
                </a:cubicBezTo>
                <a:cubicBezTo>
                  <a:pt x="10665" y="0"/>
                  <a:pt x="10542" y="55"/>
                  <a:pt x="10453" y="144"/>
                </a:cubicBezTo>
                <a:lnTo>
                  <a:pt x="144" y="10453"/>
                </a:lnTo>
                <a:cubicBezTo>
                  <a:pt x="55" y="10542"/>
                  <a:pt x="0" y="10665"/>
                  <a:pt x="0" y="10800"/>
                </a:cubicBezTo>
                <a:cubicBezTo>
                  <a:pt x="0" y="11072"/>
                  <a:pt x="220" y="11291"/>
                  <a:pt x="491" y="11291"/>
                </a:cubicBezTo>
                <a:cubicBezTo>
                  <a:pt x="626" y="11291"/>
                  <a:pt x="749" y="11236"/>
                  <a:pt x="838" y="11147"/>
                </a:cubicBezTo>
                <a:lnTo>
                  <a:pt x="2945" y="9040"/>
                </a:lnTo>
                <a:lnTo>
                  <a:pt x="2945" y="21109"/>
                </a:lnTo>
                <a:cubicBezTo>
                  <a:pt x="2945" y="21381"/>
                  <a:pt x="3166" y="21600"/>
                  <a:pt x="3436" y="21600"/>
                </a:cubicBezTo>
                <a:lnTo>
                  <a:pt x="18164" y="21600"/>
                </a:lnTo>
                <a:cubicBezTo>
                  <a:pt x="18434" y="21600"/>
                  <a:pt x="18655" y="21381"/>
                  <a:pt x="18655" y="21109"/>
                </a:cubicBezTo>
                <a:lnTo>
                  <a:pt x="18655" y="9040"/>
                </a:lnTo>
                <a:lnTo>
                  <a:pt x="20762" y="11147"/>
                </a:lnTo>
                <a:cubicBezTo>
                  <a:pt x="20851" y="11236"/>
                  <a:pt x="20974" y="11291"/>
                  <a:pt x="21109" y="11291"/>
                </a:cubicBezTo>
                <a:cubicBezTo>
                  <a:pt x="21380" y="11291"/>
                  <a:pt x="21600" y="11072"/>
                  <a:pt x="21600" y="10800"/>
                </a:cubicBezTo>
                <a:cubicBezTo>
                  <a:pt x="21600" y="10665"/>
                  <a:pt x="21545" y="10542"/>
                  <a:pt x="21456" y="10453"/>
                </a:cubicBezTo>
              </a:path>
            </a:pathLst>
          </a:custGeom>
          <a:solidFill>
            <a:srgbClr val="00a09c"/>
          </a:solidFill>
          <a:ln w="0">
            <a:noFill/>
          </a:ln>
        </p:spPr>
        <p:style>
          <a:lnRef idx="0"/>
          <a:fillRef idx="0"/>
          <a:effectRef idx="0"/>
          <a:fontRef idx="minor"/>
        </p:style>
        <p:txBody>
          <a:bodyPr lIns="18720" rIns="18720" tIns="18720" bIns="18720" anchor="ctr">
            <a:noAutofit/>
          </a:bodyPr>
          <a:p>
            <a:endParaRPr b="0" lang="en-US" sz="1800" spc="-1" strike="noStrike">
              <a:solidFill>
                <a:srgbClr val="494949"/>
              </a:solidFill>
              <a:latin typeface="Open Sans Light"/>
            </a:endParaRPr>
          </a:p>
        </p:txBody>
      </p:sp>
      <p:sp>
        <p:nvSpPr>
          <p:cNvPr id="1426" name="Shape 2562"/>
          <p:cNvSpPr/>
          <p:nvPr/>
        </p:nvSpPr>
        <p:spPr>
          <a:xfrm>
            <a:off x="4030560" y="4148280"/>
            <a:ext cx="459000" cy="458640"/>
          </a:xfrm>
          <a:custGeom>
            <a:avLst/>
            <a:gdLst/>
            <a:ahLst/>
            <a:rect l="l" t="t" r="r" b="b"/>
            <a:pathLst>
              <a:path w="21600" h="21600">
                <a:moveTo>
                  <a:pt x="20618" y="19636"/>
                </a:moveTo>
                <a:cubicBezTo>
                  <a:pt x="20618" y="20179"/>
                  <a:pt x="20178" y="20619"/>
                  <a:pt x="19636" y="20619"/>
                </a:cubicBezTo>
                <a:lnTo>
                  <a:pt x="1964" y="20619"/>
                </a:lnTo>
                <a:cubicBezTo>
                  <a:pt x="1421" y="20619"/>
                  <a:pt x="982" y="20179"/>
                  <a:pt x="982" y="19636"/>
                </a:cubicBezTo>
                <a:lnTo>
                  <a:pt x="982" y="1964"/>
                </a:lnTo>
                <a:cubicBezTo>
                  <a:pt x="982" y="1422"/>
                  <a:pt x="1421" y="982"/>
                  <a:pt x="1964" y="982"/>
                </a:cubicBezTo>
                <a:lnTo>
                  <a:pt x="19636" y="982"/>
                </a:lnTo>
                <a:cubicBezTo>
                  <a:pt x="20178"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moveTo>
                  <a:pt x="4294" y="17673"/>
                </a:moveTo>
                <a:lnTo>
                  <a:pt x="8376" y="10732"/>
                </a:lnTo>
                <a:lnTo>
                  <a:pt x="10838" y="14425"/>
                </a:lnTo>
                <a:cubicBezTo>
                  <a:pt x="10862" y="14484"/>
                  <a:pt x="10898" y="14536"/>
                  <a:pt x="10942" y="14581"/>
                </a:cubicBezTo>
                <a:lnTo>
                  <a:pt x="10944" y="14583"/>
                </a:lnTo>
                <a:cubicBezTo>
                  <a:pt x="11033" y="14673"/>
                  <a:pt x="11155" y="14727"/>
                  <a:pt x="11291" y="14727"/>
                </a:cubicBezTo>
                <a:cubicBezTo>
                  <a:pt x="11427" y="14727"/>
                  <a:pt x="11549" y="14673"/>
                  <a:pt x="11638" y="14583"/>
                </a:cubicBezTo>
                <a:lnTo>
                  <a:pt x="13686" y="12536"/>
                </a:lnTo>
                <a:lnTo>
                  <a:pt x="17242" y="17673"/>
                </a:lnTo>
                <a:cubicBezTo>
                  <a:pt x="17242" y="17673"/>
                  <a:pt x="4294" y="17673"/>
                  <a:pt x="4294" y="17673"/>
                </a:cubicBezTo>
                <a:close/>
                <a:moveTo>
                  <a:pt x="18620" y="17982"/>
                </a:moveTo>
                <a:lnTo>
                  <a:pt x="18617" y="17978"/>
                </a:lnTo>
                <a:cubicBezTo>
                  <a:pt x="18590" y="17913"/>
                  <a:pt x="18551" y="17858"/>
                  <a:pt x="18501" y="17810"/>
                </a:cubicBezTo>
                <a:lnTo>
                  <a:pt x="14201" y="11600"/>
                </a:lnTo>
                <a:lnTo>
                  <a:pt x="14200" y="11601"/>
                </a:lnTo>
                <a:cubicBezTo>
                  <a:pt x="14127" y="11420"/>
                  <a:pt x="13952" y="11291"/>
                  <a:pt x="13745" y="11291"/>
                </a:cubicBezTo>
                <a:cubicBezTo>
                  <a:pt x="13610" y="11291"/>
                  <a:pt x="13488" y="11346"/>
                  <a:pt x="13398" y="11435"/>
                </a:cubicBezTo>
                <a:lnTo>
                  <a:pt x="11360" y="13473"/>
                </a:lnTo>
                <a:lnTo>
                  <a:pt x="8798" y="9630"/>
                </a:lnTo>
                <a:cubicBezTo>
                  <a:pt x="8724" y="9453"/>
                  <a:pt x="8550" y="9327"/>
                  <a:pt x="8345" y="9327"/>
                </a:cubicBezTo>
                <a:cubicBezTo>
                  <a:pt x="8175" y="9327"/>
                  <a:pt x="8033" y="9420"/>
                  <a:pt x="7945" y="9551"/>
                </a:cubicBezTo>
                <a:lnTo>
                  <a:pt x="7937" y="9546"/>
                </a:lnTo>
                <a:lnTo>
                  <a:pt x="3028" y="17891"/>
                </a:lnTo>
                <a:lnTo>
                  <a:pt x="3036" y="17897"/>
                </a:lnTo>
                <a:cubicBezTo>
                  <a:pt x="2983" y="17974"/>
                  <a:pt x="2945" y="18063"/>
                  <a:pt x="2945" y="18164"/>
                </a:cubicBezTo>
                <a:cubicBezTo>
                  <a:pt x="2945" y="18435"/>
                  <a:pt x="3165" y="18655"/>
                  <a:pt x="3436" y="18655"/>
                </a:cubicBezTo>
                <a:lnTo>
                  <a:pt x="18164" y="18655"/>
                </a:lnTo>
                <a:cubicBezTo>
                  <a:pt x="18435" y="18655"/>
                  <a:pt x="18655" y="18435"/>
                  <a:pt x="18655" y="18164"/>
                </a:cubicBezTo>
                <a:cubicBezTo>
                  <a:pt x="18655" y="18099"/>
                  <a:pt x="18640" y="18039"/>
                  <a:pt x="18618" y="17983"/>
                </a:cubicBezTo>
                <a:cubicBezTo>
                  <a:pt x="18618" y="17983"/>
                  <a:pt x="18620" y="17982"/>
                  <a:pt x="18620" y="17982"/>
                </a:cubicBezTo>
                <a:close/>
                <a:moveTo>
                  <a:pt x="5400" y="3927"/>
                </a:moveTo>
                <a:cubicBezTo>
                  <a:pt x="6213" y="3927"/>
                  <a:pt x="6873" y="4587"/>
                  <a:pt x="6873" y="5400"/>
                </a:cubicBezTo>
                <a:cubicBezTo>
                  <a:pt x="6873" y="6214"/>
                  <a:pt x="6213" y="6873"/>
                  <a:pt x="5400" y="6873"/>
                </a:cubicBezTo>
                <a:cubicBezTo>
                  <a:pt x="4587" y="6873"/>
                  <a:pt x="3927" y="6214"/>
                  <a:pt x="3927" y="5400"/>
                </a:cubicBezTo>
                <a:cubicBezTo>
                  <a:pt x="3927" y="4587"/>
                  <a:pt x="4587" y="3927"/>
                  <a:pt x="5400" y="3927"/>
                </a:cubicBezTo>
                <a:moveTo>
                  <a:pt x="5400" y="7855"/>
                </a:moveTo>
                <a:cubicBezTo>
                  <a:pt x="6756" y="7855"/>
                  <a:pt x="7855" y="6756"/>
                  <a:pt x="7855" y="5400"/>
                </a:cubicBezTo>
                <a:cubicBezTo>
                  <a:pt x="7855" y="4045"/>
                  <a:pt x="6756" y="2945"/>
                  <a:pt x="5400" y="2945"/>
                </a:cubicBezTo>
                <a:cubicBezTo>
                  <a:pt x="4044" y="2945"/>
                  <a:pt x="2945" y="4045"/>
                  <a:pt x="2945" y="5400"/>
                </a:cubicBezTo>
                <a:cubicBezTo>
                  <a:pt x="2945" y="6756"/>
                  <a:pt x="4044" y="7855"/>
                  <a:pt x="5400" y="7855"/>
                </a:cubicBezTo>
              </a:path>
            </a:pathLst>
          </a:custGeom>
          <a:solidFill>
            <a:srgbClr val="2b85ae"/>
          </a:solidFill>
          <a:ln w="0">
            <a:noFill/>
          </a:ln>
        </p:spPr>
        <p:style>
          <a:lnRef idx="0"/>
          <a:fillRef idx="0"/>
          <a:effectRef idx="0"/>
          <a:fontRef idx="minor"/>
        </p:style>
        <p:txBody>
          <a:bodyPr lIns="18720" rIns="18720" tIns="18720" bIns="18720" anchor="ctr">
            <a:noAutofit/>
          </a:bodyPr>
          <a:p>
            <a:endParaRPr b="0" lang="en-US" sz="1800" spc="-1" strike="noStrike">
              <a:solidFill>
                <a:srgbClr val="494949"/>
              </a:solidFill>
              <a:latin typeface="Open Sans Light"/>
            </a:endParaRPr>
          </a:p>
        </p:txBody>
      </p:sp>
      <p:sp>
        <p:nvSpPr>
          <p:cNvPr id="1427"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WEBSITE MOCKUP DISPLAY</a:t>
            </a:r>
            <a:endParaRPr b="0" lang="en-US" sz="3600" spc="-1" strike="noStrike">
              <a:solidFill>
                <a:srgbClr val="494949"/>
              </a:solidFill>
              <a:latin typeface="Lato Heavy"/>
            </a:endParaRPr>
          </a:p>
        </p:txBody>
      </p:sp>
      <p:sp>
        <p:nvSpPr>
          <p:cNvPr id="1428"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pic>
        <p:nvPicPr>
          <p:cNvPr id="1429" name="" descr=""/>
          <p:cNvPicPr/>
          <p:nvPr/>
        </p:nvPicPr>
        <p:blipFill>
          <a:blip r:embed="rId2"/>
          <a:stretch/>
        </p:blipFill>
        <p:spPr>
          <a:xfrm>
            <a:off x="6097320" y="2625840"/>
            <a:ext cx="5288040" cy="2976480"/>
          </a:xfrm>
          <a:prstGeom prst="rect">
            <a:avLst/>
          </a:prstGeom>
          <a:ln w="0">
            <a:noFill/>
          </a:ln>
        </p:spPr>
      </p:pic>
    </p:spTree>
  </p:cSld>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22" presetSubtype="8">
                                  <p:stCondLst>
                                    <p:cond delay="0"/>
                                  </p:stCondLst>
                                  <p:childTnLst>
                                    <p:set>
                                      <p:cBhvr>
                                        <p:cTn id="1158"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1159" dur="500"/>
                                        <p:tgtEl>
                                          <p:spTgt spid="1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Group 37" descr=""/>
          <p:cNvPicPr/>
          <p:nvPr/>
        </p:nvPicPr>
        <p:blipFill>
          <a:blip r:embed="rId1"/>
          <a:stretch/>
        </p:blipFill>
        <p:spPr>
          <a:xfrm>
            <a:off x="1542960" y="2266920"/>
            <a:ext cx="4192560" cy="3232080"/>
          </a:xfrm>
          <a:prstGeom prst="rect">
            <a:avLst/>
          </a:prstGeom>
          <a:ln w="0">
            <a:noFill/>
          </a:ln>
        </p:spPr>
      </p:pic>
      <p:grpSp>
        <p:nvGrpSpPr>
          <p:cNvPr id="1431" name="Group 40"/>
          <p:cNvGrpSpPr/>
          <p:nvPr/>
        </p:nvGrpSpPr>
        <p:grpSpPr>
          <a:xfrm>
            <a:off x="6435720" y="2209680"/>
            <a:ext cx="382680" cy="382680"/>
            <a:chOff x="6435720" y="2209680"/>
            <a:chExt cx="382680" cy="382680"/>
          </a:xfrm>
        </p:grpSpPr>
        <p:sp>
          <p:nvSpPr>
            <p:cNvPr id="1432" name="Oval 41"/>
            <p:cNvSpPr/>
            <p:nvPr/>
          </p:nvSpPr>
          <p:spPr>
            <a:xfrm>
              <a:off x="6435720" y="2209680"/>
              <a:ext cx="382680" cy="38268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33" name="Freeform 6"/>
            <p:cNvSpPr/>
            <p:nvPr/>
          </p:nvSpPr>
          <p:spPr>
            <a:xfrm>
              <a:off x="6539400" y="2327040"/>
              <a:ext cx="175320" cy="147960"/>
            </a:xfrm>
            <a:custGeom>
              <a:avLst/>
              <a:gdLst/>
              <a:ahLst/>
              <a:rect l="l" t="t" r="r" b="b"/>
              <a:pathLst>
                <a:path w="243" h="205">
                  <a:moveTo>
                    <a:pt x="0" y="137"/>
                  </a:moveTo>
                  <a:lnTo>
                    <a:pt x="59" y="205"/>
                  </a:lnTo>
                  <a:lnTo>
                    <a:pt x="241" y="12"/>
                  </a:lnTo>
                  <a:lnTo>
                    <a:pt x="243" y="0"/>
                  </a:lnTo>
                  <a:lnTo>
                    <a:pt x="66" y="137"/>
                  </a:lnTo>
                  <a:lnTo>
                    <a:pt x="0" y="80"/>
                  </a:lnTo>
                  <a:lnTo>
                    <a:pt x="0" y="137"/>
                  </a:lnTo>
                  <a:close/>
                </a:path>
              </a:pathLst>
            </a:custGeom>
            <a:solidFill>
              <a:srgbClr val="00a09c"/>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grpSp>
      <p:grpSp>
        <p:nvGrpSpPr>
          <p:cNvPr id="1434" name="Group 43"/>
          <p:cNvGrpSpPr/>
          <p:nvPr/>
        </p:nvGrpSpPr>
        <p:grpSpPr>
          <a:xfrm>
            <a:off x="6435720" y="3073320"/>
            <a:ext cx="382680" cy="382680"/>
            <a:chOff x="6435720" y="3073320"/>
            <a:chExt cx="382680" cy="382680"/>
          </a:xfrm>
        </p:grpSpPr>
        <p:sp>
          <p:nvSpPr>
            <p:cNvPr id="1435" name="Oval 44"/>
            <p:cNvSpPr/>
            <p:nvPr/>
          </p:nvSpPr>
          <p:spPr>
            <a:xfrm>
              <a:off x="6435720" y="3073320"/>
              <a:ext cx="382680" cy="38268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36" name="Freeform 6"/>
            <p:cNvSpPr/>
            <p:nvPr/>
          </p:nvSpPr>
          <p:spPr>
            <a:xfrm>
              <a:off x="6539400" y="3190680"/>
              <a:ext cx="175320" cy="147960"/>
            </a:xfrm>
            <a:custGeom>
              <a:avLst/>
              <a:gdLst/>
              <a:ahLst/>
              <a:rect l="l" t="t" r="r" b="b"/>
              <a:pathLst>
                <a:path w="243" h="205">
                  <a:moveTo>
                    <a:pt x="0" y="137"/>
                  </a:moveTo>
                  <a:lnTo>
                    <a:pt x="59" y="205"/>
                  </a:lnTo>
                  <a:lnTo>
                    <a:pt x="241" y="12"/>
                  </a:lnTo>
                  <a:lnTo>
                    <a:pt x="243" y="0"/>
                  </a:lnTo>
                  <a:lnTo>
                    <a:pt x="66" y="137"/>
                  </a:lnTo>
                  <a:lnTo>
                    <a:pt x="0" y="80"/>
                  </a:lnTo>
                  <a:lnTo>
                    <a:pt x="0" y="137"/>
                  </a:lnTo>
                  <a:close/>
                </a:path>
              </a:pathLst>
            </a:custGeom>
            <a:solidFill>
              <a:srgbClr val="00a09c"/>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grpSp>
      <p:grpSp>
        <p:nvGrpSpPr>
          <p:cNvPr id="1437" name="Group 46"/>
          <p:cNvGrpSpPr/>
          <p:nvPr/>
        </p:nvGrpSpPr>
        <p:grpSpPr>
          <a:xfrm>
            <a:off x="6435720" y="3938760"/>
            <a:ext cx="382680" cy="382320"/>
            <a:chOff x="6435720" y="3938760"/>
            <a:chExt cx="382680" cy="382320"/>
          </a:xfrm>
        </p:grpSpPr>
        <p:sp>
          <p:nvSpPr>
            <p:cNvPr id="1438" name="Oval 47"/>
            <p:cNvSpPr/>
            <p:nvPr/>
          </p:nvSpPr>
          <p:spPr>
            <a:xfrm>
              <a:off x="6435720" y="3938760"/>
              <a:ext cx="382680" cy="38232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39" name="Freeform 6"/>
            <p:cNvSpPr/>
            <p:nvPr/>
          </p:nvSpPr>
          <p:spPr>
            <a:xfrm>
              <a:off x="6539400" y="4055760"/>
              <a:ext cx="175320" cy="147960"/>
            </a:xfrm>
            <a:custGeom>
              <a:avLst/>
              <a:gdLst/>
              <a:ahLst/>
              <a:rect l="l" t="t" r="r" b="b"/>
              <a:pathLst>
                <a:path w="243" h="205">
                  <a:moveTo>
                    <a:pt x="0" y="137"/>
                  </a:moveTo>
                  <a:lnTo>
                    <a:pt x="59" y="205"/>
                  </a:lnTo>
                  <a:lnTo>
                    <a:pt x="241" y="12"/>
                  </a:lnTo>
                  <a:lnTo>
                    <a:pt x="243" y="0"/>
                  </a:lnTo>
                  <a:lnTo>
                    <a:pt x="66" y="137"/>
                  </a:lnTo>
                  <a:lnTo>
                    <a:pt x="0" y="80"/>
                  </a:lnTo>
                  <a:lnTo>
                    <a:pt x="0" y="137"/>
                  </a:lnTo>
                  <a:close/>
                </a:path>
              </a:pathLst>
            </a:custGeom>
            <a:solidFill>
              <a:srgbClr val="00a09c"/>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grpSp>
      <p:grpSp>
        <p:nvGrpSpPr>
          <p:cNvPr id="1440" name="Group 49"/>
          <p:cNvGrpSpPr/>
          <p:nvPr/>
        </p:nvGrpSpPr>
        <p:grpSpPr>
          <a:xfrm>
            <a:off x="6435720" y="4802040"/>
            <a:ext cx="382680" cy="382680"/>
            <a:chOff x="6435720" y="4802040"/>
            <a:chExt cx="382680" cy="382680"/>
          </a:xfrm>
        </p:grpSpPr>
        <p:sp>
          <p:nvSpPr>
            <p:cNvPr id="1441" name="Oval 50"/>
            <p:cNvSpPr/>
            <p:nvPr/>
          </p:nvSpPr>
          <p:spPr>
            <a:xfrm>
              <a:off x="6435720" y="4802040"/>
              <a:ext cx="382680" cy="38268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42" name="Freeform 6"/>
            <p:cNvSpPr/>
            <p:nvPr/>
          </p:nvSpPr>
          <p:spPr>
            <a:xfrm>
              <a:off x="6539400" y="4919400"/>
              <a:ext cx="175320" cy="147960"/>
            </a:xfrm>
            <a:custGeom>
              <a:avLst/>
              <a:gdLst/>
              <a:ahLst/>
              <a:rect l="l" t="t" r="r" b="b"/>
              <a:pathLst>
                <a:path w="243" h="205">
                  <a:moveTo>
                    <a:pt x="0" y="137"/>
                  </a:moveTo>
                  <a:lnTo>
                    <a:pt x="59" y="205"/>
                  </a:lnTo>
                  <a:lnTo>
                    <a:pt x="241" y="12"/>
                  </a:lnTo>
                  <a:lnTo>
                    <a:pt x="243" y="0"/>
                  </a:lnTo>
                  <a:lnTo>
                    <a:pt x="66" y="137"/>
                  </a:lnTo>
                  <a:lnTo>
                    <a:pt x="0" y="80"/>
                  </a:lnTo>
                  <a:lnTo>
                    <a:pt x="0" y="137"/>
                  </a:lnTo>
                  <a:close/>
                </a:path>
              </a:pathLst>
            </a:custGeom>
            <a:solidFill>
              <a:srgbClr val="00a09c"/>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grpSp>
      <p:sp>
        <p:nvSpPr>
          <p:cNvPr id="1443" name="Rectangle 53"/>
          <p:cNvSpPr/>
          <p:nvPr/>
        </p:nvSpPr>
        <p:spPr>
          <a:xfrm>
            <a:off x="4344840" y="3325680"/>
            <a:ext cx="478080" cy="4510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1444" name="Group 1"/>
          <p:cNvGrpSpPr/>
          <p:nvPr/>
        </p:nvGrpSpPr>
        <p:grpSpPr>
          <a:xfrm>
            <a:off x="2430360" y="3319560"/>
            <a:ext cx="2392560" cy="460440"/>
            <a:chOff x="2430360" y="3319560"/>
            <a:chExt cx="2392560" cy="460440"/>
          </a:xfrm>
        </p:grpSpPr>
        <p:sp>
          <p:nvSpPr>
            <p:cNvPr id="1445" name="Rectangle 52"/>
            <p:cNvSpPr/>
            <p:nvPr/>
          </p:nvSpPr>
          <p:spPr>
            <a:xfrm>
              <a:off x="2430360" y="3319560"/>
              <a:ext cx="2392560" cy="460440"/>
            </a:xfrm>
            <a:prstGeom prst="rect">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46" name="Rectangle 54"/>
            <p:cNvSpPr/>
            <p:nvPr/>
          </p:nvSpPr>
          <p:spPr>
            <a:xfrm>
              <a:off x="4344480" y="3323880"/>
              <a:ext cx="478440" cy="451800"/>
            </a:xfrm>
            <a:prstGeom prst="rect">
              <a:avLst/>
            </a:prstGeom>
            <a:solidFill>
              <a:srgbClr val="5267a5"/>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1447" name="Freeform 14"/>
          <p:cNvSpPr/>
          <p:nvPr/>
        </p:nvSpPr>
        <p:spPr>
          <a:xfrm>
            <a:off x="4478400" y="3449520"/>
            <a:ext cx="209520" cy="201600"/>
          </a:xfrm>
          <a:custGeom>
            <a:avLst/>
            <a:gdLst/>
            <a:ahLst/>
            <a:rect l="l" t="t" r="r" b="b"/>
            <a:pathLst>
              <a:path w="108" h="104">
                <a:moveTo>
                  <a:pt x="42" y="0"/>
                </a:moveTo>
                <a:cubicBezTo>
                  <a:pt x="18" y="0"/>
                  <a:pt x="0" y="19"/>
                  <a:pt x="0" y="42"/>
                </a:cubicBezTo>
                <a:cubicBezTo>
                  <a:pt x="0" y="65"/>
                  <a:pt x="18" y="83"/>
                  <a:pt x="42" y="83"/>
                </a:cubicBezTo>
                <a:cubicBezTo>
                  <a:pt x="52" y="83"/>
                  <a:pt x="61" y="80"/>
                  <a:pt x="68" y="74"/>
                </a:cubicBezTo>
                <a:cubicBezTo>
                  <a:pt x="68" y="74"/>
                  <a:pt x="69" y="75"/>
                  <a:pt x="69" y="76"/>
                </a:cubicBezTo>
                <a:cubicBezTo>
                  <a:pt x="95" y="101"/>
                  <a:pt x="95" y="101"/>
                  <a:pt x="95" y="101"/>
                </a:cubicBezTo>
                <a:cubicBezTo>
                  <a:pt x="97" y="103"/>
                  <a:pt x="99" y="104"/>
                  <a:pt x="100" y="104"/>
                </a:cubicBezTo>
                <a:cubicBezTo>
                  <a:pt x="102" y="104"/>
                  <a:pt x="104" y="103"/>
                  <a:pt x="106" y="101"/>
                </a:cubicBezTo>
                <a:cubicBezTo>
                  <a:pt x="108" y="99"/>
                  <a:pt x="108" y="94"/>
                  <a:pt x="106" y="91"/>
                </a:cubicBezTo>
                <a:cubicBezTo>
                  <a:pt x="80" y="65"/>
                  <a:pt x="80" y="65"/>
                  <a:pt x="80" y="65"/>
                </a:cubicBezTo>
                <a:cubicBezTo>
                  <a:pt x="79" y="65"/>
                  <a:pt x="78" y="64"/>
                  <a:pt x="77" y="64"/>
                </a:cubicBezTo>
                <a:cubicBezTo>
                  <a:pt x="81" y="57"/>
                  <a:pt x="83" y="50"/>
                  <a:pt x="83" y="42"/>
                </a:cubicBezTo>
                <a:cubicBezTo>
                  <a:pt x="83" y="19"/>
                  <a:pt x="65" y="0"/>
                  <a:pt x="42" y="0"/>
                </a:cubicBezTo>
                <a:close/>
                <a:moveTo>
                  <a:pt x="42" y="13"/>
                </a:moveTo>
                <a:cubicBezTo>
                  <a:pt x="58" y="13"/>
                  <a:pt x="71" y="26"/>
                  <a:pt x="71" y="42"/>
                </a:cubicBezTo>
                <a:cubicBezTo>
                  <a:pt x="71" y="47"/>
                  <a:pt x="69" y="52"/>
                  <a:pt x="66" y="57"/>
                </a:cubicBezTo>
                <a:cubicBezTo>
                  <a:pt x="64" y="61"/>
                  <a:pt x="64" y="61"/>
                  <a:pt x="64" y="61"/>
                </a:cubicBezTo>
                <a:cubicBezTo>
                  <a:pt x="60" y="64"/>
                  <a:pt x="60" y="64"/>
                  <a:pt x="60" y="64"/>
                </a:cubicBezTo>
                <a:cubicBezTo>
                  <a:pt x="55" y="68"/>
                  <a:pt x="48" y="70"/>
                  <a:pt x="42" y="70"/>
                </a:cubicBezTo>
                <a:cubicBezTo>
                  <a:pt x="26" y="70"/>
                  <a:pt x="13" y="58"/>
                  <a:pt x="13" y="42"/>
                </a:cubicBezTo>
                <a:cubicBezTo>
                  <a:pt x="13" y="26"/>
                  <a:pt x="26" y="13"/>
                  <a:pt x="42"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sp>
        <p:nvSpPr>
          <p:cNvPr id="1448" name="PlaceHolder 1"/>
          <p:cNvSpPr>
            <a:spLocks noGrp="1"/>
          </p:cNvSpPr>
          <p:nvPr>
            <p:ph/>
          </p:nvPr>
        </p:nvSpPr>
        <p:spPr>
          <a:xfrm>
            <a:off x="7113600" y="2332080"/>
            <a:ext cx="3354480" cy="65736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Body text here or lorem ipsum long hana nunok doloramet,lorem consectetu</a:t>
            </a:r>
            <a:endParaRPr b="0" lang="en-US" sz="1000" spc="-1" strike="noStrike">
              <a:solidFill>
                <a:srgbClr val="494949"/>
              </a:solidFill>
              <a:latin typeface="Open Sans Light"/>
            </a:endParaRPr>
          </a:p>
        </p:txBody>
      </p:sp>
      <p:sp>
        <p:nvSpPr>
          <p:cNvPr id="1449" name="PlaceHolder 2"/>
          <p:cNvSpPr>
            <a:spLocks noGrp="1"/>
          </p:cNvSpPr>
          <p:nvPr>
            <p:ph/>
          </p:nvPr>
        </p:nvSpPr>
        <p:spPr>
          <a:xfrm>
            <a:off x="7113600" y="2109960"/>
            <a:ext cx="3354480" cy="217440"/>
          </a:xfrm>
          <a:prstGeom prst="rect">
            <a:avLst/>
          </a:prstGeom>
          <a:noFill/>
          <a:ln w="0">
            <a:noFill/>
          </a:ln>
        </p:spPr>
        <p:txBody>
          <a:bodyPr lIns="0" rIns="0" anchor="t">
            <a:normAutofit fontScale="66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CONNECTIONS</a:t>
            </a:r>
            <a:endParaRPr b="0" lang="en-US" sz="1400" spc="-1" strike="noStrike">
              <a:solidFill>
                <a:srgbClr val="494949"/>
              </a:solidFill>
              <a:latin typeface="Open Sans Light"/>
            </a:endParaRPr>
          </a:p>
        </p:txBody>
      </p:sp>
      <p:sp>
        <p:nvSpPr>
          <p:cNvPr id="1450" name="PlaceHolder 3"/>
          <p:cNvSpPr>
            <a:spLocks noGrp="1"/>
          </p:cNvSpPr>
          <p:nvPr>
            <p:ph/>
          </p:nvPr>
        </p:nvSpPr>
        <p:spPr>
          <a:xfrm>
            <a:off x="7138800" y="3206520"/>
            <a:ext cx="3354120" cy="6570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Body text here or lorem ipsum long hana nunok doloramet,lorem consectetu</a:t>
            </a:r>
            <a:endParaRPr b="0" lang="en-US" sz="1000" spc="-1" strike="noStrike">
              <a:solidFill>
                <a:srgbClr val="494949"/>
              </a:solidFill>
              <a:latin typeface="Open Sans Light"/>
            </a:endParaRPr>
          </a:p>
        </p:txBody>
      </p:sp>
      <p:sp>
        <p:nvSpPr>
          <p:cNvPr id="1451" name="PlaceHolder 4"/>
          <p:cNvSpPr>
            <a:spLocks noGrp="1"/>
          </p:cNvSpPr>
          <p:nvPr>
            <p:ph/>
          </p:nvPr>
        </p:nvSpPr>
        <p:spPr>
          <a:xfrm>
            <a:off x="7138800" y="2984400"/>
            <a:ext cx="3354120" cy="217440"/>
          </a:xfrm>
          <a:prstGeom prst="rect">
            <a:avLst/>
          </a:prstGeom>
          <a:noFill/>
          <a:ln w="0">
            <a:noFill/>
          </a:ln>
        </p:spPr>
        <p:txBody>
          <a:bodyPr lIns="0" rIns="0" anchor="t">
            <a:normAutofit fontScale="66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RESPONSIVE</a:t>
            </a:r>
            <a:endParaRPr b="0" lang="en-US" sz="1400" spc="-1" strike="noStrike">
              <a:solidFill>
                <a:srgbClr val="494949"/>
              </a:solidFill>
              <a:latin typeface="Open Sans Light"/>
            </a:endParaRPr>
          </a:p>
        </p:txBody>
      </p:sp>
      <p:sp>
        <p:nvSpPr>
          <p:cNvPr id="1452" name="PlaceHolder 5"/>
          <p:cNvSpPr>
            <a:spLocks noGrp="1"/>
          </p:cNvSpPr>
          <p:nvPr>
            <p:ph/>
          </p:nvPr>
        </p:nvSpPr>
        <p:spPr>
          <a:xfrm>
            <a:off x="7138800" y="4093920"/>
            <a:ext cx="3354120" cy="6570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Body text here or lorem ipsum long hana nunok doloramet,lorem consectetu</a:t>
            </a:r>
            <a:endParaRPr b="0" lang="en-US" sz="1000" spc="-1" strike="noStrike">
              <a:solidFill>
                <a:srgbClr val="494949"/>
              </a:solidFill>
              <a:latin typeface="Open Sans Light"/>
            </a:endParaRPr>
          </a:p>
        </p:txBody>
      </p:sp>
      <p:sp>
        <p:nvSpPr>
          <p:cNvPr id="1453" name="PlaceHolder 6"/>
          <p:cNvSpPr>
            <a:spLocks noGrp="1"/>
          </p:cNvSpPr>
          <p:nvPr>
            <p:ph/>
          </p:nvPr>
        </p:nvSpPr>
        <p:spPr>
          <a:xfrm>
            <a:off x="7138800" y="3871800"/>
            <a:ext cx="3354120" cy="217440"/>
          </a:xfrm>
          <a:prstGeom prst="rect">
            <a:avLst/>
          </a:prstGeom>
          <a:noFill/>
          <a:ln w="0">
            <a:noFill/>
          </a:ln>
        </p:spPr>
        <p:txBody>
          <a:bodyPr lIns="0" rIns="0" anchor="t">
            <a:normAutofit fontScale="66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NEW UPDATES</a:t>
            </a:r>
            <a:endParaRPr b="0" lang="en-US" sz="1400" spc="-1" strike="noStrike">
              <a:solidFill>
                <a:srgbClr val="494949"/>
              </a:solidFill>
              <a:latin typeface="Open Sans Light"/>
            </a:endParaRPr>
          </a:p>
        </p:txBody>
      </p:sp>
      <p:sp>
        <p:nvSpPr>
          <p:cNvPr id="1454" name="PlaceHolder 7"/>
          <p:cNvSpPr>
            <a:spLocks noGrp="1"/>
          </p:cNvSpPr>
          <p:nvPr>
            <p:ph/>
          </p:nvPr>
        </p:nvSpPr>
        <p:spPr>
          <a:xfrm>
            <a:off x="7164360" y="4968720"/>
            <a:ext cx="3354480" cy="65736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Body text here or lorem ipsum long hana nunok doloramet,lorem consectetu</a:t>
            </a:r>
            <a:endParaRPr b="0" lang="en-US" sz="1000" spc="-1" strike="noStrike">
              <a:solidFill>
                <a:srgbClr val="494949"/>
              </a:solidFill>
              <a:latin typeface="Open Sans Light"/>
            </a:endParaRPr>
          </a:p>
        </p:txBody>
      </p:sp>
      <p:sp>
        <p:nvSpPr>
          <p:cNvPr id="1455" name="PlaceHolder 8"/>
          <p:cNvSpPr>
            <a:spLocks noGrp="1"/>
          </p:cNvSpPr>
          <p:nvPr>
            <p:ph/>
          </p:nvPr>
        </p:nvSpPr>
        <p:spPr>
          <a:xfrm>
            <a:off x="7164360" y="4746600"/>
            <a:ext cx="3354480" cy="217440"/>
          </a:xfrm>
          <a:prstGeom prst="rect">
            <a:avLst/>
          </a:prstGeom>
          <a:noFill/>
          <a:ln w="0">
            <a:noFill/>
          </a:ln>
        </p:spPr>
        <p:txBody>
          <a:bodyPr lIns="0" rIns="0" anchor="t">
            <a:normAutofit fontScale="66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MARKETPLACE</a:t>
            </a:r>
            <a:endParaRPr b="0" lang="en-US" sz="1400" spc="-1" strike="noStrike">
              <a:solidFill>
                <a:srgbClr val="494949"/>
              </a:solidFill>
              <a:latin typeface="Open Sans Light"/>
            </a:endParaRPr>
          </a:p>
        </p:txBody>
      </p:sp>
      <p:sp>
        <p:nvSpPr>
          <p:cNvPr id="1456" name="PlaceHolder 9"/>
          <p:cNvSpPr>
            <a:spLocks noGrp="1"/>
          </p:cNvSpPr>
          <p:nvPr>
            <p:ph/>
          </p:nvPr>
        </p:nvSpPr>
        <p:spPr>
          <a:xfrm>
            <a:off x="2614680" y="3338640"/>
            <a:ext cx="1730160" cy="452160"/>
          </a:xfrm>
          <a:prstGeom prst="rect">
            <a:avLst/>
          </a:prstGeom>
          <a:noFill/>
          <a:ln w="0">
            <a:noFill/>
          </a:ln>
        </p:spPr>
        <p:txBody>
          <a:bodyPr lIns="0" rIns="0" anchor="ctr">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a6a6a6"/>
                </a:solidFill>
                <a:latin typeface="Lato Heavy"/>
              </a:rPr>
              <a:t>You Will Get</a:t>
            </a:r>
            <a:endParaRPr b="0" lang="en-US" sz="1800" spc="-1" strike="noStrike">
              <a:solidFill>
                <a:srgbClr val="494949"/>
              </a:solidFill>
              <a:latin typeface="Open Sans Light"/>
            </a:endParaRPr>
          </a:p>
        </p:txBody>
      </p:sp>
      <p:sp>
        <p:nvSpPr>
          <p:cNvPr id="1457" name="PlaceHolder 10"/>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RESPONSIVE  MOCKUP</a:t>
            </a:r>
            <a:endParaRPr b="0" lang="en-US" sz="3600" spc="-1" strike="noStrike">
              <a:solidFill>
                <a:srgbClr val="494949"/>
              </a:solidFill>
              <a:latin typeface="Lato Heavy"/>
            </a:endParaRPr>
          </a:p>
        </p:txBody>
      </p:sp>
      <p:sp>
        <p:nvSpPr>
          <p:cNvPr id="1458"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afterEffect" fill="hold" presetClass="entr" presetID="10">
                                  <p:stCondLst>
                                    <p:cond delay="0"/>
                                  </p:stCondLst>
                                  <p:childTnLst>
                                    <p:set>
                                      <p:cBhvr>
                                        <p:cTn id="1165" dur="1" fill="hold">
                                          <p:stCondLst>
                                            <p:cond delay="0"/>
                                          </p:stCondLst>
                                        </p:cTn>
                                        <p:tgtEl>
                                          <p:spTgt spid="1430"/>
                                        </p:tgtEl>
                                        <p:attrNameLst>
                                          <p:attrName>style.visibility</p:attrName>
                                        </p:attrNameLst>
                                      </p:cBhvr>
                                      <p:to>
                                        <p:strVal val="visible"/>
                                      </p:to>
                                    </p:set>
                                    <p:animEffect filter="fade" transition="in">
                                      <p:cBhvr additive="repl">
                                        <p:cTn id="1166" dur="500"/>
                                        <p:tgtEl>
                                          <p:spTgt spid="1430"/>
                                        </p:tgtEl>
                                      </p:cBhvr>
                                    </p:animEffect>
                                  </p:childTnLst>
                                </p:cTn>
                              </p:par>
                            </p:childTnLst>
                          </p:cTn>
                        </p:par>
                        <p:par>
                          <p:cTn id="1167" fill="hold">
                            <p:stCondLst>
                              <p:cond delay="500"/>
                            </p:stCondLst>
                            <p:childTnLst>
                              <p:par>
                                <p:cTn id="1168" nodeType="afterEffect" fill="hold" presetClass="entr" presetID="10">
                                  <p:stCondLst>
                                    <p:cond delay="0"/>
                                  </p:stCondLst>
                                  <p:childTnLst>
                                    <p:set>
                                      <p:cBhvr>
                                        <p:cTn id="1169" dur="1" fill="hold">
                                          <p:stCondLst>
                                            <p:cond delay="0"/>
                                          </p:stCondLst>
                                        </p:cTn>
                                        <p:tgtEl>
                                          <p:spTgt spid="1444"/>
                                        </p:tgtEl>
                                        <p:attrNameLst>
                                          <p:attrName>style.visibility</p:attrName>
                                        </p:attrNameLst>
                                      </p:cBhvr>
                                      <p:to>
                                        <p:strVal val="visible"/>
                                      </p:to>
                                    </p:set>
                                    <p:animEffect filter="fade" transition="in">
                                      <p:cBhvr additive="repl">
                                        <p:cTn id="1170" dur="500"/>
                                        <p:tgtEl>
                                          <p:spTgt spid="1444"/>
                                        </p:tgtEl>
                                      </p:cBhvr>
                                    </p:animEffect>
                                  </p:childTnLst>
                                </p:cTn>
                              </p:par>
                            </p:childTnLst>
                          </p:cTn>
                        </p:par>
                        <p:par>
                          <p:cTn id="1171" fill="hold">
                            <p:stCondLst>
                              <p:cond delay="1000"/>
                            </p:stCondLst>
                            <p:childTnLst>
                              <p:par>
                                <p:cTn id="1172" nodeType="afterEffect" fill="hold" presetClass="entr" presetID="10">
                                  <p:stCondLst>
                                    <p:cond delay="0"/>
                                  </p:stCondLst>
                                  <p:childTnLst>
                                    <p:set>
                                      <p:cBhvr>
                                        <p:cTn id="1173" dur="1" fill="hold">
                                          <p:stCondLst>
                                            <p:cond delay="0"/>
                                          </p:stCondLst>
                                        </p:cTn>
                                        <p:tgtEl>
                                          <p:spTgt spid="1443"/>
                                        </p:tgtEl>
                                        <p:attrNameLst>
                                          <p:attrName>style.visibility</p:attrName>
                                        </p:attrNameLst>
                                      </p:cBhvr>
                                      <p:to>
                                        <p:strVal val="visible"/>
                                      </p:to>
                                    </p:set>
                                    <p:animEffect filter="fade" transition="in">
                                      <p:cBhvr additive="repl">
                                        <p:cTn id="1174" dur="500"/>
                                        <p:tgtEl>
                                          <p:spTgt spid="1443"/>
                                        </p:tgtEl>
                                      </p:cBhvr>
                                    </p:animEffect>
                                  </p:childTnLst>
                                </p:cTn>
                              </p:par>
                            </p:childTnLst>
                          </p:cTn>
                        </p:par>
                        <p:par>
                          <p:cTn id="1175" fill="hold">
                            <p:stCondLst>
                              <p:cond delay="1500"/>
                            </p:stCondLst>
                            <p:childTnLst>
                              <p:par>
                                <p:cTn id="1176" nodeType="afterEffect" fill="hold" presetClass="entr" presetID="22" presetSubtype="8">
                                  <p:stCondLst>
                                    <p:cond delay="0"/>
                                  </p:stCondLst>
                                  <p:childTnLst>
                                    <p:set>
                                      <p:cBhvr>
                                        <p:cTn id="1177" dur="1" fill="hold">
                                          <p:stCondLst>
                                            <p:cond delay="0"/>
                                          </p:stCondLst>
                                        </p:cTn>
                                        <p:tgtEl>
                                          <p:spTgt spid="1456">
                                            <p:txEl>
                                              <p:pRg st="0" end="0"/>
                                            </p:txEl>
                                          </p:spTgt>
                                        </p:tgtEl>
                                        <p:attrNameLst>
                                          <p:attrName>style.visibility</p:attrName>
                                        </p:attrNameLst>
                                      </p:cBhvr>
                                      <p:to>
                                        <p:strVal val="visible"/>
                                      </p:to>
                                    </p:set>
                                    <p:animEffect filter="wipe(left)" transition="in">
                                      <p:cBhvr additive="repl">
                                        <p:cTn id="1178" dur="500"/>
                                        <p:tgtEl>
                                          <p:spTgt spid="1456">
                                            <p:txEl>
                                              <p:pRg st="0" end="0"/>
                                            </p:txEl>
                                          </p:spTgt>
                                        </p:tgtEl>
                                      </p:cBhvr>
                                    </p:animEffect>
                                  </p:childTnLst>
                                </p:cTn>
                              </p:par>
                            </p:childTnLst>
                          </p:cTn>
                        </p:par>
                        <p:par>
                          <p:cTn id="1179" fill="hold">
                            <p:stCondLst>
                              <p:cond delay="2000"/>
                            </p:stCondLst>
                            <p:childTnLst>
                              <p:par>
                                <p:cTn id="1180" nodeType="afterEffect" fill="hold" presetClass="entr" presetID="10">
                                  <p:stCondLst>
                                    <p:cond delay="0"/>
                                  </p:stCondLst>
                                  <p:childTnLst>
                                    <p:set>
                                      <p:cBhvr>
                                        <p:cTn id="1181" dur="1" fill="hold">
                                          <p:stCondLst>
                                            <p:cond delay="0"/>
                                          </p:stCondLst>
                                        </p:cTn>
                                        <p:tgtEl>
                                          <p:spTgt spid="1431"/>
                                        </p:tgtEl>
                                        <p:attrNameLst>
                                          <p:attrName>style.visibility</p:attrName>
                                        </p:attrNameLst>
                                      </p:cBhvr>
                                      <p:to>
                                        <p:strVal val="visible"/>
                                      </p:to>
                                    </p:set>
                                    <p:animEffect filter="fade" transition="in">
                                      <p:cBhvr additive="repl">
                                        <p:cTn id="1182" dur="500"/>
                                        <p:tgtEl>
                                          <p:spTgt spid="1431"/>
                                        </p:tgtEl>
                                      </p:cBhvr>
                                    </p:animEffect>
                                  </p:childTnLst>
                                </p:cTn>
                              </p:par>
                            </p:childTnLst>
                          </p:cTn>
                        </p:par>
                        <p:par>
                          <p:cTn id="1183" fill="hold">
                            <p:stCondLst>
                              <p:cond delay="2500"/>
                            </p:stCondLst>
                            <p:childTnLst>
                              <p:par>
                                <p:cTn id="1184" nodeType="afterEffect" fill="hold" presetClass="entr" presetID="22" presetSubtype="8">
                                  <p:stCondLst>
                                    <p:cond delay="0"/>
                                  </p:stCondLst>
                                  <p:childTnLst>
                                    <p:set>
                                      <p:cBhvr>
                                        <p:cTn id="1185" dur="1" fill="hold">
                                          <p:stCondLst>
                                            <p:cond delay="0"/>
                                          </p:stCondLst>
                                        </p:cTn>
                                        <p:tgtEl>
                                          <p:spTgt spid="1449">
                                            <p:txEl>
                                              <p:pRg st="0" end="0"/>
                                            </p:txEl>
                                          </p:spTgt>
                                        </p:tgtEl>
                                        <p:attrNameLst>
                                          <p:attrName>style.visibility</p:attrName>
                                        </p:attrNameLst>
                                      </p:cBhvr>
                                      <p:to>
                                        <p:strVal val="visible"/>
                                      </p:to>
                                    </p:set>
                                    <p:animEffect filter="wipe(left)" transition="in">
                                      <p:cBhvr additive="repl">
                                        <p:cTn id="1186" dur="500"/>
                                        <p:tgtEl>
                                          <p:spTgt spid="1449">
                                            <p:txEl>
                                              <p:pRg st="0" end="0"/>
                                            </p:txEl>
                                          </p:spTgt>
                                        </p:tgtEl>
                                      </p:cBhvr>
                                    </p:animEffect>
                                  </p:childTnLst>
                                </p:cTn>
                              </p:par>
                            </p:childTnLst>
                          </p:cTn>
                        </p:par>
                        <p:par>
                          <p:cTn id="1187" fill="hold">
                            <p:stCondLst>
                              <p:cond delay="3000"/>
                            </p:stCondLst>
                            <p:childTnLst>
                              <p:par>
                                <p:cTn id="1188" nodeType="afterEffect" fill="hold" presetClass="entr" presetID="10">
                                  <p:stCondLst>
                                    <p:cond delay="0"/>
                                  </p:stCondLst>
                                  <p:childTnLst>
                                    <p:set>
                                      <p:cBhvr>
                                        <p:cTn id="1189" dur="1" fill="hold">
                                          <p:stCondLst>
                                            <p:cond delay="0"/>
                                          </p:stCondLst>
                                        </p:cTn>
                                        <p:tgtEl>
                                          <p:spTgt spid="1448">
                                            <p:txEl>
                                              <p:pRg st="0" end="0"/>
                                            </p:txEl>
                                          </p:spTgt>
                                        </p:tgtEl>
                                        <p:attrNameLst>
                                          <p:attrName>style.visibility</p:attrName>
                                        </p:attrNameLst>
                                      </p:cBhvr>
                                      <p:to>
                                        <p:strVal val="visible"/>
                                      </p:to>
                                    </p:set>
                                    <p:animEffect filter="fade" transition="in">
                                      <p:cBhvr additive="repl">
                                        <p:cTn id="1190" dur="500"/>
                                        <p:tgtEl>
                                          <p:spTgt spid="1448">
                                            <p:txEl>
                                              <p:pRg st="0" end="0"/>
                                            </p:txEl>
                                          </p:spTgt>
                                        </p:tgtEl>
                                      </p:cBhvr>
                                    </p:animEffect>
                                  </p:childTnLst>
                                </p:cTn>
                              </p:par>
                            </p:childTnLst>
                          </p:cTn>
                        </p:par>
                        <p:par>
                          <p:cTn id="1191" fill="hold">
                            <p:stCondLst>
                              <p:cond delay="3500"/>
                            </p:stCondLst>
                            <p:childTnLst>
                              <p:par>
                                <p:cTn id="1192" nodeType="afterEffect" fill="hold" presetClass="entr" presetID="10">
                                  <p:stCondLst>
                                    <p:cond delay="0"/>
                                  </p:stCondLst>
                                  <p:childTnLst>
                                    <p:set>
                                      <p:cBhvr>
                                        <p:cTn id="1193" dur="1" fill="hold">
                                          <p:stCondLst>
                                            <p:cond delay="0"/>
                                          </p:stCondLst>
                                        </p:cTn>
                                        <p:tgtEl>
                                          <p:spTgt spid="1434"/>
                                        </p:tgtEl>
                                        <p:attrNameLst>
                                          <p:attrName>style.visibility</p:attrName>
                                        </p:attrNameLst>
                                      </p:cBhvr>
                                      <p:to>
                                        <p:strVal val="visible"/>
                                      </p:to>
                                    </p:set>
                                    <p:animEffect filter="fade" transition="in">
                                      <p:cBhvr additive="repl">
                                        <p:cTn id="1194" dur="500"/>
                                        <p:tgtEl>
                                          <p:spTgt spid="1434"/>
                                        </p:tgtEl>
                                      </p:cBhvr>
                                    </p:animEffect>
                                  </p:childTnLst>
                                </p:cTn>
                              </p:par>
                            </p:childTnLst>
                          </p:cTn>
                        </p:par>
                        <p:par>
                          <p:cTn id="1195" fill="hold">
                            <p:stCondLst>
                              <p:cond delay="4000"/>
                            </p:stCondLst>
                            <p:childTnLst>
                              <p:par>
                                <p:cTn id="1196" nodeType="afterEffect" fill="hold" presetClass="entr" presetID="22" presetSubtype="8">
                                  <p:stCondLst>
                                    <p:cond delay="0"/>
                                  </p:stCondLst>
                                  <p:childTnLst>
                                    <p:set>
                                      <p:cBhvr>
                                        <p:cTn id="1197" dur="1" fill="hold">
                                          <p:stCondLst>
                                            <p:cond delay="0"/>
                                          </p:stCondLst>
                                        </p:cTn>
                                        <p:tgtEl>
                                          <p:spTgt spid="1451">
                                            <p:txEl>
                                              <p:pRg st="0" end="0"/>
                                            </p:txEl>
                                          </p:spTgt>
                                        </p:tgtEl>
                                        <p:attrNameLst>
                                          <p:attrName>style.visibility</p:attrName>
                                        </p:attrNameLst>
                                      </p:cBhvr>
                                      <p:to>
                                        <p:strVal val="visible"/>
                                      </p:to>
                                    </p:set>
                                    <p:animEffect filter="wipe(left)" transition="in">
                                      <p:cBhvr additive="repl">
                                        <p:cTn id="1198" dur="500"/>
                                        <p:tgtEl>
                                          <p:spTgt spid="1451">
                                            <p:txEl>
                                              <p:pRg st="0" end="0"/>
                                            </p:txEl>
                                          </p:spTgt>
                                        </p:tgtEl>
                                      </p:cBhvr>
                                    </p:animEffect>
                                  </p:childTnLst>
                                </p:cTn>
                              </p:par>
                            </p:childTnLst>
                          </p:cTn>
                        </p:par>
                        <p:par>
                          <p:cTn id="1199" fill="hold">
                            <p:stCondLst>
                              <p:cond delay="4500"/>
                            </p:stCondLst>
                            <p:childTnLst>
                              <p:par>
                                <p:cTn id="1200" nodeType="afterEffect" fill="hold" presetClass="entr" presetID="10">
                                  <p:stCondLst>
                                    <p:cond delay="0"/>
                                  </p:stCondLst>
                                  <p:childTnLst>
                                    <p:set>
                                      <p:cBhvr>
                                        <p:cTn id="1201" dur="1" fill="hold">
                                          <p:stCondLst>
                                            <p:cond delay="0"/>
                                          </p:stCondLst>
                                        </p:cTn>
                                        <p:tgtEl>
                                          <p:spTgt spid="1450">
                                            <p:txEl>
                                              <p:pRg st="0" end="0"/>
                                            </p:txEl>
                                          </p:spTgt>
                                        </p:tgtEl>
                                        <p:attrNameLst>
                                          <p:attrName>style.visibility</p:attrName>
                                        </p:attrNameLst>
                                      </p:cBhvr>
                                      <p:to>
                                        <p:strVal val="visible"/>
                                      </p:to>
                                    </p:set>
                                    <p:animEffect filter="fade" transition="in">
                                      <p:cBhvr additive="repl">
                                        <p:cTn id="1202" dur="500"/>
                                        <p:tgtEl>
                                          <p:spTgt spid="1450">
                                            <p:txEl>
                                              <p:pRg st="0" end="0"/>
                                            </p:txEl>
                                          </p:spTgt>
                                        </p:tgtEl>
                                      </p:cBhvr>
                                    </p:animEffect>
                                  </p:childTnLst>
                                </p:cTn>
                              </p:par>
                            </p:childTnLst>
                          </p:cTn>
                        </p:par>
                        <p:par>
                          <p:cTn id="1203" fill="hold">
                            <p:stCondLst>
                              <p:cond delay="5000"/>
                            </p:stCondLst>
                            <p:childTnLst>
                              <p:par>
                                <p:cTn id="1204" nodeType="afterEffect" fill="hold" presetClass="entr" presetID="10">
                                  <p:stCondLst>
                                    <p:cond delay="0"/>
                                  </p:stCondLst>
                                  <p:childTnLst>
                                    <p:set>
                                      <p:cBhvr>
                                        <p:cTn id="1205" dur="1" fill="hold">
                                          <p:stCondLst>
                                            <p:cond delay="0"/>
                                          </p:stCondLst>
                                        </p:cTn>
                                        <p:tgtEl>
                                          <p:spTgt spid="1437"/>
                                        </p:tgtEl>
                                        <p:attrNameLst>
                                          <p:attrName>style.visibility</p:attrName>
                                        </p:attrNameLst>
                                      </p:cBhvr>
                                      <p:to>
                                        <p:strVal val="visible"/>
                                      </p:to>
                                    </p:set>
                                    <p:animEffect filter="fade" transition="in">
                                      <p:cBhvr additive="repl">
                                        <p:cTn id="1206" dur="500"/>
                                        <p:tgtEl>
                                          <p:spTgt spid="1437"/>
                                        </p:tgtEl>
                                      </p:cBhvr>
                                    </p:animEffect>
                                  </p:childTnLst>
                                </p:cTn>
                              </p:par>
                            </p:childTnLst>
                          </p:cTn>
                        </p:par>
                        <p:par>
                          <p:cTn id="1207" fill="hold">
                            <p:stCondLst>
                              <p:cond delay="5500"/>
                            </p:stCondLst>
                            <p:childTnLst>
                              <p:par>
                                <p:cTn id="1208" nodeType="afterEffect" fill="hold" presetClass="entr" presetID="22" presetSubtype="8">
                                  <p:stCondLst>
                                    <p:cond delay="0"/>
                                  </p:stCondLst>
                                  <p:childTnLst>
                                    <p:set>
                                      <p:cBhvr>
                                        <p:cTn id="1209" dur="1" fill="hold">
                                          <p:stCondLst>
                                            <p:cond delay="0"/>
                                          </p:stCondLst>
                                        </p:cTn>
                                        <p:tgtEl>
                                          <p:spTgt spid="1453">
                                            <p:txEl>
                                              <p:pRg st="0" end="0"/>
                                            </p:txEl>
                                          </p:spTgt>
                                        </p:tgtEl>
                                        <p:attrNameLst>
                                          <p:attrName>style.visibility</p:attrName>
                                        </p:attrNameLst>
                                      </p:cBhvr>
                                      <p:to>
                                        <p:strVal val="visible"/>
                                      </p:to>
                                    </p:set>
                                    <p:animEffect filter="wipe(left)" transition="in">
                                      <p:cBhvr additive="repl">
                                        <p:cTn id="1210" dur="500"/>
                                        <p:tgtEl>
                                          <p:spTgt spid="1453">
                                            <p:txEl>
                                              <p:pRg st="0" end="0"/>
                                            </p:txEl>
                                          </p:spTgt>
                                        </p:tgtEl>
                                      </p:cBhvr>
                                    </p:animEffect>
                                  </p:childTnLst>
                                </p:cTn>
                              </p:par>
                            </p:childTnLst>
                          </p:cTn>
                        </p:par>
                        <p:par>
                          <p:cTn id="1211" fill="hold">
                            <p:stCondLst>
                              <p:cond delay="6000"/>
                            </p:stCondLst>
                            <p:childTnLst>
                              <p:par>
                                <p:cTn id="1212" nodeType="afterEffect" fill="hold" presetClass="entr" presetID="10">
                                  <p:stCondLst>
                                    <p:cond delay="0"/>
                                  </p:stCondLst>
                                  <p:childTnLst>
                                    <p:set>
                                      <p:cBhvr>
                                        <p:cTn id="1213" dur="1" fill="hold">
                                          <p:stCondLst>
                                            <p:cond delay="0"/>
                                          </p:stCondLst>
                                        </p:cTn>
                                        <p:tgtEl>
                                          <p:spTgt spid="1452">
                                            <p:txEl>
                                              <p:pRg st="0" end="0"/>
                                            </p:txEl>
                                          </p:spTgt>
                                        </p:tgtEl>
                                        <p:attrNameLst>
                                          <p:attrName>style.visibility</p:attrName>
                                        </p:attrNameLst>
                                      </p:cBhvr>
                                      <p:to>
                                        <p:strVal val="visible"/>
                                      </p:to>
                                    </p:set>
                                    <p:animEffect filter="fade" transition="in">
                                      <p:cBhvr additive="repl">
                                        <p:cTn id="1214" dur="500"/>
                                        <p:tgtEl>
                                          <p:spTgt spid="1452">
                                            <p:txEl>
                                              <p:pRg st="0" end="0"/>
                                            </p:txEl>
                                          </p:spTgt>
                                        </p:tgtEl>
                                      </p:cBhvr>
                                    </p:animEffect>
                                  </p:childTnLst>
                                </p:cTn>
                              </p:par>
                            </p:childTnLst>
                          </p:cTn>
                        </p:par>
                        <p:par>
                          <p:cTn id="1215" fill="hold">
                            <p:stCondLst>
                              <p:cond delay="6500"/>
                            </p:stCondLst>
                            <p:childTnLst>
                              <p:par>
                                <p:cTn id="1216" nodeType="afterEffect" fill="hold" presetClass="entr" presetID="10">
                                  <p:stCondLst>
                                    <p:cond delay="0"/>
                                  </p:stCondLst>
                                  <p:childTnLst>
                                    <p:set>
                                      <p:cBhvr>
                                        <p:cTn id="1217" dur="1" fill="hold">
                                          <p:stCondLst>
                                            <p:cond delay="0"/>
                                          </p:stCondLst>
                                        </p:cTn>
                                        <p:tgtEl>
                                          <p:spTgt spid="1440"/>
                                        </p:tgtEl>
                                        <p:attrNameLst>
                                          <p:attrName>style.visibility</p:attrName>
                                        </p:attrNameLst>
                                      </p:cBhvr>
                                      <p:to>
                                        <p:strVal val="visible"/>
                                      </p:to>
                                    </p:set>
                                    <p:animEffect filter="fade" transition="in">
                                      <p:cBhvr additive="repl">
                                        <p:cTn id="1218" dur="500"/>
                                        <p:tgtEl>
                                          <p:spTgt spid="1440"/>
                                        </p:tgtEl>
                                      </p:cBhvr>
                                    </p:animEffect>
                                  </p:childTnLst>
                                </p:cTn>
                              </p:par>
                            </p:childTnLst>
                          </p:cTn>
                        </p:par>
                        <p:par>
                          <p:cTn id="1219" fill="hold">
                            <p:stCondLst>
                              <p:cond delay="7000"/>
                            </p:stCondLst>
                            <p:childTnLst>
                              <p:par>
                                <p:cTn id="1220" nodeType="afterEffect" fill="hold" presetClass="entr" presetID="22" presetSubtype="8">
                                  <p:stCondLst>
                                    <p:cond delay="0"/>
                                  </p:stCondLst>
                                  <p:childTnLst>
                                    <p:set>
                                      <p:cBhvr>
                                        <p:cTn id="1221" dur="1" fill="hold">
                                          <p:stCondLst>
                                            <p:cond delay="0"/>
                                          </p:stCondLst>
                                        </p:cTn>
                                        <p:tgtEl>
                                          <p:spTgt spid="1455">
                                            <p:txEl>
                                              <p:pRg st="0" end="0"/>
                                            </p:txEl>
                                          </p:spTgt>
                                        </p:tgtEl>
                                        <p:attrNameLst>
                                          <p:attrName>style.visibility</p:attrName>
                                        </p:attrNameLst>
                                      </p:cBhvr>
                                      <p:to>
                                        <p:strVal val="visible"/>
                                      </p:to>
                                    </p:set>
                                    <p:animEffect filter="wipe(left)" transition="in">
                                      <p:cBhvr additive="repl">
                                        <p:cTn id="1222" dur="500"/>
                                        <p:tgtEl>
                                          <p:spTgt spid="1455">
                                            <p:txEl>
                                              <p:pRg st="0" end="0"/>
                                            </p:txEl>
                                          </p:spTgt>
                                        </p:tgtEl>
                                      </p:cBhvr>
                                    </p:animEffect>
                                  </p:childTnLst>
                                </p:cTn>
                              </p:par>
                            </p:childTnLst>
                          </p:cTn>
                        </p:par>
                        <p:par>
                          <p:cTn id="1223" fill="hold">
                            <p:stCondLst>
                              <p:cond delay="7500"/>
                            </p:stCondLst>
                            <p:childTnLst>
                              <p:par>
                                <p:cTn id="1224" nodeType="afterEffect" fill="hold" presetClass="entr" presetID="10">
                                  <p:stCondLst>
                                    <p:cond delay="0"/>
                                  </p:stCondLst>
                                  <p:childTnLst>
                                    <p:set>
                                      <p:cBhvr>
                                        <p:cTn id="1225" dur="1" fill="hold">
                                          <p:stCondLst>
                                            <p:cond delay="0"/>
                                          </p:stCondLst>
                                        </p:cTn>
                                        <p:tgtEl>
                                          <p:spTgt spid="1454">
                                            <p:txEl>
                                              <p:pRg st="0" end="0"/>
                                            </p:txEl>
                                          </p:spTgt>
                                        </p:tgtEl>
                                        <p:attrNameLst>
                                          <p:attrName>style.visibility</p:attrName>
                                        </p:attrNameLst>
                                      </p:cBhvr>
                                      <p:to>
                                        <p:strVal val="visible"/>
                                      </p:to>
                                    </p:set>
                                    <p:animEffect filter="fade" transition="in">
                                      <p:cBhvr additive="repl">
                                        <p:cTn id="1226" dur="500"/>
                                        <p:tgtEl>
                                          <p:spTgt spid="1454">
                                            <p:txEl>
                                              <p:pRg st="0" end="0"/>
                                            </p:txEl>
                                          </p:spTgt>
                                        </p:tgtEl>
                                      </p:cBhvr>
                                    </p:animEffect>
                                  </p:childTnLst>
                                </p:cTn>
                              </p:par>
                            </p:childTnLst>
                          </p:cTn>
                        </p:par>
                        <p:par>
                          <p:cTn id="1227" fill="hold">
                            <p:stCondLst>
                              <p:cond delay="8000"/>
                            </p:stCondLst>
                            <p:childTnLst>
                              <p:par>
                                <p:cTn id="1228" nodeType="afterEffect" fill="hold" presetClass="entr" presetID="22" presetSubtype="8">
                                  <p:stCondLst>
                                    <p:cond delay="0"/>
                                  </p:stCondLst>
                                  <p:childTnLst>
                                    <p:set>
                                      <p:cBhvr>
                                        <p:cTn id="1229" dur="1" fill="hold">
                                          <p:stCondLst>
                                            <p:cond delay="0"/>
                                          </p:stCondLst>
                                        </p:cTn>
                                        <p:tgtEl>
                                          <p:spTgt spid="1458">
                                            <p:txEl>
                                              <p:pRg st="0" end="0"/>
                                            </p:txEl>
                                          </p:spTgt>
                                        </p:tgtEl>
                                        <p:attrNameLst>
                                          <p:attrName>style.visibility</p:attrName>
                                        </p:attrNameLst>
                                      </p:cBhvr>
                                      <p:to>
                                        <p:strVal val="visible"/>
                                      </p:to>
                                    </p:set>
                                    <p:animEffect filter="wipe(left)" transition="in">
                                      <p:cBhvr additive="repl">
                                        <p:cTn id="1230" dur="500"/>
                                        <p:tgtEl>
                                          <p:spTgt spid="1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7886520" y="2779560"/>
            <a:ext cx="2516040" cy="720720"/>
          </a:xfrm>
          <a:prstGeom prst="rect">
            <a:avLst/>
          </a:prstGeom>
          <a:noFill/>
          <a:ln w="0">
            <a:noFill/>
          </a:ln>
        </p:spPr>
        <p:txBody>
          <a:bodyPr lIns="0" rIns="0" tIns="0" bIns="0" anchor="t">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mnis iste natus error sit voluptatem accvoluptatem accusantium</a:t>
            </a:r>
            <a:endParaRPr b="0" lang="en-US" sz="1200" spc="-1" strike="noStrike">
              <a:solidFill>
                <a:srgbClr val="494949"/>
              </a:solidFill>
              <a:latin typeface="Open Sans Light"/>
            </a:endParaRPr>
          </a:p>
        </p:txBody>
      </p:sp>
      <p:sp>
        <p:nvSpPr>
          <p:cNvPr id="1460" name="PlaceHolder 2"/>
          <p:cNvSpPr>
            <a:spLocks noGrp="1"/>
          </p:cNvSpPr>
          <p:nvPr>
            <p:ph/>
          </p:nvPr>
        </p:nvSpPr>
        <p:spPr>
          <a:xfrm>
            <a:off x="8413560" y="2327400"/>
            <a:ext cx="1887480" cy="303120"/>
          </a:xfrm>
          <a:prstGeom prst="rect">
            <a:avLst/>
          </a:prstGeom>
          <a:noFill/>
          <a:ln w="0">
            <a:noFill/>
          </a:ln>
        </p:spPr>
        <p:txBody>
          <a:bodyPr lIns="0" rIns="0" tIns="0" bIns="0" anchor="ctr">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600" spc="-1" strike="noStrike">
                <a:solidFill>
                  <a:srgbClr val="7f7f7f"/>
                </a:solidFill>
                <a:latin typeface="Lato Heavy"/>
              </a:rPr>
              <a:t>MATH </a:t>
            </a:r>
            <a:endParaRPr b="0" lang="en-US" sz="1600" spc="-1" strike="noStrike">
              <a:solidFill>
                <a:srgbClr val="494949"/>
              </a:solidFill>
              <a:latin typeface="Open Sans Light"/>
            </a:endParaRPr>
          </a:p>
        </p:txBody>
      </p:sp>
      <p:sp>
        <p:nvSpPr>
          <p:cNvPr id="1461" name="PlaceHolder 3"/>
          <p:cNvSpPr>
            <a:spLocks noGrp="1"/>
          </p:cNvSpPr>
          <p:nvPr>
            <p:ph/>
          </p:nvPr>
        </p:nvSpPr>
        <p:spPr>
          <a:xfrm>
            <a:off x="4695840" y="2779560"/>
            <a:ext cx="2473200" cy="720720"/>
          </a:xfrm>
          <a:prstGeom prst="rect">
            <a:avLst/>
          </a:prstGeom>
          <a:noFill/>
          <a:ln w="0">
            <a:noFill/>
          </a:ln>
        </p:spPr>
        <p:txBody>
          <a:bodyPr lIns="0" rIns="0" tIns="0" bIns="0" anchor="t">
            <a:normAutofit/>
          </a:bodyPr>
          <a:p>
            <a:pPr indent="0" algn="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mnis iste natus error sit voluptatem accvoluptatem accusantium</a:t>
            </a:r>
            <a:endParaRPr b="0" lang="en-US" sz="1200" spc="-1" strike="noStrike">
              <a:solidFill>
                <a:srgbClr val="494949"/>
              </a:solidFill>
              <a:latin typeface="Open Sans Light"/>
            </a:endParaRPr>
          </a:p>
        </p:txBody>
      </p:sp>
      <p:sp>
        <p:nvSpPr>
          <p:cNvPr id="1462" name="PlaceHolder 4"/>
          <p:cNvSpPr>
            <a:spLocks noGrp="1"/>
          </p:cNvSpPr>
          <p:nvPr>
            <p:ph/>
          </p:nvPr>
        </p:nvSpPr>
        <p:spPr>
          <a:xfrm>
            <a:off x="4897440" y="2313000"/>
            <a:ext cx="1674720" cy="303120"/>
          </a:xfrm>
          <a:prstGeom prst="rect">
            <a:avLst/>
          </a:prstGeom>
          <a:noFill/>
          <a:ln w="0">
            <a:noFill/>
          </a:ln>
        </p:spPr>
        <p:txBody>
          <a:bodyPr lIns="0" rIns="0" tIns="0" bIns="0" anchor="ctr">
            <a:normAutofit/>
          </a:bodyPr>
          <a:p>
            <a:pPr indent="0" algn="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600" spc="-1" strike="noStrike">
                <a:solidFill>
                  <a:srgbClr val="7f7f7f"/>
                </a:solidFill>
                <a:latin typeface="Lato Heavy"/>
              </a:rPr>
              <a:t>SECURITY</a:t>
            </a:r>
            <a:endParaRPr b="0" lang="en-US" sz="1600" spc="-1" strike="noStrike">
              <a:solidFill>
                <a:srgbClr val="494949"/>
              </a:solidFill>
              <a:latin typeface="Open Sans Light"/>
            </a:endParaRPr>
          </a:p>
        </p:txBody>
      </p:sp>
      <p:sp>
        <p:nvSpPr>
          <p:cNvPr id="1463" name="PlaceHolder 5"/>
          <p:cNvSpPr>
            <a:spLocks noGrp="1"/>
          </p:cNvSpPr>
          <p:nvPr>
            <p:ph/>
          </p:nvPr>
        </p:nvSpPr>
        <p:spPr>
          <a:xfrm>
            <a:off x="4695840" y="4635360"/>
            <a:ext cx="2473200" cy="720720"/>
          </a:xfrm>
          <a:prstGeom prst="rect">
            <a:avLst/>
          </a:prstGeom>
          <a:noFill/>
          <a:ln w="0">
            <a:noFill/>
          </a:ln>
        </p:spPr>
        <p:txBody>
          <a:bodyPr lIns="0" rIns="0" tIns="0" bIns="0" anchor="t">
            <a:normAutofit/>
          </a:bodyPr>
          <a:p>
            <a:pPr indent="0" algn="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mnis iste natus error sit voluptatem accvoluptatem accusantium</a:t>
            </a:r>
            <a:endParaRPr b="0" lang="en-US" sz="1200" spc="-1" strike="noStrike">
              <a:solidFill>
                <a:srgbClr val="494949"/>
              </a:solidFill>
              <a:latin typeface="Open Sans Light"/>
            </a:endParaRPr>
          </a:p>
        </p:txBody>
      </p:sp>
      <p:sp>
        <p:nvSpPr>
          <p:cNvPr id="1464" name="PlaceHolder 6"/>
          <p:cNvSpPr>
            <a:spLocks noGrp="1"/>
          </p:cNvSpPr>
          <p:nvPr>
            <p:ph/>
          </p:nvPr>
        </p:nvSpPr>
        <p:spPr>
          <a:xfrm>
            <a:off x="4897440" y="4114800"/>
            <a:ext cx="1674720" cy="303120"/>
          </a:xfrm>
          <a:prstGeom prst="rect">
            <a:avLst/>
          </a:prstGeom>
          <a:noFill/>
          <a:ln w="0">
            <a:noFill/>
          </a:ln>
        </p:spPr>
        <p:txBody>
          <a:bodyPr lIns="0" rIns="0" tIns="0" bIns="0" anchor="ctr">
            <a:normAutofit/>
          </a:bodyPr>
          <a:p>
            <a:pPr indent="0" algn="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600" spc="-1" strike="noStrike">
                <a:solidFill>
                  <a:srgbClr val="7f7f7f"/>
                </a:solidFill>
                <a:latin typeface="Lato Heavy"/>
              </a:rPr>
              <a:t>SERVICE</a:t>
            </a:r>
            <a:endParaRPr b="0" lang="en-US" sz="1600" spc="-1" strike="noStrike">
              <a:solidFill>
                <a:srgbClr val="494949"/>
              </a:solidFill>
              <a:latin typeface="Open Sans Light"/>
            </a:endParaRPr>
          </a:p>
        </p:txBody>
      </p:sp>
      <p:sp>
        <p:nvSpPr>
          <p:cNvPr id="1465" name="PlaceHolder 7"/>
          <p:cNvSpPr>
            <a:spLocks noGrp="1"/>
          </p:cNvSpPr>
          <p:nvPr>
            <p:ph/>
          </p:nvPr>
        </p:nvSpPr>
        <p:spPr>
          <a:xfrm>
            <a:off x="7886520" y="4646160"/>
            <a:ext cx="2516040" cy="722520"/>
          </a:xfrm>
          <a:prstGeom prst="rect">
            <a:avLst/>
          </a:prstGeom>
          <a:noFill/>
          <a:ln w="0">
            <a:noFill/>
          </a:ln>
        </p:spPr>
        <p:txBody>
          <a:bodyPr lIns="0" rIns="0" tIns="0" bIns="0" anchor="t">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mnis iste natus error sit voluptatem accvoluptatem accusantium</a:t>
            </a:r>
            <a:endParaRPr b="0" lang="en-US" sz="1200" spc="-1" strike="noStrike">
              <a:solidFill>
                <a:srgbClr val="494949"/>
              </a:solidFill>
              <a:latin typeface="Open Sans Light"/>
            </a:endParaRPr>
          </a:p>
        </p:txBody>
      </p:sp>
      <p:sp>
        <p:nvSpPr>
          <p:cNvPr id="1466" name="PlaceHolder 8"/>
          <p:cNvSpPr>
            <a:spLocks noGrp="1"/>
          </p:cNvSpPr>
          <p:nvPr>
            <p:ph/>
          </p:nvPr>
        </p:nvSpPr>
        <p:spPr>
          <a:xfrm>
            <a:off x="8413560" y="4125600"/>
            <a:ext cx="1887480" cy="304920"/>
          </a:xfrm>
          <a:prstGeom prst="rect">
            <a:avLst/>
          </a:prstGeom>
          <a:noFill/>
          <a:ln w="0">
            <a:noFill/>
          </a:ln>
        </p:spPr>
        <p:txBody>
          <a:bodyPr lIns="0" rIns="0" tIns="0" bIns="0" anchor="ctr">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600" spc="-1" strike="noStrike">
                <a:solidFill>
                  <a:srgbClr val="7f7f7f"/>
                </a:solidFill>
                <a:latin typeface="Lato Heavy"/>
              </a:rPr>
              <a:t>AWARD</a:t>
            </a:r>
            <a:endParaRPr b="0" lang="en-US" sz="1600" spc="-1" strike="noStrike">
              <a:solidFill>
                <a:srgbClr val="494949"/>
              </a:solidFill>
              <a:latin typeface="Open Sans Light"/>
            </a:endParaRPr>
          </a:p>
        </p:txBody>
      </p:sp>
      <p:sp>
        <p:nvSpPr>
          <p:cNvPr id="1467" name="PlaceHolder 9"/>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RESPONSIVE  MOCKUP</a:t>
            </a:r>
            <a:endParaRPr b="0" lang="en-US" sz="3600" spc="-1" strike="noStrike">
              <a:solidFill>
                <a:srgbClr val="494949"/>
              </a:solidFill>
              <a:latin typeface="Lato Heavy"/>
            </a:endParaRPr>
          </a:p>
        </p:txBody>
      </p:sp>
      <p:sp>
        <p:nvSpPr>
          <p:cNvPr id="1468"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pic>
        <p:nvPicPr>
          <p:cNvPr id="1469" name="" descr=""/>
          <p:cNvPicPr/>
          <p:nvPr/>
        </p:nvPicPr>
        <p:blipFill>
          <a:blip r:embed="rId1"/>
          <a:stretch/>
        </p:blipFill>
        <p:spPr>
          <a:xfrm>
            <a:off x="1828800" y="2145960"/>
            <a:ext cx="1892160" cy="2849400"/>
          </a:xfrm>
          <a:prstGeom prst="rect">
            <a:avLst/>
          </a:prstGeom>
          <a:ln w="0">
            <a:noFill/>
          </a:ln>
        </p:spPr>
      </p:pic>
    </p:spTree>
  </p:cSld>
  <p:transition spd="slow">
    <p:push dir="u"/>
  </p:transition>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22" presetSubtype="8">
                                  <p:stCondLst>
                                    <p:cond delay="0"/>
                                  </p:stCondLst>
                                  <p:childTnLst>
                                    <p:set>
                                      <p:cBhvr>
                                        <p:cTn id="1236" dur="1" fill="hold">
                                          <p:stCondLst>
                                            <p:cond delay="0"/>
                                          </p:stCondLst>
                                        </p:cTn>
                                        <p:tgtEl>
                                          <p:spTgt spid="1468">
                                            <p:txEl>
                                              <p:pRg st="0" end="0"/>
                                            </p:txEl>
                                          </p:spTgt>
                                        </p:tgtEl>
                                        <p:attrNameLst>
                                          <p:attrName>style.visibility</p:attrName>
                                        </p:attrNameLst>
                                      </p:cBhvr>
                                      <p:to>
                                        <p:strVal val="visible"/>
                                      </p:to>
                                    </p:set>
                                    <p:animEffect filter="wipe(left)" transition="in">
                                      <p:cBhvr additive="repl">
                                        <p:cTn id="1237" dur="500"/>
                                        <p:tgtEl>
                                          <p:spTgt spid="1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hape 1487"/>
          <p:cNvSpPr/>
          <p:nvPr/>
        </p:nvSpPr>
        <p:spPr>
          <a:xfrm>
            <a:off x="3009960" y="3711600"/>
            <a:ext cx="3014640" cy="1285920"/>
          </a:xfrm>
          <a:prstGeom prst="roundRect">
            <a:avLst>
              <a:gd name="adj" fmla="val 21639"/>
            </a:avLst>
          </a:prstGeom>
          <a:noFill/>
          <a:ln w="28440">
            <a:solidFill>
              <a:srgbClr val="00a09c"/>
            </a:solidFill>
            <a:miter/>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1" name="Shape 1488"/>
          <p:cNvSpPr/>
          <p:nvPr/>
        </p:nvSpPr>
        <p:spPr>
          <a:xfrm>
            <a:off x="6154560" y="3711600"/>
            <a:ext cx="3015000" cy="1285920"/>
          </a:xfrm>
          <a:prstGeom prst="roundRect">
            <a:avLst>
              <a:gd name="adj" fmla="val 21639"/>
            </a:avLst>
          </a:prstGeom>
          <a:noFill/>
          <a:ln w="28440">
            <a:solidFill>
              <a:srgbClr val="00a09c"/>
            </a:solidFill>
            <a:miter/>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2" name="Shape 1489"/>
          <p:cNvSpPr/>
          <p:nvPr/>
        </p:nvSpPr>
        <p:spPr>
          <a:xfrm>
            <a:off x="3009960" y="2286000"/>
            <a:ext cx="3014640" cy="1285920"/>
          </a:xfrm>
          <a:prstGeom prst="roundRect">
            <a:avLst>
              <a:gd name="adj" fmla="val 21639"/>
            </a:avLst>
          </a:prstGeom>
          <a:noFill/>
          <a:ln w="28440">
            <a:solidFill>
              <a:srgbClr val="00a09c"/>
            </a:solidFill>
            <a:miter/>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3" name="Shape 1490"/>
          <p:cNvSpPr/>
          <p:nvPr/>
        </p:nvSpPr>
        <p:spPr>
          <a:xfrm>
            <a:off x="6154560" y="2286000"/>
            <a:ext cx="3015000" cy="1285920"/>
          </a:xfrm>
          <a:prstGeom prst="roundRect">
            <a:avLst>
              <a:gd name="adj" fmla="val 21639"/>
            </a:avLst>
          </a:prstGeom>
          <a:noFill/>
          <a:ln w="28440">
            <a:solidFill>
              <a:srgbClr val="00a09c"/>
            </a:solidFill>
            <a:miter/>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4" name="Shape 1495"/>
          <p:cNvSpPr/>
          <p:nvPr/>
        </p:nvSpPr>
        <p:spPr>
          <a:xfrm>
            <a:off x="5324400" y="2871720"/>
            <a:ext cx="722520" cy="72396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5" name="Shape 1497"/>
          <p:cNvSpPr/>
          <p:nvPr/>
        </p:nvSpPr>
        <p:spPr>
          <a:xfrm>
            <a:off x="6143760" y="2871720"/>
            <a:ext cx="722160" cy="72396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6" name="Shape 1499"/>
          <p:cNvSpPr/>
          <p:nvPr/>
        </p:nvSpPr>
        <p:spPr>
          <a:xfrm>
            <a:off x="5324400" y="3693960"/>
            <a:ext cx="722520" cy="72252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7" name="Shape 1501"/>
          <p:cNvSpPr/>
          <p:nvPr/>
        </p:nvSpPr>
        <p:spPr>
          <a:xfrm>
            <a:off x="6143760" y="3693960"/>
            <a:ext cx="722160" cy="72252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78" name="PlaceHolder 1"/>
          <p:cNvSpPr>
            <a:spLocks noGrp="1"/>
          </p:cNvSpPr>
          <p:nvPr>
            <p:ph/>
          </p:nvPr>
        </p:nvSpPr>
        <p:spPr>
          <a:xfrm>
            <a:off x="3417840" y="2750760"/>
            <a:ext cx="1889280" cy="654120"/>
          </a:xfrm>
          <a:prstGeom prst="rect">
            <a:avLst/>
          </a:prstGeom>
          <a:noFill/>
          <a:ln w="0">
            <a:noFill/>
          </a:ln>
        </p:spPr>
        <p:txBody>
          <a:bodyPr lIns="0" rIns="0" anchor="t">
            <a:normAutofit/>
          </a:bodyPr>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Kolor suum ata</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aga lorem ipsum dolar</a:t>
            </a:r>
            <a:endParaRPr b="0" lang="en-US" sz="1000" spc="-1" strike="noStrike">
              <a:solidFill>
                <a:srgbClr val="494949"/>
              </a:solidFill>
              <a:latin typeface="Open Sans Light"/>
            </a:endParaRPr>
          </a:p>
        </p:txBody>
      </p:sp>
      <p:sp>
        <p:nvSpPr>
          <p:cNvPr id="1479" name="PlaceHolder 2"/>
          <p:cNvSpPr>
            <a:spLocks noGrp="1"/>
          </p:cNvSpPr>
          <p:nvPr>
            <p:ph/>
          </p:nvPr>
        </p:nvSpPr>
        <p:spPr>
          <a:xfrm>
            <a:off x="3417480" y="2550960"/>
            <a:ext cx="2041560" cy="20016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STRENGTHS</a:t>
            </a:r>
            <a:endParaRPr b="0" lang="en-US" sz="1400" spc="-1" strike="noStrike">
              <a:solidFill>
                <a:srgbClr val="494949"/>
              </a:solidFill>
              <a:latin typeface="Open Sans Light"/>
            </a:endParaRPr>
          </a:p>
        </p:txBody>
      </p:sp>
      <p:sp>
        <p:nvSpPr>
          <p:cNvPr id="1480" name="PlaceHolder 3"/>
          <p:cNvSpPr>
            <a:spLocks noGrp="1"/>
          </p:cNvSpPr>
          <p:nvPr>
            <p:ph/>
          </p:nvPr>
        </p:nvSpPr>
        <p:spPr>
          <a:xfrm>
            <a:off x="7213680" y="2750760"/>
            <a:ext cx="1890720" cy="654120"/>
          </a:xfrm>
          <a:prstGeom prst="rect">
            <a:avLst/>
          </a:prstGeom>
          <a:noFill/>
          <a:ln w="0">
            <a:noFill/>
          </a:ln>
        </p:spPr>
        <p:txBody>
          <a:bodyPr lIns="0" rIns="0" anchor="t">
            <a:normAutofit/>
          </a:bodyPr>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Kolor suum ata</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aga lorem ipsum dolar</a:t>
            </a:r>
            <a:endParaRPr b="0" lang="en-US" sz="1000" spc="-1" strike="noStrike">
              <a:solidFill>
                <a:srgbClr val="494949"/>
              </a:solidFill>
              <a:latin typeface="Open Sans Light"/>
            </a:endParaRPr>
          </a:p>
        </p:txBody>
      </p:sp>
      <p:sp>
        <p:nvSpPr>
          <p:cNvPr id="1481" name="PlaceHolder 4"/>
          <p:cNvSpPr>
            <a:spLocks noGrp="1"/>
          </p:cNvSpPr>
          <p:nvPr>
            <p:ph/>
          </p:nvPr>
        </p:nvSpPr>
        <p:spPr>
          <a:xfrm>
            <a:off x="7213320" y="2550960"/>
            <a:ext cx="1623960" cy="20016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WEAKNESSES</a:t>
            </a:r>
            <a:endParaRPr b="0" lang="en-US" sz="1400" spc="-1" strike="noStrike">
              <a:solidFill>
                <a:srgbClr val="494949"/>
              </a:solidFill>
              <a:latin typeface="Open Sans Light"/>
            </a:endParaRPr>
          </a:p>
        </p:txBody>
      </p:sp>
      <p:sp>
        <p:nvSpPr>
          <p:cNvPr id="1482" name="PlaceHolder 5"/>
          <p:cNvSpPr>
            <a:spLocks noGrp="1"/>
          </p:cNvSpPr>
          <p:nvPr>
            <p:ph/>
          </p:nvPr>
        </p:nvSpPr>
        <p:spPr>
          <a:xfrm>
            <a:off x="3417840" y="4158720"/>
            <a:ext cx="1889280" cy="652680"/>
          </a:xfrm>
          <a:prstGeom prst="rect">
            <a:avLst/>
          </a:prstGeom>
          <a:noFill/>
          <a:ln w="0">
            <a:noFill/>
          </a:ln>
        </p:spPr>
        <p:txBody>
          <a:bodyPr lIns="0" rIns="0" anchor="t">
            <a:normAutofit/>
          </a:bodyPr>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Kolor suum ata</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aga lorem ipsum dolar</a:t>
            </a:r>
            <a:endParaRPr b="0" lang="en-US" sz="1000" spc="-1" strike="noStrike">
              <a:solidFill>
                <a:srgbClr val="494949"/>
              </a:solidFill>
              <a:latin typeface="Open Sans Light"/>
            </a:endParaRPr>
          </a:p>
        </p:txBody>
      </p:sp>
      <p:sp>
        <p:nvSpPr>
          <p:cNvPr id="1483" name="PlaceHolder 6"/>
          <p:cNvSpPr>
            <a:spLocks noGrp="1"/>
          </p:cNvSpPr>
          <p:nvPr>
            <p:ph/>
          </p:nvPr>
        </p:nvSpPr>
        <p:spPr>
          <a:xfrm>
            <a:off x="3417480" y="3957480"/>
            <a:ext cx="2041560" cy="20160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OPPORTUNITIES</a:t>
            </a:r>
            <a:endParaRPr b="0" lang="en-US" sz="1400" spc="-1" strike="noStrike">
              <a:solidFill>
                <a:srgbClr val="494949"/>
              </a:solidFill>
              <a:latin typeface="Open Sans Light"/>
            </a:endParaRPr>
          </a:p>
        </p:txBody>
      </p:sp>
      <p:sp>
        <p:nvSpPr>
          <p:cNvPr id="1484" name="PlaceHolder 7"/>
          <p:cNvSpPr>
            <a:spLocks noGrp="1"/>
          </p:cNvSpPr>
          <p:nvPr>
            <p:ph/>
          </p:nvPr>
        </p:nvSpPr>
        <p:spPr>
          <a:xfrm>
            <a:off x="7213680" y="4158720"/>
            <a:ext cx="1890720" cy="652680"/>
          </a:xfrm>
          <a:prstGeom prst="rect">
            <a:avLst/>
          </a:prstGeom>
          <a:noFill/>
          <a:ln w="0">
            <a:noFill/>
          </a:ln>
        </p:spPr>
        <p:txBody>
          <a:bodyPr lIns="0" rIns="0" anchor="t">
            <a:normAutofit/>
          </a:bodyPr>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Kolor suum ata</a:t>
            </a:r>
            <a:endParaRPr b="0" lang="en-US" sz="1000" spc="-1" strike="noStrike">
              <a:solidFill>
                <a:srgbClr val="494949"/>
              </a:solidFill>
              <a:latin typeface="Open Sans Light"/>
            </a:endParaRPr>
          </a:p>
          <a:p>
            <a:pPr marL="227160" indent="-227160">
              <a:lnSpc>
                <a:spcPct val="100000"/>
              </a:lnSpc>
              <a:buClr>
                <a:srgbClr val="a6a6a6"/>
              </a:buClr>
              <a:buFont typeface="Open Sans Ligh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aga lorem ipsum dolar</a:t>
            </a:r>
            <a:endParaRPr b="0" lang="en-US" sz="1000" spc="-1" strike="noStrike">
              <a:solidFill>
                <a:srgbClr val="494949"/>
              </a:solidFill>
              <a:latin typeface="Open Sans Light"/>
            </a:endParaRPr>
          </a:p>
        </p:txBody>
      </p:sp>
      <p:sp>
        <p:nvSpPr>
          <p:cNvPr id="1485" name="PlaceHolder 8"/>
          <p:cNvSpPr>
            <a:spLocks noGrp="1"/>
          </p:cNvSpPr>
          <p:nvPr>
            <p:ph/>
          </p:nvPr>
        </p:nvSpPr>
        <p:spPr>
          <a:xfrm>
            <a:off x="7213320" y="3957480"/>
            <a:ext cx="1623960" cy="201600"/>
          </a:xfrm>
          <a:prstGeom prst="rect">
            <a:avLst/>
          </a:prstGeom>
          <a:noFill/>
          <a:ln w="0">
            <a:noFill/>
          </a:ln>
        </p:spPr>
        <p:txBody>
          <a:bodyPr lIns="0" rIns="0" tIns="0" bIns="0" anchor="b">
            <a:norm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a6a6a6"/>
                </a:solidFill>
                <a:latin typeface="Lato Heavy"/>
              </a:rPr>
              <a:t>THREADS</a:t>
            </a:r>
            <a:endParaRPr b="0" lang="en-US" sz="1400" spc="-1" strike="noStrike">
              <a:solidFill>
                <a:srgbClr val="494949"/>
              </a:solidFill>
              <a:latin typeface="Open Sans Light"/>
            </a:endParaRPr>
          </a:p>
        </p:txBody>
      </p:sp>
      <p:sp>
        <p:nvSpPr>
          <p:cNvPr id="1486" name="Shape 62"/>
          <p:cNvSpPr/>
          <p:nvPr/>
        </p:nvSpPr>
        <p:spPr>
          <a:xfrm flipH="1">
            <a:off x="3114720" y="5560920"/>
            <a:ext cx="5943600" cy="0"/>
          </a:xfrm>
          <a:prstGeom prst="line">
            <a:avLst/>
          </a:prstGeom>
          <a:ln cap="rnd" w="9360">
            <a:solidFill>
              <a:srgbClr val="5267a5"/>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487" name="PlaceHolder 9"/>
          <p:cNvSpPr>
            <a:spLocks noGrp="1"/>
          </p:cNvSpPr>
          <p:nvPr>
            <p:ph/>
          </p:nvPr>
        </p:nvSpPr>
        <p:spPr>
          <a:xfrm>
            <a:off x="1969920" y="5796000"/>
            <a:ext cx="8280720" cy="66528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a:t>
            </a:r>
            <a:endParaRPr b="0" lang="en-US" sz="1000" spc="-1" strike="noStrike">
              <a:solidFill>
                <a:srgbClr val="494949"/>
              </a:solidFill>
              <a:latin typeface="Open Sans Light"/>
            </a:endParaRPr>
          </a:p>
        </p:txBody>
      </p:sp>
      <p:sp>
        <p:nvSpPr>
          <p:cNvPr id="1488" name="PlaceHolder 10"/>
          <p:cNvSpPr>
            <a:spLocks noGrp="1"/>
          </p:cNvSpPr>
          <p:nvPr>
            <p:ph/>
          </p:nvPr>
        </p:nvSpPr>
        <p:spPr>
          <a:xfrm>
            <a:off x="5318280" y="2873520"/>
            <a:ext cx="706320" cy="715680"/>
          </a:xfrm>
          <a:prstGeom prst="rect">
            <a:avLst/>
          </a:prstGeom>
          <a:noFill/>
          <a:ln w="0">
            <a:noFill/>
          </a:ln>
        </p:spPr>
        <p:txBody>
          <a:bodyPr lIns="0" rIns="0" anchor="ctr">
            <a:normAutofit fontScale="94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4800" spc="-1" strike="noStrike">
                <a:solidFill>
                  <a:srgbClr val="ffffff"/>
                </a:solidFill>
                <a:latin typeface="Lato Heavy"/>
              </a:rPr>
              <a:t>s</a:t>
            </a:r>
            <a:endParaRPr b="0" lang="en-US" sz="4800" spc="-1" strike="noStrike">
              <a:solidFill>
                <a:srgbClr val="494949"/>
              </a:solidFill>
              <a:latin typeface="Open Sans Light"/>
            </a:endParaRPr>
          </a:p>
        </p:txBody>
      </p:sp>
      <p:sp>
        <p:nvSpPr>
          <p:cNvPr id="1489" name="PlaceHolder 11"/>
          <p:cNvSpPr>
            <a:spLocks noGrp="1"/>
          </p:cNvSpPr>
          <p:nvPr>
            <p:ph/>
          </p:nvPr>
        </p:nvSpPr>
        <p:spPr>
          <a:xfrm>
            <a:off x="6156360" y="2873520"/>
            <a:ext cx="706320" cy="715680"/>
          </a:xfrm>
          <a:prstGeom prst="rect">
            <a:avLst/>
          </a:prstGeom>
          <a:noFill/>
          <a:ln w="0">
            <a:noFill/>
          </a:ln>
        </p:spPr>
        <p:txBody>
          <a:bodyPr lIns="0" rIns="0" anchor="ctr">
            <a:normAutofit fontScale="94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4800" spc="-1" strike="noStrike">
                <a:solidFill>
                  <a:srgbClr val="ffffff"/>
                </a:solidFill>
                <a:latin typeface="Lato Heavy"/>
              </a:rPr>
              <a:t>w</a:t>
            </a:r>
            <a:endParaRPr b="0" lang="en-US" sz="4800" spc="-1" strike="noStrike">
              <a:solidFill>
                <a:srgbClr val="494949"/>
              </a:solidFill>
              <a:latin typeface="Open Sans Light"/>
            </a:endParaRPr>
          </a:p>
        </p:txBody>
      </p:sp>
      <p:sp>
        <p:nvSpPr>
          <p:cNvPr id="1490" name="PlaceHolder 12"/>
          <p:cNvSpPr>
            <a:spLocks noGrp="1"/>
          </p:cNvSpPr>
          <p:nvPr>
            <p:ph/>
          </p:nvPr>
        </p:nvSpPr>
        <p:spPr>
          <a:xfrm>
            <a:off x="5318280" y="3710160"/>
            <a:ext cx="706320" cy="715680"/>
          </a:xfrm>
          <a:prstGeom prst="rect">
            <a:avLst/>
          </a:prstGeom>
          <a:noFill/>
          <a:ln w="0">
            <a:noFill/>
          </a:ln>
        </p:spPr>
        <p:txBody>
          <a:bodyPr lIns="0" rIns="0" anchor="ctr">
            <a:normAutofit fontScale="94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4800" spc="-1" strike="noStrike">
                <a:solidFill>
                  <a:srgbClr val="ffffff"/>
                </a:solidFill>
                <a:latin typeface="Lato Heavy"/>
              </a:rPr>
              <a:t>o</a:t>
            </a:r>
            <a:endParaRPr b="0" lang="en-US" sz="4800" spc="-1" strike="noStrike">
              <a:solidFill>
                <a:srgbClr val="494949"/>
              </a:solidFill>
              <a:latin typeface="Open Sans Light"/>
            </a:endParaRPr>
          </a:p>
        </p:txBody>
      </p:sp>
      <p:sp>
        <p:nvSpPr>
          <p:cNvPr id="1491" name="PlaceHolder 13"/>
          <p:cNvSpPr>
            <a:spLocks noGrp="1"/>
          </p:cNvSpPr>
          <p:nvPr>
            <p:ph/>
          </p:nvPr>
        </p:nvSpPr>
        <p:spPr>
          <a:xfrm>
            <a:off x="6156360" y="3710160"/>
            <a:ext cx="706320" cy="715680"/>
          </a:xfrm>
          <a:prstGeom prst="rect">
            <a:avLst/>
          </a:prstGeom>
          <a:noFill/>
          <a:ln w="0">
            <a:noFill/>
          </a:ln>
        </p:spPr>
        <p:txBody>
          <a:bodyPr lIns="0" rIns="0" anchor="ctr">
            <a:normAutofit fontScale="94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4800" spc="-1" strike="noStrike">
                <a:solidFill>
                  <a:srgbClr val="ffffff"/>
                </a:solidFill>
                <a:latin typeface="Lato Heavy"/>
              </a:rPr>
              <a:t>t</a:t>
            </a:r>
            <a:endParaRPr b="0" lang="en-US" sz="4800" spc="-1" strike="noStrike">
              <a:solidFill>
                <a:srgbClr val="494949"/>
              </a:solidFill>
              <a:latin typeface="Open Sans Light"/>
            </a:endParaRPr>
          </a:p>
        </p:txBody>
      </p:sp>
      <p:sp>
        <p:nvSpPr>
          <p:cNvPr id="1492" name="PlaceHolder 14"/>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SWOT ANALYSIS</a:t>
            </a:r>
            <a:endParaRPr b="0" lang="en-US" sz="3600" spc="-1" strike="noStrike">
              <a:solidFill>
                <a:srgbClr val="494949"/>
              </a:solidFill>
              <a:latin typeface="Lato Heavy"/>
            </a:endParaRPr>
          </a:p>
        </p:txBody>
      </p:sp>
      <p:sp>
        <p:nvSpPr>
          <p:cNvPr id="1493"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afterEffect" fill="hold" presetClass="entr" presetID="10">
                                  <p:stCondLst>
                                    <p:cond delay="0"/>
                                  </p:stCondLst>
                                  <p:childTnLst>
                                    <p:set>
                                      <p:cBhvr>
                                        <p:cTn id="1243" dur="1" fill="hold">
                                          <p:stCondLst>
                                            <p:cond delay="0"/>
                                          </p:stCondLst>
                                        </p:cTn>
                                        <p:tgtEl>
                                          <p:spTgt spid="1474"/>
                                        </p:tgtEl>
                                        <p:attrNameLst>
                                          <p:attrName>style.visibility</p:attrName>
                                        </p:attrNameLst>
                                      </p:cBhvr>
                                      <p:to>
                                        <p:strVal val="visible"/>
                                      </p:to>
                                    </p:set>
                                    <p:animEffect filter="fade" transition="in">
                                      <p:cBhvr additive="repl">
                                        <p:cTn id="1244" dur="500"/>
                                        <p:tgtEl>
                                          <p:spTgt spid="1474"/>
                                        </p:tgtEl>
                                      </p:cBhvr>
                                    </p:animEffect>
                                  </p:childTnLst>
                                </p:cTn>
                              </p:par>
                            </p:childTnLst>
                          </p:cTn>
                        </p:par>
                        <p:par>
                          <p:cTn id="1245" fill="hold">
                            <p:stCondLst>
                              <p:cond delay="500"/>
                            </p:stCondLst>
                            <p:childTnLst>
                              <p:par>
                                <p:cTn id="1246" nodeType="afterEffect" fill="hold" presetClass="entr" presetID="10">
                                  <p:stCondLst>
                                    <p:cond delay="0"/>
                                  </p:stCondLst>
                                  <p:childTnLst>
                                    <p:set>
                                      <p:cBhvr>
                                        <p:cTn id="1247" dur="1" fill="hold">
                                          <p:stCondLst>
                                            <p:cond delay="0"/>
                                          </p:stCondLst>
                                        </p:cTn>
                                        <p:tgtEl>
                                          <p:spTgt spid="1475"/>
                                        </p:tgtEl>
                                        <p:attrNameLst>
                                          <p:attrName>style.visibility</p:attrName>
                                        </p:attrNameLst>
                                      </p:cBhvr>
                                      <p:to>
                                        <p:strVal val="visible"/>
                                      </p:to>
                                    </p:set>
                                    <p:animEffect filter="fade" transition="in">
                                      <p:cBhvr additive="repl">
                                        <p:cTn id="1248" dur="500"/>
                                        <p:tgtEl>
                                          <p:spTgt spid="1475"/>
                                        </p:tgtEl>
                                      </p:cBhvr>
                                    </p:animEffect>
                                  </p:childTnLst>
                                </p:cTn>
                              </p:par>
                            </p:childTnLst>
                          </p:cTn>
                        </p:par>
                        <p:par>
                          <p:cTn id="1249" fill="hold">
                            <p:stCondLst>
                              <p:cond delay="1000"/>
                            </p:stCondLst>
                            <p:childTnLst>
                              <p:par>
                                <p:cTn id="1250" nodeType="afterEffect" fill="hold" presetClass="entr" presetID="10">
                                  <p:stCondLst>
                                    <p:cond delay="0"/>
                                  </p:stCondLst>
                                  <p:childTnLst>
                                    <p:set>
                                      <p:cBhvr>
                                        <p:cTn id="1251" dur="1" fill="hold">
                                          <p:stCondLst>
                                            <p:cond delay="0"/>
                                          </p:stCondLst>
                                        </p:cTn>
                                        <p:tgtEl>
                                          <p:spTgt spid="1476"/>
                                        </p:tgtEl>
                                        <p:attrNameLst>
                                          <p:attrName>style.visibility</p:attrName>
                                        </p:attrNameLst>
                                      </p:cBhvr>
                                      <p:to>
                                        <p:strVal val="visible"/>
                                      </p:to>
                                    </p:set>
                                    <p:animEffect filter="fade" transition="in">
                                      <p:cBhvr additive="repl">
                                        <p:cTn id="1252" dur="500"/>
                                        <p:tgtEl>
                                          <p:spTgt spid="1476"/>
                                        </p:tgtEl>
                                      </p:cBhvr>
                                    </p:animEffect>
                                  </p:childTnLst>
                                </p:cTn>
                              </p:par>
                            </p:childTnLst>
                          </p:cTn>
                        </p:par>
                        <p:par>
                          <p:cTn id="1253" fill="hold">
                            <p:stCondLst>
                              <p:cond delay="1500"/>
                            </p:stCondLst>
                            <p:childTnLst>
                              <p:par>
                                <p:cTn id="1254" nodeType="afterEffect" fill="hold" presetClass="entr" presetID="10">
                                  <p:stCondLst>
                                    <p:cond delay="0"/>
                                  </p:stCondLst>
                                  <p:childTnLst>
                                    <p:set>
                                      <p:cBhvr>
                                        <p:cTn id="1255" dur="1" fill="hold">
                                          <p:stCondLst>
                                            <p:cond delay="0"/>
                                          </p:stCondLst>
                                        </p:cTn>
                                        <p:tgtEl>
                                          <p:spTgt spid="1477"/>
                                        </p:tgtEl>
                                        <p:attrNameLst>
                                          <p:attrName>style.visibility</p:attrName>
                                        </p:attrNameLst>
                                      </p:cBhvr>
                                      <p:to>
                                        <p:strVal val="visible"/>
                                      </p:to>
                                    </p:set>
                                    <p:animEffect filter="fade" transition="in">
                                      <p:cBhvr additive="repl">
                                        <p:cTn id="1256" dur="500"/>
                                        <p:tgtEl>
                                          <p:spTgt spid="1477"/>
                                        </p:tgtEl>
                                      </p:cBhvr>
                                    </p:animEffect>
                                  </p:childTnLst>
                                </p:cTn>
                              </p:par>
                            </p:childTnLst>
                          </p:cTn>
                        </p:par>
                        <p:par>
                          <p:cTn id="1257" fill="hold">
                            <p:stCondLst>
                              <p:cond delay="2000"/>
                            </p:stCondLst>
                            <p:childTnLst>
                              <p:par>
                                <p:cTn id="1258" nodeType="afterEffect" fill="hold" presetClass="entr" presetID="18" presetSubtype="12">
                                  <p:stCondLst>
                                    <p:cond delay="0"/>
                                  </p:stCondLst>
                                  <p:childTnLst>
                                    <p:set>
                                      <p:cBhvr>
                                        <p:cTn id="1259" dur="1" fill="hold">
                                          <p:stCondLst>
                                            <p:cond delay="0"/>
                                          </p:stCondLst>
                                        </p:cTn>
                                        <p:tgtEl>
                                          <p:spTgt spid="1472"/>
                                        </p:tgtEl>
                                        <p:attrNameLst>
                                          <p:attrName>style.visibility</p:attrName>
                                        </p:attrNameLst>
                                      </p:cBhvr>
                                      <p:to>
                                        <p:strVal val="visible"/>
                                      </p:to>
                                    </p:set>
                                    <p:animEffect filter="strips(downLeft)" transition="in">
                                      <p:cBhvr additive="repl">
                                        <p:cTn id="1260" dur="500"/>
                                        <p:tgtEl>
                                          <p:spTgt spid="1472"/>
                                        </p:tgtEl>
                                      </p:cBhvr>
                                    </p:animEffect>
                                  </p:childTnLst>
                                </p:cTn>
                              </p:par>
                            </p:childTnLst>
                          </p:cTn>
                        </p:par>
                        <p:par>
                          <p:cTn id="1261" fill="hold">
                            <p:stCondLst>
                              <p:cond delay="2500"/>
                            </p:stCondLst>
                            <p:childTnLst>
                              <p:par>
                                <p:cTn id="1262" nodeType="afterEffect" fill="hold" presetClass="entr" presetID="10">
                                  <p:stCondLst>
                                    <p:cond delay="0"/>
                                  </p:stCondLst>
                                  <p:childTnLst>
                                    <p:set>
                                      <p:cBhvr>
                                        <p:cTn id="1263" dur="1" fill="hold">
                                          <p:stCondLst>
                                            <p:cond delay="0"/>
                                          </p:stCondLst>
                                        </p:cTn>
                                        <p:tgtEl>
                                          <p:spTgt spid="1479">
                                            <p:txEl>
                                              <p:pRg st="0" end="0"/>
                                            </p:txEl>
                                          </p:spTgt>
                                        </p:tgtEl>
                                        <p:attrNameLst>
                                          <p:attrName>style.visibility</p:attrName>
                                        </p:attrNameLst>
                                      </p:cBhvr>
                                      <p:to>
                                        <p:strVal val="visible"/>
                                      </p:to>
                                    </p:set>
                                    <p:animEffect filter="fade" transition="in">
                                      <p:cBhvr additive="repl">
                                        <p:cTn id="1264" dur="500"/>
                                        <p:tgtEl>
                                          <p:spTgt spid="1479">
                                            <p:txEl>
                                              <p:pRg st="0" end="0"/>
                                            </p:txEl>
                                          </p:spTgt>
                                        </p:tgtEl>
                                      </p:cBhvr>
                                    </p:animEffect>
                                  </p:childTnLst>
                                </p:cTn>
                              </p:par>
                              <p:par>
                                <p:cTn id="1265" nodeType="withEffect" fill="hold" presetClass="entr" presetID="10">
                                  <p:stCondLst>
                                    <p:cond delay="0"/>
                                  </p:stCondLst>
                                  <p:childTnLst>
                                    <p:set>
                                      <p:cBhvr>
                                        <p:cTn id="1266" dur="1" fill="hold">
                                          <p:stCondLst>
                                            <p:cond delay="0"/>
                                          </p:stCondLst>
                                        </p:cTn>
                                        <p:tgtEl>
                                          <p:spTgt spid="1478">
                                            <p:txEl>
                                              <p:pRg st="0" end="0"/>
                                            </p:txEl>
                                          </p:spTgt>
                                        </p:tgtEl>
                                        <p:attrNameLst>
                                          <p:attrName>style.visibility</p:attrName>
                                        </p:attrNameLst>
                                      </p:cBhvr>
                                      <p:to>
                                        <p:strVal val="visible"/>
                                      </p:to>
                                    </p:set>
                                    <p:animEffect filter="fade" transition="in">
                                      <p:cBhvr additive="repl">
                                        <p:cTn id="1267" dur="500"/>
                                        <p:tgtEl>
                                          <p:spTgt spid="1478">
                                            <p:txEl>
                                              <p:pRg st="0" end="0"/>
                                            </p:txEl>
                                          </p:spTgt>
                                        </p:tgtEl>
                                      </p:cBhvr>
                                    </p:animEffect>
                                  </p:childTnLst>
                                </p:cTn>
                              </p:par>
                              <p:par>
                                <p:cTn id="1268" nodeType="withEffect" fill="hold" presetClass="entr" presetID="10">
                                  <p:stCondLst>
                                    <p:cond delay="0"/>
                                  </p:stCondLst>
                                  <p:childTnLst>
                                    <p:set>
                                      <p:cBhvr>
                                        <p:cTn id="1269" dur="1" fill="hold">
                                          <p:stCondLst>
                                            <p:cond delay="0"/>
                                          </p:stCondLst>
                                        </p:cTn>
                                        <p:tgtEl>
                                          <p:spTgt spid="1478">
                                            <p:txEl>
                                              <p:pRg st="1" end="1"/>
                                            </p:txEl>
                                          </p:spTgt>
                                        </p:tgtEl>
                                        <p:attrNameLst>
                                          <p:attrName>style.visibility</p:attrName>
                                        </p:attrNameLst>
                                      </p:cBhvr>
                                      <p:to>
                                        <p:strVal val="visible"/>
                                      </p:to>
                                    </p:set>
                                    <p:animEffect filter="fade" transition="in">
                                      <p:cBhvr additive="repl">
                                        <p:cTn id="1270" dur="500"/>
                                        <p:tgtEl>
                                          <p:spTgt spid="1478">
                                            <p:txEl>
                                              <p:pRg st="1" end="1"/>
                                            </p:txEl>
                                          </p:spTgt>
                                        </p:tgtEl>
                                      </p:cBhvr>
                                    </p:animEffect>
                                  </p:childTnLst>
                                </p:cTn>
                              </p:par>
                              <p:par>
                                <p:cTn id="1271" nodeType="withEffect" fill="hold" presetClass="entr" presetID="10">
                                  <p:stCondLst>
                                    <p:cond delay="0"/>
                                  </p:stCondLst>
                                  <p:childTnLst>
                                    <p:set>
                                      <p:cBhvr>
                                        <p:cTn id="1272" dur="1" fill="hold">
                                          <p:stCondLst>
                                            <p:cond delay="0"/>
                                          </p:stCondLst>
                                        </p:cTn>
                                        <p:tgtEl>
                                          <p:spTgt spid="1478">
                                            <p:txEl>
                                              <p:pRg st="2" end="2"/>
                                            </p:txEl>
                                          </p:spTgt>
                                        </p:tgtEl>
                                        <p:attrNameLst>
                                          <p:attrName>style.visibility</p:attrName>
                                        </p:attrNameLst>
                                      </p:cBhvr>
                                      <p:to>
                                        <p:strVal val="visible"/>
                                      </p:to>
                                    </p:set>
                                    <p:animEffect filter="fade" transition="in">
                                      <p:cBhvr additive="repl">
                                        <p:cTn id="1273" dur="500"/>
                                        <p:tgtEl>
                                          <p:spTgt spid="1478">
                                            <p:txEl>
                                              <p:pRg st="2" end="2"/>
                                            </p:txEl>
                                          </p:spTgt>
                                        </p:tgtEl>
                                      </p:cBhvr>
                                    </p:animEffect>
                                  </p:childTnLst>
                                </p:cTn>
                              </p:par>
                            </p:childTnLst>
                          </p:cTn>
                        </p:par>
                        <p:par>
                          <p:cTn id="1274" fill="hold">
                            <p:stCondLst>
                              <p:cond delay="3000"/>
                            </p:stCondLst>
                            <p:childTnLst>
                              <p:par>
                                <p:cTn id="1275" nodeType="afterEffect" fill="hold" presetClass="entr" presetID="18" presetSubtype="3">
                                  <p:stCondLst>
                                    <p:cond delay="0"/>
                                  </p:stCondLst>
                                  <p:childTnLst>
                                    <p:set>
                                      <p:cBhvr>
                                        <p:cTn id="1276" dur="1" fill="hold">
                                          <p:stCondLst>
                                            <p:cond delay="0"/>
                                          </p:stCondLst>
                                        </p:cTn>
                                        <p:tgtEl>
                                          <p:spTgt spid="1473"/>
                                        </p:tgtEl>
                                        <p:attrNameLst>
                                          <p:attrName>style.visibility</p:attrName>
                                        </p:attrNameLst>
                                      </p:cBhvr>
                                      <p:to>
                                        <p:strVal val="visible"/>
                                      </p:to>
                                    </p:set>
                                    <p:animEffect filter="strips(upRight)" transition="in">
                                      <p:cBhvr additive="repl">
                                        <p:cTn id="1277" dur="500"/>
                                        <p:tgtEl>
                                          <p:spTgt spid="1473"/>
                                        </p:tgtEl>
                                      </p:cBhvr>
                                    </p:animEffect>
                                  </p:childTnLst>
                                </p:cTn>
                              </p:par>
                            </p:childTnLst>
                          </p:cTn>
                        </p:par>
                        <p:par>
                          <p:cTn id="1278" fill="hold">
                            <p:stCondLst>
                              <p:cond delay="3500"/>
                            </p:stCondLst>
                            <p:childTnLst>
                              <p:par>
                                <p:cTn id="1279" nodeType="afterEffect" fill="hold" presetClass="entr" presetID="10">
                                  <p:stCondLst>
                                    <p:cond delay="0"/>
                                  </p:stCondLst>
                                  <p:childTnLst>
                                    <p:set>
                                      <p:cBhvr>
                                        <p:cTn id="1280" dur="1" fill="hold">
                                          <p:stCondLst>
                                            <p:cond delay="0"/>
                                          </p:stCondLst>
                                        </p:cTn>
                                        <p:tgtEl>
                                          <p:spTgt spid="1481">
                                            <p:txEl>
                                              <p:pRg st="0" end="0"/>
                                            </p:txEl>
                                          </p:spTgt>
                                        </p:tgtEl>
                                        <p:attrNameLst>
                                          <p:attrName>style.visibility</p:attrName>
                                        </p:attrNameLst>
                                      </p:cBhvr>
                                      <p:to>
                                        <p:strVal val="visible"/>
                                      </p:to>
                                    </p:set>
                                    <p:animEffect filter="fade" transition="in">
                                      <p:cBhvr additive="repl">
                                        <p:cTn id="1281" dur="500"/>
                                        <p:tgtEl>
                                          <p:spTgt spid="1481">
                                            <p:txEl>
                                              <p:pRg st="0" end="0"/>
                                            </p:txEl>
                                          </p:spTgt>
                                        </p:tgtEl>
                                      </p:cBhvr>
                                    </p:animEffect>
                                  </p:childTnLst>
                                </p:cTn>
                              </p:par>
                              <p:par>
                                <p:cTn id="1282" nodeType="withEffect" fill="hold" presetClass="entr" presetID="10">
                                  <p:stCondLst>
                                    <p:cond delay="0"/>
                                  </p:stCondLst>
                                  <p:childTnLst>
                                    <p:set>
                                      <p:cBhvr>
                                        <p:cTn id="1283" dur="1" fill="hold">
                                          <p:stCondLst>
                                            <p:cond delay="0"/>
                                          </p:stCondLst>
                                        </p:cTn>
                                        <p:tgtEl>
                                          <p:spTgt spid="1480">
                                            <p:txEl>
                                              <p:pRg st="0" end="0"/>
                                            </p:txEl>
                                          </p:spTgt>
                                        </p:tgtEl>
                                        <p:attrNameLst>
                                          <p:attrName>style.visibility</p:attrName>
                                        </p:attrNameLst>
                                      </p:cBhvr>
                                      <p:to>
                                        <p:strVal val="visible"/>
                                      </p:to>
                                    </p:set>
                                    <p:animEffect filter="fade" transition="in">
                                      <p:cBhvr additive="repl">
                                        <p:cTn id="1284" dur="500"/>
                                        <p:tgtEl>
                                          <p:spTgt spid="1480">
                                            <p:txEl>
                                              <p:pRg st="0" end="0"/>
                                            </p:txEl>
                                          </p:spTgt>
                                        </p:tgtEl>
                                      </p:cBhvr>
                                    </p:animEffect>
                                  </p:childTnLst>
                                </p:cTn>
                              </p:par>
                              <p:par>
                                <p:cTn id="1285" nodeType="withEffect" fill="hold" presetClass="entr" presetID="10">
                                  <p:stCondLst>
                                    <p:cond delay="0"/>
                                  </p:stCondLst>
                                  <p:childTnLst>
                                    <p:set>
                                      <p:cBhvr>
                                        <p:cTn id="1286" dur="1" fill="hold">
                                          <p:stCondLst>
                                            <p:cond delay="0"/>
                                          </p:stCondLst>
                                        </p:cTn>
                                        <p:tgtEl>
                                          <p:spTgt spid="1480">
                                            <p:txEl>
                                              <p:pRg st="1" end="1"/>
                                            </p:txEl>
                                          </p:spTgt>
                                        </p:tgtEl>
                                        <p:attrNameLst>
                                          <p:attrName>style.visibility</p:attrName>
                                        </p:attrNameLst>
                                      </p:cBhvr>
                                      <p:to>
                                        <p:strVal val="visible"/>
                                      </p:to>
                                    </p:set>
                                    <p:animEffect filter="fade" transition="in">
                                      <p:cBhvr additive="repl">
                                        <p:cTn id="1287" dur="500"/>
                                        <p:tgtEl>
                                          <p:spTgt spid="1480">
                                            <p:txEl>
                                              <p:pRg st="1" end="1"/>
                                            </p:txEl>
                                          </p:spTgt>
                                        </p:tgtEl>
                                      </p:cBhvr>
                                    </p:animEffect>
                                  </p:childTnLst>
                                </p:cTn>
                              </p:par>
                              <p:par>
                                <p:cTn id="1288" nodeType="withEffect" fill="hold" presetClass="entr" presetID="10">
                                  <p:stCondLst>
                                    <p:cond delay="0"/>
                                  </p:stCondLst>
                                  <p:childTnLst>
                                    <p:set>
                                      <p:cBhvr>
                                        <p:cTn id="1289" dur="1" fill="hold">
                                          <p:stCondLst>
                                            <p:cond delay="0"/>
                                          </p:stCondLst>
                                        </p:cTn>
                                        <p:tgtEl>
                                          <p:spTgt spid="1480">
                                            <p:txEl>
                                              <p:pRg st="2" end="2"/>
                                            </p:txEl>
                                          </p:spTgt>
                                        </p:tgtEl>
                                        <p:attrNameLst>
                                          <p:attrName>style.visibility</p:attrName>
                                        </p:attrNameLst>
                                      </p:cBhvr>
                                      <p:to>
                                        <p:strVal val="visible"/>
                                      </p:to>
                                    </p:set>
                                    <p:animEffect filter="fade" transition="in">
                                      <p:cBhvr additive="repl">
                                        <p:cTn id="1290" dur="500"/>
                                        <p:tgtEl>
                                          <p:spTgt spid="1480">
                                            <p:txEl>
                                              <p:pRg st="2" end="2"/>
                                            </p:txEl>
                                          </p:spTgt>
                                        </p:tgtEl>
                                      </p:cBhvr>
                                    </p:animEffect>
                                  </p:childTnLst>
                                </p:cTn>
                              </p:par>
                            </p:childTnLst>
                          </p:cTn>
                        </p:par>
                        <p:par>
                          <p:cTn id="1291" fill="hold">
                            <p:stCondLst>
                              <p:cond delay="4000"/>
                            </p:stCondLst>
                            <p:childTnLst>
                              <p:par>
                                <p:cTn id="1292" nodeType="afterEffect" fill="hold" presetClass="entr" presetID="18" presetSubtype="12">
                                  <p:stCondLst>
                                    <p:cond delay="0"/>
                                  </p:stCondLst>
                                  <p:childTnLst>
                                    <p:set>
                                      <p:cBhvr>
                                        <p:cTn id="1293" dur="1" fill="hold">
                                          <p:stCondLst>
                                            <p:cond delay="0"/>
                                          </p:stCondLst>
                                        </p:cTn>
                                        <p:tgtEl>
                                          <p:spTgt spid="1470"/>
                                        </p:tgtEl>
                                        <p:attrNameLst>
                                          <p:attrName>style.visibility</p:attrName>
                                        </p:attrNameLst>
                                      </p:cBhvr>
                                      <p:to>
                                        <p:strVal val="visible"/>
                                      </p:to>
                                    </p:set>
                                    <p:animEffect filter="strips(downLeft)" transition="in">
                                      <p:cBhvr additive="repl">
                                        <p:cTn id="1294" dur="500"/>
                                        <p:tgtEl>
                                          <p:spTgt spid="1470"/>
                                        </p:tgtEl>
                                      </p:cBhvr>
                                    </p:animEffect>
                                  </p:childTnLst>
                                </p:cTn>
                              </p:par>
                            </p:childTnLst>
                          </p:cTn>
                        </p:par>
                        <p:par>
                          <p:cTn id="1295" fill="hold">
                            <p:stCondLst>
                              <p:cond delay="4500"/>
                            </p:stCondLst>
                            <p:childTnLst>
                              <p:par>
                                <p:cTn id="1296" nodeType="afterEffect" fill="hold" presetClass="entr" presetID="10">
                                  <p:stCondLst>
                                    <p:cond delay="0"/>
                                  </p:stCondLst>
                                  <p:childTnLst>
                                    <p:set>
                                      <p:cBhvr>
                                        <p:cTn id="1297" dur="1" fill="hold">
                                          <p:stCondLst>
                                            <p:cond delay="0"/>
                                          </p:stCondLst>
                                        </p:cTn>
                                        <p:tgtEl>
                                          <p:spTgt spid="1483">
                                            <p:txEl>
                                              <p:pRg st="0" end="0"/>
                                            </p:txEl>
                                          </p:spTgt>
                                        </p:tgtEl>
                                        <p:attrNameLst>
                                          <p:attrName>style.visibility</p:attrName>
                                        </p:attrNameLst>
                                      </p:cBhvr>
                                      <p:to>
                                        <p:strVal val="visible"/>
                                      </p:to>
                                    </p:set>
                                    <p:animEffect filter="fade" transition="in">
                                      <p:cBhvr additive="repl">
                                        <p:cTn id="1298" dur="500"/>
                                        <p:tgtEl>
                                          <p:spTgt spid="1483">
                                            <p:txEl>
                                              <p:pRg st="0" end="0"/>
                                            </p:txEl>
                                          </p:spTgt>
                                        </p:tgtEl>
                                      </p:cBhvr>
                                    </p:animEffect>
                                  </p:childTnLst>
                                </p:cTn>
                              </p:par>
                              <p:par>
                                <p:cTn id="1299" nodeType="withEffect" fill="hold" presetClass="entr" presetID="10">
                                  <p:stCondLst>
                                    <p:cond delay="0"/>
                                  </p:stCondLst>
                                  <p:childTnLst>
                                    <p:set>
                                      <p:cBhvr>
                                        <p:cTn id="1300" dur="1" fill="hold">
                                          <p:stCondLst>
                                            <p:cond delay="0"/>
                                          </p:stCondLst>
                                        </p:cTn>
                                        <p:tgtEl>
                                          <p:spTgt spid="1482">
                                            <p:txEl>
                                              <p:pRg st="0" end="0"/>
                                            </p:txEl>
                                          </p:spTgt>
                                        </p:tgtEl>
                                        <p:attrNameLst>
                                          <p:attrName>style.visibility</p:attrName>
                                        </p:attrNameLst>
                                      </p:cBhvr>
                                      <p:to>
                                        <p:strVal val="visible"/>
                                      </p:to>
                                    </p:set>
                                    <p:animEffect filter="fade" transition="in">
                                      <p:cBhvr additive="repl">
                                        <p:cTn id="1301" dur="500"/>
                                        <p:tgtEl>
                                          <p:spTgt spid="1482">
                                            <p:txEl>
                                              <p:pRg st="0" end="0"/>
                                            </p:txEl>
                                          </p:spTgt>
                                        </p:tgtEl>
                                      </p:cBhvr>
                                    </p:animEffect>
                                  </p:childTnLst>
                                </p:cTn>
                              </p:par>
                              <p:par>
                                <p:cTn id="1302" nodeType="withEffect" fill="hold" presetClass="entr" presetID="10">
                                  <p:stCondLst>
                                    <p:cond delay="0"/>
                                  </p:stCondLst>
                                  <p:childTnLst>
                                    <p:set>
                                      <p:cBhvr>
                                        <p:cTn id="1303" dur="1" fill="hold">
                                          <p:stCondLst>
                                            <p:cond delay="0"/>
                                          </p:stCondLst>
                                        </p:cTn>
                                        <p:tgtEl>
                                          <p:spTgt spid="1482">
                                            <p:txEl>
                                              <p:pRg st="1" end="1"/>
                                            </p:txEl>
                                          </p:spTgt>
                                        </p:tgtEl>
                                        <p:attrNameLst>
                                          <p:attrName>style.visibility</p:attrName>
                                        </p:attrNameLst>
                                      </p:cBhvr>
                                      <p:to>
                                        <p:strVal val="visible"/>
                                      </p:to>
                                    </p:set>
                                    <p:animEffect filter="fade" transition="in">
                                      <p:cBhvr additive="repl">
                                        <p:cTn id="1304" dur="500"/>
                                        <p:tgtEl>
                                          <p:spTgt spid="1482">
                                            <p:txEl>
                                              <p:pRg st="1" end="1"/>
                                            </p:txEl>
                                          </p:spTgt>
                                        </p:tgtEl>
                                      </p:cBhvr>
                                    </p:animEffect>
                                  </p:childTnLst>
                                </p:cTn>
                              </p:par>
                              <p:par>
                                <p:cTn id="1305" nodeType="withEffect" fill="hold" presetClass="entr" presetID="10">
                                  <p:stCondLst>
                                    <p:cond delay="0"/>
                                  </p:stCondLst>
                                  <p:childTnLst>
                                    <p:set>
                                      <p:cBhvr>
                                        <p:cTn id="1306" dur="1" fill="hold">
                                          <p:stCondLst>
                                            <p:cond delay="0"/>
                                          </p:stCondLst>
                                        </p:cTn>
                                        <p:tgtEl>
                                          <p:spTgt spid="1482">
                                            <p:txEl>
                                              <p:pRg st="2" end="2"/>
                                            </p:txEl>
                                          </p:spTgt>
                                        </p:tgtEl>
                                        <p:attrNameLst>
                                          <p:attrName>style.visibility</p:attrName>
                                        </p:attrNameLst>
                                      </p:cBhvr>
                                      <p:to>
                                        <p:strVal val="visible"/>
                                      </p:to>
                                    </p:set>
                                    <p:animEffect filter="fade" transition="in">
                                      <p:cBhvr additive="repl">
                                        <p:cTn id="1307" dur="500"/>
                                        <p:tgtEl>
                                          <p:spTgt spid="1482">
                                            <p:txEl>
                                              <p:pRg st="2" end="2"/>
                                            </p:txEl>
                                          </p:spTgt>
                                        </p:tgtEl>
                                      </p:cBhvr>
                                    </p:animEffect>
                                  </p:childTnLst>
                                </p:cTn>
                              </p:par>
                            </p:childTnLst>
                          </p:cTn>
                        </p:par>
                        <p:par>
                          <p:cTn id="1308" fill="hold">
                            <p:stCondLst>
                              <p:cond delay="5000"/>
                            </p:stCondLst>
                            <p:childTnLst>
                              <p:par>
                                <p:cTn id="1309" nodeType="afterEffect" fill="hold" presetClass="entr" presetID="18" presetSubtype="6">
                                  <p:stCondLst>
                                    <p:cond delay="0"/>
                                  </p:stCondLst>
                                  <p:childTnLst>
                                    <p:set>
                                      <p:cBhvr>
                                        <p:cTn id="1310" dur="1" fill="hold">
                                          <p:stCondLst>
                                            <p:cond delay="0"/>
                                          </p:stCondLst>
                                        </p:cTn>
                                        <p:tgtEl>
                                          <p:spTgt spid="1471"/>
                                        </p:tgtEl>
                                        <p:attrNameLst>
                                          <p:attrName>style.visibility</p:attrName>
                                        </p:attrNameLst>
                                      </p:cBhvr>
                                      <p:to>
                                        <p:strVal val="visible"/>
                                      </p:to>
                                    </p:set>
                                    <p:animEffect filter="strips(downRight)" transition="in">
                                      <p:cBhvr additive="repl">
                                        <p:cTn id="1311" dur="500"/>
                                        <p:tgtEl>
                                          <p:spTgt spid="1471"/>
                                        </p:tgtEl>
                                      </p:cBhvr>
                                    </p:animEffect>
                                  </p:childTnLst>
                                </p:cTn>
                              </p:par>
                            </p:childTnLst>
                          </p:cTn>
                        </p:par>
                        <p:par>
                          <p:cTn id="1312" fill="hold">
                            <p:stCondLst>
                              <p:cond delay="5500"/>
                            </p:stCondLst>
                            <p:childTnLst>
                              <p:par>
                                <p:cTn id="1313" nodeType="afterEffect" fill="hold" presetClass="entr" presetID="10">
                                  <p:stCondLst>
                                    <p:cond delay="0"/>
                                  </p:stCondLst>
                                  <p:childTnLst>
                                    <p:set>
                                      <p:cBhvr>
                                        <p:cTn id="1314"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315" dur="500"/>
                                        <p:tgtEl>
                                          <p:spTgt spid="1485">
                                            <p:txEl>
                                              <p:pRg st="0" end="0"/>
                                            </p:txEl>
                                          </p:spTgt>
                                        </p:tgtEl>
                                      </p:cBhvr>
                                    </p:animEffect>
                                  </p:childTnLst>
                                </p:cTn>
                              </p:par>
                              <p:par>
                                <p:cTn id="1316" nodeType="withEffect" fill="hold" presetClass="entr" presetID="10">
                                  <p:stCondLst>
                                    <p:cond delay="0"/>
                                  </p:stCondLst>
                                  <p:childTnLst>
                                    <p:set>
                                      <p:cBhvr>
                                        <p:cTn id="1317" dur="1" fill="hold">
                                          <p:stCondLst>
                                            <p:cond delay="0"/>
                                          </p:stCondLst>
                                        </p:cTn>
                                        <p:tgtEl>
                                          <p:spTgt spid="1484">
                                            <p:txEl>
                                              <p:pRg st="0" end="0"/>
                                            </p:txEl>
                                          </p:spTgt>
                                        </p:tgtEl>
                                        <p:attrNameLst>
                                          <p:attrName>style.visibility</p:attrName>
                                        </p:attrNameLst>
                                      </p:cBhvr>
                                      <p:to>
                                        <p:strVal val="visible"/>
                                      </p:to>
                                    </p:set>
                                    <p:animEffect filter="fade" transition="in">
                                      <p:cBhvr additive="repl">
                                        <p:cTn id="1318" dur="500"/>
                                        <p:tgtEl>
                                          <p:spTgt spid="1484">
                                            <p:txEl>
                                              <p:pRg st="0" end="0"/>
                                            </p:txEl>
                                          </p:spTgt>
                                        </p:tgtEl>
                                      </p:cBhvr>
                                    </p:animEffect>
                                  </p:childTnLst>
                                </p:cTn>
                              </p:par>
                              <p:par>
                                <p:cTn id="1319" nodeType="withEffect" fill="hold" presetClass="entr" presetID="10">
                                  <p:stCondLst>
                                    <p:cond delay="0"/>
                                  </p:stCondLst>
                                  <p:childTnLst>
                                    <p:set>
                                      <p:cBhvr>
                                        <p:cTn id="1320" dur="1" fill="hold">
                                          <p:stCondLst>
                                            <p:cond delay="0"/>
                                          </p:stCondLst>
                                        </p:cTn>
                                        <p:tgtEl>
                                          <p:spTgt spid="1484">
                                            <p:txEl>
                                              <p:pRg st="1" end="1"/>
                                            </p:txEl>
                                          </p:spTgt>
                                        </p:tgtEl>
                                        <p:attrNameLst>
                                          <p:attrName>style.visibility</p:attrName>
                                        </p:attrNameLst>
                                      </p:cBhvr>
                                      <p:to>
                                        <p:strVal val="visible"/>
                                      </p:to>
                                    </p:set>
                                    <p:animEffect filter="fade" transition="in">
                                      <p:cBhvr additive="repl">
                                        <p:cTn id="1321" dur="500"/>
                                        <p:tgtEl>
                                          <p:spTgt spid="1484">
                                            <p:txEl>
                                              <p:pRg st="1" end="1"/>
                                            </p:txEl>
                                          </p:spTgt>
                                        </p:tgtEl>
                                      </p:cBhvr>
                                    </p:animEffect>
                                  </p:childTnLst>
                                </p:cTn>
                              </p:par>
                              <p:par>
                                <p:cTn id="1322" nodeType="withEffect" fill="hold" presetClass="entr" presetID="10">
                                  <p:stCondLst>
                                    <p:cond delay="0"/>
                                  </p:stCondLst>
                                  <p:childTnLst>
                                    <p:set>
                                      <p:cBhvr>
                                        <p:cTn id="1323" dur="1" fill="hold">
                                          <p:stCondLst>
                                            <p:cond delay="0"/>
                                          </p:stCondLst>
                                        </p:cTn>
                                        <p:tgtEl>
                                          <p:spTgt spid="1484">
                                            <p:txEl>
                                              <p:pRg st="2" end="2"/>
                                            </p:txEl>
                                          </p:spTgt>
                                        </p:tgtEl>
                                        <p:attrNameLst>
                                          <p:attrName>style.visibility</p:attrName>
                                        </p:attrNameLst>
                                      </p:cBhvr>
                                      <p:to>
                                        <p:strVal val="visible"/>
                                      </p:to>
                                    </p:set>
                                    <p:animEffect filter="fade" transition="in">
                                      <p:cBhvr additive="repl">
                                        <p:cTn id="1324" dur="500"/>
                                        <p:tgtEl>
                                          <p:spTgt spid="1484">
                                            <p:txEl>
                                              <p:pRg st="2" end="2"/>
                                            </p:txEl>
                                          </p:spTgt>
                                        </p:tgtEl>
                                      </p:cBhvr>
                                    </p:animEffect>
                                  </p:childTnLst>
                                </p:cTn>
                              </p:par>
                            </p:childTnLst>
                          </p:cTn>
                        </p:par>
                        <p:par>
                          <p:cTn id="1325" fill="hold">
                            <p:stCondLst>
                              <p:cond delay="6000"/>
                            </p:stCondLst>
                            <p:childTnLst>
                              <p:par>
                                <p:cTn id="1326" nodeType="afterEffect" fill="hold" presetClass="entr" presetID="10">
                                  <p:stCondLst>
                                    <p:cond delay="0"/>
                                  </p:stCondLst>
                                  <p:childTnLst>
                                    <p:set>
                                      <p:cBhvr>
                                        <p:cTn id="1327" dur="1" fill="hold">
                                          <p:stCondLst>
                                            <p:cond delay="0"/>
                                          </p:stCondLst>
                                        </p:cTn>
                                        <p:tgtEl>
                                          <p:spTgt spid="1486"/>
                                        </p:tgtEl>
                                        <p:attrNameLst>
                                          <p:attrName>style.visibility</p:attrName>
                                        </p:attrNameLst>
                                      </p:cBhvr>
                                      <p:to>
                                        <p:strVal val="visible"/>
                                      </p:to>
                                    </p:set>
                                    <p:animEffect filter="fade" transition="in">
                                      <p:cBhvr additive="repl">
                                        <p:cTn id="1328" dur="500"/>
                                        <p:tgtEl>
                                          <p:spTgt spid="1486"/>
                                        </p:tgtEl>
                                      </p:cBhvr>
                                    </p:animEffect>
                                  </p:childTnLst>
                                </p:cTn>
                              </p:par>
                            </p:childTnLst>
                          </p:cTn>
                        </p:par>
                        <p:par>
                          <p:cTn id="1329" fill="hold">
                            <p:stCondLst>
                              <p:cond delay="6500"/>
                            </p:stCondLst>
                            <p:childTnLst>
                              <p:par>
                                <p:cTn id="1330" nodeType="afterEffect" fill="hold" presetClass="entr" presetID="22" presetSubtype="1">
                                  <p:stCondLst>
                                    <p:cond delay="0"/>
                                  </p:stCondLst>
                                  <p:childTnLst>
                                    <p:set>
                                      <p:cBhvr>
                                        <p:cTn id="1331" dur="1" fill="hold">
                                          <p:stCondLst>
                                            <p:cond delay="0"/>
                                          </p:stCondLst>
                                        </p:cTn>
                                        <p:tgtEl>
                                          <p:spTgt spid="1487">
                                            <p:txEl>
                                              <p:pRg st="0" end="0"/>
                                            </p:txEl>
                                          </p:spTgt>
                                        </p:tgtEl>
                                        <p:attrNameLst>
                                          <p:attrName>style.visibility</p:attrName>
                                        </p:attrNameLst>
                                      </p:cBhvr>
                                      <p:to>
                                        <p:strVal val="visible"/>
                                      </p:to>
                                    </p:set>
                                    <p:animEffect filter="wipe(up)" transition="in">
                                      <p:cBhvr additive="repl">
                                        <p:cTn id="1332" dur="500"/>
                                        <p:tgtEl>
                                          <p:spTgt spid="1487">
                                            <p:txEl>
                                              <p:pRg st="0" end="0"/>
                                            </p:txEl>
                                          </p:spTgt>
                                        </p:tgtEl>
                                      </p:cBhvr>
                                    </p:animEffect>
                                  </p:childTnLst>
                                </p:cTn>
                              </p:par>
                            </p:childTnLst>
                          </p:cTn>
                        </p:par>
                        <p:par>
                          <p:cTn id="1333" fill="hold">
                            <p:stCondLst>
                              <p:cond delay="7000"/>
                            </p:stCondLst>
                            <p:childTnLst>
                              <p:par>
                                <p:cTn id="1334" nodeType="afterEffect" fill="hold" presetClass="entr" presetID="22" presetSubtype="8">
                                  <p:stCondLst>
                                    <p:cond delay="0"/>
                                  </p:stCondLst>
                                  <p:childTnLst>
                                    <p:set>
                                      <p:cBhvr>
                                        <p:cTn id="1335" dur="1" fill="hold">
                                          <p:stCondLst>
                                            <p:cond delay="0"/>
                                          </p:stCondLst>
                                        </p:cTn>
                                        <p:tgtEl>
                                          <p:spTgt spid="1493">
                                            <p:txEl>
                                              <p:pRg st="0" end="0"/>
                                            </p:txEl>
                                          </p:spTgt>
                                        </p:tgtEl>
                                        <p:attrNameLst>
                                          <p:attrName>style.visibility</p:attrName>
                                        </p:attrNameLst>
                                      </p:cBhvr>
                                      <p:to>
                                        <p:strVal val="visible"/>
                                      </p:to>
                                    </p:set>
                                    <p:animEffect filter="wipe(left)" transition="in">
                                      <p:cBhvr additive="repl">
                                        <p:cTn id="1336" dur="500"/>
                                        <p:tgtEl>
                                          <p:spTgt spid="14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PROJECTS UNDER WORK</a:t>
            </a:r>
            <a:endParaRPr b="0" lang="en-US" sz="3600" spc="-1" strike="noStrike">
              <a:solidFill>
                <a:srgbClr val="494949"/>
              </a:solidFill>
              <a:latin typeface="Lato Heavy"/>
            </a:endParaRPr>
          </a:p>
        </p:txBody>
      </p:sp>
      <p:sp>
        <p:nvSpPr>
          <p:cNvPr id="1495" name="PlaceHolder 2"/>
          <p:cNvSpPr>
            <a:spLocks noGrp="1"/>
          </p:cNvSpPr>
          <p:nvPr>
            <p:ph/>
          </p:nvPr>
        </p:nvSpPr>
        <p:spPr>
          <a:xfrm>
            <a:off x="1708200" y="4856040"/>
            <a:ext cx="1890720" cy="254160"/>
          </a:xfrm>
          <a:prstGeom prst="rect">
            <a:avLst/>
          </a:prstGeom>
          <a:noFill/>
          <a:ln w="0">
            <a:noFill/>
          </a:ln>
        </p:spPr>
        <p:txBody>
          <a:bodyPr lIns="0" rIns="0" anchor="ctr">
            <a:normAutofit fontScale="9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494949"/>
                </a:solidFill>
                <a:latin typeface="Lato"/>
              </a:rPr>
              <a:t>70% working progress</a:t>
            </a:r>
            <a:endParaRPr b="0" lang="en-US" sz="1200" spc="-1" strike="noStrike">
              <a:solidFill>
                <a:srgbClr val="494949"/>
              </a:solidFill>
              <a:latin typeface="Open Sans Light"/>
            </a:endParaRPr>
          </a:p>
        </p:txBody>
      </p:sp>
      <p:sp>
        <p:nvSpPr>
          <p:cNvPr id="1496" name="PlaceHolder 3"/>
          <p:cNvSpPr>
            <a:spLocks noGrp="1"/>
          </p:cNvSpPr>
          <p:nvPr>
            <p:ph/>
          </p:nvPr>
        </p:nvSpPr>
        <p:spPr>
          <a:xfrm>
            <a:off x="4000320" y="4856040"/>
            <a:ext cx="1888920" cy="254160"/>
          </a:xfrm>
          <a:prstGeom prst="rect">
            <a:avLst/>
          </a:prstGeom>
          <a:noFill/>
          <a:ln w="0">
            <a:noFill/>
          </a:ln>
        </p:spPr>
        <p:txBody>
          <a:bodyPr lIns="0" rIns="0" anchor="ctr">
            <a:normAutofit fontScale="9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494949"/>
                </a:solidFill>
                <a:latin typeface="Lato"/>
              </a:rPr>
              <a:t>50% working progress</a:t>
            </a:r>
            <a:endParaRPr b="0" lang="en-US" sz="1200" spc="-1" strike="noStrike">
              <a:solidFill>
                <a:srgbClr val="494949"/>
              </a:solidFill>
              <a:latin typeface="Open Sans Light"/>
            </a:endParaRPr>
          </a:p>
        </p:txBody>
      </p:sp>
      <p:sp>
        <p:nvSpPr>
          <p:cNvPr id="1497" name="PlaceHolder 4"/>
          <p:cNvSpPr>
            <a:spLocks noGrp="1"/>
          </p:cNvSpPr>
          <p:nvPr>
            <p:ph/>
          </p:nvPr>
        </p:nvSpPr>
        <p:spPr>
          <a:xfrm>
            <a:off x="6298920" y="4856040"/>
            <a:ext cx="1888920" cy="254160"/>
          </a:xfrm>
          <a:prstGeom prst="rect">
            <a:avLst/>
          </a:prstGeom>
          <a:noFill/>
          <a:ln w="0">
            <a:noFill/>
          </a:ln>
        </p:spPr>
        <p:txBody>
          <a:bodyPr lIns="0" rIns="0" anchor="ctr">
            <a:normAutofit fontScale="9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494949"/>
                </a:solidFill>
                <a:latin typeface="Lato"/>
              </a:rPr>
              <a:t>90% working progress</a:t>
            </a:r>
            <a:endParaRPr b="0" lang="en-US" sz="1200" spc="-1" strike="noStrike">
              <a:solidFill>
                <a:srgbClr val="494949"/>
              </a:solidFill>
              <a:latin typeface="Open Sans Light"/>
            </a:endParaRPr>
          </a:p>
        </p:txBody>
      </p:sp>
      <p:sp>
        <p:nvSpPr>
          <p:cNvPr id="1498" name="TextBox 36"/>
          <p:cNvSpPr/>
          <p:nvPr/>
        </p:nvSpPr>
        <p:spPr>
          <a:xfrm>
            <a:off x="3895560" y="2219400"/>
            <a:ext cx="2105280" cy="277560"/>
          </a:xfrm>
          <a:prstGeom prst="rect">
            <a:avLst/>
          </a:prstGeom>
          <a:solidFill>
            <a:srgbClr val="00a09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499" name="TextBox 37"/>
          <p:cNvSpPr/>
          <p:nvPr/>
        </p:nvSpPr>
        <p:spPr>
          <a:xfrm>
            <a:off x="6191280" y="2219400"/>
            <a:ext cx="2104920" cy="277560"/>
          </a:xfrm>
          <a:prstGeom prst="rect">
            <a:avLst/>
          </a:prstGeom>
          <a:solidFill>
            <a:srgbClr val="00a09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00" name="TextBox 38"/>
          <p:cNvSpPr/>
          <p:nvPr/>
        </p:nvSpPr>
        <p:spPr>
          <a:xfrm>
            <a:off x="8486640" y="2219400"/>
            <a:ext cx="2103480" cy="277560"/>
          </a:xfrm>
          <a:prstGeom prst="rect">
            <a:avLst/>
          </a:prstGeom>
          <a:solidFill>
            <a:srgbClr val="00a09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01" name="TextBox 39"/>
          <p:cNvSpPr/>
          <p:nvPr/>
        </p:nvSpPr>
        <p:spPr>
          <a:xfrm>
            <a:off x="1601640" y="2214720"/>
            <a:ext cx="2103480" cy="276120"/>
          </a:xfrm>
          <a:prstGeom prst="rect">
            <a:avLst/>
          </a:prstGeom>
          <a:solidFill>
            <a:srgbClr val="00a09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aphicFrame>
        <p:nvGraphicFramePr>
          <p:cNvPr id="1502" name="Chart 40"/>
          <p:cNvGraphicFramePr/>
          <p:nvPr/>
        </p:nvGraphicFramePr>
        <p:xfrm>
          <a:off x="1550880" y="3368520"/>
          <a:ext cx="2205000" cy="1505160"/>
        </p:xfrm>
        <a:graphic>
          <a:graphicData uri="http://schemas.openxmlformats.org/presentationml/2006/ole">
            <p:oleObj progId="Excel.Sheet.12" r:id="rId1" spid="">
              <p:embed/>
              <p:pic>
                <p:nvPicPr>
                  <p:cNvPr id="1503" name="Chart 40" descr=""/>
                  <p:cNvPicPr/>
                  <p:nvPr/>
                </p:nvPicPr>
                <p:blipFill>
                  <a:blip r:embed="rId2"/>
                  <a:stretch/>
                </p:blipFill>
                <p:spPr>
                  <a:xfrm>
                    <a:off x="1550880" y="3368520"/>
                    <a:ext cx="2205000" cy="1505160"/>
                  </a:xfrm>
                  <a:prstGeom prst="rect">
                    <a:avLst/>
                  </a:prstGeom>
                  <a:ln w="0">
                    <a:noFill/>
                  </a:ln>
                </p:spPr>
              </p:pic>
            </p:oleObj>
          </a:graphicData>
        </a:graphic>
      </p:graphicFrame>
      <p:graphicFrame>
        <p:nvGraphicFramePr>
          <p:cNvPr id="1504" name="Chart 41"/>
          <p:cNvGraphicFramePr/>
          <p:nvPr/>
        </p:nvGraphicFramePr>
        <p:xfrm>
          <a:off x="3844800" y="3373560"/>
          <a:ext cx="2206800" cy="1504800"/>
        </p:xfrm>
        <a:graphic>
          <a:graphicData uri="http://schemas.openxmlformats.org/presentationml/2006/ole">
            <p:oleObj progId="Excel.Sheet.12" r:id="rId3" spid="">
              <p:embed/>
              <p:pic>
                <p:nvPicPr>
                  <p:cNvPr id="1505" name="Chart 41" descr=""/>
                  <p:cNvPicPr/>
                  <p:nvPr/>
                </p:nvPicPr>
                <p:blipFill>
                  <a:blip r:embed="rId4"/>
                  <a:stretch/>
                </p:blipFill>
                <p:spPr>
                  <a:xfrm>
                    <a:off x="3844800" y="3373560"/>
                    <a:ext cx="2206800" cy="1504800"/>
                  </a:xfrm>
                  <a:prstGeom prst="rect">
                    <a:avLst/>
                  </a:prstGeom>
                  <a:ln w="0">
                    <a:noFill/>
                  </a:ln>
                </p:spPr>
              </p:pic>
            </p:oleObj>
          </a:graphicData>
        </a:graphic>
      </p:graphicFrame>
      <p:graphicFrame>
        <p:nvGraphicFramePr>
          <p:cNvPr id="1506" name="Chart 42"/>
          <p:cNvGraphicFramePr/>
          <p:nvPr/>
        </p:nvGraphicFramePr>
        <p:xfrm>
          <a:off x="6140520" y="3378240"/>
          <a:ext cx="2206440" cy="1504800"/>
        </p:xfrm>
        <a:graphic>
          <a:graphicData uri="http://schemas.openxmlformats.org/presentationml/2006/ole">
            <p:oleObj progId="Excel.Sheet.12" r:id="rId5" spid="">
              <p:embed/>
              <p:pic>
                <p:nvPicPr>
                  <p:cNvPr id="1507" name="Chart 42" descr=""/>
                  <p:cNvPicPr/>
                  <p:nvPr/>
                </p:nvPicPr>
                <p:blipFill>
                  <a:blip r:embed="rId6"/>
                  <a:stretch/>
                </p:blipFill>
                <p:spPr>
                  <a:xfrm>
                    <a:off x="6140520" y="3378240"/>
                    <a:ext cx="2206440" cy="1504800"/>
                  </a:xfrm>
                  <a:prstGeom prst="rect">
                    <a:avLst/>
                  </a:prstGeom>
                  <a:ln w="0">
                    <a:noFill/>
                  </a:ln>
                </p:spPr>
              </p:pic>
            </p:oleObj>
          </a:graphicData>
        </a:graphic>
      </p:graphicFrame>
      <p:graphicFrame>
        <p:nvGraphicFramePr>
          <p:cNvPr id="1508" name="Chart 43"/>
          <p:cNvGraphicFramePr/>
          <p:nvPr/>
        </p:nvGraphicFramePr>
        <p:xfrm>
          <a:off x="8435880" y="3382920"/>
          <a:ext cx="2205000" cy="1505160"/>
        </p:xfrm>
        <a:graphic>
          <a:graphicData uri="http://schemas.openxmlformats.org/presentationml/2006/ole">
            <p:oleObj progId="Excel.Sheet.12" r:id="rId7" spid="">
              <p:embed/>
              <p:pic>
                <p:nvPicPr>
                  <p:cNvPr id="1509" name="Chart 43" descr=""/>
                  <p:cNvPicPr/>
                  <p:nvPr/>
                </p:nvPicPr>
                <p:blipFill>
                  <a:blip r:embed="rId8"/>
                  <a:stretch/>
                </p:blipFill>
                <p:spPr>
                  <a:xfrm>
                    <a:off x="8435880" y="3382920"/>
                    <a:ext cx="2205000" cy="1505160"/>
                  </a:xfrm>
                  <a:prstGeom prst="rect">
                    <a:avLst/>
                  </a:prstGeom>
                  <a:ln w="0">
                    <a:noFill/>
                  </a:ln>
                </p:spPr>
              </p:pic>
            </p:oleObj>
          </a:graphicData>
        </a:graphic>
      </p:graphicFrame>
      <p:sp>
        <p:nvSpPr>
          <p:cNvPr id="1510" name="PlaceHolder 5"/>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511" name="Text Placeholder 8"/>
          <p:cNvSpPr/>
          <p:nvPr/>
        </p:nvSpPr>
        <p:spPr>
          <a:xfrm>
            <a:off x="1601640" y="2216160"/>
            <a:ext cx="21034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ffffff"/>
                </a:solidFill>
                <a:latin typeface="Lato"/>
              </a:rPr>
              <a:t>PROJECT 1</a:t>
            </a:r>
            <a:endParaRPr b="0" lang="en-US" sz="1300" spc="-1" strike="noStrike">
              <a:solidFill>
                <a:srgbClr val="494949"/>
              </a:solidFill>
              <a:latin typeface="Open Sans Light"/>
            </a:endParaRPr>
          </a:p>
        </p:txBody>
      </p:sp>
      <p:sp>
        <p:nvSpPr>
          <p:cNvPr id="1512" name="Text Placeholder 8"/>
          <p:cNvSpPr/>
          <p:nvPr/>
        </p:nvSpPr>
        <p:spPr>
          <a:xfrm>
            <a:off x="3892680" y="2216160"/>
            <a:ext cx="21049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ffffff"/>
                </a:solidFill>
                <a:latin typeface="Lato"/>
              </a:rPr>
              <a:t>PROJECT 2</a:t>
            </a:r>
            <a:endParaRPr b="0" lang="en-US" sz="1300" spc="-1" strike="noStrike">
              <a:solidFill>
                <a:srgbClr val="494949"/>
              </a:solidFill>
              <a:latin typeface="Open Sans Light"/>
            </a:endParaRPr>
          </a:p>
        </p:txBody>
      </p:sp>
      <p:sp>
        <p:nvSpPr>
          <p:cNvPr id="1513" name="Text Placeholder 8"/>
          <p:cNvSpPr/>
          <p:nvPr/>
        </p:nvSpPr>
        <p:spPr>
          <a:xfrm>
            <a:off x="6191280" y="2216160"/>
            <a:ext cx="21049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ffffff"/>
                </a:solidFill>
                <a:latin typeface="Lato"/>
              </a:rPr>
              <a:t>PROJECT 3</a:t>
            </a:r>
            <a:endParaRPr b="0" lang="en-US" sz="1300" spc="-1" strike="noStrike">
              <a:solidFill>
                <a:srgbClr val="494949"/>
              </a:solidFill>
              <a:latin typeface="Open Sans Light"/>
            </a:endParaRPr>
          </a:p>
        </p:txBody>
      </p:sp>
      <p:sp>
        <p:nvSpPr>
          <p:cNvPr id="1514" name="Text Placeholder 8"/>
          <p:cNvSpPr/>
          <p:nvPr/>
        </p:nvSpPr>
        <p:spPr>
          <a:xfrm>
            <a:off x="8486640" y="2216160"/>
            <a:ext cx="21034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ffffff"/>
                </a:solidFill>
                <a:latin typeface="Lato"/>
              </a:rPr>
              <a:t>PROJECT 4</a:t>
            </a:r>
            <a:endParaRPr b="0" lang="en-US" sz="1300" spc="-1" strike="noStrike">
              <a:solidFill>
                <a:srgbClr val="494949"/>
              </a:solidFill>
              <a:latin typeface="Open Sans Light"/>
            </a:endParaRPr>
          </a:p>
        </p:txBody>
      </p:sp>
      <p:sp>
        <p:nvSpPr>
          <p:cNvPr id="1515" name="Text Placeholder 1"/>
          <p:cNvSpPr/>
          <p:nvPr/>
        </p:nvSpPr>
        <p:spPr>
          <a:xfrm>
            <a:off x="1558800" y="5281560"/>
            <a:ext cx="2189160" cy="1057320"/>
          </a:xfrm>
          <a:prstGeom prst="rect">
            <a:avLst/>
          </a:prstGeom>
          <a:noFill/>
          <a:ln w="0">
            <a:noFill/>
          </a:ln>
        </p:spPr>
        <p:style>
          <a:lnRef idx="0"/>
          <a:fillRef idx="0"/>
          <a:effectRef idx="0"/>
          <a:fontRef idx="minor"/>
        </p:style>
        <p:txBody>
          <a:bodyPr lIns="0" rIns="0" tIns="0" bIns="0" anchor="t">
            <a:normAutofit/>
          </a:bodyPr>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516" name="Text Placeholder 1"/>
          <p:cNvSpPr/>
          <p:nvPr/>
        </p:nvSpPr>
        <p:spPr>
          <a:xfrm>
            <a:off x="3851280" y="5286240"/>
            <a:ext cx="2189160" cy="1057320"/>
          </a:xfrm>
          <a:prstGeom prst="rect">
            <a:avLst/>
          </a:prstGeom>
          <a:noFill/>
          <a:ln w="0">
            <a:noFill/>
          </a:ln>
        </p:spPr>
        <p:style>
          <a:lnRef idx="0"/>
          <a:fillRef idx="0"/>
          <a:effectRef idx="0"/>
          <a:fontRef idx="minor"/>
        </p:style>
        <p:txBody>
          <a:bodyPr lIns="0" rIns="0" tIns="0" bIns="0" anchor="t">
            <a:normAutofit/>
          </a:bodyPr>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517" name="Text Placeholder 1"/>
          <p:cNvSpPr/>
          <p:nvPr/>
        </p:nvSpPr>
        <p:spPr>
          <a:xfrm>
            <a:off x="8434440" y="5286240"/>
            <a:ext cx="2189160" cy="1057320"/>
          </a:xfrm>
          <a:prstGeom prst="rect">
            <a:avLst/>
          </a:prstGeom>
          <a:noFill/>
          <a:ln w="0">
            <a:noFill/>
          </a:ln>
        </p:spPr>
        <p:style>
          <a:lnRef idx="0"/>
          <a:fillRef idx="0"/>
          <a:effectRef idx="0"/>
          <a:fontRef idx="minor"/>
        </p:style>
        <p:txBody>
          <a:bodyPr lIns="0" rIns="0" tIns="0" bIns="0" anchor="t">
            <a:normAutofit/>
          </a:bodyPr>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518" name="Text Placeholder 1"/>
          <p:cNvSpPr/>
          <p:nvPr/>
        </p:nvSpPr>
        <p:spPr>
          <a:xfrm>
            <a:off x="6153120" y="5286240"/>
            <a:ext cx="2190960" cy="1057320"/>
          </a:xfrm>
          <a:prstGeom prst="rect">
            <a:avLst/>
          </a:prstGeom>
          <a:noFill/>
          <a:ln w="0">
            <a:noFill/>
          </a:ln>
        </p:spPr>
        <p:style>
          <a:lnRef idx="0"/>
          <a:fillRef idx="0"/>
          <a:effectRef idx="0"/>
          <a:fontRef idx="minor"/>
        </p:style>
        <p:txBody>
          <a:bodyPr lIns="0" rIns="0" tIns="0" bIns="0" anchor="t">
            <a:normAutofit/>
          </a:bodyPr>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Started : Oct 22 2018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Finish Target : Dec 22 2019 </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ategory : Interior Desig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Client : Nensy Wilson</a:t>
            </a:r>
            <a:endParaRPr b="0" lang="en-US" sz="1000" spc="-1" strike="noStrike">
              <a:solidFill>
                <a:srgbClr val="494949"/>
              </a:solidFill>
              <a:latin typeface="Open Sans Light"/>
            </a:endParaRPr>
          </a:p>
          <a:p>
            <a:pPr algn="ctr">
              <a:lnSpc>
                <a:spcPts val="598"/>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Url : www.thisproject.com</a:t>
            </a:r>
            <a:endParaRPr b="0" lang="en-US" sz="1000" spc="-1" strike="noStrike">
              <a:solidFill>
                <a:srgbClr val="494949"/>
              </a:solidFill>
              <a:latin typeface="Open Sans Light"/>
            </a:endParaRPr>
          </a:p>
        </p:txBody>
      </p:sp>
      <p:sp>
        <p:nvSpPr>
          <p:cNvPr id="1519" name="Text Placeholder 1"/>
          <p:cNvSpPr/>
          <p:nvPr/>
        </p:nvSpPr>
        <p:spPr>
          <a:xfrm>
            <a:off x="8583480" y="4856040"/>
            <a:ext cx="1889280" cy="254160"/>
          </a:xfrm>
          <a:prstGeom prst="rect">
            <a:avLst/>
          </a:prstGeom>
          <a:noFill/>
          <a:ln w="0">
            <a:noFill/>
          </a:ln>
        </p:spPr>
        <p:style>
          <a:lnRef idx="0"/>
          <a:fillRef idx="0"/>
          <a:effectRef idx="0"/>
          <a:fontRef idx="minor"/>
        </p:style>
        <p:txBody>
          <a:bodyPr lIns="0" rIns="0" tIns="46800" bIns="46800" anchor="ctr">
            <a:normAutofit fontScale="98000"/>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494949"/>
                </a:solidFill>
                <a:latin typeface="Lato"/>
              </a:rPr>
              <a:t>85% working progress</a:t>
            </a:r>
            <a:endParaRPr b="0" lang="en-US" sz="1200" spc="-1" strike="noStrike">
              <a:solidFill>
                <a:srgbClr val="494949"/>
              </a:solidFill>
              <a:latin typeface="Open Sans Light"/>
            </a:endParaRPr>
          </a:p>
        </p:txBody>
      </p:sp>
      <p:pic>
        <p:nvPicPr>
          <p:cNvPr id="1520" name="" descr=""/>
          <p:cNvPicPr/>
          <p:nvPr/>
        </p:nvPicPr>
        <p:blipFill>
          <a:blip r:embed="rId9"/>
          <a:stretch/>
        </p:blipFill>
        <p:spPr>
          <a:xfrm>
            <a:off x="1601280" y="2521080"/>
            <a:ext cx="2103480" cy="1434960"/>
          </a:xfrm>
          <a:prstGeom prst="rect">
            <a:avLst/>
          </a:prstGeom>
          <a:ln w="0">
            <a:noFill/>
          </a:ln>
        </p:spPr>
      </p:pic>
      <p:pic>
        <p:nvPicPr>
          <p:cNvPr id="1521" name="" descr=""/>
          <p:cNvPicPr/>
          <p:nvPr/>
        </p:nvPicPr>
        <p:blipFill>
          <a:blip r:embed="rId10"/>
          <a:stretch/>
        </p:blipFill>
        <p:spPr>
          <a:xfrm>
            <a:off x="3892320" y="2521080"/>
            <a:ext cx="2104920" cy="1434960"/>
          </a:xfrm>
          <a:prstGeom prst="rect">
            <a:avLst/>
          </a:prstGeom>
          <a:ln w="0">
            <a:noFill/>
          </a:ln>
        </p:spPr>
      </p:pic>
      <p:pic>
        <p:nvPicPr>
          <p:cNvPr id="1522" name="" descr=""/>
          <p:cNvPicPr/>
          <p:nvPr/>
        </p:nvPicPr>
        <p:blipFill>
          <a:blip r:embed="rId11"/>
          <a:stretch/>
        </p:blipFill>
        <p:spPr>
          <a:xfrm>
            <a:off x="6184440" y="2521080"/>
            <a:ext cx="2103480" cy="1434960"/>
          </a:xfrm>
          <a:prstGeom prst="rect">
            <a:avLst/>
          </a:prstGeom>
          <a:ln w="0">
            <a:noFill/>
          </a:ln>
        </p:spPr>
      </p:pic>
      <p:pic>
        <p:nvPicPr>
          <p:cNvPr id="1523" name="" descr=""/>
          <p:cNvPicPr/>
          <p:nvPr/>
        </p:nvPicPr>
        <p:blipFill>
          <a:blip r:embed="rId12"/>
          <a:stretch/>
        </p:blipFill>
        <p:spPr>
          <a:xfrm>
            <a:off x="8476920" y="2521080"/>
            <a:ext cx="2103480" cy="1434960"/>
          </a:xfrm>
          <a:prstGeom prst="rect">
            <a:avLst/>
          </a:prstGeom>
          <a:ln w="0">
            <a:noFill/>
          </a:ln>
        </p:spPr>
      </p:pic>
    </p:spTree>
  </p:cSld>
  <p:transition spd="med">
    <p:fade/>
  </p:transition>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afterEffect" fill="hold" presetClass="entr" presetID="22" presetSubtype="8">
                                  <p:stCondLst>
                                    <p:cond delay="0"/>
                                  </p:stCondLst>
                                  <p:childTnLst>
                                    <p:set>
                                      <p:cBhvr>
                                        <p:cTn id="1342" dur="1" fill="hold">
                                          <p:stCondLst>
                                            <p:cond delay="0"/>
                                          </p:stCondLst>
                                        </p:cTn>
                                        <p:tgtEl>
                                          <p:spTgt spid="1494"/>
                                        </p:tgtEl>
                                        <p:attrNameLst>
                                          <p:attrName>style.visibility</p:attrName>
                                        </p:attrNameLst>
                                      </p:cBhvr>
                                      <p:to>
                                        <p:strVal val="visible"/>
                                      </p:to>
                                    </p:set>
                                    <p:animEffect filter="wipe(left)" transition="in">
                                      <p:cBhvr additive="repl">
                                        <p:cTn id="1343" dur="500"/>
                                        <p:tgtEl>
                                          <p:spTgt spid="1494"/>
                                        </p:tgtEl>
                                      </p:cBhvr>
                                    </p:animEffect>
                                  </p:childTnLst>
                                </p:cTn>
                              </p:par>
                            </p:childTnLst>
                          </p:cTn>
                        </p:par>
                        <p:par>
                          <p:cTn id="1344" fill="hold">
                            <p:stCondLst>
                              <p:cond delay="500"/>
                            </p:stCondLst>
                            <p:childTnLst>
                              <p:par>
                                <p:cTn id="1345" nodeType="afterEffect" fill="hold" presetClass="entr" presetID="10">
                                  <p:stCondLst>
                                    <p:cond delay="0"/>
                                  </p:stCondLst>
                                  <p:childTnLst>
                                    <p:set>
                                      <p:cBhvr>
                                        <p:cTn id="1346" dur="1" fill="hold">
                                          <p:stCondLst>
                                            <p:cond delay="0"/>
                                          </p:stCondLst>
                                        </p:cTn>
                                        <p:tgtEl>
                                          <p:spTgt spid="1501"/>
                                        </p:tgtEl>
                                        <p:attrNameLst>
                                          <p:attrName>style.visibility</p:attrName>
                                        </p:attrNameLst>
                                      </p:cBhvr>
                                      <p:to>
                                        <p:strVal val="visible"/>
                                      </p:to>
                                    </p:set>
                                    <p:animEffect filter="fade" transition="in">
                                      <p:cBhvr additive="repl">
                                        <p:cTn id="1347" dur="500"/>
                                        <p:tgtEl>
                                          <p:spTgt spid="1501"/>
                                        </p:tgtEl>
                                      </p:cBhvr>
                                    </p:animEffect>
                                  </p:childTnLst>
                                </p:cTn>
                              </p:par>
                            </p:childTnLst>
                          </p:cTn>
                        </p:par>
                        <p:par>
                          <p:cTn id="1348" fill="hold">
                            <p:stCondLst>
                              <p:cond delay="1000"/>
                            </p:stCondLst>
                            <p:childTnLst>
                              <p:par>
                                <p:cTn id="1349" nodeType="afterEffect" fill="hold" presetClass="entr" presetID="10">
                                  <p:stCondLst>
                                    <p:cond delay="0"/>
                                  </p:stCondLst>
                                  <p:childTnLst>
                                    <p:set>
                                      <p:cBhvr>
                                        <p:cTn id="1350" dur="1" fill="hold">
                                          <p:stCondLst>
                                            <p:cond delay="0"/>
                                          </p:stCondLst>
                                        </p:cTn>
                                        <p:tgtEl>
                                          <p:spTgt spid="1498"/>
                                        </p:tgtEl>
                                        <p:attrNameLst>
                                          <p:attrName>style.visibility</p:attrName>
                                        </p:attrNameLst>
                                      </p:cBhvr>
                                      <p:to>
                                        <p:strVal val="visible"/>
                                      </p:to>
                                    </p:set>
                                    <p:animEffect filter="fade" transition="in">
                                      <p:cBhvr additive="repl">
                                        <p:cTn id="1351" dur="500"/>
                                        <p:tgtEl>
                                          <p:spTgt spid="1498"/>
                                        </p:tgtEl>
                                      </p:cBhvr>
                                    </p:animEffect>
                                  </p:childTnLst>
                                </p:cTn>
                              </p:par>
                            </p:childTnLst>
                          </p:cTn>
                        </p:par>
                        <p:par>
                          <p:cTn id="1352" fill="hold">
                            <p:stCondLst>
                              <p:cond delay="1500"/>
                            </p:stCondLst>
                            <p:childTnLst>
                              <p:par>
                                <p:cTn id="1353" nodeType="afterEffect" fill="hold" presetClass="entr" presetID="10">
                                  <p:stCondLst>
                                    <p:cond delay="0"/>
                                  </p:stCondLst>
                                  <p:childTnLst>
                                    <p:set>
                                      <p:cBhvr>
                                        <p:cTn id="1354" dur="1" fill="hold">
                                          <p:stCondLst>
                                            <p:cond delay="0"/>
                                          </p:stCondLst>
                                        </p:cTn>
                                        <p:tgtEl>
                                          <p:spTgt spid="1499"/>
                                        </p:tgtEl>
                                        <p:attrNameLst>
                                          <p:attrName>style.visibility</p:attrName>
                                        </p:attrNameLst>
                                      </p:cBhvr>
                                      <p:to>
                                        <p:strVal val="visible"/>
                                      </p:to>
                                    </p:set>
                                    <p:animEffect filter="fade" transition="in">
                                      <p:cBhvr additive="repl">
                                        <p:cTn id="1355" dur="500"/>
                                        <p:tgtEl>
                                          <p:spTgt spid="1499"/>
                                        </p:tgtEl>
                                      </p:cBhvr>
                                    </p:animEffect>
                                  </p:childTnLst>
                                </p:cTn>
                              </p:par>
                            </p:childTnLst>
                          </p:cTn>
                        </p:par>
                        <p:par>
                          <p:cTn id="1356" fill="hold">
                            <p:stCondLst>
                              <p:cond delay="2000"/>
                            </p:stCondLst>
                            <p:childTnLst>
                              <p:par>
                                <p:cTn id="1357" nodeType="afterEffect" fill="hold" presetClass="entr" presetID="10">
                                  <p:stCondLst>
                                    <p:cond delay="0"/>
                                  </p:stCondLst>
                                  <p:childTnLst>
                                    <p:set>
                                      <p:cBhvr>
                                        <p:cTn id="1358" dur="1" fill="hold">
                                          <p:stCondLst>
                                            <p:cond delay="0"/>
                                          </p:stCondLst>
                                        </p:cTn>
                                        <p:tgtEl>
                                          <p:spTgt spid="1500"/>
                                        </p:tgtEl>
                                        <p:attrNameLst>
                                          <p:attrName>style.visibility</p:attrName>
                                        </p:attrNameLst>
                                      </p:cBhvr>
                                      <p:to>
                                        <p:strVal val="visible"/>
                                      </p:to>
                                    </p:set>
                                    <p:animEffect filter="fade" transition="in">
                                      <p:cBhvr additive="repl">
                                        <p:cTn id="1359" dur="500"/>
                                        <p:tgtEl>
                                          <p:spTgt spid="1500"/>
                                        </p:tgtEl>
                                      </p:cBhvr>
                                    </p:animEffect>
                                  </p:childTnLst>
                                </p:cTn>
                              </p:par>
                            </p:childTnLst>
                          </p:cTn>
                        </p:par>
                        <p:par>
                          <p:cTn id="1360" fill="hold">
                            <p:stCondLst>
                              <p:cond delay="2500"/>
                            </p:stCondLst>
                            <p:childTnLst>
                              <p:par>
                                <p:cTn id="1361" nodeType="afterEffect" fill="hold" presetClass="entr" presetID="21" presetSubtype="1">
                                  <p:stCondLst>
                                    <p:cond delay="0"/>
                                  </p:stCondLst>
                                  <p:childTnLst>
                                    <p:set>
                                      <p:cBhvr>
                                        <p:cTn id="1362" dur="1" fill="hold">
                                          <p:stCondLst>
                                            <p:cond delay="0"/>
                                          </p:stCondLst>
                                        </p:cTn>
                                        <p:tgtEl>
                                          <p:spTgt spid="1503"/>
                                        </p:tgtEl>
                                        <p:attrNameLst>
                                          <p:attrName>style.visibility</p:attrName>
                                        </p:attrNameLst>
                                      </p:cBhvr>
                                      <p:to>
                                        <p:strVal val="visible"/>
                                      </p:to>
                                    </p:set>
                                    <p:animEffect filter="wheel(1)" transition="in">
                                      <p:cBhvr additive="repl">
                                        <p:cTn id="1363" dur="400"/>
                                        <p:tgtEl>
                                          <p:spTgt spid="1503"/>
                                        </p:tgtEl>
                                      </p:cBhvr>
                                    </p:animEffect>
                                  </p:childTnLst>
                                </p:cTn>
                              </p:par>
                            </p:childTnLst>
                          </p:cTn>
                        </p:par>
                        <p:par>
                          <p:cTn id="1364" fill="hold">
                            <p:stCondLst>
                              <p:cond delay="2900"/>
                            </p:stCondLst>
                            <p:childTnLst>
                              <p:par>
                                <p:cTn id="1365" nodeType="afterEffect" fill="hold" presetClass="entr" presetID="21" presetSubtype="1">
                                  <p:stCondLst>
                                    <p:cond delay="0"/>
                                  </p:stCondLst>
                                  <p:childTnLst>
                                    <p:set>
                                      <p:cBhvr>
                                        <p:cTn id="1366" dur="1" fill="hold">
                                          <p:stCondLst>
                                            <p:cond delay="0"/>
                                          </p:stCondLst>
                                        </p:cTn>
                                        <p:tgtEl>
                                          <p:spTgt spid="1505"/>
                                        </p:tgtEl>
                                        <p:attrNameLst>
                                          <p:attrName>style.visibility</p:attrName>
                                        </p:attrNameLst>
                                      </p:cBhvr>
                                      <p:to>
                                        <p:strVal val="visible"/>
                                      </p:to>
                                    </p:set>
                                    <p:animEffect filter="wheel(1)" transition="in">
                                      <p:cBhvr additive="repl">
                                        <p:cTn id="1367" dur="400"/>
                                        <p:tgtEl>
                                          <p:spTgt spid="1505"/>
                                        </p:tgtEl>
                                      </p:cBhvr>
                                    </p:animEffect>
                                  </p:childTnLst>
                                </p:cTn>
                              </p:par>
                            </p:childTnLst>
                          </p:cTn>
                        </p:par>
                        <p:par>
                          <p:cTn id="1368" fill="hold">
                            <p:stCondLst>
                              <p:cond delay="3300"/>
                            </p:stCondLst>
                            <p:childTnLst>
                              <p:par>
                                <p:cTn id="1369" nodeType="afterEffect" fill="hold" presetClass="entr" presetID="10">
                                  <p:stCondLst>
                                    <p:cond delay="0"/>
                                  </p:stCondLst>
                                  <p:childTnLst>
                                    <p:set>
                                      <p:cBhvr>
                                        <p:cTn id="1370" dur="1" fill="hold">
                                          <p:stCondLst>
                                            <p:cond delay="0"/>
                                          </p:stCondLst>
                                        </p:cTn>
                                        <p:tgtEl>
                                          <p:spTgt spid="1495">
                                            <p:txEl>
                                              <p:pRg st="0" end="0"/>
                                            </p:txEl>
                                          </p:spTgt>
                                        </p:tgtEl>
                                        <p:attrNameLst>
                                          <p:attrName>style.visibility</p:attrName>
                                        </p:attrNameLst>
                                      </p:cBhvr>
                                      <p:to>
                                        <p:strVal val="visible"/>
                                      </p:to>
                                    </p:set>
                                    <p:animEffect filter="fade" transition="in">
                                      <p:cBhvr additive="repl">
                                        <p:cTn id="1371" dur="500"/>
                                        <p:tgtEl>
                                          <p:spTgt spid="1495">
                                            <p:txEl>
                                              <p:pRg st="0" end="0"/>
                                            </p:txEl>
                                          </p:spTgt>
                                        </p:tgtEl>
                                      </p:cBhvr>
                                    </p:animEffect>
                                  </p:childTnLst>
                                </p:cTn>
                              </p:par>
                            </p:childTnLst>
                          </p:cTn>
                        </p:par>
                        <p:par>
                          <p:cTn id="1372" fill="hold">
                            <p:stCondLst>
                              <p:cond delay="3800"/>
                            </p:stCondLst>
                            <p:childTnLst>
                              <p:par>
                                <p:cTn id="1373" nodeType="afterEffect" fill="hold" presetClass="entr" presetID="21" presetSubtype="1">
                                  <p:stCondLst>
                                    <p:cond delay="0"/>
                                  </p:stCondLst>
                                  <p:childTnLst>
                                    <p:set>
                                      <p:cBhvr>
                                        <p:cTn id="1374" dur="1" fill="hold">
                                          <p:stCondLst>
                                            <p:cond delay="0"/>
                                          </p:stCondLst>
                                        </p:cTn>
                                        <p:tgtEl>
                                          <p:spTgt spid="1507"/>
                                        </p:tgtEl>
                                        <p:attrNameLst>
                                          <p:attrName>style.visibility</p:attrName>
                                        </p:attrNameLst>
                                      </p:cBhvr>
                                      <p:to>
                                        <p:strVal val="visible"/>
                                      </p:to>
                                    </p:set>
                                    <p:animEffect filter="wheel(1)" transition="in">
                                      <p:cBhvr additive="repl">
                                        <p:cTn id="1375" dur="400"/>
                                        <p:tgtEl>
                                          <p:spTgt spid="1507"/>
                                        </p:tgtEl>
                                      </p:cBhvr>
                                    </p:animEffect>
                                  </p:childTnLst>
                                </p:cTn>
                              </p:par>
                            </p:childTnLst>
                          </p:cTn>
                        </p:par>
                        <p:par>
                          <p:cTn id="1376" fill="hold">
                            <p:stCondLst>
                              <p:cond delay="4200"/>
                            </p:stCondLst>
                            <p:childTnLst>
                              <p:par>
                                <p:cTn id="1377" nodeType="afterEffect" fill="hold" presetClass="entr" presetID="10">
                                  <p:stCondLst>
                                    <p:cond delay="0"/>
                                  </p:stCondLst>
                                  <p:childTnLst>
                                    <p:set>
                                      <p:cBhvr>
                                        <p:cTn id="1378" dur="1" fill="hold">
                                          <p:stCondLst>
                                            <p:cond delay="0"/>
                                          </p:stCondLst>
                                        </p:cTn>
                                        <p:tgtEl>
                                          <p:spTgt spid="1496">
                                            <p:txEl>
                                              <p:pRg st="0" end="0"/>
                                            </p:txEl>
                                          </p:spTgt>
                                        </p:tgtEl>
                                        <p:attrNameLst>
                                          <p:attrName>style.visibility</p:attrName>
                                        </p:attrNameLst>
                                      </p:cBhvr>
                                      <p:to>
                                        <p:strVal val="visible"/>
                                      </p:to>
                                    </p:set>
                                    <p:animEffect filter="fade" transition="in">
                                      <p:cBhvr additive="repl">
                                        <p:cTn id="1379" dur="500"/>
                                        <p:tgtEl>
                                          <p:spTgt spid="1496">
                                            <p:txEl>
                                              <p:pRg st="0" end="0"/>
                                            </p:txEl>
                                          </p:spTgt>
                                        </p:tgtEl>
                                      </p:cBhvr>
                                    </p:animEffect>
                                  </p:childTnLst>
                                </p:cTn>
                              </p:par>
                            </p:childTnLst>
                          </p:cTn>
                        </p:par>
                        <p:par>
                          <p:cTn id="1380" fill="hold">
                            <p:stCondLst>
                              <p:cond delay="4700"/>
                            </p:stCondLst>
                            <p:childTnLst>
                              <p:par>
                                <p:cTn id="1381" nodeType="afterEffect" fill="hold" presetClass="entr" presetID="21" presetSubtype="1">
                                  <p:stCondLst>
                                    <p:cond delay="0"/>
                                  </p:stCondLst>
                                  <p:childTnLst>
                                    <p:set>
                                      <p:cBhvr>
                                        <p:cTn id="1382" dur="1" fill="hold">
                                          <p:stCondLst>
                                            <p:cond delay="0"/>
                                          </p:stCondLst>
                                        </p:cTn>
                                        <p:tgtEl>
                                          <p:spTgt spid="1509"/>
                                        </p:tgtEl>
                                        <p:attrNameLst>
                                          <p:attrName>style.visibility</p:attrName>
                                        </p:attrNameLst>
                                      </p:cBhvr>
                                      <p:to>
                                        <p:strVal val="visible"/>
                                      </p:to>
                                    </p:set>
                                    <p:animEffect filter="wheel(1)" transition="in">
                                      <p:cBhvr additive="repl">
                                        <p:cTn id="1383" dur="400"/>
                                        <p:tgtEl>
                                          <p:spTgt spid="1509"/>
                                        </p:tgtEl>
                                      </p:cBhvr>
                                    </p:animEffect>
                                  </p:childTnLst>
                                </p:cTn>
                              </p:par>
                            </p:childTnLst>
                          </p:cTn>
                        </p:par>
                        <p:par>
                          <p:cTn id="1384" fill="hold">
                            <p:stCondLst>
                              <p:cond delay="5100"/>
                            </p:stCondLst>
                            <p:childTnLst>
                              <p:par>
                                <p:cTn id="1385" nodeType="afterEffect" fill="hold" presetClass="entr" presetID="10">
                                  <p:stCondLst>
                                    <p:cond delay="0"/>
                                  </p:stCondLst>
                                  <p:childTnLst>
                                    <p:set>
                                      <p:cBhvr>
                                        <p:cTn id="1386" dur="1" fill="hold">
                                          <p:stCondLst>
                                            <p:cond delay="0"/>
                                          </p:stCondLst>
                                        </p:cTn>
                                        <p:tgtEl>
                                          <p:spTgt spid="1497">
                                            <p:txEl>
                                              <p:pRg st="0" end="0"/>
                                            </p:txEl>
                                          </p:spTgt>
                                        </p:tgtEl>
                                        <p:attrNameLst>
                                          <p:attrName>style.visibility</p:attrName>
                                        </p:attrNameLst>
                                      </p:cBhvr>
                                      <p:to>
                                        <p:strVal val="visible"/>
                                      </p:to>
                                    </p:set>
                                    <p:animEffect filter="fade" transition="in">
                                      <p:cBhvr additive="repl">
                                        <p:cTn id="1387" dur="500"/>
                                        <p:tgtEl>
                                          <p:spTgt spid="1497">
                                            <p:txEl>
                                              <p:pRg st="0" end="0"/>
                                            </p:txEl>
                                          </p:spTgt>
                                        </p:tgtEl>
                                      </p:cBhvr>
                                    </p:animEffect>
                                  </p:childTnLst>
                                </p:cTn>
                              </p:par>
                            </p:childTnLst>
                          </p:cTn>
                        </p:par>
                        <p:par>
                          <p:cTn id="1388" fill="hold">
                            <p:stCondLst>
                              <p:cond delay="5600"/>
                            </p:stCondLst>
                            <p:childTnLst>
                              <p:par>
                                <p:cTn id="1389" nodeType="afterEffect" fill="hold" presetClass="entr" presetID="22" presetSubtype="8">
                                  <p:stCondLst>
                                    <p:cond delay="0"/>
                                  </p:stCondLst>
                                  <p:childTnLst>
                                    <p:set>
                                      <p:cBhvr>
                                        <p:cTn id="1390"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1391" dur="500"/>
                                        <p:tgtEl>
                                          <p:spTgt spid="1510">
                                            <p:txEl>
                                              <p:pRg st="0" end="0"/>
                                            </p:txEl>
                                          </p:spTgt>
                                        </p:tgtEl>
                                      </p:cBhvr>
                                    </p:animEffect>
                                  </p:childTnLst>
                                </p:cTn>
                              </p:par>
                            </p:childTnLst>
                          </p:cTn>
                        </p:par>
                        <p:par>
                          <p:cTn id="1392" fill="hold">
                            <p:stCondLst>
                              <p:cond delay="6100"/>
                            </p:stCondLst>
                            <p:childTnLst>
                              <p:par>
                                <p:cTn id="1393" nodeType="afterEffect" fill="hold" presetClass="entr" presetID="22" presetSubtype="8">
                                  <p:stCondLst>
                                    <p:cond delay="0"/>
                                  </p:stCondLst>
                                  <p:childTnLst>
                                    <p:set>
                                      <p:cBhvr>
                                        <p:cTn id="1394" dur="1" fill="hold">
                                          <p:stCondLst>
                                            <p:cond delay="0"/>
                                          </p:stCondLst>
                                        </p:cTn>
                                        <p:tgtEl>
                                          <p:spTgt spid="1511">
                                            <p:txEl>
                                              <p:pRg st="0" end="0"/>
                                            </p:txEl>
                                          </p:spTgt>
                                        </p:tgtEl>
                                        <p:attrNameLst>
                                          <p:attrName>style.visibility</p:attrName>
                                        </p:attrNameLst>
                                      </p:cBhvr>
                                      <p:to>
                                        <p:strVal val="visible"/>
                                      </p:to>
                                    </p:set>
                                    <p:animEffect filter="wipe(left)" transition="in">
                                      <p:cBhvr additive="repl">
                                        <p:cTn id="1395" dur="500"/>
                                        <p:tgtEl>
                                          <p:spTgt spid="1511">
                                            <p:txEl>
                                              <p:pRg st="0" end="0"/>
                                            </p:txEl>
                                          </p:spTgt>
                                        </p:tgtEl>
                                      </p:cBhvr>
                                    </p:animEffect>
                                  </p:childTnLst>
                                </p:cTn>
                              </p:par>
                            </p:childTnLst>
                          </p:cTn>
                        </p:par>
                        <p:par>
                          <p:cTn id="1396" fill="hold">
                            <p:stCondLst>
                              <p:cond delay="6600"/>
                            </p:stCondLst>
                            <p:childTnLst>
                              <p:par>
                                <p:cTn id="1397" nodeType="afterEffect" fill="hold" presetClass="entr" presetID="22" presetSubtype="8">
                                  <p:stCondLst>
                                    <p:cond delay="0"/>
                                  </p:stCondLst>
                                  <p:childTnLst>
                                    <p:set>
                                      <p:cBhvr>
                                        <p:cTn id="1398" dur="1" fill="hold">
                                          <p:stCondLst>
                                            <p:cond delay="0"/>
                                          </p:stCondLst>
                                        </p:cTn>
                                        <p:tgtEl>
                                          <p:spTgt spid="1512">
                                            <p:txEl>
                                              <p:pRg st="0" end="0"/>
                                            </p:txEl>
                                          </p:spTgt>
                                        </p:tgtEl>
                                        <p:attrNameLst>
                                          <p:attrName>style.visibility</p:attrName>
                                        </p:attrNameLst>
                                      </p:cBhvr>
                                      <p:to>
                                        <p:strVal val="visible"/>
                                      </p:to>
                                    </p:set>
                                    <p:animEffect filter="wipe(left)" transition="in">
                                      <p:cBhvr additive="repl">
                                        <p:cTn id="1399" dur="500"/>
                                        <p:tgtEl>
                                          <p:spTgt spid="1512">
                                            <p:txEl>
                                              <p:pRg st="0" end="0"/>
                                            </p:txEl>
                                          </p:spTgt>
                                        </p:tgtEl>
                                      </p:cBhvr>
                                    </p:animEffect>
                                  </p:childTnLst>
                                </p:cTn>
                              </p:par>
                            </p:childTnLst>
                          </p:cTn>
                        </p:par>
                        <p:par>
                          <p:cTn id="1400" fill="hold">
                            <p:stCondLst>
                              <p:cond delay="7100"/>
                            </p:stCondLst>
                            <p:childTnLst>
                              <p:par>
                                <p:cTn id="1401" nodeType="afterEffect" fill="hold" presetClass="entr" presetID="22" presetSubtype="8">
                                  <p:stCondLst>
                                    <p:cond delay="0"/>
                                  </p:stCondLst>
                                  <p:childTnLst>
                                    <p:set>
                                      <p:cBhvr>
                                        <p:cTn id="1402" dur="1" fill="hold">
                                          <p:stCondLst>
                                            <p:cond delay="0"/>
                                          </p:stCondLst>
                                        </p:cTn>
                                        <p:tgtEl>
                                          <p:spTgt spid="1513">
                                            <p:txEl>
                                              <p:pRg st="0" end="0"/>
                                            </p:txEl>
                                          </p:spTgt>
                                        </p:tgtEl>
                                        <p:attrNameLst>
                                          <p:attrName>style.visibility</p:attrName>
                                        </p:attrNameLst>
                                      </p:cBhvr>
                                      <p:to>
                                        <p:strVal val="visible"/>
                                      </p:to>
                                    </p:set>
                                    <p:animEffect filter="wipe(left)" transition="in">
                                      <p:cBhvr additive="repl">
                                        <p:cTn id="1403" dur="500"/>
                                        <p:tgtEl>
                                          <p:spTgt spid="1513">
                                            <p:txEl>
                                              <p:pRg st="0" end="0"/>
                                            </p:txEl>
                                          </p:spTgt>
                                        </p:tgtEl>
                                      </p:cBhvr>
                                    </p:animEffect>
                                  </p:childTnLst>
                                </p:cTn>
                              </p:par>
                            </p:childTnLst>
                          </p:cTn>
                        </p:par>
                        <p:par>
                          <p:cTn id="1404" fill="hold">
                            <p:stCondLst>
                              <p:cond delay="7600"/>
                            </p:stCondLst>
                            <p:childTnLst>
                              <p:par>
                                <p:cTn id="1405" nodeType="afterEffect" fill="hold" presetClass="entr" presetID="22" presetSubtype="8">
                                  <p:stCondLst>
                                    <p:cond delay="0"/>
                                  </p:stCondLst>
                                  <p:childTnLst>
                                    <p:set>
                                      <p:cBhvr>
                                        <p:cTn id="1406" dur="1" fill="hold">
                                          <p:stCondLst>
                                            <p:cond delay="0"/>
                                          </p:stCondLst>
                                        </p:cTn>
                                        <p:tgtEl>
                                          <p:spTgt spid="1514">
                                            <p:txEl>
                                              <p:pRg st="0" end="0"/>
                                            </p:txEl>
                                          </p:spTgt>
                                        </p:tgtEl>
                                        <p:attrNameLst>
                                          <p:attrName>style.visibility</p:attrName>
                                        </p:attrNameLst>
                                      </p:cBhvr>
                                      <p:to>
                                        <p:strVal val="visible"/>
                                      </p:to>
                                    </p:set>
                                    <p:animEffect filter="wipe(left)" transition="in">
                                      <p:cBhvr additive="repl">
                                        <p:cTn id="1407" dur="500"/>
                                        <p:tgtEl>
                                          <p:spTgt spid="1514">
                                            <p:txEl>
                                              <p:pRg st="0" end="0"/>
                                            </p:txEl>
                                          </p:spTgt>
                                        </p:tgtEl>
                                      </p:cBhvr>
                                    </p:animEffect>
                                  </p:childTnLst>
                                </p:cTn>
                              </p:par>
                            </p:childTnLst>
                          </p:cTn>
                        </p:par>
                        <p:par>
                          <p:cTn id="1408" fill="hold">
                            <p:stCondLst>
                              <p:cond delay="8100"/>
                            </p:stCondLst>
                            <p:childTnLst>
                              <p:par>
                                <p:cTn id="1409" nodeType="afterEffect" fill="hold" presetClass="entr" presetID="18" presetSubtype="6">
                                  <p:stCondLst>
                                    <p:cond delay="0"/>
                                  </p:stCondLst>
                                  <p:childTnLst>
                                    <p:set>
                                      <p:cBhvr>
                                        <p:cTn id="1410" dur="1" fill="hold">
                                          <p:stCondLst>
                                            <p:cond delay="0"/>
                                          </p:stCondLst>
                                        </p:cTn>
                                        <p:tgtEl>
                                          <p:spTgt spid="1515">
                                            <p:txEl>
                                              <p:pRg st="0" end="0"/>
                                            </p:txEl>
                                          </p:spTgt>
                                        </p:tgtEl>
                                        <p:attrNameLst>
                                          <p:attrName>style.visibility</p:attrName>
                                        </p:attrNameLst>
                                      </p:cBhvr>
                                      <p:to>
                                        <p:strVal val="visible"/>
                                      </p:to>
                                    </p:set>
                                    <p:animEffect filter="strips(downRight)" transition="in">
                                      <p:cBhvr additive="repl">
                                        <p:cTn id="1411" dur="500"/>
                                        <p:tgtEl>
                                          <p:spTgt spid="1515">
                                            <p:txEl>
                                              <p:pRg st="0" end="0"/>
                                            </p:txEl>
                                          </p:spTgt>
                                        </p:tgtEl>
                                      </p:cBhvr>
                                    </p:animEffect>
                                  </p:childTnLst>
                                </p:cTn>
                              </p:par>
                              <p:par>
                                <p:cTn id="1412" nodeType="withEffect" fill="hold" presetClass="entr" presetID="18" presetSubtype="6">
                                  <p:stCondLst>
                                    <p:cond delay="0"/>
                                  </p:stCondLst>
                                  <p:childTnLst>
                                    <p:set>
                                      <p:cBhvr>
                                        <p:cTn id="1413" dur="1" fill="hold">
                                          <p:stCondLst>
                                            <p:cond delay="0"/>
                                          </p:stCondLst>
                                        </p:cTn>
                                        <p:tgtEl>
                                          <p:spTgt spid="1515">
                                            <p:txEl>
                                              <p:pRg st="1" end="1"/>
                                            </p:txEl>
                                          </p:spTgt>
                                        </p:tgtEl>
                                        <p:attrNameLst>
                                          <p:attrName>style.visibility</p:attrName>
                                        </p:attrNameLst>
                                      </p:cBhvr>
                                      <p:to>
                                        <p:strVal val="visible"/>
                                      </p:to>
                                    </p:set>
                                    <p:animEffect filter="strips(downRight)" transition="in">
                                      <p:cBhvr additive="repl">
                                        <p:cTn id="1414" dur="500"/>
                                        <p:tgtEl>
                                          <p:spTgt spid="1515">
                                            <p:txEl>
                                              <p:pRg st="1" end="1"/>
                                            </p:txEl>
                                          </p:spTgt>
                                        </p:tgtEl>
                                      </p:cBhvr>
                                    </p:animEffect>
                                  </p:childTnLst>
                                </p:cTn>
                              </p:par>
                              <p:par>
                                <p:cTn id="1415" nodeType="withEffect" fill="hold" presetClass="entr" presetID="18" presetSubtype="6">
                                  <p:stCondLst>
                                    <p:cond delay="0"/>
                                  </p:stCondLst>
                                  <p:childTnLst>
                                    <p:set>
                                      <p:cBhvr>
                                        <p:cTn id="1416" dur="1" fill="hold">
                                          <p:stCondLst>
                                            <p:cond delay="0"/>
                                          </p:stCondLst>
                                        </p:cTn>
                                        <p:tgtEl>
                                          <p:spTgt spid="1515">
                                            <p:txEl>
                                              <p:pRg st="2" end="2"/>
                                            </p:txEl>
                                          </p:spTgt>
                                        </p:tgtEl>
                                        <p:attrNameLst>
                                          <p:attrName>style.visibility</p:attrName>
                                        </p:attrNameLst>
                                      </p:cBhvr>
                                      <p:to>
                                        <p:strVal val="visible"/>
                                      </p:to>
                                    </p:set>
                                    <p:animEffect filter="strips(downRight)" transition="in">
                                      <p:cBhvr additive="repl">
                                        <p:cTn id="1417" dur="500"/>
                                        <p:tgtEl>
                                          <p:spTgt spid="1515">
                                            <p:txEl>
                                              <p:pRg st="2" end="2"/>
                                            </p:txEl>
                                          </p:spTgt>
                                        </p:tgtEl>
                                      </p:cBhvr>
                                    </p:animEffect>
                                  </p:childTnLst>
                                </p:cTn>
                              </p:par>
                              <p:par>
                                <p:cTn id="1418" nodeType="withEffect" fill="hold" presetClass="entr" presetID="18" presetSubtype="6">
                                  <p:stCondLst>
                                    <p:cond delay="0"/>
                                  </p:stCondLst>
                                  <p:childTnLst>
                                    <p:set>
                                      <p:cBhvr>
                                        <p:cTn id="1419" dur="1" fill="hold">
                                          <p:stCondLst>
                                            <p:cond delay="0"/>
                                          </p:stCondLst>
                                        </p:cTn>
                                        <p:tgtEl>
                                          <p:spTgt spid="1515">
                                            <p:txEl>
                                              <p:pRg st="3" end="3"/>
                                            </p:txEl>
                                          </p:spTgt>
                                        </p:tgtEl>
                                        <p:attrNameLst>
                                          <p:attrName>style.visibility</p:attrName>
                                        </p:attrNameLst>
                                      </p:cBhvr>
                                      <p:to>
                                        <p:strVal val="visible"/>
                                      </p:to>
                                    </p:set>
                                    <p:animEffect filter="strips(downRight)" transition="in">
                                      <p:cBhvr additive="repl">
                                        <p:cTn id="1420" dur="500"/>
                                        <p:tgtEl>
                                          <p:spTgt spid="1515">
                                            <p:txEl>
                                              <p:pRg st="3" end="3"/>
                                            </p:txEl>
                                          </p:spTgt>
                                        </p:tgtEl>
                                      </p:cBhvr>
                                    </p:animEffect>
                                  </p:childTnLst>
                                </p:cTn>
                              </p:par>
                              <p:par>
                                <p:cTn id="1421" nodeType="withEffect" fill="hold" presetClass="entr" presetID="18" presetSubtype="6">
                                  <p:stCondLst>
                                    <p:cond delay="0"/>
                                  </p:stCondLst>
                                  <p:childTnLst>
                                    <p:set>
                                      <p:cBhvr>
                                        <p:cTn id="1422" dur="1" fill="hold">
                                          <p:stCondLst>
                                            <p:cond delay="0"/>
                                          </p:stCondLst>
                                        </p:cTn>
                                        <p:tgtEl>
                                          <p:spTgt spid="1515">
                                            <p:txEl>
                                              <p:pRg st="4" end="4"/>
                                            </p:txEl>
                                          </p:spTgt>
                                        </p:tgtEl>
                                        <p:attrNameLst>
                                          <p:attrName>style.visibility</p:attrName>
                                        </p:attrNameLst>
                                      </p:cBhvr>
                                      <p:to>
                                        <p:strVal val="visible"/>
                                      </p:to>
                                    </p:set>
                                    <p:animEffect filter="strips(downRight)" transition="in">
                                      <p:cBhvr additive="repl">
                                        <p:cTn id="1423" dur="500"/>
                                        <p:tgtEl>
                                          <p:spTgt spid="1515">
                                            <p:txEl>
                                              <p:pRg st="4" end="4"/>
                                            </p:txEl>
                                          </p:spTgt>
                                        </p:tgtEl>
                                      </p:cBhvr>
                                    </p:animEffect>
                                  </p:childTnLst>
                                </p:cTn>
                              </p:par>
                            </p:childTnLst>
                          </p:cTn>
                        </p:par>
                        <p:par>
                          <p:cTn id="1424" fill="hold">
                            <p:stCondLst>
                              <p:cond delay="8600"/>
                            </p:stCondLst>
                            <p:childTnLst>
                              <p:par>
                                <p:cTn id="1425" nodeType="afterEffect" fill="hold" presetClass="entr" presetID="18" presetSubtype="6">
                                  <p:stCondLst>
                                    <p:cond delay="0"/>
                                  </p:stCondLst>
                                  <p:childTnLst>
                                    <p:set>
                                      <p:cBhvr>
                                        <p:cTn id="1426" dur="1" fill="hold">
                                          <p:stCondLst>
                                            <p:cond delay="0"/>
                                          </p:stCondLst>
                                        </p:cTn>
                                        <p:tgtEl>
                                          <p:spTgt spid="1516">
                                            <p:txEl>
                                              <p:pRg st="0" end="0"/>
                                            </p:txEl>
                                          </p:spTgt>
                                        </p:tgtEl>
                                        <p:attrNameLst>
                                          <p:attrName>style.visibility</p:attrName>
                                        </p:attrNameLst>
                                      </p:cBhvr>
                                      <p:to>
                                        <p:strVal val="visible"/>
                                      </p:to>
                                    </p:set>
                                    <p:animEffect filter="strips(downRight)" transition="in">
                                      <p:cBhvr additive="repl">
                                        <p:cTn id="1427" dur="500"/>
                                        <p:tgtEl>
                                          <p:spTgt spid="1516">
                                            <p:txEl>
                                              <p:pRg st="0" end="0"/>
                                            </p:txEl>
                                          </p:spTgt>
                                        </p:tgtEl>
                                      </p:cBhvr>
                                    </p:animEffect>
                                  </p:childTnLst>
                                </p:cTn>
                              </p:par>
                              <p:par>
                                <p:cTn id="1428" nodeType="withEffect" fill="hold" presetClass="entr" presetID="18" presetSubtype="6">
                                  <p:stCondLst>
                                    <p:cond delay="0"/>
                                  </p:stCondLst>
                                  <p:childTnLst>
                                    <p:set>
                                      <p:cBhvr>
                                        <p:cTn id="1429" dur="1" fill="hold">
                                          <p:stCondLst>
                                            <p:cond delay="0"/>
                                          </p:stCondLst>
                                        </p:cTn>
                                        <p:tgtEl>
                                          <p:spTgt spid="1516">
                                            <p:txEl>
                                              <p:pRg st="1" end="1"/>
                                            </p:txEl>
                                          </p:spTgt>
                                        </p:tgtEl>
                                        <p:attrNameLst>
                                          <p:attrName>style.visibility</p:attrName>
                                        </p:attrNameLst>
                                      </p:cBhvr>
                                      <p:to>
                                        <p:strVal val="visible"/>
                                      </p:to>
                                    </p:set>
                                    <p:animEffect filter="strips(downRight)" transition="in">
                                      <p:cBhvr additive="repl">
                                        <p:cTn id="1430" dur="500"/>
                                        <p:tgtEl>
                                          <p:spTgt spid="1516">
                                            <p:txEl>
                                              <p:pRg st="1" end="1"/>
                                            </p:txEl>
                                          </p:spTgt>
                                        </p:tgtEl>
                                      </p:cBhvr>
                                    </p:animEffect>
                                  </p:childTnLst>
                                </p:cTn>
                              </p:par>
                              <p:par>
                                <p:cTn id="1431" nodeType="withEffect" fill="hold" presetClass="entr" presetID="18" presetSubtype="6">
                                  <p:stCondLst>
                                    <p:cond delay="0"/>
                                  </p:stCondLst>
                                  <p:childTnLst>
                                    <p:set>
                                      <p:cBhvr>
                                        <p:cTn id="1432" dur="1" fill="hold">
                                          <p:stCondLst>
                                            <p:cond delay="0"/>
                                          </p:stCondLst>
                                        </p:cTn>
                                        <p:tgtEl>
                                          <p:spTgt spid="1516">
                                            <p:txEl>
                                              <p:pRg st="2" end="2"/>
                                            </p:txEl>
                                          </p:spTgt>
                                        </p:tgtEl>
                                        <p:attrNameLst>
                                          <p:attrName>style.visibility</p:attrName>
                                        </p:attrNameLst>
                                      </p:cBhvr>
                                      <p:to>
                                        <p:strVal val="visible"/>
                                      </p:to>
                                    </p:set>
                                    <p:animEffect filter="strips(downRight)" transition="in">
                                      <p:cBhvr additive="repl">
                                        <p:cTn id="1433" dur="500"/>
                                        <p:tgtEl>
                                          <p:spTgt spid="1516">
                                            <p:txEl>
                                              <p:pRg st="2" end="2"/>
                                            </p:txEl>
                                          </p:spTgt>
                                        </p:tgtEl>
                                      </p:cBhvr>
                                    </p:animEffect>
                                  </p:childTnLst>
                                </p:cTn>
                              </p:par>
                              <p:par>
                                <p:cTn id="1434" nodeType="withEffect" fill="hold" presetClass="entr" presetID="18" presetSubtype="6">
                                  <p:stCondLst>
                                    <p:cond delay="0"/>
                                  </p:stCondLst>
                                  <p:childTnLst>
                                    <p:set>
                                      <p:cBhvr>
                                        <p:cTn id="1435" dur="1" fill="hold">
                                          <p:stCondLst>
                                            <p:cond delay="0"/>
                                          </p:stCondLst>
                                        </p:cTn>
                                        <p:tgtEl>
                                          <p:spTgt spid="1516">
                                            <p:txEl>
                                              <p:pRg st="3" end="3"/>
                                            </p:txEl>
                                          </p:spTgt>
                                        </p:tgtEl>
                                        <p:attrNameLst>
                                          <p:attrName>style.visibility</p:attrName>
                                        </p:attrNameLst>
                                      </p:cBhvr>
                                      <p:to>
                                        <p:strVal val="visible"/>
                                      </p:to>
                                    </p:set>
                                    <p:animEffect filter="strips(downRight)" transition="in">
                                      <p:cBhvr additive="repl">
                                        <p:cTn id="1436" dur="500"/>
                                        <p:tgtEl>
                                          <p:spTgt spid="1516">
                                            <p:txEl>
                                              <p:pRg st="3" end="3"/>
                                            </p:txEl>
                                          </p:spTgt>
                                        </p:tgtEl>
                                      </p:cBhvr>
                                    </p:animEffect>
                                  </p:childTnLst>
                                </p:cTn>
                              </p:par>
                              <p:par>
                                <p:cTn id="1437" nodeType="withEffect" fill="hold" presetClass="entr" presetID="18" presetSubtype="6">
                                  <p:stCondLst>
                                    <p:cond delay="0"/>
                                  </p:stCondLst>
                                  <p:childTnLst>
                                    <p:set>
                                      <p:cBhvr>
                                        <p:cTn id="1438" dur="1" fill="hold">
                                          <p:stCondLst>
                                            <p:cond delay="0"/>
                                          </p:stCondLst>
                                        </p:cTn>
                                        <p:tgtEl>
                                          <p:spTgt spid="1516">
                                            <p:txEl>
                                              <p:pRg st="4" end="4"/>
                                            </p:txEl>
                                          </p:spTgt>
                                        </p:tgtEl>
                                        <p:attrNameLst>
                                          <p:attrName>style.visibility</p:attrName>
                                        </p:attrNameLst>
                                      </p:cBhvr>
                                      <p:to>
                                        <p:strVal val="visible"/>
                                      </p:to>
                                    </p:set>
                                    <p:animEffect filter="strips(downRight)" transition="in">
                                      <p:cBhvr additive="repl">
                                        <p:cTn id="1439" dur="500"/>
                                        <p:tgtEl>
                                          <p:spTgt spid="1516">
                                            <p:txEl>
                                              <p:pRg st="4" end="4"/>
                                            </p:txEl>
                                          </p:spTgt>
                                        </p:tgtEl>
                                      </p:cBhvr>
                                    </p:animEffect>
                                  </p:childTnLst>
                                </p:cTn>
                              </p:par>
                            </p:childTnLst>
                          </p:cTn>
                        </p:par>
                        <p:par>
                          <p:cTn id="1440" fill="hold">
                            <p:stCondLst>
                              <p:cond delay="9100"/>
                            </p:stCondLst>
                            <p:childTnLst>
                              <p:par>
                                <p:cTn id="1441" nodeType="afterEffect" fill="hold" presetClass="entr" presetID="18" presetSubtype="6">
                                  <p:stCondLst>
                                    <p:cond delay="0"/>
                                  </p:stCondLst>
                                  <p:childTnLst>
                                    <p:set>
                                      <p:cBhvr>
                                        <p:cTn id="1442" dur="1" fill="hold">
                                          <p:stCondLst>
                                            <p:cond delay="0"/>
                                          </p:stCondLst>
                                        </p:cTn>
                                        <p:tgtEl>
                                          <p:spTgt spid="1517">
                                            <p:txEl>
                                              <p:pRg st="0" end="0"/>
                                            </p:txEl>
                                          </p:spTgt>
                                        </p:tgtEl>
                                        <p:attrNameLst>
                                          <p:attrName>style.visibility</p:attrName>
                                        </p:attrNameLst>
                                      </p:cBhvr>
                                      <p:to>
                                        <p:strVal val="visible"/>
                                      </p:to>
                                    </p:set>
                                    <p:animEffect filter="strips(downRight)" transition="in">
                                      <p:cBhvr additive="repl">
                                        <p:cTn id="1443" dur="500"/>
                                        <p:tgtEl>
                                          <p:spTgt spid="1517">
                                            <p:txEl>
                                              <p:pRg st="0" end="0"/>
                                            </p:txEl>
                                          </p:spTgt>
                                        </p:tgtEl>
                                      </p:cBhvr>
                                    </p:animEffect>
                                  </p:childTnLst>
                                </p:cTn>
                              </p:par>
                              <p:par>
                                <p:cTn id="1444" nodeType="withEffect" fill="hold" presetClass="entr" presetID="18" presetSubtype="6">
                                  <p:stCondLst>
                                    <p:cond delay="0"/>
                                  </p:stCondLst>
                                  <p:childTnLst>
                                    <p:set>
                                      <p:cBhvr>
                                        <p:cTn id="1445" dur="1" fill="hold">
                                          <p:stCondLst>
                                            <p:cond delay="0"/>
                                          </p:stCondLst>
                                        </p:cTn>
                                        <p:tgtEl>
                                          <p:spTgt spid="1517">
                                            <p:txEl>
                                              <p:pRg st="1" end="1"/>
                                            </p:txEl>
                                          </p:spTgt>
                                        </p:tgtEl>
                                        <p:attrNameLst>
                                          <p:attrName>style.visibility</p:attrName>
                                        </p:attrNameLst>
                                      </p:cBhvr>
                                      <p:to>
                                        <p:strVal val="visible"/>
                                      </p:to>
                                    </p:set>
                                    <p:animEffect filter="strips(downRight)" transition="in">
                                      <p:cBhvr additive="repl">
                                        <p:cTn id="1446" dur="500"/>
                                        <p:tgtEl>
                                          <p:spTgt spid="1517">
                                            <p:txEl>
                                              <p:pRg st="1" end="1"/>
                                            </p:txEl>
                                          </p:spTgt>
                                        </p:tgtEl>
                                      </p:cBhvr>
                                    </p:animEffect>
                                  </p:childTnLst>
                                </p:cTn>
                              </p:par>
                              <p:par>
                                <p:cTn id="1447" nodeType="withEffect" fill="hold" presetClass="entr" presetID="18" presetSubtype="6">
                                  <p:stCondLst>
                                    <p:cond delay="0"/>
                                  </p:stCondLst>
                                  <p:childTnLst>
                                    <p:set>
                                      <p:cBhvr>
                                        <p:cTn id="1448" dur="1" fill="hold">
                                          <p:stCondLst>
                                            <p:cond delay="0"/>
                                          </p:stCondLst>
                                        </p:cTn>
                                        <p:tgtEl>
                                          <p:spTgt spid="1517">
                                            <p:txEl>
                                              <p:pRg st="2" end="2"/>
                                            </p:txEl>
                                          </p:spTgt>
                                        </p:tgtEl>
                                        <p:attrNameLst>
                                          <p:attrName>style.visibility</p:attrName>
                                        </p:attrNameLst>
                                      </p:cBhvr>
                                      <p:to>
                                        <p:strVal val="visible"/>
                                      </p:to>
                                    </p:set>
                                    <p:animEffect filter="strips(downRight)" transition="in">
                                      <p:cBhvr additive="repl">
                                        <p:cTn id="1449" dur="500"/>
                                        <p:tgtEl>
                                          <p:spTgt spid="1517">
                                            <p:txEl>
                                              <p:pRg st="2" end="2"/>
                                            </p:txEl>
                                          </p:spTgt>
                                        </p:tgtEl>
                                      </p:cBhvr>
                                    </p:animEffect>
                                  </p:childTnLst>
                                </p:cTn>
                              </p:par>
                              <p:par>
                                <p:cTn id="1450" nodeType="withEffect" fill="hold" presetClass="entr" presetID="18" presetSubtype="6">
                                  <p:stCondLst>
                                    <p:cond delay="0"/>
                                  </p:stCondLst>
                                  <p:childTnLst>
                                    <p:set>
                                      <p:cBhvr>
                                        <p:cTn id="1451" dur="1" fill="hold">
                                          <p:stCondLst>
                                            <p:cond delay="0"/>
                                          </p:stCondLst>
                                        </p:cTn>
                                        <p:tgtEl>
                                          <p:spTgt spid="1517">
                                            <p:txEl>
                                              <p:pRg st="3" end="3"/>
                                            </p:txEl>
                                          </p:spTgt>
                                        </p:tgtEl>
                                        <p:attrNameLst>
                                          <p:attrName>style.visibility</p:attrName>
                                        </p:attrNameLst>
                                      </p:cBhvr>
                                      <p:to>
                                        <p:strVal val="visible"/>
                                      </p:to>
                                    </p:set>
                                    <p:animEffect filter="strips(downRight)" transition="in">
                                      <p:cBhvr additive="repl">
                                        <p:cTn id="1452" dur="500"/>
                                        <p:tgtEl>
                                          <p:spTgt spid="1517">
                                            <p:txEl>
                                              <p:pRg st="3" end="3"/>
                                            </p:txEl>
                                          </p:spTgt>
                                        </p:tgtEl>
                                      </p:cBhvr>
                                    </p:animEffect>
                                  </p:childTnLst>
                                </p:cTn>
                              </p:par>
                              <p:par>
                                <p:cTn id="1453" nodeType="withEffect" fill="hold" presetClass="entr" presetID="18" presetSubtype="6">
                                  <p:stCondLst>
                                    <p:cond delay="0"/>
                                  </p:stCondLst>
                                  <p:childTnLst>
                                    <p:set>
                                      <p:cBhvr>
                                        <p:cTn id="1454" dur="1" fill="hold">
                                          <p:stCondLst>
                                            <p:cond delay="0"/>
                                          </p:stCondLst>
                                        </p:cTn>
                                        <p:tgtEl>
                                          <p:spTgt spid="1517">
                                            <p:txEl>
                                              <p:pRg st="4" end="4"/>
                                            </p:txEl>
                                          </p:spTgt>
                                        </p:tgtEl>
                                        <p:attrNameLst>
                                          <p:attrName>style.visibility</p:attrName>
                                        </p:attrNameLst>
                                      </p:cBhvr>
                                      <p:to>
                                        <p:strVal val="visible"/>
                                      </p:to>
                                    </p:set>
                                    <p:animEffect filter="strips(downRight)" transition="in">
                                      <p:cBhvr additive="repl">
                                        <p:cTn id="1455" dur="500"/>
                                        <p:tgtEl>
                                          <p:spTgt spid="1517">
                                            <p:txEl>
                                              <p:pRg st="4" end="4"/>
                                            </p:txEl>
                                          </p:spTgt>
                                        </p:tgtEl>
                                      </p:cBhvr>
                                    </p:animEffect>
                                  </p:childTnLst>
                                </p:cTn>
                              </p:par>
                            </p:childTnLst>
                          </p:cTn>
                        </p:par>
                        <p:par>
                          <p:cTn id="1456" fill="hold">
                            <p:stCondLst>
                              <p:cond delay="9600"/>
                            </p:stCondLst>
                            <p:childTnLst>
                              <p:par>
                                <p:cTn id="1457" nodeType="afterEffect" fill="hold" presetClass="entr" presetID="18" presetSubtype="6">
                                  <p:stCondLst>
                                    <p:cond delay="0"/>
                                  </p:stCondLst>
                                  <p:childTnLst>
                                    <p:set>
                                      <p:cBhvr>
                                        <p:cTn id="1458" dur="1" fill="hold">
                                          <p:stCondLst>
                                            <p:cond delay="0"/>
                                          </p:stCondLst>
                                        </p:cTn>
                                        <p:tgtEl>
                                          <p:spTgt spid="1518">
                                            <p:txEl>
                                              <p:pRg st="0" end="0"/>
                                            </p:txEl>
                                          </p:spTgt>
                                        </p:tgtEl>
                                        <p:attrNameLst>
                                          <p:attrName>style.visibility</p:attrName>
                                        </p:attrNameLst>
                                      </p:cBhvr>
                                      <p:to>
                                        <p:strVal val="visible"/>
                                      </p:to>
                                    </p:set>
                                    <p:animEffect filter="strips(downRight)" transition="in">
                                      <p:cBhvr additive="repl">
                                        <p:cTn id="1459" dur="500"/>
                                        <p:tgtEl>
                                          <p:spTgt spid="1518">
                                            <p:txEl>
                                              <p:pRg st="0" end="0"/>
                                            </p:txEl>
                                          </p:spTgt>
                                        </p:tgtEl>
                                      </p:cBhvr>
                                    </p:animEffect>
                                  </p:childTnLst>
                                </p:cTn>
                              </p:par>
                              <p:par>
                                <p:cTn id="1460" nodeType="withEffect" fill="hold" presetClass="entr" presetID="18" presetSubtype="6">
                                  <p:stCondLst>
                                    <p:cond delay="0"/>
                                  </p:stCondLst>
                                  <p:childTnLst>
                                    <p:set>
                                      <p:cBhvr>
                                        <p:cTn id="1461" dur="1" fill="hold">
                                          <p:stCondLst>
                                            <p:cond delay="0"/>
                                          </p:stCondLst>
                                        </p:cTn>
                                        <p:tgtEl>
                                          <p:spTgt spid="1518">
                                            <p:txEl>
                                              <p:pRg st="1" end="1"/>
                                            </p:txEl>
                                          </p:spTgt>
                                        </p:tgtEl>
                                        <p:attrNameLst>
                                          <p:attrName>style.visibility</p:attrName>
                                        </p:attrNameLst>
                                      </p:cBhvr>
                                      <p:to>
                                        <p:strVal val="visible"/>
                                      </p:to>
                                    </p:set>
                                    <p:animEffect filter="strips(downRight)" transition="in">
                                      <p:cBhvr additive="repl">
                                        <p:cTn id="1462" dur="500"/>
                                        <p:tgtEl>
                                          <p:spTgt spid="1518">
                                            <p:txEl>
                                              <p:pRg st="1" end="1"/>
                                            </p:txEl>
                                          </p:spTgt>
                                        </p:tgtEl>
                                      </p:cBhvr>
                                    </p:animEffect>
                                  </p:childTnLst>
                                </p:cTn>
                              </p:par>
                              <p:par>
                                <p:cTn id="1463" nodeType="withEffect" fill="hold" presetClass="entr" presetID="18" presetSubtype="6">
                                  <p:stCondLst>
                                    <p:cond delay="0"/>
                                  </p:stCondLst>
                                  <p:childTnLst>
                                    <p:set>
                                      <p:cBhvr>
                                        <p:cTn id="1464" dur="1" fill="hold">
                                          <p:stCondLst>
                                            <p:cond delay="0"/>
                                          </p:stCondLst>
                                        </p:cTn>
                                        <p:tgtEl>
                                          <p:spTgt spid="1518">
                                            <p:txEl>
                                              <p:pRg st="2" end="2"/>
                                            </p:txEl>
                                          </p:spTgt>
                                        </p:tgtEl>
                                        <p:attrNameLst>
                                          <p:attrName>style.visibility</p:attrName>
                                        </p:attrNameLst>
                                      </p:cBhvr>
                                      <p:to>
                                        <p:strVal val="visible"/>
                                      </p:to>
                                    </p:set>
                                    <p:animEffect filter="strips(downRight)" transition="in">
                                      <p:cBhvr additive="repl">
                                        <p:cTn id="1465" dur="500"/>
                                        <p:tgtEl>
                                          <p:spTgt spid="1518">
                                            <p:txEl>
                                              <p:pRg st="2" end="2"/>
                                            </p:txEl>
                                          </p:spTgt>
                                        </p:tgtEl>
                                      </p:cBhvr>
                                    </p:animEffect>
                                  </p:childTnLst>
                                </p:cTn>
                              </p:par>
                              <p:par>
                                <p:cTn id="1466" nodeType="withEffect" fill="hold" presetClass="entr" presetID="18" presetSubtype="6">
                                  <p:stCondLst>
                                    <p:cond delay="0"/>
                                  </p:stCondLst>
                                  <p:childTnLst>
                                    <p:set>
                                      <p:cBhvr>
                                        <p:cTn id="1467" dur="1" fill="hold">
                                          <p:stCondLst>
                                            <p:cond delay="0"/>
                                          </p:stCondLst>
                                        </p:cTn>
                                        <p:tgtEl>
                                          <p:spTgt spid="1518">
                                            <p:txEl>
                                              <p:pRg st="3" end="3"/>
                                            </p:txEl>
                                          </p:spTgt>
                                        </p:tgtEl>
                                        <p:attrNameLst>
                                          <p:attrName>style.visibility</p:attrName>
                                        </p:attrNameLst>
                                      </p:cBhvr>
                                      <p:to>
                                        <p:strVal val="visible"/>
                                      </p:to>
                                    </p:set>
                                    <p:animEffect filter="strips(downRight)" transition="in">
                                      <p:cBhvr additive="repl">
                                        <p:cTn id="1468" dur="500"/>
                                        <p:tgtEl>
                                          <p:spTgt spid="1518">
                                            <p:txEl>
                                              <p:pRg st="3" end="3"/>
                                            </p:txEl>
                                          </p:spTgt>
                                        </p:tgtEl>
                                      </p:cBhvr>
                                    </p:animEffect>
                                  </p:childTnLst>
                                </p:cTn>
                              </p:par>
                              <p:par>
                                <p:cTn id="1469" nodeType="withEffect" fill="hold" presetClass="entr" presetID="18" presetSubtype="6">
                                  <p:stCondLst>
                                    <p:cond delay="0"/>
                                  </p:stCondLst>
                                  <p:childTnLst>
                                    <p:set>
                                      <p:cBhvr>
                                        <p:cTn id="1470" dur="1" fill="hold">
                                          <p:stCondLst>
                                            <p:cond delay="0"/>
                                          </p:stCondLst>
                                        </p:cTn>
                                        <p:tgtEl>
                                          <p:spTgt spid="1518">
                                            <p:txEl>
                                              <p:pRg st="4" end="4"/>
                                            </p:txEl>
                                          </p:spTgt>
                                        </p:tgtEl>
                                        <p:attrNameLst>
                                          <p:attrName>style.visibility</p:attrName>
                                        </p:attrNameLst>
                                      </p:cBhvr>
                                      <p:to>
                                        <p:strVal val="visible"/>
                                      </p:to>
                                    </p:set>
                                    <p:animEffect filter="strips(downRight)" transition="in">
                                      <p:cBhvr additive="repl">
                                        <p:cTn id="1471" dur="500"/>
                                        <p:tgtEl>
                                          <p:spTgt spid="1518">
                                            <p:txEl>
                                              <p:pRg st="4" end="4"/>
                                            </p:txEl>
                                          </p:spTgt>
                                        </p:tgtEl>
                                      </p:cBhvr>
                                    </p:animEffect>
                                  </p:childTnLst>
                                </p:cTn>
                              </p:par>
                            </p:childTnLst>
                          </p:cTn>
                        </p:par>
                        <p:par>
                          <p:cTn id="1472" fill="hold">
                            <p:stCondLst>
                              <p:cond delay="10100"/>
                            </p:stCondLst>
                            <p:childTnLst>
                              <p:par>
                                <p:cTn id="1473" nodeType="afterEffect" fill="hold" presetClass="entr" presetID="10">
                                  <p:stCondLst>
                                    <p:cond delay="0"/>
                                  </p:stCondLst>
                                  <p:childTnLst>
                                    <p:set>
                                      <p:cBhvr>
                                        <p:cTn id="1474" dur="1" fill="hold">
                                          <p:stCondLst>
                                            <p:cond delay="0"/>
                                          </p:stCondLst>
                                        </p:cTn>
                                        <p:tgtEl>
                                          <p:spTgt spid="1519">
                                            <p:txEl>
                                              <p:pRg st="0" end="0"/>
                                            </p:txEl>
                                          </p:spTgt>
                                        </p:tgtEl>
                                        <p:attrNameLst>
                                          <p:attrName>style.visibility</p:attrName>
                                        </p:attrNameLst>
                                      </p:cBhvr>
                                      <p:to>
                                        <p:strVal val="visible"/>
                                      </p:to>
                                    </p:set>
                                    <p:animEffect filter="fade" transition="in">
                                      <p:cBhvr additive="repl">
                                        <p:cTn id="1475" dur="500"/>
                                        <p:tgtEl>
                                          <p:spTgt spid="15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Chart 65"/>
          <p:cNvGraphicFramePr/>
          <p:nvPr/>
        </p:nvGraphicFramePr>
        <p:xfrm>
          <a:off x="8837640" y="2227320"/>
          <a:ext cx="2556000" cy="2727360"/>
        </p:xfrm>
        <a:graphic>
          <a:graphicData uri="http://schemas.openxmlformats.org/presentationml/2006/ole">
            <p:oleObj progId="Excel.Sheet.12" r:id="rId1" spid="">
              <p:embed/>
              <p:pic>
                <p:nvPicPr>
                  <p:cNvPr id="1525" name="Chart 65" descr=""/>
                  <p:cNvPicPr/>
                  <p:nvPr/>
                </p:nvPicPr>
                <p:blipFill>
                  <a:blip r:embed="rId2"/>
                  <a:stretch/>
                </p:blipFill>
                <p:spPr>
                  <a:xfrm>
                    <a:off x="8837640" y="2227320"/>
                    <a:ext cx="2556000" cy="2727360"/>
                  </a:xfrm>
                  <a:prstGeom prst="rect">
                    <a:avLst/>
                  </a:prstGeom>
                  <a:ln w="0">
                    <a:noFill/>
                  </a:ln>
                </p:spPr>
              </p:pic>
            </p:oleObj>
          </a:graphicData>
        </a:graphic>
      </p:graphicFrame>
      <p:graphicFrame>
        <p:nvGraphicFramePr>
          <p:cNvPr id="1526" name="Chart 67"/>
          <p:cNvGraphicFramePr/>
          <p:nvPr/>
        </p:nvGraphicFramePr>
        <p:xfrm>
          <a:off x="774720" y="2227320"/>
          <a:ext cx="2556000" cy="2727360"/>
        </p:xfrm>
        <a:graphic>
          <a:graphicData uri="http://schemas.openxmlformats.org/presentationml/2006/ole">
            <p:oleObj progId="Excel.Sheet.12" r:id="rId3" spid="">
              <p:embed/>
              <p:pic>
                <p:nvPicPr>
                  <p:cNvPr id="1527" name="Chart 67" descr=""/>
                  <p:cNvPicPr/>
                  <p:nvPr/>
                </p:nvPicPr>
                <p:blipFill>
                  <a:blip r:embed="rId4"/>
                  <a:stretch/>
                </p:blipFill>
                <p:spPr>
                  <a:xfrm>
                    <a:off x="774720" y="2227320"/>
                    <a:ext cx="2556000" cy="2727360"/>
                  </a:xfrm>
                  <a:prstGeom prst="rect">
                    <a:avLst/>
                  </a:prstGeom>
                  <a:ln w="0">
                    <a:noFill/>
                  </a:ln>
                </p:spPr>
              </p:pic>
            </p:oleObj>
          </a:graphicData>
        </a:graphic>
      </p:graphicFrame>
      <p:graphicFrame>
        <p:nvGraphicFramePr>
          <p:cNvPr id="1528" name="Chart 68"/>
          <p:cNvGraphicFramePr/>
          <p:nvPr/>
        </p:nvGraphicFramePr>
        <p:xfrm>
          <a:off x="3462480" y="2227320"/>
          <a:ext cx="2555640" cy="2727360"/>
        </p:xfrm>
        <a:graphic>
          <a:graphicData uri="http://schemas.openxmlformats.org/presentationml/2006/ole">
            <p:oleObj progId="Excel.Sheet.12" r:id="rId5" spid="">
              <p:embed/>
              <p:pic>
                <p:nvPicPr>
                  <p:cNvPr id="1529" name="Chart 68" descr=""/>
                  <p:cNvPicPr/>
                  <p:nvPr/>
                </p:nvPicPr>
                <p:blipFill>
                  <a:blip r:embed="rId6"/>
                  <a:stretch/>
                </p:blipFill>
                <p:spPr>
                  <a:xfrm>
                    <a:off x="3462480" y="2227320"/>
                    <a:ext cx="2555640" cy="2727360"/>
                  </a:xfrm>
                  <a:prstGeom prst="rect">
                    <a:avLst/>
                  </a:prstGeom>
                  <a:ln w="0">
                    <a:noFill/>
                  </a:ln>
                </p:spPr>
              </p:pic>
            </p:oleObj>
          </a:graphicData>
        </a:graphic>
      </p:graphicFrame>
      <p:graphicFrame>
        <p:nvGraphicFramePr>
          <p:cNvPr id="1530" name="Chart 69"/>
          <p:cNvGraphicFramePr/>
          <p:nvPr/>
        </p:nvGraphicFramePr>
        <p:xfrm>
          <a:off x="6149880" y="2227320"/>
          <a:ext cx="2556000" cy="2727360"/>
        </p:xfrm>
        <a:graphic>
          <a:graphicData uri="http://schemas.openxmlformats.org/presentationml/2006/ole">
            <p:oleObj progId="Excel.Sheet.12" r:id="rId7" spid="">
              <p:embed/>
              <p:pic>
                <p:nvPicPr>
                  <p:cNvPr id="1531" name="Chart 69" descr=""/>
                  <p:cNvPicPr/>
                  <p:nvPr/>
                </p:nvPicPr>
                <p:blipFill>
                  <a:blip r:embed="rId8"/>
                  <a:stretch/>
                </p:blipFill>
                <p:spPr>
                  <a:xfrm>
                    <a:off x="6149880" y="2227320"/>
                    <a:ext cx="2556000" cy="2727360"/>
                  </a:xfrm>
                  <a:prstGeom prst="rect">
                    <a:avLst/>
                  </a:prstGeom>
                  <a:ln w="0">
                    <a:noFill/>
                  </a:ln>
                </p:spPr>
              </p:pic>
            </p:oleObj>
          </a:graphicData>
        </a:graphic>
      </p:graphicFrame>
      <p:sp>
        <p:nvSpPr>
          <p:cNvPr id="1532"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BUSINESS CHART</a:t>
            </a:r>
            <a:endParaRPr b="0" lang="en-US" sz="3600" spc="-1" strike="noStrike">
              <a:solidFill>
                <a:srgbClr val="494949"/>
              </a:solidFill>
              <a:latin typeface="Lato Heavy"/>
            </a:endParaRPr>
          </a:p>
        </p:txBody>
      </p:sp>
      <p:sp>
        <p:nvSpPr>
          <p:cNvPr id="1533"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
        <p:nvSpPr>
          <p:cNvPr id="1534" name="Shape 62"/>
          <p:cNvSpPr/>
          <p:nvPr/>
        </p:nvSpPr>
        <p:spPr>
          <a:xfrm flipH="1">
            <a:off x="3114720" y="5560920"/>
            <a:ext cx="5943600" cy="0"/>
          </a:xfrm>
          <a:prstGeom prst="line">
            <a:avLst/>
          </a:prstGeom>
          <a:ln cap="rnd" w="9360">
            <a:solidFill>
              <a:srgbClr val="5267a5"/>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35" name="PlaceHolder 3"/>
          <p:cNvSpPr>
            <a:spLocks noGrp="1"/>
          </p:cNvSpPr>
          <p:nvPr>
            <p:ph/>
          </p:nvPr>
        </p:nvSpPr>
        <p:spPr>
          <a:xfrm>
            <a:off x="1969920" y="5796000"/>
            <a:ext cx="8280720" cy="66528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a:t>
            </a:r>
            <a:endParaRPr b="0" lang="en-US" sz="1000" spc="-1" strike="noStrike">
              <a:solidFill>
                <a:srgbClr val="494949"/>
              </a:solidFill>
              <a:latin typeface="Open Sans Light"/>
            </a:endParaRPr>
          </a:p>
        </p:txBody>
      </p:sp>
    </p:spTree>
  </p:cSld>
  <p:timing>
    <p:tnLst>
      <p:par>
        <p:cTn id="1476" dur="indefinite" restart="never" nodeType="tmRoot">
          <p:childTnLst>
            <p:seq>
              <p:cTn id="1477" dur="indefinite" nodeType="mainSeq">
                <p:childTnLst>
                  <p:par>
                    <p:cTn id="1478" fill="hold">
                      <p:stCondLst>
                        <p:cond delay="0"/>
                      </p:stCondLst>
                      <p:childTnLst>
                        <p:par>
                          <p:cTn id="1479" fill="hold">
                            <p:stCondLst>
                              <p:cond delay="0"/>
                            </p:stCondLst>
                            <p:childTnLst>
                              <p:par>
                                <p:cTn id="1480" nodeType="afterEffect" fill="hold" presetClass="entr" presetID="22" presetSubtype="8">
                                  <p:stCondLst>
                                    <p:cond delay="0"/>
                                  </p:stCondLst>
                                  <p:childTnLst>
                                    <p:set>
                                      <p:cBhvr>
                                        <p:cTn id="1481" dur="1" fill="hold">
                                          <p:stCondLst>
                                            <p:cond delay="0"/>
                                          </p:stCondLst>
                                        </p:cTn>
                                        <p:tgtEl>
                                          <p:spTgt spid="1533">
                                            <p:txEl>
                                              <p:pRg st="0" end="0"/>
                                            </p:txEl>
                                          </p:spTgt>
                                        </p:tgtEl>
                                        <p:attrNameLst>
                                          <p:attrName>style.visibility</p:attrName>
                                        </p:attrNameLst>
                                      </p:cBhvr>
                                      <p:to>
                                        <p:strVal val="visible"/>
                                      </p:to>
                                    </p:set>
                                    <p:animEffect filter="wipe(left)" transition="in">
                                      <p:cBhvr additive="repl">
                                        <p:cTn id="1482" dur="500"/>
                                        <p:tgtEl>
                                          <p:spTgt spid="1533">
                                            <p:txEl>
                                              <p:pRg st="0" end="0"/>
                                            </p:txEl>
                                          </p:spTgt>
                                        </p:tgtEl>
                                      </p:cBhvr>
                                    </p:animEffect>
                                  </p:childTnLst>
                                </p:cTn>
                              </p:par>
                            </p:childTnLst>
                          </p:cTn>
                        </p:par>
                        <p:par>
                          <p:cTn id="1483" fill="hold">
                            <p:stCondLst>
                              <p:cond delay="500"/>
                            </p:stCondLst>
                            <p:childTnLst>
                              <p:par>
                                <p:cTn id="1484" nodeType="afterEffect" fill="hold" presetClass="entr" presetID="10">
                                  <p:stCondLst>
                                    <p:cond delay="0"/>
                                  </p:stCondLst>
                                  <p:childTnLst>
                                    <p:set>
                                      <p:cBhvr>
                                        <p:cTn id="1485" dur="1" fill="hold">
                                          <p:stCondLst>
                                            <p:cond delay="0"/>
                                          </p:stCondLst>
                                        </p:cTn>
                                        <p:tgtEl>
                                          <p:spTgt spid="1534"/>
                                        </p:tgtEl>
                                        <p:attrNameLst>
                                          <p:attrName>style.visibility</p:attrName>
                                        </p:attrNameLst>
                                      </p:cBhvr>
                                      <p:to>
                                        <p:strVal val="visible"/>
                                      </p:to>
                                    </p:set>
                                    <p:animEffect filter="fade" transition="in">
                                      <p:cBhvr additive="repl">
                                        <p:cTn id="1486" dur="500"/>
                                        <p:tgtEl>
                                          <p:spTgt spid="1534"/>
                                        </p:tgtEl>
                                      </p:cBhvr>
                                    </p:animEffect>
                                  </p:childTnLst>
                                </p:cTn>
                              </p:par>
                            </p:childTnLst>
                          </p:cTn>
                        </p:par>
                        <p:par>
                          <p:cTn id="1487" fill="hold">
                            <p:stCondLst>
                              <p:cond delay="1000"/>
                            </p:stCondLst>
                            <p:childTnLst>
                              <p:par>
                                <p:cTn id="1488" nodeType="afterEffect" fill="hold" presetClass="entr" presetID="22" presetSubtype="1">
                                  <p:stCondLst>
                                    <p:cond delay="0"/>
                                  </p:stCondLst>
                                  <p:childTnLst>
                                    <p:set>
                                      <p:cBhvr>
                                        <p:cTn id="1489" dur="1" fill="hold">
                                          <p:stCondLst>
                                            <p:cond delay="0"/>
                                          </p:stCondLst>
                                        </p:cTn>
                                        <p:tgtEl>
                                          <p:spTgt spid="1535">
                                            <p:txEl>
                                              <p:pRg st="0" end="0"/>
                                            </p:txEl>
                                          </p:spTgt>
                                        </p:tgtEl>
                                        <p:attrNameLst>
                                          <p:attrName>style.visibility</p:attrName>
                                        </p:attrNameLst>
                                      </p:cBhvr>
                                      <p:to>
                                        <p:strVal val="visible"/>
                                      </p:to>
                                    </p:set>
                                    <p:animEffect filter="wipe(up)" transition="in">
                                      <p:cBhvr additive="repl">
                                        <p:cTn id="1490" dur="500"/>
                                        <p:tgtEl>
                                          <p:spTgt spid="1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Shape 1138"/>
          <p:cNvSpPr/>
          <p:nvPr/>
        </p:nvSpPr>
        <p:spPr>
          <a:xfrm>
            <a:off x="5022720" y="2741760"/>
            <a:ext cx="2146320" cy="2479680"/>
          </a:xfrm>
          <a:custGeom>
            <a:avLst/>
            <a:gdLst/>
            <a:ahLst/>
            <a:rect l="l" t="t" r="r" b="b"/>
            <a:pathLst>
              <a:path w="21600" h="21600">
                <a:moveTo>
                  <a:pt x="10800" y="0"/>
                </a:moveTo>
                <a:lnTo>
                  <a:pt x="21600" y="5400"/>
                </a:lnTo>
                <a:lnTo>
                  <a:pt x="21600" y="16200"/>
                </a:lnTo>
                <a:lnTo>
                  <a:pt x="10800" y="21600"/>
                </a:lnTo>
                <a:lnTo>
                  <a:pt x="0" y="16200"/>
                </a:lnTo>
                <a:lnTo>
                  <a:pt x="0" y="5400"/>
                </a:lnTo>
                <a:lnTo>
                  <a:pt x="10800" y="0"/>
                </a:lnTo>
                <a:close/>
              </a:path>
            </a:pathLst>
          </a:custGeom>
          <a:solidFill>
            <a:srgbClr val="00a09c"/>
          </a:solidFill>
          <a:ln w="0">
            <a:noFill/>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grpSp>
        <p:nvGrpSpPr>
          <p:cNvPr id="1537" name="Group 1"/>
          <p:cNvGrpSpPr/>
          <p:nvPr/>
        </p:nvGrpSpPr>
        <p:grpSpPr>
          <a:xfrm>
            <a:off x="5824440" y="2463840"/>
            <a:ext cx="542880" cy="544320"/>
            <a:chOff x="5824440" y="2463840"/>
            <a:chExt cx="542880" cy="544320"/>
          </a:xfrm>
        </p:grpSpPr>
        <p:sp>
          <p:nvSpPr>
            <p:cNvPr id="1538" name="Shape 1139"/>
            <p:cNvSpPr/>
            <p:nvPr/>
          </p:nvSpPr>
          <p:spPr>
            <a:xfrm>
              <a:off x="5824440" y="2463840"/>
              <a:ext cx="542880" cy="544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39" name="Shape 1140"/>
            <p:cNvSpPr/>
            <p:nvPr/>
          </p:nvSpPr>
          <p:spPr>
            <a:xfrm>
              <a:off x="5967000" y="2588040"/>
              <a:ext cx="257760" cy="256680"/>
            </a:xfrm>
            <a:custGeom>
              <a:avLst/>
              <a:gdLst/>
              <a:ahLst/>
              <a:rect l="l" t="t" r="r" b="b"/>
              <a:pathLst>
                <a:path w="21600" h="21600">
                  <a:moveTo>
                    <a:pt x="16241" y="491"/>
                  </a:moveTo>
                  <a:cubicBezTo>
                    <a:pt x="16241" y="164"/>
                    <a:pt x="16078" y="0"/>
                    <a:pt x="15753" y="0"/>
                  </a:cubicBezTo>
                  <a:cubicBezTo>
                    <a:pt x="5847" y="0"/>
                    <a:pt x="5847" y="0"/>
                    <a:pt x="5847" y="0"/>
                  </a:cubicBezTo>
                  <a:cubicBezTo>
                    <a:pt x="5522" y="0"/>
                    <a:pt x="5359" y="164"/>
                    <a:pt x="5359" y="491"/>
                  </a:cubicBezTo>
                  <a:cubicBezTo>
                    <a:pt x="5359" y="5400"/>
                    <a:pt x="5359" y="5400"/>
                    <a:pt x="5359" y="5400"/>
                  </a:cubicBezTo>
                  <a:cubicBezTo>
                    <a:pt x="16241" y="5400"/>
                    <a:pt x="16241" y="5400"/>
                    <a:pt x="16241" y="5400"/>
                  </a:cubicBezTo>
                  <a:lnTo>
                    <a:pt x="16241" y="491"/>
                  </a:lnTo>
                  <a:close/>
                  <a:moveTo>
                    <a:pt x="16403" y="16691"/>
                  </a:moveTo>
                  <a:cubicBezTo>
                    <a:pt x="16241" y="16527"/>
                    <a:pt x="16078" y="16364"/>
                    <a:pt x="15916" y="16364"/>
                  </a:cubicBezTo>
                  <a:cubicBezTo>
                    <a:pt x="5684" y="16364"/>
                    <a:pt x="5684" y="16364"/>
                    <a:pt x="5684" y="16364"/>
                  </a:cubicBezTo>
                  <a:cubicBezTo>
                    <a:pt x="5522" y="16364"/>
                    <a:pt x="5359" y="16527"/>
                    <a:pt x="5197" y="16691"/>
                  </a:cubicBezTo>
                  <a:cubicBezTo>
                    <a:pt x="3573" y="21109"/>
                    <a:pt x="3573" y="21109"/>
                    <a:pt x="3573" y="21109"/>
                  </a:cubicBezTo>
                  <a:cubicBezTo>
                    <a:pt x="3573" y="21273"/>
                    <a:pt x="3573" y="21273"/>
                    <a:pt x="3735" y="21436"/>
                  </a:cubicBezTo>
                  <a:cubicBezTo>
                    <a:pt x="3735" y="21600"/>
                    <a:pt x="3898" y="21600"/>
                    <a:pt x="4060" y="21600"/>
                  </a:cubicBezTo>
                  <a:cubicBezTo>
                    <a:pt x="17540" y="21600"/>
                    <a:pt x="17540" y="21600"/>
                    <a:pt x="17540" y="21600"/>
                  </a:cubicBezTo>
                  <a:cubicBezTo>
                    <a:pt x="17702" y="21600"/>
                    <a:pt x="17865" y="21600"/>
                    <a:pt x="17865" y="21436"/>
                  </a:cubicBezTo>
                  <a:cubicBezTo>
                    <a:pt x="18027" y="21273"/>
                    <a:pt x="18027" y="21273"/>
                    <a:pt x="18027" y="21109"/>
                  </a:cubicBezTo>
                  <a:lnTo>
                    <a:pt x="16403" y="16691"/>
                  </a:lnTo>
                  <a:close/>
                  <a:moveTo>
                    <a:pt x="4872" y="9164"/>
                  </a:moveTo>
                  <a:cubicBezTo>
                    <a:pt x="4872" y="10964"/>
                    <a:pt x="4872" y="10964"/>
                    <a:pt x="4872" y="10964"/>
                  </a:cubicBezTo>
                  <a:cubicBezTo>
                    <a:pt x="16565" y="10964"/>
                    <a:pt x="16565" y="10964"/>
                    <a:pt x="16565" y="10964"/>
                  </a:cubicBezTo>
                  <a:cubicBezTo>
                    <a:pt x="16565" y="9164"/>
                    <a:pt x="16565" y="9164"/>
                    <a:pt x="16565" y="9164"/>
                  </a:cubicBezTo>
                  <a:cubicBezTo>
                    <a:pt x="16565" y="9164"/>
                    <a:pt x="15266" y="6545"/>
                    <a:pt x="15266" y="6545"/>
                  </a:cubicBezTo>
                  <a:cubicBezTo>
                    <a:pt x="6334" y="6545"/>
                    <a:pt x="6334" y="6545"/>
                    <a:pt x="6334" y="6545"/>
                  </a:cubicBezTo>
                  <a:cubicBezTo>
                    <a:pt x="6334" y="6545"/>
                    <a:pt x="4872" y="9164"/>
                    <a:pt x="4872" y="9164"/>
                  </a:cubicBezTo>
                  <a:close/>
                  <a:moveTo>
                    <a:pt x="10719" y="8345"/>
                  </a:moveTo>
                  <a:cubicBezTo>
                    <a:pt x="11693" y="8345"/>
                    <a:pt x="12505" y="8673"/>
                    <a:pt x="12505" y="9164"/>
                  </a:cubicBezTo>
                  <a:cubicBezTo>
                    <a:pt x="12505" y="9655"/>
                    <a:pt x="11693" y="10145"/>
                    <a:pt x="10719" y="10145"/>
                  </a:cubicBezTo>
                  <a:cubicBezTo>
                    <a:pt x="9907" y="10145"/>
                    <a:pt x="9095" y="9655"/>
                    <a:pt x="9095" y="9164"/>
                  </a:cubicBezTo>
                  <a:cubicBezTo>
                    <a:pt x="9095" y="8673"/>
                    <a:pt x="9907" y="8345"/>
                    <a:pt x="10719" y="8345"/>
                  </a:cubicBezTo>
                  <a:close/>
                  <a:moveTo>
                    <a:pt x="19326" y="6545"/>
                  </a:moveTo>
                  <a:cubicBezTo>
                    <a:pt x="16403" y="6545"/>
                    <a:pt x="16403" y="6545"/>
                    <a:pt x="16403" y="6545"/>
                  </a:cubicBezTo>
                  <a:cubicBezTo>
                    <a:pt x="17540" y="8836"/>
                    <a:pt x="17540" y="8836"/>
                    <a:pt x="17540" y="8836"/>
                  </a:cubicBezTo>
                  <a:cubicBezTo>
                    <a:pt x="17540" y="8836"/>
                    <a:pt x="17540" y="8836"/>
                    <a:pt x="17540" y="8836"/>
                  </a:cubicBezTo>
                  <a:cubicBezTo>
                    <a:pt x="17702" y="8836"/>
                    <a:pt x="17702" y="8836"/>
                    <a:pt x="17702" y="9000"/>
                  </a:cubicBezTo>
                  <a:cubicBezTo>
                    <a:pt x="17702" y="9000"/>
                    <a:pt x="17702" y="11455"/>
                    <a:pt x="17702" y="11455"/>
                  </a:cubicBezTo>
                  <a:cubicBezTo>
                    <a:pt x="17702" y="11782"/>
                    <a:pt x="17540" y="11945"/>
                    <a:pt x="17215" y="11945"/>
                  </a:cubicBezTo>
                  <a:cubicBezTo>
                    <a:pt x="4385" y="11945"/>
                    <a:pt x="4385" y="11945"/>
                    <a:pt x="4385" y="11945"/>
                  </a:cubicBezTo>
                  <a:cubicBezTo>
                    <a:pt x="4060" y="11945"/>
                    <a:pt x="3898" y="11782"/>
                    <a:pt x="3898" y="11455"/>
                  </a:cubicBezTo>
                  <a:cubicBezTo>
                    <a:pt x="3898" y="11455"/>
                    <a:pt x="3898" y="9164"/>
                    <a:pt x="3898" y="9000"/>
                  </a:cubicBezTo>
                  <a:cubicBezTo>
                    <a:pt x="3898" y="8836"/>
                    <a:pt x="3898" y="8836"/>
                    <a:pt x="4060" y="8836"/>
                  </a:cubicBezTo>
                  <a:cubicBezTo>
                    <a:pt x="5197" y="6545"/>
                    <a:pt x="5197" y="6545"/>
                    <a:pt x="5197" y="6545"/>
                  </a:cubicBezTo>
                  <a:cubicBezTo>
                    <a:pt x="2274" y="6545"/>
                    <a:pt x="2274" y="6545"/>
                    <a:pt x="2274" y="6545"/>
                  </a:cubicBezTo>
                  <a:cubicBezTo>
                    <a:pt x="974" y="6545"/>
                    <a:pt x="0" y="7691"/>
                    <a:pt x="0" y="8836"/>
                  </a:cubicBezTo>
                  <a:cubicBezTo>
                    <a:pt x="0" y="16527"/>
                    <a:pt x="0" y="16527"/>
                    <a:pt x="0" y="16527"/>
                  </a:cubicBezTo>
                  <a:cubicBezTo>
                    <a:pt x="0" y="17836"/>
                    <a:pt x="974" y="18818"/>
                    <a:pt x="2274" y="18818"/>
                  </a:cubicBezTo>
                  <a:cubicBezTo>
                    <a:pt x="3086" y="18818"/>
                    <a:pt x="3086" y="18818"/>
                    <a:pt x="3086" y="18818"/>
                  </a:cubicBezTo>
                  <a:cubicBezTo>
                    <a:pt x="4060" y="16200"/>
                    <a:pt x="4060" y="16200"/>
                    <a:pt x="4060" y="16200"/>
                  </a:cubicBezTo>
                  <a:cubicBezTo>
                    <a:pt x="4223" y="15545"/>
                    <a:pt x="5035" y="15055"/>
                    <a:pt x="5684" y="15055"/>
                  </a:cubicBezTo>
                  <a:cubicBezTo>
                    <a:pt x="15916" y="15055"/>
                    <a:pt x="15916" y="15055"/>
                    <a:pt x="15916" y="15055"/>
                  </a:cubicBezTo>
                  <a:cubicBezTo>
                    <a:pt x="16565" y="15055"/>
                    <a:pt x="17377" y="15545"/>
                    <a:pt x="17540" y="16200"/>
                  </a:cubicBezTo>
                  <a:cubicBezTo>
                    <a:pt x="18514" y="18818"/>
                    <a:pt x="18514" y="18818"/>
                    <a:pt x="18514" y="18818"/>
                  </a:cubicBezTo>
                  <a:cubicBezTo>
                    <a:pt x="19326" y="18818"/>
                    <a:pt x="19326" y="18818"/>
                    <a:pt x="19326" y="18818"/>
                  </a:cubicBezTo>
                  <a:cubicBezTo>
                    <a:pt x="20626" y="18818"/>
                    <a:pt x="21600" y="17836"/>
                    <a:pt x="21600" y="16527"/>
                  </a:cubicBezTo>
                  <a:cubicBezTo>
                    <a:pt x="21600" y="8836"/>
                    <a:pt x="21600" y="8836"/>
                    <a:pt x="21600" y="8836"/>
                  </a:cubicBezTo>
                  <a:cubicBezTo>
                    <a:pt x="21600" y="7691"/>
                    <a:pt x="20626" y="6545"/>
                    <a:pt x="19326" y="6545"/>
                  </a:cubicBez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540" name="Group 2"/>
          <p:cNvGrpSpPr/>
          <p:nvPr/>
        </p:nvGrpSpPr>
        <p:grpSpPr>
          <a:xfrm>
            <a:off x="6900840" y="3089160"/>
            <a:ext cx="542880" cy="544680"/>
            <a:chOff x="6900840" y="3089160"/>
            <a:chExt cx="542880" cy="544680"/>
          </a:xfrm>
        </p:grpSpPr>
        <p:sp>
          <p:nvSpPr>
            <p:cNvPr id="1541" name="Shape 1142"/>
            <p:cNvSpPr/>
            <p:nvPr/>
          </p:nvSpPr>
          <p:spPr>
            <a:xfrm>
              <a:off x="6900840" y="3089160"/>
              <a:ext cx="542880" cy="54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42" name="Shape 1143"/>
            <p:cNvSpPr/>
            <p:nvPr/>
          </p:nvSpPr>
          <p:spPr>
            <a:xfrm>
              <a:off x="7063200" y="3233160"/>
              <a:ext cx="212400" cy="256680"/>
            </a:xfrm>
            <a:custGeom>
              <a:avLst/>
              <a:gdLst/>
              <a:ahLst/>
              <a:rect l="l" t="t" r="r" b="b"/>
              <a:pathLst>
                <a:path w="21168" h="21600">
                  <a:moveTo>
                    <a:pt x="10585" y="5651"/>
                  </a:moveTo>
                  <a:cubicBezTo>
                    <a:pt x="5710" y="5648"/>
                    <a:pt x="2252" y="4179"/>
                    <a:pt x="2252" y="3629"/>
                  </a:cubicBezTo>
                  <a:cubicBezTo>
                    <a:pt x="2250" y="3083"/>
                    <a:pt x="5710" y="1611"/>
                    <a:pt x="10585" y="1615"/>
                  </a:cubicBezTo>
                  <a:cubicBezTo>
                    <a:pt x="15458" y="1611"/>
                    <a:pt x="18918" y="3083"/>
                    <a:pt x="18916" y="3629"/>
                  </a:cubicBezTo>
                  <a:cubicBezTo>
                    <a:pt x="18916" y="4179"/>
                    <a:pt x="15458" y="5648"/>
                    <a:pt x="10585" y="5651"/>
                  </a:cubicBezTo>
                  <a:close/>
                  <a:moveTo>
                    <a:pt x="10585" y="0"/>
                  </a:moveTo>
                  <a:cubicBezTo>
                    <a:pt x="3924" y="0"/>
                    <a:pt x="-216" y="1857"/>
                    <a:pt x="9" y="3364"/>
                  </a:cubicBezTo>
                  <a:lnTo>
                    <a:pt x="2252" y="18994"/>
                  </a:lnTo>
                  <a:cubicBezTo>
                    <a:pt x="2342" y="19602"/>
                    <a:pt x="5710" y="21597"/>
                    <a:pt x="10585" y="21600"/>
                  </a:cubicBezTo>
                  <a:cubicBezTo>
                    <a:pt x="15458" y="21597"/>
                    <a:pt x="18826" y="19602"/>
                    <a:pt x="18916" y="18994"/>
                  </a:cubicBezTo>
                  <a:lnTo>
                    <a:pt x="21159" y="3364"/>
                  </a:lnTo>
                  <a:cubicBezTo>
                    <a:pt x="21384" y="1857"/>
                    <a:pt x="17246" y="0"/>
                    <a:pt x="10585"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sp>
        <p:nvSpPr>
          <p:cNvPr id="1543" name="Shape 1146"/>
          <p:cNvSpPr/>
          <p:nvPr/>
        </p:nvSpPr>
        <p:spPr>
          <a:xfrm>
            <a:off x="5823000" y="3405240"/>
            <a:ext cx="482400" cy="544320"/>
          </a:xfrm>
          <a:custGeom>
            <a:avLst/>
            <a:gdLst/>
            <a:ahLst/>
            <a:rect l="l" t="t" r="r" b="b"/>
            <a:pathLst>
              <a:path w="21600" h="20959">
                <a:moveTo>
                  <a:pt x="4049" y="7519"/>
                </a:moveTo>
                <a:cubicBezTo>
                  <a:pt x="3162" y="7519"/>
                  <a:pt x="0" y="7985"/>
                  <a:pt x="0" y="11154"/>
                </a:cubicBezTo>
                <a:lnTo>
                  <a:pt x="0" y="16799"/>
                </a:lnTo>
                <a:cubicBezTo>
                  <a:pt x="0" y="19968"/>
                  <a:pt x="3162" y="20318"/>
                  <a:pt x="4049" y="20318"/>
                </a:cubicBezTo>
                <a:cubicBezTo>
                  <a:pt x="4937" y="20318"/>
                  <a:pt x="2699" y="19651"/>
                  <a:pt x="2699" y="17687"/>
                </a:cubicBezTo>
                <a:lnTo>
                  <a:pt x="2699" y="10267"/>
                </a:lnTo>
                <a:cubicBezTo>
                  <a:pt x="2699" y="8207"/>
                  <a:pt x="4937" y="7519"/>
                  <a:pt x="4049" y="7519"/>
                </a:cubicBezTo>
                <a:close/>
                <a:moveTo>
                  <a:pt x="15725" y="7408"/>
                </a:moveTo>
                <a:cubicBezTo>
                  <a:pt x="15548" y="6995"/>
                  <a:pt x="20503" y="3177"/>
                  <a:pt x="17612" y="83"/>
                </a:cubicBezTo>
                <a:cubicBezTo>
                  <a:pt x="16934" y="-641"/>
                  <a:pt x="14641" y="3547"/>
                  <a:pt x="11381" y="5443"/>
                </a:cubicBezTo>
                <a:cubicBezTo>
                  <a:pt x="9583" y="6489"/>
                  <a:pt x="5399" y="8716"/>
                  <a:pt x="5399" y="9946"/>
                </a:cubicBezTo>
                <a:lnTo>
                  <a:pt x="5399" y="17911"/>
                </a:lnTo>
                <a:cubicBezTo>
                  <a:pt x="5399" y="19392"/>
                  <a:pt x="12033" y="20959"/>
                  <a:pt x="17076" y="20959"/>
                </a:cubicBezTo>
                <a:cubicBezTo>
                  <a:pt x="18923" y="20959"/>
                  <a:pt x="21600" y="10974"/>
                  <a:pt x="21600" y="9387"/>
                </a:cubicBezTo>
                <a:cubicBezTo>
                  <a:pt x="21600" y="7795"/>
                  <a:pt x="15902" y="7823"/>
                  <a:pt x="15725" y="740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nvGrpSpPr>
          <p:cNvPr id="1544" name="Group 5"/>
          <p:cNvGrpSpPr/>
          <p:nvPr/>
        </p:nvGrpSpPr>
        <p:grpSpPr>
          <a:xfrm>
            <a:off x="6900840" y="4346640"/>
            <a:ext cx="542880" cy="542880"/>
            <a:chOff x="6900840" y="4346640"/>
            <a:chExt cx="542880" cy="542880"/>
          </a:xfrm>
        </p:grpSpPr>
        <p:sp>
          <p:nvSpPr>
            <p:cNvPr id="1545" name="Shape 1148"/>
            <p:cNvSpPr/>
            <p:nvPr/>
          </p:nvSpPr>
          <p:spPr>
            <a:xfrm>
              <a:off x="6900840" y="4346640"/>
              <a:ext cx="542880" cy="5428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46" name="Shape 1149"/>
            <p:cNvSpPr/>
            <p:nvPr/>
          </p:nvSpPr>
          <p:spPr>
            <a:xfrm>
              <a:off x="7027920" y="4528800"/>
              <a:ext cx="253080" cy="203400"/>
            </a:xfrm>
            <a:custGeom>
              <a:avLst/>
              <a:gdLst/>
              <a:ahLst/>
              <a:rect l="l" t="t" r="r" b="b"/>
              <a:pathLst>
                <a:path w="21400" h="21363">
                  <a:moveTo>
                    <a:pt x="7274" y="21020"/>
                  </a:moveTo>
                  <a:cubicBezTo>
                    <a:pt x="7274" y="21376"/>
                    <a:pt x="7435" y="21475"/>
                    <a:pt x="7659" y="21222"/>
                  </a:cubicBezTo>
                  <a:cubicBezTo>
                    <a:pt x="7951" y="20894"/>
                    <a:pt x="10973" y="17529"/>
                    <a:pt x="10973" y="17529"/>
                  </a:cubicBezTo>
                  <a:lnTo>
                    <a:pt x="7274" y="15153"/>
                  </a:lnTo>
                  <a:cubicBezTo>
                    <a:pt x="7274" y="15153"/>
                    <a:pt x="7274" y="21020"/>
                    <a:pt x="7274" y="21020"/>
                  </a:cubicBezTo>
                  <a:close/>
                  <a:moveTo>
                    <a:pt x="20812" y="50"/>
                  </a:moveTo>
                  <a:cubicBezTo>
                    <a:pt x="20412" y="224"/>
                    <a:pt x="667" y="8860"/>
                    <a:pt x="277" y="9030"/>
                  </a:cubicBezTo>
                  <a:cubicBezTo>
                    <a:pt x="-53" y="9174"/>
                    <a:pt x="-126" y="9528"/>
                    <a:pt x="266" y="9723"/>
                  </a:cubicBezTo>
                  <a:cubicBezTo>
                    <a:pt x="733" y="9955"/>
                    <a:pt x="4681" y="11919"/>
                    <a:pt x="4681" y="11919"/>
                  </a:cubicBezTo>
                  <a:lnTo>
                    <a:pt x="4681" y="11919"/>
                  </a:lnTo>
                  <a:lnTo>
                    <a:pt x="7298" y="13221"/>
                  </a:lnTo>
                  <a:cubicBezTo>
                    <a:pt x="7298" y="13221"/>
                    <a:pt x="19903" y="1732"/>
                    <a:pt x="20073" y="1577"/>
                  </a:cubicBezTo>
                  <a:cubicBezTo>
                    <a:pt x="20246" y="1420"/>
                    <a:pt x="20443" y="1713"/>
                    <a:pt x="20319" y="1881"/>
                  </a:cubicBezTo>
                  <a:cubicBezTo>
                    <a:pt x="20194" y="2050"/>
                    <a:pt x="11163" y="14170"/>
                    <a:pt x="11163" y="14170"/>
                  </a:cubicBezTo>
                  <a:cubicBezTo>
                    <a:pt x="11163" y="14170"/>
                    <a:pt x="11163" y="14170"/>
                    <a:pt x="11163" y="14171"/>
                  </a:cubicBezTo>
                  <a:lnTo>
                    <a:pt x="10637" y="14898"/>
                  </a:lnTo>
                  <a:lnTo>
                    <a:pt x="11333" y="15363"/>
                  </a:lnTo>
                  <a:lnTo>
                    <a:pt x="11333" y="15363"/>
                  </a:lnTo>
                  <a:cubicBezTo>
                    <a:pt x="11333" y="15363"/>
                    <a:pt x="16742" y="18976"/>
                    <a:pt x="17127" y="19234"/>
                  </a:cubicBezTo>
                  <a:cubicBezTo>
                    <a:pt x="17464" y="19459"/>
                    <a:pt x="17904" y="19272"/>
                    <a:pt x="18001" y="18750"/>
                  </a:cubicBezTo>
                  <a:cubicBezTo>
                    <a:pt x="18117" y="18135"/>
                    <a:pt x="21310" y="1052"/>
                    <a:pt x="21382" y="671"/>
                  </a:cubicBezTo>
                  <a:cubicBezTo>
                    <a:pt x="21474" y="177"/>
                    <a:pt x="21211" y="-125"/>
                    <a:pt x="20812" y="5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547" name="Group 6"/>
          <p:cNvGrpSpPr/>
          <p:nvPr/>
        </p:nvGrpSpPr>
        <p:grpSpPr>
          <a:xfrm>
            <a:off x="5824440" y="4954680"/>
            <a:ext cx="542880" cy="544320"/>
            <a:chOff x="5824440" y="4954680"/>
            <a:chExt cx="542880" cy="544320"/>
          </a:xfrm>
        </p:grpSpPr>
        <p:sp>
          <p:nvSpPr>
            <p:cNvPr id="1548" name="Shape 1151"/>
            <p:cNvSpPr/>
            <p:nvPr/>
          </p:nvSpPr>
          <p:spPr>
            <a:xfrm>
              <a:off x="5824440" y="4954680"/>
              <a:ext cx="542880" cy="544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49" name="Shape 1152"/>
            <p:cNvSpPr/>
            <p:nvPr/>
          </p:nvSpPr>
          <p:spPr>
            <a:xfrm>
              <a:off x="5969160" y="5099760"/>
              <a:ext cx="253080" cy="253800"/>
            </a:xfrm>
            <a:custGeom>
              <a:avLst/>
              <a:gdLst/>
              <a:ahLst/>
              <a:rect l="l" t="t" r="r" b="b"/>
              <a:pathLst>
                <a:path w="21600" h="21600">
                  <a:moveTo>
                    <a:pt x="7856" y="13527"/>
                  </a:moveTo>
                  <a:lnTo>
                    <a:pt x="21138" y="9731"/>
                  </a:lnTo>
                  <a:cubicBezTo>
                    <a:pt x="21392" y="9659"/>
                    <a:pt x="21600" y="9385"/>
                    <a:pt x="21600" y="9120"/>
                  </a:cubicBezTo>
                  <a:lnTo>
                    <a:pt x="21600" y="2520"/>
                  </a:lnTo>
                  <a:lnTo>
                    <a:pt x="4680" y="2520"/>
                  </a:lnTo>
                  <a:lnTo>
                    <a:pt x="4680" y="481"/>
                  </a:lnTo>
                  <a:cubicBezTo>
                    <a:pt x="4680" y="217"/>
                    <a:pt x="4465" y="0"/>
                    <a:pt x="4200" y="0"/>
                  </a:cubicBezTo>
                  <a:lnTo>
                    <a:pt x="480" y="0"/>
                  </a:lnTo>
                  <a:cubicBezTo>
                    <a:pt x="217" y="0"/>
                    <a:pt x="0" y="217"/>
                    <a:pt x="0" y="481"/>
                  </a:cubicBezTo>
                  <a:lnTo>
                    <a:pt x="0" y="2400"/>
                  </a:lnTo>
                  <a:lnTo>
                    <a:pt x="2332" y="2400"/>
                  </a:lnTo>
                  <a:lnTo>
                    <a:pt x="4693" y="13269"/>
                  </a:lnTo>
                  <a:lnTo>
                    <a:pt x="4920" y="14400"/>
                  </a:lnTo>
                  <a:lnTo>
                    <a:pt x="4920" y="16200"/>
                  </a:lnTo>
                  <a:cubicBezTo>
                    <a:pt x="4920" y="16463"/>
                    <a:pt x="5137" y="16680"/>
                    <a:pt x="5400" y="16680"/>
                  </a:cubicBezTo>
                  <a:lnTo>
                    <a:pt x="6001" y="16680"/>
                  </a:lnTo>
                  <a:lnTo>
                    <a:pt x="17999" y="16680"/>
                  </a:lnTo>
                  <a:lnTo>
                    <a:pt x="21119" y="16680"/>
                  </a:lnTo>
                  <a:cubicBezTo>
                    <a:pt x="21383" y="16680"/>
                    <a:pt x="21600" y="16463"/>
                    <a:pt x="21600" y="16200"/>
                  </a:cubicBezTo>
                  <a:lnTo>
                    <a:pt x="21600" y="14400"/>
                  </a:lnTo>
                  <a:lnTo>
                    <a:pt x="8103" y="14400"/>
                  </a:lnTo>
                  <a:cubicBezTo>
                    <a:pt x="6723" y="14400"/>
                    <a:pt x="6694" y="13860"/>
                    <a:pt x="7856" y="13527"/>
                  </a:cubicBezTo>
                  <a:close/>
                  <a:moveTo>
                    <a:pt x="15599" y="19200"/>
                  </a:moveTo>
                  <a:cubicBezTo>
                    <a:pt x="15599" y="20525"/>
                    <a:pt x="16674" y="21600"/>
                    <a:pt x="17999" y="21600"/>
                  </a:cubicBezTo>
                  <a:cubicBezTo>
                    <a:pt x="19326" y="21600"/>
                    <a:pt x="20399" y="20525"/>
                    <a:pt x="20399" y="19200"/>
                  </a:cubicBezTo>
                  <a:cubicBezTo>
                    <a:pt x="20399" y="17874"/>
                    <a:pt x="19326" y="16800"/>
                    <a:pt x="17999" y="16800"/>
                  </a:cubicBezTo>
                  <a:cubicBezTo>
                    <a:pt x="16674" y="16800"/>
                    <a:pt x="15599" y="17874"/>
                    <a:pt x="15599" y="19200"/>
                  </a:cubicBezTo>
                  <a:close/>
                  <a:moveTo>
                    <a:pt x="3599" y="19200"/>
                  </a:moveTo>
                  <a:cubicBezTo>
                    <a:pt x="3599" y="20525"/>
                    <a:pt x="4674" y="21600"/>
                    <a:pt x="6001" y="21600"/>
                  </a:cubicBezTo>
                  <a:cubicBezTo>
                    <a:pt x="7326" y="21600"/>
                    <a:pt x="8399" y="20525"/>
                    <a:pt x="8399" y="19200"/>
                  </a:cubicBezTo>
                  <a:cubicBezTo>
                    <a:pt x="8399" y="17874"/>
                    <a:pt x="7326" y="16800"/>
                    <a:pt x="6001" y="16800"/>
                  </a:cubicBezTo>
                  <a:cubicBezTo>
                    <a:pt x="4674" y="16800"/>
                    <a:pt x="3599" y="17874"/>
                    <a:pt x="3599" y="192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550" name="Group 3"/>
          <p:cNvGrpSpPr/>
          <p:nvPr/>
        </p:nvGrpSpPr>
        <p:grpSpPr>
          <a:xfrm>
            <a:off x="4748040" y="3105000"/>
            <a:ext cx="543240" cy="544680"/>
            <a:chOff x="4748040" y="3105000"/>
            <a:chExt cx="543240" cy="544680"/>
          </a:xfrm>
        </p:grpSpPr>
        <p:sp>
          <p:nvSpPr>
            <p:cNvPr id="1551" name="Shape 1157"/>
            <p:cNvSpPr/>
            <p:nvPr/>
          </p:nvSpPr>
          <p:spPr>
            <a:xfrm>
              <a:off x="4748040" y="3105000"/>
              <a:ext cx="543240" cy="54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52" name="Shape 1158"/>
            <p:cNvSpPr/>
            <p:nvPr/>
          </p:nvSpPr>
          <p:spPr>
            <a:xfrm>
              <a:off x="4896000" y="3233880"/>
              <a:ext cx="198360" cy="256680"/>
            </a:xfrm>
            <a:custGeom>
              <a:avLst/>
              <a:gdLst/>
              <a:ahLst/>
              <a:rect l="l" t="t" r="r" b="b"/>
              <a:pathLst>
                <a:path w="21137" h="21205">
                  <a:moveTo>
                    <a:pt x="5865" y="2548"/>
                  </a:moveTo>
                  <a:lnTo>
                    <a:pt x="5867" y="15695"/>
                  </a:lnTo>
                  <a:cubicBezTo>
                    <a:pt x="4944" y="15546"/>
                    <a:pt x="3872" y="15602"/>
                    <a:pt x="2808" y="15909"/>
                  </a:cubicBezTo>
                  <a:cubicBezTo>
                    <a:pt x="413" y="16599"/>
                    <a:pt x="-431" y="18279"/>
                    <a:pt x="203" y="19659"/>
                  </a:cubicBezTo>
                  <a:cubicBezTo>
                    <a:pt x="839" y="21041"/>
                    <a:pt x="2710" y="21600"/>
                    <a:pt x="5104" y="20909"/>
                  </a:cubicBezTo>
                  <a:cubicBezTo>
                    <a:pt x="7137" y="20323"/>
                    <a:pt x="8468" y="19024"/>
                    <a:pt x="8434" y="17799"/>
                  </a:cubicBezTo>
                  <a:cubicBezTo>
                    <a:pt x="8434" y="17799"/>
                    <a:pt x="8434" y="10827"/>
                    <a:pt x="8434" y="6940"/>
                  </a:cubicBezTo>
                  <a:lnTo>
                    <a:pt x="18567" y="5136"/>
                  </a:lnTo>
                  <a:lnTo>
                    <a:pt x="18567" y="13479"/>
                  </a:lnTo>
                  <a:cubicBezTo>
                    <a:pt x="17645" y="13330"/>
                    <a:pt x="16572" y="13386"/>
                    <a:pt x="15509" y="13693"/>
                  </a:cubicBezTo>
                  <a:cubicBezTo>
                    <a:pt x="13115" y="14384"/>
                    <a:pt x="12270" y="16064"/>
                    <a:pt x="12905" y="17443"/>
                  </a:cubicBezTo>
                  <a:cubicBezTo>
                    <a:pt x="13539" y="18825"/>
                    <a:pt x="15411" y="19384"/>
                    <a:pt x="17806" y="18694"/>
                  </a:cubicBezTo>
                  <a:cubicBezTo>
                    <a:pt x="19839" y="18107"/>
                    <a:pt x="21169" y="16808"/>
                    <a:pt x="21136" y="15583"/>
                  </a:cubicBezTo>
                  <a:lnTo>
                    <a:pt x="21136" y="0"/>
                  </a:lnTo>
                  <a:cubicBezTo>
                    <a:pt x="21136" y="0"/>
                    <a:pt x="5865" y="2548"/>
                    <a:pt x="5865" y="254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sp>
        <p:nvSpPr>
          <p:cNvPr id="1553" name="PlaceHolder 1"/>
          <p:cNvSpPr>
            <a:spLocks noGrp="1"/>
          </p:cNvSpPr>
          <p:nvPr>
            <p:ph/>
          </p:nvPr>
        </p:nvSpPr>
        <p:spPr>
          <a:xfrm>
            <a:off x="6560640" y="2107800"/>
            <a:ext cx="2662200" cy="57780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a:t>
            </a:r>
            <a:endParaRPr b="0" lang="en-US" sz="1000" spc="-1" strike="noStrike">
              <a:solidFill>
                <a:srgbClr val="494949"/>
              </a:solidFill>
              <a:latin typeface="Open Sans Light"/>
            </a:endParaRPr>
          </a:p>
        </p:txBody>
      </p:sp>
      <p:sp>
        <p:nvSpPr>
          <p:cNvPr id="1554" name="PlaceHolder 2"/>
          <p:cNvSpPr>
            <a:spLocks noGrp="1"/>
          </p:cNvSpPr>
          <p:nvPr>
            <p:ph/>
          </p:nvPr>
        </p:nvSpPr>
        <p:spPr>
          <a:xfrm>
            <a:off x="1812960" y="3279240"/>
            <a:ext cx="2706480" cy="830520"/>
          </a:xfrm>
          <a:prstGeom prst="rect">
            <a:avLst/>
          </a:prstGeom>
          <a:noFill/>
          <a:ln w="0">
            <a:noFill/>
          </a:ln>
        </p:spPr>
        <p:txBody>
          <a:bodyPr lIns="0" rIns="0" anchor="t">
            <a:normAutofit/>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raka </a:t>
            </a:r>
            <a:endParaRPr b="0" lang="en-US" sz="1000" spc="-1" strike="noStrike">
              <a:solidFill>
                <a:srgbClr val="494949"/>
              </a:solidFill>
              <a:latin typeface="Open Sans Light"/>
            </a:endParaRPr>
          </a:p>
        </p:txBody>
      </p:sp>
      <p:sp>
        <p:nvSpPr>
          <p:cNvPr id="1555" name="PlaceHolder 3"/>
          <p:cNvSpPr>
            <a:spLocks noGrp="1"/>
          </p:cNvSpPr>
          <p:nvPr>
            <p:ph/>
          </p:nvPr>
        </p:nvSpPr>
        <p:spPr>
          <a:xfrm>
            <a:off x="2630160" y="3027240"/>
            <a:ext cx="1888920" cy="254160"/>
          </a:xfrm>
          <a:prstGeom prst="rect">
            <a:avLst/>
          </a:prstGeom>
          <a:noFill/>
          <a:ln w="0">
            <a:noFill/>
          </a:ln>
        </p:spPr>
        <p:txBody>
          <a:bodyPr lIns="0" rIns="0" anchor="ctr">
            <a:normAutofit fontScale="76000"/>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KARAOKE</a:t>
            </a:r>
            <a:endParaRPr b="0" lang="en-US" sz="1400" spc="-1" strike="noStrike">
              <a:solidFill>
                <a:srgbClr val="494949"/>
              </a:solidFill>
              <a:latin typeface="Open Sans Light"/>
            </a:endParaRPr>
          </a:p>
        </p:txBody>
      </p:sp>
      <p:sp>
        <p:nvSpPr>
          <p:cNvPr id="1556" name="PlaceHolder 4"/>
          <p:cNvSpPr>
            <a:spLocks noGrp="1"/>
          </p:cNvSpPr>
          <p:nvPr>
            <p:ph/>
          </p:nvPr>
        </p:nvSpPr>
        <p:spPr>
          <a:xfrm>
            <a:off x="6561000" y="1828800"/>
            <a:ext cx="1890720" cy="254160"/>
          </a:xfrm>
          <a:prstGeom prst="rect">
            <a:avLst/>
          </a:prstGeom>
          <a:noFill/>
          <a:ln w="0">
            <a:noFill/>
          </a:ln>
        </p:spPr>
        <p:txBody>
          <a:bodyPr lIns="0" rIns="0" anchor="ctr">
            <a:normAutofit fontScale="76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DIGITAL PRINTING</a:t>
            </a:r>
            <a:endParaRPr b="0" lang="en-US" sz="1400" spc="-1" strike="noStrike">
              <a:solidFill>
                <a:srgbClr val="494949"/>
              </a:solidFill>
              <a:latin typeface="Open Sans Light"/>
            </a:endParaRPr>
          </a:p>
        </p:txBody>
      </p:sp>
      <p:sp>
        <p:nvSpPr>
          <p:cNvPr id="1557" name="PlaceHolder 5"/>
          <p:cNvSpPr>
            <a:spLocks noGrp="1"/>
          </p:cNvSpPr>
          <p:nvPr>
            <p:ph/>
          </p:nvPr>
        </p:nvSpPr>
        <p:spPr>
          <a:xfrm>
            <a:off x="7713360" y="3342960"/>
            <a:ext cx="2662200" cy="57924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a:t>
            </a:r>
            <a:endParaRPr b="0" lang="en-US" sz="1000" spc="-1" strike="noStrike">
              <a:solidFill>
                <a:srgbClr val="494949"/>
              </a:solidFill>
              <a:latin typeface="Open Sans Light"/>
            </a:endParaRPr>
          </a:p>
        </p:txBody>
      </p:sp>
      <p:sp>
        <p:nvSpPr>
          <p:cNvPr id="1558" name="PlaceHolder 6"/>
          <p:cNvSpPr>
            <a:spLocks noGrp="1"/>
          </p:cNvSpPr>
          <p:nvPr>
            <p:ph/>
          </p:nvPr>
        </p:nvSpPr>
        <p:spPr>
          <a:xfrm>
            <a:off x="7713360" y="3065400"/>
            <a:ext cx="1888920" cy="254160"/>
          </a:xfrm>
          <a:prstGeom prst="rect">
            <a:avLst/>
          </a:prstGeom>
          <a:noFill/>
          <a:ln w="0">
            <a:noFill/>
          </a:ln>
        </p:spPr>
        <p:txBody>
          <a:bodyPr lIns="0" rIns="0" anchor="ctr">
            <a:normAutofit fontScale="76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COFFEE SHOP</a:t>
            </a:r>
            <a:endParaRPr b="0" lang="en-US" sz="1400" spc="-1" strike="noStrike">
              <a:solidFill>
                <a:srgbClr val="494949"/>
              </a:solidFill>
              <a:latin typeface="Open Sans Light"/>
            </a:endParaRPr>
          </a:p>
        </p:txBody>
      </p:sp>
      <p:sp>
        <p:nvSpPr>
          <p:cNvPr id="1559" name="PlaceHolder 7"/>
          <p:cNvSpPr>
            <a:spLocks noGrp="1"/>
          </p:cNvSpPr>
          <p:nvPr>
            <p:ph/>
          </p:nvPr>
        </p:nvSpPr>
        <p:spPr>
          <a:xfrm>
            <a:off x="7710120" y="4590720"/>
            <a:ext cx="2662200" cy="57924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a:t>
            </a:r>
            <a:endParaRPr b="0" lang="en-US" sz="1000" spc="-1" strike="noStrike">
              <a:solidFill>
                <a:srgbClr val="494949"/>
              </a:solidFill>
              <a:latin typeface="Open Sans Light"/>
            </a:endParaRPr>
          </a:p>
        </p:txBody>
      </p:sp>
      <p:sp>
        <p:nvSpPr>
          <p:cNvPr id="1560" name="PlaceHolder 8"/>
          <p:cNvSpPr>
            <a:spLocks noGrp="1"/>
          </p:cNvSpPr>
          <p:nvPr>
            <p:ph/>
          </p:nvPr>
        </p:nvSpPr>
        <p:spPr>
          <a:xfrm>
            <a:off x="7710480" y="4313160"/>
            <a:ext cx="1889280" cy="254160"/>
          </a:xfrm>
          <a:prstGeom prst="rect">
            <a:avLst/>
          </a:prstGeom>
          <a:noFill/>
          <a:ln w="0">
            <a:noFill/>
          </a:ln>
        </p:spPr>
        <p:txBody>
          <a:bodyPr lIns="0" rIns="0" anchor="ctr">
            <a:normAutofit fontScale="76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ADVERTISING</a:t>
            </a:r>
            <a:endParaRPr b="0" lang="en-US" sz="1400" spc="-1" strike="noStrike">
              <a:solidFill>
                <a:srgbClr val="494949"/>
              </a:solidFill>
              <a:latin typeface="Open Sans Light"/>
            </a:endParaRPr>
          </a:p>
        </p:txBody>
      </p:sp>
      <p:sp>
        <p:nvSpPr>
          <p:cNvPr id="1561" name="PlaceHolder 9"/>
          <p:cNvSpPr>
            <a:spLocks noGrp="1"/>
          </p:cNvSpPr>
          <p:nvPr>
            <p:ph/>
          </p:nvPr>
        </p:nvSpPr>
        <p:spPr>
          <a:xfrm>
            <a:off x="1846440" y="4543560"/>
            <a:ext cx="2706480" cy="830160"/>
          </a:xfrm>
          <a:prstGeom prst="rect">
            <a:avLst/>
          </a:prstGeom>
          <a:noFill/>
          <a:ln w="0">
            <a:noFill/>
          </a:ln>
        </p:spPr>
        <p:txBody>
          <a:bodyPr lIns="0" rIns="0" anchor="t">
            <a:normAutofit/>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raka </a:t>
            </a:r>
            <a:endParaRPr b="0" lang="en-US" sz="1000" spc="-1" strike="noStrike">
              <a:solidFill>
                <a:srgbClr val="494949"/>
              </a:solidFill>
              <a:latin typeface="Open Sans Light"/>
            </a:endParaRPr>
          </a:p>
        </p:txBody>
      </p:sp>
      <p:sp>
        <p:nvSpPr>
          <p:cNvPr id="1562" name="PlaceHolder 10"/>
          <p:cNvSpPr>
            <a:spLocks noGrp="1"/>
          </p:cNvSpPr>
          <p:nvPr>
            <p:ph/>
          </p:nvPr>
        </p:nvSpPr>
        <p:spPr>
          <a:xfrm>
            <a:off x="2662200" y="4290840"/>
            <a:ext cx="1890720" cy="254160"/>
          </a:xfrm>
          <a:prstGeom prst="rect">
            <a:avLst/>
          </a:prstGeom>
          <a:noFill/>
          <a:ln w="0">
            <a:noFill/>
          </a:ln>
        </p:spPr>
        <p:txBody>
          <a:bodyPr lIns="0" rIns="0" anchor="ctr">
            <a:normAutofit fontScale="76000"/>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TRAVEL</a:t>
            </a:r>
            <a:endParaRPr b="0" lang="en-US" sz="1400" spc="-1" strike="noStrike">
              <a:solidFill>
                <a:srgbClr val="494949"/>
              </a:solidFill>
              <a:latin typeface="Open Sans Light"/>
            </a:endParaRPr>
          </a:p>
        </p:txBody>
      </p:sp>
      <p:sp>
        <p:nvSpPr>
          <p:cNvPr id="1563" name="PlaceHolder 11"/>
          <p:cNvSpPr>
            <a:spLocks noGrp="1"/>
          </p:cNvSpPr>
          <p:nvPr>
            <p:ph/>
          </p:nvPr>
        </p:nvSpPr>
        <p:spPr>
          <a:xfrm>
            <a:off x="2910960" y="5519520"/>
            <a:ext cx="2706840" cy="828360"/>
          </a:xfrm>
          <a:prstGeom prst="rect">
            <a:avLst/>
          </a:prstGeom>
          <a:noFill/>
          <a:ln w="0">
            <a:noFill/>
          </a:ln>
        </p:spPr>
        <p:txBody>
          <a:bodyPr lIns="0" rIns="0" anchor="t">
            <a:normAutofit/>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long hana nunok doloramet,lorem consectetur baraka </a:t>
            </a:r>
            <a:endParaRPr b="0" lang="en-US" sz="1000" spc="-1" strike="noStrike">
              <a:solidFill>
                <a:srgbClr val="494949"/>
              </a:solidFill>
              <a:latin typeface="Open Sans Light"/>
            </a:endParaRPr>
          </a:p>
        </p:txBody>
      </p:sp>
      <p:sp>
        <p:nvSpPr>
          <p:cNvPr id="1564" name="PlaceHolder 12"/>
          <p:cNvSpPr>
            <a:spLocks noGrp="1"/>
          </p:cNvSpPr>
          <p:nvPr>
            <p:ph/>
          </p:nvPr>
        </p:nvSpPr>
        <p:spPr>
          <a:xfrm>
            <a:off x="3728880" y="5265720"/>
            <a:ext cx="1889280" cy="255600"/>
          </a:xfrm>
          <a:prstGeom prst="rect">
            <a:avLst/>
          </a:prstGeom>
          <a:noFill/>
          <a:ln w="0">
            <a:noFill/>
          </a:ln>
        </p:spPr>
        <p:txBody>
          <a:bodyPr lIns="0" rIns="0" anchor="ctr">
            <a:normAutofit fontScale="77000"/>
          </a:bodyPr>
          <a:p>
            <a:pPr indent="0" algn="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7f7f7f"/>
                </a:solidFill>
                <a:latin typeface="Lato Heavy"/>
              </a:rPr>
              <a:t>MARKETING AGENT</a:t>
            </a:r>
            <a:endParaRPr b="0" lang="en-US" sz="1400" spc="-1" strike="noStrike">
              <a:solidFill>
                <a:srgbClr val="494949"/>
              </a:solidFill>
              <a:latin typeface="Open Sans Light"/>
            </a:endParaRPr>
          </a:p>
        </p:txBody>
      </p:sp>
      <p:sp>
        <p:nvSpPr>
          <p:cNvPr id="1565" name="PlaceHolder 13"/>
          <p:cNvSpPr>
            <a:spLocks noGrp="1"/>
          </p:cNvSpPr>
          <p:nvPr>
            <p:ph/>
          </p:nvPr>
        </p:nvSpPr>
        <p:spPr>
          <a:xfrm>
            <a:off x="5022720" y="3849480"/>
            <a:ext cx="2146320" cy="8982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Most Popular</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Business</a:t>
            </a:r>
            <a:endParaRPr b="0" lang="en-US" sz="1400" spc="-1" strike="noStrike">
              <a:solidFill>
                <a:srgbClr val="494949"/>
              </a:solidFill>
              <a:latin typeface="Open Sans Light"/>
            </a:endParaRPr>
          </a:p>
        </p:txBody>
      </p:sp>
      <p:grpSp>
        <p:nvGrpSpPr>
          <p:cNvPr id="1566" name="Group 4"/>
          <p:cNvGrpSpPr/>
          <p:nvPr/>
        </p:nvGrpSpPr>
        <p:grpSpPr>
          <a:xfrm>
            <a:off x="4748040" y="4346640"/>
            <a:ext cx="543240" cy="542880"/>
            <a:chOff x="4748040" y="4346640"/>
            <a:chExt cx="543240" cy="542880"/>
          </a:xfrm>
        </p:grpSpPr>
        <p:sp>
          <p:nvSpPr>
            <p:cNvPr id="1567" name="Shape 1154"/>
            <p:cNvSpPr/>
            <p:nvPr/>
          </p:nvSpPr>
          <p:spPr>
            <a:xfrm>
              <a:off x="4748040" y="4346640"/>
              <a:ext cx="543240" cy="5428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00a09c"/>
            </a:solidFill>
            <a:ln w="1260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1568" name="Shape 1155"/>
            <p:cNvSpPr/>
            <p:nvPr/>
          </p:nvSpPr>
          <p:spPr>
            <a:xfrm>
              <a:off x="4896000" y="4491360"/>
              <a:ext cx="253440" cy="253080"/>
            </a:xfrm>
            <a:custGeom>
              <a:avLst/>
              <a:gdLst/>
              <a:ahLst/>
              <a:rect l="l" t="t" r="r" b="b"/>
              <a:pathLst>
                <a:path w="21600" h="21600">
                  <a:moveTo>
                    <a:pt x="14896" y="15577"/>
                  </a:moveTo>
                  <a:cubicBezTo>
                    <a:pt x="12144" y="16865"/>
                    <a:pt x="9844" y="18851"/>
                    <a:pt x="8177" y="21278"/>
                  </a:cubicBezTo>
                  <a:cubicBezTo>
                    <a:pt x="9017" y="21487"/>
                    <a:pt x="9895" y="21600"/>
                    <a:pt x="10801" y="21600"/>
                  </a:cubicBezTo>
                  <a:cubicBezTo>
                    <a:pt x="12429" y="21600"/>
                    <a:pt x="13973" y="21237"/>
                    <a:pt x="15358" y="20591"/>
                  </a:cubicBezTo>
                  <a:cubicBezTo>
                    <a:pt x="15580" y="19502"/>
                    <a:pt x="15699" y="18376"/>
                    <a:pt x="15699" y="17222"/>
                  </a:cubicBezTo>
                  <a:cubicBezTo>
                    <a:pt x="15699" y="16807"/>
                    <a:pt x="15679" y="16394"/>
                    <a:pt x="15648" y="15985"/>
                  </a:cubicBezTo>
                  <a:cubicBezTo>
                    <a:pt x="15371" y="15896"/>
                    <a:pt x="15116" y="15757"/>
                    <a:pt x="14896" y="15577"/>
                  </a:cubicBezTo>
                  <a:close/>
                  <a:moveTo>
                    <a:pt x="18049" y="2796"/>
                  </a:moveTo>
                  <a:cubicBezTo>
                    <a:pt x="16319" y="2963"/>
                    <a:pt x="14667" y="3397"/>
                    <a:pt x="13127" y="4050"/>
                  </a:cubicBezTo>
                  <a:cubicBezTo>
                    <a:pt x="13136" y="4125"/>
                    <a:pt x="13139" y="4202"/>
                    <a:pt x="13139" y="4280"/>
                  </a:cubicBezTo>
                  <a:cubicBezTo>
                    <a:pt x="13139" y="4642"/>
                    <a:pt x="13052" y="4984"/>
                    <a:pt x="12904" y="5289"/>
                  </a:cubicBezTo>
                  <a:cubicBezTo>
                    <a:pt x="14441" y="7094"/>
                    <a:pt x="15635" y="9198"/>
                    <a:pt x="16388" y="11500"/>
                  </a:cubicBezTo>
                  <a:cubicBezTo>
                    <a:pt x="17323" y="11517"/>
                    <a:pt x="18121" y="12090"/>
                    <a:pt x="18465" y="12903"/>
                  </a:cubicBezTo>
                  <a:cubicBezTo>
                    <a:pt x="19505" y="12797"/>
                    <a:pt x="20517" y="12599"/>
                    <a:pt x="21493" y="12312"/>
                  </a:cubicBezTo>
                  <a:cubicBezTo>
                    <a:pt x="21562" y="11817"/>
                    <a:pt x="21600" y="11314"/>
                    <a:pt x="21600" y="10799"/>
                  </a:cubicBezTo>
                  <a:cubicBezTo>
                    <a:pt x="21600" y="7626"/>
                    <a:pt x="20230" y="4772"/>
                    <a:pt x="18049" y="2796"/>
                  </a:cubicBezTo>
                  <a:close/>
                  <a:moveTo>
                    <a:pt x="13739" y="14349"/>
                  </a:moveTo>
                  <a:cubicBezTo>
                    <a:pt x="11074" y="13908"/>
                    <a:pt x="8601" y="12890"/>
                    <a:pt x="6450" y="11433"/>
                  </a:cubicBezTo>
                  <a:cubicBezTo>
                    <a:pt x="6101" y="11646"/>
                    <a:pt x="5691" y="11773"/>
                    <a:pt x="5251" y="11773"/>
                  </a:cubicBezTo>
                  <a:cubicBezTo>
                    <a:pt x="5090" y="11773"/>
                    <a:pt x="4933" y="11755"/>
                    <a:pt x="4781" y="11724"/>
                  </a:cubicBezTo>
                  <a:cubicBezTo>
                    <a:pt x="3750" y="13677"/>
                    <a:pt x="3093" y="15854"/>
                    <a:pt x="2903" y="18164"/>
                  </a:cubicBezTo>
                  <a:cubicBezTo>
                    <a:pt x="3931" y="19266"/>
                    <a:pt x="5186" y="20154"/>
                    <a:pt x="6595" y="20750"/>
                  </a:cubicBezTo>
                  <a:cubicBezTo>
                    <a:pt x="8345" y="18059"/>
                    <a:pt x="10792" y="15833"/>
                    <a:pt x="13739" y="14349"/>
                  </a:cubicBezTo>
                  <a:close/>
                  <a:moveTo>
                    <a:pt x="17258" y="15906"/>
                  </a:moveTo>
                  <a:cubicBezTo>
                    <a:pt x="17290" y="16340"/>
                    <a:pt x="17306" y="16780"/>
                    <a:pt x="17306" y="17222"/>
                  </a:cubicBezTo>
                  <a:cubicBezTo>
                    <a:pt x="17306" y="18003"/>
                    <a:pt x="17256" y="18770"/>
                    <a:pt x="17163" y="19525"/>
                  </a:cubicBezTo>
                  <a:cubicBezTo>
                    <a:pt x="18993" y="18186"/>
                    <a:pt x="20389" y="16288"/>
                    <a:pt x="21091" y="14080"/>
                  </a:cubicBezTo>
                  <a:cubicBezTo>
                    <a:pt x="20259" y="14281"/>
                    <a:pt x="19403" y="14425"/>
                    <a:pt x="18531" y="14508"/>
                  </a:cubicBezTo>
                  <a:cubicBezTo>
                    <a:pt x="18326" y="15137"/>
                    <a:pt x="17860" y="15646"/>
                    <a:pt x="17258" y="15906"/>
                  </a:cubicBezTo>
                  <a:close/>
                  <a:moveTo>
                    <a:pt x="14278" y="12804"/>
                  </a:moveTo>
                  <a:cubicBezTo>
                    <a:pt x="14421" y="12507"/>
                    <a:pt x="14624" y="12244"/>
                    <a:pt x="14874" y="12035"/>
                  </a:cubicBezTo>
                  <a:cubicBezTo>
                    <a:pt x="14196" y="9947"/>
                    <a:pt x="13122" y="8037"/>
                    <a:pt x="11738" y="6396"/>
                  </a:cubicBezTo>
                  <a:cubicBezTo>
                    <a:pt x="11462" y="6512"/>
                    <a:pt x="11160" y="6577"/>
                    <a:pt x="10842" y="6577"/>
                  </a:cubicBezTo>
                  <a:cubicBezTo>
                    <a:pt x="10343" y="6577"/>
                    <a:pt x="9883" y="6417"/>
                    <a:pt x="9507" y="6147"/>
                  </a:cubicBezTo>
                  <a:cubicBezTo>
                    <a:pt x="8673" y="6781"/>
                    <a:pt x="7903" y="7490"/>
                    <a:pt x="7202" y="8265"/>
                  </a:cubicBezTo>
                  <a:cubicBezTo>
                    <a:pt x="7421" y="8615"/>
                    <a:pt x="7550" y="9030"/>
                    <a:pt x="7550" y="9475"/>
                  </a:cubicBezTo>
                  <a:cubicBezTo>
                    <a:pt x="7550" y="9715"/>
                    <a:pt x="7513" y="9946"/>
                    <a:pt x="7444" y="10163"/>
                  </a:cubicBezTo>
                  <a:cubicBezTo>
                    <a:pt x="9459" y="11510"/>
                    <a:pt x="11779" y="12433"/>
                    <a:pt x="14278" y="12804"/>
                  </a:cubicBezTo>
                  <a:close/>
                  <a:moveTo>
                    <a:pt x="10842" y="1982"/>
                  </a:moveTo>
                  <a:cubicBezTo>
                    <a:pt x="11448" y="1982"/>
                    <a:pt x="11999" y="2219"/>
                    <a:pt x="12409" y="2604"/>
                  </a:cubicBezTo>
                  <a:cubicBezTo>
                    <a:pt x="13608" y="2088"/>
                    <a:pt x="14870" y="1692"/>
                    <a:pt x="16183" y="1439"/>
                  </a:cubicBezTo>
                  <a:cubicBezTo>
                    <a:pt x="14599" y="526"/>
                    <a:pt x="12761" y="0"/>
                    <a:pt x="10801" y="0"/>
                  </a:cubicBezTo>
                  <a:cubicBezTo>
                    <a:pt x="9464" y="0"/>
                    <a:pt x="8183" y="245"/>
                    <a:pt x="7001" y="690"/>
                  </a:cubicBezTo>
                  <a:cubicBezTo>
                    <a:pt x="7940" y="1152"/>
                    <a:pt x="8833" y="1693"/>
                    <a:pt x="9674" y="2303"/>
                  </a:cubicBezTo>
                  <a:cubicBezTo>
                    <a:pt x="10018" y="2100"/>
                    <a:pt x="10415" y="1982"/>
                    <a:pt x="10842" y="1982"/>
                  </a:cubicBezTo>
                  <a:close/>
                  <a:moveTo>
                    <a:pt x="2954" y="9475"/>
                  </a:moveTo>
                  <a:cubicBezTo>
                    <a:pt x="2954" y="9153"/>
                    <a:pt x="3021" y="8844"/>
                    <a:pt x="3141" y="8566"/>
                  </a:cubicBezTo>
                  <a:cubicBezTo>
                    <a:pt x="2404" y="7757"/>
                    <a:pt x="1736" y="6884"/>
                    <a:pt x="1151" y="5952"/>
                  </a:cubicBezTo>
                  <a:cubicBezTo>
                    <a:pt x="417" y="7410"/>
                    <a:pt x="0" y="9056"/>
                    <a:pt x="0" y="10799"/>
                  </a:cubicBezTo>
                  <a:cubicBezTo>
                    <a:pt x="0" y="12819"/>
                    <a:pt x="556" y="14708"/>
                    <a:pt x="1521" y="16325"/>
                  </a:cubicBezTo>
                  <a:cubicBezTo>
                    <a:pt x="1866" y="14381"/>
                    <a:pt x="2520" y="12545"/>
                    <a:pt x="3424" y="10861"/>
                  </a:cubicBezTo>
                  <a:cubicBezTo>
                    <a:pt x="3130" y="10477"/>
                    <a:pt x="2954" y="9996"/>
                    <a:pt x="2954" y="9475"/>
                  </a:cubicBezTo>
                  <a:close/>
                  <a:moveTo>
                    <a:pt x="5251" y="7176"/>
                  </a:moveTo>
                  <a:cubicBezTo>
                    <a:pt x="5487" y="7176"/>
                    <a:pt x="5715" y="7213"/>
                    <a:pt x="5930" y="7278"/>
                  </a:cubicBezTo>
                  <a:cubicBezTo>
                    <a:pt x="6738" y="6372"/>
                    <a:pt x="7636" y="5547"/>
                    <a:pt x="8608" y="4813"/>
                  </a:cubicBezTo>
                  <a:cubicBezTo>
                    <a:pt x="8567" y="4642"/>
                    <a:pt x="8543" y="4464"/>
                    <a:pt x="8543" y="4280"/>
                  </a:cubicBezTo>
                  <a:cubicBezTo>
                    <a:pt x="8543" y="4026"/>
                    <a:pt x="8587" y="3781"/>
                    <a:pt x="8663" y="3552"/>
                  </a:cubicBezTo>
                  <a:cubicBezTo>
                    <a:pt x="7575" y="2770"/>
                    <a:pt x="6391" y="2115"/>
                    <a:pt x="5131" y="1609"/>
                  </a:cubicBezTo>
                  <a:cubicBezTo>
                    <a:pt x="3949" y="2338"/>
                    <a:pt x="2920" y="3289"/>
                    <a:pt x="2099" y="4405"/>
                  </a:cubicBezTo>
                  <a:cubicBezTo>
                    <a:pt x="2708" y="5484"/>
                    <a:pt x="3433" y="6491"/>
                    <a:pt x="4256" y="7407"/>
                  </a:cubicBezTo>
                  <a:cubicBezTo>
                    <a:pt x="4557" y="7261"/>
                    <a:pt x="4895" y="7176"/>
                    <a:pt x="5251" y="7176"/>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sp>
        <p:nvSpPr>
          <p:cNvPr id="1569" name="PlaceHolder 14"/>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BUSINESS TRENDS 2018</a:t>
            </a:r>
            <a:endParaRPr b="0" lang="en-US" sz="3600" spc="-1" strike="noStrike">
              <a:solidFill>
                <a:srgbClr val="494949"/>
              </a:solidFill>
              <a:latin typeface="Lato Heavy"/>
            </a:endParaRPr>
          </a:p>
        </p:txBody>
      </p:sp>
      <p:sp>
        <p:nvSpPr>
          <p:cNvPr id="1570"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afterEffect" fill="hold" presetClass="entr" presetID="10">
                                  <p:stCondLst>
                                    <p:cond delay="0"/>
                                  </p:stCondLst>
                                  <p:childTnLst>
                                    <p:set>
                                      <p:cBhvr>
                                        <p:cTn id="1496" dur="1" fill="hold">
                                          <p:stCondLst>
                                            <p:cond delay="0"/>
                                          </p:stCondLst>
                                        </p:cTn>
                                        <p:tgtEl>
                                          <p:spTgt spid="1536"/>
                                        </p:tgtEl>
                                        <p:attrNameLst>
                                          <p:attrName>style.visibility</p:attrName>
                                        </p:attrNameLst>
                                      </p:cBhvr>
                                      <p:to>
                                        <p:strVal val="visible"/>
                                      </p:to>
                                    </p:set>
                                    <p:animEffect filter="fade" transition="in">
                                      <p:cBhvr additive="repl">
                                        <p:cTn id="1497" dur="500"/>
                                        <p:tgtEl>
                                          <p:spTgt spid="1536"/>
                                        </p:tgtEl>
                                      </p:cBhvr>
                                    </p:animEffect>
                                  </p:childTnLst>
                                </p:cTn>
                              </p:par>
                            </p:childTnLst>
                          </p:cTn>
                        </p:par>
                        <p:par>
                          <p:cTn id="1498" fill="hold">
                            <p:stCondLst>
                              <p:cond delay="500"/>
                            </p:stCondLst>
                            <p:childTnLst>
                              <p:par>
                                <p:cTn id="1499" nodeType="afterEffect" fill="hold" presetClass="entr" presetID="10">
                                  <p:stCondLst>
                                    <p:cond delay="0"/>
                                  </p:stCondLst>
                                  <p:childTnLst>
                                    <p:set>
                                      <p:cBhvr>
                                        <p:cTn id="1500" dur="1" fill="hold">
                                          <p:stCondLst>
                                            <p:cond delay="0"/>
                                          </p:stCondLst>
                                        </p:cTn>
                                        <p:tgtEl>
                                          <p:spTgt spid="1543"/>
                                        </p:tgtEl>
                                        <p:attrNameLst>
                                          <p:attrName>style.visibility</p:attrName>
                                        </p:attrNameLst>
                                      </p:cBhvr>
                                      <p:to>
                                        <p:strVal val="visible"/>
                                      </p:to>
                                    </p:set>
                                    <p:animEffect filter="fade" transition="in">
                                      <p:cBhvr additive="repl">
                                        <p:cTn id="1501" dur="500"/>
                                        <p:tgtEl>
                                          <p:spTgt spid="1543"/>
                                        </p:tgtEl>
                                      </p:cBhvr>
                                    </p:animEffect>
                                  </p:childTnLst>
                                </p:cTn>
                              </p:par>
                              <p:par>
                                <p:cTn id="1502" nodeType="withEffect" fill="hold" presetClass="entr" presetID="10">
                                  <p:stCondLst>
                                    <p:cond delay="0"/>
                                  </p:stCondLst>
                                  <p:childTnLst>
                                    <p:set>
                                      <p:cBhvr>
                                        <p:cTn id="1503" dur="1" fill="hold">
                                          <p:stCondLst>
                                            <p:cond delay="0"/>
                                          </p:stCondLst>
                                        </p:cTn>
                                        <p:tgtEl>
                                          <p:spTgt spid="1565">
                                            <p:txEl>
                                              <p:pRg st="0" end="0"/>
                                            </p:txEl>
                                          </p:spTgt>
                                        </p:tgtEl>
                                        <p:attrNameLst>
                                          <p:attrName>style.visibility</p:attrName>
                                        </p:attrNameLst>
                                      </p:cBhvr>
                                      <p:to>
                                        <p:strVal val="visible"/>
                                      </p:to>
                                    </p:set>
                                    <p:animEffect filter="fade" transition="in">
                                      <p:cBhvr additive="repl">
                                        <p:cTn id="1504" dur="500"/>
                                        <p:tgtEl>
                                          <p:spTgt spid="1565">
                                            <p:txEl>
                                              <p:pRg st="0" end="0"/>
                                            </p:txEl>
                                          </p:spTgt>
                                        </p:tgtEl>
                                      </p:cBhvr>
                                    </p:animEffect>
                                  </p:childTnLst>
                                </p:cTn>
                              </p:par>
                              <p:par>
                                <p:cTn id="1505" nodeType="withEffect" fill="hold" presetClass="entr" presetID="10">
                                  <p:stCondLst>
                                    <p:cond delay="0"/>
                                  </p:stCondLst>
                                  <p:childTnLst>
                                    <p:set>
                                      <p:cBhvr>
                                        <p:cTn id="1506" dur="1" fill="hold">
                                          <p:stCondLst>
                                            <p:cond delay="0"/>
                                          </p:stCondLst>
                                        </p:cTn>
                                        <p:tgtEl>
                                          <p:spTgt spid="1565">
                                            <p:txEl>
                                              <p:pRg st="1" end="1"/>
                                            </p:txEl>
                                          </p:spTgt>
                                        </p:tgtEl>
                                        <p:attrNameLst>
                                          <p:attrName>style.visibility</p:attrName>
                                        </p:attrNameLst>
                                      </p:cBhvr>
                                      <p:to>
                                        <p:strVal val="visible"/>
                                      </p:to>
                                    </p:set>
                                    <p:animEffect filter="fade" transition="in">
                                      <p:cBhvr additive="repl">
                                        <p:cTn id="1507" dur="500"/>
                                        <p:tgtEl>
                                          <p:spTgt spid="1565">
                                            <p:txEl>
                                              <p:pRg st="1" end="1"/>
                                            </p:txEl>
                                          </p:spTgt>
                                        </p:tgtEl>
                                      </p:cBhvr>
                                    </p:animEffect>
                                  </p:childTnLst>
                                </p:cTn>
                              </p:par>
                            </p:childTnLst>
                          </p:cTn>
                        </p:par>
                        <p:par>
                          <p:cTn id="1508" fill="hold">
                            <p:stCondLst>
                              <p:cond delay="1000"/>
                            </p:stCondLst>
                            <p:childTnLst>
                              <p:par>
                                <p:cTn id="1509" nodeType="afterEffect" fill="hold" presetClass="entr" presetID="10">
                                  <p:stCondLst>
                                    <p:cond delay="0"/>
                                  </p:stCondLst>
                                  <p:childTnLst>
                                    <p:set>
                                      <p:cBhvr>
                                        <p:cTn id="1510" dur="1" fill="hold">
                                          <p:stCondLst>
                                            <p:cond delay="0"/>
                                          </p:stCondLst>
                                        </p:cTn>
                                        <p:tgtEl>
                                          <p:spTgt spid="1537"/>
                                        </p:tgtEl>
                                        <p:attrNameLst>
                                          <p:attrName>style.visibility</p:attrName>
                                        </p:attrNameLst>
                                      </p:cBhvr>
                                      <p:to>
                                        <p:strVal val="visible"/>
                                      </p:to>
                                    </p:set>
                                    <p:animEffect filter="fade" transition="in">
                                      <p:cBhvr additive="repl">
                                        <p:cTn id="1511" dur="500"/>
                                        <p:tgtEl>
                                          <p:spTgt spid="1537"/>
                                        </p:tgtEl>
                                      </p:cBhvr>
                                    </p:animEffect>
                                  </p:childTnLst>
                                </p:cTn>
                              </p:par>
                            </p:childTnLst>
                          </p:cTn>
                        </p:par>
                        <p:par>
                          <p:cTn id="1512" fill="hold">
                            <p:stCondLst>
                              <p:cond delay="1500"/>
                            </p:stCondLst>
                            <p:childTnLst>
                              <p:par>
                                <p:cTn id="1513" nodeType="afterEffect" fill="hold" presetClass="entr" presetID="10">
                                  <p:stCondLst>
                                    <p:cond delay="0"/>
                                  </p:stCondLst>
                                  <p:childTnLst>
                                    <p:set>
                                      <p:cBhvr>
                                        <p:cTn id="1514" dur="1" fill="hold">
                                          <p:stCondLst>
                                            <p:cond delay="0"/>
                                          </p:stCondLst>
                                        </p:cTn>
                                        <p:tgtEl>
                                          <p:spTgt spid="1556">
                                            <p:txEl>
                                              <p:pRg st="0" end="0"/>
                                            </p:txEl>
                                          </p:spTgt>
                                        </p:tgtEl>
                                        <p:attrNameLst>
                                          <p:attrName>style.visibility</p:attrName>
                                        </p:attrNameLst>
                                      </p:cBhvr>
                                      <p:to>
                                        <p:strVal val="visible"/>
                                      </p:to>
                                    </p:set>
                                    <p:animEffect filter="fade" transition="in">
                                      <p:cBhvr additive="repl">
                                        <p:cTn id="1515" dur="500"/>
                                        <p:tgtEl>
                                          <p:spTgt spid="1556">
                                            <p:txEl>
                                              <p:pRg st="0" end="0"/>
                                            </p:txEl>
                                          </p:spTgt>
                                        </p:tgtEl>
                                      </p:cBhvr>
                                    </p:animEffect>
                                  </p:childTnLst>
                                </p:cTn>
                              </p:par>
                              <p:par>
                                <p:cTn id="1516" nodeType="withEffect" fill="hold" presetClass="entr" presetID="18" presetSubtype="6">
                                  <p:stCondLst>
                                    <p:cond delay="0"/>
                                  </p:stCondLst>
                                  <p:childTnLst>
                                    <p:set>
                                      <p:cBhvr>
                                        <p:cTn id="1517" dur="1" fill="hold">
                                          <p:stCondLst>
                                            <p:cond delay="0"/>
                                          </p:stCondLst>
                                        </p:cTn>
                                        <p:tgtEl>
                                          <p:spTgt spid="1553">
                                            <p:txEl>
                                              <p:pRg st="0" end="0"/>
                                            </p:txEl>
                                          </p:spTgt>
                                        </p:tgtEl>
                                        <p:attrNameLst>
                                          <p:attrName>style.visibility</p:attrName>
                                        </p:attrNameLst>
                                      </p:cBhvr>
                                      <p:to>
                                        <p:strVal val="visible"/>
                                      </p:to>
                                    </p:set>
                                    <p:animEffect filter="strips(downRight)" transition="in">
                                      <p:cBhvr additive="repl">
                                        <p:cTn id="1518" dur="500"/>
                                        <p:tgtEl>
                                          <p:spTgt spid="1553">
                                            <p:txEl>
                                              <p:pRg st="0" end="0"/>
                                            </p:txEl>
                                          </p:spTgt>
                                        </p:tgtEl>
                                      </p:cBhvr>
                                    </p:animEffect>
                                  </p:childTnLst>
                                </p:cTn>
                              </p:par>
                            </p:childTnLst>
                          </p:cTn>
                        </p:par>
                        <p:par>
                          <p:cTn id="1519" fill="hold">
                            <p:stCondLst>
                              <p:cond delay="2000"/>
                            </p:stCondLst>
                            <p:childTnLst>
                              <p:par>
                                <p:cTn id="1520" nodeType="afterEffect" fill="hold" presetClass="entr" presetID="10">
                                  <p:stCondLst>
                                    <p:cond delay="0"/>
                                  </p:stCondLst>
                                  <p:childTnLst>
                                    <p:set>
                                      <p:cBhvr>
                                        <p:cTn id="1521" dur="1" fill="hold">
                                          <p:stCondLst>
                                            <p:cond delay="0"/>
                                          </p:stCondLst>
                                        </p:cTn>
                                        <p:tgtEl>
                                          <p:spTgt spid="1540"/>
                                        </p:tgtEl>
                                        <p:attrNameLst>
                                          <p:attrName>style.visibility</p:attrName>
                                        </p:attrNameLst>
                                      </p:cBhvr>
                                      <p:to>
                                        <p:strVal val="visible"/>
                                      </p:to>
                                    </p:set>
                                    <p:animEffect filter="fade" transition="in">
                                      <p:cBhvr additive="repl">
                                        <p:cTn id="1522" dur="500"/>
                                        <p:tgtEl>
                                          <p:spTgt spid="1540"/>
                                        </p:tgtEl>
                                      </p:cBhvr>
                                    </p:animEffect>
                                  </p:childTnLst>
                                </p:cTn>
                              </p:par>
                            </p:childTnLst>
                          </p:cTn>
                        </p:par>
                        <p:par>
                          <p:cTn id="1523" fill="hold">
                            <p:stCondLst>
                              <p:cond delay="2500"/>
                            </p:stCondLst>
                            <p:childTnLst>
                              <p:par>
                                <p:cTn id="1524" nodeType="afterEffect" fill="hold" presetClass="entr" presetID="10">
                                  <p:stCondLst>
                                    <p:cond delay="0"/>
                                  </p:stCondLst>
                                  <p:childTnLst>
                                    <p:set>
                                      <p:cBhvr>
                                        <p:cTn id="1525" dur="1" fill="hold">
                                          <p:stCondLst>
                                            <p:cond delay="0"/>
                                          </p:stCondLst>
                                        </p:cTn>
                                        <p:tgtEl>
                                          <p:spTgt spid="1558">
                                            <p:txEl>
                                              <p:pRg st="0" end="0"/>
                                            </p:txEl>
                                          </p:spTgt>
                                        </p:tgtEl>
                                        <p:attrNameLst>
                                          <p:attrName>style.visibility</p:attrName>
                                        </p:attrNameLst>
                                      </p:cBhvr>
                                      <p:to>
                                        <p:strVal val="visible"/>
                                      </p:to>
                                    </p:set>
                                    <p:animEffect filter="fade" transition="in">
                                      <p:cBhvr additive="repl">
                                        <p:cTn id="1526" dur="500"/>
                                        <p:tgtEl>
                                          <p:spTgt spid="1558">
                                            <p:txEl>
                                              <p:pRg st="0" end="0"/>
                                            </p:txEl>
                                          </p:spTgt>
                                        </p:tgtEl>
                                      </p:cBhvr>
                                    </p:animEffect>
                                  </p:childTnLst>
                                </p:cTn>
                              </p:par>
                              <p:par>
                                <p:cTn id="1527" nodeType="withEffect" fill="hold" presetClass="entr" presetID="18" presetSubtype="6">
                                  <p:stCondLst>
                                    <p:cond delay="0"/>
                                  </p:stCondLst>
                                  <p:childTnLst>
                                    <p:set>
                                      <p:cBhvr>
                                        <p:cTn id="1528" dur="1" fill="hold">
                                          <p:stCondLst>
                                            <p:cond delay="0"/>
                                          </p:stCondLst>
                                        </p:cTn>
                                        <p:tgtEl>
                                          <p:spTgt spid="1557">
                                            <p:txEl>
                                              <p:pRg st="0" end="0"/>
                                            </p:txEl>
                                          </p:spTgt>
                                        </p:tgtEl>
                                        <p:attrNameLst>
                                          <p:attrName>style.visibility</p:attrName>
                                        </p:attrNameLst>
                                      </p:cBhvr>
                                      <p:to>
                                        <p:strVal val="visible"/>
                                      </p:to>
                                    </p:set>
                                    <p:animEffect filter="strips(downRight)" transition="in">
                                      <p:cBhvr additive="repl">
                                        <p:cTn id="1529" dur="500"/>
                                        <p:tgtEl>
                                          <p:spTgt spid="1557">
                                            <p:txEl>
                                              <p:pRg st="0" end="0"/>
                                            </p:txEl>
                                          </p:spTgt>
                                        </p:tgtEl>
                                      </p:cBhvr>
                                    </p:animEffect>
                                  </p:childTnLst>
                                </p:cTn>
                              </p:par>
                            </p:childTnLst>
                          </p:cTn>
                        </p:par>
                        <p:par>
                          <p:cTn id="1530" fill="hold">
                            <p:stCondLst>
                              <p:cond delay="3000"/>
                            </p:stCondLst>
                            <p:childTnLst>
                              <p:par>
                                <p:cTn id="1531" nodeType="afterEffect" fill="hold" presetClass="entr" presetID="10">
                                  <p:stCondLst>
                                    <p:cond delay="0"/>
                                  </p:stCondLst>
                                  <p:childTnLst>
                                    <p:set>
                                      <p:cBhvr>
                                        <p:cTn id="1532" dur="1" fill="hold">
                                          <p:stCondLst>
                                            <p:cond delay="0"/>
                                          </p:stCondLst>
                                        </p:cTn>
                                        <p:tgtEl>
                                          <p:spTgt spid="1544"/>
                                        </p:tgtEl>
                                        <p:attrNameLst>
                                          <p:attrName>style.visibility</p:attrName>
                                        </p:attrNameLst>
                                      </p:cBhvr>
                                      <p:to>
                                        <p:strVal val="visible"/>
                                      </p:to>
                                    </p:set>
                                    <p:animEffect filter="fade" transition="in">
                                      <p:cBhvr additive="repl">
                                        <p:cTn id="1533" dur="500"/>
                                        <p:tgtEl>
                                          <p:spTgt spid="1544"/>
                                        </p:tgtEl>
                                      </p:cBhvr>
                                    </p:animEffect>
                                  </p:childTnLst>
                                </p:cTn>
                              </p:par>
                            </p:childTnLst>
                          </p:cTn>
                        </p:par>
                        <p:par>
                          <p:cTn id="1534" fill="hold">
                            <p:stCondLst>
                              <p:cond delay="3500"/>
                            </p:stCondLst>
                            <p:childTnLst>
                              <p:par>
                                <p:cTn id="1535" nodeType="afterEffect" fill="hold" presetClass="entr" presetID="10">
                                  <p:stCondLst>
                                    <p:cond delay="0"/>
                                  </p:stCondLst>
                                  <p:childTnLst>
                                    <p:set>
                                      <p:cBhvr>
                                        <p:cTn id="1536" dur="1" fill="hold">
                                          <p:stCondLst>
                                            <p:cond delay="0"/>
                                          </p:stCondLst>
                                        </p:cTn>
                                        <p:tgtEl>
                                          <p:spTgt spid="1560">
                                            <p:txEl>
                                              <p:pRg st="0" end="0"/>
                                            </p:txEl>
                                          </p:spTgt>
                                        </p:tgtEl>
                                        <p:attrNameLst>
                                          <p:attrName>style.visibility</p:attrName>
                                        </p:attrNameLst>
                                      </p:cBhvr>
                                      <p:to>
                                        <p:strVal val="visible"/>
                                      </p:to>
                                    </p:set>
                                    <p:animEffect filter="fade" transition="in">
                                      <p:cBhvr additive="repl">
                                        <p:cTn id="1537" dur="500"/>
                                        <p:tgtEl>
                                          <p:spTgt spid="1560">
                                            <p:txEl>
                                              <p:pRg st="0" end="0"/>
                                            </p:txEl>
                                          </p:spTgt>
                                        </p:tgtEl>
                                      </p:cBhvr>
                                    </p:animEffect>
                                  </p:childTnLst>
                                </p:cTn>
                              </p:par>
                              <p:par>
                                <p:cTn id="1538" nodeType="withEffect" fill="hold" presetClass="entr" presetID="18" presetSubtype="6">
                                  <p:stCondLst>
                                    <p:cond delay="0"/>
                                  </p:stCondLst>
                                  <p:childTnLst>
                                    <p:set>
                                      <p:cBhvr>
                                        <p:cTn id="1539" dur="1" fill="hold">
                                          <p:stCondLst>
                                            <p:cond delay="0"/>
                                          </p:stCondLst>
                                        </p:cTn>
                                        <p:tgtEl>
                                          <p:spTgt spid="1559">
                                            <p:txEl>
                                              <p:pRg st="0" end="0"/>
                                            </p:txEl>
                                          </p:spTgt>
                                        </p:tgtEl>
                                        <p:attrNameLst>
                                          <p:attrName>style.visibility</p:attrName>
                                        </p:attrNameLst>
                                      </p:cBhvr>
                                      <p:to>
                                        <p:strVal val="visible"/>
                                      </p:to>
                                    </p:set>
                                    <p:animEffect filter="strips(downRight)" transition="in">
                                      <p:cBhvr additive="repl">
                                        <p:cTn id="1540" dur="500"/>
                                        <p:tgtEl>
                                          <p:spTgt spid="1559">
                                            <p:txEl>
                                              <p:pRg st="0" end="0"/>
                                            </p:txEl>
                                          </p:spTgt>
                                        </p:tgtEl>
                                      </p:cBhvr>
                                    </p:animEffect>
                                  </p:childTnLst>
                                </p:cTn>
                              </p:par>
                            </p:childTnLst>
                          </p:cTn>
                        </p:par>
                        <p:par>
                          <p:cTn id="1541" fill="hold">
                            <p:stCondLst>
                              <p:cond delay="4000"/>
                            </p:stCondLst>
                            <p:childTnLst>
                              <p:par>
                                <p:cTn id="1542" nodeType="afterEffect" fill="hold" presetClass="entr" presetID="10">
                                  <p:stCondLst>
                                    <p:cond delay="0"/>
                                  </p:stCondLst>
                                  <p:childTnLst>
                                    <p:set>
                                      <p:cBhvr>
                                        <p:cTn id="1543" dur="1" fill="hold">
                                          <p:stCondLst>
                                            <p:cond delay="0"/>
                                          </p:stCondLst>
                                        </p:cTn>
                                        <p:tgtEl>
                                          <p:spTgt spid="1547"/>
                                        </p:tgtEl>
                                        <p:attrNameLst>
                                          <p:attrName>style.visibility</p:attrName>
                                        </p:attrNameLst>
                                      </p:cBhvr>
                                      <p:to>
                                        <p:strVal val="visible"/>
                                      </p:to>
                                    </p:set>
                                    <p:animEffect filter="fade" transition="in">
                                      <p:cBhvr additive="repl">
                                        <p:cTn id="1544" dur="500"/>
                                        <p:tgtEl>
                                          <p:spTgt spid="1547"/>
                                        </p:tgtEl>
                                      </p:cBhvr>
                                    </p:animEffect>
                                  </p:childTnLst>
                                </p:cTn>
                              </p:par>
                            </p:childTnLst>
                          </p:cTn>
                        </p:par>
                        <p:par>
                          <p:cTn id="1545" fill="hold">
                            <p:stCondLst>
                              <p:cond delay="4500"/>
                            </p:stCondLst>
                            <p:childTnLst>
                              <p:par>
                                <p:cTn id="1546" nodeType="afterEffect" fill="hold" presetClass="entr" presetID="10">
                                  <p:stCondLst>
                                    <p:cond delay="0"/>
                                  </p:stCondLst>
                                  <p:childTnLst>
                                    <p:set>
                                      <p:cBhvr>
                                        <p:cTn id="1547" dur="1" fill="hold">
                                          <p:stCondLst>
                                            <p:cond delay="0"/>
                                          </p:stCondLst>
                                        </p:cTn>
                                        <p:tgtEl>
                                          <p:spTgt spid="1564">
                                            <p:txEl>
                                              <p:pRg st="0" end="0"/>
                                            </p:txEl>
                                          </p:spTgt>
                                        </p:tgtEl>
                                        <p:attrNameLst>
                                          <p:attrName>style.visibility</p:attrName>
                                        </p:attrNameLst>
                                      </p:cBhvr>
                                      <p:to>
                                        <p:strVal val="visible"/>
                                      </p:to>
                                    </p:set>
                                    <p:animEffect filter="fade" transition="in">
                                      <p:cBhvr additive="repl">
                                        <p:cTn id="1548" dur="500"/>
                                        <p:tgtEl>
                                          <p:spTgt spid="1564">
                                            <p:txEl>
                                              <p:pRg st="0" end="0"/>
                                            </p:txEl>
                                          </p:spTgt>
                                        </p:tgtEl>
                                      </p:cBhvr>
                                    </p:animEffect>
                                  </p:childTnLst>
                                </p:cTn>
                              </p:par>
                              <p:par>
                                <p:cTn id="1549" nodeType="withEffect" fill="hold" presetClass="entr" presetID="18" presetSubtype="12">
                                  <p:stCondLst>
                                    <p:cond delay="0"/>
                                  </p:stCondLst>
                                  <p:childTnLst>
                                    <p:set>
                                      <p:cBhvr>
                                        <p:cTn id="1550" dur="1" fill="hold">
                                          <p:stCondLst>
                                            <p:cond delay="0"/>
                                          </p:stCondLst>
                                        </p:cTn>
                                        <p:tgtEl>
                                          <p:spTgt spid="1563">
                                            <p:txEl>
                                              <p:pRg st="0" end="0"/>
                                            </p:txEl>
                                          </p:spTgt>
                                        </p:tgtEl>
                                        <p:attrNameLst>
                                          <p:attrName>style.visibility</p:attrName>
                                        </p:attrNameLst>
                                      </p:cBhvr>
                                      <p:to>
                                        <p:strVal val="visible"/>
                                      </p:to>
                                    </p:set>
                                    <p:animEffect filter="strips(downLeft)" transition="in">
                                      <p:cBhvr additive="repl">
                                        <p:cTn id="1551" dur="500"/>
                                        <p:tgtEl>
                                          <p:spTgt spid="1563">
                                            <p:txEl>
                                              <p:pRg st="0" end="0"/>
                                            </p:txEl>
                                          </p:spTgt>
                                        </p:tgtEl>
                                      </p:cBhvr>
                                    </p:animEffect>
                                  </p:childTnLst>
                                </p:cTn>
                              </p:par>
                            </p:childTnLst>
                          </p:cTn>
                        </p:par>
                        <p:par>
                          <p:cTn id="1552" fill="hold">
                            <p:stCondLst>
                              <p:cond delay="5000"/>
                            </p:stCondLst>
                            <p:childTnLst>
                              <p:par>
                                <p:cTn id="1553" nodeType="afterEffect" fill="hold" presetClass="entr" presetID="10">
                                  <p:stCondLst>
                                    <p:cond delay="0"/>
                                  </p:stCondLst>
                                  <p:childTnLst>
                                    <p:set>
                                      <p:cBhvr>
                                        <p:cTn id="1554" dur="1" fill="hold">
                                          <p:stCondLst>
                                            <p:cond delay="0"/>
                                          </p:stCondLst>
                                        </p:cTn>
                                        <p:tgtEl>
                                          <p:spTgt spid="1566"/>
                                        </p:tgtEl>
                                        <p:attrNameLst>
                                          <p:attrName>style.visibility</p:attrName>
                                        </p:attrNameLst>
                                      </p:cBhvr>
                                      <p:to>
                                        <p:strVal val="visible"/>
                                      </p:to>
                                    </p:set>
                                    <p:animEffect filter="fade" transition="in">
                                      <p:cBhvr additive="repl">
                                        <p:cTn id="1555" dur="500"/>
                                        <p:tgtEl>
                                          <p:spTgt spid="1566"/>
                                        </p:tgtEl>
                                      </p:cBhvr>
                                    </p:animEffect>
                                  </p:childTnLst>
                                </p:cTn>
                              </p:par>
                            </p:childTnLst>
                          </p:cTn>
                        </p:par>
                        <p:par>
                          <p:cTn id="1556" fill="hold">
                            <p:stCondLst>
                              <p:cond delay="5500"/>
                            </p:stCondLst>
                            <p:childTnLst>
                              <p:par>
                                <p:cTn id="1557" nodeType="afterEffect" fill="hold" presetClass="entr" presetID="10">
                                  <p:stCondLst>
                                    <p:cond delay="0"/>
                                  </p:stCondLst>
                                  <p:childTnLst>
                                    <p:set>
                                      <p:cBhvr>
                                        <p:cTn id="1558" dur="1" fill="hold">
                                          <p:stCondLst>
                                            <p:cond delay="0"/>
                                          </p:stCondLst>
                                        </p:cTn>
                                        <p:tgtEl>
                                          <p:spTgt spid="1562">
                                            <p:txEl>
                                              <p:pRg st="0" end="0"/>
                                            </p:txEl>
                                          </p:spTgt>
                                        </p:tgtEl>
                                        <p:attrNameLst>
                                          <p:attrName>style.visibility</p:attrName>
                                        </p:attrNameLst>
                                      </p:cBhvr>
                                      <p:to>
                                        <p:strVal val="visible"/>
                                      </p:to>
                                    </p:set>
                                    <p:animEffect filter="fade" transition="in">
                                      <p:cBhvr additive="repl">
                                        <p:cTn id="1559" dur="500"/>
                                        <p:tgtEl>
                                          <p:spTgt spid="1562">
                                            <p:txEl>
                                              <p:pRg st="0" end="0"/>
                                            </p:txEl>
                                          </p:spTgt>
                                        </p:tgtEl>
                                      </p:cBhvr>
                                    </p:animEffect>
                                  </p:childTnLst>
                                </p:cTn>
                              </p:par>
                              <p:par>
                                <p:cTn id="1560" nodeType="withEffect" fill="hold" presetClass="entr" presetID="18" presetSubtype="12">
                                  <p:stCondLst>
                                    <p:cond delay="0"/>
                                  </p:stCondLst>
                                  <p:childTnLst>
                                    <p:set>
                                      <p:cBhvr>
                                        <p:cTn id="1561" dur="1" fill="hold">
                                          <p:stCondLst>
                                            <p:cond delay="0"/>
                                          </p:stCondLst>
                                        </p:cTn>
                                        <p:tgtEl>
                                          <p:spTgt spid="1561">
                                            <p:txEl>
                                              <p:pRg st="0" end="0"/>
                                            </p:txEl>
                                          </p:spTgt>
                                        </p:tgtEl>
                                        <p:attrNameLst>
                                          <p:attrName>style.visibility</p:attrName>
                                        </p:attrNameLst>
                                      </p:cBhvr>
                                      <p:to>
                                        <p:strVal val="visible"/>
                                      </p:to>
                                    </p:set>
                                    <p:animEffect filter="strips(downLeft)" transition="in">
                                      <p:cBhvr additive="repl">
                                        <p:cTn id="1562" dur="500"/>
                                        <p:tgtEl>
                                          <p:spTgt spid="1561">
                                            <p:txEl>
                                              <p:pRg st="0" end="0"/>
                                            </p:txEl>
                                          </p:spTgt>
                                        </p:tgtEl>
                                      </p:cBhvr>
                                    </p:animEffect>
                                  </p:childTnLst>
                                </p:cTn>
                              </p:par>
                            </p:childTnLst>
                          </p:cTn>
                        </p:par>
                        <p:par>
                          <p:cTn id="1563" fill="hold">
                            <p:stCondLst>
                              <p:cond delay="6000"/>
                            </p:stCondLst>
                            <p:childTnLst>
                              <p:par>
                                <p:cTn id="1564" nodeType="afterEffect" fill="hold" presetClass="entr" presetID="10">
                                  <p:stCondLst>
                                    <p:cond delay="0"/>
                                  </p:stCondLst>
                                  <p:childTnLst>
                                    <p:set>
                                      <p:cBhvr>
                                        <p:cTn id="1565" dur="1" fill="hold">
                                          <p:stCondLst>
                                            <p:cond delay="0"/>
                                          </p:stCondLst>
                                        </p:cTn>
                                        <p:tgtEl>
                                          <p:spTgt spid="1550"/>
                                        </p:tgtEl>
                                        <p:attrNameLst>
                                          <p:attrName>style.visibility</p:attrName>
                                        </p:attrNameLst>
                                      </p:cBhvr>
                                      <p:to>
                                        <p:strVal val="visible"/>
                                      </p:to>
                                    </p:set>
                                    <p:animEffect filter="fade" transition="in">
                                      <p:cBhvr additive="repl">
                                        <p:cTn id="1566" dur="500"/>
                                        <p:tgtEl>
                                          <p:spTgt spid="1550"/>
                                        </p:tgtEl>
                                      </p:cBhvr>
                                    </p:animEffect>
                                  </p:childTnLst>
                                </p:cTn>
                              </p:par>
                            </p:childTnLst>
                          </p:cTn>
                        </p:par>
                        <p:par>
                          <p:cTn id="1567" fill="hold">
                            <p:stCondLst>
                              <p:cond delay="6500"/>
                            </p:stCondLst>
                            <p:childTnLst>
                              <p:par>
                                <p:cTn id="1568" nodeType="afterEffect" fill="hold" presetClass="entr" presetID="10">
                                  <p:stCondLst>
                                    <p:cond delay="0"/>
                                  </p:stCondLst>
                                  <p:childTnLst>
                                    <p:set>
                                      <p:cBhvr>
                                        <p:cTn id="1569" dur="1" fill="hold">
                                          <p:stCondLst>
                                            <p:cond delay="0"/>
                                          </p:stCondLst>
                                        </p:cTn>
                                        <p:tgtEl>
                                          <p:spTgt spid="1555">
                                            <p:txEl>
                                              <p:pRg st="0" end="0"/>
                                            </p:txEl>
                                          </p:spTgt>
                                        </p:tgtEl>
                                        <p:attrNameLst>
                                          <p:attrName>style.visibility</p:attrName>
                                        </p:attrNameLst>
                                      </p:cBhvr>
                                      <p:to>
                                        <p:strVal val="visible"/>
                                      </p:to>
                                    </p:set>
                                    <p:animEffect filter="fade" transition="in">
                                      <p:cBhvr additive="repl">
                                        <p:cTn id="1570" dur="500"/>
                                        <p:tgtEl>
                                          <p:spTgt spid="1555">
                                            <p:txEl>
                                              <p:pRg st="0" end="0"/>
                                            </p:txEl>
                                          </p:spTgt>
                                        </p:tgtEl>
                                      </p:cBhvr>
                                    </p:animEffect>
                                  </p:childTnLst>
                                </p:cTn>
                              </p:par>
                              <p:par>
                                <p:cTn id="1571" nodeType="withEffect" fill="hold" presetClass="entr" presetID="18" presetSubtype="12">
                                  <p:stCondLst>
                                    <p:cond delay="0"/>
                                  </p:stCondLst>
                                  <p:childTnLst>
                                    <p:set>
                                      <p:cBhvr>
                                        <p:cTn id="1572" dur="1" fill="hold">
                                          <p:stCondLst>
                                            <p:cond delay="0"/>
                                          </p:stCondLst>
                                        </p:cTn>
                                        <p:tgtEl>
                                          <p:spTgt spid="1554">
                                            <p:txEl>
                                              <p:pRg st="0" end="0"/>
                                            </p:txEl>
                                          </p:spTgt>
                                        </p:tgtEl>
                                        <p:attrNameLst>
                                          <p:attrName>style.visibility</p:attrName>
                                        </p:attrNameLst>
                                      </p:cBhvr>
                                      <p:to>
                                        <p:strVal val="visible"/>
                                      </p:to>
                                    </p:set>
                                    <p:animEffect filter="strips(downLeft)" transition="in">
                                      <p:cBhvr additive="repl">
                                        <p:cTn id="1573" dur="500"/>
                                        <p:tgtEl>
                                          <p:spTgt spid="1554">
                                            <p:txEl>
                                              <p:pRg st="0" end="0"/>
                                            </p:txEl>
                                          </p:spTgt>
                                        </p:tgtEl>
                                      </p:cBhvr>
                                    </p:animEffect>
                                  </p:childTnLst>
                                </p:cTn>
                              </p:par>
                            </p:childTnLst>
                          </p:cTn>
                        </p:par>
                        <p:par>
                          <p:cTn id="1574" fill="hold">
                            <p:stCondLst>
                              <p:cond delay="7000"/>
                            </p:stCondLst>
                            <p:childTnLst>
                              <p:par>
                                <p:cTn id="1575" nodeType="afterEffect" fill="hold" presetClass="entr" presetID="22" presetSubtype="8">
                                  <p:stCondLst>
                                    <p:cond delay="0"/>
                                  </p:stCondLst>
                                  <p:childTnLst>
                                    <p:set>
                                      <p:cBhvr>
                                        <p:cTn id="1576" dur="1" fill="hold">
                                          <p:stCondLst>
                                            <p:cond delay="0"/>
                                          </p:stCondLst>
                                        </p:cTn>
                                        <p:tgtEl>
                                          <p:spTgt spid="1570">
                                            <p:txEl>
                                              <p:pRg st="0" end="0"/>
                                            </p:txEl>
                                          </p:spTgt>
                                        </p:tgtEl>
                                        <p:attrNameLst>
                                          <p:attrName>style.visibility</p:attrName>
                                        </p:attrNameLst>
                                      </p:cBhvr>
                                      <p:to>
                                        <p:strVal val="visible"/>
                                      </p:to>
                                    </p:set>
                                    <p:animEffect filter="wipe(left)" transition="in">
                                      <p:cBhvr additive="repl">
                                        <p:cTn id="1577" dur="500"/>
                                        <p:tgtEl>
                                          <p:spTgt spid="1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Line 10"/>
          <p:cNvSpPr/>
          <p:nvPr/>
        </p:nvSpPr>
        <p:spPr>
          <a:xfrm>
            <a:off x="2643120" y="3630600"/>
            <a:ext cx="325440" cy="0"/>
          </a:xfrm>
          <a:prstGeom prst="line">
            <a:avLst/>
          </a:prstGeom>
          <a:ln w="9360">
            <a:solidFill>
              <a:srgbClr val="00a09c"/>
            </a:solidFill>
            <a:miter/>
            <a:tailEnd len="sm" type="arrow" w="sm"/>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572" name="Line 12"/>
          <p:cNvSpPr/>
          <p:nvPr/>
        </p:nvSpPr>
        <p:spPr>
          <a:xfrm>
            <a:off x="4821120" y="3630600"/>
            <a:ext cx="327240" cy="0"/>
          </a:xfrm>
          <a:prstGeom prst="line">
            <a:avLst/>
          </a:prstGeom>
          <a:ln w="9360">
            <a:solidFill>
              <a:srgbClr val="00a09c"/>
            </a:solidFill>
            <a:miter/>
            <a:tailEnd len="sm" type="arrow" w="sm"/>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573" name="Line 14"/>
          <p:cNvSpPr/>
          <p:nvPr/>
        </p:nvSpPr>
        <p:spPr>
          <a:xfrm>
            <a:off x="7000920" y="3613320"/>
            <a:ext cx="326880" cy="0"/>
          </a:xfrm>
          <a:prstGeom prst="line">
            <a:avLst/>
          </a:prstGeom>
          <a:ln w="9360">
            <a:solidFill>
              <a:srgbClr val="00a09c"/>
            </a:solidFill>
            <a:miter/>
            <a:tailEnd len="sm" type="arrow" w="sm"/>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574" name="Line 16"/>
          <p:cNvSpPr/>
          <p:nvPr/>
        </p:nvSpPr>
        <p:spPr>
          <a:xfrm>
            <a:off x="9180360" y="3613320"/>
            <a:ext cx="327240" cy="0"/>
          </a:xfrm>
          <a:prstGeom prst="line">
            <a:avLst/>
          </a:prstGeom>
          <a:ln w="9360">
            <a:solidFill>
              <a:srgbClr val="00a09c"/>
            </a:solidFill>
            <a:miter/>
            <a:tailEnd len="sm" type="arrow" w="sm"/>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nvGrpSpPr>
          <p:cNvPr id="1575" name="Group 1"/>
          <p:cNvGrpSpPr/>
          <p:nvPr/>
        </p:nvGrpSpPr>
        <p:grpSpPr>
          <a:xfrm>
            <a:off x="1066680" y="2455920"/>
            <a:ext cx="1335240" cy="2287440"/>
            <a:chOff x="1066680" y="2455920"/>
            <a:chExt cx="1335240" cy="2287440"/>
          </a:xfrm>
        </p:grpSpPr>
        <p:sp>
          <p:nvSpPr>
            <p:cNvPr id="1576" name="Rectangle 18"/>
            <p:cNvSpPr/>
            <p:nvPr/>
          </p:nvSpPr>
          <p:spPr>
            <a:xfrm>
              <a:off x="1066680" y="2455920"/>
              <a:ext cx="1335240" cy="2287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77" name="AutoShape 19"/>
            <p:cNvSpPr/>
            <p:nvPr/>
          </p:nvSpPr>
          <p:spPr>
            <a:xfrm>
              <a:off x="1442160" y="3054240"/>
              <a:ext cx="545040" cy="449280"/>
            </a:xfrm>
            <a:custGeom>
              <a:avLst/>
              <a:gdLst/>
              <a:ahLst/>
              <a:rect l="l" t="t" r="r" b="b"/>
              <a:pathLst>
                <a:path w="21600" h="21148">
                  <a:moveTo>
                    <a:pt x="21600" y="14428"/>
                  </a:moveTo>
                  <a:cubicBezTo>
                    <a:pt x="21600" y="16188"/>
                    <a:pt x="17280" y="16668"/>
                    <a:pt x="15660" y="16668"/>
                  </a:cubicBezTo>
                  <a:cubicBezTo>
                    <a:pt x="15390" y="16668"/>
                    <a:pt x="15255" y="16668"/>
                    <a:pt x="15120" y="16668"/>
                  </a:cubicBezTo>
                  <a:cubicBezTo>
                    <a:pt x="14580" y="14748"/>
                    <a:pt x="13365" y="12988"/>
                    <a:pt x="11880" y="12668"/>
                  </a:cubicBezTo>
                  <a:cubicBezTo>
                    <a:pt x="11205" y="12508"/>
                    <a:pt x="10665" y="12188"/>
                    <a:pt x="10260" y="11868"/>
                  </a:cubicBezTo>
                  <a:cubicBezTo>
                    <a:pt x="10665" y="11228"/>
                    <a:pt x="11205" y="10588"/>
                    <a:pt x="11880" y="10428"/>
                  </a:cubicBezTo>
                  <a:cubicBezTo>
                    <a:pt x="12015" y="10428"/>
                    <a:pt x="12690" y="10268"/>
                    <a:pt x="13365" y="9948"/>
                  </a:cubicBezTo>
                  <a:cubicBezTo>
                    <a:pt x="13365" y="12508"/>
                    <a:pt x="13365" y="12508"/>
                    <a:pt x="13365" y="12508"/>
                  </a:cubicBezTo>
                  <a:cubicBezTo>
                    <a:pt x="13500" y="12188"/>
                    <a:pt x="14175" y="11068"/>
                    <a:pt x="14715" y="11228"/>
                  </a:cubicBezTo>
                  <a:cubicBezTo>
                    <a:pt x="14985" y="11228"/>
                    <a:pt x="15120" y="11388"/>
                    <a:pt x="15390" y="11388"/>
                  </a:cubicBezTo>
                  <a:cubicBezTo>
                    <a:pt x="15660" y="11388"/>
                    <a:pt x="15660" y="11388"/>
                    <a:pt x="15660" y="11388"/>
                  </a:cubicBezTo>
                  <a:cubicBezTo>
                    <a:pt x="16065" y="11388"/>
                    <a:pt x="16200" y="11228"/>
                    <a:pt x="16470" y="11228"/>
                  </a:cubicBezTo>
                  <a:cubicBezTo>
                    <a:pt x="16875" y="11068"/>
                    <a:pt x="17685" y="12188"/>
                    <a:pt x="17820" y="12508"/>
                  </a:cubicBezTo>
                  <a:cubicBezTo>
                    <a:pt x="17820" y="9948"/>
                    <a:pt x="17820" y="9948"/>
                    <a:pt x="17820" y="9948"/>
                  </a:cubicBezTo>
                  <a:cubicBezTo>
                    <a:pt x="18495" y="10268"/>
                    <a:pt x="19170" y="10428"/>
                    <a:pt x="19305" y="10428"/>
                  </a:cubicBezTo>
                  <a:cubicBezTo>
                    <a:pt x="20655" y="10748"/>
                    <a:pt x="21600" y="12828"/>
                    <a:pt x="21600" y="14428"/>
                  </a:cubicBezTo>
                  <a:close/>
                  <a:moveTo>
                    <a:pt x="18900" y="5308"/>
                  </a:moveTo>
                  <a:cubicBezTo>
                    <a:pt x="18900" y="4988"/>
                    <a:pt x="18765" y="4988"/>
                    <a:pt x="18765" y="4828"/>
                  </a:cubicBezTo>
                  <a:cubicBezTo>
                    <a:pt x="18630" y="4828"/>
                    <a:pt x="18630" y="4828"/>
                    <a:pt x="18495" y="4828"/>
                  </a:cubicBezTo>
                  <a:cubicBezTo>
                    <a:pt x="18765" y="4028"/>
                    <a:pt x="18765" y="3228"/>
                    <a:pt x="18630" y="2588"/>
                  </a:cubicBezTo>
                  <a:cubicBezTo>
                    <a:pt x="18225" y="1148"/>
                    <a:pt x="17550" y="508"/>
                    <a:pt x="17010" y="188"/>
                  </a:cubicBezTo>
                  <a:cubicBezTo>
                    <a:pt x="16605" y="28"/>
                    <a:pt x="15660" y="28"/>
                    <a:pt x="15660" y="28"/>
                  </a:cubicBezTo>
                  <a:cubicBezTo>
                    <a:pt x="15660" y="28"/>
                    <a:pt x="13500" y="-452"/>
                    <a:pt x="12555" y="2588"/>
                  </a:cubicBezTo>
                  <a:cubicBezTo>
                    <a:pt x="12420" y="3228"/>
                    <a:pt x="12555" y="4028"/>
                    <a:pt x="12690" y="4828"/>
                  </a:cubicBezTo>
                  <a:cubicBezTo>
                    <a:pt x="12555" y="4828"/>
                    <a:pt x="12555" y="4828"/>
                    <a:pt x="12420" y="4828"/>
                  </a:cubicBezTo>
                  <a:cubicBezTo>
                    <a:pt x="12420" y="4988"/>
                    <a:pt x="12285" y="4988"/>
                    <a:pt x="12285" y="5308"/>
                  </a:cubicBezTo>
                  <a:cubicBezTo>
                    <a:pt x="12285" y="5628"/>
                    <a:pt x="12285" y="5948"/>
                    <a:pt x="12420" y="6268"/>
                  </a:cubicBezTo>
                  <a:cubicBezTo>
                    <a:pt x="12555" y="6748"/>
                    <a:pt x="12690" y="7068"/>
                    <a:pt x="13230" y="6748"/>
                  </a:cubicBezTo>
                  <a:cubicBezTo>
                    <a:pt x="13230" y="7708"/>
                    <a:pt x="13365" y="8028"/>
                    <a:pt x="13635" y="8188"/>
                  </a:cubicBezTo>
                  <a:cubicBezTo>
                    <a:pt x="13635" y="8188"/>
                    <a:pt x="13635" y="8188"/>
                    <a:pt x="13635" y="8188"/>
                  </a:cubicBezTo>
                  <a:cubicBezTo>
                    <a:pt x="13635" y="8188"/>
                    <a:pt x="13635" y="8188"/>
                    <a:pt x="13635" y="8188"/>
                  </a:cubicBezTo>
                  <a:cubicBezTo>
                    <a:pt x="13635" y="8188"/>
                    <a:pt x="13635" y="8188"/>
                    <a:pt x="13635" y="8188"/>
                  </a:cubicBezTo>
                  <a:cubicBezTo>
                    <a:pt x="13635" y="8188"/>
                    <a:pt x="13635" y="8188"/>
                    <a:pt x="13635" y="8188"/>
                  </a:cubicBezTo>
                  <a:cubicBezTo>
                    <a:pt x="13635" y="8188"/>
                    <a:pt x="13635" y="8188"/>
                    <a:pt x="13770" y="8348"/>
                  </a:cubicBezTo>
                  <a:cubicBezTo>
                    <a:pt x="13770" y="8348"/>
                    <a:pt x="13770" y="8348"/>
                    <a:pt x="13770" y="8348"/>
                  </a:cubicBezTo>
                  <a:cubicBezTo>
                    <a:pt x="13770" y="8508"/>
                    <a:pt x="13770" y="8668"/>
                    <a:pt x="13770" y="8668"/>
                  </a:cubicBezTo>
                  <a:cubicBezTo>
                    <a:pt x="13770" y="8988"/>
                    <a:pt x="13770" y="9308"/>
                    <a:pt x="13770" y="9468"/>
                  </a:cubicBezTo>
                  <a:cubicBezTo>
                    <a:pt x="13905" y="9628"/>
                    <a:pt x="14715" y="11068"/>
                    <a:pt x="15660" y="11068"/>
                  </a:cubicBezTo>
                  <a:cubicBezTo>
                    <a:pt x="16605" y="11068"/>
                    <a:pt x="17415" y="9628"/>
                    <a:pt x="17415" y="9468"/>
                  </a:cubicBezTo>
                  <a:cubicBezTo>
                    <a:pt x="17415" y="9148"/>
                    <a:pt x="17415" y="8988"/>
                    <a:pt x="17415" y="8668"/>
                  </a:cubicBezTo>
                  <a:cubicBezTo>
                    <a:pt x="17415" y="8668"/>
                    <a:pt x="17415" y="8508"/>
                    <a:pt x="17415" y="8348"/>
                  </a:cubicBezTo>
                  <a:cubicBezTo>
                    <a:pt x="17415" y="8348"/>
                    <a:pt x="17550" y="8348"/>
                    <a:pt x="17550" y="8188"/>
                  </a:cubicBezTo>
                  <a:cubicBezTo>
                    <a:pt x="17550" y="8188"/>
                    <a:pt x="17550" y="8188"/>
                    <a:pt x="17550" y="8188"/>
                  </a:cubicBezTo>
                  <a:cubicBezTo>
                    <a:pt x="17685" y="8028"/>
                    <a:pt x="17955" y="7708"/>
                    <a:pt x="17955" y="6748"/>
                  </a:cubicBezTo>
                  <a:cubicBezTo>
                    <a:pt x="18495" y="7068"/>
                    <a:pt x="18630" y="6748"/>
                    <a:pt x="18765" y="6268"/>
                  </a:cubicBezTo>
                  <a:cubicBezTo>
                    <a:pt x="18900" y="5948"/>
                    <a:pt x="18900" y="5628"/>
                    <a:pt x="18900" y="5308"/>
                  </a:cubicBezTo>
                  <a:close/>
                  <a:moveTo>
                    <a:pt x="16335" y="14268"/>
                  </a:moveTo>
                  <a:cubicBezTo>
                    <a:pt x="16335" y="14268"/>
                    <a:pt x="16335" y="14268"/>
                    <a:pt x="16335" y="14268"/>
                  </a:cubicBezTo>
                  <a:cubicBezTo>
                    <a:pt x="16335" y="14268"/>
                    <a:pt x="16335" y="14268"/>
                    <a:pt x="16335" y="14268"/>
                  </a:cubicBezTo>
                  <a:close/>
                  <a:moveTo>
                    <a:pt x="16335" y="14268"/>
                  </a:moveTo>
                  <a:cubicBezTo>
                    <a:pt x="16335" y="14268"/>
                    <a:pt x="16335" y="14268"/>
                    <a:pt x="16335" y="14268"/>
                  </a:cubicBezTo>
                  <a:cubicBezTo>
                    <a:pt x="16335" y="14268"/>
                    <a:pt x="16335" y="14268"/>
                    <a:pt x="16335" y="14268"/>
                  </a:cubicBezTo>
                  <a:close/>
                  <a:moveTo>
                    <a:pt x="16335" y="14268"/>
                  </a:moveTo>
                  <a:cubicBezTo>
                    <a:pt x="16335" y="14268"/>
                    <a:pt x="16335" y="14268"/>
                    <a:pt x="16335" y="14268"/>
                  </a:cubicBezTo>
                  <a:cubicBezTo>
                    <a:pt x="16335" y="14268"/>
                    <a:pt x="16335" y="14268"/>
                    <a:pt x="16335" y="14268"/>
                  </a:cubicBezTo>
                  <a:cubicBezTo>
                    <a:pt x="16335" y="14268"/>
                    <a:pt x="16335" y="14268"/>
                    <a:pt x="16335" y="14268"/>
                  </a:cubicBezTo>
                  <a:close/>
                  <a:moveTo>
                    <a:pt x="11610" y="13788"/>
                  </a:moveTo>
                  <a:cubicBezTo>
                    <a:pt x="11475" y="13788"/>
                    <a:pt x="10530" y="13628"/>
                    <a:pt x="9855" y="13148"/>
                  </a:cubicBezTo>
                  <a:cubicBezTo>
                    <a:pt x="9855" y="16188"/>
                    <a:pt x="9855" y="16188"/>
                    <a:pt x="9855" y="16188"/>
                  </a:cubicBezTo>
                  <a:cubicBezTo>
                    <a:pt x="9585" y="15868"/>
                    <a:pt x="8775" y="14428"/>
                    <a:pt x="8100" y="14748"/>
                  </a:cubicBezTo>
                  <a:cubicBezTo>
                    <a:pt x="7830" y="14748"/>
                    <a:pt x="7695" y="14908"/>
                    <a:pt x="7290" y="14908"/>
                  </a:cubicBezTo>
                  <a:cubicBezTo>
                    <a:pt x="7020" y="14908"/>
                    <a:pt x="7020" y="14908"/>
                    <a:pt x="7020" y="14908"/>
                  </a:cubicBezTo>
                  <a:cubicBezTo>
                    <a:pt x="6615" y="14908"/>
                    <a:pt x="6480" y="14748"/>
                    <a:pt x="6210" y="14748"/>
                  </a:cubicBezTo>
                  <a:cubicBezTo>
                    <a:pt x="5535" y="14428"/>
                    <a:pt x="4725" y="15868"/>
                    <a:pt x="4455" y="16188"/>
                  </a:cubicBezTo>
                  <a:cubicBezTo>
                    <a:pt x="4455" y="13148"/>
                    <a:pt x="4455" y="13148"/>
                    <a:pt x="4455" y="13148"/>
                  </a:cubicBezTo>
                  <a:cubicBezTo>
                    <a:pt x="3780" y="13628"/>
                    <a:pt x="2835" y="13788"/>
                    <a:pt x="2700" y="13788"/>
                  </a:cubicBezTo>
                  <a:cubicBezTo>
                    <a:pt x="1080" y="14268"/>
                    <a:pt x="0" y="16668"/>
                    <a:pt x="0" y="18428"/>
                  </a:cubicBezTo>
                  <a:cubicBezTo>
                    <a:pt x="0" y="20508"/>
                    <a:pt x="5130" y="21148"/>
                    <a:pt x="7155" y="21148"/>
                  </a:cubicBezTo>
                  <a:cubicBezTo>
                    <a:pt x="9180" y="21148"/>
                    <a:pt x="14310" y="20508"/>
                    <a:pt x="14310" y="18428"/>
                  </a:cubicBezTo>
                  <a:cubicBezTo>
                    <a:pt x="14310" y="16668"/>
                    <a:pt x="13095" y="14268"/>
                    <a:pt x="11610" y="13788"/>
                  </a:cubicBezTo>
                  <a:close/>
                  <a:moveTo>
                    <a:pt x="11070" y="7708"/>
                  </a:moveTo>
                  <a:cubicBezTo>
                    <a:pt x="11070" y="7388"/>
                    <a:pt x="10935" y="7228"/>
                    <a:pt x="10935" y="7228"/>
                  </a:cubicBezTo>
                  <a:cubicBezTo>
                    <a:pt x="10800" y="7068"/>
                    <a:pt x="10665" y="7068"/>
                    <a:pt x="10665" y="7068"/>
                  </a:cubicBezTo>
                  <a:cubicBezTo>
                    <a:pt x="10800" y="6108"/>
                    <a:pt x="10935" y="5308"/>
                    <a:pt x="10665" y="4348"/>
                  </a:cubicBezTo>
                  <a:cubicBezTo>
                    <a:pt x="10260" y="2908"/>
                    <a:pt x="9450" y="2108"/>
                    <a:pt x="8775" y="1628"/>
                  </a:cubicBezTo>
                  <a:cubicBezTo>
                    <a:pt x="8370" y="1468"/>
                    <a:pt x="7155" y="1308"/>
                    <a:pt x="7155" y="1308"/>
                  </a:cubicBezTo>
                  <a:cubicBezTo>
                    <a:pt x="7155" y="1308"/>
                    <a:pt x="4590" y="988"/>
                    <a:pt x="3645" y="4348"/>
                  </a:cubicBezTo>
                  <a:cubicBezTo>
                    <a:pt x="3375" y="5308"/>
                    <a:pt x="3510" y="6108"/>
                    <a:pt x="3645" y="7068"/>
                  </a:cubicBezTo>
                  <a:cubicBezTo>
                    <a:pt x="3645" y="7068"/>
                    <a:pt x="3510" y="7068"/>
                    <a:pt x="3510" y="7228"/>
                  </a:cubicBezTo>
                  <a:cubicBezTo>
                    <a:pt x="3375" y="7228"/>
                    <a:pt x="3240" y="7388"/>
                    <a:pt x="3240" y="7708"/>
                  </a:cubicBezTo>
                  <a:cubicBezTo>
                    <a:pt x="3240" y="8028"/>
                    <a:pt x="3240" y="8508"/>
                    <a:pt x="3375" y="8828"/>
                  </a:cubicBezTo>
                  <a:cubicBezTo>
                    <a:pt x="3510" y="9468"/>
                    <a:pt x="3780" y="9788"/>
                    <a:pt x="4320" y="9468"/>
                  </a:cubicBezTo>
                  <a:cubicBezTo>
                    <a:pt x="4320" y="10428"/>
                    <a:pt x="4590" y="10908"/>
                    <a:pt x="4725" y="11068"/>
                  </a:cubicBezTo>
                  <a:cubicBezTo>
                    <a:pt x="4725" y="11068"/>
                    <a:pt x="4725" y="11068"/>
                    <a:pt x="4725" y="11068"/>
                  </a:cubicBezTo>
                  <a:cubicBezTo>
                    <a:pt x="4725" y="11068"/>
                    <a:pt x="4725" y="11068"/>
                    <a:pt x="4725" y="11068"/>
                  </a:cubicBezTo>
                  <a:cubicBezTo>
                    <a:pt x="4860" y="11068"/>
                    <a:pt x="4860" y="11228"/>
                    <a:pt x="4860" y="11228"/>
                  </a:cubicBezTo>
                  <a:cubicBezTo>
                    <a:pt x="4860" y="11228"/>
                    <a:pt x="4860" y="11228"/>
                    <a:pt x="4860" y="11228"/>
                  </a:cubicBezTo>
                  <a:cubicBezTo>
                    <a:pt x="4860" y="11228"/>
                    <a:pt x="4860" y="11228"/>
                    <a:pt x="4860" y="11228"/>
                  </a:cubicBezTo>
                  <a:cubicBezTo>
                    <a:pt x="4995" y="11228"/>
                    <a:pt x="4995" y="11228"/>
                    <a:pt x="4995" y="11388"/>
                  </a:cubicBezTo>
                  <a:cubicBezTo>
                    <a:pt x="4995" y="11388"/>
                    <a:pt x="4995" y="11548"/>
                    <a:pt x="4995" y="11708"/>
                  </a:cubicBezTo>
                  <a:cubicBezTo>
                    <a:pt x="4995" y="12028"/>
                    <a:pt x="4995" y="12348"/>
                    <a:pt x="5130" y="12668"/>
                  </a:cubicBezTo>
                  <a:cubicBezTo>
                    <a:pt x="5130" y="12988"/>
                    <a:pt x="6075" y="14588"/>
                    <a:pt x="7155" y="14588"/>
                  </a:cubicBezTo>
                  <a:cubicBezTo>
                    <a:pt x="8235" y="14588"/>
                    <a:pt x="9315" y="12828"/>
                    <a:pt x="9315" y="12508"/>
                  </a:cubicBezTo>
                  <a:cubicBezTo>
                    <a:pt x="9315" y="12348"/>
                    <a:pt x="9315" y="12028"/>
                    <a:pt x="9315" y="11708"/>
                  </a:cubicBezTo>
                  <a:cubicBezTo>
                    <a:pt x="9315" y="11548"/>
                    <a:pt x="9315" y="11388"/>
                    <a:pt x="9315" y="11388"/>
                  </a:cubicBezTo>
                  <a:cubicBezTo>
                    <a:pt x="9315" y="11228"/>
                    <a:pt x="9450" y="11228"/>
                    <a:pt x="9450" y="11228"/>
                  </a:cubicBezTo>
                  <a:cubicBezTo>
                    <a:pt x="9450" y="11228"/>
                    <a:pt x="9450" y="11228"/>
                    <a:pt x="9450" y="11228"/>
                  </a:cubicBezTo>
                  <a:cubicBezTo>
                    <a:pt x="9720" y="11068"/>
                    <a:pt x="9990" y="10588"/>
                    <a:pt x="9990" y="9468"/>
                  </a:cubicBezTo>
                  <a:cubicBezTo>
                    <a:pt x="10530" y="9788"/>
                    <a:pt x="10800" y="9468"/>
                    <a:pt x="10935" y="8828"/>
                  </a:cubicBezTo>
                  <a:cubicBezTo>
                    <a:pt x="11070" y="8508"/>
                    <a:pt x="11070" y="8028"/>
                    <a:pt x="11070" y="7708"/>
                  </a:cubicBezTo>
                  <a:close/>
                  <a:moveTo>
                    <a:pt x="11070" y="7708"/>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578" name="Group 2"/>
          <p:cNvGrpSpPr/>
          <p:nvPr/>
        </p:nvGrpSpPr>
        <p:grpSpPr>
          <a:xfrm>
            <a:off x="3252960" y="2455920"/>
            <a:ext cx="1334880" cy="2287440"/>
            <a:chOff x="3252960" y="2455920"/>
            <a:chExt cx="1334880" cy="2287440"/>
          </a:xfrm>
        </p:grpSpPr>
        <p:sp>
          <p:nvSpPr>
            <p:cNvPr id="1579" name="Rectangle 22"/>
            <p:cNvSpPr/>
            <p:nvPr/>
          </p:nvSpPr>
          <p:spPr>
            <a:xfrm>
              <a:off x="3252960" y="2455920"/>
              <a:ext cx="1334880" cy="2287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80" name="AutoShape 24"/>
            <p:cNvSpPr/>
            <p:nvPr/>
          </p:nvSpPr>
          <p:spPr>
            <a:xfrm>
              <a:off x="3682080" y="3068640"/>
              <a:ext cx="464760" cy="450000"/>
            </a:xfrm>
            <a:custGeom>
              <a:avLst/>
              <a:gdLst/>
              <a:ahLst/>
              <a:rect l="l" t="t" r="r" b="b"/>
              <a:pathLst>
                <a:path w="21500" h="21600">
                  <a:moveTo>
                    <a:pt x="8400" y="0"/>
                  </a:moveTo>
                  <a:cubicBezTo>
                    <a:pt x="3600" y="0"/>
                    <a:pt x="0" y="3946"/>
                    <a:pt x="0" y="8723"/>
                  </a:cubicBezTo>
                  <a:cubicBezTo>
                    <a:pt x="0" y="13500"/>
                    <a:pt x="3600" y="17238"/>
                    <a:pt x="8400" y="17238"/>
                  </a:cubicBezTo>
                  <a:cubicBezTo>
                    <a:pt x="10400" y="17238"/>
                    <a:pt x="12200" y="16615"/>
                    <a:pt x="13600" y="15369"/>
                  </a:cubicBezTo>
                  <a:cubicBezTo>
                    <a:pt x="13600" y="15369"/>
                    <a:pt x="13800" y="15577"/>
                    <a:pt x="13800" y="15785"/>
                  </a:cubicBezTo>
                  <a:cubicBezTo>
                    <a:pt x="19000" y="20977"/>
                    <a:pt x="19000" y="20977"/>
                    <a:pt x="19000" y="20977"/>
                  </a:cubicBezTo>
                  <a:cubicBezTo>
                    <a:pt x="19400" y="21392"/>
                    <a:pt x="19800" y="21600"/>
                    <a:pt x="20000" y="21600"/>
                  </a:cubicBezTo>
                  <a:cubicBezTo>
                    <a:pt x="20400" y="21600"/>
                    <a:pt x="20800" y="21392"/>
                    <a:pt x="21200" y="20977"/>
                  </a:cubicBezTo>
                  <a:cubicBezTo>
                    <a:pt x="21600" y="20562"/>
                    <a:pt x="21600" y="19523"/>
                    <a:pt x="21200" y="18900"/>
                  </a:cubicBezTo>
                  <a:cubicBezTo>
                    <a:pt x="16000" y="13500"/>
                    <a:pt x="16000" y="13500"/>
                    <a:pt x="16000" y="13500"/>
                  </a:cubicBezTo>
                  <a:cubicBezTo>
                    <a:pt x="15800" y="13500"/>
                    <a:pt x="15600" y="13292"/>
                    <a:pt x="15400" y="13292"/>
                  </a:cubicBezTo>
                  <a:cubicBezTo>
                    <a:pt x="16200" y="11838"/>
                    <a:pt x="16600" y="10385"/>
                    <a:pt x="16600" y="8723"/>
                  </a:cubicBezTo>
                  <a:cubicBezTo>
                    <a:pt x="16600" y="3946"/>
                    <a:pt x="13000" y="0"/>
                    <a:pt x="8400" y="0"/>
                  </a:cubicBezTo>
                  <a:close/>
                  <a:moveTo>
                    <a:pt x="8400" y="2700"/>
                  </a:moveTo>
                  <a:cubicBezTo>
                    <a:pt x="11600" y="2700"/>
                    <a:pt x="14200" y="5400"/>
                    <a:pt x="14200" y="8723"/>
                  </a:cubicBezTo>
                  <a:cubicBezTo>
                    <a:pt x="14200" y="9762"/>
                    <a:pt x="13800" y="10800"/>
                    <a:pt x="13200" y="11838"/>
                  </a:cubicBezTo>
                  <a:cubicBezTo>
                    <a:pt x="12800" y="12669"/>
                    <a:pt x="12800" y="12669"/>
                    <a:pt x="12800" y="12669"/>
                  </a:cubicBezTo>
                  <a:cubicBezTo>
                    <a:pt x="12000" y="13292"/>
                    <a:pt x="12000" y="13292"/>
                    <a:pt x="12000" y="13292"/>
                  </a:cubicBezTo>
                  <a:cubicBezTo>
                    <a:pt x="11000" y="14123"/>
                    <a:pt x="9600" y="14538"/>
                    <a:pt x="8400" y="14538"/>
                  </a:cubicBezTo>
                  <a:cubicBezTo>
                    <a:pt x="5200" y="14538"/>
                    <a:pt x="2600" y="12046"/>
                    <a:pt x="2600" y="8723"/>
                  </a:cubicBezTo>
                  <a:cubicBezTo>
                    <a:pt x="2600" y="5400"/>
                    <a:pt x="5200" y="2700"/>
                    <a:pt x="8400" y="2700"/>
                  </a:cubicBezTo>
                  <a:close/>
                  <a:moveTo>
                    <a:pt x="8400" y="2700"/>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581" name="Group 4"/>
          <p:cNvGrpSpPr/>
          <p:nvPr/>
        </p:nvGrpSpPr>
        <p:grpSpPr>
          <a:xfrm>
            <a:off x="5424480" y="2455920"/>
            <a:ext cx="1335240" cy="2287440"/>
            <a:chOff x="5424480" y="2455920"/>
            <a:chExt cx="1335240" cy="2287440"/>
          </a:xfrm>
        </p:grpSpPr>
        <p:sp>
          <p:nvSpPr>
            <p:cNvPr id="1582" name="Rectangle 26"/>
            <p:cNvSpPr/>
            <p:nvPr/>
          </p:nvSpPr>
          <p:spPr>
            <a:xfrm>
              <a:off x="5424480" y="2455920"/>
              <a:ext cx="1335240" cy="2287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1583" name="Group 3"/>
            <p:cNvGrpSpPr/>
            <p:nvPr/>
          </p:nvGrpSpPr>
          <p:grpSpPr>
            <a:xfrm>
              <a:off x="5848560" y="3052440"/>
              <a:ext cx="464760" cy="450360"/>
              <a:chOff x="5848560" y="3052440"/>
              <a:chExt cx="464760" cy="450360"/>
            </a:xfrm>
          </p:grpSpPr>
          <p:sp>
            <p:nvSpPr>
              <p:cNvPr id="1584" name="Freeform 28"/>
              <p:cNvSpPr/>
              <p:nvPr/>
            </p:nvSpPr>
            <p:spPr>
              <a:xfrm>
                <a:off x="5848560" y="3099240"/>
                <a:ext cx="416520" cy="403560"/>
              </a:xfrm>
              <a:custGeom>
                <a:avLst/>
                <a:gdLst/>
                <a:ahLst/>
                <a:rect l="l" t="t" r="r" b="b"/>
                <a:pathLst>
                  <a:path w="21600" h="21600">
                    <a:moveTo>
                      <a:pt x="18424" y="4659"/>
                    </a:moveTo>
                    <a:cubicBezTo>
                      <a:pt x="16941" y="2965"/>
                      <a:pt x="16941" y="2965"/>
                      <a:pt x="16941" y="2965"/>
                    </a:cubicBezTo>
                    <a:cubicBezTo>
                      <a:pt x="13976" y="0"/>
                      <a:pt x="13976" y="0"/>
                      <a:pt x="13976" y="0"/>
                    </a:cubicBezTo>
                    <a:cubicBezTo>
                      <a:pt x="13976" y="0"/>
                      <a:pt x="13976" y="0"/>
                      <a:pt x="12494" y="1482"/>
                    </a:cubicBezTo>
                    <a:cubicBezTo>
                      <a:pt x="11012" y="2965"/>
                      <a:pt x="6565" y="4659"/>
                      <a:pt x="6565" y="4659"/>
                    </a:cubicBezTo>
                    <a:cubicBezTo>
                      <a:pt x="0" y="21176"/>
                      <a:pt x="0" y="21176"/>
                      <a:pt x="0" y="21176"/>
                    </a:cubicBezTo>
                    <a:cubicBezTo>
                      <a:pt x="8047" y="12071"/>
                      <a:pt x="8047" y="12071"/>
                      <a:pt x="8047" y="12071"/>
                    </a:cubicBezTo>
                    <a:cubicBezTo>
                      <a:pt x="7624" y="10800"/>
                      <a:pt x="7835" y="9318"/>
                      <a:pt x="8682" y="8259"/>
                    </a:cubicBezTo>
                    <a:cubicBezTo>
                      <a:pt x="9953" y="6988"/>
                      <a:pt x="12071" y="6988"/>
                      <a:pt x="13341" y="8259"/>
                    </a:cubicBezTo>
                    <a:cubicBezTo>
                      <a:pt x="14400" y="9529"/>
                      <a:pt x="14400" y="11647"/>
                      <a:pt x="13341" y="12918"/>
                    </a:cubicBezTo>
                    <a:cubicBezTo>
                      <a:pt x="12282" y="13765"/>
                      <a:pt x="10800" y="13976"/>
                      <a:pt x="9529" y="13553"/>
                    </a:cubicBezTo>
                    <a:cubicBezTo>
                      <a:pt x="424" y="21600"/>
                      <a:pt x="424" y="21600"/>
                      <a:pt x="424" y="21600"/>
                    </a:cubicBezTo>
                    <a:cubicBezTo>
                      <a:pt x="16941" y="15035"/>
                      <a:pt x="16941" y="15035"/>
                      <a:pt x="16941" y="15035"/>
                    </a:cubicBezTo>
                    <a:cubicBezTo>
                      <a:pt x="16941" y="15035"/>
                      <a:pt x="18424" y="10588"/>
                      <a:pt x="19906" y="9106"/>
                    </a:cubicBezTo>
                    <a:cubicBezTo>
                      <a:pt x="21600" y="7624"/>
                      <a:pt x="21600" y="7624"/>
                      <a:pt x="21600" y="7624"/>
                    </a:cubicBezTo>
                    <a:lnTo>
                      <a:pt x="18424" y="4659"/>
                    </a:lnTo>
                    <a:close/>
                    <a:moveTo>
                      <a:pt x="18424" y="4659"/>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585" name="Freeform 30"/>
              <p:cNvSpPr/>
              <p:nvPr/>
            </p:nvSpPr>
            <p:spPr>
              <a:xfrm>
                <a:off x="6146640" y="3052440"/>
                <a:ext cx="166680" cy="161640"/>
              </a:xfrm>
              <a:custGeom>
                <a:avLst/>
                <a:gdLst/>
                <a:ahLst/>
                <a:rect l="l" t="t" r="r" b="b"/>
                <a:pathLst>
                  <a:path w="21600" h="21600">
                    <a:moveTo>
                      <a:pt x="2667" y="0"/>
                    </a:moveTo>
                    <a:lnTo>
                      <a:pt x="21600" y="18933"/>
                    </a:lnTo>
                    <a:lnTo>
                      <a:pt x="18933" y="21600"/>
                    </a:lnTo>
                    <a:lnTo>
                      <a:pt x="0" y="2667"/>
                    </a:lnTo>
                    <a:lnTo>
                      <a:pt x="2667" y="0"/>
                    </a:lnTo>
                    <a:close/>
                    <a:moveTo>
                      <a:pt x="2667" y="0"/>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grpSp>
        <p:nvGrpSpPr>
          <p:cNvPr id="1586" name="Group 5"/>
          <p:cNvGrpSpPr/>
          <p:nvPr/>
        </p:nvGrpSpPr>
        <p:grpSpPr>
          <a:xfrm>
            <a:off x="7604280" y="2455920"/>
            <a:ext cx="1334880" cy="2287440"/>
            <a:chOff x="7604280" y="2455920"/>
            <a:chExt cx="1334880" cy="2287440"/>
          </a:xfrm>
        </p:grpSpPr>
        <p:sp>
          <p:nvSpPr>
            <p:cNvPr id="1587" name="Rectangle 32"/>
            <p:cNvSpPr/>
            <p:nvPr/>
          </p:nvSpPr>
          <p:spPr>
            <a:xfrm>
              <a:off x="7604280" y="2455920"/>
              <a:ext cx="1334880" cy="2287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88" name="AutoShape 34"/>
            <p:cNvSpPr/>
            <p:nvPr/>
          </p:nvSpPr>
          <p:spPr>
            <a:xfrm>
              <a:off x="7953120" y="3120480"/>
              <a:ext cx="603720" cy="367560"/>
            </a:xfrm>
            <a:custGeom>
              <a:avLst/>
              <a:gdLst/>
              <a:ahLst/>
              <a:rect l="l" t="t" r="r" b="b"/>
              <a:pathLst>
                <a:path w="21600" h="21600">
                  <a:moveTo>
                    <a:pt x="20965" y="8100"/>
                  </a:moveTo>
                  <a:cubicBezTo>
                    <a:pt x="20965" y="8100"/>
                    <a:pt x="20075" y="8100"/>
                    <a:pt x="19567" y="8100"/>
                  </a:cubicBezTo>
                  <a:cubicBezTo>
                    <a:pt x="18932" y="5192"/>
                    <a:pt x="17534" y="3115"/>
                    <a:pt x="15755" y="2285"/>
                  </a:cubicBezTo>
                  <a:cubicBezTo>
                    <a:pt x="15755" y="1662"/>
                    <a:pt x="15755" y="1038"/>
                    <a:pt x="15755" y="1038"/>
                  </a:cubicBezTo>
                  <a:cubicBezTo>
                    <a:pt x="15755" y="415"/>
                    <a:pt x="15374" y="0"/>
                    <a:pt x="15120" y="0"/>
                  </a:cubicBezTo>
                  <a:cubicBezTo>
                    <a:pt x="13341" y="0"/>
                    <a:pt x="13341" y="0"/>
                    <a:pt x="13341" y="0"/>
                  </a:cubicBezTo>
                  <a:cubicBezTo>
                    <a:pt x="12960" y="0"/>
                    <a:pt x="12706" y="415"/>
                    <a:pt x="12706" y="1038"/>
                  </a:cubicBezTo>
                  <a:cubicBezTo>
                    <a:pt x="12706" y="4777"/>
                    <a:pt x="12706" y="4777"/>
                    <a:pt x="12706" y="4777"/>
                  </a:cubicBezTo>
                  <a:cubicBezTo>
                    <a:pt x="10800" y="4777"/>
                    <a:pt x="10800" y="4777"/>
                    <a:pt x="10800" y="4777"/>
                  </a:cubicBezTo>
                  <a:cubicBezTo>
                    <a:pt x="10419" y="4777"/>
                    <a:pt x="10165" y="5192"/>
                    <a:pt x="10165" y="5815"/>
                  </a:cubicBezTo>
                  <a:cubicBezTo>
                    <a:pt x="10165" y="6438"/>
                    <a:pt x="10419" y="6854"/>
                    <a:pt x="10800" y="6854"/>
                  </a:cubicBezTo>
                  <a:cubicBezTo>
                    <a:pt x="12706" y="6854"/>
                    <a:pt x="12706" y="6854"/>
                    <a:pt x="12706" y="6854"/>
                  </a:cubicBezTo>
                  <a:cubicBezTo>
                    <a:pt x="12706" y="14331"/>
                    <a:pt x="12706" y="14331"/>
                    <a:pt x="12706" y="14331"/>
                  </a:cubicBezTo>
                  <a:cubicBezTo>
                    <a:pt x="10800" y="14331"/>
                    <a:pt x="10800" y="14331"/>
                    <a:pt x="10800" y="14331"/>
                  </a:cubicBezTo>
                  <a:cubicBezTo>
                    <a:pt x="10419" y="14331"/>
                    <a:pt x="10165" y="14954"/>
                    <a:pt x="10165" y="15369"/>
                  </a:cubicBezTo>
                  <a:cubicBezTo>
                    <a:pt x="10165" y="15992"/>
                    <a:pt x="10419" y="16408"/>
                    <a:pt x="10800" y="16408"/>
                  </a:cubicBezTo>
                  <a:cubicBezTo>
                    <a:pt x="12706" y="16408"/>
                    <a:pt x="12706" y="16408"/>
                    <a:pt x="12706" y="16408"/>
                  </a:cubicBezTo>
                  <a:cubicBezTo>
                    <a:pt x="12706" y="20562"/>
                    <a:pt x="12706" y="20562"/>
                    <a:pt x="12706" y="20562"/>
                  </a:cubicBezTo>
                  <a:cubicBezTo>
                    <a:pt x="12706" y="20977"/>
                    <a:pt x="12960" y="21600"/>
                    <a:pt x="13341" y="21600"/>
                  </a:cubicBezTo>
                  <a:cubicBezTo>
                    <a:pt x="15120" y="21600"/>
                    <a:pt x="15120" y="21600"/>
                    <a:pt x="15120" y="21600"/>
                  </a:cubicBezTo>
                  <a:cubicBezTo>
                    <a:pt x="15374" y="21600"/>
                    <a:pt x="15755" y="20977"/>
                    <a:pt x="15755" y="20562"/>
                  </a:cubicBezTo>
                  <a:cubicBezTo>
                    <a:pt x="15755" y="20562"/>
                    <a:pt x="15755" y="19731"/>
                    <a:pt x="15755" y="19108"/>
                  </a:cubicBezTo>
                  <a:cubicBezTo>
                    <a:pt x="17534" y="18485"/>
                    <a:pt x="18932" y="16200"/>
                    <a:pt x="19567" y="13292"/>
                  </a:cubicBezTo>
                  <a:cubicBezTo>
                    <a:pt x="20075" y="13292"/>
                    <a:pt x="20965" y="13292"/>
                    <a:pt x="20965" y="13292"/>
                  </a:cubicBezTo>
                  <a:cubicBezTo>
                    <a:pt x="21346" y="13292"/>
                    <a:pt x="21600" y="12877"/>
                    <a:pt x="21600" y="12254"/>
                  </a:cubicBezTo>
                  <a:cubicBezTo>
                    <a:pt x="21600" y="9138"/>
                    <a:pt x="21600" y="9138"/>
                    <a:pt x="21600" y="9138"/>
                  </a:cubicBezTo>
                  <a:cubicBezTo>
                    <a:pt x="21600" y="8723"/>
                    <a:pt x="21346" y="8100"/>
                    <a:pt x="20965" y="8100"/>
                  </a:cubicBezTo>
                  <a:close/>
                  <a:moveTo>
                    <a:pt x="8259" y="0"/>
                  </a:moveTo>
                  <a:cubicBezTo>
                    <a:pt x="6480" y="0"/>
                    <a:pt x="6480" y="0"/>
                    <a:pt x="6480" y="0"/>
                  </a:cubicBezTo>
                  <a:cubicBezTo>
                    <a:pt x="6226" y="0"/>
                    <a:pt x="5845" y="415"/>
                    <a:pt x="5845" y="1038"/>
                  </a:cubicBezTo>
                  <a:cubicBezTo>
                    <a:pt x="5845" y="1038"/>
                    <a:pt x="5845" y="1662"/>
                    <a:pt x="5845" y="2285"/>
                  </a:cubicBezTo>
                  <a:cubicBezTo>
                    <a:pt x="4066" y="3115"/>
                    <a:pt x="2668" y="5192"/>
                    <a:pt x="2033" y="8100"/>
                  </a:cubicBezTo>
                  <a:cubicBezTo>
                    <a:pt x="1525" y="8100"/>
                    <a:pt x="635" y="8100"/>
                    <a:pt x="635" y="8100"/>
                  </a:cubicBezTo>
                  <a:cubicBezTo>
                    <a:pt x="254" y="8100"/>
                    <a:pt x="0" y="8723"/>
                    <a:pt x="0" y="9138"/>
                  </a:cubicBezTo>
                  <a:cubicBezTo>
                    <a:pt x="0" y="12254"/>
                    <a:pt x="0" y="12254"/>
                    <a:pt x="0" y="12254"/>
                  </a:cubicBezTo>
                  <a:cubicBezTo>
                    <a:pt x="0" y="12877"/>
                    <a:pt x="254" y="13292"/>
                    <a:pt x="635" y="13292"/>
                  </a:cubicBezTo>
                  <a:cubicBezTo>
                    <a:pt x="635" y="13292"/>
                    <a:pt x="1525" y="13292"/>
                    <a:pt x="2033" y="13292"/>
                  </a:cubicBezTo>
                  <a:cubicBezTo>
                    <a:pt x="2668" y="16200"/>
                    <a:pt x="4066" y="18485"/>
                    <a:pt x="5845" y="19108"/>
                  </a:cubicBezTo>
                  <a:cubicBezTo>
                    <a:pt x="5845" y="19731"/>
                    <a:pt x="5845" y="20562"/>
                    <a:pt x="5845" y="20562"/>
                  </a:cubicBezTo>
                  <a:cubicBezTo>
                    <a:pt x="5845" y="20977"/>
                    <a:pt x="6226" y="21600"/>
                    <a:pt x="6480" y="21600"/>
                  </a:cubicBezTo>
                  <a:cubicBezTo>
                    <a:pt x="8259" y="21600"/>
                    <a:pt x="8259" y="21600"/>
                    <a:pt x="8259" y="21600"/>
                  </a:cubicBezTo>
                  <a:cubicBezTo>
                    <a:pt x="8640" y="21600"/>
                    <a:pt x="8894" y="20977"/>
                    <a:pt x="8894" y="20562"/>
                  </a:cubicBezTo>
                  <a:cubicBezTo>
                    <a:pt x="8894" y="16408"/>
                    <a:pt x="8894" y="16408"/>
                    <a:pt x="8894" y="16408"/>
                  </a:cubicBezTo>
                  <a:cubicBezTo>
                    <a:pt x="6861" y="16408"/>
                    <a:pt x="6861" y="16408"/>
                    <a:pt x="6861" y="16408"/>
                  </a:cubicBezTo>
                  <a:cubicBezTo>
                    <a:pt x="6480" y="16408"/>
                    <a:pt x="6226" y="15992"/>
                    <a:pt x="6226" y="15369"/>
                  </a:cubicBezTo>
                  <a:cubicBezTo>
                    <a:pt x="6226" y="14954"/>
                    <a:pt x="6480" y="14331"/>
                    <a:pt x="6861" y="14331"/>
                  </a:cubicBezTo>
                  <a:cubicBezTo>
                    <a:pt x="8894" y="14331"/>
                    <a:pt x="8894" y="14331"/>
                    <a:pt x="8894" y="14331"/>
                  </a:cubicBezTo>
                  <a:cubicBezTo>
                    <a:pt x="8894" y="6854"/>
                    <a:pt x="8894" y="6854"/>
                    <a:pt x="8894" y="6854"/>
                  </a:cubicBezTo>
                  <a:cubicBezTo>
                    <a:pt x="6861" y="6854"/>
                    <a:pt x="6861" y="6854"/>
                    <a:pt x="6861" y="6854"/>
                  </a:cubicBezTo>
                  <a:cubicBezTo>
                    <a:pt x="6480" y="6854"/>
                    <a:pt x="6226" y="6438"/>
                    <a:pt x="6226" y="5815"/>
                  </a:cubicBezTo>
                  <a:cubicBezTo>
                    <a:pt x="6226" y="5192"/>
                    <a:pt x="6480" y="4777"/>
                    <a:pt x="6861" y="4777"/>
                  </a:cubicBezTo>
                  <a:cubicBezTo>
                    <a:pt x="8894" y="4777"/>
                    <a:pt x="8894" y="4777"/>
                    <a:pt x="8894" y="4777"/>
                  </a:cubicBezTo>
                  <a:cubicBezTo>
                    <a:pt x="8894" y="1038"/>
                    <a:pt x="8894" y="1038"/>
                    <a:pt x="8894" y="1038"/>
                  </a:cubicBezTo>
                  <a:cubicBezTo>
                    <a:pt x="8894" y="415"/>
                    <a:pt x="8640" y="0"/>
                    <a:pt x="8259" y="0"/>
                  </a:cubicBezTo>
                  <a:close/>
                  <a:moveTo>
                    <a:pt x="8259" y="0"/>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grpSp>
        <p:nvGrpSpPr>
          <p:cNvPr id="1589" name="Group 6"/>
          <p:cNvGrpSpPr/>
          <p:nvPr/>
        </p:nvGrpSpPr>
        <p:grpSpPr>
          <a:xfrm>
            <a:off x="9790200" y="2455920"/>
            <a:ext cx="1334880" cy="2287440"/>
            <a:chOff x="9790200" y="2455920"/>
            <a:chExt cx="1334880" cy="2287440"/>
          </a:xfrm>
        </p:grpSpPr>
        <p:sp>
          <p:nvSpPr>
            <p:cNvPr id="1590" name="Rectangle 36"/>
            <p:cNvSpPr/>
            <p:nvPr/>
          </p:nvSpPr>
          <p:spPr>
            <a:xfrm>
              <a:off x="9790200" y="2455920"/>
              <a:ext cx="1334880" cy="2287440"/>
            </a:xfrm>
            <a:prstGeom prst="rect">
              <a:avLst/>
            </a:prstGeom>
            <a:solidFill>
              <a:srgbClr val="00a09c"/>
            </a:solidFill>
            <a:ln w="0">
              <a:noFill/>
            </a:ln>
          </p:spPr>
          <p:style>
            <a:lnRef idx="0"/>
            <a:fillRef idx="0"/>
            <a:effectRef idx="0"/>
            <a:fontRef idx="minor"/>
          </p:style>
          <p:txBody>
            <a:bodyPr lIns="0" rIns="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591" name="AutoShape 38"/>
            <p:cNvSpPr/>
            <p:nvPr/>
          </p:nvSpPr>
          <p:spPr>
            <a:xfrm>
              <a:off x="10215720" y="3068640"/>
              <a:ext cx="439200" cy="442440"/>
            </a:xfrm>
            <a:custGeom>
              <a:avLst/>
              <a:gdLst/>
              <a:ahLst/>
              <a:rect l="l" t="t" r="r" b="b"/>
              <a:pathLst>
                <a:path w="21600" h="21600">
                  <a:moveTo>
                    <a:pt x="16241" y="491"/>
                  </a:moveTo>
                  <a:cubicBezTo>
                    <a:pt x="16241" y="164"/>
                    <a:pt x="16078" y="0"/>
                    <a:pt x="15753" y="0"/>
                  </a:cubicBezTo>
                  <a:cubicBezTo>
                    <a:pt x="5847" y="0"/>
                    <a:pt x="5847" y="0"/>
                    <a:pt x="5847" y="0"/>
                  </a:cubicBezTo>
                  <a:cubicBezTo>
                    <a:pt x="5522" y="0"/>
                    <a:pt x="5359" y="164"/>
                    <a:pt x="5359" y="491"/>
                  </a:cubicBezTo>
                  <a:cubicBezTo>
                    <a:pt x="5359" y="5400"/>
                    <a:pt x="5359" y="5400"/>
                    <a:pt x="5359" y="5400"/>
                  </a:cubicBezTo>
                  <a:cubicBezTo>
                    <a:pt x="16241" y="5400"/>
                    <a:pt x="16241" y="5400"/>
                    <a:pt x="16241" y="5400"/>
                  </a:cubicBezTo>
                  <a:lnTo>
                    <a:pt x="16241" y="491"/>
                  </a:lnTo>
                  <a:close/>
                  <a:moveTo>
                    <a:pt x="16403" y="16691"/>
                  </a:moveTo>
                  <a:cubicBezTo>
                    <a:pt x="16241" y="16527"/>
                    <a:pt x="16078" y="16364"/>
                    <a:pt x="15916" y="16364"/>
                  </a:cubicBezTo>
                  <a:cubicBezTo>
                    <a:pt x="5684" y="16364"/>
                    <a:pt x="5684" y="16364"/>
                    <a:pt x="5684" y="16364"/>
                  </a:cubicBezTo>
                  <a:cubicBezTo>
                    <a:pt x="5522" y="16364"/>
                    <a:pt x="5359" y="16527"/>
                    <a:pt x="5197" y="16691"/>
                  </a:cubicBezTo>
                  <a:cubicBezTo>
                    <a:pt x="3573" y="21109"/>
                    <a:pt x="3573" y="21109"/>
                    <a:pt x="3573" y="21109"/>
                  </a:cubicBezTo>
                  <a:cubicBezTo>
                    <a:pt x="3573" y="21273"/>
                    <a:pt x="3573" y="21273"/>
                    <a:pt x="3735" y="21436"/>
                  </a:cubicBezTo>
                  <a:cubicBezTo>
                    <a:pt x="3735" y="21600"/>
                    <a:pt x="3898" y="21600"/>
                    <a:pt x="4060" y="21600"/>
                  </a:cubicBezTo>
                  <a:cubicBezTo>
                    <a:pt x="17540" y="21600"/>
                    <a:pt x="17540" y="21600"/>
                    <a:pt x="17540" y="21600"/>
                  </a:cubicBezTo>
                  <a:cubicBezTo>
                    <a:pt x="17702" y="21600"/>
                    <a:pt x="17865" y="21600"/>
                    <a:pt x="17865" y="21436"/>
                  </a:cubicBezTo>
                  <a:cubicBezTo>
                    <a:pt x="18027" y="21273"/>
                    <a:pt x="18027" y="21273"/>
                    <a:pt x="18027" y="21109"/>
                  </a:cubicBezTo>
                  <a:lnTo>
                    <a:pt x="16403" y="16691"/>
                  </a:lnTo>
                  <a:close/>
                  <a:moveTo>
                    <a:pt x="4872" y="9164"/>
                  </a:moveTo>
                  <a:cubicBezTo>
                    <a:pt x="4872" y="10964"/>
                    <a:pt x="4872" y="10964"/>
                    <a:pt x="4872" y="10964"/>
                  </a:cubicBezTo>
                  <a:cubicBezTo>
                    <a:pt x="16565" y="10964"/>
                    <a:pt x="16565" y="10964"/>
                    <a:pt x="16565" y="10964"/>
                  </a:cubicBezTo>
                  <a:cubicBezTo>
                    <a:pt x="16565" y="9164"/>
                    <a:pt x="16565" y="9164"/>
                    <a:pt x="16565" y="9164"/>
                  </a:cubicBezTo>
                  <a:cubicBezTo>
                    <a:pt x="16565" y="9164"/>
                    <a:pt x="15266" y="6545"/>
                    <a:pt x="15266" y="6545"/>
                  </a:cubicBezTo>
                  <a:cubicBezTo>
                    <a:pt x="6334" y="6545"/>
                    <a:pt x="6334" y="6545"/>
                    <a:pt x="6334" y="6545"/>
                  </a:cubicBezTo>
                  <a:cubicBezTo>
                    <a:pt x="6334" y="6545"/>
                    <a:pt x="4872" y="9164"/>
                    <a:pt x="4872" y="9164"/>
                  </a:cubicBezTo>
                  <a:close/>
                  <a:moveTo>
                    <a:pt x="10719" y="8345"/>
                  </a:moveTo>
                  <a:cubicBezTo>
                    <a:pt x="11693" y="8345"/>
                    <a:pt x="12505" y="8673"/>
                    <a:pt x="12505" y="9164"/>
                  </a:cubicBezTo>
                  <a:cubicBezTo>
                    <a:pt x="12505" y="9655"/>
                    <a:pt x="11693" y="10145"/>
                    <a:pt x="10719" y="10145"/>
                  </a:cubicBezTo>
                  <a:cubicBezTo>
                    <a:pt x="9907" y="10145"/>
                    <a:pt x="9095" y="9655"/>
                    <a:pt x="9095" y="9164"/>
                  </a:cubicBezTo>
                  <a:cubicBezTo>
                    <a:pt x="9095" y="8673"/>
                    <a:pt x="9907" y="8345"/>
                    <a:pt x="10719" y="8345"/>
                  </a:cubicBezTo>
                  <a:close/>
                  <a:moveTo>
                    <a:pt x="19326" y="6545"/>
                  </a:moveTo>
                  <a:cubicBezTo>
                    <a:pt x="16403" y="6545"/>
                    <a:pt x="16403" y="6545"/>
                    <a:pt x="16403" y="6545"/>
                  </a:cubicBezTo>
                  <a:cubicBezTo>
                    <a:pt x="17540" y="8836"/>
                    <a:pt x="17540" y="8836"/>
                    <a:pt x="17540" y="8836"/>
                  </a:cubicBezTo>
                  <a:cubicBezTo>
                    <a:pt x="17540" y="8836"/>
                    <a:pt x="17540" y="8836"/>
                    <a:pt x="17540" y="8836"/>
                  </a:cubicBezTo>
                  <a:cubicBezTo>
                    <a:pt x="17702" y="8836"/>
                    <a:pt x="17702" y="8836"/>
                    <a:pt x="17702" y="9000"/>
                  </a:cubicBezTo>
                  <a:cubicBezTo>
                    <a:pt x="17702" y="9000"/>
                    <a:pt x="17702" y="11455"/>
                    <a:pt x="17702" y="11455"/>
                  </a:cubicBezTo>
                  <a:cubicBezTo>
                    <a:pt x="17702" y="11782"/>
                    <a:pt x="17540" y="11945"/>
                    <a:pt x="17215" y="11945"/>
                  </a:cubicBezTo>
                  <a:cubicBezTo>
                    <a:pt x="4385" y="11945"/>
                    <a:pt x="4385" y="11945"/>
                    <a:pt x="4385" y="11945"/>
                  </a:cubicBezTo>
                  <a:cubicBezTo>
                    <a:pt x="4060" y="11945"/>
                    <a:pt x="3898" y="11782"/>
                    <a:pt x="3898" y="11455"/>
                  </a:cubicBezTo>
                  <a:cubicBezTo>
                    <a:pt x="3898" y="11455"/>
                    <a:pt x="3898" y="9164"/>
                    <a:pt x="3898" y="9000"/>
                  </a:cubicBezTo>
                  <a:cubicBezTo>
                    <a:pt x="3898" y="8836"/>
                    <a:pt x="3898" y="8836"/>
                    <a:pt x="4060" y="8836"/>
                  </a:cubicBezTo>
                  <a:cubicBezTo>
                    <a:pt x="5197" y="6545"/>
                    <a:pt x="5197" y="6545"/>
                    <a:pt x="5197" y="6545"/>
                  </a:cubicBezTo>
                  <a:cubicBezTo>
                    <a:pt x="2274" y="6545"/>
                    <a:pt x="2274" y="6545"/>
                    <a:pt x="2274" y="6545"/>
                  </a:cubicBezTo>
                  <a:cubicBezTo>
                    <a:pt x="974" y="6545"/>
                    <a:pt x="0" y="7691"/>
                    <a:pt x="0" y="8836"/>
                  </a:cubicBezTo>
                  <a:cubicBezTo>
                    <a:pt x="0" y="16527"/>
                    <a:pt x="0" y="16527"/>
                    <a:pt x="0" y="16527"/>
                  </a:cubicBezTo>
                  <a:cubicBezTo>
                    <a:pt x="0" y="17836"/>
                    <a:pt x="974" y="18818"/>
                    <a:pt x="2274" y="18818"/>
                  </a:cubicBezTo>
                  <a:cubicBezTo>
                    <a:pt x="3086" y="18818"/>
                    <a:pt x="3086" y="18818"/>
                    <a:pt x="3086" y="18818"/>
                  </a:cubicBezTo>
                  <a:cubicBezTo>
                    <a:pt x="4060" y="16200"/>
                    <a:pt x="4060" y="16200"/>
                    <a:pt x="4060" y="16200"/>
                  </a:cubicBezTo>
                  <a:cubicBezTo>
                    <a:pt x="4223" y="15545"/>
                    <a:pt x="5035" y="15055"/>
                    <a:pt x="5684" y="15055"/>
                  </a:cubicBezTo>
                  <a:cubicBezTo>
                    <a:pt x="15916" y="15055"/>
                    <a:pt x="15916" y="15055"/>
                    <a:pt x="15916" y="15055"/>
                  </a:cubicBezTo>
                  <a:cubicBezTo>
                    <a:pt x="16565" y="15055"/>
                    <a:pt x="17377" y="15545"/>
                    <a:pt x="17540" y="16200"/>
                  </a:cubicBezTo>
                  <a:cubicBezTo>
                    <a:pt x="18514" y="18818"/>
                    <a:pt x="18514" y="18818"/>
                    <a:pt x="18514" y="18818"/>
                  </a:cubicBezTo>
                  <a:cubicBezTo>
                    <a:pt x="19326" y="18818"/>
                    <a:pt x="19326" y="18818"/>
                    <a:pt x="19326" y="18818"/>
                  </a:cubicBezTo>
                  <a:cubicBezTo>
                    <a:pt x="20626" y="18818"/>
                    <a:pt x="21600" y="17836"/>
                    <a:pt x="21600" y="16527"/>
                  </a:cubicBezTo>
                  <a:cubicBezTo>
                    <a:pt x="21600" y="8836"/>
                    <a:pt x="21600" y="8836"/>
                    <a:pt x="21600" y="8836"/>
                  </a:cubicBezTo>
                  <a:cubicBezTo>
                    <a:pt x="21600" y="7691"/>
                    <a:pt x="20626" y="6545"/>
                    <a:pt x="19326" y="6545"/>
                  </a:cubicBezTo>
                  <a:close/>
                  <a:moveTo>
                    <a:pt x="19326" y="6545"/>
                  </a:moveTo>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grpSp>
      <p:sp>
        <p:nvSpPr>
          <p:cNvPr id="1592" name="PlaceHolder 1"/>
          <p:cNvSpPr>
            <a:spLocks noGrp="1"/>
          </p:cNvSpPr>
          <p:nvPr>
            <p:ph/>
          </p:nvPr>
        </p:nvSpPr>
        <p:spPr>
          <a:xfrm>
            <a:off x="1066320" y="3684600"/>
            <a:ext cx="1335240" cy="5256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Customer</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Service</a:t>
            </a:r>
            <a:endParaRPr b="0" lang="en-US" sz="1400" spc="-1" strike="noStrike">
              <a:solidFill>
                <a:srgbClr val="494949"/>
              </a:solidFill>
              <a:latin typeface="Open Sans Light"/>
            </a:endParaRPr>
          </a:p>
        </p:txBody>
      </p:sp>
      <p:sp>
        <p:nvSpPr>
          <p:cNvPr id="1593" name="PlaceHolder 2"/>
          <p:cNvSpPr>
            <a:spLocks noGrp="1"/>
          </p:cNvSpPr>
          <p:nvPr>
            <p:ph/>
          </p:nvPr>
        </p:nvSpPr>
        <p:spPr>
          <a:xfrm>
            <a:off x="3246480" y="3684600"/>
            <a:ext cx="1334880" cy="5256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Order</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Checking</a:t>
            </a:r>
            <a:endParaRPr b="0" lang="en-US" sz="1400" spc="-1" strike="noStrike">
              <a:solidFill>
                <a:srgbClr val="494949"/>
              </a:solidFill>
              <a:latin typeface="Open Sans Light"/>
            </a:endParaRPr>
          </a:p>
        </p:txBody>
      </p:sp>
      <p:sp>
        <p:nvSpPr>
          <p:cNvPr id="1594" name="PlaceHolder 3"/>
          <p:cNvSpPr>
            <a:spLocks noGrp="1"/>
          </p:cNvSpPr>
          <p:nvPr>
            <p:ph/>
          </p:nvPr>
        </p:nvSpPr>
        <p:spPr>
          <a:xfrm>
            <a:off x="5417640" y="3684600"/>
            <a:ext cx="1335240" cy="5256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Sketch &amp;</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Design</a:t>
            </a:r>
            <a:endParaRPr b="0" lang="en-US" sz="1400" spc="-1" strike="noStrike">
              <a:solidFill>
                <a:srgbClr val="494949"/>
              </a:solidFill>
              <a:latin typeface="Open Sans Light"/>
            </a:endParaRPr>
          </a:p>
        </p:txBody>
      </p:sp>
      <p:sp>
        <p:nvSpPr>
          <p:cNvPr id="1595" name="PlaceHolder 4"/>
          <p:cNvSpPr>
            <a:spLocks noGrp="1"/>
          </p:cNvSpPr>
          <p:nvPr>
            <p:ph/>
          </p:nvPr>
        </p:nvSpPr>
        <p:spPr>
          <a:xfrm>
            <a:off x="7597440" y="3684600"/>
            <a:ext cx="1335240" cy="5256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Product</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Review</a:t>
            </a:r>
            <a:endParaRPr b="0" lang="en-US" sz="1400" spc="-1" strike="noStrike">
              <a:solidFill>
                <a:srgbClr val="494949"/>
              </a:solidFill>
              <a:latin typeface="Open Sans Light"/>
            </a:endParaRPr>
          </a:p>
        </p:txBody>
      </p:sp>
      <p:sp>
        <p:nvSpPr>
          <p:cNvPr id="1596" name="PlaceHolder 5"/>
          <p:cNvSpPr>
            <a:spLocks noGrp="1"/>
          </p:cNvSpPr>
          <p:nvPr>
            <p:ph/>
          </p:nvPr>
        </p:nvSpPr>
        <p:spPr>
          <a:xfrm>
            <a:off x="9790200" y="3684600"/>
            <a:ext cx="1334880" cy="525600"/>
          </a:xfrm>
          <a:prstGeom prst="rect">
            <a:avLst/>
          </a:prstGeom>
          <a:noFill/>
          <a:ln w="0">
            <a:noFill/>
          </a:ln>
        </p:spPr>
        <p:txBody>
          <a:bodyPr lIns="0" r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Design</a:t>
            </a:r>
            <a:endParaRPr b="0" lang="en-US" sz="1400" spc="-1" strike="noStrike">
              <a:solidFill>
                <a:srgbClr val="494949"/>
              </a:solidFill>
              <a:latin typeface="Open Sans Light"/>
            </a:endParaRPr>
          </a:p>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Lato Heavy"/>
              </a:rPr>
              <a:t>Printing</a:t>
            </a:r>
            <a:endParaRPr b="0" lang="en-US" sz="1400" spc="-1" strike="noStrike">
              <a:solidFill>
                <a:srgbClr val="494949"/>
              </a:solidFill>
              <a:latin typeface="Open Sans Light"/>
            </a:endParaRPr>
          </a:p>
        </p:txBody>
      </p:sp>
      <p:sp>
        <p:nvSpPr>
          <p:cNvPr id="1597" name="PlaceHolder 6"/>
          <p:cNvSpPr>
            <a:spLocks noGrp="1"/>
          </p:cNvSpPr>
          <p:nvPr>
            <p:ph/>
          </p:nvPr>
        </p:nvSpPr>
        <p:spPr>
          <a:xfrm>
            <a:off x="1084320" y="4889160"/>
            <a:ext cx="1317600" cy="4078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Client request to customer service</a:t>
            </a:r>
            <a:endParaRPr b="0" lang="en-US" sz="1000" spc="-1" strike="noStrike">
              <a:solidFill>
                <a:srgbClr val="494949"/>
              </a:solidFill>
              <a:latin typeface="Open Sans Light"/>
            </a:endParaRPr>
          </a:p>
        </p:txBody>
      </p:sp>
      <p:sp>
        <p:nvSpPr>
          <p:cNvPr id="1598" name="PlaceHolder 7"/>
          <p:cNvSpPr>
            <a:spLocks noGrp="1"/>
          </p:cNvSpPr>
          <p:nvPr>
            <p:ph/>
          </p:nvPr>
        </p:nvSpPr>
        <p:spPr>
          <a:xfrm>
            <a:off x="3246480" y="4889160"/>
            <a:ext cx="1317600" cy="4078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Checking of order and survey</a:t>
            </a:r>
            <a:endParaRPr b="0" lang="en-US" sz="1000" spc="-1" strike="noStrike">
              <a:solidFill>
                <a:srgbClr val="494949"/>
              </a:solidFill>
              <a:latin typeface="Open Sans Light"/>
            </a:endParaRPr>
          </a:p>
        </p:txBody>
      </p:sp>
      <p:sp>
        <p:nvSpPr>
          <p:cNvPr id="1599" name="PlaceHolder 8"/>
          <p:cNvSpPr>
            <a:spLocks noGrp="1"/>
          </p:cNvSpPr>
          <p:nvPr>
            <p:ph/>
          </p:nvPr>
        </p:nvSpPr>
        <p:spPr>
          <a:xfrm>
            <a:off x="5424120" y="4889160"/>
            <a:ext cx="1319400" cy="4078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Start sketching and designing</a:t>
            </a:r>
            <a:endParaRPr b="0" lang="en-US" sz="1000" spc="-1" strike="noStrike">
              <a:solidFill>
                <a:srgbClr val="494949"/>
              </a:solidFill>
              <a:latin typeface="Open Sans Light"/>
            </a:endParaRPr>
          </a:p>
        </p:txBody>
      </p:sp>
      <p:sp>
        <p:nvSpPr>
          <p:cNvPr id="1600" name="PlaceHolder 9"/>
          <p:cNvSpPr>
            <a:spLocks noGrp="1"/>
          </p:cNvSpPr>
          <p:nvPr>
            <p:ph/>
          </p:nvPr>
        </p:nvSpPr>
        <p:spPr>
          <a:xfrm>
            <a:off x="7587720" y="4889160"/>
            <a:ext cx="1317960" cy="4078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Product review and testing</a:t>
            </a:r>
            <a:endParaRPr b="0" lang="en-US" sz="1000" spc="-1" strike="noStrike">
              <a:solidFill>
                <a:srgbClr val="494949"/>
              </a:solidFill>
              <a:latin typeface="Open Sans Light"/>
            </a:endParaRPr>
          </a:p>
        </p:txBody>
      </p:sp>
      <p:sp>
        <p:nvSpPr>
          <p:cNvPr id="1601" name="PlaceHolder 10"/>
          <p:cNvSpPr>
            <a:spLocks noGrp="1"/>
          </p:cNvSpPr>
          <p:nvPr>
            <p:ph/>
          </p:nvPr>
        </p:nvSpPr>
        <p:spPr>
          <a:xfrm>
            <a:off x="9794880" y="4889160"/>
            <a:ext cx="1317600" cy="4078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Finishing of the order request</a:t>
            </a:r>
            <a:endParaRPr b="0" lang="en-US" sz="1000" spc="-1" strike="noStrike">
              <a:solidFill>
                <a:srgbClr val="494949"/>
              </a:solidFill>
              <a:latin typeface="Open Sans Light"/>
            </a:endParaRPr>
          </a:p>
        </p:txBody>
      </p:sp>
      <p:sp>
        <p:nvSpPr>
          <p:cNvPr id="1602" name="PlaceHolder 1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BUSINESS PROCESS</a:t>
            </a:r>
            <a:endParaRPr b="0" lang="en-US" sz="3600" spc="-1" strike="noStrike">
              <a:solidFill>
                <a:srgbClr val="494949"/>
              </a:solidFill>
              <a:latin typeface="Lato Heavy"/>
            </a:endParaRPr>
          </a:p>
        </p:txBody>
      </p:sp>
      <p:sp>
        <p:nvSpPr>
          <p:cNvPr id="1603"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578" dur="indefinite" restart="never" nodeType="tmRoot">
          <p:childTnLst>
            <p:seq>
              <p:cTn id="1579" dur="indefinite" nodeType="mainSeq">
                <p:childTnLst>
                  <p:par>
                    <p:cTn id="1580" fill="hold">
                      <p:stCondLst>
                        <p:cond delay="0"/>
                      </p:stCondLst>
                      <p:childTnLst>
                        <p:par>
                          <p:cTn id="1581" fill="hold">
                            <p:stCondLst>
                              <p:cond delay="0"/>
                            </p:stCondLst>
                            <p:childTnLst>
                              <p:par>
                                <p:cTn id="1582" nodeType="afterEffect" fill="hold" presetClass="entr" presetID="10">
                                  <p:stCondLst>
                                    <p:cond delay="0"/>
                                  </p:stCondLst>
                                  <p:childTnLst>
                                    <p:set>
                                      <p:cBhvr>
                                        <p:cTn id="1583" dur="1" fill="hold">
                                          <p:stCondLst>
                                            <p:cond delay="0"/>
                                          </p:stCondLst>
                                        </p:cTn>
                                        <p:tgtEl>
                                          <p:spTgt spid="1575"/>
                                        </p:tgtEl>
                                        <p:attrNameLst>
                                          <p:attrName>style.visibility</p:attrName>
                                        </p:attrNameLst>
                                      </p:cBhvr>
                                      <p:to>
                                        <p:strVal val="visible"/>
                                      </p:to>
                                    </p:set>
                                    <p:animEffect filter="fade" transition="in">
                                      <p:cBhvr additive="repl">
                                        <p:cTn id="1584" dur="500"/>
                                        <p:tgtEl>
                                          <p:spTgt spid="1575"/>
                                        </p:tgtEl>
                                      </p:cBhvr>
                                    </p:animEffect>
                                  </p:childTnLst>
                                </p:cTn>
                              </p:par>
                            </p:childTnLst>
                          </p:cTn>
                        </p:par>
                        <p:par>
                          <p:cTn id="1585" fill="hold">
                            <p:stCondLst>
                              <p:cond delay="500"/>
                            </p:stCondLst>
                            <p:childTnLst>
                              <p:par>
                                <p:cTn id="1586" nodeType="afterEffect" fill="hold" presetClass="entr" presetID="10">
                                  <p:stCondLst>
                                    <p:cond delay="0"/>
                                  </p:stCondLst>
                                  <p:childTnLst>
                                    <p:set>
                                      <p:cBhvr>
                                        <p:cTn id="1587"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588" dur="500"/>
                                        <p:tgtEl>
                                          <p:spTgt spid="1592">
                                            <p:txEl>
                                              <p:pRg st="0" end="0"/>
                                            </p:txEl>
                                          </p:spTgt>
                                        </p:tgtEl>
                                      </p:cBhvr>
                                    </p:animEffect>
                                  </p:childTnLst>
                                </p:cTn>
                              </p:par>
                              <p:par>
                                <p:cTn id="1589" nodeType="withEffect" fill="hold" presetClass="entr" presetID="10">
                                  <p:stCondLst>
                                    <p:cond delay="0"/>
                                  </p:stCondLst>
                                  <p:childTnLst>
                                    <p:set>
                                      <p:cBhvr>
                                        <p:cTn id="1590" dur="1" fill="hold">
                                          <p:stCondLst>
                                            <p:cond delay="0"/>
                                          </p:stCondLst>
                                        </p:cTn>
                                        <p:tgtEl>
                                          <p:spTgt spid="1592">
                                            <p:txEl>
                                              <p:pRg st="1" end="1"/>
                                            </p:txEl>
                                          </p:spTgt>
                                        </p:tgtEl>
                                        <p:attrNameLst>
                                          <p:attrName>style.visibility</p:attrName>
                                        </p:attrNameLst>
                                      </p:cBhvr>
                                      <p:to>
                                        <p:strVal val="visible"/>
                                      </p:to>
                                    </p:set>
                                    <p:animEffect filter="fade" transition="in">
                                      <p:cBhvr additive="repl">
                                        <p:cTn id="1591" dur="500"/>
                                        <p:tgtEl>
                                          <p:spTgt spid="1592">
                                            <p:txEl>
                                              <p:pRg st="1" end="1"/>
                                            </p:txEl>
                                          </p:spTgt>
                                        </p:tgtEl>
                                      </p:cBhvr>
                                    </p:animEffect>
                                  </p:childTnLst>
                                </p:cTn>
                              </p:par>
                            </p:childTnLst>
                          </p:cTn>
                        </p:par>
                        <p:par>
                          <p:cTn id="1592" fill="hold">
                            <p:stCondLst>
                              <p:cond delay="1000"/>
                            </p:stCondLst>
                            <p:childTnLst>
                              <p:par>
                                <p:cTn id="1593" nodeType="afterEffect" fill="hold" presetClass="entr" presetID="10">
                                  <p:stCondLst>
                                    <p:cond delay="0"/>
                                  </p:stCondLst>
                                  <p:childTnLst>
                                    <p:set>
                                      <p:cBhvr>
                                        <p:cTn id="1594" dur="1" fill="hold">
                                          <p:stCondLst>
                                            <p:cond delay="0"/>
                                          </p:stCondLst>
                                        </p:cTn>
                                        <p:tgtEl>
                                          <p:spTgt spid="1597">
                                            <p:txEl>
                                              <p:pRg st="0" end="0"/>
                                            </p:txEl>
                                          </p:spTgt>
                                        </p:tgtEl>
                                        <p:attrNameLst>
                                          <p:attrName>style.visibility</p:attrName>
                                        </p:attrNameLst>
                                      </p:cBhvr>
                                      <p:to>
                                        <p:strVal val="visible"/>
                                      </p:to>
                                    </p:set>
                                    <p:animEffect filter="fade" transition="in">
                                      <p:cBhvr additive="repl">
                                        <p:cTn id="1595" dur="500"/>
                                        <p:tgtEl>
                                          <p:spTgt spid="1597">
                                            <p:txEl>
                                              <p:pRg st="0" end="0"/>
                                            </p:txEl>
                                          </p:spTgt>
                                        </p:tgtEl>
                                      </p:cBhvr>
                                    </p:animEffect>
                                  </p:childTnLst>
                                </p:cTn>
                              </p:par>
                            </p:childTnLst>
                          </p:cTn>
                        </p:par>
                        <p:par>
                          <p:cTn id="1596" fill="hold">
                            <p:stCondLst>
                              <p:cond delay="1500"/>
                            </p:stCondLst>
                            <p:childTnLst>
                              <p:par>
                                <p:cTn id="1597" nodeType="afterEffect" fill="hold" presetClass="entr" presetID="22" presetSubtype="8">
                                  <p:stCondLst>
                                    <p:cond delay="0"/>
                                  </p:stCondLst>
                                  <p:childTnLst>
                                    <p:set>
                                      <p:cBhvr>
                                        <p:cTn id="1598" dur="1" fill="hold">
                                          <p:stCondLst>
                                            <p:cond delay="0"/>
                                          </p:stCondLst>
                                        </p:cTn>
                                        <p:tgtEl>
                                          <p:spTgt spid="1571"/>
                                        </p:tgtEl>
                                        <p:attrNameLst>
                                          <p:attrName>style.visibility</p:attrName>
                                        </p:attrNameLst>
                                      </p:cBhvr>
                                      <p:to>
                                        <p:strVal val="visible"/>
                                      </p:to>
                                    </p:set>
                                    <p:animEffect filter="wipe(left)" transition="in">
                                      <p:cBhvr additive="repl">
                                        <p:cTn id="1599" dur="500"/>
                                        <p:tgtEl>
                                          <p:spTgt spid="1571"/>
                                        </p:tgtEl>
                                      </p:cBhvr>
                                    </p:animEffect>
                                  </p:childTnLst>
                                </p:cTn>
                              </p:par>
                            </p:childTnLst>
                          </p:cTn>
                        </p:par>
                        <p:par>
                          <p:cTn id="1600" fill="hold">
                            <p:stCondLst>
                              <p:cond delay="2000"/>
                            </p:stCondLst>
                            <p:childTnLst>
                              <p:par>
                                <p:cTn id="1601" nodeType="afterEffect" fill="hold" presetClass="entr" presetID="10">
                                  <p:stCondLst>
                                    <p:cond delay="0"/>
                                  </p:stCondLst>
                                  <p:childTnLst>
                                    <p:set>
                                      <p:cBhvr>
                                        <p:cTn id="1602" dur="1" fill="hold">
                                          <p:stCondLst>
                                            <p:cond delay="0"/>
                                          </p:stCondLst>
                                        </p:cTn>
                                        <p:tgtEl>
                                          <p:spTgt spid="1578"/>
                                        </p:tgtEl>
                                        <p:attrNameLst>
                                          <p:attrName>style.visibility</p:attrName>
                                        </p:attrNameLst>
                                      </p:cBhvr>
                                      <p:to>
                                        <p:strVal val="visible"/>
                                      </p:to>
                                    </p:set>
                                    <p:animEffect filter="fade" transition="in">
                                      <p:cBhvr additive="repl">
                                        <p:cTn id="1603" dur="500"/>
                                        <p:tgtEl>
                                          <p:spTgt spid="1578"/>
                                        </p:tgtEl>
                                      </p:cBhvr>
                                    </p:animEffect>
                                  </p:childTnLst>
                                </p:cTn>
                              </p:par>
                            </p:childTnLst>
                          </p:cTn>
                        </p:par>
                        <p:par>
                          <p:cTn id="1604" fill="hold">
                            <p:stCondLst>
                              <p:cond delay="2500"/>
                            </p:stCondLst>
                            <p:childTnLst>
                              <p:par>
                                <p:cTn id="1605" nodeType="afterEffect" fill="hold" presetClass="entr" presetID="10">
                                  <p:stCondLst>
                                    <p:cond delay="0"/>
                                  </p:stCondLst>
                                  <p:childTnLst>
                                    <p:set>
                                      <p:cBhvr>
                                        <p:cTn id="1606" dur="1" fill="hold">
                                          <p:stCondLst>
                                            <p:cond delay="0"/>
                                          </p:stCondLst>
                                        </p:cTn>
                                        <p:tgtEl>
                                          <p:spTgt spid="1593">
                                            <p:txEl>
                                              <p:pRg st="0" end="0"/>
                                            </p:txEl>
                                          </p:spTgt>
                                        </p:tgtEl>
                                        <p:attrNameLst>
                                          <p:attrName>style.visibility</p:attrName>
                                        </p:attrNameLst>
                                      </p:cBhvr>
                                      <p:to>
                                        <p:strVal val="visible"/>
                                      </p:to>
                                    </p:set>
                                    <p:animEffect filter="fade" transition="in">
                                      <p:cBhvr additive="repl">
                                        <p:cTn id="1607" dur="500"/>
                                        <p:tgtEl>
                                          <p:spTgt spid="1593">
                                            <p:txEl>
                                              <p:pRg st="0" end="0"/>
                                            </p:txEl>
                                          </p:spTgt>
                                        </p:tgtEl>
                                      </p:cBhvr>
                                    </p:animEffect>
                                  </p:childTnLst>
                                </p:cTn>
                              </p:par>
                              <p:par>
                                <p:cTn id="1608" nodeType="withEffect" fill="hold" presetClass="entr" presetID="10">
                                  <p:stCondLst>
                                    <p:cond delay="0"/>
                                  </p:stCondLst>
                                  <p:childTnLst>
                                    <p:set>
                                      <p:cBhvr>
                                        <p:cTn id="1609" dur="1" fill="hold">
                                          <p:stCondLst>
                                            <p:cond delay="0"/>
                                          </p:stCondLst>
                                        </p:cTn>
                                        <p:tgtEl>
                                          <p:spTgt spid="1593">
                                            <p:txEl>
                                              <p:pRg st="1" end="1"/>
                                            </p:txEl>
                                          </p:spTgt>
                                        </p:tgtEl>
                                        <p:attrNameLst>
                                          <p:attrName>style.visibility</p:attrName>
                                        </p:attrNameLst>
                                      </p:cBhvr>
                                      <p:to>
                                        <p:strVal val="visible"/>
                                      </p:to>
                                    </p:set>
                                    <p:animEffect filter="fade" transition="in">
                                      <p:cBhvr additive="repl">
                                        <p:cTn id="1610" dur="500"/>
                                        <p:tgtEl>
                                          <p:spTgt spid="1593">
                                            <p:txEl>
                                              <p:pRg st="1" end="1"/>
                                            </p:txEl>
                                          </p:spTgt>
                                        </p:tgtEl>
                                      </p:cBhvr>
                                    </p:animEffect>
                                  </p:childTnLst>
                                </p:cTn>
                              </p:par>
                            </p:childTnLst>
                          </p:cTn>
                        </p:par>
                        <p:par>
                          <p:cTn id="1611" fill="hold">
                            <p:stCondLst>
                              <p:cond delay="3000"/>
                            </p:stCondLst>
                            <p:childTnLst>
                              <p:par>
                                <p:cTn id="1612" nodeType="afterEffect" fill="hold" presetClass="entr" presetID="10">
                                  <p:stCondLst>
                                    <p:cond delay="0"/>
                                  </p:stCondLst>
                                  <p:childTnLst>
                                    <p:set>
                                      <p:cBhvr>
                                        <p:cTn id="1613" dur="1" fill="hold">
                                          <p:stCondLst>
                                            <p:cond delay="0"/>
                                          </p:stCondLst>
                                        </p:cTn>
                                        <p:tgtEl>
                                          <p:spTgt spid="1598">
                                            <p:txEl>
                                              <p:pRg st="0" end="0"/>
                                            </p:txEl>
                                          </p:spTgt>
                                        </p:tgtEl>
                                        <p:attrNameLst>
                                          <p:attrName>style.visibility</p:attrName>
                                        </p:attrNameLst>
                                      </p:cBhvr>
                                      <p:to>
                                        <p:strVal val="visible"/>
                                      </p:to>
                                    </p:set>
                                    <p:animEffect filter="fade" transition="in">
                                      <p:cBhvr additive="repl">
                                        <p:cTn id="1614" dur="500"/>
                                        <p:tgtEl>
                                          <p:spTgt spid="1598">
                                            <p:txEl>
                                              <p:pRg st="0" end="0"/>
                                            </p:txEl>
                                          </p:spTgt>
                                        </p:tgtEl>
                                      </p:cBhvr>
                                    </p:animEffect>
                                  </p:childTnLst>
                                </p:cTn>
                              </p:par>
                            </p:childTnLst>
                          </p:cTn>
                        </p:par>
                        <p:par>
                          <p:cTn id="1615" fill="hold">
                            <p:stCondLst>
                              <p:cond delay="3500"/>
                            </p:stCondLst>
                            <p:childTnLst>
                              <p:par>
                                <p:cTn id="1616" nodeType="afterEffect" fill="hold" presetClass="entr" presetID="22" presetSubtype="8">
                                  <p:stCondLst>
                                    <p:cond delay="0"/>
                                  </p:stCondLst>
                                  <p:childTnLst>
                                    <p:set>
                                      <p:cBhvr>
                                        <p:cTn id="1617" dur="1" fill="hold">
                                          <p:stCondLst>
                                            <p:cond delay="0"/>
                                          </p:stCondLst>
                                        </p:cTn>
                                        <p:tgtEl>
                                          <p:spTgt spid="1572"/>
                                        </p:tgtEl>
                                        <p:attrNameLst>
                                          <p:attrName>style.visibility</p:attrName>
                                        </p:attrNameLst>
                                      </p:cBhvr>
                                      <p:to>
                                        <p:strVal val="visible"/>
                                      </p:to>
                                    </p:set>
                                    <p:animEffect filter="wipe(left)" transition="in">
                                      <p:cBhvr additive="repl">
                                        <p:cTn id="1618" dur="500"/>
                                        <p:tgtEl>
                                          <p:spTgt spid="1572"/>
                                        </p:tgtEl>
                                      </p:cBhvr>
                                    </p:animEffect>
                                  </p:childTnLst>
                                </p:cTn>
                              </p:par>
                            </p:childTnLst>
                          </p:cTn>
                        </p:par>
                        <p:par>
                          <p:cTn id="1619" fill="hold">
                            <p:stCondLst>
                              <p:cond delay="4000"/>
                            </p:stCondLst>
                            <p:childTnLst>
                              <p:par>
                                <p:cTn id="1620" nodeType="afterEffect" fill="hold" presetClass="entr" presetID="10">
                                  <p:stCondLst>
                                    <p:cond delay="0"/>
                                  </p:stCondLst>
                                  <p:childTnLst>
                                    <p:set>
                                      <p:cBhvr>
                                        <p:cTn id="1621" dur="1" fill="hold">
                                          <p:stCondLst>
                                            <p:cond delay="0"/>
                                          </p:stCondLst>
                                        </p:cTn>
                                        <p:tgtEl>
                                          <p:spTgt spid="1581"/>
                                        </p:tgtEl>
                                        <p:attrNameLst>
                                          <p:attrName>style.visibility</p:attrName>
                                        </p:attrNameLst>
                                      </p:cBhvr>
                                      <p:to>
                                        <p:strVal val="visible"/>
                                      </p:to>
                                    </p:set>
                                    <p:animEffect filter="fade" transition="in">
                                      <p:cBhvr additive="repl">
                                        <p:cTn id="1622" dur="500"/>
                                        <p:tgtEl>
                                          <p:spTgt spid="1581"/>
                                        </p:tgtEl>
                                      </p:cBhvr>
                                    </p:animEffect>
                                  </p:childTnLst>
                                </p:cTn>
                              </p:par>
                            </p:childTnLst>
                          </p:cTn>
                        </p:par>
                        <p:par>
                          <p:cTn id="1623" fill="hold">
                            <p:stCondLst>
                              <p:cond delay="4500"/>
                            </p:stCondLst>
                            <p:childTnLst>
                              <p:par>
                                <p:cTn id="1624" nodeType="afterEffect" fill="hold" presetClass="entr" presetID="10">
                                  <p:stCondLst>
                                    <p:cond delay="0"/>
                                  </p:stCondLst>
                                  <p:childTnLst>
                                    <p:set>
                                      <p:cBhvr>
                                        <p:cTn id="1625" dur="1" fill="hold">
                                          <p:stCondLst>
                                            <p:cond delay="0"/>
                                          </p:stCondLst>
                                        </p:cTn>
                                        <p:tgtEl>
                                          <p:spTgt spid="1594">
                                            <p:txEl>
                                              <p:pRg st="0" end="0"/>
                                            </p:txEl>
                                          </p:spTgt>
                                        </p:tgtEl>
                                        <p:attrNameLst>
                                          <p:attrName>style.visibility</p:attrName>
                                        </p:attrNameLst>
                                      </p:cBhvr>
                                      <p:to>
                                        <p:strVal val="visible"/>
                                      </p:to>
                                    </p:set>
                                    <p:animEffect filter="fade" transition="in">
                                      <p:cBhvr additive="repl">
                                        <p:cTn id="1626" dur="500"/>
                                        <p:tgtEl>
                                          <p:spTgt spid="1594">
                                            <p:txEl>
                                              <p:pRg st="0" end="0"/>
                                            </p:txEl>
                                          </p:spTgt>
                                        </p:tgtEl>
                                      </p:cBhvr>
                                    </p:animEffect>
                                  </p:childTnLst>
                                </p:cTn>
                              </p:par>
                              <p:par>
                                <p:cTn id="1627" nodeType="withEffect" fill="hold" presetClass="entr" presetID="10">
                                  <p:stCondLst>
                                    <p:cond delay="0"/>
                                  </p:stCondLst>
                                  <p:childTnLst>
                                    <p:set>
                                      <p:cBhvr>
                                        <p:cTn id="1628" dur="1" fill="hold">
                                          <p:stCondLst>
                                            <p:cond delay="0"/>
                                          </p:stCondLst>
                                        </p:cTn>
                                        <p:tgtEl>
                                          <p:spTgt spid="1594">
                                            <p:txEl>
                                              <p:pRg st="1" end="1"/>
                                            </p:txEl>
                                          </p:spTgt>
                                        </p:tgtEl>
                                        <p:attrNameLst>
                                          <p:attrName>style.visibility</p:attrName>
                                        </p:attrNameLst>
                                      </p:cBhvr>
                                      <p:to>
                                        <p:strVal val="visible"/>
                                      </p:to>
                                    </p:set>
                                    <p:animEffect filter="fade" transition="in">
                                      <p:cBhvr additive="repl">
                                        <p:cTn id="1629" dur="500"/>
                                        <p:tgtEl>
                                          <p:spTgt spid="1594">
                                            <p:txEl>
                                              <p:pRg st="1" end="1"/>
                                            </p:txEl>
                                          </p:spTgt>
                                        </p:tgtEl>
                                      </p:cBhvr>
                                    </p:animEffect>
                                  </p:childTnLst>
                                </p:cTn>
                              </p:par>
                            </p:childTnLst>
                          </p:cTn>
                        </p:par>
                        <p:par>
                          <p:cTn id="1630" fill="hold">
                            <p:stCondLst>
                              <p:cond delay="5000"/>
                            </p:stCondLst>
                            <p:childTnLst>
                              <p:par>
                                <p:cTn id="1631" nodeType="afterEffect" fill="hold" presetClass="entr" presetID="10">
                                  <p:stCondLst>
                                    <p:cond delay="0"/>
                                  </p:stCondLst>
                                  <p:childTnLst>
                                    <p:set>
                                      <p:cBhvr>
                                        <p:cTn id="1632" dur="1" fill="hold">
                                          <p:stCondLst>
                                            <p:cond delay="0"/>
                                          </p:stCondLst>
                                        </p:cTn>
                                        <p:tgtEl>
                                          <p:spTgt spid="1599">
                                            <p:txEl>
                                              <p:pRg st="0" end="0"/>
                                            </p:txEl>
                                          </p:spTgt>
                                        </p:tgtEl>
                                        <p:attrNameLst>
                                          <p:attrName>style.visibility</p:attrName>
                                        </p:attrNameLst>
                                      </p:cBhvr>
                                      <p:to>
                                        <p:strVal val="visible"/>
                                      </p:to>
                                    </p:set>
                                    <p:animEffect filter="fade" transition="in">
                                      <p:cBhvr additive="repl">
                                        <p:cTn id="1633" dur="500"/>
                                        <p:tgtEl>
                                          <p:spTgt spid="1599">
                                            <p:txEl>
                                              <p:pRg st="0" end="0"/>
                                            </p:txEl>
                                          </p:spTgt>
                                        </p:tgtEl>
                                      </p:cBhvr>
                                    </p:animEffect>
                                  </p:childTnLst>
                                </p:cTn>
                              </p:par>
                            </p:childTnLst>
                          </p:cTn>
                        </p:par>
                        <p:par>
                          <p:cTn id="1634" fill="hold">
                            <p:stCondLst>
                              <p:cond delay="5500"/>
                            </p:stCondLst>
                            <p:childTnLst>
                              <p:par>
                                <p:cTn id="1635" nodeType="afterEffect" fill="hold" presetClass="entr" presetID="22" presetSubtype="8">
                                  <p:stCondLst>
                                    <p:cond delay="0"/>
                                  </p:stCondLst>
                                  <p:childTnLst>
                                    <p:set>
                                      <p:cBhvr>
                                        <p:cTn id="1636" dur="1" fill="hold">
                                          <p:stCondLst>
                                            <p:cond delay="0"/>
                                          </p:stCondLst>
                                        </p:cTn>
                                        <p:tgtEl>
                                          <p:spTgt spid="1573"/>
                                        </p:tgtEl>
                                        <p:attrNameLst>
                                          <p:attrName>style.visibility</p:attrName>
                                        </p:attrNameLst>
                                      </p:cBhvr>
                                      <p:to>
                                        <p:strVal val="visible"/>
                                      </p:to>
                                    </p:set>
                                    <p:animEffect filter="wipe(left)" transition="in">
                                      <p:cBhvr additive="repl">
                                        <p:cTn id="1637" dur="500"/>
                                        <p:tgtEl>
                                          <p:spTgt spid="1573"/>
                                        </p:tgtEl>
                                      </p:cBhvr>
                                    </p:animEffect>
                                  </p:childTnLst>
                                </p:cTn>
                              </p:par>
                            </p:childTnLst>
                          </p:cTn>
                        </p:par>
                        <p:par>
                          <p:cTn id="1638" fill="hold">
                            <p:stCondLst>
                              <p:cond delay="6000"/>
                            </p:stCondLst>
                            <p:childTnLst>
                              <p:par>
                                <p:cTn id="1639" nodeType="afterEffect" fill="hold" presetClass="entr" presetID="10">
                                  <p:stCondLst>
                                    <p:cond delay="0"/>
                                  </p:stCondLst>
                                  <p:childTnLst>
                                    <p:set>
                                      <p:cBhvr>
                                        <p:cTn id="1640" dur="1" fill="hold">
                                          <p:stCondLst>
                                            <p:cond delay="0"/>
                                          </p:stCondLst>
                                        </p:cTn>
                                        <p:tgtEl>
                                          <p:spTgt spid="1586"/>
                                        </p:tgtEl>
                                        <p:attrNameLst>
                                          <p:attrName>style.visibility</p:attrName>
                                        </p:attrNameLst>
                                      </p:cBhvr>
                                      <p:to>
                                        <p:strVal val="visible"/>
                                      </p:to>
                                    </p:set>
                                    <p:animEffect filter="fade" transition="in">
                                      <p:cBhvr additive="repl">
                                        <p:cTn id="1641" dur="500"/>
                                        <p:tgtEl>
                                          <p:spTgt spid="1586"/>
                                        </p:tgtEl>
                                      </p:cBhvr>
                                    </p:animEffect>
                                  </p:childTnLst>
                                </p:cTn>
                              </p:par>
                            </p:childTnLst>
                          </p:cTn>
                        </p:par>
                        <p:par>
                          <p:cTn id="1642" fill="hold">
                            <p:stCondLst>
                              <p:cond delay="6500"/>
                            </p:stCondLst>
                            <p:childTnLst>
                              <p:par>
                                <p:cTn id="1643" nodeType="afterEffect" fill="hold" presetClass="entr" presetID="10">
                                  <p:stCondLst>
                                    <p:cond delay="0"/>
                                  </p:stCondLst>
                                  <p:childTnLst>
                                    <p:set>
                                      <p:cBhvr>
                                        <p:cTn id="1644" dur="1" fill="hold">
                                          <p:stCondLst>
                                            <p:cond delay="0"/>
                                          </p:stCondLst>
                                        </p:cTn>
                                        <p:tgtEl>
                                          <p:spTgt spid="1595">
                                            <p:txEl>
                                              <p:pRg st="0" end="0"/>
                                            </p:txEl>
                                          </p:spTgt>
                                        </p:tgtEl>
                                        <p:attrNameLst>
                                          <p:attrName>style.visibility</p:attrName>
                                        </p:attrNameLst>
                                      </p:cBhvr>
                                      <p:to>
                                        <p:strVal val="visible"/>
                                      </p:to>
                                    </p:set>
                                    <p:animEffect filter="fade" transition="in">
                                      <p:cBhvr additive="repl">
                                        <p:cTn id="1645" dur="500"/>
                                        <p:tgtEl>
                                          <p:spTgt spid="1595">
                                            <p:txEl>
                                              <p:pRg st="0" end="0"/>
                                            </p:txEl>
                                          </p:spTgt>
                                        </p:tgtEl>
                                      </p:cBhvr>
                                    </p:animEffect>
                                  </p:childTnLst>
                                </p:cTn>
                              </p:par>
                              <p:par>
                                <p:cTn id="1646" nodeType="withEffect" fill="hold" presetClass="entr" presetID="10">
                                  <p:stCondLst>
                                    <p:cond delay="0"/>
                                  </p:stCondLst>
                                  <p:childTnLst>
                                    <p:set>
                                      <p:cBhvr>
                                        <p:cTn id="1647" dur="1" fill="hold">
                                          <p:stCondLst>
                                            <p:cond delay="0"/>
                                          </p:stCondLst>
                                        </p:cTn>
                                        <p:tgtEl>
                                          <p:spTgt spid="1595">
                                            <p:txEl>
                                              <p:pRg st="1" end="1"/>
                                            </p:txEl>
                                          </p:spTgt>
                                        </p:tgtEl>
                                        <p:attrNameLst>
                                          <p:attrName>style.visibility</p:attrName>
                                        </p:attrNameLst>
                                      </p:cBhvr>
                                      <p:to>
                                        <p:strVal val="visible"/>
                                      </p:to>
                                    </p:set>
                                    <p:animEffect filter="fade" transition="in">
                                      <p:cBhvr additive="repl">
                                        <p:cTn id="1648" dur="500"/>
                                        <p:tgtEl>
                                          <p:spTgt spid="1595">
                                            <p:txEl>
                                              <p:pRg st="1" end="1"/>
                                            </p:txEl>
                                          </p:spTgt>
                                        </p:tgtEl>
                                      </p:cBhvr>
                                    </p:animEffect>
                                  </p:childTnLst>
                                </p:cTn>
                              </p:par>
                            </p:childTnLst>
                          </p:cTn>
                        </p:par>
                        <p:par>
                          <p:cTn id="1649" fill="hold">
                            <p:stCondLst>
                              <p:cond delay="7000"/>
                            </p:stCondLst>
                            <p:childTnLst>
                              <p:par>
                                <p:cTn id="1650" nodeType="afterEffect" fill="hold" presetClass="entr" presetID="10">
                                  <p:stCondLst>
                                    <p:cond delay="0"/>
                                  </p:stCondLst>
                                  <p:childTnLst>
                                    <p:set>
                                      <p:cBhvr>
                                        <p:cTn id="1651" dur="1" fill="hold">
                                          <p:stCondLst>
                                            <p:cond delay="0"/>
                                          </p:stCondLst>
                                        </p:cTn>
                                        <p:tgtEl>
                                          <p:spTgt spid="1600">
                                            <p:txEl>
                                              <p:pRg st="0" end="0"/>
                                            </p:txEl>
                                          </p:spTgt>
                                        </p:tgtEl>
                                        <p:attrNameLst>
                                          <p:attrName>style.visibility</p:attrName>
                                        </p:attrNameLst>
                                      </p:cBhvr>
                                      <p:to>
                                        <p:strVal val="visible"/>
                                      </p:to>
                                    </p:set>
                                    <p:animEffect filter="fade" transition="in">
                                      <p:cBhvr additive="repl">
                                        <p:cTn id="1652" dur="500"/>
                                        <p:tgtEl>
                                          <p:spTgt spid="1600">
                                            <p:txEl>
                                              <p:pRg st="0" end="0"/>
                                            </p:txEl>
                                          </p:spTgt>
                                        </p:tgtEl>
                                      </p:cBhvr>
                                    </p:animEffect>
                                  </p:childTnLst>
                                </p:cTn>
                              </p:par>
                            </p:childTnLst>
                          </p:cTn>
                        </p:par>
                        <p:par>
                          <p:cTn id="1653" fill="hold">
                            <p:stCondLst>
                              <p:cond delay="7500"/>
                            </p:stCondLst>
                            <p:childTnLst>
                              <p:par>
                                <p:cTn id="1654" nodeType="afterEffect" fill="hold" presetClass="entr" presetID="22" presetSubtype="8">
                                  <p:stCondLst>
                                    <p:cond delay="0"/>
                                  </p:stCondLst>
                                  <p:childTnLst>
                                    <p:set>
                                      <p:cBhvr>
                                        <p:cTn id="1655" dur="1" fill="hold">
                                          <p:stCondLst>
                                            <p:cond delay="0"/>
                                          </p:stCondLst>
                                        </p:cTn>
                                        <p:tgtEl>
                                          <p:spTgt spid="1574"/>
                                        </p:tgtEl>
                                        <p:attrNameLst>
                                          <p:attrName>style.visibility</p:attrName>
                                        </p:attrNameLst>
                                      </p:cBhvr>
                                      <p:to>
                                        <p:strVal val="visible"/>
                                      </p:to>
                                    </p:set>
                                    <p:animEffect filter="wipe(left)" transition="in">
                                      <p:cBhvr additive="repl">
                                        <p:cTn id="1656" dur="500"/>
                                        <p:tgtEl>
                                          <p:spTgt spid="1574"/>
                                        </p:tgtEl>
                                      </p:cBhvr>
                                    </p:animEffect>
                                  </p:childTnLst>
                                </p:cTn>
                              </p:par>
                            </p:childTnLst>
                          </p:cTn>
                        </p:par>
                        <p:par>
                          <p:cTn id="1657" fill="hold">
                            <p:stCondLst>
                              <p:cond delay="8000"/>
                            </p:stCondLst>
                            <p:childTnLst>
                              <p:par>
                                <p:cTn id="1658" nodeType="afterEffect" fill="hold" presetClass="entr" presetID="10">
                                  <p:stCondLst>
                                    <p:cond delay="0"/>
                                  </p:stCondLst>
                                  <p:childTnLst>
                                    <p:set>
                                      <p:cBhvr>
                                        <p:cTn id="1659" dur="1" fill="hold">
                                          <p:stCondLst>
                                            <p:cond delay="0"/>
                                          </p:stCondLst>
                                        </p:cTn>
                                        <p:tgtEl>
                                          <p:spTgt spid="1589"/>
                                        </p:tgtEl>
                                        <p:attrNameLst>
                                          <p:attrName>style.visibility</p:attrName>
                                        </p:attrNameLst>
                                      </p:cBhvr>
                                      <p:to>
                                        <p:strVal val="visible"/>
                                      </p:to>
                                    </p:set>
                                    <p:animEffect filter="fade" transition="in">
                                      <p:cBhvr additive="repl">
                                        <p:cTn id="1660" dur="500"/>
                                        <p:tgtEl>
                                          <p:spTgt spid="1589"/>
                                        </p:tgtEl>
                                      </p:cBhvr>
                                    </p:animEffect>
                                  </p:childTnLst>
                                </p:cTn>
                              </p:par>
                            </p:childTnLst>
                          </p:cTn>
                        </p:par>
                        <p:par>
                          <p:cTn id="1661" fill="hold">
                            <p:stCondLst>
                              <p:cond delay="8500"/>
                            </p:stCondLst>
                            <p:childTnLst>
                              <p:par>
                                <p:cTn id="1662" nodeType="afterEffect" fill="hold" presetClass="entr" presetID="10">
                                  <p:stCondLst>
                                    <p:cond delay="0"/>
                                  </p:stCondLst>
                                  <p:childTnLst>
                                    <p:set>
                                      <p:cBhvr>
                                        <p:cTn id="1663" dur="1" fill="hold">
                                          <p:stCondLst>
                                            <p:cond delay="0"/>
                                          </p:stCondLst>
                                        </p:cTn>
                                        <p:tgtEl>
                                          <p:spTgt spid="1596">
                                            <p:txEl>
                                              <p:pRg st="0" end="0"/>
                                            </p:txEl>
                                          </p:spTgt>
                                        </p:tgtEl>
                                        <p:attrNameLst>
                                          <p:attrName>style.visibility</p:attrName>
                                        </p:attrNameLst>
                                      </p:cBhvr>
                                      <p:to>
                                        <p:strVal val="visible"/>
                                      </p:to>
                                    </p:set>
                                    <p:animEffect filter="fade" transition="in">
                                      <p:cBhvr additive="repl">
                                        <p:cTn id="1664" dur="500"/>
                                        <p:tgtEl>
                                          <p:spTgt spid="1596">
                                            <p:txEl>
                                              <p:pRg st="0" end="0"/>
                                            </p:txEl>
                                          </p:spTgt>
                                        </p:tgtEl>
                                      </p:cBhvr>
                                    </p:animEffect>
                                  </p:childTnLst>
                                </p:cTn>
                              </p:par>
                              <p:par>
                                <p:cTn id="1665" nodeType="withEffect" fill="hold" presetClass="entr" presetID="10">
                                  <p:stCondLst>
                                    <p:cond delay="0"/>
                                  </p:stCondLst>
                                  <p:childTnLst>
                                    <p:set>
                                      <p:cBhvr>
                                        <p:cTn id="1666" dur="1" fill="hold">
                                          <p:stCondLst>
                                            <p:cond delay="0"/>
                                          </p:stCondLst>
                                        </p:cTn>
                                        <p:tgtEl>
                                          <p:spTgt spid="1596">
                                            <p:txEl>
                                              <p:pRg st="1" end="1"/>
                                            </p:txEl>
                                          </p:spTgt>
                                        </p:tgtEl>
                                        <p:attrNameLst>
                                          <p:attrName>style.visibility</p:attrName>
                                        </p:attrNameLst>
                                      </p:cBhvr>
                                      <p:to>
                                        <p:strVal val="visible"/>
                                      </p:to>
                                    </p:set>
                                    <p:animEffect filter="fade" transition="in">
                                      <p:cBhvr additive="repl">
                                        <p:cTn id="1667" dur="500"/>
                                        <p:tgtEl>
                                          <p:spTgt spid="1596">
                                            <p:txEl>
                                              <p:pRg st="1" end="1"/>
                                            </p:txEl>
                                          </p:spTgt>
                                        </p:tgtEl>
                                      </p:cBhvr>
                                    </p:animEffect>
                                  </p:childTnLst>
                                </p:cTn>
                              </p:par>
                            </p:childTnLst>
                          </p:cTn>
                        </p:par>
                        <p:par>
                          <p:cTn id="1668" fill="hold">
                            <p:stCondLst>
                              <p:cond delay="9000"/>
                            </p:stCondLst>
                            <p:childTnLst>
                              <p:par>
                                <p:cTn id="1669" nodeType="afterEffect" fill="hold" presetClass="entr" presetID="10">
                                  <p:stCondLst>
                                    <p:cond delay="0"/>
                                  </p:stCondLst>
                                  <p:childTnLst>
                                    <p:set>
                                      <p:cBhvr>
                                        <p:cTn id="1670" dur="1" fill="hold">
                                          <p:stCondLst>
                                            <p:cond delay="0"/>
                                          </p:stCondLst>
                                        </p:cTn>
                                        <p:tgtEl>
                                          <p:spTgt spid="1601">
                                            <p:txEl>
                                              <p:pRg st="0" end="0"/>
                                            </p:txEl>
                                          </p:spTgt>
                                        </p:tgtEl>
                                        <p:attrNameLst>
                                          <p:attrName>style.visibility</p:attrName>
                                        </p:attrNameLst>
                                      </p:cBhvr>
                                      <p:to>
                                        <p:strVal val="visible"/>
                                      </p:to>
                                    </p:set>
                                    <p:animEffect filter="fade" transition="in">
                                      <p:cBhvr additive="repl">
                                        <p:cTn id="1671" dur="500"/>
                                        <p:tgtEl>
                                          <p:spTgt spid="1601">
                                            <p:txEl>
                                              <p:pRg st="0" end="0"/>
                                            </p:txEl>
                                          </p:spTgt>
                                        </p:tgtEl>
                                      </p:cBhvr>
                                    </p:animEffect>
                                  </p:childTnLst>
                                </p:cTn>
                              </p:par>
                            </p:childTnLst>
                          </p:cTn>
                        </p:par>
                        <p:par>
                          <p:cTn id="1672" fill="hold">
                            <p:stCondLst>
                              <p:cond delay="9500"/>
                            </p:stCondLst>
                            <p:childTnLst>
                              <p:par>
                                <p:cTn id="1673" nodeType="afterEffect" fill="hold" presetClass="entr" presetID="22" presetSubtype="8">
                                  <p:stCondLst>
                                    <p:cond delay="0"/>
                                  </p:stCondLst>
                                  <p:childTnLst>
                                    <p:set>
                                      <p:cBhvr>
                                        <p:cTn id="1674"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1675" dur="500"/>
                                        <p:tgtEl>
                                          <p:spTgt spid="1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3600" spc="-1" strike="noStrike">
                <a:solidFill>
                  <a:srgbClr val="2d3f51"/>
                </a:solidFill>
                <a:latin typeface="Lato Heavy"/>
              </a:rPr>
              <a:t>OUR </a:t>
            </a:r>
            <a:r>
              <a:rPr b="0" lang="en-US" sz="3600" spc="-1" strike="noStrike">
                <a:solidFill>
                  <a:srgbClr val="2d3f51"/>
                </a:solidFill>
                <a:latin typeface="Lato Heavy"/>
              </a:rPr>
              <a:t>MISSION &amp; VI</a:t>
            </a:r>
            <a:r>
              <a:rPr b="0" lang="id-ID" sz="3600" spc="-1" strike="noStrike">
                <a:solidFill>
                  <a:srgbClr val="2d3f51"/>
                </a:solidFill>
                <a:latin typeface="Lato Heavy"/>
              </a:rPr>
              <a:t>S</a:t>
            </a:r>
            <a:r>
              <a:rPr b="0" lang="en-US" sz="3600" spc="-1" strike="noStrike">
                <a:solidFill>
                  <a:srgbClr val="2d3f51"/>
                </a:solidFill>
                <a:latin typeface="Lato Heavy"/>
              </a:rPr>
              <a:t>ION</a:t>
            </a:r>
            <a:endParaRPr b="0" lang="en-US" sz="3600" spc="-1" strike="noStrike">
              <a:solidFill>
                <a:srgbClr val="494949"/>
              </a:solidFill>
              <a:latin typeface="Lato Heavy"/>
            </a:endParaRPr>
          </a:p>
        </p:txBody>
      </p:sp>
      <p:sp>
        <p:nvSpPr>
          <p:cNvPr id="824"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373737"/>
                </a:solidFill>
                <a:latin typeface="Open Sans Light"/>
              </a:rPr>
              <a:t>write your relevant text here</a:t>
            </a:r>
            <a:endParaRPr b="0" lang="en-US" sz="1000" spc="-1" strike="noStrike">
              <a:solidFill>
                <a:srgbClr val="494949"/>
              </a:solidFill>
              <a:latin typeface="Open Sans Light"/>
            </a:endParaRPr>
          </a:p>
        </p:txBody>
      </p:sp>
      <p:sp>
        <p:nvSpPr>
          <p:cNvPr id="825" name="PlaceHolder 3"/>
          <p:cNvSpPr>
            <a:spLocks noGrp="1"/>
          </p:cNvSpPr>
          <p:nvPr>
            <p:ph/>
          </p:nvPr>
        </p:nvSpPr>
        <p:spPr>
          <a:xfrm>
            <a:off x="4801680" y="2749320"/>
            <a:ext cx="5078520" cy="1035000"/>
          </a:xfrm>
          <a:prstGeom prst="rect">
            <a:avLst/>
          </a:prstGeom>
          <a:noFill/>
          <a:ln w="0">
            <a:noFill/>
          </a:ln>
        </p:spPr>
        <p:txBody>
          <a:bodyPr lIns="0" rIns="0" tIns="0" bIns="0" anchor="t">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tis unde omnis iste natus error sit voluptatem accusantium dolunde omniconseSed ut perspiciatis unde omnis iste natus error sit voluptatem accusantium dolunde </a:t>
            </a:r>
            <a:endParaRPr b="0" lang="en-US" sz="1200" spc="-1" strike="noStrike">
              <a:solidFill>
                <a:srgbClr val="494949"/>
              </a:solidFill>
              <a:latin typeface="Open Sans Light"/>
            </a:endParaRPr>
          </a:p>
        </p:txBody>
      </p:sp>
      <p:sp>
        <p:nvSpPr>
          <p:cNvPr id="826" name=""/>
          <p:cNvSpPr txBox="1"/>
          <p:nvPr/>
        </p:nvSpPr>
        <p:spPr>
          <a:xfrm>
            <a:off x="5403960" y="2313000"/>
            <a:ext cx="1565280" cy="223920"/>
          </a:xfrm>
          <a:prstGeom prst="rect">
            <a:avLst/>
          </a:prstGeom>
          <a:noFill/>
          <a:ln w="0">
            <a:noFill/>
          </a:ln>
        </p:spPr>
        <p:txBody>
          <a:bodyPr lIns="0" rIns="0" tIns="0" bIns="0" anchor="t">
            <a:normAutofit fontScale="91000"/>
          </a:bodyPr>
          <a:p>
            <a:pP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800" spc="-1" strike="noStrike">
                <a:solidFill>
                  <a:srgbClr val="7f7f7f"/>
                </a:solidFill>
                <a:latin typeface="Lato Heavy"/>
              </a:rPr>
              <a:t>MISSION</a:t>
            </a:r>
            <a:endParaRPr b="0" lang="en-US" sz="1800" spc="-1" strike="noStrike">
              <a:solidFill>
                <a:srgbClr val="494949"/>
              </a:solidFill>
              <a:latin typeface="Open Sans Light"/>
            </a:endParaRPr>
          </a:p>
        </p:txBody>
      </p:sp>
      <p:sp>
        <p:nvSpPr>
          <p:cNvPr id="827" name="PlaceHolder 4"/>
          <p:cNvSpPr>
            <a:spLocks noGrp="1"/>
          </p:cNvSpPr>
          <p:nvPr>
            <p:ph/>
          </p:nvPr>
        </p:nvSpPr>
        <p:spPr>
          <a:xfrm>
            <a:off x="4801680" y="4449240"/>
            <a:ext cx="5078520" cy="1033560"/>
          </a:xfrm>
          <a:prstGeom prst="rect">
            <a:avLst/>
          </a:prstGeom>
          <a:noFill/>
          <a:ln w="0">
            <a:noFill/>
          </a:ln>
        </p:spPr>
        <p:txBody>
          <a:bodyPr lIns="0" rIns="0" tIns="0" bIns="0" anchor="t">
            <a:normAutofit/>
          </a:bodyPr>
          <a:p>
            <a:pPr indent="0">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conseSed ut perspiciatis unde omnis iste natus error sit voluptatem accusantium dolunde omniconseSed ut perspiciatis unde omnis iste natus error sit voluptatem accusantium dolunde </a:t>
            </a:r>
            <a:endParaRPr b="0" lang="en-US" sz="1200" spc="-1" strike="noStrike">
              <a:solidFill>
                <a:srgbClr val="494949"/>
              </a:solidFill>
              <a:latin typeface="Open Sans Light"/>
            </a:endParaRPr>
          </a:p>
        </p:txBody>
      </p:sp>
      <p:sp>
        <p:nvSpPr>
          <p:cNvPr id="828" name=""/>
          <p:cNvSpPr txBox="1"/>
          <p:nvPr/>
        </p:nvSpPr>
        <p:spPr>
          <a:xfrm>
            <a:off x="5403960" y="4024080"/>
            <a:ext cx="1565280" cy="223560"/>
          </a:xfrm>
          <a:prstGeom prst="rect">
            <a:avLst/>
          </a:prstGeom>
          <a:noFill/>
          <a:ln w="0">
            <a:noFill/>
          </a:ln>
        </p:spPr>
        <p:txBody>
          <a:bodyPr lIns="0" rIns="0" tIns="0" bIns="0" anchor="t">
            <a:normAutofit/>
          </a:bodyPr>
          <a:p>
            <a:pPr>
              <a:lnSpc>
                <a:spcPct val="8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700" spc="-1" strike="noStrike">
                <a:solidFill>
                  <a:srgbClr val="7f7f7f"/>
                </a:solidFill>
                <a:latin typeface="Lato Heavy"/>
              </a:rPr>
              <a:t>VISION</a:t>
            </a:r>
            <a:endParaRPr b="0" lang="en-US" sz="1700" spc="-1" strike="noStrike">
              <a:solidFill>
                <a:srgbClr val="494949"/>
              </a:solidFill>
              <a:latin typeface="Open Sans Ligh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Shape 2508"/>
          <p:cNvSpPr/>
          <p:nvPr/>
        </p:nvSpPr>
        <p:spPr>
          <a:xfrm>
            <a:off x="2774880" y="2208240"/>
            <a:ext cx="6869160" cy="3568680"/>
          </a:xfrm>
          <a:custGeom>
            <a:avLst/>
            <a:gdLst/>
            <a:ahLst/>
            <a:rect l="l" t="t" r="r" b="b"/>
            <a:pathLst>
              <a:path w="21600" h="21580">
                <a:moveTo>
                  <a:pt x="21581" y="18587"/>
                </a:moveTo>
                <a:cubicBezTo>
                  <a:pt x="21581" y="18587"/>
                  <a:pt x="21562" y="18623"/>
                  <a:pt x="21562" y="18623"/>
                </a:cubicBezTo>
                <a:cubicBezTo>
                  <a:pt x="21562" y="18623"/>
                  <a:pt x="21562" y="18659"/>
                  <a:pt x="21562" y="18659"/>
                </a:cubicBezTo>
                <a:cubicBezTo>
                  <a:pt x="21524" y="18659"/>
                  <a:pt x="21524" y="18659"/>
                  <a:pt x="21505" y="18696"/>
                </a:cubicBezTo>
                <a:cubicBezTo>
                  <a:pt x="21505" y="18732"/>
                  <a:pt x="21505" y="18732"/>
                  <a:pt x="21505" y="18768"/>
                </a:cubicBezTo>
                <a:cubicBezTo>
                  <a:pt x="21487" y="18805"/>
                  <a:pt x="21430" y="19023"/>
                  <a:pt x="21392" y="18986"/>
                </a:cubicBezTo>
                <a:cubicBezTo>
                  <a:pt x="21335" y="18950"/>
                  <a:pt x="21411" y="18877"/>
                  <a:pt x="21392" y="18805"/>
                </a:cubicBezTo>
                <a:cubicBezTo>
                  <a:pt x="21373" y="18768"/>
                  <a:pt x="21316" y="18732"/>
                  <a:pt x="21297" y="18696"/>
                </a:cubicBezTo>
                <a:cubicBezTo>
                  <a:pt x="21316" y="18659"/>
                  <a:pt x="21335" y="18659"/>
                  <a:pt x="21354" y="18623"/>
                </a:cubicBezTo>
                <a:cubicBezTo>
                  <a:pt x="21354" y="18623"/>
                  <a:pt x="21354" y="18551"/>
                  <a:pt x="21354" y="18551"/>
                </a:cubicBezTo>
                <a:cubicBezTo>
                  <a:pt x="21373" y="18514"/>
                  <a:pt x="21373" y="18514"/>
                  <a:pt x="21373" y="18478"/>
                </a:cubicBezTo>
                <a:cubicBezTo>
                  <a:pt x="21373" y="18478"/>
                  <a:pt x="21373" y="18442"/>
                  <a:pt x="21354" y="18442"/>
                </a:cubicBezTo>
                <a:cubicBezTo>
                  <a:pt x="21354" y="18405"/>
                  <a:pt x="21354" y="18405"/>
                  <a:pt x="21373" y="18405"/>
                </a:cubicBezTo>
                <a:cubicBezTo>
                  <a:pt x="21354" y="18369"/>
                  <a:pt x="21335" y="18333"/>
                  <a:pt x="21335" y="18296"/>
                </a:cubicBezTo>
                <a:cubicBezTo>
                  <a:pt x="21335" y="18296"/>
                  <a:pt x="21335" y="18260"/>
                  <a:pt x="21316" y="18260"/>
                </a:cubicBezTo>
                <a:cubicBezTo>
                  <a:pt x="21316" y="18260"/>
                  <a:pt x="21316" y="18224"/>
                  <a:pt x="21297" y="18224"/>
                </a:cubicBezTo>
                <a:cubicBezTo>
                  <a:pt x="21316" y="18260"/>
                  <a:pt x="21316" y="18260"/>
                  <a:pt x="21316" y="18296"/>
                </a:cubicBezTo>
                <a:cubicBezTo>
                  <a:pt x="21316" y="18296"/>
                  <a:pt x="21316" y="18296"/>
                  <a:pt x="21316" y="18296"/>
                </a:cubicBezTo>
                <a:cubicBezTo>
                  <a:pt x="21297" y="18224"/>
                  <a:pt x="21278" y="18188"/>
                  <a:pt x="21260" y="18151"/>
                </a:cubicBezTo>
                <a:cubicBezTo>
                  <a:pt x="21260" y="18115"/>
                  <a:pt x="21260" y="18115"/>
                  <a:pt x="21260" y="18079"/>
                </a:cubicBezTo>
                <a:cubicBezTo>
                  <a:pt x="21260" y="18079"/>
                  <a:pt x="21241" y="18042"/>
                  <a:pt x="21241" y="18042"/>
                </a:cubicBezTo>
                <a:cubicBezTo>
                  <a:pt x="21241" y="18042"/>
                  <a:pt x="21241" y="18042"/>
                  <a:pt x="21241" y="18042"/>
                </a:cubicBezTo>
                <a:cubicBezTo>
                  <a:pt x="21241" y="18042"/>
                  <a:pt x="21241" y="18042"/>
                  <a:pt x="21260" y="18042"/>
                </a:cubicBezTo>
                <a:cubicBezTo>
                  <a:pt x="21260" y="18079"/>
                  <a:pt x="21260" y="18079"/>
                  <a:pt x="21278" y="18115"/>
                </a:cubicBezTo>
                <a:cubicBezTo>
                  <a:pt x="21278" y="18079"/>
                  <a:pt x="21297" y="18115"/>
                  <a:pt x="21316" y="18115"/>
                </a:cubicBezTo>
                <a:cubicBezTo>
                  <a:pt x="21316" y="18115"/>
                  <a:pt x="21316" y="18151"/>
                  <a:pt x="21316" y="18151"/>
                </a:cubicBezTo>
                <a:cubicBezTo>
                  <a:pt x="21335" y="18151"/>
                  <a:pt x="21335" y="18151"/>
                  <a:pt x="21335" y="18151"/>
                </a:cubicBezTo>
                <a:cubicBezTo>
                  <a:pt x="21335" y="18151"/>
                  <a:pt x="21335" y="18151"/>
                  <a:pt x="21335" y="18151"/>
                </a:cubicBezTo>
                <a:cubicBezTo>
                  <a:pt x="21335" y="18151"/>
                  <a:pt x="21354" y="18188"/>
                  <a:pt x="21354" y="18188"/>
                </a:cubicBezTo>
                <a:cubicBezTo>
                  <a:pt x="21354" y="18188"/>
                  <a:pt x="21354" y="18188"/>
                  <a:pt x="21354" y="18224"/>
                </a:cubicBezTo>
                <a:cubicBezTo>
                  <a:pt x="21354" y="18224"/>
                  <a:pt x="21335" y="18224"/>
                  <a:pt x="21335" y="18224"/>
                </a:cubicBezTo>
                <a:cubicBezTo>
                  <a:pt x="21335" y="18224"/>
                  <a:pt x="21335" y="18224"/>
                  <a:pt x="21335" y="18224"/>
                </a:cubicBezTo>
                <a:cubicBezTo>
                  <a:pt x="21354" y="18224"/>
                  <a:pt x="21373" y="18260"/>
                  <a:pt x="21373" y="18296"/>
                </a:cubicBezTo>
                <a:cubicBezTo>
                  <a:pt x="21373" y="18296"/>
                  <a:pt x="21373" y="18296"/>
                  <a:pt x="21354" y="18296"/>
                </a:cubicBezTo>
                <a:cubicBezTo>
                  <a:pt x="21373" y="18296"/>
                  <a:pt x="21373" y="18333"/>
                  <a:pt x="21373" y="18333"/>
                </a:cubicBezTo>
                <a:cubicBezTo>
                  <a:pt x="21373" y="18333"/>
                  <a:pt x="21354" y="18333"/>
                  <a:pt x="21354" y="18333"/>
                </a:cubicBezTo>
                <a:cubicBezTo>
                  <a:pt x="21354" y="18333"/>
                  <a:pt x="21354" y="18333"/>
                  <a:pt x="21354" y="18333"/>
                </a:cubicBezTo>
                <a:cubicBezTo>
                  <a:pt x="21373" y="18333"/>
                  <a:pt x="21373" y="18333"/>
                  <a:pt x="21373" y="18369"/>
                </a:cubicBezTo>
                <a:cubicBezTo>
                  <a:pt x="21373" y="18369"/>
                  <a:pt x="21373" y="18369"/>
                  <a:pt x="21373" y="18369"/>
                </a:cubicBezTo>
                <a:cubicBezTo>
                  <a:pt x="21392" y="18369"/>
                  <a:pt x="21392" y="18369"/>
                  <a:pt x="21392" y="18369"/>
                </a:cubicBezTo>
                <a:cubicBezTo>
                  <a:pt x="21392" y="18369"/>
                  <a:pt x="21392" y="18369"/>
                  <a:pt x="21392" y="18405"/>
                </a:cubicBezTo>
                <a:cubicBezTo>
                  <a:pt x="21411" y="18405"/>
                  <a:pt x="21411" y="18405"/>
                  <a:pt x="21411" y="18405"/>
                </a:cubicBezTo>
                <a:cubicBezTo>
                  <a:pt x="21411" y="18369"/>
                  <a:pt x="21411" y="18369"/>
                  <a:pt x="21411" y="18333"/>
                </a:cubicBezTo>
                <a:cubicBezTo>
                  <a:pt x="21411" y="18333"/>
                  <a:pt x="21411" y="18333"/>
                  <a:pt x="21411" y="18333"/>
                </a:cubicBezTo>
                <a:cubicBezTo>
                  <a:pt x="21449" y="18369"/>
                  <a:pt x="21430" y="18442"/>
                  <a:pt x="21449" y="18478"/>
                </a:cubicBezTo>
                <a:cubicBezTo>
                  <a:pt x="21468" y="18478"/>
                  <a:pt x="21505" y="18551"/>
                  <a:pt x="21524" y="18514"/>
                </a:cubicBezTo>
                <a:cubicBezTo>
                  <a:pt x="21543" y="18514"/>
                  <a:pt x="21562" y="18478"/>
                  <a:pt x="21600" y="18478"/>
                </a:cubicBezTo>
                <a:cubicBezTo>
                  <a:pt x="21600" y="18478"/>
                  <a:pt x="21600" y="18478"/>
                  <a:pt x="21600" y="18478"/>
                </a:cubicBezTo>
                <a:cubicBezTo>
                  <a:pt x="21600" y="18551"/>
                  <a:pt x="21600" y="18551"/>
                  <a:pt x="21581" y="18587"/>
                </a:cubicBezTo>
                <a:close/>
                <a:moveTo>
                  <a:pt x="21278" y="18986"/>
                </a:moveTo>
                <a:cubicBezTo>
                  <a:pt x="21278" y="18986"/>
                  <a:pt x="21297" y="18950"/>
                  <a:pt x="21297" y="18950"/>
                </a:cubicBezTo>
                <a:cubicBezTo>
                  <a:pt x="21297" y="18950"/>
                  <a:pt x="21316" y="18950"/>
                  <a:pt x="21316" y="18950"/>
                </a:cubicBezTo>
                <a:cubicBezTo>
                  <a:pt x="21316" y="18950"/>
                  <a:pt x="21316" y="18986"/>
                  <a:pt x="21335" y="18986"/>
                </a:cubicBezTo>
                <a:cubicBezTo>
                  <a:pt x="21316" y="18986"/>
                  <a:pt x="21316" y="18986"/>
                  <a:pt x="21316" y="19023"/>
                </a:cubicBezTo>
                <a:cubicBezTo>
                  <a:pt x="21316" y="19023"/>
                  <a:pt x="21335" y="19023"/>
                  <a:pt x="21335" y="19059"/>
                </a:cubicBezTo>
                <a:cubicBezTo>
                  <a:pt x="21316" y="19095"/>
                  <a:pt x="21297" y="19168"/>
                  <a:pt x="21278" y="19204"/>
                </a:cubicBezTo>
                <a:cubicBezTo>
                  <a:pt x="21260" y="19204"/>
                  <a:pt x="21222" y="19240"/>
                  <a:pt x="21222" y="19277"/>
                </a:cubicBezTo>
                <a:cubicBezTo>
                  <a:pt x="21241" y="19277"/>
                  <a:pt x="21241" y="19313"/>
                  <a:pt x="21260" y="19313"/>
                </a:cubicBezTo>
                <a:cubicBezTo>
                  <a:pt x="21260" y="19313"/>
                  <a:pt x="21260" y="19313"/>
                  <a:pt x="21260" y="19313"/>
                </a:cubicBezTo>
                <a:cubicBezTo>
                  <a:pt x="21241" y="19313"/>
                  <a:pt x="21241" y="19313"/>
                  <a:pt x="21241" y="19349"/>
                </a:cubicBezTo>
                <a:cubicBezTo>
                  <a:pt x="21222" y="19313"/>
                  <a:pt x="21222" y="19313"/>
                  <a:pt x="21222" y="19313"/>
                </a:cubicBezTo>
                <a:cubicBezTo>
                  <a:pt x="21203" y="19313"/>
                  <a:pt x="21165" y="19349"/>
                  <a:pt x="21146" y="19386"/>
                </a:cubicBezTo>
                <a:cubicBezTo>
                  <a:pt x="21146" y="19386"/>
                  <a:pt x="21146" y="19386"/>
                  <a:pt x="21127" y="19386"/>
                </a:cubicBezTo>
                <a:cubicBezTo>
                  <a:pt x="21146" y="19386"/>
                  <a:pt x="21146" y="19422"/>
                  <a:pt x="21146" y="19422"/>
                </a:cubicBezTo>
                <a:cubicBezTo>
                  <a:pt x="21146" y="19422"/>
                  <a:pt x="21146" y="19458"/>
                  <a:pt x="21146" y="19494"/>
                </a:cubicBezTo>
                <a:cubicBezTo>
                  <a:pt x="21127" y="19458"/>
                  <a:pt x="21127" y="19458"/>
                  <a:pt x="21108" y="19458"/>
                </a:cubicBezTo>
                <a:cubicBezTo>
                  <a:pt x="21108" y="19458"/>
                  <a:pt x="21108" y="19458"/>
                  <a:pt x="21108" y="19458"/>
                </a:cubicBezTo>
                <a:cubicBezTo>
                  <a:pt x="21127" y="19494"/>
                  <a:pt x="21127" y="19494"/>
                  <a:pt x="21127" y="19494"/>
                </a:cubicBezTo>
                <a:cubicBezTo>
                  <a:pt x="21127" y="19531"/>
                  <a:pt x="21108" y="19567"/>
                  <a:pt x="21108" y="19640"/>
                </a:cubicBezTo>
                <a:cubicBezTo>
                  <a:pt x="21108" y="19640"/>
                  <a:pt x="21051" y="19712"/>
                  <a:pt x="21033" y="19749"/>
                </a:cubicBezTo>
                <a:cubicBezTo>
                  <a:pt x="20995" y="19749"/>
                  <a:pt x="20957" y="19712"/>
                  <a:pt x="20919" y="19676"/>
                </a:cubicBezTo>
                <a:cubicBezTo>
                  <a:pt x="20919" y="19676"/>
                  <a:pt x="20919" y="19676"/>
                  <a:pt x="20919" y="19676"/>
                </a:cubicBezTo>
                <a:cubicBezTo>
                  <a:pt x="20919" y="19640"/>
                  <a:pt x="20900" y="19640"/>
                  <a:pt x="20900" y="19676"/>
                </a:cubicBezTo>
                <a:cubicBezTo>
                  <a:pt x="20881" y="19676"/>
                  <a:pt x="20862" y="19676"/>
                  <a:pt x="20843" y="19640"/>
                </a:cubicBezTo>
                <a:cubicBezTo>
                  <a:pt x="20843" y="19640"/>
                  <a:pt x="20843" y="19640"/>
                  <a:pt x="20843" y="19640"/>
                </a:cubicBezTo>
                <a:cubicBezTo>
                  <a:pt x="20862" y="19640"/>
                  <a:pt x="20862" y="19640"/>
                  <a:pt x="20862" y="19640"/>
                </a:cubicBezTo>
                <a:cubicBezTo>
                  <a:pt x="20862" y="19640"/>
                  <a:pt x="20862" y="19640"/>
                  <a:pt x="20862" y="19640"/>
                </a:cubicBezTo>
                <a:cubicBezTo>
                  <a:pt x="20862" y="19640"/>
                  <a:pt x="20862" y="19640"/>
                  <a:pt x="20881" y="19603"/>
                </a:cubicBezTo>
                <a:cubicBezTo>
                  <a:pt x="20881" y="19603"/>
                  <a:pt x="20881" y="19603"/>
                  <a:pt x="20881" y="19603"/>
                </a:cubicBezTo>
                <a:cubicBezTo>
                  <a:pt x="20862" y="19603"/>
                  <a:pt x="20862" y="19603"/>
                  <a:pt x="20862" y="19603"/>
                </a:cubicBezTo>
                <a:cubicBezTo>
                  <a:pt x="20862" y="19603"/>
                  <a:pt x="20862" y="19603"/>
                  <a:pt x="20862" y="19603"/>
                </a:cubicBezTo>
                <a:cubicBezTo>
                  <a:pt x="20862" y="19603"/>
                  <a:pt x="20881" y="19603"/>
                  <a:pt x="20881" y="19603"/>
                </a:cubicBezTo>
                <a:cubicBezTo>
                  <a:pt x="20881" y="19603"/>
                  <a:pt x="20881" y="19567"/>
                  <a:pt x="20881" y="19567"/>
                </a:cubicBezTo>
                <a:cubicBezTo>
                  <a:pt x="20881" y="19567"/>
                  <a:pt x="20881" y="19567"/>
                  <a:pt x="20881" y="19567"/>
                </a:cubicBezTo>
                <a:cubicBezTo>
                  <a:pt x="20881" y="19567"/>
                  <a:pt x="20900" y="19567"/>
                  <a:pt x="20900" y="19567"/>
                </a:cubicBezTo>
                <a:cubicBezTo>
                  <a:pt x="20900" y="19567"/>
                  <a:pt x="20881" y="19531"/>
                  <a:pt x="20900" y="19494"/>
                </a:cubicBezTo>
                <a:cubicBezTo>
                  <a:pt x="20900" y="19494"/>
                  <a:pt x="20900" y="19494"/>
                  <a:pt x="20900" y="19494"/>
                </a:cubicBezTo>
                <a:cubicBezTo>
                  <a:pt x="20919" y="19494"/>
                  <a:pt x="20919" y="19458"/>
                  <a:pt x="20938" y="19422"/>
                </a:cubicBezTo>
                <a:cubicBezTo>
                  <a:pt x="20938" y="19422"/>
                  <a:pt x="20938" y="19422"/>
                  <a:pt x="20938" y="19422"/>
                </a:cubicBezTo>
                <a:cubicBezTo>
                  <a:pt x="20957" y="19386"/>
                  <a:pt x="20995" y="19386"/>
                  <a:pt x="21014" y="19349"/>
                </a:cubicBezTo>
                <a:cubicBezTo>
                  <a:pt x="21033" y="19313"/>
                  <a:pt x="21051" y="19313"/>
                  <a:pt x="21070" y="19277"/>
                </a:cubicBezTo>
                <a:cubicBezTo>
                  <a:pt x="21070" y="19240"/>
                  <a:pt x="21070" y="19240"/>
                  <a:pt x="21070" y="19240"/>
                </a:cubicBezTo>
                <a:cubicBezTo>
                  <a:pt x="21089" y="19240"/>
                  <a:pt x="21108" y="19204"/>
                  <a:pt x="21108" y="19204"/>
                </a:cubicBezTo>
                <a:cubicBezTo>
                  <a:pt x="21108" y="19204"/>
                  <a:pt x="21146" y="19131"/>
                  <a:pt x="21146" y="19131"/>
                </a:cubicBezTo>
                <a:cubicBezTo>
                  <a:pt x="21165" y="19131"/>
                  <a:pt x="21165" y="19059"/>
                  <a:pt x="21165" y="19059"/>
                </a:cubicBezTo>
                <a:cubicBezTo>
                  <a:pt x="21165" y="19059"/>
                  <a:pt x="21184" y="19023"/>
                  <a:pt x="21203" y="19023"/>
                </a:cubicBezTo>
                <a:cubicBezTo>
                  <a:pt x="21203" y="18986"/>
                  <a:pt x="21203" y="18950"/>
                  <a:pt x="21203" y="18914"/>
                </a:cubicBezTo>
                <a:cubicBezTo>
                  <a:pt x="21203" y="18914"/>
                  <a:pt x="21222" y="18877"/>
                  <a:pt x="21222" y="18877"/>
                </a:cubicBezTo>
                <a:cubicBezTo>
                  <a:pt x="21260" y="18877"/>
                  <a:pt x="21241" y="18950"/>
                  <a:pt x="21278" y="18986"/>
                </a:cubicBezTo>
                <a:close/>
                <a:moveTo>
                  <a:pt x="10630" y="5627"/>
                </a:moveTo>
                <a:cubicBezTo>
                  <a:pt x="10630" y="5627"/>
                  <a:pt x="10630" y="5627"/>
                  <a:pt x="10630" y="5627"/>
                </a:cubicBezTo>
                <a:cubicBezTo>
                  <a:pt x="10630" y="5627"/>
                  <a:pt x="10611" y="5663"/>
                  <a:pt x="10611" y="5663"/>
                </a:cubicBezTo>
                <a:cubicBezTo>
                  <a:pt x="10592" y="5663"/>
                  <a:pt x="10592" y="5627"/>
                  <a:pt x="10592" y="5627"/>
                </a:cubicBezTo>
                <a:cubicBezTo>
                  <a:pt x="10573" y="5627"/>
                  <a:pt x="10573" y="5627"/>
                  <a:pt x="10554" y="5627"/>
                </a:cubicBezTo>
                <a:cubicBezTo>
                  <a:pt x="10535" y="5554"/>
                  <a:pt x="10554" y="5554"/>
                  <a:pt x="10573" y="5518"/>
                </a:cubicBezTo>
                <a:cubicBezTo>
                  <a:pt x="10573" y="5518"/>
                  <a:pt x="10573" y="5518"/>
                  <a:pt x="10573" y="5518"/>
                </a:cubicBezTo>
                <a:cubicBezTo>
                  <a:pt x="10592" y="5554"/>
                  <a:pt x="10592" y="5554"/>
                  <a:pt x="10611" y="5554"/>
                </a:cubicBezTo>
                <a:cubicBezTo>
                  <a:pt x="10611" y="5554"/>
                  <a:pt x="10611" y="5518"/>
                  <a:pt x="10611" y="5482"/>
                </a:cubicBezTo>
                <a:cubicBezTo>
                  <a:pt x="10611" y="5482"/>
                  <a:pt x="10630" y="5482"/>
                  <a:pt x="10630" y="5518"/>
                </a:cubicBezTo>
                <a:cubicBezTo>
                  <a:pt x="10630" y="5554"/>
                  <a:pt x="10630" y="5591"/>
                  <a:pt x="10611" y="5591"/>
                </a:cubicBezTo>
                <a:cubicBezTo>
                  <a:pt x="10611" y="5591"/>
                  <a:pt x="10611" y="5591"/>
                  <a:pt x="10611" y="5591"/>
                </a:cubicBezTo>
                <a:cubicBezTo>
                  <a:pt x="10630" y="5591"/>
                  <a:pt x="10630" y="5627"/>
                  <a:pt x="10630" y="5627"/>
                </a:cubicBezTo>
                <a:close/>
                <a:moveTo>
                  <a:pt x="10497" y="5336"/>
                </a:moveTo>
                <a:cubicBezTo>
                  <a:pt x="10460" y="5336"/>
                  <a:pt x="10441" y="5336"/>
                  <a:pt x="10403" y="5336"/>
                </a:cubicBezTo>
                <a:cubicBezTo>
                  <a:pt x="10403" y="5373"/>
                  <a:pt x="10403" y="5373"/>
                  <a:pt x="10384" y="5409"/>
                </a:cubicBezTo>
                <a:cubicBezTo>
                  <a:pt x="10384" y="5373"/>
                  <a:pt x="10384" y="5373"/>
                  <a:pt x="10365" y="5373"/>
                </a:cubicBezTo>
                <a:cubicBezTo>
                  <a:pt x="10384" y="5336"/>
                  <a:pt x="10384" y="5300"/>
                  <a:pt x="10384" y="5300"/>
                </a:cubicBezTo>
                <a:cubicBezTo>
                  <a:pt x="10403" y="5300"/>
                  <a:pt x="10422" y="5300"/>
                  <a:pt x="10441" y="5300"/>
                </a:cubicBezTo>
                <a:cubicBezTo>
                  <a:pt x="10460" y="5300"/>
                  <a:pt x="10460" y="5228"/>
                  <a:pt x="10478" y="5228"/>
                </a:cubicBezTo>
                <a:cubicBezTo>
                  <a:pt x="10478" y="5228"/>
                  <a:pt x="10497" y="5228"/>
                  <a:pt x="10497" y="5191"/>
                </a:cubicBezTo>
                <a:cubicBezTo>
                  <a:pt x="10516" y="5191"/>
                  <a:pt x="10516" y="5191"/>
                  <a:pt x="10516" y="5191"/>
                </a:cubicBezTo>
                <a:cubicBezTo>
                  <a:pt x="10516" y="5191"/>
                  <a:pt x="10516" y="5191"/>
                  <a:pt x="10516" y="5191"/>
                </a:cubicBezTo>
                <a:cubicBezTo>
                  <a:pt x="10516" y="5228"/>
                  <a:pt x="10516" y="5228"/>
                  <a:pt x="10516" y="5300"/>
                </a:cubicBezTo>
                <a:cubicBezTo>
                  <a:pt x="10497" y="5300"/>
                  <a:pt x="10497" y="5300"/>
                  <a:pt x="10497" y="5336"/>
                </a:cubicBezTo>
                <a:close/>
                <a:moveTo>
                  <a:pt x="20900" y="3921"/>
                </a:moveTo>
                <a:cubicBezTo>
                  <a:pt x="20900" y="3921"/>
                  <a:pt x="20900" y="3921"/>
                  <a:pt x="20881" y="3957"/>
                </a:cubicBezTo>
                <a:cubicBezTo>
                  <a:pt x="20862" y="3957"/>
                  <a:pt x="20825" y="3957"/>
                  <a:pt x="20806" y="3957"/>
                </a:cubicBezTo>
                <a:cubicBezTo>
                  <a:pt x="20806" y="3921"/>
                  <a:pt x="20806" y="3921"/>
                  <a:pt x="20787" y="3884"/>
                </a:cubicBezTo>
                <a:cubicBezTo>
                  <a:pt x="20787" y="3884"/>
                  <a:pt x="20787" y="3884"/>
                  <a:pt x="20787" y="3884"/>
                </a:cubicBezTo>
                <a:cubicBezTo>
                  <a:pt x="20787" y="3884"/>
                  <a:pt x="20787" y="3884"/>
                  <a:pt x="20787" y="3884"/>
                </a:cubicBezTo>
                <a:cubicBezTo>
                  <a:pt x="20768" y="3884"/>
                  <a:pt x="20749" y="3921"/>
                  <a:pt x="20730" y="3921"/>
                </a:cubicBezTo>
                <a:cubicBezTo>
                  <a:pt x="20730" y="3884"/>
                  <a:pt x="20730" y="3884"/>
                  <a:pt x="20711" y="3884"/>
                </a:cubicBezTo>
                <a:cubicBezTo>
                  <a:pt x="20711" y="3921"/>
                  <a:pt x="20730" y="3921"/>
                  <a:pt x="20730" y="3921"/>
                </a:cubicBezTo>
                <a:cubicBezTo>
                  <a:pt x="20711" y="3957"/>
                  <a:pt x="20711" y="3957"/>
                  <a:pt x="20711" y="3957"/>
                </a:cubicBezTo>
                <a:cubicBezTo>
                  <a:pt x="20730" y="3957"/>
                  <a:pt x="20730" y="3957"/>
                  <a:pt x="20749" y="3993"/>
                </a:cubicBezTo>
                <a:cubicBezTo>
                  <a:pt x="20749" y="3957"/>
                  <a:pt x="20749" y="3957"/>
                  <a:pt x="20768" y="3957"/>
                </a:cubicBezTo>
                <a:cubicBezTo>
                  <a:pt x="20768" y="3957"/>
                  <a:pt x="20768" y="3957"/>
                  <a:pt x="20787" y="3957"/>
                </a:cubicBezTo>
                <a:cubicBezTo>
                  <a:pt x="20787" y="4030"/>
                  <a:pt x="20787" y="4030"/>
                  <a:pt x="20806" y="4030"/>
                </a:cubicBezTo>
                <a:cubicBezTo>
                  <a:pt x="20825" y="4030"/>
                  <a:pt x="20825" y="4030"/>
                  <a:pt x="20843" y="4030"/>
                </a:cubicBezTo>
                <a:cubicBezTo>
                  <a:pt x="20843" y="4030"/>
                  <a:pt x="20825" y="4030"/>
                  <a:pt x="20825" y="4030"/>
                </a:cubicBezTo>
                <a:cubicBezTo>
                  <a:pt x="20843" y="4030"/>
                  <a:pt x="20843" y="4030"/>
                  <a:pt x="20843" y="4030"/>
                </a:cubicBezTo>
                <a:cubicBezTo>
                  <a:pt x="20843" y="4066"/>
                  <a:pt x="20862" y="4102"/>
                  <a:pt x="20862" y="4138"/>
                </a:cubicBezTo>
                <a:cubicBezTo>
                  <a:pt x="20862" y="4138"/>
                  <a:pt x="20843" y="4138"/>
                  <a:pt x="20843" y="4175"/>
                </a:cubicBezTo>
                <a:cubicBezTo>
                  <a:pt x="20881" y="4175"/>
                  <a:pt x="20881" y="4211"/>
                  <a:pt x="20900" y="4247"/>
                </a:cubicBezTo>
                <a:cubicBezTo>
                  <a:pt x="20900" y="4247"/>
                  <a:pt x="20900" y="4247"/>
                  <a:pt x="20900" y="4284"/>
                </a:cubicBezTo>
                <a:cubicBezTo>
                  <a:pt x="20900" y="4284"/>
                  <a:pt x="20919" y="4284"/>
                  <a:pt x="20919" y="4284"/>
                </a:cubicBezTo>
                <a:cubicBezTo>
                  <a:pt x="20919" y="4393"/>
                  <a:pt x="20881" y="4356"/>
                  <a:pt x="20825" y="4356"/>
                </a:cubicBezTo>
                <a:cubicBezTo>
                  <a:pt x="20806" y="4356"/>
                  <a:pt x="20787" y="4356"/>
                  <a:pt x="20787" y="4320"/>
                </a:cubicBezTo>
                <a:cubicBezTo>
                  <a:pt x="20787" y="4320"/>
                  <a:pt x="20787" y="4320"/>
                  <a:pt x="20787" y="4320"/>
                </a:cubicBezTo>
                <a:cubicBezTo>
                  <a:pt x="20787" y="4320"/>
                  <a:pt x="20768" y="4284"/>
                  <a:pt x="20768" y="4320"/>
                </a:cubicBezTo>
                <a:cubicBezTo>
                  <a:pt x="20768" y="4320"/>
                  <a:pt x="20749" y="4356"/>
                  <a:pt x="20749" y="4356"/>
                </a:cubicBezTo>
                <a:cubicBezTo>
                  <a:pt x="20730" y="4393"/>
                  <a:pt x="20692" y="4429"/>
                  <a:pt x="20673" y="4429"/>
                </a:cubicBezTo>
                <a:cubicBezTo>
                  <a:pt x="20654" y="4429"/>
                  <a:pt x="20635" y="4429"/>
                  <a:pt x="20616" y="4465"/>
                </a:cubicBezTo>
                <a:cubicBezTo>
                  <a:pt x="20616" y="4465"/>
                  <a:pt x="20598" y="4502"/>
                  <a:pt x="20579" y="4502"/>
                </a:cubicBezTo>
                <a:cubicBezTo>
                  <a:pt x="20579" y="4502"/>
                  <a:pt x="20560" y="4502"/>
                  <a:pt x="20560" y="4502"/>
                </a:cubicBezTo>
                <a:cubicBezTo>
                  <a:pt x="20541" y="4538"/>
                  <a:pt x="20541" y="4538"/>
                  <a:pt x="20522" y="4574"/>
                </a:cubicBezTo>
                <a:cubicBezTo>
                  <a:pt x="20522" y="4574"/>
                  <a:pt x="20503" y="4574"/>
                  <a:pt x="20503" y="4574"/>
                </a:cubicBezTo>
                <a:cubicBezTo>
                  <a:pt x="20484" y="4574"/>
                  <a:pt x="20484" y="4610"/>
                  <a:pt x="20465" y="4647"/>
                </a:cubicBezTo>
                <a:cubicBezTo>
                  <a:pt x="20446" y="4647"/>
                  <a:pt x="20446" y="4647"/>
                  <a:pt x="20427" y="4683"/>
                </a:cubicBezTo>
                <a:cubicBezTo>
                  <a:pt x="20427" y="4683"/>
                  <a:pt x="20408" y="4683"/>
                  <a:pt x="20408" y="4719"/>
                </a:cubicBezTo>
                <a:cubicBezTo>
                  <a:pt x="20389" y="4719"/>
                  <a:pt x="20371" y="4719"/>
                  <a:pt x="20371" y="4756"/>
                </a:cubicBezTo>
                <a:cubicBezTo>
                  <a:pt x="20371" y="4756"/>
                  <a:pt x="20371" y="4792"/>
                  <a:pt x="20352" y="4792"/>
                </a:cubicBezTo>
                <a:cubicBezTo>
                  <a:pt x="20352" y="4792"/>
                  <a:pt x="20352" y="4792"/>
                  <a:pt x="20352" y="4792"/>
                </a:cubicBezTo>
                <a:cubicBezTo>
                  <a:pt x="20352" y="4792"/>
                  <a:pt x="20333" y="4792"/>
                  <a:pt x="20333" y="4792"/>
                </a:cubicBezTo>
                <a:cubicBezTo>
                  <a:pt x="20314" y="4792"/>
                  <a:pt x="20314" y="4719"/>
                  <a:pt x="20295" y="4719"/>
                </a:cubicBezTo>
                <a:cubicBezTo>
                  <a:pt x="20276" y="4683"/>
                  <a:pt x="20181" y="4719"/>
                  <a:pt x="20163" y="4756"/>
                </a:cubicBezTo>
                <a:cubicBezTo>
                  <a:pt x="20144" y="4792"/>
                  <a:pt x="20125" y="4792"/>
                  <a:pt x="20106" y="4828"/>
                </a:cubicBezTo>
                <a:cubicBezTo>
                  <a:pt x="20106" y="4828"/>
                  <a:pt x="20106" y="4828"/>
                  <a:pt x="20087" y="4828"/>
                </a:cubicBezTo>
                <a:cubicBezTo>
                  <a:pt x="20106" y="4792"/>
                  <a:pt x="20106" y="4756"/>
                  <a:pt x="20106" y="4719"/>
                </a:cubicBezTo>
                <a:cubicBezTo>
                  <a:pt x="20106" y="4719"/>
                  <a:pt x="20106" y="4719"/>
                  <a:pt x="20106" y="4719"/>
                </a:cubicBezTo>
                <a:cubicBezTo>
                  <a:pt x="20106" y="4719"/>
                  <a:pt x="20087" y="4719"/>
                  <a:pt x="20087" y="4719"/>
                </a:cubicBezTo>
                <a:cubicBezTo>
                  <a:pt x="20068" y="4756"/>
                  <a:pt x="20049" y="4792"/>
                  <a:pt x="20030" y="4792"/>
                </a:cubicBezTo>
                <a:cubicBezTo>
                  <a:pt x="20030" y="4792"/>
                  <a:pt x="20030" y="4828"/>
                  <a:pt x="20030" y="4828"/>
                </a:cubicBezTo>
                <a:cubicBezTo>
                  <a:pt x="20030" y="4828"/>
                  <a:pt x="20011" y="4828"/>
                  <a:pt x="20011" y="4865"/>
                </a:cubicBezTo>
                <a:cubicBezTo>
                  <a:pt x="19992" y="4828"/>
                  <a:pt x="19992" y="4792"/>
                  <a:pt x="19992" y="4792"/>
                </a:cubicBezTo>
                <a:cubicBezTo>
                  <a:pt x="19973" y="4792"/>
                  <a:pt x="19973" y="4792"/>
                  <a:pt x="19954" y="4828"/>
                </a:cubicBezTo>
                <a:cubicBezTo>
                  <a:pt x="19954" y="4828"/>
                  <a:pt x="19954" y="4828"/>
                  <a:pt x="19954" y="4828"/>
                </a:cubicBezTo>
                <a:cubicBezTo>
                  <a:pt x="19936" y="4828"/>
                  <a:pt x="19936" y="4865"/>
                  <a:pt x="19917" y="4865"/>
                </a:cubicBezTo>
                <a:cubicBezTo>
                  <a:pt x="19917" y="4901"/>
                  <a:pt x="19936" y="4901"/>
                  <a:pt x="19936" y="4937"/>
                </a:cubicBezTo>
                <a:cubicBezTo>
                  <a:pt x="19917" y="4937"/>
                  <a:pt x="19917" y="4937"/>
                  <a:pt x="19898" y="4973"/>
                </a:cubicBezTo>
                <a:cubicBezTo>
                  <a:pt x="19898" y="4973"/>
                  <a:pt x="19898" y="4973"/>
                  <a:pt x="19917" y="4973"/>
                </a:cubicBezTo>
                <a:cubicBezTo>
                  <a:pt x="19879" y="5046"/>
                  <a:pt x="19841" y="5046"/>
                  <a:pt x="19841" y="5155"/>
                </a:cubicBezTo>
                <a:cubicBezTo>
                  <a:pt x="19860" y="5191"/>
                  <a:pt x="19898" y="5191"/>
                  <a:pt x="19917" y="5191"/>
                </a:cubicBezTo>
                <a:cubicBezTo>
                  <a:pt x="19917" y="5228"/>
                  <a:pt x="19917" y="5228"/>
                  <a:pt x="19917" y="5228"/>
                </a:cubicBezTo>
                <a:cubicBezTo>
                  <a:pt x="19917" y="5264"/>
                  <a:pt x="19879" y="5264"/>
                  <a:pt x="19879" y="5300"/>
                </a:cubicBezTo>
                <a:cubicBezTo>
                  <a:pt x="19898" y="5336"/>
                  <a:pt x="19898" y="5373"/>
                  <a:pt x="19898" y="5373"/>
                </a:cubicBezTo>
                <a:cubicBezTo>
                  <a:pt x="19898" y="5373"/>
                  <a:pt x="19917" y="5373"/>
                  <a:pt x="19917" y="5373"/>
                </a:cubicBezTo>
                <a:cubicBezTo>
                  <a:pt x="19917" y="5409"/>
                  <a:pt x="19936" y="5445"/>
                  <a:pt x="19917" y="5445"/>
                </a:cubicBezTo>
                <a:cubicBezTo>
                  <a:pt x="19917" y="5482"/>
                  <a:pt x="19898" y="5518"/>
                  <a:pt x="19898" y="5482"/>
                </a:cubicBezTo>
                <a:cubicBezTo>
                  <a:pt x="19898" y="5482"/>
                  <a:pt x="19898" y="5482"/>
                  <a:pt x="19879" y="5482"/>
                </a:cubicBezTo>
                <a:cubicBezTo>
                  <a:pt x="19879" y="5445"/>
                  <a:pt x="19898" y="5445"/>
                  <a:pt x="19898" y="5409"/>
                </a:cubicBezTo>
                <a:cubicBezTo>
                  <a:pt x="19898" y="5409"/>
                  <a:pt x="19898" y="5409"/>
                  <a:pt x="19898" y="5409"/>
                </a:cubicBezTo>
                <a:cubicBezTo>
                  <a:pt x="19898" y="5409"/>
                  <a:pt x="19879" y="5409"/>
                  <a:pt x="19879" y="5409"/>
                </a:cubicBezTo>
                <a:cubicBezTo>
                  <a:pt x="19860" y="5445"/>
                  <a:pt x="19803" y="5554"/>
                  <a:pt x="19822" y="5627"/>
                </a:cubicBezTo>
                <a:cubicBezTo>
                  <a:pt x="19841" y="5663"/>
                  <a:pt x="19841" y="5663"/>
                  <a:pt x="19860" y="5699"/>
                </a:cubicBezTo>
                <a:cubicBezTo>
                  <a:pt x="19822" y="5772"/>
                  <a:pt x="19803" y="5699"/>
                  <a:pt x="19765" y="5736"/>
                </a:cubicBezTo>
                <a:cubicBezTo>
                  <a:pt x="19746" y="5736"/>
                  <a:pt x="19709" y="5808"/>
                  <a:pt x="19709" y="5881"/>
                </a:cubicBezTo>
                <a:cubicBezTo>
                  <a:pt x="19709" y="5881"/>
                  <a:pt x="19727" y="5881"/>
                  <a:pt x="19727" y="5917"/>
                </a:cubicBezTo>
                <a:cubicBezTo>
                  <a:pt x="19727" y="5917"/>
                  <a:pt x="19727" y="5917"/>
                  <a:pt x="19727" y="5917"/>
                </a:cubicBezTo>
                <a:cubicBezTo>
                  <a:pt x="19690" y="5954"/>
                  <a:pt x="19671" y="5990"/>
                  <a:pt x="19633" y="5990"/>
                </a:cubicBezTo>
                <a:cubicBezTo>
                  <a:pt x="19633" y="6026"/>
                  <a:pt x="19633" y="6063"/>
                  <a:pt x="19633" y="6099"/>
                </a:cubicBezTo>
                <a:cubicBezTo>
                  <a:pt x="19614" y="6135"/>
                  <a:pt x="19557" y="6280"/>
                  <a:pt x="19519" y="6280"/>
                </a:cubicBezTo>
                <a:cubicBezTo>
                  <a:pt x="19519" y="6244"/>
                  <a:pt x="19519" y="6208"/>
                  <a:pt x="19501" y="6135"/>
                </a:cubicBezTo>
                <a:cubicBezTo>
                  <a:pt x="19501" y="6135"/>
                  <a:pt x="19501" y="6099"/>
                  <a:pt x="19501" y="6099"/>
                </a:cubicBezTo>
                <a:cubicBezTo>
                  <a:pt x="19501" y="6063"/>
                  <a:pt x="19482" y="6026"/>
                  <a:pt x="19482" y="5990"/>
                </a:cubicBezTo>
                <a:cubicBezTo>
                  <a:pt x="19482" y="5917"/>
                  <a:pt x="19463" y="5881"/>
                  <a:pt x="19463" y="5772"/>
                </a:cubicBezTo>
                <a:cubicBezTo>
                  <a:pt x="19463" y="5699"/>
                  <a:pt x="19444" y="5591"/>
                  <a:pt x="19463" y="5518"/>
                </a:cubicBezTo>
                <a:cubicBezTo>
                  <a:pt x="19463" y="5482"/>
                  <a:pt x="19463" y="5445"/>
                  <a:pt x="19463" y="5445"/>
                </a:cubicBezTo>
                <a:cubicBezTo>
                  <a:pt x="19463" y="5373"/>
                  <a:pt x="19501" y="5373"/>
                  <a:pt x="19519" y="5300"/>
                </a:cubicBezTo>
                <a:cubicBezTo>
                  <a:pt x="19519" y="5300"/>
                  <a:pt x="19538" y="5264"/>
                  <a:pt x="19538" y="5264"/>
                </a:cubicBezTo>
                <a:cubicBezTo>
                  <a:pt x="19538" y="5228"/>
                  <a:pt x="19538" y="5228"/>
                  <a:pt x="19538" y="5191"/>
                </a:cubicBezTo>
                <a:cubicBezTo>
                  <a:pt x="19595" y="5191"/>
                  <a:pt x="19652" y="5119"/>
                  <a:pt x="19690" y="5046"/>
                </a:cubicBezTo>
                <a:cubicBezTo>
                  <a:pt x="19690" y="5010"/>
                  <a:pt x="19709" y="4973"/>
                  <a:pt x="19709" y="4973"/>
                </a:cubicBezTo>
                <a:cubicBezTo>
                  <a:pt x="19746" y="4901"/>
                  <a:pt x="19784" y="4865"/>
                  <a:pt x="19822" y="4792"/>
                </a:cubicBezTo>
                <a:cubicBezTo>
                  <a:pt x="19841" y="4792"/>
                  <a:pt x="19841" y="4756"/>
                  <a:pt x="19841" y="4756"/>
                </a:cubicBezTo>
                <a:cubicBezTo>
                  <a:pt x="19860" y="4683"/>
                  <a:pt x="19917" y="4719"/>
                  <a:pt x="19936" y="4683"/>
                </a:cubicBezTo>
                <a:cubicBezTo>
                  <a:pt x="19936" y="4683"/>
                  <a:pt x="19936" y="4683"/>
                  <a:pt x="19936" y="4683"/>
                </a:cubicBezTo>
                <a:cubicBezTo>
                  <a:pt x="19936" y="4647"/>
                  <a:pt x="19954" y="4574"/>
                  <a:pt x="19973" y="4574"/>
                </a:cubicBezTo>
                <a:cubicBezTo>
                  <a:pt x="19954" y="4574"/>
                  <a:pt x="19954" y="4574"/>
                  <a:pt x="19954" y="4538"/>
                </a:cubicBezTo>
                <a:cubicBezTo>
                  <a:pt x="19954" y="4538"/>
                  <a:pt x="19973" y="4502"/>
                  <a:pt x="19973" y="4465"/>
                </a:cubicBezTo>
                <a:cubicBezTo>
                  <a:pt x="19973" y="4465"/>
                  <a:pt x="19973" y="4429"/>
                  <a:pt x="19973" y="4393"/>
                </a:cubicBezTo>
                <a:cubicBezTo>
                  <a:pt x="19992" y="4393"/>
                  <a:pt x="20030" y="4393"/>
                  <a:pt x="20049" y="4393"/>
                </a:cubicBezTo>
                <a:cubicBezTo>
                  <a:pt x="20049" y="4356"/>
                  <a:pt x="20049" y="4356"/>
                  <a:pt x="20049" y="4356"/>
                </a:cubicBezTo>
                <a:cubicBezTo>
                  <a:pt x="20030" y="4356"/>
                  <a:pt x="20011" y="4320"/>
                  <a:pt x="19992" y="4320"/>
                </a:cubicBezTo>
                <a:cubicBezTo>
                  <a:pt x="19954" y="4356"/>
                  <a:pt x="19936" y="4356"/>
                  <a:pt x="19917" y="4356"/>
                </a:cubicBezTo>
                <a:cubicBezTo>
                  <a:pt x="19917" y="4429"/>
                  <a:pt x="19898" y="4429"/>
                  <a:pt x="19898" y="4502"/>
                </a:cubicBezTo>
                <a:cubicBezTo>
                  <a:pt x="19898" y="4502"/>
                  <a:pt x="19898" y="4502"/>
                  <a:pt x="19898" y="4502"/>
                </a:cubicBezTo>
                <a:cubicBezTo>
                  <a:pt x="19879" y="4502"/>
                  <a:pt x="19879" y="4502"/>
                  <a:pt x="19860" y="4538"/>
                </a:cubicBezTo>
                <a:cubicBezTo>
                  <a:pt x="19841" y="4574"/>
                  <a:pt x="19765" y="4683"/>
                  <a:pt x="19727" y="4683"/>
                </a:cubicBezTo>
                <a:cubicBezTo>
                  <a:pt x="19727" y="4647"/>
                  <a:pt x="19746" y="4647"/>
                  <a:pt x="19746" y="4610"/>
                </a:cubicBezTo>
                <a:cubicBezTo>
                  <a:pt x="19727" y="4610"/>
                  <a:pt x="19727" y="4610"/>
                  <a:pt x="19709" y="4610"/>
                </a:cubicBezTo>
                <a:cubicBezTo>
                  <a:pt x="19709" y="4610"/>
                  <a:pt x="19709" y="4610"/>
                  <a:pt x="19709" y="4610"/>
                </a:cubicBezTo>
                <a:cubicBezTo>
                  <a:pt x="19727" y="4574"/>
                  <a:pt x="19746" y="4502"/>
                  <a:pt x="19727" y="4465"/>
                </a:cubicBezTo>
                <a:cubicBezTo>
                  <a:pt x="19709" y="4465"/>
                  <a:pt x="19709" y="4502"/>
                  <a:pt x="19671" y="4502"/>
                </a:cubicBezTo>
                <a:cubicBezTo>
                  <a:pt x="19671" y="4429"/>
                  <a:pt x="19538" y="4502"/>
                  <a:pt x="19501" y="4538"/>
                </a:cubicBezTo>
                <a:cubicBezTo>
                  <a:pt x="19501" y="4574"/>
                  <a:pt x="19501" y="4574"/>
                  <a:pt x="19501" y="4610"/>
                </a:cubicBezTo>
                <a:cubicBezTo>
                  <a:pt x="19482" y="4610"/>
                  <a:pt x="19482" y="4647"/>
                  <a:pt x="19463" y="4647"/>
                </a:cubicBezTo>
                <a:cubicBezTo>
                  <a:pt x="19463" y="4683"/>
                  <a:pt x="19463" y="4683"/>
                  <a:pt x="19463" y="4683"/>
                </a:cubicBezTo>
                <a:cubicBezTo>
                  <a:pt x="19444" y="4719"/>
                  <a:pt x="19330" y="4828"/>
                  <a:pt x="19349" y="4901"/>
                </a:cubicBezTo>
                <a:cubicBezTo>
                  <a:pt x="19368" y="4937"/>
                  <a:pt x="19387" y="4901"/>
                  <a:pt x="19406" y="4937"/>
                </a:cubicBezTo>
                <a:cubicBezTo>
                  <a:pt x="19406" y="4937"/>
                  <a:pt x="19406" y="4937"/>
                  <a:pt x="19406" y="4937"/>
                </a:cubicBezTo>
                <a:cubicBezTo>
                  <a:pt x="19406" y="4937"/>
                  <a:pt x="19406" y="4937"/>
                  <a:pt x="19406" y="4937"/>
                </a:cubicBezTo>
                <a:cubicBezTo>
                  <a:pt x="19406" y="4937"/>
                  <a:pt x="19368" y="4973"/>
                  <a:pt x="19349" y="4973"/>
                </a:cubicBezTo>
                <a:cubicBezTo>
                  <a:pt x="19330" y="4973"/>
                  <a:pt x="19311" y="4937"/>
                  <a:pt x="19292" y="4973"/>
                </a:cubicBezTo>
                <a:cubicBezTo>
                  <a:pt x="19292" y="4973"/>
                  <a:pt x="19274" y="5010"/>
                  <a:pt x="19274" y="5010"/>
                </a:cubicBezTo>
                <a:cubicBezTo>
                  <a:pt x="19274" y="5010"/>
                  <a:pt x="19274" y="5010"/>
                  <a:pt x="19255" y="5010"/>
                </a:cubicBezTo>
                <a:cubicBezTo>
                  <a:pt x="19255" y="5010"/>
                  <a:pt x="19255" y="4973"/>
                  <a:pt x="19255" y="4973"/>
                </a:cubicBezTo>
                <a:cubicBezTo>
                  <a:pt x="19236" y="5010"/>
                  <a:pt x="19198" y="5046"/>
                  <a:pt x="19179" y="5010"/>
                </a:cubicBezTo>
                <a:cubicBezTo>
                  <a:pt x="19179" y="4973"/>
                  <a:pt x="19217" y="4973"/>
                  <a:pt x="19236" y="4973"/>
                </a:cubicBezTo>
                <a:cubicBezTo>
                  <a:pt x="19236" y="4937"/>
                  <a:pt x="19217" y="4937"/>
                  <a:pt x="19217" y="4937"/>
                </a:cubicBezTo>
                <a:cubicBezTo>
                  <a:pt x="19217" y="4901"/>
                  <a:pt x="19198" y="4865"/>
                  <a:pt x="19160" y="4901"/>
                </a:cubicBezTo>
                <a:cubicBezTo>
                  <a:pt x="19141" y="4901"/>
                  <a:pt x="19141" y="4901"/>
                  <a:pt x="19122" y="4901"/>
                </a:cubicBezTo>
                <a:cubicBezTo>
                  <a:pt x="19122" y="4901"/>
                  <a:pt x="19103" y="4865"/>
                  <a:pt x="19103" y="4865"/>
                </a:cubicBezTo>
                <a:cubicBezTo>
                  <a:pt x="19065" y="4865"/>
                  <a:pt x="19047" y="4865"/>
                  <a:pt x="19028" y="4865"/>
                </a:cubicBezTo>
                <a:cubicBezTo>
                  <a:pt x="19028" y="4901"/>
                  <a:pt x="19028" y="4901"/>
                  <a:pt x="19028" y="4937"/>
                </a:cubicBezTo>
                <a:cubicBezTo>
                  <a:pt x="19028" y="4937"/>
                  <a:pt x="19028" y="4937"/>
                  <a:pt x="19009" y="4937"/>
                </a:cubicBezTo>
                <a:cubicBezTo>
                  <a:pt x="19009" y="4937"/>
                  <a:pt x="18990" y="4937"/>
                  <a:pt x="18990" y="4937"/>
                </a:cubicBezTo>
                <a:cubicBezTo>
                  <a:pt x="18971" y="4937"/>
                  <a:pt x="18952" y="4937"/>
                  <a:pt x="18933" y="4937"/>
                </a:cubicBezTo>
                <a:cubicBezTo>
                  <a:pt x="18914" y="4937"/>
                  <a:pt x="18895" y="4901"/>
                  <a:pt x="18876" y="4937"/>
                </a:cubicBezTo>
                <a:cubicBezTo>
                  <a:pt x="18876" y="4937"/>
                  <a:pt x="18857" y="4937"/>
                  <a:pt x="18857" y="4973"/>
                </a:cubicBezTo>
                <a:cubicBezTo>
                  <a:pt x="18820" y="4973"/>
                  <a:pt x="18839" y="4937"/>
                  <a:pt x="18820" y="4901"/>
                </a:cubicBezTo>
                <a:cubicBezTo>
                  <a:pt x="18782" y="4901"/>
                  <a:pt x="18687" y="4901"/>
                  <a:pt x="18649" y="4937"/>
                </a:cubicBezTo>
                <a:cubicBezTo>
                  <a:pt x="18630" y="4937"/>
                  <a:pt x="18612" y="4973"/>
                  <a:pt x="18593" y="5010"/>
                </a:cubicBezTo>
                <a:cubicBezTo>
                  <a:pt x="18593" y="5046"/>
                  <a:pt x="18593" y="5046"/>
                  <a:pt x="18574" y="5046"/>
                </a:cubicBezTo>
                <a:cubicBezTo>
                  <a:pt x="18574" y="5082"/>
                  <a:pt x="18536" y="5082"/>
                  <a:pt x="18536" y="5119"/>
                </a:cubicBezTo>
                <a:cubicBezTo>
                  <a:pt x="18517" y="5155"/>
                  <a:pt x="18517" y="5155"/>
                  <a:pt x="18498" y="5191"/>
                </a:cubicBezTo>
                <a:cubicBezTo>
                  <a:pt x="18479" y="5228"/>
                  <a:pt x="18441" y="5264"/>
                  <a:pt x="18422" y="5300"/>
                </a:cubicBezTo>
                <a:cubicBezTo>
                  <a:pt x="18385" y="5336"/>
                  <a:pt x="18347" y="5409"/>
                  <a:pt x="18328" y="5482"/>
                </a:cubicBezTo>
                <a:cubicBezTo>
                  <a:pt x="18309" y="5518"/>
                  <a:pt x="18290" y="5518"/>
                  <a:pt x="18290" y="5554"/>
                </a:cubicBezTo>
                <a:cubicBezTo>
                  <a:pt x="18252" y="5591"/>
                  <a:pt x="18177" y="5627"/>
                  <a:pt x="18177" y="5699"/>
                </a:cubicBezTo>
                <a:cubicBezTo>
                  <a:pt x="18177" y="5736"/>
                  <a:pt x="18195" y="5736"/>
                  <a:pt x="18195" y="5736"/>
                </a:cubicBezTo>
                <a:cubicBezTo>
                  <a:pt x="18233" y="5736"/>
                  <a:pt x="18252" y="5736"/>
                  <a:pt x="18271" y="5736"/>
                </a:cubicBezTo>
                <a:cubicBezTo>
                  <a:pt x="18271" y="5772"/>
                  <a:pt x="18271" y="5808"/>
                  <a:pt x="18271" y="5845"/>
                </a:cubicBezTo>
                <a:cubicBezTo>
                  <a:pt x="18271" y="5845"/>
                  <a:pt x="18271" y="5845"/>
                  <a:pt x="18271" y="5845"/>
                </a:cubicBezTo>
                <a:cubicBezTo>
                  <a:pt x="18309" y="5881"/>
                  <a:pt x="18309" y="5808"/>
                  <a:pt x="18328" y="5845"/>
                </a:cubicBezTo>
                <a:cubicBezTo>
                  <a:pt x="18328" y="5845"/>
                  <a:pt x="18328" y="5845"/>
                  <a:pt x="18328" y="5845"/>
                </a:cubicBezTo>
                <a:cubicBezTo>
                  <a:pt x="18328" y="5845"/>
                  <a:pt x="18328" y="5881"/>
                  <a:pt x="18309" y="5881"/>
                </a:cubicBezTo>
                <a:cubicBezTo>
                  <a:pt x="18309" y="5881"/>
                  <a:pt x="18309" y="5881"/>
                  <a:pt x="18309" y="5881"/>
                </a:cubicBezTo>
                <a:cubicBezTo>
                  <a:pt x="18366" y="5881"/>
                  <a:pt x="18385" y="5881"/>
                  <a:pt x="18403" y="5845"/>
                </a:cubicBezTo>
                <a:cubicBezTo>
                  <a:pt x="18403" y="5808"/>
                  <a:pt x="18403" y="5808"/>
                  <a:pt x="18403" y="5772"/>
                </a:cubicBezTo>
                <a:cubicBezTo>
                  <a:pt x="18422" y="5808"/>
                  <a:pt x="18460" y="5772"/>
                  <a:pt x="18479" y="5808"/>
                </a:cubicBezTo>
                <a:cubicBezTo>
                  <a:pt x="18517" y="5845"/>
                  <a:pt x="18536" y="5917"/>
                  <a:pt x="18574" y="5954"/>
                </a:cubicBezTo>
                <a:cubicBezTo>
                  <a:pt x="18574" y="5954"/>
                  <a:pt x="18574" y="5954"/>
                  <a:pt x="18574" y="5954"/>
                </a:cubicBezTo>
                <a:cubicBezTo>
                  <a:pt x="18555" y="5990"/>
                  <a:pt x="18555" y="5990"/>
                  <a:pt x="18555" y="5990"/>
                </a:cubicBezTo>
                <a:cubicBezTo>
                  <a:pt x="18555" y="5990"/>
                  <a:pt x="18555" y="6026"/>
                  <a:pt x="18555" y="6026"/>
                </a:cubicBezTo>
                <a:cubicBezTo>
                  <a:pt x="18555" y="6063"/>
                  <a:pt x="18555" y="6063"/>
                  <a:pt x="18555" y="6099"/>
                </a:cubicBezTo>
                <a:cubicBezTo>
                  <a:pt x="18574" y="6099"/>
                  <a:pt x="18574" y="6099"/>
                  <a:pt x="18574" y="6099"/>
                </a:cubicBezTo>
                <a:cubicBezTo>
                  <a:pt x="18555" y="6208"/>
                  <a:pt x="18517" y="6244"/>
                  <a:pt x="18517" y="6353"/>
                </a:cubicBezTo>
                <a:cubicBezTo>
                  <a:pt x="18517" y="6389"/>
                  <a:pt x="18517" y="6389"/>
                  <a:pt x="18517" y="6426"/>
                </a:cubicBezTo>
                <a:cubicBezTo>
                  <a:pt x="18517" y="6498"/>
                  <a:pt x="18517" y="6571"/>
                  <a:pt x="18498" y="6680"/>
                </a:cubicBezTo>
                <a:cubicBezTo>
                  <a:pt x="18479" y="6716"/>
                  <a:pt x="18460" y="6752"/>
                  <a:pt x="18441" y="6789"/>
                </a:cubicBezTo>
                <a:cubicBezTo>
                  <a:pt x="18441" y="6789"/>
                  <a:pt x="18441" y="6825"/>
                  <a:pt x="18422" y="6861"/>
                </a:cubicBezTo>
                <a:cubicBezTo>
                  <a:pt x="18422" y="6861"/>
                  <a:pt x="18403" y="6897"/>
                  <a:pt x="18403" y="6897"/>
                </a:cubicBezTo>
                <a:cubicBezTo>
                  <a:pt x="18385" y="6934"/>
                  <a:pt x="18385" y="6970"/>
                  <a:pt x="18366" y="7006"/>
                </a:cubicBezTo>
                <a:cubicBezTo>
                  <a:pt x="18347" y="7079"/>
                  <a:pt x="18309" y="7115"/>
                  <a:pt x="18290" y="7188"/>
                </a:cubicBezTo>
                <a:cubicBezTo>
                  <a:pt x="18271" y="7224"/>
                  <a:pt x="18271" y="7261"/>
                  <a:pt x="18233" y="7297"/>
                </a:cubicBezTo>
                <a:cubicBezTo>
                  <a:pt x="18214" y="7333"/>
                  <a:pt x="18195" y="7369"/>
                  <a:pt x="18195" y="7406"/>
                </a:cubicBezTo>
                <a:cubicBezTo>
                  <a:pt x="18177" y="7442"/>
                  <a:pt x="18139" y="7478"/>
                  <a:pt x="18101" y="7515"/>
                </a:cubicBezTo>
                <a:cubicBezTo>
                  <a:pt x="18101" y="7515"/>
                  <a:pt x="18063" y="7515"/>
                  <a:pt x="18063" y="7515"/>
                </a:cubicBezTo>
                <a:cubicBezTo>
                  <a:pt x="18063" y="7515"/>
                  <a:pt x="18063" y="7515"/>
                  <a:pt x="18044" y="7515"/>
                </a:cubicBezTo>
                <a:cubicBezTo>
                  <a:pt x="18025" y="7478"/>
                  <a:pt x="18025" y="7478"/>
                  <a:pt x="18006" y="7442"/>
                </a:cubicBezTo>
                <a:cubicBezTo>
                  <a:pt x="18006" y="7478"/>
                  <a:pt x="17987" y="7478"/>
                  <a:pt x="17987" y="7478"/>
                </a:cubicBezTo>
                <a:cubicBezTo>
                  <a:pt x="17987" y="7478"/>
                  <a:pt x="17987" y="7478"/>
                  <a:pt x="17987" y="7478"/>
                </a:cubicBezTo>
                <a:cubicBezTo>
                  <a:pt x="17987" y="7478"/>
                  <a:pt x="17987" y="7442"/>
                  <a:pt x="17987" y="7442"/>
                </a:cubicBezTo>
                <a:cubicBezTo>
                  <a:pt x="17987" y="7442"/>
                  <a:pt x="17987" y="7442"/>
                  <a:pt x="17968" y="7442"/>
                </a:cubicBezTo>
                <a:cubicBezTo>
                  <a:pt x="17968" y="7442"/>
                  <a:pt x="17855" y="7660"/>
                  <a:pt x="17855" y="7696"/>
                </a:cubicBezTo>
                <a:cubicBezTo>
                  <a:pt x="17855" y="7696"/>
                  <a:pt x="17855" y="7805"/>
                  <a:pt x="17855" y="7805"/>
                </a:cubicBezTo>
                <a:cubicBezTo>
                  <a:pt x="17836" y="7805"/>
                  <a:pt x="17836" y="7805"/>
                  <a:pt x="17836" y="7841"/>
                </a:cubicBezTo>
                <a:cubicBezTo>
                  <a:pt x="17817" y="7841"/>
                  <a:pt x="17798" y="7878"/>
                  <a:pt x="17798" y="7878"/>
                </a:cubicBezTo>
                <a:cubicBezTo>
                  <a:pt x="17760" y="7950"/>
                  <a:pt x="17741" y="7914"/>
                  <a:pt x="17723" y="7987"/>
                </a:cubicBezTo>
                <a:cubicBezTo>
                  <a:pt x="17723" y="7987"/>
                  <a:pt x="17723" y="8023"/>
                  <a:pt x="17723" y="8023"/>
                </a:cubicBezTo>
                <a:cubicBezTo>
                  <a:pt x="17723" y="8059"/>
                  <a:pt x="17741" y="8059"/>
                  <a:pt x="17760" y="8095"/>
                </a:cubicBezTo>
                <a:cubicBezTo>
                  <a:pt x="17779" y="8132"/>
                  <a:pt x="17817" y="8204"/>
                  <a:pt x="17836" y="8277"/>
                </a:cubicBezTo>
                <a:cubicBezTo>
                  <a:pt x="17836" y="8313"/>
                  <a:pt x="17817" y="8422"/>
                  <a:pt x="17836" y="8458"/>
                </a:cubicBezTo>
                <a:cubicBezTo>
                  <a:pt x="17836" y="8458"/>
                  <a:pt x="17855" y="8458"/>
                  <a:pt x="17855" y="8458"/>
                </a:cubicBezTo>
                <a:cubicBezTo>
                  <a:pt x="17836" y="8531"/>
                  <a:pt x="17836" y="8567"/>
                  <a:pt x="17817" y="8604"/>
                </a:cubicBezTo>
                <a:cubicBezTo>
                  <a:pt x="17798" y="8604"/>
                  <a:pt x="17798" y="8604"/>
                  <a:pt x="17798" y="8567"/>
                </a:cubicBezTo>
                <a:cubicBezTo>
                  <a:pt x="17779" y="8604"/>
                  <a:pt x="17779" y="8604"/>
                  <a:pt x="17779" y="8604"/>
                </a:cubicBezTo>
                <a:cubicBezTo>
                  <a:pt x="17760" y="8604"/>
                  <a:pt x="17760" y="8604"/>
                  <a:pt x="17741" y="8604"/>
                </a:cubicBezTo>
                <a:cubicBezTo>
                  <a:pt x="17723" y="8604"/>
                  <a:pt x="17704" y="8640"/>
                  <a:pt x="17685" y="8676"/>
                </a:cubicBezTo>
                <a:cubicBezTo>
                  <a:pt x="17685" y="8676"/>
                  <a:pt x="17666" y="8676"/>
                  <a:pt x="17666" y="8676"/>
                </a:cubicBezTo>
                <a:cubicBezTo>
                  <a:pt x="17666" y="8676"/>
                  <a:pt x="17666" y="8676"/>
                  <a:pt x="17666" y="8676"/>
                </a:cubicBezTo>
                <a:cubicBezTo>
                  <a:pt x="17666" y="8640"/>
                  <a:pt x="17647" y="8604"/>
                  <a:pt x="17647" y="8567"/>
                </a:cubicBezTo>
                <a:cubicBezTo>
                  <a:pt x="17647" y="8531"/>
                  <a:pt x="17685" y="8495"/>
                  <a:pt x="17666" y="8458"/>
                </a:cubicBezTo>
                <a:cubicBezTo>
                  <a:pt x="17666" y="8458"/>
                  <a:pt x="17666" y="8422"/>
                  <a:pt x="17666" y="8422"/>
                </a:cubicBezTo>
                <a:cubicBezTo>
                  <a:pt x="17666" y="8422"/>
                  <a:pt x="17666" y="8386"/>
                  <a:pt x="17666" y="8386"/>
                </a:cubicBezTo>
                <a:cubicBezTo>
                  <a:pt x="17647" y="8386"/>
                  <a:pt x="17647" y="8350"/>
                  <a:pt x="17628" y="8350"/>
                </a:cubicBezTo>
                <a:cubicBezTo>
                  <a:pt x="17628" y="8350"/>
                  <a:pt x="17628" y="8350"/>
                  <a:pt x="17647" y="8350"/>
                </a:cubicBezTo>
                <a:cubicBezTo>
                  <a:pt x="17647" y="8350"/>
                  <a:pt x="17647" y="8350"/>
                  <a:pt x="17666" y="8313"/>
                </a:cubicBezTo>
                <a:cubicBezTo>
                  <a:pt x="17666" y="8350"/>
                  <a:pt x="17666" y="8350"/>
                  <a:pt x="17685" y="8350"/>
                </a:cubicBezTo>
                <a:cubicBezTo>
                  <a:pt x="17685" y="8350"/>
                  <a:pt x="17685" y="8350"/>
                  <a:pt x="17685" y="8350"/>
                </a:cubicBezTo>
                <a:cubicBezTo>
                  <a:pt x="17685" y="8313"/>
                  <a:pt x="17666" y="8241"/>
                  <a:pt x="17647" y="8241"/>
                </a:cubicBezTo>
                <a:cubicBezTo>
                  <a:pt x="17647" y="8241"/>
                  <a:pt x="17647" y="8241"/>
                  <a:pt x="17628" y="8241"/>
                </a:cubicBezTo>
                <a:cubicBezTo>
                  <a:pt x="17628" y="8241"/>
                  <a:pt x="17628" y="8204"/>
                  <a:pt x="17609" y="8204"/>
                </a:cubicBezTo>
                <a:cubicBezTo>
                  <a:pt x="17609" y="8241"/>
                  <a:pt x="17590" y="8241"/>
                  <a:pt x="17590" y="8277"/>
                </a:cubicBezTo>
                <a:cubicBezTo>
                  <a:pt x="17590" y="8204"/>
                  <a:pt x="17571" y="8204"/>
                  <a:pt x="17552" y="8168"/>
                </a:cubicBezTo>
                <a:cubicBezTo>
                  <a:pt x="17571" y="8132"/>
                  <a:pt x="17590" y="8132"/>
                  <a:pt x="17590" y="8095"/>
                </a:cubicBezTo>
                <a:cubicBezTo>
                  <a:pt x="17590" y="8095"/>
                  <a:pt x="17590" y="8095"/>
                  <a:pt x="17571" y="8095"/>
                </a:cubicBezTo>
                <a:cubicBezTo>
                  <a:pt x="17571" y="8059"/>
                  <a:pt x="17590" y="8023"/>
                  <a:pt x="17590" y="7987"/>
                </a:cubicBezTo>
                <a:cubicBezTo>
                  <a:pt x="17571" y="7950"/>
                  <a:pt x="17533" y="7987"/>
                  <a:pt x="17515" y="7914"/>
                </a:cubicBezTo>
                <a:cubicBezTo>
                  <a:pt x="17515" y="7950"/>
                  <a:pt x="17477" y="7950"/>
                  <a:pt x="17458" y="7950"/>
                </a:cubicBezTo>
                <a:cubicBezTo>
                  <a:pt x="17439" y="7987"/>
                  <a:pt x="17401" y="7987"/>
                  <a:pt x="17382" y="8023"/>
                </a:cubicBezTo>
                <a:cubicBezTo>
                  <a:pt x="17363" y="8059"/>
                  <a:pt x="17344" y="8095"/>
                  <a:pt x="17325" y="8095"/>
                </a:cubicBezTo>
                <a:cubicBezTo>
                  <a:pt x="17344" y="8059"/>
                  <a:pt x="17363" y="8023"/>
                  <a:pt x="17363" y="7987"/>
                </a:cubicBezTo>
                <a:cubicBezTo>
                  <a:pt x="17363" y="7987"/>
                  <a:pt x="17363" y="7987"/>
                  <a:pt x="17344" y="7987"/>
                </a:cubicBezTo>
                <a:cubicBezTo>
                  <a:pt x="17344" y="7987"/>
                  <a:pt x="17344" y="7987"/>
                  <a:pt x="17344" y="7987"/>
                </a:cubicBezTo>
                <a:cubicBezTo>
                  <a:pt x="17344" y="7987"/>
                  <a:pt x="17344" y="7987"/>
                  <a:pt x="17344" y="7987"/>
                </a:cubicBezTo>
                <a:cubicBezTo>
                  <a:pt x="17363" y="7950"/>
                  <a:pt x="17382" y="7914"/>
                  <a:pt x="17401" y="7878"/>
                </a:cubicBezTo>
                <a:cubicBezTo>
                  <a:pt x="17401" y="7805"/>
                  <a:pt x="17363" y="7805"/>
                  <a:pt x="17325" y="7805"/>
                </a:cubicBezTo>
                <a:cubicBezTo>
                  <a:pt x="17306" y="7841"/>
                  <a:pt x="17306" y="7878"/>
                  <a:pt x="17288" y="7878"/>
                </a:cubicBezTo>
                <a:cubicBezTo>
                  <a:pt x="17269" y="7914"/>
                  <a:pt x="17250" y="7914"/>
                  <a:pt x="17231" y="7914"/>
                </a:cubicBezTo>
                <a:cubicBezTo>
                  <a:pt x="17212" y="7950"/>
                  <a:pt x="17212" y="7987"/>
                  <a:pt x="17212" y="8023"/>
                </a:cubicBezTo>
                <a:cubicBezTo>
                  <a:pt x="17193" y="8023"/>
                  <a:pt x="17193" y="8023"/>
                  <a:pt x="17174" y="8023"/>
                </a:cubicBezTo>
                <a:cubicBezTo>
                  <a:pt x="17174" y="8023"/>
                  <a:pt x="17174" y="8059"/>
                  <a:pt x="17155" y="8059"/>
                </a:cubicBezTo>
                <a:cubicBezTo>
                  <a:pt x="17155" y="8023"/>
                  <a:pt x="17155" y="8023"/>
                  <a:pt x="17155" y="8023"/>
                </a:cubicBezTo>
                <a:cubicBezTo>
                  <a:pt x="17136" y="8023"/>
                  <a:pt x="17136" y="8023"/>
                  <a:pt x="17136" y="8023"/>
                </a:cubicBezTo>
                <a:cubicBezTo>
                  <a:pt x="17117" y="8023"/>
                  <a:pt x="17117" y="8095"/>
                  <a:pt x="17117" y="8095"/>
                </a:cubicBezTo>
                <a:cubicBezTo>
                  <a:pt x="17117" y="8132"/>
                  <a:pt x="17117" y="8132"/>
                  <a:pt x="17117" y="8132"/>
                </a:cubicBezTo>
                <a:cubicBezTo>
                  <a:pt x="17136" y="8168"/>
                  <a:pt x="17174" y="8168"/>
                  <a:pt x="17193" y="8204"/>
                </a:cubicBezTo>
                <a:cubicBezTo>
                  <a:pt x="17193" y="8241"/>
                  <a:pt x="17193" y="8277"/>
                  <a:pt x="17212" y="8313"/>
                </a:cubicBezTo>
                <a:cubicBezTo>
                  <a:pt x="17212" y="8313"/>
                  <a:pt x="17231" y="8313"/>
                  <a:pt x="17250" y="8313"/>
                </a:cubicBezTo>
                <a:cubicBezTo>
                  <a:pt x="17269" y="8277"/>
                  <a:pt x="17288" y="8204"/>
                  <a:pt x="17306" y="8241"/>
                </a:cubicBezTo>
                <a:cubicBezTo>
                  <a:pt x="17325" y="8241"/>
                  <a:pt x="17344" y="8277"/>
                  <a:pt x="17363" y="8277"/>
                </a:cubicBezTo>
                <a:cubicBezTo>
                  <a:pt x="17382" y="8277"/>
                  <a:pt x="17401" y="8277"/>
                  <a:pt x="17420" y="8277"/>
                </a:cubicBezTo>
                <a:cubicBezTo>
                  <a:pt x="17401" y="8313"/>
                  <a:pt x="17401" y="8313"/>
                  <a:pt x="17401" y="8350"/>
                </a:cubicBezTo>
                <a:cubicBezTo>
                  <a:pt x="17363" y="8350"/>
                  <a:pt x="17325" y="8350"/>
                  <a:pt x="17306" y="8422"/>
                </a:cubicBezTo>
                <a:cubicBezTo>
                  <a:pt x="17306" y="8422"/>
                  <a:pt x="17306" y="8422"/>
                  <a:pt x="17306" y="8458"/>
                </a:cubicBezTo>
                <a:cubicBezTo>
                  <a:pt x="17288" y="8458"/>
                  <a:pt x="17288" y="8458"/>
                  <a:pt x="17288" y="8458"/>
                </a:cubicBezTo>
                <a:cubicBezTo>
                  <a:pt x="17288" y="8458"/>
                  <a:pt x="17269" y="8458"/>
                  <a:pt x="17269" y="8422"/>
                </a:cubicBezTo>
                <a:cubicBezTo>
                  <a:pt x="17269" y="8422"/>
                  <a:pt x="17269" y="8422"/>
                  <a:pt x="17269" y="8458"/>
                </a:cubicBezTo>
                <a:cubicBezTo>
                  <a:pt x="17269" y="8531"/>
                  <a:pt x="17212" y="8531"/>
                  <a:pt x="17212" y="8640"/>
                </a:cubicBezTo>
                <a:cubicBezTo>
                  <a:pt x="17231" y="8640"/>
                  <a:pt x="17269" y="8713"/>
                  <a:pt x="17269" y="8749"/>
                </a:cubicBezTo>
                <a:cubicBezTo>
                  <a:pt x="17288" y="8785"/>
                  <a:pt x="17288" y="8785"/>
                  <a:pt x="17288" y="8822"/>
                </a:cubicBezTo>
                <a:cubicBezTo>
                  <a:pt x="17288" y="8822"/>
                  <a:pt x="17306" y="8858"/>
                  <a:pt x="17306" y="8858"/>
                </a:cubicBezTo>
                <a:cubicBezTo>
                  <a:pt x="17306" y="8894"/>
                  <a:pt x="17306" y="8894"/>
                  <a:pt x="17306" y="8930"/>
                </a:cubicBezTo>
                <a:cubicBezTo>
                  <a:pt x="17325" y="8930"/>
                  <a:pt x="17325" y="8930"/>
                  <a:pt x="17325" y="8930"/>
                </a:cubicBezTo>
                <a:cubicBezTo>
                  <a:pt x="17344" y="8967"/>
                  <a:pt x="17344" y="8967"/>
                  <a:pt x="17344" y="8967"/>
                </a:cubicBezTo>
                <a:cubicBezTo>
                  <a:pt x="17344" y="9003"/>
                  <a:pt x="17363" y="9003"/>
                  <a:pt x="17363" y="9003"/>
                </a:cubicBezTo>
                <a:cubicBezTo>
                  <a:pt x="17363" y="9039"/>
                  <a:pt x="17363" y="9039"/>
                  <a:pt x="17363" y="9039"/>
                </a:cubicBezTo>
                <a:cubicBezTo>
                  <a:pt x="17363" y="9039"/>
                  <a:pt x="17344" y="9039"/>
                  <a:pt x="17344" y="9076"/>
                </a:cubicBezTo>
                <a:cubicBezTo>
                  <a:pt x="17363" y="9076"/>
                  <a:pt x="17363" y="9112"/>
                  <a:pt x="17363" y="9148"/>
                </a:cubicBezTo>
                <a:cubicBezTo>
                  <a:pt x="17344" y="9185"/>
                  <a:pt x="17288" y="9221"/>
                  <a:pt x="17269" y="9257"/>
                </a:cubicBezTo>
                <a:cubicBezTo>
                  <a:pt x="17269" y="9257"/>
                  <a:pt x="17269" y="9257"/>
                  <a:pt x="17269" y="9257"/>
                </a:cubicBezTo>
                <a:cubicBezTo>
                  <a:pt x="17288" y="9257"/>
                  <a:pt x="17306" y="9221"/>
                  <a:pt x="17344" y="9221"/>
                </a:cubicBezTo>
                <a:cubicBezTo>
                  <a:pt x="17344" y="9257"/>
                  <a:pt x="17363" y="9257"/>
                  <a:pt x="17382" y="9257"/>
                </a:cubicBezTo>
                <a:cubicBezTo>
                  <a:pt x="17382" y="9293"/>
                  <a:pt x="17382" y="9293"/>
                  <a:pt x="17382" y="9293"/>
                </a:cubicBezTo>
                <a:cubicBezTo>
                  <a:pt x="17363" y="9293"/>
                  <a:pt x="17363" y="9330"/>
                  <a:pt x="17344" y="9330"/>
                </a:cubicBezTo>
                <a:cubicBezTo>
                  <a:pt x="17344" y="9330"/>
                  <a:pt x="17344" y="9330"/>
                  <a:pt x="17363" y="9330"/>
                </a:cubicBezTo>
                <a:cubicBezTo>
                  <a:pt x="17363" y="9330"/>
                  <a:pt x="17363" y="9330"/>
                  <a:pt x="17363" y="9330"/>
                </a:cubicBezTo>
                <a:cubicBezTo>
                  <a:pt x="17363" y="9366"/>
                  <a:pt x="17344" y="9475"/>
                  <a:pt x="17344" y="9475"/>
                </a:cubicBezTo>
                <a:cubicBezTo>
                  <a:pt x="17344" y="9475"/>
                  <a:pt x="17325" y="9475"/>
                  <a:pt x="17325" y="9475"/>
                </a:cubicBezTo>
                <a:cubicBezTo>
                  <a:pt x="17325" y="9475"/>
                  <a:pt x="17325" y="9475"/>
                  <a:pt x="17325" y="9475"/>
                </a:cubicBezTo>
                <a:cubicBezTo>
                  <a:pt x="17325" y="9511"/>
                  <a:pt x="17269" y="9656"/>
                  <a:pt x="17269" y="9656"/>
                </a:cubicBezTo>
                <a:cubicBezTo>
                  <a:pt x="17250" y="9693"/>
                  <a:pt x="17231" y="9693"/>
                  <a:pt x="17231" y="9693"/>
                </a:cubicBezTo>
                <a:cubicBezTo>
                  <a:pt x="17231" y="9729"/>
                  <a:pt x="17231" y="9802"/>
                  <a:pt x="17231" y="9802"/>
                </a:cubicBezTo>
                <a:cubicBezTo>
                  <a:pt x="17231" y="9838"/>
                  <a:pt x="17212" y="9838"/>
                  <a:pt x="17212" y="9838"/>
                </a:cubicBezTo>
                <a:cubicBezTo>
                  <a:pt x="17212" y="9874"/>
                  <a:pt x="17193" y="9874"/>
                  <a:pt x="17193" y="9911"/>
                </a:cubicBezTo>
                <a:cubicBezTo>
                  <a:pt x="17193" y="9911"/>
                  <a:pt x="17174" y="9947"/>
                  <a:pt x="17155" y="9947"/>
                </a:cubicBezTo>
                <a:cubicBezTo>
                  <a:pt x="17155" y="9947"/>
                  <a:pt x="17136" y="9947"/>
                  <a:pt x="17136" y="9947"/>
                </a:cubicBezTo>
                <a:cubicBezTo>
                  <a:pt x="17136" y="9947"/>
                  <a:pt x="17136" y="9947"/>
                  <a:pt x="17136" y="9947"/>
                </a:cubicBezTo>
                <a:cubicBezTo>
                  <a:pt x="17136" y="9983"/>
                  <a:pt x="17136" y="9983"/>
                  <a:pt x="17136" y="10019"/>
                </a:cubicBezTo>
                <a:cubicBezTo>
                  <a:pt x="17117" y="10019"/>
                  <a:pt x="17117" y="10056"/>
                  <a:pt x="17098" y="10056"/>
                </a:cubicBezTo>
                <a:cubicBezTo>
                  <a:pt x="17079" y="10092"/>
                  <a:pt x="17061" y="10092"/>
                  <a:pt x="17042" y="10128"/>
                </a:cubicBezTo>
                <a:cubicBezTo>
                  <a:pt x="17042" y="10128"/>
                  <a:pt x="17042" y="10128"/>
                  <a:pt x="17042" y="10165"/>
                </a:cubicBezTo>
                <a:cubicBezTo>
                  <a:pt x="17023" y="10165"/>
                  <a:pt x="17004" y="10165"/>
                  <a:pt x="17004" y="10201"/>
                </a:cubicBezTo>
                <a:cubicBezTo>
                  <a:pt x="16985" y="10165"/>
                  <a:pt x="16985" y="10165"/>
                  <a:pt x="16966" y="10165"/>
                </a:cubicBezTo>
                <a:cubicBezTo>
                  <a:pt x="16966" y="10201"/>
                  <a:pt x="16947" y="10201"/>
                  <a:pt x="16928" y="10201"/>
                </a:cubicBezTo>
                <a:cubicBezTo>
                  <a:pt x="16928" y="10201"/>
                  <a:pt x="16928" y="10201"/>
                  <a:pt x="16928" y="10201"/>
                </a:cubicBezTo>
                <a:cubicBezTo>
                  <a:pt x="16890" y="10201"/>
                  <a:pt x="16890" y="10237"/>
                  <a:pt x="16871" y="10165"/>
                </a:cubicBezTo>
                <a:cubicBezTo>
                  <a:pt x="16871" y="10165"/>
                  <a:pt x="16871" y="10165"/>
                  <a:pt x="16871" y="10165"/>
                </a:cubicBezTo>
                <a:cubicBezTo>
                  <a:pt x="16853" y="10201"/>
                  <a:pt x="16871" y="10237"/>
                  <a:pt x="16834" y="10274"/>
                </a:cubicBezTo>
                <a:cubicBezTo>
                  <a:pt x="16834" y="10274"/>
                  <a:pt x="16834" y="10274"/>
                  <a:pt x="16834" y="10274"/>
                </a:cubicBezTo>
                <a:cubicBezTo>
                  <a:pt x="16834" y="10274"/>
                  <a:pt x="16815" y="10274"/>
                  <a:pt x="16815" y="10310"/>
                </a:cubicBezTo>
                <a:cubicBezTo>
                  <a:pt x="16815" y="10310"/>
                  <a:pt x="16796" y="10310"/>
                  <a:pt x="16777" y="10310"/>
                </a:cubicBezTo>
                <a:cubicBezTo>
                  <a:pt x="16777" y="10310"/>
                  <a:pt x="16777" y="10310"/>
                  <a:pt x="16758" y="10310"/>
                </a:cubicBezTo>
                <a:cubicBezTo>
                  <a:pt x="16758" y="10310"/>
                  <a:pt x="16758" y="10310"/>
                  <a:pt x="16739" y="10346"/>
                </a:cubicBezTo>
                <a:cubicBezTo>
                  <a:pt x="16739" y="10346"/>
                  <a:pt x="16720" y="10346"/>
                  <a:pt x="16720" y="10346"/>
                </a:cubicBezTo>
                <a:cubicBezTo>
                  <a:pt x="16701" y="10346"/>
                  <a:pt x="16701" y="10346"/>
                  <a:pt x="16682" y="10346"/>
                </a:cubicBezTo>
                <a:cubicBezTo>
                  <a:pt x="16682" y="10346"/>
                  <a:pt x="16663" y="10346"/>
                  <a:pt x="16663" y="10346"/>
                </a:cubicBezTo>
                <a:cubicBezTo>
                  <a:pt x="16663" y="10346"/>
                  <a:pt x="16663" y="10346"/>
                  <a:pt x="16663" y="10346"/>
                </a:cubicBezTo>
                <a:cubicBezTo>
                  <a:pt x="16663" y="10383"/>
                  <a:pt x="16663" y="10383"/>
                  <a:pt x="16663" y="10419"/>
                </a:cubicBezTo>
                <a:cubicBezTo>
                  <a:pt x="16663" y="10419"/>
                  <a:pt x="16663" y="10455"/>
                  <a:pt x="16682" y="10455"/>
                </a:cubicBezTo>
                <a:cubicBezTo>
                  <a:pt x="16682" y="10455"/>
                  <a:pt x="16682" y="10455"/>
                  <a:pt x="16682" y="10455"/>
                </a:cubicBezTo>
                <a:cubicBezTo>
                  <a:pt x="16663" y="10455"/>
                  <a:pt x="16663" y="10491"/>
                  <a:pt x="16644" y="10491"/>
                </a:cubicBezTo>
                <a:cubicBezTo>
                  <a:pt x="16644" y="10455"/>
                  <a:pt x="16626" y="10419"/>
                  <a:pt x="16626" y="10419"/>
                </a:cubicBezTo>
                <a:cubicBezTo>
                  <a:pt x="16626" y="10383"/>
                  <a:pt x="16644" y="10346"/>
                  <a:pt x="16626" y="10310"/>
                </a:cubicBezTo>
                <a:cubicBezTo>
                  <a:pt x="16626" y="10310"/>
                  <a:pt x="16626" y="10310"/>
                  <a:pt x="16626" y="10310"/>
                </a:cubicBezTo>
                <a:cubicBezTo>
                  <a:pt x="16607" y="10310"/>
                  <a:pt x="16607" y="10346"/>
                  <a:pt x="16607" y="10346"/>
                </a:cubicBezTo>
                <a:cubicBezTo>
                  <a:pt x="16569" y="10346"/>
                  <a:pt x="16569" y="10310"/>
                  <a:pt x="16569" y="10274"/>
                </a:cubicBezTo>
                <a:cubicBezTo>
                  <a:pt x="16550" y="10274"/>
                  <a:pt x="16550" y="10274"/>
                  <a:pt x="16550" y="10274"/>
                </a:cubicBezTo>
                <a:cubicBezTo>
                  <a:pt x="16550" y="10310"/>
                  <a:pt x="16550" y="10310"/>
                  <a:pt x="16550" y="10310"/>
                </a:cubicBezTo>
                <a:cubicBezTo>
                  <a:pt x="16550" y="10346"/>
                  <a:pt x="16531" y="10310"/>
                  <a:pt x="16531" y="10346"/>
                </a:cubicBezTo>
                <a:cubicBezTo>
                  <a:pt x="16512" y="10346"/>
                  <a:pt x="16493" y="10346"/>
                  <a:pt x="16493" y="10383"/>
                </a:cubicBezTo>
                <a:cubicBezTo>
                  <a:pt x="16493" y="10383"/>
                  <a:pt x="16493" y="10383"/>
                  <a:pt x="16493" y="10419"/>
                </a:cubicBezTo>
                <a:cubicBezTo>
                  <a:pt x="16474" y="10383"/>
                  <a:pt x="16455" y="10419"/>
                  <a:pt x="16455" y="10419"/>
                </a:cubicBezTo>
                <a:cubicBezTo>
                  <a:pt x="16455" y="10491"/>
                  <a:pt x="16418" y="10491"/>
                  <a:pt x="16399" y="10528"/>
                </a:cubicBezTo>
                <a:cubicBezTo>
                  <a:pt x="16399" y="10564"/>
                  <a:pt x="16380" y="10600"/>
                  <a:pt x="16380" y="10673"/>
                </a:cubicBezTo>
                <a:cubicBezTo>
                  <a:pt x="16399" y="10709"/>
                  <a:pt x="16418" y="10709"/>
                  <a:pt x="16418" y="10746"/>
                </a:cubicBezTo>
                <a:cubicBezTo>
                  <a:pt x="16436" y="10782"/>
                  <a:pt x="16418" y="10818"/>
                  <a:pt x="16436" y="10854"/>
                </a:cubicBezTo>
                <a:cubicBezTo>
                  <a:pt x="16455" y="10854"/>
                  <a:pt x="16455" y="10854"/>
                  <a:pt x="16474" y="10891"/>
                </a:cubicBezTo>
                <a:cubicBezTo>
                  <a:pt x="16493" y="10927"/>
                  <a:pt x="16493" y="10927"/>
                  <a:pt x="16512" y="10963"/>
                </a:cubicBezTo>
                <a:cubicBezTo>
                  <a:pt x="16531" y="10963"/>
                  <a:pt x="16531" y="10963"/>
                  <a:pt x="16550" y="11000"/>
                </a:cubicBezTo>
                <a:cubicBezTo>
                  <a:pt x="16550" y="11000"/>
                  <a:pt x="16550" y="11036"/>
                  <a:pt x="16550" y="11036"/>
                </a:cubicBezTo>
                <a:cubicBezTo>
                  <a:pt x="16550" y="11072"/>
                  <a:pt x="16569" y="11072"/>
                  <a:pt x="16569" y="11109"/>
                </a:cubicBezTo>
                <a:cubicBezTo>
                  <a:pt x="16588" y="11217"/>
                  <a:pt x="16607" y="11290"/>
                  <a:pt x="16607" y="11363"/>
                </a:cubicBezTo>
                <a:cubicBezTo>
                  <a:pt x="16607" y="11399"/>
                  <a:pt x="16607" y="11399"/>
                  <a:pt x="16588" y="11435"/>
                </a:cubicBezTo>
                <a:cubicBezTo>
                  <a:pt x="16588" y="11472"/>
                  <a:pt x="16588" y="11508"/>
                  <a:pt x="16588" y="11544"/>
                </a:cubicBezTo>
                <a:cubicBezTo>
                  <a:pt x="16588" y="11581"/>
                  <a:pt x="16550" y="11581"/>
                  <a:pt x="16531" y="11617"/>
                </a:cubicBezTo>
                <a:cubicBezTo>
                  <a:pt x="16512" y="11653"/>
                  <a:pt x="16493" y="11726"/>
                  <a:pt x="16455" y="11653"/>
                </a:cubicBezTo>
                <a:cubicBezTo>
                  <a:pt x="16455" y="11653"/>
                  <a:pt x="16455" y="11653"/>
                  <a:pt x="16455" y="11653"/>
                </a:cubicBezTo>
                <a:cubicBezTo>
                  <a:pt x="16455" y="11689"/>
                  <a:pt x="16455" y="11762"/>
                  <a:pt x="16436" y="11762"/>
                </a:cubicBezTo>
                <a:cubicBezTo>
                  <a:pt x="16436" y="11762"/>
                  <a:pt x="16418" y="11762"/>
                  <a:pt x="16418" y="11762"/>
                </a:cubicBezTo>
                <a:cubicBezTo>
                  <a:pt x="16418" y="11798"/>
                  <a:pt x="16418" y="11798"/>
                  <a:pt x="16399" y="11835"/>
                </a:cubicBezTo>
                <a:cubicBezTo>
                  <a:pt x="16399" y="11835"/>
                  <a:pt x="16380" y="11835"/>
                  <a:pt x="16380" y="11835"/>
                </a:cubicBezTo>
                <a:cubicBezTo>
                  <a:pt x="16361" y="11871"/>
                  <a:pt x="16361" y="11907"/>
                  <a:pt x="16323" y="11907"/>
                </a:cubicBezTo>
                <a:cubicBezTo>
                  <a:pt x="16323" y="11835"/>
                  <a:pt x="16323" y="11762"/>
                  <a:pt x="16342" y="11726"/>
                </a:cubicBezTo>
                <a:cubicBezTo>
                  <a:pt x="16342" y="11726"/>
                  <a:pt x="16342" y="11726"/>
                  <a:pt x="16342" y="11726"/>
                </a:cubicBezTo>
                <a:cubicBezTo>
                  <a:pt x="16323" y="11689"/>
                  <a:pt x="16304" y="11689"/>
                  <a:pt x="16285" y="11653"/>
                </a:cubicBezTo>
                <a:cubicBezTo>
                  <a:pt x="16285" y="11653"/>
                  <a:pt x="16266" y="11653"/>
                  <a:pt x="16266" y="11653"/>
                </a:cubicBezTo>
                <a:cubicBezTo>
                  <a:pt x="16247" y="11653"/>
                  <a:pt x="16247" y="11653"/>
                  <a:pt x="16247" y="11653"/>
                </a:cubicBezTo>
                <a:cubicBezTo>
                  <a:pt x="16266" y="11617"/>
                  <a:pt x="16266" y="11617"/>
                  <a:pt x="16247" y="11617"/>
                </a:cubicBezTo>
                <a:cubicBezTo>
                  <a:pt x="16228" y="11617"/>
                  <a:pt x="16228" y="11617"/>
                  <a:pt x="16228" y="11617"/>
                </a:cubicBezTo>
                <a:cubicBezTo>
                  <a:pt x="16228" y="11617"/>
                  <a:pt x="16228" y="11617"/>
                  <a:pt x="16228" y="11617"/>
                </a:cubicBezTo>
                <a:cubicBezTo>
                  <a:pt x="16209" y="11581"/>
                  <a:pt x="16209" y="11508"/>
                  <a:pt x="16191" y="11472"/>
                </a:cubicBezTo>
                <a:cubicBezTo>
                  <a:pt x="16191" y="11472"/>
                  <a:pt x="16191" y="11472"/>
                  <a:pt x="16172" y="11472"/>
                </a:cubicBezTo>
                <a:cubicBezTo>
                  <a:pt x="16172" y="11435"/>
                  <a:pt x="16153" y="11435"/>
                  <a:pt x="16153" y="11399"/>
                </a:cubicBezTo>
                <a:cubicBezTo>
                  <a:pt x="16134" y="11399"/>
                  <a:pt x="16134" y="11435"/>
                  <a:pt x="16115" y="11399"/>
                </a:cubicBezTo>
                <a:cubicBezTo>
                  <a:pt x="16096" y="11399"/>
                  <a:pt x="16096" y="11399"/>
                  <a:pt x="16096" y="11399"/>
                </a:cubicBezTo>
                <a:cubicBezTo>
                  <a:pt x="16096" y="11363"/>
                  <a:pt x="16096" y="11326"/>
                  <a:pt x="16096" y="11326"/>
                </a:cubicBezTo>
                <a:cubicBezTo>
                  <a:pt x="16058" y="11290"/>
                  <a:pt x="16058" y="11290"/>
                  <a:pt x="16020" y="11326"/>
                </a:cubicBezTo>
                <a:cubicBezTo>
                  <a:pt x="16039" y="11363"/>
                  <a:pt x="16020" y="11399"/>
                  <a:pt x="16020" y="11435"/>
                </a:cubicBezTo>
                <a:cubicBezTo>
                  <a:pt x="16020" y="11435"/>
                  <a:pt x="16020" y="11472"/>
                  <a:pt x="16020" y="11472"/>
                </a:cubicBezTo>
                <a:cubicBezTo>
                  <a:pt x="16020" y="11544"/>
                  <a:pt x="15964" y="11726"/>
                  <a:pt x="15982" y="11835"/>
                </a:cubicBezTo>
                <a:cubicBezTo>
                  <a:pt x="16001" y="11835"/>
                  <a:pt x="16020" y="11798"/>
                  <a:pt x="16020" y="11798"/>
                </a:cubicBezTo>
                <a:cubicBezTo>
                  <a:pt x="16020" y="11835"/>
                  <a:pt x="16020" y="11871"/>
                  <a:pt x="16039" y="11907"/>
                </a:cubicBezTo>
                <a:cubicBezTo>
                  <a:pt x="16039" y="11907"/>
                  <a:pt x="16039" y="11907"/>
                  <a:pt x="16039" y="11907"/>
                </a:cubicBezTo>
                <a:cubicBezTo>
                  <a:pt x="16058" y="12016"/>
                  <a:pt x="16039" y="12125"/>
                  <a:pt x="16134" y="12089"/>
                </a:cubicBezTo>
                <a:cubicBezTo>
                  <a:pt x="16134" y="12125"/>
                  <a:pt x="16153" y="12161"/>
                  <a:pt x="16153" y="12198"/>
                </a:cubicBezTo>
                <a:cubicBezTo>
                  <a:pt x="16172" y="12198"/>
                  <a:pt x="16172" y="12198"/>
                  <a:pt x="16172" y="12198"/>
                </a:cubicBezTo>
                <a:cubicBezTo>
                  <a:pt x="16191" y="12234"/>
                  <a:pt x="16209" y="12270"/>
                  <a:pt x="16209" y="12307"/>
                </a:cubicBezTo>
                <a:cubicBezTo>
                  <a:pt x="16228" y="12307"/>
                  <a:pt x="16228" y="12307"/>
                  <a:pt x="16247" y="12343"/>
                </a:cubicBezTo>
                <a:cubicBezTo>
                  <a:pt x="16247" y="12415"/>
                  <a:pt x="16247" y="12488"/>
                  <a:pt x="16247" y="12561"/>
                </a:cubicBezTo>
                <a:cubicBezTo>
                  <a:pt x="16247" y="12597"/>
                  <a:pt x="16266" y="12633"/>
                  <a:pt x="16266" y="12633"/>
                </a:cubicBezTo>
                <a:cubicBezTo>
                  <a:pt x="16266" y="12670"/>
                  <a:pt x="16285" y="12706"/>
                  <a:pt x="16285" y="12742"/>
                </a:cubicBezTo>
                <a:cubicBezTo>
                  <a:pt x="16266" y="12742"/>
                  <a:pt x="16266" y="12742"/>
                  <a:pt x="16247" y="12742"/>
                </a:cubicBezTo>
                <a:cubicBezTo>
                  <a:pt x="16209" y="12706"/>
                  <a:pt x="16191" y="12670"/>
                  <a:pt x="16172" y="12633"/>
                </a:cubicBezTo>
                <a:cubicBezTo>
                  <a:pt x="16153" y="12633"/>
                  <a:pt x="16134" y="12597"/>
                  <a:pt x="16115" y="12597"/>
                </a:cubicBezTo>
                <a:cubicBezTo>
                  <a:pt x="16115" y="12561"/>
                  <a:pt x="16115" y="12524"/>
                  <a:pt x="16096" y="12488"/>
                </a:cubicBezTo>
                <a:cubicBezTo>
                  <a:pt x="16096" y="12488"/>
                  <a:pt x="16077" y="12452"/>
                  <a:pt x="16077" y="12452"/>
                </a:cubicBezTo>
                <a:cubicBezTo>
                  <a:pt x="16058" y="12415"/>
                  <a:pt x="16077" y="12415"/>
                  <a:pt x="16077" y="12379"/>
                </a:cubicBezTo>
                <a:cubicBezTo>
                  <a:pt x="16058" y="12343"/>
                  <a:pt x="16058" y="12343"/>
                  <a:pt x="16058" y="12307"/>
                </a:cubicBezTo>
                <a:cubicBezTo>
                  <a:pt x="16039" y="12270"/>
                  <a:pt x="16039" y="12198"/>
                  <a:pt x="16039" y="12125"/>
                </a:cubicBezTo>
                <a:cubicBezTo>
                  <a:pt x="16039" y="12125"/>
                  <a:pt x="16039" y="12125"/>
                  <a:pt x="16039" y="12125"/>
                </a:cubicBezTo>
                <a:cubicBezTo>
                  <a:pt x="16039" y="12125"/>
                  <a:pt x="16020" y="12161"/>
                  <a:pt x="16020" y="12125"/>
                </a:cubicBezTo>
                <a:cubicBezTo>
                  <a:pt x="16020" y="12125"/>
                  <a:pt x="16020" y="12125"/>
                  <a:pt x="16020" y="12125"/>
                </a:cubicBezTo>
                <a:cubicBezTo>
                  <a:pt x="16020" y="12089"/>
                  <a:pt x="16001" y="12052"/>
                  <a:pt x="16001" y="12052"/>
                </a:cubicBezTo>
                <a:cubicBezTo>
                  <a:pt x="16001" y="12052"/>
                  <a:pt x="16001" y="12052"/>
                  <a:pt x="15982" y="12052"/>
                </a:cubicBezTo>
                <a:cubicBezTo>
                  <a:pt x="15982" y="11980"/>
                  <a:pt x="15964" y="11980"/>
                  <a:pt x="15945" y="11944"/>
                </a:cubicBezTo>
                <a:cubicBezTo>
                  <a:pt x="15945" y="11944"/>
                  <a:pt x="15926" y="11944"/>
                  <a:pt x="15926" y="11944"/>
                </a:cubicBezTo>
                <a:cubicBezTo>
                  <a:pt x="15907" y="11871"/>
                  <a:pt x="15945" y="11762"/>
                  <a:pt x="15945" y="11726"/>
                </a:cubicBezTo>
                <a:cubicBezTo>
                  <a:pt x="15945" y="11689"/>
                  <a:pt x="15945" y="11689"/>
                  <a:pt x="15945" y="11689"/>
                </a:cubicBezTo>
                <a:cubicBezTo>
                  <a:pt x="15926" y="11653"/>
                  <a:pt x="15964" y="11544"/>
                  <a:pt x="15964" y="11544"/>
                </a:cubicBezTo>
                <a:cubicBezTo>
                  <a:pt x="15964" y="11544"/>
                  <a:pt x="15945" y="11544"/>
                  <a:pt x="15945" y="11508"/>
                </a:cubicBezTo>
                <a:cubicBezTo>
                  <a:pt x="15945" y="11472"/>
                  <a:pt x="15945" y="11399"/>
                  <a:pt x="15945" y="11363"/>
                </a:cubicBezTo>
                <a:cubicBezTo>
                  <a:pt x="15926" y="11290"/>
                  <a:pt x="15907" y="11217"/>
                  <a:pt x="15907" y="11181"/>
                </a:cubicBezTo>
                <a:cubicBezTo>
                  <a:pt x="15888" y="11109"/>
                  <a:pt x="15888" y="11036"/>
                  <a:pt x="15888" y="10963"/>
                </a:cubicBezTo>
                <a:cubicBezTo>
                  <a:pt x="15869" y="10927"/>
                  <a:pt x="15869" y="10854"/>
                  <a:pt x="15850" y="10854"/>
                </a:cubicBezTo>
                <a:cubicBezTo>
                  <a:pt x="15831" y="10854"/>
                  <a:pt x="15831" y="10854"/>
                  <a:pt x="15831" y="10854"/>
                </a:cubicBezTo>
                <a:cubicBezTo>
                  <a:pt x="15831" y="10963"/>
                  <a:pt x="15812" y="10927"/>
                  <a:pt x="15774" y="10963"/>
                </a:cubicBezTo>
                <a:cubicBezTo>
                  <a:pt x="15756" y="11000"/>
                  <a:pt x="15756" y="11072"/>
                  <a:pt x="15737" y="11036"/>
                </a:cubicBezTo>
                <a:cubicBezTo>
                  <a:pt x="15737" y="11036"/>
                  <a:pt x="15737" y="11000"/>
                  <a:pt x="15737" y="11000"/>
                </a:cubicBezTo>
                <a:cubicBezTo>
                  <a:pt x="15737" y="11000"/>
                  <a:pt x="15737" y="11000"/>
                  <a:pt x="15718" y="11036"/>
                </a:cubicBezTo>
                <a:cubicBezTo>
                  <a:pt x="15718" y="11036"/>
                  <a:pt x="15718" y="11036"/>
                  <a:pt x="15718" y="11036"/>
                </a:cubicBezTo>
                <a:cubicBezTo>
                  <a:pt x="15718" y="11036"/>
                  <a:pt x="15718" y="11000"/>
                  <a:pt x="15718" y="11000"/>
                </a:cubicBezTo>
                <a:cubicBezTo>
                  <a:pt x="15718" y="11000"/>
                  <a:pt x="15718" y="11000"/>
                  <a:pt x="15718" y="10963"/>
                </a:cubicBezTo>
                <a:cubicBezTo>
                  <a:pt x="15699" y="11000"/>
                  <a:pt x="15699" y="11000"/>
                  <a:pt x="15680" y="11000"/>
                </a:cubicBezTo>
                <a:cubicBezTo>
                  <a:pt x="15680" y="11000"/>
                  <a:pt x="15680" y="11000"/>
                  <a:pt x="15680" y="11000"/>
                </a:cubicBezTo>
                <a:cubicBezTo>
                  <a:pt x="15680" y="10927"/>
                  <a:pt x="15699" y="10891"/>
                  <a:pt x="15699" y="10854"/>
                </a:cubicBezTo>
                <a:cubicBezTo>
                  <a:pt x="15699" y="10746"/>
                  <a:pt x="15680" y="10673"/>
                  <a:pt x="15661" y="10600"/>
                </a:cubicBezTo>
                <a:cubicBezTo>
                  <a:pt x="15661" y="10600"/>
                  <a:pt x="15661" y="10600"/>
                  <a:pt x="15661" y="10600"/>
                </a:cubicBezTo>
                <a:cubicBezTo>
                  <a:pt x="15661" y="10637"/>
                  <a:pt x="15661" y="10637"/>
                  <a:pt x="15661" y="10637"/>
                </a:cubicBezTo>
                <a:cubicBezTo>
                  <a:pt x="15642" y="10637"/>
                  <a:pt x="15642" y="10637"/>
                  <a:pt x="15623" y="10600"/>
                </a:cubicBezTo>
                <a:cubicBezTo>
                  <a:pt x="15642" y="10600"/>
                  <a:pt x="15642" y="10600"/>
                  <a:pt x="15661" y="10600"/>
                </a:cubicBezTo>
                <a:cubicBezTo>
                  <a:pt x="15661" y="10600"/>
                  <a:pt x="15661" y="10600"/>
                  <a:pt x="15661" y="10600"/>
                </a:cubicBezTo>
                <a:cubicBezTo>
                  <a:pt x="15642" y="10564"/>
                  <a:pt x="15642" y="10528"/>
                  <a:pt x="15623" y="10528"/>
                </a:cubicBezTo>
                <a:cubicBezTo>
                  <a:pt x="15623" y="10491"/>
                  <a:pt x="15604" y="10528"/>
                  <a:pt x="15604" y="10491"/>
                </a:cubicBezTo>
                <a:cubicBezTo>
                  <a:pt x="15604" y="10491"/>
                  <a:pt x="15604" y="10491"/>
                  <a:pt x="15604" y="10455"/>
                </a:cubicBezTo>
                <a:cubicBezTo>
                  <a:pt x="15585" y="10455"/>
                  <a:pt x="15585" y="10455"/>
                  <a:pt x="15585" y="10455"/>
                </a:cubicBezTo>
                <a:cubicBezTo>
                  <a:pt x="15529" y="10419"/>
                  <a:pt x="15547" y="10237"/>
                  <a:pt x="15510" y="10165"/>
                </a:cubicBezTo>
                <a:cubicBezTo>
                  <a:pt x="15491" y="10201"/>
                  <a:pt x="15491" y="10201"/>
                  <a:pt x="15472" y="10201"/>
                </a:cubicBezTo>
                <a:cubicBezTo>
                  <a:pt x="15472" y="10165"/>
                  <a:pt x="15453" y="10165"/>
                  <a:pt x="15453" y="10128"/>
                </a:cubicBezTo>
                <a:cubicBezTo>
                  <a:pt x="15453" y="10128"/>
                  <a:pt x="15453" y="10165"/>
                  <a:pt x="15453" y="10165"/>
                </a:cubicBezTo>
                <a:cubicBezTo>
                  <a:pt x="15453" y="10165"/>
                  <a:pt x="15453" y="10165"/>
                  <a:pt x="15453" y="10165"/>
                </a:cubicBezTo>
                <a:cubicBezTo>
                  <a:pt x="15453" y="10201"/>
                  <a:pt x="15453" y="10237"/>
                  <a:pt x="15453" y="10274"/>
                </a:cubicBezTo>
                <a:cubicBezTo>
                  <a:pt x="15434" y="10274"/>
                  <a:pt x="15434" y="10274"/>
                  <a:pt x="15434" y="10310"/>
                </a:cubicBezTo>
                <a:cubicBezTo>
                  <a:pt x="15434" y="10310"/>
                  <a:pt x="15434" y="10310"/>
                  <a:pt x="15434" y="10310"/>
                </a:cubicBezTo>
                <a:cubicBezTo>
                  <a:pt x="15415" y="10274"/>
                  <a:pt x="15415" y="10274"/>
                  <a:pt x="15415" y="10237"/>
                </a:cubicBezTo>
                <a:cubicBezTo>
                  <a:pt x="15415" y="10237"/>
                  <a:pt x="15415" y="10237"/>
                  <a:pt x="15415" y="10237"/>
                </a:cubicBezTo>
                <a:cubicBezTo>
                  <a:pt x="15415" y="10274"/>
                  <a:pt x="15396" y="10274"/>
                  <a:pt x="15396" y="10310"/>
                </a:cubicBezTo>
                <a:cubicBezTo>
                  <a:pt x="15396" y="10310"/>
                  <a:pt x="15396" y="10310"/>
                  <a:pt x="15396" y="10310"/>
                </a:cubicBezTo>
                <a:cubicBezTo>
                  <a:pt x="15396" y="10310"/>
                  <a:pt x="15396" y="10274"/>
                  <a:pt x="15377" y="10274"/>
                </a:cubicBezTo>
                <a:cubicBezTo>
                  <a:pt x="15377" y="10274"/>
                  <a:pt x="15377" y="10274"/>
                  <a:pt x="15377" y="10274"/>
                </a:cubicBezTo>
                <a:cubicBezTo>
                  <a:pt x="15377" y="10310"/>
                  <a:pt x="15377" y="10310"/>
                  <a:pt x="15377" y="10310"/>
                </a:cubicBezTo>
                <a:cubicBezTo>
                  <a:pt x="15358" y="10310"/>
                  <a:pt x="15358" y="10310"/>
                  <a:pt x="15358" y="10310"/>
                </a:cubicBezTo>
                <a:cubicBezTo>
                  <a:pt x="15358" y="10310"/>
                  <a:pt x="15358" y="10310"/>
                  <a:pt x="15358" y="10310"/>
                </a:cubicBezTo>
                <a:cubicBezTo>
                  <a:pt x="15358" y="10310"/>
                  <a:pt x="15339" y="10310"/>
                  <a:pt x="15339" y="10310"/>
                </a:cubicBezTo>
                <a:cubicBezTo>
                  <a:pt x="15339" y="10310"/>
                  <a:pt x="15339" y="10274"/>
                  <a:pt x="15320" y="10274"/>
                </a:cubicBezTo>
                <a:cubicBezTo>
                  <a:pt x="15320" y="10274"/>
                  <a:pt x="15320" y="10274"/>
                  <a:pt x="15320" y="10274"/>
                </a:cubicBezTo>
                <a:cubicBezTo>
                  <a:pt x="15320" y="10310"/>
                  <a:pt x="15320" y="10310"/>
                  <a:pt x="15320" y="10310"/>
                </a:cubicBezTo>
                <a:cubicBezTo>
                  <a:pt x="15320" y="10310"/>
                  <a:pt x="15320" y="10310"/>
                  <a:pt x="15302" y="10310"/>
                </a:cubicBezTo>
                <a:cubicBezTo>
                  <a:pt x="15302" y="10310"/>
                  <a:pt x="15302" y="10274"/>
                  <a:pt x="15302" y="10274"/>
                </a:cubicBezTo>
                <a:cubicBezTo>
                  <a:pt x="15283" y="10274"/>
                  <a:pt x="15283" y="10310"/>
                  <a:pt x="15283" y="10310"/>
                </a:cubicBezTo>
                <a:cubicBezTo>
                  <a:pt x="15264" y="10346"/>
                  <a:pt x="15226" y="10346"/>
                  <a:pt x="15226" y="10383"/>
                </a:cubicBezTo>
                <a:cubicBezTo>
                  <a:pt x="15226" y="10383"/>
                  <a:pt x="15226" y="10419"/>
                  <a:pt x="15226" y="10419"/>
                </a:cubicBezTo>
                <a:cubicBezTo>
                  <a:pt x="15207" y="10455"/>
                  <a:pt x="15207" y="10528"/>
                  <a:pt x="15188" y="10528"/>
                </a:cubicBezTo>
                <a:cubicBezTo>
                  <a:pt x="15169" y="10564"/>
                  <a:pt x="15131" y="10564"/>
                  <a:pt x="15112" y="10564"/>
                </a:cubicBezTo>
                <a:cubicBezTo>
                  <a:pt x="15094" y="10637"/>
                  <a:pt x="15075" y="10673"/>
                  <a:pt x="15056" y="10709"/>
                </a:cubicBezTo>
                <a:cubicBezTo>
                  <a:pt x="15056" y="10746"/>
                  <a:pt x="15037" y="10746"/>
                  <a:pt x="15037" y="10746"/>
                </a:cubicBezTo>
                <a:cubicBezTo>
                  <a:pt x="15018" y="10746"/>
                  <a:pt x="14999" y="10818"/>
                  <a:pt x="14999" y="10818"/>
                </a:cubicBezTo>
                <a:cubicBezTo>
                  <a:pt x="14980" y="10818"/>
                  <a:pt x="14961" y="10854"/>
                  <a:pt x="14961" y="10854"/>
                </a:cubicBezTo>
                <a:cubicBezTo>
                  <a:pt x="14942" y="10891"/>
                  <a:pt x="14942" y="10927"/>
                  <a:pt x="14923" y="10963"/>
                </a:cubicBezTo>
                <a:cubicBezTo>
                  <a:pt x="14923" y="10963"/>
                  <a:pt x="14885" y="10963"/>
                  <a:pt x="14885" y="10963"/>
                </a:cubicBezTo>
                <a:cubicBezTo>
                  <a:pt x="14885" y="11000"/>
                  <a:pt x="14867" y="11036"/>
                  <a:pt x="14867" y="11036"/>
                </a:cubicBezTo>
                <a:cubicBezTo>
                  <a:pt x="14848" y="11036"/>
                  <a:pt x="14829" y="11036"/>
                  <a:pt x="14829" y="11036"/>
                </a:cubicBezTo>
                <a:cubicBezTo>
                  <a:pt x="14810" y="11072"/>
                  <a:pt x="14810" y="11072"/>
                  <a:pt x="14810" y="11109"/>
                </a:cubicBezTo>
                <a:cubicBezTo>
                  <a:pt x="14791" y="11145"/>
                  <a:pt x="14810" y="11217"/>
                  <a:pt x="14810" y="11290"/>
                </a:cubicBezTo>
                <a:cubicBezTo>
                  <a:pt x="14848" y="11363"/>
                  <a:pt x="14791" y="11472"/>
                  <a:pt x="14791" y="11544"/>
                </a:cubicBezTo>
                <a:cubicBezTo>
                  <a:pt x="14772" y="11581"/>
                  <a:pt x="14791" y="11653"/>
                  <a:pt x="14791" y="11689"/>
                </a:cubicBezTo>
                <a:cubicBezTo>
                  <a:pt x="14772" y="11689"/>
                  <a:pt x="14753" y="11689"/>
                  <a:pt x="14753" y="11689"/>
                </a:cubicBezTo>
                <a:cubicBezTo>
                  <a:pt x="14753" y="11726"/>
                  <a:pt x="14734" y="11762"/>
                  <a:pt x="14734" y="11798"/>
                </a:cubicBezTo>
                <a:cubicBezTo>
                  <a:pt x="14734" y="11798"/>
                  <a:pt x="14753" y="11798"/>
                  <a:pt x="14753" y="11798"/>
                </a:cubicBezTo>
                <a:cubicBezTo>
                  <a:pt x="14734" y="11835"/>
                  <a:pt x="14715" y="11835"/>
                  <a:pt x="14696" y="11835"/>
                </a:cubicBezTo>
                <a:cubicBezTo>
                  <a:pt x="14696" y="11871"/>
                  <a:pt x="14696" y="11871"/>
                  <a:pt x="14696" y="11907"/>
                </a:cubicBezTo>
                <a:cubicBezTo>
                  <a:pt x="14677" y="11944"/>
                  <a:pt x="14658" y="11944"/>
                  <a:pt x="14640" y="11944"/>
                </a:cubicBezTo>
                <a:cubicBezTo>
                  <a:pt x="14621" y="11944"/>
                  <a:pt x="14602" y="11907"/>
                  <a:pt x="14602" y="11871"/>
                </a:cubicBezTo>
                <a:cubicBezTo>
                  <a:pt x="14583" y="11835"/>
                  <a:pt x="14583" y="11798"/>
                  <a:pt x="14583" y="11726"/>
                </a:cubicBezTo>
                <a:cubicBezTo>
                  <a:pt x="14564" y="11689"/>
                  <a:pt x="14545" y="11617"/>
                  <a:pt x="14526" y="11544"/>
                </a:cubicBezTo>
                <a:cubicBezTo>
                  <a:pt x="14526" y="11508"/>
                  <a:pt x="14507" y="11508"/>
                  <a:pt x="14507" y="11472"/>
                </a:cubicBezTo>
                <a:cubicBezTo>
                  <a:pt x="14507" y="11435"/>
                  <a:pt x="14488" y="11399"/>
                  <a:pt x="14488" y="11399"/>
                </a:cubicBezTo>
                <a:cubicBezTo>
                  <a:pt x="14488" y="11326"/>
                  <a:pt x="14469" y="11254"/>
                  <a:pt x="14450" y="11181"/>
                </a:cubicBezTo>
                <a:cubicBezTo>
                  <a:pt x="14432" y="11109"/>
                  <a:pt x="14413" y="11036"/>
                  <a:pt x="14394" y="10927"/>
                </a:cubicBezTo>
                <a:cubicBezTo>
                  <a:pt x="14394" y="10854"/>
                  <a:pt x="14375" y="10782"/>
                  <a:pt x="14375" y="10673"/>
                </a:cubicBezTo>
                <a:cubicBezTo>
                  <a:pt x="14375" y="10637"/>
                  <a:pt x="14356" y="10564"/>
                  <a:pt x="14356" y="10491"/>
                </a:cubicBezTo>
                <a:cubicBezTo>
                  <a:pt x="14356" y="10491"/>
                  <a:pt x="14375" y="10455"/>
                  <a:pt x="14375" y="10419"/>
                </a:cubicBezTo>
                <a:cubicBezTo>
                  <a:pt x="14375" y="10419"/>
                  <a:pt x="14356" y="10383"/>
                  <a:pt x="14356" y="10383"/>
                </a:cubicBezTo>
                <a:cubicBezTo>
                  <a:pt x="14356" y="10346"/>
                  <a:pt x="14356" y="10274"/>
                  <a:pt x="14356" y="10237"/>
                </a:cubicBezTo>
                <a:cubicBezTo>
                  <a:pt x="14337" y="10237"/>
                  <a:pt x="14337" y="10237"/>
                  <a:pt x="14318" y="10274"/>
                </a:cubicBezTo>
                <a:cubicBezTo>
                  <a:pt x="14318" y="10274"/>
                  <a:pt x="14318" y="10274"/>
                  <a:pt x="14318" y="10310"/>
                </a:cubicBezTo>
                <a:cubicBezTo>
                  <a:pt x="14337" y="10383"/>
                  <a:pt x="14299" y="10383"/>
                  <a:pt x="14261" y="10419"/>
                </a:cubicBezTo>
                <a:cubicBezTo>
                  <a:pt x="14261" y="10419"/>
                  <a:pt x="14242" y="10419"/>
                  <a:pt x="14242" y="10419"/>
                </a:cubicBezTo>
                <a:cubicBezTo>
                  <a:pt x="14205" y="10419"/>
                  <a:pt x="14129" y="10274"/>
                  <a:pt x="14110" y="10237"/>
                </a:cubicBezTo>
                <a:cubicBezTo>
                  <a:pt x="14110" y="10237"/>
                  <a:pt x="14110" y="10237"/>
                  <a:pt x="14129" y="10237"/>
                </a:cubicBezTo>
                <a:cubicBezTo>
                  <a:pt x="14148" y="10201"/>
                  <a:pt x="14167" y="10274"/>
                  <a:pt x="14205" y="10201"/>
                </a:cubicBezTo>
                <a:cubicBezTo>
                  <a:pt x="14205" y="10201"/>
                  <a:pt x="14205" y="10165"/>
                  <a:pt x="14205" y="10165"/>
                </a:cubicBezTo>
                <a:cubicBezTo>
                  <a:pt x="14167" y="10201"/>
                  <a:pt x="14110" y="10165"/>
                  <a:pt x="14091" y="10092"/>
                </a:cubicBezTo>
                <a:cubicBezTo>
                  <a:pt x="14072" y="10092"/>
                  <a:pt x="14072" y="10056"/>
                  <a:pt x="14072" y="10056"/>
                </a:cubicBezTo>
                <a:cubicBezTo>
                  <a:pt x="14053" y="10019"/>
                  <a:pt x="14034" y="10056"/>
                  <a:pt x="14015" y="10019"/>
                </a:cubicBezTo>
                <a:cubicBezTo>
                  <a:pt x="14015" y="9983"/>
                  <a:pt x="14015" y="9947"/>
                  <a:pt x="14015" y="9947"/>
                </a:cubicBezTo>
                <a:cubicBezTo>
                  <a:pt x="13996" y="9911"/>
                  <a:pt x="13996" y="9911"/>
                  <a:pt x="13978" y="9911"/>
                </a:cubicBezTo>
                <a:cubicBezTo>
                  <a:pt x="13978" y="9874"/>
                  <a:pt x="13978" y="9838"/>
                  <a:pt x="13959" y="9838"/>
                </a:cubicBezTo>
                <a:cubicBezTo>
                  <a:pt x="13940" y="9838"/>
                  <a:pt x="13826" y="9911"/>
                  <a:pt x="13826" y="9838"/>
                </a:cubicBezTo>
                <a:cubicBezTo>
                  <a:pt x="13807" y="9838"/>
                  <a:pt x="13788" y="9874"/>
                  <a:pt x="13770" y="9874"/>
                </a:cubicBezTo>
                <a:cubicBezTo>
                  <a:pt x="13751" y="9874"/>
                  <a:pt x="13732" y="9874"/>
                  <a:pt x="13713" y="9874"/>
                </a:cubicBezTo>
                <a:cubicBezTo>
                  <a:pt x="13694" y="9874"/>
                  <a:pt x="13675" y="9911"/>
                  <a:pt x="13637" y="9874"/>
                </a:cubicBezTo>
                <a:cubicBezTo>
                  <a:pt x="13618" y="9874"/>
                  <a:pt x="13618" y="9874"/>
                  <a:pt x="13599" y="9838"/>
                </a:cubicBezTo>
                <a:cubicBezTo>
                  <a:pt x="13561" y="9838"/>
                  <a:pt x="13543" y="9838"/>
                  <a:pt x="13505" y="9838"/>
                </a:cubicBezTo>
                <a:cubicBezTo>
                  <a:pt x="13505" y="9838"/>
                  <a:pt x="13505" y="9838"/>
                  <a:pt x="13486" y="9838"/>
                </a:cubicBezTo>
                <a:cubicBezTo>
                  <a:pt x="13467" y="9838"/>
                  <a:pt x="13448" y="9838"/>
                  <a:pt x="13429" y="9838"/>
                </a:cubicBezTo>
                <a:cubicBezTo>
                  <a:pt x="13429" y="9802"/>
                  <a:pt x="13410" y="9802"/>
                  <a:pt x="13391" y="9802"/>
                </a:cubicBezTo>
                <a:cubicBezTo>
                  <a:pt x="13391" y="9765"/>
                  <a:pt x="13391" y="9729"/>
                  <a:pt x="13372" y="9693"/>
                </a:cubicBezTo>
                <a:cubicBezTo>
                  <a:pt x="13372" y="9693"/>
                  <a:pt x="13372" y="9656"/>
                  <a:pt x="13372" y="9656"/>
                </a:cubicBezTo>
                <a:cubicBezTo>
                  <a:pt x="13353" y="9656"/>
                  <a:pt x="13372" y="9620"/>
                  <a:pt x="13353" y="9620"/>
                </a:cubicBezTo>
                <a:cubicBezTo>
                  <a:pt x="13335" y="9620"/>
                  <a:pt x="13297" y="9620"/>
                  <a:pt x="13278" y="9656"/>
                </a:cubicBezTo>
                <a:cubicBezTo>
                  <a:pt x="13278" y="9656"/>
                  <a:pt x="13259" y="9693"/>
                  <a:pt x="13240" y="9729"/>
                </a:cubicBezTo>
                <a:cubicBezTo>
                  <a:pt x="13221" y="9693"/>
                  <a:pt x="13221" y="9693"/>
                  <a:pt x="13202" y="9693"/>
                </a:cubicBezTo>
                <a:cubicBezTo>
                  <a:pt x="13183" y="9656"/>
                  <a:pt x="13145" y="9656"/>
                  <a:pt x="13126" y="9620"/>
                </a:cubicBezTo>
                <a:cubicBezTo>
                  <a:pt x="13126" y="9620"/>
                  <a:pt x="13108" y="9584"/>
                  <a:pt x="13108" y="9548"/>
                </a:cubicBezTo>
                <a:cubicBezTo>
                  <a:pt x="13089" y="9548"/>
                  <a:pt x="13051" y="9548"/>
                  <a:pt x="13032" y="9511"/>
                </a:cubicBezTo>
                <a:cubicBezTo>
                  <a:pt x="13032" y="9475"/>
                  <a:pt x="12994" y="9402"/>
                  <a:pt x="12994" y="9366"/>
                </a:cubicBezTo>
                <a:cubicBezTo>
                  <a:pt x="12994" y="9366"/>
                  <a:pt x="12994" y="9330"/>
                  <a:pt x="12994" y="9330"/>
                </a:cubicBezTo>
                <a:cubicBezTo>
                  <a:pt x="12994" y="9293"/>
                  <a:pt x="12975" y="9257"/>
                  <a:pt x="12956" y="9257"/>
                </a:cubicBezTo>
                <a:cubicBezTo>
                  <a:pt x="12937" y="9257"/>
                  <a:pt x="12918" y="9257"/>
                  <a:pt x="12899" y="9221"/>
                </a:cubicBezTo>
                <a:cubicBezTo>
                  <a:pt x="12899" y="9221"/>
                  <a:pt x="12899" y="9221"/>
                  <a:pt x="12899" y="9185"/>
                </a:cubicBezTo>
                <a:cubicBezTo>
                  <a:pt x="12899" y="9185"/>
                  <a:pt x="12899" y="9185"/>
                  <a:pt x="12899" y="9185"/>
                </a:cubicBezTo>
                <a:cubicBezTo>
                  <a:pt x="12881" y="9221"/>
                  <a:pt x="12881" y="9221"/>
                  <a:pt x="12881" y="9257"/>
                </a:cubicBezTo>
                <a:cubicBezTo>
                  <a:pt x="12862" y="9257"/>
                  <a:pt x="12824" y="9257"/>
                  <a:pt x="12824" y="9257"/>
                </a:cubicBezTo>
                <a:cubicBezTo>
                  <a:pt x="12824" y="9293"/>
                  <a:pt x="12824" y="9293"/>
                  <a:pt x="12824" y="9330"/>
                </a:cubicBezTo>
                <a:cubicBezTo>
                  <a:pt x="12824" y="9330"/>
                  <a:pt x="12824" y="9330"/>
                  <a:pt x="12824" y="9330"/>
                </a:cubicBezTo>
                <a:cubicBezTo>
                  <a:pt x="12824" y="9330"/>
                  <a:pt x="12805" y="9330"/>
                  <a:pt x="12805" y="9366"/>
                </a:cubicBezTo>
                <a:cubicBezTo>
                  <a:pt x="12805" y="9366"/>
                  <a:pt x="12805" y="9366"/>
                  <a:pt x="12805" y="9366"/>
                </a:cubicBezTo>
                <a:cubicBezTo>
                  <a:pt x="12824" y="9366"/>
                  <a:pt x="12824" y="9366"/>
                  <a:pt x="12843" y="9330"/>
                </a:cubicBezTo>
                <a:cubicBezTo>
                  <a:pt x="12843" y="9439"/>
                  <a:pt x="12862" y="9511"/>
                  <a:pt x="12881" y="9584"/>
                </a:cubicBezTo>
                <a:cubicBezTo>
                  <a:pt x="12899" y="9584"/>
                  <a:pt x="12899" y="9584"/>
                  <a:pt x="12899" y="9584"/>
                </a:cubicBezTo>
                <a:cubicBezTo>
                  <a:pt x="12899" y="9584"/>
                  <a:pt x="12899" y="9584"/>
                  <a:pt x="12899" y="9584"/>
                </a:cubicBezTo>
                <a:cubicBezTo>
                  <a:pt x="12918" y="9656"/>
                  <a:pt x="12937" y="9620"/>
                  <a:pt x="12956" y="9656"/>
                </a:cubicBezTo>
                <a:cubicBezTo>
                  <a:pt x="12956" y="9693"/>
                  <a:pt x="12956" y="9693"/>
                  <a:pt x="12956" y="9693"/>
                </a:cubicBezTo>
                <a:cubicBezTo>
                  <a:pt x="12956" y="9693"/>
                  <a:pt x="12956" y="9729"/>
                  <a:pt x="12956" y="9729"/>
                </a:cubicBezTo>
                <a:cubicBezTo>
                  <a:pt x="12956" y="9765"/>
                  <a:pt x="12956" y="9765"/>
                  <a:pt x="12956" y="9802"/>
                </a:cubicBezTo>
                <a:cubicBezTo>
                  <a:pt x="12975" y="9802"/>
                  <a:pt x="12975" y="9838"/>
                  <a:pt x="12975" y="9838"/>
                </a:cubicBezTo>
                <a:cubicBezTo>
                  <a:pt x="12975" y="9874"/>
                  <a:pt x="12994" y="9947"/>
                  <a:pt x="12994" y="9947"/>
                </a:cubicBezTo>
                <a:cubicBezTo>
                  <a:pt x="13013" y="9947"/>
                  <a:pt x="13013" y="9947"/>
                  <a:pt x="13013" y="9911"/>
                </a:cubicBezTo>
                <a:cubicBezTo>
                  <a:pt x="12994" y="9874"/>
                  <a:pt x="13013" y="9765"/>
                  <a:pt x="13032" y="9765"/>
                </a:cubicBezTo>
                <a:cubicBezTo>
                  <a:pt x="13032" y="9765"/>
                  <a:pt x="13032" y="9765"/>
                  <a:pt x="13032" y="9765"/>
                </a:cubicBezTo>
                <a:cubicBezTo>
                  <a:pt x="13032" y="9765"/>
                  <a:pt x="13051" y="9765"/>
                  <a:pt x="13051" y="9802"/>
                </a:cubicBezTo>
                <a:cubicBezTo>
                  <a:pt x="13051" y="9802"/>
                  <a:pt x="13051" y="9874"/>
                  <a:pt x="13051" y="9911"/>
                </a:cubicBezTo>
                <a:cubicBezTo>
                  <a:pt x="13051" y="9947"/>
                  <a:pt x="13032" y="9947"/>
                  <a:pt x="13032" y="9983"/>
                </a:cubicBezTo>
                <a:cubicBezTo>
                  <a:pt x="13051" y="9983"/>
                  <a:pt x="13051" y="9983"/>
                  <a:pt x="13051" y="10019"/>
                </a:cubicBezTo>
                <a:cubicBezTo>
                  <a:pt x="13070" y="10019"/>
                  <a:pt x="13070" y="10019"/>
                  <a:pt x="13089" y="10019"/>
                </a:cubicBezTo>
                <a:cubicBezTo>
                  <a:pt x="13089" y="10019"/>
                  <a:pt x="13089" y="10019"/>
                  <a:pt x="13108" y="9983"/>
                </a:cubicBezTo>
                <a:cubicBezTo>
                  <a:pt x="13108" y="10019"/>
                  <a:pt x="13183" y="10019"/>
                  <a:pt x="13202" y="10019"/>
                </a:cubicBezTo>
                <a:cubicBezTo>
                  <a:pt x="13202" y="10019"/>
                  <a:pt x="13202" y="9983"/>
                  <a:pt x="13202" y="9983"/>
                </a:cubicBezTo>
                <a:cubicBezTo>
                  <a:pt x="13202" y="10019"/>
                  <a:pt x="13202" y="10019"/>
                  <a:pt x="13221" y="9983"/>
                </a:cubicBezTo>
                <a:cubicBezTo>
                  <a:pt x="13221" y="9983"/>
                  <a:pt x="13221" y="9983"/>
                  <a:pt x="13240" y="9983"/>
                </a:cubicBezTo>
                <a:cubicBezTo>
                  <a:pt x="13240" y="9947"/>
                  <a:pt x="13240" y="9947"/>
                  <a:pt x="13259" y="9911"/>
                </a:cubicBezTo>
                <a:cubicBezTo>
                  <a:pt x="13278" y="9874"/>
                  <a:pt x="13297" y="9838"/>
                  <a:pt x="13316" y="9802"/>
                </a:cubicBezTo>
                <a:cubicBezTo>
                  <a:pt x="13316" y="9802"/>
                  <a:pt x="13335" y="9765"/>
                  <a:pt x="13335" y="9729"/>
                </a:cubicBezTo>
                <a:cubicBezTo>
                  <a:pt x="13353" y="9729"/>
                  <a:pt x="13353" y="9729"/>
                  <a:pt x="13353" y="9729"/>
                </a:cubicBezTo>
                <a:cubicBezTo>
                  <a:pt x="13353" y="9765"/>
                  <a:pt x="13335" y="9802"/>
                  <a:pt x="13335" y="9838"/>
                </a:cubicBezTo>
                <a:cubicBezTo>
                  <a:pt x="13335" y="9838"/>
                  <a:pt x="13335" y="9838"/>
                  <a:pt x="13353" y="9838"/>
                </a:cubicBezTo>
                <a:cubicBezTo>
                  <a:pt x="13353" y="9874"/>
                  <a:pt x="13335" y="9911"/>
                  <a:pt x="13353" y="9911"/>
                </a:cubicBezTo>
                <a:cubicBezTo>
                  <a:pt x="13353" y="9947"/>
                  <a:pt x="13372" y="9983"/>
                  <a:pt x="13391" y="10019"/>
                </a:cubicBezTo>
                <a:cubicBezTo>
                  <a:pt x="13410" y="10056"/>
                  <a:pt x="13429" y="10056"/>
                  <a:pt x="13448" y="10092"/>
                </a:cubicBezTo>
                <a:cubicBezTo>
                  <a:pt x="13467" y="10092"/>
                  <a:pt x="13467" y="10056"/>
                  <a:pt x="13486" y="10092"/>
                </a:cubicBezTo>
                <a:cubicBezTo>
                  <a:pt x="13505" y="10128"/>
                  <a:pt x="13505" y="10165"/>
                  <a:pt x="13524" y="10165"/>
                </a:cubicBezTo>
                <a:cubicBezTo>
                  <a:pt x="13524" y="10201"/>
                  <a:pt x="13561" y="10201"/>
                  <a:pt x="13561" y="10237"/>
                </a:cubicBezTo>
                <a:cubicBezTo>
                  <a:pt x="13543" y="10274"/>
                  <a:pt x="13543" y="10310"/>
                  <a:pt x="13524" y="10346"/>
                </a:cubicBezTo>
                <a:cubicBezTo>
                  <a:pt x="13524" y="10346"/>
                  <a:pt x="13505" y="10346"/>
                  <a:pt x="13505" y="10383"/>
                </a:cubicBezTo>
                <a:cubicBezTo>
                  <a:pt x="13486" y="10419"/>
                  <a:pt x="13486" y="10455"/>
                  <a:pt x="13467" y="10455"/>
                </a:cubicBezTo>
                <a:cubicBezTo>
                  <a:pt x="13467" y="10491"/>
                  <a:pt x="13448" y="10455"/>
                  <a:pt x="13448" y="10455"/>
                </a:cubicBezTo>
                <a:cubicBezTo>
                  <a:pt x="13429" y="10528"/>
                  <a:pt x="13429" y="10600"/>
                  <a:pt x="13429" y="10637"/>
                </a:cubicBezTo>
                <a:cubicBezTo>
                  <a:pt x="13391" y="10637"/>
                  <a:pt x="13372" y="10637"/>
                  <a:pt x="13353" y="10709"/>
                </a:cubicBezTo>
                <a:cubicBezTo>
                  <a:pt x="13353" y="10709"/>
                  <a:pt x="13353" y="10746"/>
                  <a:pt x="13353" y="10746"/>
                </a:cubicBezTo>
                <a:cubicBezTo>
                  <a:pt x="13335" y="10782"/>
                  <a:pt x="13316" y="10746"/>
                  <a:pt x="13297" y="10782"/>
                </a:cubicBezTo>
                <a:cubicBezTo>
                  <a:pt x="13278" y="10782"/>
                  <a:pt x="13278" y="10818"/>
                  <a:pt x="13278" y="10854"/>
                </a:cubicBezTo>
                <a:cubicBezTo>
                  <a:pt x="13259" y="10891"/>
                  <a:pt x="13259" y="10891"/>
                  <a:pt x="13259" y="10891"/>
                </a:cubicBezTo>
                <a:cubicBezTo>
                  <a:pt x="13240" y="10891"/>
                  <a:pt x="13221" y="10891"/>
                  <a:pt x="13202" y="10891"/>
                </a:cubicBezTo>
                <a:cubicBezTo>
                  <a:pt x="13183" y="10891"/>
                  <a:pt x="13164" y="10891"/>
                  <a:pt x="13126" y="10927"/>
                </a:cubicBezTo>
                <a:cubicBezTo>
                  <a:pt x="13126" y="10927"/>
                  <a:pt x="13089" y="10963"/>
                  <a:pt x="13089" y="11000"/>
                </a:cubicBezTo>
                <a:cubicBezTo>
                  <a:pt x="13089" y="11036"/>
                  <a:pt x="13089" y="11036"/>
                  <a:pt x="13070" y="11072"/>
                </a:cubicBezTo>
                <a:cubicBezTo>
                  <a:pt x="13032" y="11109"/>
                  <a:pt x="12956" y="11109"/>
                  <a:pt x="12918" y="11181"/>
                </a:cubicBezTo>
                <a:cubicBezTo>
                  <a:pt x="12899" y="11181"/>
                  <a:pt x="12899" y="11217"/>
                  <a:pt x="12881" y="11217"/>
                </a:cubicBezTo>
                <a:cubicBezTo>
                  <a:pt x="12862" y="11254"/>
                  <a:pt x="12843" y="11217"/>
                  <a:pt x="12824" y="11254"/>
                </a:cubicBezTo>
                <a:cubicBezTo>
                  <a:pt x="12805" y="11254"/>
                  <a:pt x="12786" y="11290"/>
                  <a:pt x="12748" y="11326"/>
                </a:cubicBezTo>
                <a:cubicBezTo>
                  <a:pt x="12748" y="11326"/>
                  <a:pt x="12710" y="11290"/>
                  <a:pt x="12691" y="11326"/>
                </a:cubicBezTo>
                <a:cubicBezTo>
                  <a:pt x="12691" y="11326"/>
                  <a:pt x="12673" y="11363"/>
                  <a:pt x="12654" y="11363"/>
                </a:cubicBezTo>
                <a:cubicBezTo>
                  <a:pt x="12616" y="11399"/>
                  <a:pt x="12559" y="11435"/>
                  <a:pt x="12540" y="11363"/>
                </a:cubicBezTo>
                <a:cubicBezTo>
                  <a:pt x="12540" y="11326"/>
                  <a:pt x="12540" y="11290"/>
                  <a:pt x="12540" y="11254"/>
                </a:cubicBezTo>
                <a:cubicBezTo>
                  <a:pt x="12521" y="11217"/>
                  <a:pt x="12521" y="11145"/>
                  <a:pt x="12502" y="11072"/>
                </a:cubicBezTo>
                <a:cubicBezTo>
                  <a:pt x="12502" y="11036"/>
                  <a:pt x="12502" y="11036"/>
                  <a:pt x="12521" y="11000"/>
                </a:cubicBezTo>
                <a:cubicBezTo>
                  <a:pt x="12502" y="10963"/>
                  <a:pt x="12502" y="10963"/>
                  <a:pt x="12502" y="10927"/>
                </a:cubicBezTo>
                <a:cubicBezTo>
                  <a:pt x="12502" y="10891"/>
                  <a:pt x="12483" y="10818"/>
                  <a:pt x="12464" y="10782"/>
                </a:cubicBezTo>
                <a:cubicBezTo>
                  <a:pt x="12446" y="10782"/>
                  <a:pt x="12446" y="10782"/>
                  <a:pt x="12427" y="10746"/>
                </a:cubicBezTo>
                <a:cubicBezTo>
                  <a:pt x="12408" y="10673"/>
                  <a:pt x="12389" y="10600"/>
                  <a:pt x="12370" y="10528"/>
                </a:cubicBezTo>
                <a:cubicBezTo>
                  <a:pt x="12370" y="10491"/>
                  <a:pt x="12332" y="10491"/>
                  <a:pt x="12313" y="10455"/>
                </a:cubicBezTo>
                <a:cubicBezTo>
                  <a:pt x="12313" y="10419"/>
                  <a:pt x="12294" y="10383"/>
                  <a:pt x="12275" y="10346"/>
                </a:cubicBezTo>
                <a:cubicBezTo>
                  <a:pt x="12275" y="10310"/>
                  <a:pt x="12294" y="10237"/>
                  <a:pt x="12275" y="10165"/>
                </a:cubicBezTo>
                <a:cubicBezTo>
                  <a:pt x="12256" y="10128"/>
                  <a:pt x="12237" y="10092"/>
                  <a:pt x="12237" y="10019"/>
                </a:cubicBezTo>
                <a:cubicBezTo>
                  <a:pt x="12219" y="9983"/>
                  <a:pt x="12181" y="9983"/>
                  <a:pt x="12162" y="9947"/>
                </a:cubicBezTo>
                <a:cubicBezTo>
                  <a:pt x="12181" y="9874"/>
                  <a:pt x="12143" y="9802"/>
                  <a:pt x="12124" y="9765"/>
                </a:cubicBezTo>
                <a:cubicBezTo>
                  <a:pt x="12105" y="9693"/>
                  <a:pt x="12086" y="9656"/>
                  <a:pt x="12067" y="9584"/>
                </a:cubicBezTo>
                <a:cubicBezTo>
                  <a:pt x="12048" y="9548"/>
                  <a:pt x="12048" y="9511"/>
                  <a:pt x="12029" y="9511"/>
                </a:cubicBezTo>
                <a:cubicBezTo>
                  <a:pt x="12029" y="9511"/>
                  <a:pt x="12029" y="9511"/>
                  <a:pt x="12011" y="9511"/>
                </a:cubicBezTo>
                <a:cubicBezTo>
                  <a:pt x="12011" y="9439"/>
                  <a:pt x="12029" y="9402"/>
                  <a:pt x="12029" y="9330"/>
                </a:cubicBezTo>
                <a:cubicBezTo>
                  <a:pt x="12029" y="9330"/>
                  <a:pt x="12029" y="9330"/>
                  <a:pt x="12029" y="9330"/>
                </a:cubicBezTo>
                <a:cubicBezTo>
                  <a:pt x="12011" y="9257"/>
                  <a:pt x="11992" y="9185"/>
                  <a:pt x="11973" y="9076"/>
                </a:cubicBezTo>
                <a:cubicBezTo>
                  <a:pt x="11992" y="9076"/>
                  <a:pt x="12011" y="9003"/>
                  <a:pt x="12011" y="8967"/>
                </a:cubicBezTo>
                <a:cubicBezTo>
                  <a:pt x="12011" y="8930"/>
                  <a:pt x="12011" y="8930"/>
                  <a:pt x="12011" y="8894"/>
                </a:cubicBezTo>
                <a:cubicBezTo>
                  <a:pt x="12029" y="8822"/>
                  <a:pt x="12048" y="8713"/>
                  <a:pt x="12086" y="8676"/>
                </a:cubicBezTo>
                <a:cubicBezTo>
                  <a:pt x="12067" y="8604"/>
                  <a:pt x="12086" y="8567"/>
                  <a:pt x="12067" y="8531"/>
                </a:cubicBezTo>
                <a:cubicBezTo>
                  <a:pt x="12067" y="8531"/>
                  <a:pt x="12067" y="8495"/>
                  <a:pt x="12086" y="8458"/>
                </a:cubicBezTo>
                <a:cubicBezTo>
                  <a:pt x="12067" y="8458"/>
                  <a:pt x="12067" y="8458"/>
                  <a:pt x="12067" y="8422"/>
                </a:cubicBezTo>
                <a:cubicBezTo>
                  <a:pt x="12067" y="8422"/>
                  <a:pt x="12086" y="8422"/>
                  <a:pt x="12086" y="8386"/>
                </a:cubicBezTo>
                <a:cubicBezTo>
                  <a:pt x="12086" y="8386"/>
                  <a:pt x="12086" y="8386"/>
                  <a:pt x="12086" y="8386"/>
                </a:cubicBezTo>
                <a:cubicBezTo>
                  <a:pt x="12086" y="8386"/>
                  <a:pt x="12086" y="8350"/>
                  <a:pt x="12086" y="8350"/>
                </a:cubicBezTo>
                <a:cubicBezTo>
                  <a:pt x="12086" y="8350"/>
                  <a:pt x="12086" y="8350"/>
                  <a:pt x="12086" y="8350"/>
                </a:cubicBezTo>
                <a:cubicBezTo>
                  <a:pt x="12067" y="8386"/>
                  <a:pt x="12067" y="8386"/>
                  <a:pt x="12048" y="8386"/>
                </a:cubicBezTo>
                <a:cubicBezTo>
                  <a:pt x="12029" y="8386"/>
                  <a:pt x="12029" y="8386"/>
                  <a:pt x="11992" y="8386"/>
                </a:cubicBezTo>
                <a:cubicBezTo>
                  <a:pt x="11973" y="8386"/>
                  <a:pt x="11973" y="8422"/>
                  <a:pt x="11954" y="8458"/>
                </a:cubicBezTo>
                <a:cubicBezTo>
                  <a:pt x="11935" y="8458"/>
                  <a:pt x="11916" y="8458"/>
                  <a:pt x="11878" y="8458"/>
                </a:cubicBezTo>
                <a:cubicBezTo>
                  <a:pt x="11859" y="8458"/>
                  <a:pt x="11859" y="8422"/>
                  <a:pt x="11840" y="8386"/>
                </a:cubicBezTo>
                <a:cubicBezTo>
                  <a:pt x="11821" y="8350"/>
                  <a:pt x="11784" y="8350"/>
                  <a:pt x="11746" y="8350"/>
                </a:cubicBezTo>
                <a:cubicBezTo>
                  <a:pt x="11746" y="8386"/>
                  <a:pt x="11746" y="8422"/>
                  <a:pt x="11746" y="8458"/>
                </a:cubicBezTo>
                <a:cubicBezTo>
                  <a:pt x="11746" y="8458"/>
                  <a:pt x="11746" y="8458"/>
                  <a:pt x="11746" y="8458"/>
                </a:cubicBezTo>
                <a:cubicBezTo>
                  <a:pt x="11727" y="8422"/>
                  <a:pt x="11689" y="8458"/>
                  <a:pt x="11670" y="8422"/>
                </a:cubicBezTo>
                <a:cubicBezTo>
                  <a:pt x="11670" y="8422"/>
                  <a:pt x="11670" y="8386"/>
                  <a:pt x="11651" y="8350"/>
                </a:cubicBezTo>
                <a:cubicBezTo>
                  <a:pt x="11651" y="8386"/>
                  <a:pt x="11651" y="8386"/>
                  <a:pt x="11651" y="8386"/>
                </a:cubicBezTo>
                <a:cubicBezTo>
                  <a:pt x="11632" y="8386"/>
                  <a:pt x="11632" y="8350"/>
                  <a:pt x="11613" y="8350"/>
                </a:cubicBezTo>
                <a:cubicBezTo>
                  <a:pt x="11613" y="8386"/>
                  <a:pt x="11594" y="8386"/>
                  <a:pt x="11594" y="8386"/>
                </a:cubicBezTo>
                <a:cubicBezTo>
                  <a:pt x="11594" y="8386"/>
                  <a:pt x="11594" y="8386"/>
                  <a:pt x="11594" y="8386"/>
                </a:cubicBezTo>
                <a:cubicBezTo>
                  <a:pt x="11594" y="8386"/>
                  <a:pt x="11594" y="8386"/>
                  <a:pt x="11594" y="8350"/>
                </a:cubicBezTo>
                <a:cubicBezTo>
                  <a:pt x="11594" y="8350"/>
                  <a:pt x="11594" y="8350"/>
                  <a:pt x="11594" y="8350"/>
                </a:cubicBezTo>
                <a:cubicBezTo>
                  <a:pt x="11594" y="8350"/>
                  <a:pt x="11594" y="8350"/>
                  <a:pt x="11594" y="8350"/>
                </a:cubicBezTo>
                <a:cubicBezTo>
                  <a:pt x="11575" y="8350"/>
                  <a:pt x="11575" y="8350"/>
                  <a:pt x="11557" y="8350"/>
                </a:cubicBezTo>
                <a:cubicBezTo>
                  <a:pt x="11557" y="8313"/>
                  <a:pt x="11557" y="8313"/>
                  <a:pt x="11557" y="8313"/>
                </a:cubicBezTo>
                <a:cubicBezTo>
                  <a:pt x="11557" y="8313"/>
                  <a:pt x="11557" y="8313"/>
                  <a:pt x="11575" y="8313"/>
                </a:cubicBezTo>
                <a:cubicBezTo>
                  <a:pt x="11575" y="8313"/>
                  <a:pt x="11557" y="8313"/>
                  <a:pt x="11557" y="8277"/>
                </a:cubicBezTo>
                <a:cubicBezTo>
                  <a:pt x="11557" y="8277"/>
                  <a:pt x="11557" y="8277"/>
                  <a:pt x="11538" y="8277"/>
                </a:cubicBezTo>
                <a:cubicBezTo>
                  <a:pt x="11538" y="8241"/>
                  <a:pt x="11538" y="8241"/>
                  <a:pt x="11538" y="8204"/>
                </a:cubicBezTo>
                <a:cubicBezTo>
                  <a:pt x="11519" y="8204"/>
                  <a:pt x="11519" y="8168"/>
                  <a:pt x="11500" y="8168"/>
                </a:cubicBezTo>
                <a:cubicBezTo>
                  <a:pt x="11500" y="8168"/>
                  <a:pt x="11500" y="8168"/>
                  <a:pt x="11500" y="8168"/>
                </a:cubicBezTo>
                <a:cubicBezTo>
                  <a:pt x="11500" y="8132"/>
                  <a:pt x="11500" y="8132"/>
                  <a:pt x="11500" y="8132"/>
                </a:cubicBezTo>
                <a:cubicBezTo>
                  <a:pt x="11519" y="8132"/>
                  <a:pt x="11519" y="8132"/>
                  <a:pt x="11519" y="8132"/>
                </a:cubicBezTo>
                <a:cubicBezTo>
                  <a:pt x="11538" y="8132"/>
                  <a:pt x="11538" y="8132"/>
                  <a:pt x="11519" y="8132"/>
                </a:cubicBezTo>
                <a:cubicBezTo>
                  <a:pt x="11519" y="8095"/>
                  <a:pt x="11519" y="8095"/>
                  <a:pt x="11519" y="8095"/>
                </a:cubicBezTo>
                <a:cubicBezTo>
                  <a:pt x="11519" y="8095"/>
                  <a:pt x="11538" y="8095"/>
                  <a:pt x="11538" y="8059"/>
                </a:cubicBezTo>
                <a:cubicBezTo>
                  <a:pt x="11538" y="8059"/>
                  <a:pt x="11538" y="8059"/>
                  <a:pt x="11538" y="8059"/>
                </a:cubicBezTo>
                <a:cubicBezTo>
                  <a:pt x="11519" y="8059"/>
                  <a:pt x="11519" y="8059"/>
                  <a:pt x="11519" y="8059"/>
                </a:cubicBezTo>
                <a:cubicBezTo>
                  <a:pt x="11519" y="8059"/>
                  <a:pt x="11519" y="8059"/>
                  <a:pt x="11519" y="8023"/>
                </a:cubicBezTo>
                <a:cubicBezTo>
                  <a:pt x="11519" y="8023"/>
                  <a:pt x="11519" y="8023"/>
                  <a:pt x="11500" y="8023"/>
                </a:cubicBezTo>
                <a:cubicBezTo>
                  <a:pt x="11519" y="8023"/>
                  <a:pt x="11519" y="7987"/>
                  <a:pt x="11519" y="7987"/>
                </a:cubicBezTo>
                <a:cubicBezTo>
                  <a:pt x="11519" y="7987"/>
                  <a:pt x="11519" y="7987"/>
                  <a:pt x="11538" y="7987"/>
                </a:cubicBezTo>
                <a:cubicBezTo>
                  <a:pt x="11538" y="7987"/>
                  <a:pt x="11538" y="7987"/>
                  <a:pt x="11538" y="7987"/>
                </a:cubicBezTo>
                <a:cubicBezTo>
                  <a:pt x="11519" y="7987"/>
                  <a:pt x="11500" y="7987"/>
                  <a:pt x="11481" y="7987"/>
                </a:cubicBezTo>
                <a:cubicBezTo>
                  <a:pt x="11481" y="7950"/>
                  <a:pt x="11481" y="7950"/>
                  <a:pt x="11481" y="7914"/>
                </a:cubicBezTo>
                <a:cubicBezTo>
                  <a:pt x="11500" y="7914"/>
                  <a:pt x="11481" y="7914"/>
                  <a:pt x="11500" y="7878"/>
                </a:cubicBezTo>
                <a:cubicBezTo>
                  <a:pt x="11500" y="7878"/>
                  <a:pt x="11538" y="7841"/>
                  <a:pt x="11557" y="7841"/>
                </a:cubicBezTo>
                <a:cubicBezTo>
                  <a:pt x="11557" y="7878"/>
                  <a:pt x="11575" y="7878"/>
                  <a:pt x="11575" y="7878"/>
                </a:cubicBezTo>
                <a:cubicBezTo>
                  <a:pt x="11575" y="7878"/>
                  <a:pt x="11575" y="7878"/>
                  <a:pt x="11575" y="7841"/>
                </a:cubicBezTo>
                <a:cubicBezTo>
                  <a:pt x="11575" y="7841"/>
                  <a:pt x="11575" y="7841"/>
                  <a:pt x="11575" y="7841"/>
                </a:cubicBezTo>
                <a:cubicBezTo>
                  <a:pt x="11575" y="7841"/>
                  <a:pt x="11575" y="7841"/>
                  <a:pt x="11575" y="7841"/>
                </a:cubicBezTo>
                <a:cubicBezTo>
                  <a:pt x="11575" y="7841"/>
                  <a:pt x="11594" y="7841"/>
                  <a:pt x="11594" y="7841"/>
                </a:cubicBezTo>
                <a:cubicBezTo>
                  <a:pt x="11594" y="7841"/>
                  <a:pt x="11594" y="7841"/>
                  <a:pt x="11594" y="7878"/>
                </a:cubicBezTo>
                <a:cubicBezTo>
                  <a:pt x="11613" y="7841"/>
                  <a:pt x="11632" y="7841"/>
                  <a:pt x="11670" y="7878"/>
                </a:cubicBezTo>
                <a:cubicBezTo>
                  <a:pt x="11670" y="7878"/>
                  <a:pt x="11670" y="7841"/>
                  <a:pt x="11670" y="7841"/>
                </a:cubicBezTo>
                <a:cubicBezTo>
                  <a:pt x="11670" y="7841"/>
                  <a:pt x="11670" y="7841"/>
                  <a:pt x="11670" y="7841"/>
                </a:cubicBezTo>
                <a:cubicBezTo>
                  <a:pt x="11651" y="7841"/>
                  <a:pt x="11651" y="7841"/>
                  <a:pt x="11651" y="7841"/>
                </a:cubicBezTo>
                <a:cubicBezTo>
                  <a:pt x="11651" y="7841"/>
                  <a:pt x="11651" y="7841"/>
                  <a:pt x="11651" y="7805"/>
                </a:cubicBezTo>
                <a:cubicBezTo>
                  <a:pt x="11670" y="7805"/>
                  <a:pt x="11689" y="7805"/>
                  <a:pt x="11708" y="7805"/>
                </a:cubicBezTo>
                <a:cubicBezTo>
                  <a:pt x="11708" y="7805"/>
                  <a:pt x="11708" y="7805"/>
                  <a:pt x="11708" y="7805"/>
                </a:cubicBezTo>
                <a:cubicBezTo>
                  <a:pt x="11689" y="7805"/>
                  <a:pt x="11689" y="7805"/>
                  <a:pt x="11670" y="7805"/>
                </a:cubicBezTo>
                <a:cubicBezTo>
                  <a:pt x="11670" y="7805"/>
                  <a:pt x="11670" y="7769"/>
                  <a:pt x="11651" y="7769"/>
                </a:cubicBezTo>
                <a:cubicBezTo>
                  <a:pt x="11670" y="7769"/>
                  <a:pt x="11670" y="7769"/>
                  <a:pt x="11670" y="7732"/>
                </a:cubicBezTo>
                <a:cubicBezTo>
                  <a:pt x="11689" y="7732"/>
                  <a:pt x="11708" y="7732"/>
                  <a:pt x="11727" y="7769"/>
                </a:cubicBezTo>
                <a:cubicBezTo>
                  <a:pt x="11727" y="7732"/>
                  <a:pt x="11727" y="7732"/>
                  <a:pt x="11746" y="7732"/>
                </a:cubicBezTo>
                <a:cubicBezTo>
                  <a:pt x="11765" y="7769"/>
                  <a:pt x="11784" y="7769"/>
                  <a:pt x="11802" y="7732"/>
                </a:cubicBezTo>
                <a:cubicBezTo>
                  <a:pt x="11802" y="7732"/>
                  <a:pt x="11802" y="7732"/>
                  <a:pt x="11802" y="7732"/>
                </a:cubicBezTo>
                <a:cubicBezTo>
                  <a:pt x="11840" y="7696"/>
                  <a:pt x="11878" y="7660"/>
                  <a:pt x="11916" y="7624"/>
                </a:cubicBezTo>
                <a:cubicBezTo>
                  <a:pt x="11954" y="7624"/>
                  <a:pt x="11992" y="7660"/>
                  <a:pt x="12029" y="7624"/>
                </a:cubicBezTo>
                <a:cubicBezTo>
                  <a:pt x="12029" y="7660"/>
                  <a:pt x="12029" y="7660"/>
                  <a:pt x="12048" y="7696"/>
                </a:cubicBezTo>
                <a:cubicBezTo>
                  <a:pt x="12067" y="7696"/>
                  <a:pt x="12086" y="7660"/>
                  <a:pt x="12086" y="7660"/>
                </a:cubicBezTo>
                <a:cubicBezTo>
                  <a:pt x="12105" y="7696"/>
                  <a:pt x="12105" y="7732"/>
                  <a:pt x="12105" y="7732"/>
                </a:cubicBezTo>
                <a:cubicBezTo>
                  <a:pt x="12143" y="7696"/>
                  <a:pt x="12143" y="7769"/>
                  <a:pt x="12181" y="7769"/>
                </a:cubicBezTo>
                <a:cubicBezTo>
                  <a:pt x="12200" y="7769"/>
                  <a:pt x="12237" y="7805"/>
                  <a:pt x="12256" y="7769"/>
                </a:cubicBezTo>
                <a:cubicBezTo>
                  <a:pt x="12275" y="7769"/>
                  <a:pt x="12275" y="7769"/>
                  <a:pt x="12294" y="7769"/>
                </a:cubicBezTo>
                <a:cubicBezTo>
                  <a:pt x="12313" y="7769"/>
                  <a:pt x="12332" y="7805"/>
                  <a:pt x="12351" y="7769"/>
                </a:cubicBezTo>
                <a:cubicBezTo>
                  <a:pt x="12408" y="7769"/>
                  <a:pt x="12446" y="7696"/>
                  <a:pt x="12427" y="7587"/>
                </a:cubicBezTo>
                <a:cubicBezTo>
                  <a:pt x="12427" y="7587"/>
                  <a:pt x="12427" y="7551"/>
                  <a:pt x="12427" y="7515"/>
                </a:cubicBezTo>
                <a:cubicBezTo>
                  <a:pt x="12408" y="7478"/>
                  <a:pt x="12351" y="7478"/>
                  <a:pt x="12332" y="7442"/>
                </a:cubicBezTo>
                <a:cubicBezTo>
                  <a:pt x="12332" y="7442"/>
                  <a:pt x="12332" y="7442"/>
                  <a:pt x="12332" y="7406"/>
                </a:cubicBezTo>
                <a:cubicBezTo>
                  <a:pt x="12332" y="7406"/>
                  <a:pt x="12313" y="7369"/>
                  <a:pt x="12313" y="7369"/>
                </a:cubicBezTo>
                <a:cubicBezTo>
                  <a:pt x="12294" y="7333"/>
                  <a:pt x="12275" y="7297"/>
                  <a:pt x="12237" y="7297"/>
                </a:cubicBezTo>
                <a:cubicBezTo>
                  <a:pt x="12237" y="7261"/>
                  <a:pt x="12219" y="7261"/>
                  <a:pt x="12219" y="7261"/>
                </a:cubicBezTo>
                <a:cubicBezTo>
                  <a:pt x="12200" y="7261"/>
                  <a:pt x="12200" y="7224"/>
                  <a:pt x="12200" y="7224"/>
                </a:cubicBezTo>
                <a:cubicBezTo>
                  <a:pt x="12181" y="7224"/>
                  <a:pt x="12181" y="7224"/>
                  <a:pt x="12181" y="7224"/>
                </a:cubicBezTo>
                <a:cubicBezTo>
                  <a:pt x="12162" y="7224"/>
                  <a:pt x="12162" y="7188"/>
                  <a:pt x="12143" y="7152"/>
                </a:cubicBezTo>
                <a:cubicBezTo>
                  <a:pt x="12162" y="7152"/>
                  <a:pt x="12181" y="7152"/>
                  <a:pt x="12181" y="7152"/>
                </a:cubicBezTo>
                <a:cubicBezTo>
                  <a:pt x="12181" y="7079"/>
                  <a:pt x="12200" y="7079"/>
                  <a:pt x="12200" y="7043"/>
                </a:cubicBezTo>
                <a:cubicBezTo>
                  <a:pt x="12219" y="7043"/>
                  <a:pt x="12237" y="7043"/>
                  <a:pt x="12237" y="7043"/>
                </a:cubicBezTo>
                <a:cubicBezTo>
                  <a:pt x="12219" y="7006"/>
                  <a:pt x="12219" y="6970"/>
                  <a:pt x="12200" y="6970"/>
                </a:cubicBezTo>
                <a:cubicBezTo>
                  <a:pt x="12200" y="6970"/>
                  <a:pt x="12200" y="6934"/>
                  <a:pt x="12200" y="6934"/>
                </a:cubicBezTo>
                <a:cubicBezTo>
                  <a:pt x="12237" y="6934"/>
                  <a:pt x="12275" y="6897"/>
                  <a:pt x="12294" y="6897"/>
                </a:cubicBezTo>
                <a:cubicBezTo>
                  <a:pt x="12294" y="6861"/>
                  <a:pt x="12275" y="6861"/>
                  <a:pt x="12275" y="6861"/>
                </a:cubicBezTo>
                <a:cubicBezTo>
                  <a:pt x="12256" y="6861"/>
                  <a:pt x="12237" y="6861"/>
                  <a:pt x="12219" y="6861"/>
                </a:cubicBezTo>
                <a:cubicBezTo>
                  <a:pt x="12219" y="6897"/>
                  <a:pt x="12219" y="6897"/>
                  <a:pt x="12219" y="6897"/>
                </a:cubicBezTo>
                <a:cubicBezTo>
                  <a:pt x="12200" y="6897"/>
                  <a:pt x="12181" y="6897"/>
                  <a:pt x="12181" y="6897"/>
                </a:cubicBezTo>
                <a:cubicBezTo>
                  <a:pt x="12162" y="6897"/>
                  <a:pt x="12162" y="6934"/>
                  <a:pt x="12162" y="6934"/>
                </a:cubicBezTo>
                <a:cubicBezTo>
                  <a:pt x="12124" y="6934"/>
                  <a:pt x="12105" y="6934"/>
                  <a:pt x="12086" y="6970"/>
                </a:cubicBezTo>
                <a:cubicBezTo>
                  <a:pt x="12067" y="6970"/>
                  <a:pt x="12067" y="6970"/>
                  <a:pt x="12048" y="6970"/>
                </a:cubicBezTo>
                <a:cubicBezTo>
                  <a:pt x="12048" y="6970"/>
                  <a:pt x="12048" y="7006"/>
                  <a:pt x="12048" y="6970"/>
                </a:cubicBezTo>
                <a:cubicBezTo>
                  <a:pt x="12048" y="6970"/>
                  <a:pt x="12048" y="6970"/>
                  <a:pt x="12029" y="6970"/>
                </a:cubicBezTo>
                <a:cubicBezTo>
                  <a:pt x="12029" y="6970"/>
                  <a:pt x="12029" y="6970"/>
                  <a:pt x="12029" y="6970"/>
                </a:cubicBezTo>
                <a:cubicBezTo>
                  <a:pt x="12029" y="7006"/>
                  <a:pt x="12029" y="7006"/>
                  <a:pt x="12011" y="7006"/>
                </a:cubicBezTo>
                <a:cubicBezTo>
                  <a:pt x="11992" y="7006"/>
                  <a:pt x="11973" y="7006"/>
                  <a:pt x="11954" y="7043"/>
                </a:cubicBezTo>
                <a:cubicBezTo>
                  <a:pt x="11954" y="7043"/>
                  <a:pt x="11954" y="7043"/>
                  <a:pt x="11954" y="7043"/>
                </a:cubicBezTo>
                <a:cubicBezTo>
                  <a:pt x="11992" y="7043"/>
                  <a:pt x="12029" y="7115"/>
                  <a:pt x="12029" y="7152"/>
                </a:cubicBezTo>
                <a:cubicBezTo>
                  <a:pt x="12048" y="7152"/>
                  <a:pt x="12067" y="7152"/>
                  <a:pt x="12067" y="7152"/>
                </a:cubicBezTo>
                <a:cubicBezTo>
                  <a:pt x="12086" y="7152"/>
                  <a:pt x="12105" y="7152"/>
                  <a:pt x="12124" y="7152"/>
                </a:cubicBezTo>
                <a:cubicBezTo>
                  <a:pt x="12105" y="7152"/>
                  <a:pt x="12105" y="7188"/>
                  <a:pt x="12105" y="7188"/>
                </a:cubicBezTo>
                <a:cubicBezTo>
                  <a:pt x="12086" y="7188"/>
                  <a:pt x="12086" y="7188"/>
                  <a:pt x="12086" y="7188"/>
                </a:cubicBezTo>
                <a:cubicBezTo>
                  <a:pt x="12067" y="7188"/>
                  <a:pt x="12067" y="7188"/>
                  <a:pt x="12048" y="7188"/>
                </a:cubicBezTo>
                <a:cubicBezTo>
                  <a:pt x="12048" y="7224"/>
                  <a:pt x="12029" y="7224"/>
                  <a:pt x="12029" y="7224"/>
                </a:cubicBezTo>
                <a:cubicBezTo>
                  <a:pt x="12011" y="7224"/>
                  <a:pt x="12011" y="7224"/>
                  <a:pt x="11992" y="7224"/>
                </a:cubicBezTo>
                <a:cubicBezTo>
                  <a:pt x="11954" y="7261"/>
                  <a:pt x="11992" y="7297"/>
                  <a:pt x="11916" y="7261"/>
                </a:cubicBezTo>
                <a:cubicBezTo>
                  <a:pt x="11916" y="7261"/>
                  <a:pt x="11916" y="7261"/>
                  <a:pt x="11916" y="7261"/>
                </a:cubicBezTo>
                <a:cubicBezTo>
                  <a:pt x="11954" y="7152"/>
                  <a:pt x="11916" y="7152"/>
                  <a:pt x="11878" y="7152"/>
                </a:cubicBezTo>
                <a:cubicBezTo>
                  <a:pt x="11878" y="7152"/>
                  <a:pt x="11878" y="7152"/>
                  <a:pt x="11878" y="7152"/>
                </a:cubicBezTo>
                <a:cubicBezTo>
                  <a:pt x="11878" y="7115"/>
                  <a:pt x="11916" y="7115"/>
                  <a:pt x="11935" y="7079"/>
                </a:cubicBezTo>
                <a:cubicBezTo>
                  <a:pt x="11935" y="7043"/>
                  <a:pt x="11935" y="7043"/>
                  <a:pt x="11935" y="7043"/>
                </a:cubicBezTo>
                <a:cubicBezTo>
                  <a:pt x="11897" y="7043"/>
                  <a:pt x="11859" y="7043"/>
                  <a:pt x="11840" y="7006"/>
                </a:cubicBezTo>
                <a:cubicBezTo>
                  <a:pt x="11840" y="7006"/>
                  <a:pt x="11840" y="7006"/>
                  <a:pt x="11840" y="7006"/>
                </a:cubicBezTo>
                <a:cubicBezTo>
                  <a:pt x="11840" y="6970"/>
                  <a:pt x="11840" y="6970"/>
                  <a:pt x="11840" y="6970"/>
                </a:cubicBezTo>
                <a:cubicBezTo>
                  <a:pt x="11840" y="6970"/>
                  <a:pt x="11840" y="6970"/>
                  <a:pt x="11840" y="6970"/>
                </a:cubicBezTo>
                <a:cubicBezTo>
                  <a:pt x="11840" y="6970"/>
                  <a:pt x="11840" y="6934"/>
                  <a:pt x="11840" y="6934"/>
                </a:cubicBezTo>
                <a:cubicBezTo>
                  <a:pt x="11840" y="6934"/>
                  <a:pt x="11840" y="6934"/>
                  <a:pt x="11840" y="6934"/>
                </a:cubicBezTo>
                <a:cubicBezTo>
                  <a:pt x="11821" y="6934"/>
                  <a:pt x="11821" y="6970"/>
                  <a:pt x="11821" y="6970"/>
                </a:cubicBezTo>
                <a:cubicBezTo>
                  <a:pt x="11746" y="6970"/>
                  <a:pt x="11765" y="7043"/>
                  <a:pt x="11727" y="7079"/>
                </a:cubicBezTo>
                <a:cubicBezTo>
                  <a:pt x="11708" y="7115"/>
                  <a:pt x="11670" y="7079"/>
                  <a:pt x="11689" y="7152"/>
                </a:cubicBezTo>
                <a:cubicBezTo>
                  <a:pt x="11689" y="7152"/>
                  <a:pt x="11689" y="7152"/>
                  <a:pt x="11689" y="7152"/>
                </a:cubicBezTo>
                <a:cubicBezTo>
                  <a:pt x="11689" y="7188"/>
                  <a:pt x="11689" y="7188"/>
                  <a:pt x="11689" y="7224"/>
                </a:cubicBezTo>
                <a:cubicBezTo>
                  <a:pt x="11632" y="7224"/>
                  <a:pt x="11632" y="7297"/>
                  <a:pt x="11613" y="7369"/>
                </a:cubicBezTo>
                <a:cubicBezTo>
                  <a:pt x="11613" y="7406"/>
                  <a:pt x="11613" y="7406"/>
                  <a:pt x="11613" y="7442"/>
                </a:cubicBezTo>
                <a:cubicBezTo>
                  <a:pt x="11613" y="7442"/>
                  <a:pt x="11594" y="7442"/>
                  <a:pt x="11594" y="7442"/>
                </a:cubicBezTo>
                <a:cubicBezTo>
                  <a:pt x="11594" y="7478"/>
                  <a:pt x="11594" y="7515"/>
                  <a:pt x="11575" y="7551"/>
                </a:cubicBezTo>
                <a:cubicBezTo>
                  <a:pt x="11575" y="7551"/>
                  <a:pt x="11575" y="7551"/>
                  <a:pt x="11557" y="7551"/>
                </a:cubicBezTo>
                <a:cubicBezTo>
                  <a:pt x="11557" y="7587"/>
                  <a:pt x="11557" y="7587"/>
                  <a:pt x="11557" y="7587"/>
                </a:cubicBezTo>
                <a:cubicBezTo>
                  <a:pt x="11575" y="7587"/>
                  <a:pt x="11594" y="7696"/>
                  <a:pt x="11613" y="7696"/>
                </a:cubicBezTo>
                <a:cubicBezTo>
                  <a:pt x="11632" y="7732"/>
                  <a:pt x="11651" y="7732"/>
                  <a:pt x="11670" y="7732"/>
                </a:cubicBezTo>
                <a:cubicBezTo>
                  <a:pt x="11651" y="7769"/>
                  <a:pt x="11651" y="7769"/>
                  <a:pt x="11651" y="7769"/>
                </a:cubicBezTo>
                <a:cubicBezTo>
                  <a:pt x="11613" y="7769"/>
                  <a:pt x="11613" y="7769"/>
                  <a:pt x="11594" y="7769"/>
                </a:cubicBezTo>
                <a:cubicBezTo>
                  <a:pt x="11575" y="7769"/>
                  <a:pt x="11575" y="7769"/>
                  <a:pt x="11557" y="7769"/>
                </a:cubicBezTo>
                <a:cubicBezTo>
                  <a:pt x="11557" y="7805"/>
                  <a:pt x="11557" y="7805"/>
                  <a:pt x="11557" y="7805"/>
                </a:cubicBezTo>
                <a:cubicBezTo>
                  <a:pt x="11538" y="7841"/>
                  <a:pt x="11519" y="7841"/>
                  <a:pt x="11519" y="7841"/>
                </a:cubicBezTo>
                <a:cubicBezTo>
                  <a:pt x="11500" y="7878"/>
                  <a:pt x="11500" y="7878"/>
                  <a:pt x="11481" y="7914"/>
                </a:cubicBezTo>
                <a:cubicBezTo>
                  <a:pt x="11481" y="7878"/>
                  <a:pt x="11481" y="7878"/>
                  <a:pt x="11481" y="7878"/>
                </a:cubicBezTo>
                <a:cubicBezTo>
                  <a:pt x="11500" y="7841"/>
                  <a:pt x="11500" y="7841"/>
                  <a:pt x="11500" y="7841"/>
                </a:cubicBezTo>
                <a:cubicBezTo>
                  <a:pt x="11500" y="7841"/>
                  <a:pt x="11500" y="7841"/>
                  <a:pt x="11500" y="7841"/>
                </a:cubicBezTo>
                <a:cubicBezTo>
                  <a:pt x="11500" y="7841"/>
                  <a:pt x="11481" y="7841"/>
                  <a:pt x="11481" y="7805"/>
                </a:cubicBezTo>
                <a:cubicBezTo>
                  <a:pt x="11481" y="7805"/>
                  <a:pt x="11462" y="7841"/>
                  <a:pt x="11462" y="7841"/>
                </a:cubicBezTo>
                <a:cubicBezTo>
                  <a:pt x="11462" y="7769"/>
                  <a:pt x="11424" y="7805"/>
                  <a:pt x="11405" y="7769"/>
                </a:cubicBezTo>
                <a:cubicBezTo>
                  <a:pt x="11405" y="7805"/>
                  <a:pt x="11386" y="7805"/>
                  <a:pt x="11367" y="7805"/>
                </a:cubicBezTo>
                <a:cubicBezTo>
                  <a:pt x="11367" y="7805"/>
                  <a:pt x="11367" y="7805"/>
                  <a:pt x="11367" y="7805"/>
                </a:cubicBezTo>
                <a:cubicBezTo>
                  <a:pt x="11349" y="7841"/>
                  <a:pt x="11349" y="7805"/>
                  <a:pt x="11330" y="7805"/>
                </a:cubicBezTo>
                <a:cubicBezTo>
                  <a:pt x="11330" y="7805"/>
                  <a:pt x="11330" y="7805"/>
                  <a:pt x="11330" y="7805"/>
                </a:cubicBezTo>
                <a:cubicBezTo>
                  <a:pt x="11330" y="7878"/>
                  <a:pt x="11349" y="7878"/>
                  <a:pt x="11367" y="7914"/>
                </a:cubicBezTo>
                <a:cubicBezTo>
                  <a:pt x="11367" y="7914"/>
                  <a:pt x="11367" y="7914"/>
                  <a:pt x="11367" y="7914"/>
                </a:cubicBezTo>
                <a:cubicBezTo>
                  <a:pt x="11367" y="7914"/>
                  <a:pt x="11367" y="7914"/>
                  <a:pt x="11367" y="7914"/>
                </a:cubicBezTo>
                <a:cubicBezTo>
                  <a:pt x="11349" y="7914"/>
                  <a:pt x="11349" y="7878"/>
                  <a:pt x="11349" y="7878"/>
                </a:cubicBezTo>
                <a:cubicBezTo>
                  <a:pt x="11349" y="7878"/>
                  <a:pt x="11330" y="7878"/>
                  <a:pt x="11330" y="7878"/>
                </a:cubicBezTo>
                <a:cubicBezTo>
                  <a:pt x="11330" y="7878"/>
                  <a:pt x="11330" y="7878"/>
                  <a:pt x="11330" y="7878"/>
                </a:cubicBezTo>
                <a:cubicBezTo>
                  <a:pt x="11330" y="7914"/>
                  <a:pt x="11330" y="7914"/>
                  <a:pt x="11349" y="7914"/>
                </a:cubicBezTo>
                <a:cubicBezTo>
                  <a:pt x="11349" y="7914"/>
                  <a:pt x="11349" y="7914"/>
                  <a:pt x="11349" y="7914"/>
                </a:cubicBezTo>
                <a:cubicBezTo>
                  <a:pt x="11330" y="7914"/>
                  <a:pt x="11330" y="7914"/>
                  <a:pt x="11330" y="7914"/>
                </a:cubicBezTo>
                <a:cubicBezTo>
                  <a:pt x="11330" y="7914"/>
                  <a:pt x="11311" y="7878"/>
                  <a:pt x="11292" y="7878"/>
                </a:cubicBezTo>
                <a:cubicBezTo>
                  <a:pt x="11292" y="7878"/>
                  <a:pt x="11292" y="7878"/>
                  <a:pt x="11292" y="7878"/>
                </a:cubicBezTo>
                <a:cubicBezTo>
                  <a:pt x="11311" y="7914"/>
                  <a:pt x="11311" y="7914"/>
                  <a:pt x="11330" y="7914"/>
                </a:cubicBezTo>
                <a:cubicBezTo>
                  <a:pt x="11330" y="7914"/>
                  <a:pt x="11330" y="7914"/>
                  <a:pt x="11311" y="7914"/>
                </a:cubicBezTo>
                <a:cubicBezTo>
                  <a:pt x="11311" y="7914"/>
                  <a:pt x="11311" y="7914"/>
                  <a:pt x="11292" y="7914"/>
                </a:cubicBezTo>
                <a:cubicBezTo>
                  <a:pt x="11292" y="7878"/>
                  <a:pt x="11273" y="7878"/>
                  <a:pt x="11273" y="7841"/>
                </a:cubicBezTo>
                <a:cubicBezTo>
                  <a:pt x="11273" y="7841"/>
                  <a:pt x="11273" y="7841"/>
                  <a:pt x="11273" y="7841"/>
                </a:cubicBezTo>
                <a:cubicBezTo>
                  <a:pt x="11273" y="7841"/>
                  <a:pt x="11273" y="7841"/>
                  <a:pt x="11273" y="7841"/>
                </a:cubicBezTo>
                <a:cubicBezTo>
                  <a:pt x="11273" y="7841"/>
                  <a:pt x="11273" y="7841"/>
                  <a:pt x="11273" y="7841"/>
                </a:cubicBezTo>
                <a:cubicBezTo>
                  <a:pt x="11273" y="7841"/>
                  <a:pt x="11254" y="7841"/>
                  <a:pt x="11254" y="7841"/>
                </a:cubicBezTo>
                <a:cubicBezTo>
                  <a:pt x="11254" y="7878"/>
                  <a:pt x="11254" y="7878"/>
                  <a:pt x="11254" y="7878"/>
                </a:cubicBezTo>
                <a:cubicBezTo>
                  <a:pt x="11254" y="7878"/>
                  <a:pt x="11254" y="7878"/>
                  <a:pt x="11254" y="7914"/>
                </a:cubicBezTo>
                <a:cubicBezTo>
                  <a:pt x="11254" y="7950"/>
                  <a:pt x="11273" y="7987"/>
                  <a:pt x="11292" y="8023"/>
                </a:cubicBezTo>
                <a:cubicBezTo>
                  <a:pt x="11292" y="8023"/>
                  <a:pt x="11292" y="8023"/>
                  <a:pt x="11292" y="8059"/>
                </a:cubicBezTo>
                <a:cubicBezTo>
                  <a:pt x="11292" y="8059"/>
                  <a:pt x="11292" y="8059"/>
                  <a:pt x="11292" y="8059"/>
                </a:cubicBezTo>
                <a:cubicBezTo>
                  <a:pt x="11292" y="8059"/>
                  <a:pt x="11292" y="8059"/>
                  <a:pt x="11292" y="8059"/>
                </a:cubicBezTo>
                <a:cubicBezTo>
                  <a:pt x="11292" y="8023"/>
                  <a:pt x="11292" y="8023"/>
                  <a:pt x="11292" y="8023"/>
                </a:cubicBezTo>
                <a:cubicBezTo>
                  <a:pt x="11273" y="8023"/>
                  <a:pt x="11273" y="8023"/>
                  <a:pt x="11273" y="8023"/>
                </a:cubicBezTo>
                <a:cubicBezTo>
                  <a:pt x="11273" y="8023"/>
                  <a:pt x="11273" y="8023"/>
                  <a:pt x="11273" y="8023"/>
                </a:cubicBezTo>
                <a:cubicBezTo>
                  <a:pt x="11273" y="8023"/>
                  <a:pt x="11273" y="8059"/>
                  <a:pt x="11273" y="8059"/>
                </a:cubicBezTo>
                <a:cubicBezTo>
                  <a:pt x="11273" y="8059"/>
                  <a:pt x="11273" y="8059"/>
                  <a:pt x="11254" y="8095"/>
                </a:cubicBezTo>
                <a:cubicBezTo>
                  <a:pt x="11254" y="8095"/>
                  <a:pt x="11254" y="8095"/>
                  <a:pt x="11254" y="8095"/>
                </a:cubicBezTo>
                <a:cubicBezTo>
                  <a:pt x="11273" y="8095"/>
                  <a:pt x="11349" y="8168"/>
                  <a:pt x="11349" y="8168"/>
                </a:cubicBezTo>
                <a:cubicBezTo>
                  <a:pt x="11349" y="8168"/>
                  <a:pt x="11349" y="8168"/>
                  <a:pt x="11330" y="8168"/>
                </a:cubicBezTo>
                <a:cubicBezTo>
                  <a:pt x="11349" y="8204"/>
                  <a:pt x="11349" y="8204"/>
                  <a:pt x="11349" y="8241"/>
                </a:cubicBezTo>
                <a:cubicBezTo>
                  <a:pt x="11349" y="8241"/>
                  <a:pt x="11349" y="8241"/>
                  <a:pt x="11330" y="8241"/>
                </a:cubicBezTo>
                <a:cubicBezTo>
                  <a:pt x="11330" y="8241"/>
                  <a:pt x="11330" y="8241"/>
                  <a:pt x="11330" y="8241"/>
                </a:cubicBezTo>
                <a:cubicBezTo>
                  <a:pt x="11330" y="8241"/>
                  <a:pt x="11311" y="8204"/>
                  <a:pt x="11311" y="8204"/>
                </a:cubicBezTo>
                <a:cubicBezTo>
                  <a:pt x="11292" y="8204"/>
                  <a:pt x="11292" y="8204"/>
                  <a:pt x="11273" y="8204"/>
                </a:cubicBezTo>
                <a:cubicBezTo>
                  <a:pt x="11292" y="8241"/>
                  <a:pt x="11292" y="8241"/>
                  <a:pt x="11292" y="8241"/>
                </a:cubicBezTo>
                <a:cubicBezTo>
                  <a:pt x="11292" y="8241"/>
                  <a:pt x="11292" y="8241"/>
                  <a:pt x="11311" y="8241"/>
                </a:cubicBezTo>
                <a:cubicBezTo>
                  <a:pt x="11311" y="8277"/>
                  <a:pt x="11311" y="8277"/>
                  <a:pt x="11311" y="8277"/>
                </a:cubicBezTo>
                <a:cubicBezTo>
                  <a:pt x="11292" y="8277"/>
                  <a:pt x="11292" y="8277"/>
                  <a:pt x="11292" y="8277"/>
                </a:cubicBezTo>
                <a:cubicBezTo>
                  <a:pt x="11292" y="8277"/>
                  <a:pt x="11292" y="8277"/>
                  <a:pt x="11273" y="8277"/>
                </a:cubicBezTo>
                <a:cubicBezTo>
                  <a:pt x="11273" y="8277"/>
                  <a:pt x="11292" y="8277"/>
                  <a:pt x="11292" y="8277"/>
                </a:cubicBezTo>
                <a:cubicBezTo>
                  <a:pt x="11292" y="8277"/>
                  <a:pt x="11292" y="8277"/>
                  <a:pt x="11273" y="8277"/>
                </a:cubicBezTo>
                <a:cubicBezTo>
                  <a:pt x="11273" y="8277"/>
                  <a:pt x="11273" y="8277"/>
                  <a:pt x="11254" y="8241"/>
                </a:cubicBezTo>
                <a:cubicBezTo>
                  <a:pt x="11254" y="8277"/>
                  <a:pt x="11254" y="8277"/>
                  <a:pt x="11254" y="8277"/>
                </a:cubicBezTo>
                <a:cubicBezTo>
                  <a:pt x="11273" y="8313"/>
                  <a:pt x="11273" y="8350"/>
                  <a:pt x="11273" y="8386"/>
                </a:cubicBezTo>
                <a:cubicBezTo>
                  <a:pt x="11273" y="8386"/>
                  <a:pt x="11254" y="8350"/>
                  <a:pt x="11254" y="8386"/>
                </a:cubicBezTo>
                <a:cubicBezTo>
                  <a:pt x="11254" y="8386"/>
                  <a:pt x="11254" y="8386"/>
                  <a:pt x="11254" y="8386"/>
                </a:cubicBezTo>
                <a:cubicBezTo>
                  <a:pt x="11235" y="8386"/>
                  <a:pt x="11235" y="8386"/>
                  <a:pt x="11235" y="8386"/>
                </a:cubicBezTo>
                <a:cubicBezTo>
                  <a:pt x="11235" y="8386"/>
                  <a:pt x="11235" y="8350"/>
                  <a:pt x="11216" y="8350"/>
                </a:cubicBezTo>
                <a:cubicBezTo>
                  <a:pt x="11216" y="8350"/>
                  <a:pt x="11216" y="8350"/>
                  <a:pt x="11216" y="8350"/>
                </a:cubicBezTo>
                <a:cubicBezTo>
                  <a:pt x="11197" y="8350"/>
                  <a:pt x="11197" y="8350"/>
                  <a:pt x="11197" y="8350"/>
                </a:cubicBezTo>
                <a:cubicBezTo>
                  <a:pt x="11197" y="8313"/>
                  <a:pt x="11197" y="8313"/>
                  <a:pt x="11197" y="8277"/>
                </a:cubicBezTo>
                <a:cubicBezTo>
                  <a:pt x="11197" y="8277"/>
                  <a:pt x="11178" y="8241"/>
                  <a:pt x="11178" y="8241"/>
                </a:cubicBezTo>
                <a:cubicBezTo>
                  <a:pt x="11178" y="8204"/>
                  <a:pt x="11178" y="8204"/>
                  <a:pt x="11178" y="8168"/>
                </a:cubicBezTo>
                <a:cubicBezTo>
                  <a:pt x="11197" y="8168"/>
                  <a:pt x="11216" y="8168"/>
                  <a:pt x="11216" y="8168"/>
                </a:cubicBezTo>
                <a:cubicBezTo>
                  <a:pt x="11254" y="8168"/>
                  <a:pt x="11273" y="8241"/>
                  <a:pt x="11292" y="8168"/>
                </a:cubicBezTo>
                <a:cubicBezTo>
                  <a:pt x="11292" y="8168"/>
                  <a:pt x="11292" y="8168"/>
                  <a:pt x="11292" y="8168"/>
                </a:cubicBezTo>
                <a:cubicBezTo>
                  <a:pt x="11273" y="8168"/>
                  <a:pt x="11254" y="8132"/>
                  <a:pt x="11235" y="8132"/>
                </a:cubicBezTo>
                <a:cubicBezTo>
                  <a:pt x="11216" y="8132"/>
                  <a:pt x="11197" y="8132"/>
                  <a:pt x="11159" y="8168"/>
                </a:cubicBezTo>
                <a:cubicBezTo>
                  <a:pt x="11159" y="8132"/>
                  <a:pt x="11159" y="8095"/>
                  <a:pt x="11140" y="8095"/>
                </a:cubicBezTo>
                <a:cubicBezTo>
                  <a:pt x="11140" y="8095"/>
                  <a:pt x="11140" y="8095"/>
                  <a:pt x="11140" y="8095"/>
                </a:cubicBezTo>
                <a:cubicBezTo>
                  <a:pt x="11159" y="8095"/>
                  <a:pt x="11159" y="8095"/>
                  <a:pt x="11159" y="8059"/>
                </a:cubicBezTo>
                <a:cubicBezTo>
                  <a:pt x="11159" y="8059"/>
                  <a:pt x="11159" y="8059"/>
                  <a:pt x="11159" y="8059"/>
                </a:cubicBezTo>
                <a:cubicBezTo>
                  <a:pt x="11159" y="8059"/>
                  <a:pt x="11159" y="8059"/>
                  <a:pt x="11159" y="8059"/>
                </a:cubicBezTo>
                <a:cubicBezTo>
                  <a:pt x="11140" y="8059"/>
                  <a:pt x="11122" y="8023"/>
                  <a:pt x="11103" y="7987"/>
                </a:cubicBezTo>
                <a:cubicBezTo>
                  <a:pt x="11103" y="7987"/>
                  <a:pt x="11103" y="7950"/>
                  <a:pt x="11103" y="7950"/>
                </a:cubicBezTo>
                <a:cubicBezTo>
                  <a:pt x="11084" y="7914"/>
                  <a:pt x="11065" y="7914"/>
                  <a:pt x="11065" y="7878"/>
                </a:cubicBezTo>
                <a:cubicBezTo>
                  <a:pt x="11065" y="7878"/>
                  <a:pt x="11065" y="7878"/>
                  <a:pt x="11065" y="7878"/>
                </a:cubicBezTo>
                <a:cubicBezTo>
                  <a:pt x="11065" y="7878"/>
                  <a:pt x="11065" y="7841"/>
                  <a:pt x="11065" y="7841"/>
                </a:cubicBezTo>
                <a:cubicBezTo>
                  <a:pt x="11065" y="7841"/>
                  <a:pt x="11065" y="7805"/>
                  <a:pt x="11065" y="7805"/>
                </a:cubicBezTo>
                <a:cubicBezTo>
                  <a:pt x="11065" y="7805"/>
                  <a:pt x="11065" y="7732"/>
                  <a:pt x="11065" y="7696"/>
                </a:cubicBezTo>
                <a:cubicBezTo>
                  <a:pt x="11084" y="7696"/>
                  <a:pt x="11084" y="7696"/>
                  <a:pt x="11084" y="7696"/>
                </a:cubicBezTo>
                <a:cubicBezTo>
                  <a:pt x="11065" y="7660"/>
                  <a:pt x="11065" y="7660"/>
                  <a:pt x="11046" y="7660"/>
                </a:cubicBezTo>
                <a:cubicBezTo>
                  <a:pt x="11046" y="7624"/>
                  <a:pt x="11027" y="7624"/>
                  <a:pt x="11027" y="7624"/>
                </a:cubicBezTo>
                <a:cubicBezTo>
                  <a:pt x="11008" y="7587"/>
                  <a:pt x="10970" y="7551"/>
                  <a:pt x="10951" y="7515"/>
                </a:cubicBezTo>
                <a:cubicBezTo>
                  <a:pt x="10932" y="7478"/>
                  <a:pt x="10932" y="7478"/>
                  <a:pt x="10913" y="7442"/>
                </a:cubicBezTo>
                <a:cubicBezTo>
                  <a:pt x="10913" y="7442"/>
                  <a:pt x="10876" y="7442"/>
                  <a:pt x="10876" y="7442"/>
                </a:cubicBezTo>
                <a:cubicBezTo>
                  <a:pt x="10876" y="7406"/>
                  <a:pt x="10857" y="7442"/>
                  <a:pt x="10857" y="7442"/>
                </a:cubicBezTo>
                <a:cubicBezTo>
                  <a:pt x="10838" y="7406"/>
                  <a:pt x="10819" y="7369"/>
                  <a:pt x="10800" y="7333"/>
                </a:cubicBezTo>
                <a:cubicBezTo>
                  <a:pt x="10800" y="7333"/>
                  <a:pt x="10800" y="7333"/>
                  <a:pt x="10800" y="7333"/>
                </a:cubicBezTo>
                <a:cubicBezTo>
                  <a:pt x="10800" y="7333"/>
                  <a:pt x="10819" y="7333"/>
                  <a:pt x="10819" y="7333"/>
                </a:cubicBezTo>
                <a:cubicBezTo>
                  <a:pt x="10762" y="7297"/>
                  <a:pt x="10800" y="7188"/>
                  <a:pt x="10743" y="7152"/>
                </a:cubicBezTo>
                <a:cubicBezTo>
                  <a:pt x="10743" y="7188"/>
                  <a:pt x="10743" y="7188"/>
                  <a:pt x="10743" y="7224"/>
                </a:cubicBezTo>
                <a:cubicBezTo>
                  <a:pt x="10724" y="7224"/>
                  <a:pt x="10724" y="7224"/>
                  <a:pt x="10724" y="7261"/>
                </a:cubicBezTo>
                <a:cubicBezTo>
                  <a:pt x="10705" y="7224"/>
                  <a:pt x="10705" y="7188"/>
                  <a:pt x="10705" y="7152"/>
                </a:cubicBezTo>
                <a:cubicBezTo>
                  <a:pt x="10705" y="7152"/>
                  <a:pt x="10705" y="7152"/>
                  <a:pt x="10724" y="7115"/>
                </a:cubicBezTo>
                <a:cubicBezTo>
                  <a:pt x="10705" y="7115"/>
                  <a:pt x="10705" y="7115"/>
                  <a:pt x="10705" y="7115"/>
                </a:cubicBezTo>
                <a:cubicBezTo>
                  <a:pt x="10687" y="7115"/>
                  <a:pt x="10687" y="7115"/>
                  <a:pt x="10668" y="7115"/>
                </a:cubicBezTo>
                <a:cubicBezTo>
                  <a:pt x="10668" y="7115"/>
                  <a:pt x="10668" y="7115"/>
                  <a:pt x="10668" y="7115"/>
                </a:cubicBezTo>
                <a:cubicBezTo>
                  <a:pt x="10649" y="7115"/>
                  <a:pt x="10630" y="7152"/>
                  <a:pt x="10630" y="7152"/>
                </a:cubicBezTo>
                <a:cubicBezTo>
                  <a:pt x="10611" y="7152"/>
                  <a:pt x="10611" y="7188"/>
                  <a:pt x="10611" y="7188"/>
                </a:cubicBezTo>
                <a:cubicBezTo>
                  <a:pt x="10611" y="7188"/>
                  <a:pt x="10630" y="7188"/>
                  <a:pt x="10630" y="7188"/>
                </a:cubicBezTo>
                <a:cubicBezTo>
                  <a:pt x="10630" y="7224"/>
                  <a:pt x="10630" y="7224"/>
                  <a:pt x="10630" y="7224"/>
                </a:cubicBezTo>
                <a:cubicBezTo>
                  <a:pt x="10630" y="7224"/>
                  <a:pt x="10630" y="7261"/>
                  <a:pt x="10630" y="7261"/>
                </a:cubicBezTo>
                <a:cubicBezTo>
                  <a:pt x="10630" y="7333"/>
                  <a:pt x="10649" y="7369"/>
                  <a:pt x="10687" y="7406"/>
                </a:cubicBezTo>
                <a:cubicBezTo>
                  <a:pt x="10687" y="7406"/>
                  <a:pt x="10705" y="7406"/>
                  <a:pt x="10705" y="7442"/>
                </a:cubicBezTo>
                <a:cubicBezTo>
                  <a:pt x="10724" y="7442"/>
                  <a:pt x="10724" y="7478"/>
                  <a:pt x="10724" y="7515"/>
                </a:cubicBezTo>
                <a:cubicBezTo>
                  <a:pt x="10724" y="7551"/>
                  <a:pt x="10762" y="7587"/>
                  <a:pt x="10781" y="7624"/>
                </a:cubicBezTo>
                <a:cubicBezTo>
                  <a:pt x="10800" y="7660"/>
                  <a:pt x="10857" y="7624"/>
                  <a:pt x="10857" y="7660"/>
                </a:cubicBezTo>
                <a:cubicBezTo>
                  <a:pt x="10857" y="7660"/>
                  <a:pt x="10857" y="7660"/>
                  <a:pt x="10857" y="7696"/>
                </a:cubicBezTo>
                <a:cubicBezTo>
                  <a:pt x="10857" y="7696"/>
                  <a:pt x="10857" y="7696"/>
                  <a:pt x="10838" y="7696"/>
                </a:cubicBezTo>
                <a:cubicBezTo>
                  <a:pt x="10838" y="7732"/>
                  <a:pt x="10857" y="7732"/>
                  <a:pt x="10857" y="7732"/>
                </a:cubicBezTo>
                <a:cubicBezTo>
                  <a:pt x="10913" y="7769"/>
                  <a:pt x="10970" y="7841"/>
                  <a:pt x="11008" y="7914"/>
                </a:cubicBezTo>
                <a:cubicBezTo>
                  <a:pt x="11008" y="7914"/>
                  <a:pt x="11008" y="7950"/>
                  <a:pt x="10989" y="7950"/>
                </a:cubicBezTo>
                <a:cubicBezTo>
                  <a:pt x="10989" y="7950"/>
                  <a:pt x="10989" y="7950"/>
                  <a:pt x="10970" y="7914"/>
                </a:cubicBezTo>
                <a:cubicBezTo>
                  <a:pt x="10970" y="7914"/>
                  <a:pt x="10970" y="7914"/>
                  <a:pt x="10970" y="7914"/>
                </a:cubicBezTo>
                <a:cubicBezTo>
                  <a:pt x="10951" y="7878"/>
                  <a:pt x="10932" y="7878"/>
                  <a:pt x="10932" y="7841"/>
                </a:cubicBezTo>
                <a:cubicBezTo>
                  <a:pt x="10895" y="7841"/>
                  <a:pt x="10895" y="7914"/>
                  <a:pt x="10876" y="7950"/>
                </a:cubicBezTo>
                <a:cubicBezTo>
                  <a:pt x="10895" y="7987"/>
                  <a:pt x="10913" y="7987"/>
                  <a:pt x="10932" y="7987"/>
                </a:cubicBezTo>
                <a:cubicBezTo>
                  <a:pt x="10913" y="8023"/>
                  <a:pt x="10913" y="8023"/>
                  <a:pt x="10932" y="8059"/>
                </a:cubicBezTo>
                <a:cubicBezTo>
                  <a:pt x="10932" y="8059"/>
                  <a:pt x="10913" y="8059"/>
                  <a:pt x="10913" y="8059"/>
                </a:cubicBezTo>
                <a:cubicBezTo>
                  <a:pt x="10895" y="8059"/>
                  <a:pt x="10895" y="8095"/>
                  <a:pt x="10876" y="8095"/>
                </a:cubicBezTo>
                <a:cubicBezTo>
                  <a:pt x="10895" y="8132"/>
                  <a:pt x="10895" y="8132"/>
                  <a:pt x="10876" y="8132"/>
                </a:cubicBezTo>
                <a:cubicBezTo>
                  <a:pt x="10876" y="8168"/>
                  <a:pt x="10857" y="8168"/>
                  <a:pt x="10857" y="8204"/>
                </a:cubicBezTo>
                <a:cubicBezTo>
                  <a:pt x="10857" y="8204"/>
                  <a:pt x="10838" y="8204"/>
                  <a:pt x="10838" y="8204"/>
                </a:cubicBezTo>
                <a:cubicBezTo>
                  <a:pt x="10838" y="8204"/>
                  <a:pt x="10838" y="8204"/>
                  <a:pt x="10838" y="8204"/>
                </a:cubicBezTo>
                <a:cubicBezTo>
                  <a:pt x="10838" y="8204"/>
                  <a:pt x="10838" y="8168"/>
                  <a:pt x="10838" y="8168"/>
                </a:cubicBezTo>
                <a:cubicBezTo>
                  <a:pt x="10838" y="8168"/>
                  <a:pt x="10838" y="8132"/>
                  <a:pt x="10838" y="8095"/>
                </a:cubicBezTo>
                <a:cubicBezTo>
                  <a:pt x="10838" y="8095"/>
                  <a:pt x="10838" y="8095"/>
                  <a:pt x="10857" y="8095"/>
                </a:cubicBezTo>
                <a:cubicBezTo>
                  <a:pt x="10857" y="8095"/>
                  <a:pt x="10857" y="8095"/>
                  <a:pt x="10857" y="8095"/>
                </a:cubicBezTo>
                <a:cubicBezTo>
                  <a:pt x="10857" y="8095"/>
                  <a:pt x="10857" y="8095"/>
                  <a:pt x="10857" y="8095"/>
                </a:cubicBezTo>
                <a:cubicBezTo>
                  <a:pt x="10857" y="8095"/>
                  <a:pt x="10838" y="7914"/>
                  <a:pt x="10819" y="7914"/>
                </a:cubicBezTo>
                <a:cubicBezTo>
                  <a:pt x="10819" y="7914"/>
                  <a:pt x="10819" y="7914"/>
                  <a:pt x="10819" y="7914"/>
                </a:cubicBezTo>
                <a:cubicBezTo>
                  <a:pt x="10800" y="7914"/>
                  <a:pt x="10800" y="7914"/>
                  <a:pt x="10781" y="7878"/>
                </a:cubicBezTo>
                <a:cubicBezTo>
                  <a:pt x="10781" y="7878"/>
                  <a:pt x="10781" y="7878"/>
                  <a:pt x="10781" y="7841"/>
                </a:cubicBezTo>
                <a:cubicBezTo>
                  <a:pt x="10781" y="7841"/>
                  <a:pt x="10781" y="7841"/>
                  <a:pt x="10781" y="7841"/>
                </a:cubicBezTo>
                <a:cubicBezTo>
                  <a:pt x="10762" y="7841"/>
                  <a:pt x="10762" y="7841"/>
                  <a:pt x="10743" y="7841"/>
                </a:cubicBezTo>
                <a:cubicBezTo>
                  <a:pt x="10743" y="7841"/>
                  <a:pt x="10743" y="7841"/>
                  <a:pt x="10743" y="7841"/>
                </a:cubicBezTo>
                <a:cubicBezTo>
                  <a:pt x="10762" y="7841"/>
                  <a:pt x="10762" y="7841"/>
                  <a:pt x="10762" y="7841"/>
                </a:cubicBezTo>
                <a:cubicBezTo>
                  <a:pt x="10762" y="7805"/>
                  <a:pt x="10762" y="7805"/>
                  <a:pt x="10743" y="7805"/>
                </a:cubicBezTo>
                <a:cubicBezTo>
                  <a:pt x="10743" y="7805"/>
                  <a:pt x="10743" y="7805"/>
                  <a:pt x="10743" y="7805"/>
                </a:cubicBezTo>
                <a:cubicBezTo>
                  <a:pt x="10743" y="7805"/>
                  <a:pt x="10743" y="7805"/>
                  <a:pt x="10724" y="7805"/>
                </a:cubicBezTo>
                <a:cubicBezTo>
                  <a:pt x="10724" y="7732"/>
                  <a:pt x="10687" y="7769"/>
                  <a:pt x="10668" y="7732"/>
                </a:cubicBezTo>
                <a:cubicBezTo>
                  <a:pt x="10630" y="7696"/>
                  <a:pt x="10592" y="7624"/>
                  <a:pt x="10554" y="7551"/>
                </a:cubicBezTo>
                <a:cubicBezTo>
                  <a:pt x="10516" y="7515"/>
                  <a:pt x="10516" y="7369"/>
                  <a:pt x="10460" y="7333"/>
                </a:cubicBezTo>
                <a:cubicBezTo>
                  <a:pt x="10422" y="7297"/>
                  <a:pt x="10403" y="7297"/>
                  <a:pt x="10365" y="7333"/>
                </a:cubicBezTo>
                <a:cubicBezTo>
                  <a:pt x="10365" y="7333"/>
                  <a:pt x="10365" y="7369"/>
                  <a:pt x="10365" y="7369"/>
                </a:cubicBezTo>
                <a:cubicBezTo>
                  <a:pt x="10346" y="7369"/>
                  <a:pt x="10346" y="7369"/>
                  <a:pt x="10327" y="7369"/>
                </a:cubicBezTo>
                <a:cubicBezTo>
                  <a:pt x="10289" y="7406"/>
                  <a:pt x="10270" y="7478"/>
                  <a:pt x="10233" y="7515"/>
                </a:cubicBezTo>
                <a:cubicBezTo>
                  <a:pt x="10195" y="7515"/>
                  <a:pt x="10195" y="7478"/>
                  <a:pt x="10176" y="7442"/>
                </a:cubicBezTo>
                <a:cubicBezTo>
                  <a:pt x="10176" y="7442"/>
                  <a:pt x="10157" y="7442"/>
                  <a:pt x="10157" y="7442"/>
                </a:cubicBezTo>
                <a:cubicBezTo>
                  <a:pt x="10119" y="7442"/>
                  <a:pt x="10119" y="7406"/>
                  <a:pt x="10081" y="7442"/>
                </a:cubicBezTo>
                <a:cubicBezTo>
                  <a:pt x="10025" y="7515"/>
                  <a:pt x="10081" y="7587"/>
                  <a:pt x="10062" y="7660"/>
                </a:cubicBezTo>
                <a:cubicBezTo>
                  <a:pt x="10043" y="7696"/>
                  <a:pt x="10025" y="7696"/>
                  <a:pt x="10006" y="7732"/>
                </a:cubicBezTo>
                <a:cubicBezTo>
                  <a:pt x="10006" y="7732"/>
                  <a:pt x="9987" y="7732"/>
                  <a:pt x="9987" y="7732"/>
                </a:cubicBezTo>
                <a:cubicBezTo>
                  <a:pt x="9968" y="7769"/>
                  <a:pt x="9930" y="7732"/>
                  <a:pt x="9911" y="7805"/>
                </a:cubicBezTo>
                <a:cubicBezTo>
                  <a:pt x="9911" y="7805"/>
                  <a:pt x="9911" y="7805"/>
                  <a:pt x="9911" y="7841"/>
                </a:cubicBezTo>
                <a:cubicBezTo>
                  <a:pt x="9911" y="7841"/>
                  <a:pt x="9911" y="7841"/>
                  <a:pt x="9911" y="7841"/>
                </a:cubicBezTo>
                <a:cubicBezTo>
                  <a:pt x="9892" y="7841"/>
                  <a:pt x="9854" y="7950"/>
                  <a:pt x="9835" y="8023"/>
                </a:cubicBezTo>
                <a:cubicBezTo>
                  <a:pt x="9854" y="8023"/>
                  <a:pt x="9854" y="8059"/>
                  <a:pt x="9854" y="8059"/>
                </a:cubicBezTo>
                <a:cubicBezTo>
                  <a:pt x="9854" y="8095"/>
                  <a:pt x="9873" y="8095"/>
                  <a:pt x="9873" y="8095"/>
                </a:cubicBezTo>
                <a:cubicBezTo>
                  <a:pt x="9873" y="8095"/>
                  <a:pt x="9873" y="8095"/>
                  <a:pt x="9873" y="8095"/>
                </a:cubicBezTo>
                <a:cubicBezTo>
                  <a:pt x="9854" y="8132"/>
                  <a:pt x="9816" y="8168"/>
                  <a:pt x="9816" y="8241"/>
                </a:cubicBezTo>
                <a:cubicBezTo>
                  <a:pt x="9816" y="8241"/>
                  <a:pt x="9816" y="8241"/>
                  <a:pt x="9816" y="8241"/>
                </a:cubicBezTo>
                <a:cubicBezTo>
                  <a:pt x="9798" y="8277"/>
                  <a:pt x="9760" y="8277"/>
                  <a:pt x="9760" y="8313"/>
                </a:cubicBezTo>
                <a:cubicBezTo>
                  <a:pt x="9741" y="8350"/>
                  <a:pt x="9741" y="8350"/>
                  <a:pt x="9722" y="8386"/>
                </a:cubicBezTo>
                <a:cubicBezTo>
                  <a:pt x="9722" y="8386"/>
                  <a:pt x="9722" y="8350"/>
                  <a:pt x="9722" y="8350"/>
                </a:cubicBezTo>
                <a:cubicBezTo>
                  <a:pt x="9703" y="8350"/>
                  <a:pt x="9703" y="8386"/>
                  <a:pt x="9703" y="8386"/>
                </a:cubicBezTo>
                <a:cubicBezTo>
                  <a:pt x="9665" y="8386"/>
                  <a:pt x="9627" y="8386"/>
                  <a:pt x="9589" y="8386"/>
                </a:cubicBezTo>
                <a:cubicBezTo>
                  <a:pt x="9589" y="8386"/>
                  <a:pt x="9571" y="8386"/>
                  <a:pt x="9571" y="8422"/>
                </a:cubicBezTo>
                <a:cubicBezTo>
                  <a:pt x="9552" y="8422"/>
                  <a:pt x="9533" y="8422"/>
                  <a:pt x="9533" y="8458"/>
                </a:cubicBezTo>
                <a:cubicBezTo>
                  <a:pt x="9533" y="8458"/>
                  <a:pt x="9533" y="8458"/>
                  <a:pt x="9533" y="8458"/>
                </a:cubicBezTo>
                <a:cubicBezTo>
                  <a:pt x="9533" y="8458"/>
                  <a:pt x="9533" y="8458"/>
                  <a:pt x="9533" y="8458"/>
                </a:cubicBezTo>
                <a:cubicBezTo>
                  <a:pt x="9533" y="8458"/>
                  <a:pt x="9533" y="8458"/>
                  <a:pt x="9533" y="8458"/>
                </a:cubicBezTo>
                <a:cubicBezTo>
                  <a:pt x="9533" y="8458"/>
                  <a:pt x="9533" y="8458"/>
                  <a:pt x="9533" y="8458"/>
                </a:cubicBezTo>
                <a:cubicBezTo>
                  <a:pt x="9495" y="8495"/>
                  <a:pt x="9476" y="8422"/>
                  <a:pt x="9476" y="8386"/>
                </a:cubicBezTo>
                <a:cubicBezTo>
                  <a:pt x="9476" y="8386"/>
                  <a:pt x="9476" y="8386"/>
                  <a:pt x="9457" y="8386"/>
                </a:cubicBezTo>
                <a:cubicBezTo>
                  <a:pt x="9476" y="8350"/>
                  <a:pt x="9438" y="8277"/>
                  <a:pt x="9400" y="8313"/>
                </a:cubicBezTo>
                <a:cubicBezTo>
                  <a:pt x="9400" y="8313"/>
                  <a:pt x="9381" y="8313"/>
                  <a:pt x="9381" y="8350"/>
                </a:cubicBezTo>
                <a:cubicBezTo>
                  <a:pt x="9363" y="8350"/>
                  <a:pt x="9363" y="8313"/>
                  <a:pt x="9363" y="8313"/>
                </a:cubicBezTo>
                <a:cubicBezTo>
                  <a:pt x="9344" y="8313"/>
                  <a:pt x="9325" y="8313"/>
                  <a:pt x="9306" y="8350"/>
                </a:cubicBezTo>
                <a:cubicBezTo>
                  <a:pt x="9306" y="8350"/>
                  <a:pt x="9306" y="8350"/>
                  <a:pt x="9306" y="8350"/>
                </a:cubicBezTo>
                <a:cubicBezTo>
                  <a:pt x="9306" y="8313"/>
                  <a:pt x="9325" y="8277"/>
                  <a:pt x="9325" y="8277"/>
                </a:cubicBezTo>
                <a:cubicBezTo>
                  <a:pt x="9325" y="8241"/>
                  <a:pt x="9325" y="8204"/>
                  <a:pt x="9306" y="8204"/>
                </a:cubicBezTo>
                <a:cubicBezTo>
                  <a:pt x="9306" y="8204"/>
                  <a:pt x="9325" y="8204"/>
                  <a:pt x="9325" y="8204"/>
                </a:cubicBezTo>
                <a:cubicBezTo>
                  <a:pt x="9325" y="8168"/>
                  <a:pt x="9325" y="8168"/>
                  <a:pt x="9325" y="8132"/>
                </a:cubicBezTo>
                <a:cubicBezTo>
                  <a:pt x="9325" y="8132"/>
                  <a:pt x="9325" y="8132"/>
                  <a:pt x="9325" y="8132"/>
                </a:cubicBezTo>
                <a:cubicBezTo>
                  <a:pt x="9306" y="8132"/>
                  <a:pt x="9306" y="8132"/>
                  <a:pt x="9287" y="8132"/>
                </a:cubicBezTo>
                <a:cubicBezTo>
                  <a:pt x="9287" y="8132"/>
                  <a:pt x="9287" y="8132"/>
                  <a:pt x="9287" y="8132"/>
                </a:cubicBezTo>
                <a:cubicBezTo>
                  <a:pt x="9287" y="8132"/>
                  <a:pt x="9287" y="8132"/>
                  <a:pt x="9287" y="8132"/>
                </a:cubicBezTo>
                <a:cubicBezTo>
                  <a:pt x="9306" y="8132"/>
                  <a:pt x="9306" y="8095"/>
                  <a:pt x="9306" y="8095"/>
                </a:cubicBezTo>
                <a:cubicBezTo>
                  <a:pt x="9306" y="8095"/>
                  <a:pt x="9306" y="8095"/>
                  <a:pt x="9306" y="8059"/>
                </a:cubicBezTo>
                <a:cubicBezTo>
                  <a:pt x="9306" y="8095"/>
                  <a:pt x="9306" y="8095"/>
                  <a:pt x="9306" y="8095"/>
                </a:cubicBezTo>
                <a:cubicBezTo>
                  <a:pt x="9306" y="8095"/>
                  <a:pt x="9287" y="8095"/>
                  <a:pt x="9287" y="8095"/>
                </a:cubicBezTo>
                <a:cubicBezTo>
                  <a:pt x="9287" y="8095"/>
                  <a:pt x="9287" y="8095"/>
                  <a:pt x="9268" y="8095"/>
                </a:cubicBezTo>
                <a:cubicBezTo>
                  <a:pt x="9287" y="8059"/>
                  <a:pt x="9287" y="8059"/>
                  <a:pt x="9287" y="8023"/>
                </a:cubicBezTo>
                <a:cubicBezTo>
                  <a:pt x="9325" y="7987"/>
                  <a:pt x="9344" y="7769"/>
                  <a:pt x="9306" y="7660"/>
                </a:cubicBezTo>
                <a:cubicBezTo>
                  <a:pt x="9325" y="7660"/>
                  <a:pt x="9325" y="7587"/>
                  <a:pt x="9325" y="7587"/>
                </a:cubicBezTo>
                <a:cubicBezTo>
                  <a:pt x="9325" y="7551"/>
                  <a:pt x="9325" y="7515"/>
                  <a:pt x="9287" y="7515"/>
                </a:cubicBezTo>
                <a:cubicBezTo>
                  <a:pt x="9287" y="7515"/>
                  <a:pt x="9287" y="7515"/>
                  <a:pt x="9287" y="7478"/>
                </a:cubicBezTo>
                <a:cubicBezTo>
                  <a:pt x="9306" y="7442"/>
                  <a:pt x="9306" y="7442"/>
                  <a:pt x="9344" y="7442"/>
                </a:cubicBezTo>
                <a:cubicBezTo>
                  <a:pt x="9344" y="7442"/>
                  <a:pt x="9344" y="7442"/>
                  <a:pt x="9363" y="7442"/>
                </a:cubicBezTo>
                <a:cubicBezTo>
                  <a:pt x="9363" y="7442"/>
                  <a:pt x="9363" y="7406"/>
                  <a:pt x="9363" y="7406"/>
                </a:cubicBezTo>
                <a:cubicBezTo>
                  <a:pt x="9400" y="7369"/>
                  <a:pt x="9419" y="7406"/>
                  <a:pt x="9438" y="7442"/>
                </a:cubicBezTo>
                <a:cubicBezTo>
                  <a:pt x="9457" y="7442"/>
                  <a:pt x="9476" y="7406"/>
                  <a:pt x="9495" y="7406"/>
                </a:cubicBezTo>
                <a:cubicBezTo>
                  <a:pt x="9495" y="7406"/>
                  <a:pt x="9552" y="7442"/>
                  <a:pt x="9571" y="7442"/>
                </a:cubicBezTo>
                <a:cubicBezTo>
                  <a:pt x="9608" y="7442"/>
                  <a:pt x="9665" y="7442"/>
                  <a:pt x="9684" y="7406"/>
                </a:cubicBezTo>
                <a:cubicBezTo>
                  <a:pt x="9703" y="7442"/>
                  <a:pt x="9722" y="7442"/>
                  <a:pt x="9760" y="7442"/>
                </a:cubicBezTo>
                <a:cubicBezTo>
                  <a:pt x="9779" y="7406"/>
                  <a:pt x="9779" y="7333"/>
                  <a:pt x="9779" y="7261"/>
                </a:cubicBezTo>
                <a:cubicBezTo>
                  <a:pt x="9779" y="7261"/>
                  <a:pt x="9798" y="7261"/>
                  <a:pt x="9798" y="7261"/>
                </a:cubicBezTo>
                <a:cubicBezTo>
                  <a:pt x="9798" y="7261"/>
                  <a:pt x="9798" y="7261"/>
                  <a:pt x="9798" y="7261"/>
                </a:cubicBezTo>
                <a:cubicBezTo>
                  <a:pt x="9779" y="7261"/>
                  <a:pt x="9779" y="7261"/>
                  <a:pt x="9779" y="7261"/>
                </a:cubicBezTo>
                <a:cubicBezTo>
                  <a:pt x="9779" y="7224"/>
                  <a:pt x="9779" y="7152"/>
                  <a:pt x="9798" y="7152"/>
                </a:cubicBezTo>
                <a:cubicBezTo>
                  <a:pt x="9798" y="7152"/>
                  <a:pt x="9798" y="7152"/>
                  <a:pt x="9798" y="7152"/>
                </a:cubicBezTo>
                <a:cubicBezTo>
                  <a:pt x="9798" y="7152"/>
                  <a:pt x="9816" y="7188"/>
                  <a:pt x="9816" y="7188"/>
                </a:cubicBezTo>
                <a:cubicBezTo>
                  <a:pt x="9816" y="7152"/>
                  <a:pt x="9798" y="7152"/>
                  <a:pt x="9798" y="7115"/>
                </a:cubicBezTo>
                <a:cubicBezTo>
                  <a:pt x="9798" y="7079"/>
                  <a:pt x="9798" y="7079"/>
                  <a:pt x="9798" y="7043"/>
                </a:cubicBezTo>
                <a:cubicBezTo>
                  <a:pt x="9779" y="7006"/>
                  <a:pt x="9798" y="7006"/>
                  <a:pt x="9760" y="7006"/>
                </a:cubicBezTo>
                <a:cubicBezTo>
                  <a:pt x="9760" y="6970"/>
                  <a:pt x="9741" y="6970"/>
                  <a:pt x="9741" y="6934"/>
                </a:cubicBezTo>
                <a:cubicBezTo>
                  <a:pt x="9741" y="6934"/>
                  <a:pt x="9741" y="6934"/>
                  <a:pt x="9741" y="6897"/>
                </a:cubicBezTo>
                <a:cubicBezTo>
                  <a:pt x="9741" y="6897"/>
                  <a:pt x="9722" y="6897"/>
                  <a:pt x="9703" y="6861"/>
                </a:cubicBezTo>
                <a:cubicBezTo>
                  <a:pt x="9703" y="6861"/>
                  <a:pt x="9703" y="6861"/>
                  <a:pt x="9722" y="6825"/>
                </a:cubicBezTo>
                <a:cubicBezTo>
                  <a:pt x="9703" y="6825"/>
                  <a:pt x="9703" y="6825"/>
                  <a:pt x="9703" y="6825"/>
                </a:cubicBezTo>
                <a:cubicBezTo>
                  <a:pt x="9703" y="6825"/>
                  <a:pt x="9703" y="6825"/>
                  <a:pt x="9684" y="6825"/>
                </a:cubicBezTo>
                <a:cubicBezTo>
                  <a:pt x="9665" y="6789"/>
                  <a:pt x="9627" y="6789"/>
                  <a:pt x="9589" y="6789"/>
                </a:cubicBezTo>
                <a:cubicBezTo>
                  <a:pt x="9589" y="6789"/>
                  <a:pt x="9589" y="6789"/>
                  <a:pt x="9589" y="6789"/>
                </a:cubicBezTo>
                <a:cubicBezTo>
                  <a:pt x="9589" y="6752"/>
                  <a:pt x="9571" y="6752"/>
                  <a:pt x="9571" y="6752"/>
                </a:cubicBezTo>
                <a:cubicBezTo>
                  <a:pt x="9589" y="6752"/>
                  <a:pt x="9589" y="6752"/>
                  <a:pt x="9608" y="6752"/>
                </a:cubicBezTo>
                <a:cubicBezTo>
                  <a:pt x="9608" y="6752"/>
                  <a:pt x="9608" y="6752"/>
                  <a:pt x="9608" y="6752"/>
                </a:cubicBezTo>
                <a:cubicBezTo>
                  <a:pt x="9589" y="6752"/>
                  <a:pt x="9589" y="6752"/>
                  <a:pt x="9589" y="6716"/>
                </a:cubicBezTo>
                <a:cubicBezTo>
                  <a:pt x="9589" y="6716"/>
                  <a:pt x="9589" y="6716"/>
                  <a:pt x="9589" y="6716"/>
                </a:cubicBezTo>
                <a:cubicBezTo>
                  <a:pt x="9589" y="6716"/>
                  <a:pt x="9589" y="6716"/>
                  <a:pt x="9589" y="6716"/>
                </a:cubicBezTo>
                <a:cubicBezTo>
                  <a:pt x="9589" y="6716"/>
                  <a:pt x="9571" y="6716"/>
                  <a:pt x="9571" y="6716"/>
                </a:cubicBezTo>
                <a:cubicBezTo>
                  <a:pt x="9571" y="6716"/>
                  <a:pt x="9571" y="6680"/>
                  <a:pt x="9571" y="6680"/>
                </a:cubicBezTo>
                <a:cubicBezTo>
                  <a:pt x="9589" y="6680"/>
                  <a:pt x="9608" y="6643"/>
                  <a:pt x="9627" y="6643"/>
                </a:cubicBezTo>
                <a:cubicBezTo>
                  <a:pt x="9627" y="6643"/>
                  <a:pt x="9627" y="6643"/>
                  <a:pt x="9627" y="6643"/>
                </a:cubicBezTo>
                <a:cubicBezTo>
                  <a:pt x="9627" y="6643"/>
                  <a:pt x="9646" y="6643"/>
                  <a:pt x="9646" y="6643"/>
                </a:cubicBezTo>
                <a:cubicBezTo>
                  <a:pt x="9646" y="6643"/>
                  <a:pt x="9646" y="6643"/>
                  <a:pt x="9646" y="6643"/>
                </a:cubicBezTo>
                <a:cubicBezTo>
                  <a:pt x="9665" y="6643"/>
                  <a:pt x="9665" y="6643"/>
                  <a:pt x="9684" y="6643"/>
                </a:cubicBezTo>
                <a:cubicBezTo>
                  <a:pt x="9684" y="6643"/>
                  <a:pt x="9684" y="6643"/>
                  <a:pt x="9684" y="6680"/>
                </a:cubicBezTo>
                <a:cubicBezTo>
                  <a:pt x="9703" y="6680"/>
                  <a:pt x="9741" y="6680"/>
                  <a:pt x="9760" y="6643"/>
                </a:cubicBezTo>
                <a:cubicBezTo>
                  <a:pt x="9760" y="6643"/>
                  <a:pt x="9760" y="6680"/>
                  <a:pt x="9760" y="6680"/>
                </a:cubicBezTo>
                <a:cubicBezTo>
                  <a:pt x="9760" y="6680"/>
                  <a:pt x="9760" y="6680"/>
                  <a:pt x="9779" y="6643"/>
                </a:cubicBezTo>
                <a:cubicBezTo>
                  <a:pt x="9760" y="6643"/>
                  <a:pt x="9760" y="6607"/>
                  <a:pt x="9760" y="6571"/>
                </a:cubicBezTo>
                <a:cubicBezTo>
                  <a:pt x="9760" y="6571"/>
                  <a:pt x="9741" y="6534"/>
                  <a:pt x="9741" y="6498"/>
                </a:cubicBezTo>
                <a:cubicBezTo>
                  <a:pt x="9760" y="6498"/>
                  <a:pt x="9779" y="6498"/>
                  <a:pt x="9798" y="6498"/>
                </a:cubicBezTo>
                <a:cubicBezTo>
                  <a:pt x="9779" y="6534"/>
                  <a:pt x="9798" y="6534"/>
                  <a:pt x="9798" y="6571"/>
                </a:cubicBezTo>
                <a:cubicBezTo>
                  <a:pt x="9816" y="6534"/>
                  <a:pt x="9854" y="6571"/>
                  <a:pt x="9892" y="6534"/>
                </a:cubicBezTo>
                <a:cubicBezTo>
                  <a:pt x="9873" y="6534"/>
                  <a:pt x="9873" y="6534"/>
                  <a:pt x="9873" y="6534"/>
                </a:cubicBezTo>
                <a:cubicBezTo>
                  <a:pt x="9873" y="6534"/>
                  <a:pt x="9873" y="6534"/>
                  <a:pt x="9873" y="6534"/>
                </a:cubicBezTo>
                <a:cubicBezTo>
                  <a:pt x="9892" y="6462"/>
                  <a:pt x="9930" y="6498"/>
                  <a:pt x="9949" y="6462"/>
                </a:cubicBezTo>
                <a:cubicBezTo>
                  <a:pt x="9968" y="6426"/>
                  <a:pt x="9949" y="6389"/>
                  <a:pt x="9968" y="6317"/>
                </a:cubicBezTo>
                <a:cubicBezTo>
                  <a:pt x="9968" y="6317"/>
                  <a:pt x="9987" y="6317"/>
                  <a:pt x="9987" y="6280"/>
                </a:cubicBezTo>
                <a:cubicBezTo>
                  <a:pt x="10006" y="6280"/>
                  <a:pt x="10006" y="6280"/>
                  <a:pt x="10025" y="6280"/>
                </a:cubicBezTo>
                <a:cubicBezTo>
                  <a:pt x="10025" y="6280"/>
                  <a:pt x="10043" y="6280"/>
                  <a:pt x="10043" y="6244"/>
                </a:cubicBezTo>
                <a:cubicBezTo>
                  <a:pt x="10062" y="6244"/>
                  <a:pt x="10081" y="6280"/>
                  <a:pt x="10100" y="6244"/>
                </a:cubicBezTo>
                <a:cubicBezTo>
                  <a:pt x="10100" y="6244"/>
                  <a:pt x="10081" y="6208"/>
                  <a:pt x="10081" y="6208"/>
                </a:cubicBezTo>
                <a:cubicBezTo>
                  <a:pt x="10100" y="6171"/>
                  <a:pt x="10119" y="6171"/>
                  <a:pt x="10138" y="6135"/>
                </a:cubicBezTo>
                <a:cubicBezTo>
                  <a:pt x="10138" y="6099"/>
                  <a:pt x="10138" y="6063"/>
                  <a:pt x="10157" y="6026"/>
                </a:cubicBezTo>
                <a:cubicBezTo>
                  <a:pt x="10157" y="6026"/>
                  <a:pt x="10176" y="6026"/>
                  <a:pt x="10176" y="5990"/>
                </a:cubicBezTo>
                <a:cubicBezTo>
                  <a:pt x="10176" y="6026"/>
                  <a:pt x="10176" y="6026"/>
                  <a:pt x="10195" y="6026"/>
                </a:cubicBezTo>
                <a:cubicBezTo>
                  <a:pt x="10195" y="6026"/>
                  <a:pt x="10195" y="6063"/>
                  <a:pt x="10176" y="6063"/>
                </a:cubicBezTo>
                <a:cubicBezTo>
                  <a:pt x="10176" y="6063"/>
                  <a:pt x="10176" y="6063"/>
                  <a:pt x="10176" y="6063"/>
                </a:cubicBezTo>
                <a:cubicBezTo>
                  <a:pt x="10176" y="6063"/>
                  <a:pt x="10176" y="6099"/>
                  <a:pt x="10176" y="6099"/>
                </a:cubicBezTo>
                <a:cubicBezTo>
                  <a:pt x="10195" y="6099"/>
                  <a:pt x="10195" y="6135"/>
                  <a:pt x="10214" y="6099"/>
                </a:cubicBezTo>
                <a:cubicBezTo>
                  <a:pt x="10214" y="6099"/>
                  <a:pt x="10214" y="6099"/>
                  <a:pt x="10233" y="6063"/>
                </a:cubicBezTo>
                <a:cubicBezTo>
                  <a:pt x="10214" y="6063"/>
                  <a:pt x="10214" y="6063"/>
                  <a:pt x="10214" y="6063"/>
                </a:cubicBezTo>
                <a:cubicBezTo>
                  <a:pt x="10214" y="6026"/>
                  <a:pt x="10214" y="6026"/>
                  <a:pt x="10214" y="6026"/>
                </a:cubicBezTo>
                <a:cubicBezTo>
                  <a:pt x="10214" y="6026"/>
                  <a:pt x="10195" y="6026"/>
                  <a:pt x="10195" y="6026"/>
                </a:cubicBezTo>
                <a:cubicBezTo>
                  <a:pt x="10195" y="5990"/>
                  <a:pt x="10195" y="5990"/>
                  <a:pt x="10195" y="5954"/>
                </a:cubicBezTo>
                <a:cubicBezTo>
                  <a:pt x="10214" y="5954"/>
                  <a:pt x="10251" y="5917"/>
                  <a:pt x="10289" y="5917"/>
                </a:cubicBezTo>
                <a:cubicBezTo>
                  <a:pt x="10289" y="5954"/>
                  <a:pt x="10289" y="5954"/>
                  <a:pt x="10308" y="5954"/>
                </a:cubicBezTo>
                <a:cubicBezTo>
                  <a:pt x="10308" y="5954"/>
                  <a:pt x="10308" y="5954"/>
                  <a:pt x="10308" y="5954"/>
                </a:cubicBezTo>
                <a:cubicBezTo>
                  <a:pt x="10308" y="5954"/>
                  <a:pt x="10308" y="5954"/>
                  <a:pt x="10308" y="5954"/>
                </a:cubicBezTo>
                <a:cubicBezTo>
                  <a:pt x="10308" y="5954"/>
                  <a:pt x="10289" y="5954"/>
                  <a:pt x="10289" y="5917"/>
                </a:cubicBezTo>
                <a:cubicBezTo>
                  <a:pt x="10289" y="5917"/>
                  <a:pt x="10289" y="5917"/>
                  <a:pt x="10289" y="5917"/>
                </a:cubicBezTo>
                <a:cubicBezTo>
                  <a:pt x="10308" y="5881"/>
                  <a:pt x="10327" y="5881"/>
                  <a:pt x="10365" y="5881"/>
                </a:cubicBezTo>
                <a:cubicBezTo>
                  <a:pt x="10365" y="5917"/>
                  <a:pt x="10365" y="5917"/>
                  <a:pt x="10365" y="5917"/>
                </a:cubicBezTo>
                <a:cubicBezTo>
                  <a:pt x="10365" y="5917"/>
                  <a:pt x="10365" y="5917"/>
                  <a:pt x="10365" y="5917"/>
                </a:cubicBezTo>
                <a:cubicBezTo>
                  <a:pt x="10365" y="5917"/>
                  <a:pt x="10365" y="5917"/>
                  <a:pt x="10365" y="5917"/>
                </a:cubicBezTo>
                <a:cubicBezTo>
                  <a:pt x="10365" y="5917"/>
                  <a:pt x="10365" y="5917"/>
                  <a:pt x="10384" y="5917"/>
                </a:cubicBezTo>
                <a:cubicBezTo>
                  <a:pt x="10365" y="5917"/>
                  <a:pt x="10365" y="5917"/>
                  <a:pt x="10365" y="5881"/>
                </a:cubicBezTo>
                <a:cubicBezTo>
                  <a:pt x="10384" y="5917"/>
                  <a:pt x="10384" y="5917"/>
                  <a:pt x="10384" y="5917"/>
                </a:cubicBezTo>
                <a:cubicBezTo>
                  <a:pt x="10384" y="5881"/>
                  <a:pt x="10384" y="5881"/>
                  <a:pt x="10384" y="5845"/>
                </a:cubicBezTo>
                <a:cubicBezTo>
                  <a:pt x="10403" y="5845"/>
                  <a:pt x="10422" y="5881"/>
                  <a:pt x="10422" y="5845"/>
                </a:cubicBezTo>
                <a:cubicBezTo>
                  <a:pt x="10422" y="5845"/>
                  <a:pt x="10422" y="5845"/>
                  <a:pt x="10403" y="5845"/>
                </a:cubicBezTo>
                <a:cubicBezTo>
                  <a:pt x="10403" y="5845"/>
                  <a:pt x="10403" y="5845"/>
                  <a:pt x="10403" y="5845"/>
                </a:cubicBezTo>
                <a:cubicBezTo>
                  <a:pt x="10403" y="5845"/>
                  <a:pt x="10422" y="5808"/>
                  <a:pt x="10422" y="5808"/>
                </a:cubicBezTo>
                <a:cubicBezTo>
                  <a:pt x="10403" y="5808"/>
                  <a:pt x="10403" y="5808"/>
                  <a:pt x="10403" y="5808"/>
                </a:cubicBezTo>
                <a:cubicBezTo>
                  <a:pt x="10403" y="5808"/>
                  <a:pt x="10403" y="5808"/>
                  <a:pt x="10422" y="5772"/>
                </a:cubicBezTo>
                <a:cubicBezTo>
                  <a:pt x="10403" y="5808"/>
                  <a:pt x="10403" y="5808"/>
                  <a:pt x="10384" y="5772"/>
                </a:cubicBezTo>
                <a:cubicBezTo>
                  <a:pt x="10403" y="5772"/>
                  <a:pt x="10403" y="5772"/>
                  <a:pt x="10422" y="5772"/>
                </a:cubicBezTo>
                <a:cubicBezTo>
                  <a:pt x="10403" y="5736"/>
                  <a:pt x="10403" y="5736"/>
                  <a:pt x="10403" y="5699"/>
                </a:cubicBezTo>
                <a:cubicBezTo>
                  <a:pt x="10384" y="5663"/>
                  <a:pt x="10403" y="5627"/>
                  <a:pt x="10403" y="5591"/>
                </a:cubicBezTo>
                <a:cubicBezTo>
                  <a:pt x="10384" y="5591"/>
                  <a:pt x="10384" y="5591"/>
                  <a:pt x="10384" y="5591"/>
                </a:cubicBezTo>
                <a:cubicBezTo>
                  <a:pt x="10384" y="5591"/>
                  <a:pt x="10365" y="5591"/>
                  <a:pt x="10365" y="5591"/>
                </a:cubicBezTo>
                <a:cubicBezTo>
                  <a:pt x="10365" y="5591"/>
                  <a:pt x="10365" y="5591"/>
                  <a:pt x="10365" y="5591"/>
                </a:cubicBezTo>
                <a:cubicBezTo>
                  <a:pt x="10365" y="5554"/>
                  <a:pt x="10365" y="5554"/>
                  <a:pt x="10384" y="5518"/>
                </a:cubicBezTo>
                <a:cubicBezTo>
                  <a:pt x="10384" y="5482"/>
                  <a:pt x="10365" y="5445"/>
                  <a:pt x="10365" y="5409"/>
                </a:cubicBezTo>
                <a:cubicBezTo>
                  <a:pt x="10384" y="5409"/>
                  <a:pt x="10384" y="5445"/>
                  <a:pt x="10403" y="5445"/>
                </a:cubicBezTo>
                <a:cubicBezTo>
                  <a:pt x="10403" y="5409"/>
                  <a:pt x="10403" y="5409"/>
                  <a:pt x="10422" y="5373"/>
                </a:cubicBezTo>
                <a:cubicBezTo>
                  <a:pt x="10422" y="5409"/>
                  <a:pt x="10422" y="5409"/>
                  <a:pt x="10422" y="5409"/>
                </a:cubicBezTo>
                <a:cubicBezTo>
                  <a:pt x="10441" y="5409"/>
                  <a:pt x="10441" y="5409"/>
                  <a:pt x="10441" y="5409"/>
                </a:cubicBezTo>
                <a:cubicBezTo>
                  <a:pt x="10441" y="5373"/>
                  <a:pt x="10441" y="5373"/>
                  <a:pt x="10441" y="5336"/>
                </a:cubicBezTo>
                <a:cubicBezTo>
                  <a:pt x="10460" y="5336"/>
                  <a:pt x="10478" y="5336"/>
                  <a:pt x="10497" y="5336"/>
                </a:cubicBezTo>
                <a:cubicBezTo>
                  <a:pt x="10497" y="5373"/>
                  <a:pt x="10497" y="5409"/>
                  <a:pt x="10497" y="5409"/>
                </a:cubicBezTo>
                <a:cubicBezTo>
                  <a:pt x="10516" y="5409"/>
                  <a:pt x="10516" y="5409"/>
                  <a:pt x="10535" y="5409"/>
                </a:cubicBezTo>
                <a:cubicBezTo>
                  <a:pt x="10535" y="5445"/>
                  <a:pt x="10535" y="5482"/>
                  <a:pt x="10535" y="5482"/>
                </a:cubicBezTo>
                <a:cubicBezTo>
                  <a:pt x="10516" y="5482"/>
                  <a:pt x="10516" y="5482"/>
                  <a:pt x="10516" y="5482"/>
                </a:cubicBezTo>
                <a:cubicBezTo>
                  <a:pt x="10516" y="5482"/>
                  <a:pt x="10516" y="5482"/>
                  <a:pt x="10497" y="5482"/>
                </a:cubicBezTo>
                <a:cubicBezTo>
                  <a:pt x="10497" y="5482"/>
                  <a:pt x="10497" y="5482"/>
                  <a:pt x="10497" y="5482"/>
                </a:cubicBezTo>
                <a:cubicBezTo>
                  <a:pt x="10497" y="5518"/>
                  <a:pt x="10478" y="5518"/>
                  <a:pt x="10478" y="5554"/>
                </a:cubicBezTo>
                <a:cubicBezTo>
                  <a:pt x="10478" y="5554"/>
                  <a:pt x="10460" y="5554"/>
                  <a:pt x="10460" y="5554"/>
                </a:cubicBezTo>
                <a:cubicBezTo>
                  <a:pt x="10460" y="5554"/>
                  <a:pt x="10460" y="5554"/>
                  <a:pt x="10460" y="5591"/>
                </a:cubicBezTo>
                <a:cubicBezTo>
                  <a:pt x="10460" y="5591"/>
                  <a:pt x="10460" y="5627"/>
                  <a:pt x="10441" y="5663"/>
                </a:cubicBezTo>
                <a:cubicBezTo>
                  <a:pt x="10460" y="5663"/>
                  <a:pt x="10497" y="5699"/>
                  <a:pt x="10478" y="5736"/>
                </a:cubicBezTo>
                <a:cubicBezTo>
                  <a:pt x="10478" y="5736"/>
                  <a:pt x="10478" y="5736"/>
                  <a:pt x="10497" y="5772"/>
                </a:cubicBezTo>
                <a:cubicBezTo>
                  <a:pt x="10497" y="5772"/>
                  <a:pt x="10497" y="5772"/>
                  <a:pt x="10516" y="5772"/>
                </a:cubicBezTo>
                <a:cubicBezTo>
                  <a:pt x="10516" y="5772"/>
                  <a:pt x="10535" y="5772"/>
                  <a:pt x="10554" y="5772"/>
                </a:cubicBezTo>
                <a:cubicBezTo>
                  <a:pt x="10554" y="5772"/>
                  <a:pt x="10554" y="5772"/>
                  <a:pt x="10554" y="5772"/>
                </a:cubicBezTo>
                <a:cubicBezTo>
                  <a:pt x="10535" y="5808"/>
                  <a:pt x="10535" y="5808"/>
                  <a:pt x="10535" y="5845"/>
                </a:cubicBezTo>
                <a:cubicBezTo>
                  <a:pt x="10535" y="5845"/>
                  <a:pt x="10535" y="5845"/>
                  <a:pt x="10535" y="5845"/>
                </a:cubicBezTo>
                <a:cubicBezTo>
                  <a:pt x="10535" y="5845"/>
                  <a:pt x="10535" y="5845"/>
                  <a:pt x="10554" y="5845"/>
                </a:cubicBezTo>
                <a:cubicBezTo>
                  <a:pt x="10554" y="5845"/>
                  <a:pt x="10554" y="5845"/>
                  <a:pt x="10554" y="5845"/>
                </a:cubicBezTo>
                <a:cubicBezTo>
                  <a:pt x="10554" y="5845"/>
                  <a:pt x="10554" y="5845"/>
                  <a:pt x="10554" y="5845"/>
                </a:cubicBezTo>
                <a:cubicBezTo>
                  <a:pt x="10554" y="5845"/>
                  <a:pt x="10573" y="5845"/>
                  <a:pt x="10573" y="5845"/>
                </a:cubicBezTo>
                <a:cubicBezTo>
                  <a:pt x="10573" y="5808"/>
                  <a:pt x="10649" y="5772"/>
                  <a:pt x="10668" y="5772"/>
                </a:cubicBezTo>
                <a:cubicBezTo>
                  <a:pt x="10668" y="5808"/>
                  <a:pt x="10705" y="5808"/>
                  <a:pt x="10705" y="5808"/>
                </a:cubicBezTo>
                <a:cubicBezTo>
                  <a:pt x="10705" y="5845"/>
                  <a:pt x="10724" y="5845"/>
                  <a:pt x="10724" y="5845"/>
                </a:cubicBezTo>
                <a:cubicBezTo>
                  <a:pt x="10724" y="5881"/>
                  <a:pt x="10743" y="5881"/>
                  <a:pt x="10762" y="5881"/>
                </a:cubicBezTo>
                <a:cubicBezTo>
                  <a:pt x="10762" y="5881"/>
                  <a:pt x="10762" y="5881"/>
                  <a:pt x="10762" y="5845"/>
                </a:cubicBezTo>
                <a:cubicBezTo>
                  <a:pt x="10838" y="5808"/>
                  <a:pt x="10876" y="5772"/>
                  <a:pt x="10932" y="5736"/>
                </a:cubicBezTo>
                <a:cubicBezTo>
                  <a:pt x="10951" y="5699"/>
                  <a:pt x="10989" y="5699"/>
                  <a:pt x="10989" y="5736"/>
                </a:cubicBezTo>
                <a:cubicBezTo>
                  <a:pt x="11008" y="5736"/>
                  <a:pt x="11008" y="5736"/>
                  <a:pt x="11008" y="5772"/>
                </a:cubicBezTo>
                <a:cubicBezTo>
                  <a:pt x="11046" y="5808"/>
                  <a:pt x="11065" y="5772"/>
                  <a:pt x="11084" y="5736"/>
                </a:cubicBezTo>
                <a:cubicBezTo>
                  <a:pt x="11084" y="5699"/>
                  <a:pt x="11084" y="5699"/>
                  <a:pt x="11103" y="5663"/>
                </a:cubicBezTo>
                <a:cubicBezTo>
                  <a:pt x="11122" y="5663"/>
                  <a:pt x="11159" y="5699"/>
                  <a:pt x="11178" y="5663"/>
                </a:cubicBezTo>
                <a:cubicBezTo>
                  <a:pt x="11178" y="5663"/>
                  <a:pt x="11178" y="5627"/>
                  <a:pt x="11159" y="5627"/>
                </a:cubicBezTo>
                <a:cubicBezTo>
                  <a:pt x="11178" y="5627"/>
                  <a:pt x="11178" y="5627"/>
                  <a:pt x="11178" y="5627"/>
                </a:cubicBezTo>
                <a:cubicBezTo>
                  <a:pt x="11178" y="5627"/>
                  <a:pt x="11178" y="5627"/>
                  <a:pt x="11178" y="5627"/>
                </a:cubicBezTo>
                <a:cubicBezTo>
                  <a:pt x="11159" y="5591"/>
                  <a:pt x="11140" y="5445"/>
                  <a:pt x="11159" y="5373"/>
                </a:cubicBezTo>
                <a:cubicBezTo>
                  <a:pt x="11159" y="5373"/>
                  <a:pt x="11178" y="5373"/>
                  <a:pt x="11178" y="5336"/>
                </a:cubicBezTo>
                <a:cubicBezTo>
                  <a:pt x="11178" y="5336"/>
                  <a:pt x="11178" y="5300"/>
                  <a:pt x="11178" y="5300"/>
                </a:cubicBezTo>
                <a:cubicBezTo>
                  <a:pt x="11178" y="5264"/>
                  <a:pt x="11197" y="5264"/>
                  <a:pt x="11197" y="5228"/>
                </a:cubicBezTo>
                <a:cubicBezTo>
                  <a:pt x="11235" y="5228"/>
                  <a:pt x="11235" y="5228"/>
                  <a:pt x="11254" y="5228"/>
                </a:cubicBezTo>
                <a:cubicBezTo>
                  <a:pt x="11254" y="5228"/>
                  <a:pt x="11254" y="5228"/>
                  <a:pt x="11254" y="5228"/>
                </a:cubicBezTo>
                <a:cubicBezTo>
                  <a:pt x="11273" y="5264"/>
                  <a:pt x="11273" y="5264"/>
                  <a:pt x="11292" y="5264"/>
                </a:cubicBezTo>
                <a:cubicBezTo>
                  <a:pt x="11292" y="5300"/>
                  <a:pt x="11292" y="5300"/>
                  <a:pt x="11292" y="5336"/>
                </a:cubicBezTo>
                <a:cubicBezTo>
                  <a:pt x="11311" y="5373"/>
                  <a:pt x="11349" y="5336"/>
                  <a:pt x="11367" y="5300"/>
                </a:cubicBezTo>
                <a:cubicBezTo>
                  <a:pt x="11349" y="5228"/>
                  <a:pt x="11367" y="5191"/>
                  <a:pt x="11367" y="5119"/>
                </a:cubicBezTo>
                <a:cubicBezTo>
                  <a:pt x="11367" y="5119"/>
                  <a:pt x="11367" y="5119"/>
                  <a:pt x="11367" y="5119"/>
                </a:cubicBezTo>
                <a:cubicBezTo>
                  <a:pt x="11367" y="5119"/>
                  <a:pt x="11349" y="5119"/>
                  <a:pt x="11349" y="5119"/>
                </a:cubicBezTo>
                <a:cubicBezTo>
                  <a:pt x="11349" y="5119"/>
                  <a:pt x="11330" y="5119"/>
                  <a:pt x="11330" y="5119"/>
                </a:cubicBezTo>
                <a:cubicBezTo>
                  <a:pt x="11330" y="5082"/>
                  <a:pt x="11330" y="5082"/>
                  <a:pt x="11330" y="5046"/>
                </a:cubicBezTo>
                <a:cubicBezTo>
                  <a:pt x="11330" y="5046"/>
                  <a:pt x="11311" y="5046"/>
                  <a:pt x="11311" y="5046"/>
                </a:cubicBezTo>
                <a:cubicBezTo>
                  <a:pt x="11311" y="5010"/>
                  <a:pt x="11311" y="5010"/>
                  <a:pt x="11311" y="4973"/>
                </a:cubicBezTo>
                <a:cubicBezTo>
                  <a:pt x="11311" y="4973"/>
                  <a:pt x="11311" y="4973"/>
                  <a:pt x="11311" y="4973"/>
                </a:cubicBezTo>
                <a:cubicBezTo>
                  <a:pt x="11330" y="4973"/>
                  <a:pt x="11349" y="4937"/>
                  <a:pt x="11367" y="4901"/>
                </a:cubicBezTo>
                <a:cubicBezTo>
                  <a:pt x="11367" y="4937"/>
                  <a:pt x="11386" y="4901"/>
                  <a:pt x="11386" y="4937"/>
                </a:cubicBezTo>
                <a:cubicBezTo>
                  <a:pt x="11386" y="4901"/>
                  <a:pt x="11386" y="4901"/>
                  <a:pt x="11386" y="4901"/>
                </a:cubicBezTo>
                <a:cubicBezTo>
                  <a:pt x="11405" y="4901"/>
                  <a:pt x="11405" y="4901"/>
                  <a:pt x="11424" y="4901"/>
                </a:cubicBezTo>
                <a:cubicBezTo>
                  <a:pt x="11424" y="4901"/>
                  <a:pt x="11424" y="4901"/>
                  <a:pt x="11443" y="4901"/>
                </a:cubicBezTo>
                <a:cubicBezTo>
                  <a:pt x="11443" y="4901"/>
                  <a:pt x="11462" y="4901"/>
                  <a:pt x="11481" y="4901"/>
                </a:cubicBezTo>
                <a:cubicBezTo>
                  <a:pt x="11519" y="4901"/>
                  <a:pt x="11538" y="4937"/>
                  <a:pt x="11575" y="4937"/>
                </a:cubicBezTo>
                <a:cubicBezTo>
                  <a:pt x="11575" y="4937"/>
                  <a:pt x="11594" y="4901"/>
                  <a:pt x="11594" y="4901"/>
                </a:cubicBezTo>
                <a:cubicBezTo>
                  <a:pt x="11594" y="4901"/>
                  <a:pt x="11594" y="4901"/>
                  <a:pt x="11594" y="4901"/>
                </a:cubicBezTo>
                <a:cubicBezTo>
                  <a:pt x="11594" y="4901"/>
                  <a:pt x="11594" y="4901"/>
                  <a:pt x="11594" y="4865"/>
                </a:cubicBezTo>
                <a:cubicBezTo>
                  <a:pt x="11594" y="4865"/>
                  <a:pt x="11594" y="4865"/>
                  <a:pt x="11594" y="4865"/>
                </a:cubicBezTo>
                <a:cubicBezTo>
                  <a:pt x="11594" y="4865"/>
                  <a:pt x="11594" y="4865"/>
                  <a:pt x="11594" y="4865"/>
                </a:cubicBezTo>
                <a:cubicBezTo>
                  <a:pt x="11594" y="4865"/>
                  <a:pt x="11613" y="4865"/>
                  <a:pt x="11613" y="4865"/>
                </a:cubicBezTo>
                <a:cubicBezTo>
                  <a:pt x="11613" y="4865"/>
                  <a:pt x="11613" y="4865"/>
                  <a:pt x="11613" y="4828"/>
                </a:cubicBezTo>
                <a:cubicBezTo>
                  <a:pt x="11632" y="4828"/>
                  <a:pt x="11632" y="4828"/>
                  <a:pt x="11632" y="4865"/>
                </a:cubicBezTo>
                <a:cubicBezTo>
                  <a:pt x="11651" y="4828"/>
                  <a:pt x="11651" y="4792"/>
                  <a:pt x="11670" y="4792"/>
                </a:cubicBezTo>
                <a:cubicBezTo>
                  <a:pt x="11689" y="4828"/>
                  <a:pt x="11689" y="4828"/>
                  <a:pt x="11708" y="4828"/>
                </a:cubicBezTo>
                <a:cubicBezTo>
                  <a:pt x="11708" y="4828"/>
                  <a:pt x="11727" y="4828"/>
                  <a:pt x="11727" y="4828"/>
                </a:cubicBezTo>
                <a:cubicBezTo>
                  <a:pt x="11689" y="4719"/>
                  <a:pt x="11651" y="4828"/>
                  <a:pt x="11613" y="4719"/>
                </a:cubicBezTo>
                <a:cubicBezTo>
                  <a:pt x="11613" y="4719"/>
                  <a:pt x="11632" y="4683"/>
                  <a:pt x="11632" y="4683"/>
                </a:cubicBezTo>
                <a:cubicBezTo>
                  <a:pt x="11613" y="4683"/>
                  <a:pt x="11613" y="4683"/>
                  <a:pt x="11613" y="4719"/>
                </a:cubicBezTo>
                <a:cubicBezTo>
                  <a:pt x="11594" y="4719"/>
                  <a:pt x="11575" y="4719"/>
                  <a:pt x="11557" y="4756"/>
                </a:cubicBezTo>
                <a:cubicBezTo>
                  <a:pt x="11557" y="4756"/>
                  <a:pt x="11538" y="4719"/>
                  <a:pt x="11538" y="4719"/>
                </a:cubicBezTo>
                <a:cubicBezTo>
                  <a:pt x="11538" y="4719"/>
                  <a:pt x="11538" y="4756"/>
                  <a:pt x="11519" y="4756"/>
                </a:cubicBezTo>
                <a:cubicBezTo>
                  <a:pt x="11519" y="4756"/>
                  <a:pt x="11500" y="4756"/>
                  <a:pt x="11500" y="4719"/>
                </a:cubicBezTo>
                <a:cubicBezTo>
                  <a:pt x="11500" y="4719"/>
                  <a:pt x="11500" y="4719"/>
                  <a:pt x="11500" y="4719"/>
                </a:cubicBezTo>
                <a:cubicBezTo>
                  <a:pt x="11500" y="4719"/>
                  <a:pt x="11500" y="4756"/>
                  <a:pt x="11500" y="4756"/>
                </a:cubicBezTo>
                <a:cubicBezTo>
                  <a:pt x="11481" y="4756"/>
                  <a:pt x="11462" y="4756"/>
                  <a:pt x="11462" y="4792"/>
                </a:cubicBezTo>
                <a:cubicBezTo>
                  <a:pt x="11462" y="4792"/>
                  <a:pt x="11462" y="4792"/>
                  <a:pt x="11462" y="4792"/>
                </a:cubicBezTo>
                <a:cubicBezTo>
                  <a:pt x="11443" y="4792"/>
                  <a:pt x="11443" y="4756"/>
                  <a:pt x="11443" y="4756"/>
                </a:cubicBezTo>
                <a:cubicBezTo>
                  <a:pt x="11443" y="4792"/>
                  <a:pt x="11424" y="4792"/>
                  <a:pt x="11405" y="4792"/>
                </a:cubicBezTo>
                <a:cubicBezTo>
                  <a:pt x="11405" y="4792"/>
                  <a:pt x="11405" y="4792"/>
                  <a:pt x="11405" y="4792"/>
                </a:cubicBezTo>
                <a:cubicBezTo>
                  <a:pt x="11386" y="4792"/>
                  <a:pt x="11386" y="4792"/>
                  <a:pt x="11367" y="4828"/>
                </a:cubicBezTo>
                <a:cubicBezTo>
                  <a:pt x="11367" y="4828"/>
                  <a:pt x="11349" y="4828"/>
                  <a:pt x="11349" y="4828"/>
                </a:cubicBezTo>
                <a:cubicBezTo>
                  <a:pt x="11349" y="4828"/>
                  <a:pt x="11349" y="4828"/>
                  <a:pt x="11349" y="4828"/>
                </a:cubicBezTo>
                <a:cubicBezTo>
                  <a:pt x="11330" y="4828"/>
                  <a:pt x="11311" y="4865"/>
                  <a:pt x="11292" y="4828"/>
                </a:cubicBezTo>
                <a:cubicBezTo>
                  <a:pt x="11292" y="4828"/>
                  <a:pt x="11273" y="4828"/>
                  <a:pt x="11273" y="4792"/>
                </a:cubicBezTo>
                <a:cubicBezTo>
                  <a:pt x="11273" y="4792"/>
                  <a:pt x="11273" y="4792"/>
                  <a:pt x="11273" y="4756"/>
                </a:cubicBezTo>
                <a:cubicBezTo>
                  <a:pt x="11273" y="4756"/>
                  <a:pt x="11254" y="4792"/>
                  <a:pt x="11254" y="4792"/>
                </a:cubicBezTo>
                <a:cubicBezTo>
                  <a:pt x="11254" y="4792"/>
                  <a:pt x="11254" y="4756"/>
                  <a:pt x="11254" y="4756"/>
                </a:cubicBezTo>
                <a:cubicBezTo>
                  <a:pt x="11235" y="4756"/>
                  <a:pt x="11235" y="4756"/>
                  <a:pt x="11216" y="4756"/>
                </a:cubicBezTo>
                <a:cubicBezTo>
                  <a:pt x="11178" y="4719"/>
                  <a:pt x="11178" y="4647"/>
                  <a:pt x="11197" y="4574"/>
                </a:cubicBezTo>
                <a:cubicBezTo>
                  <a:pt x="11197" y="4574"/>
                  <a:pt x="11197" y="4538"/>
                  <a:pt x="11197" y="4538"/>
                </a:cubicBezTo>
                <a:cubicBezTo>
                  <a:pt x="11197" y="4502"/>
                  <a:pt x="11178" y="4502"/>
                  <a:pt x="11178" y="4465"/>
                </a:cubicBezTo>
                <a:cubicBezTo>
                  <a:pt x="11178" y="4429"/>
                  <a:pt x="11178" y="4429"/>
                  <a:pt x="11178" y="4393"/>
                </a:cubicBezTo>
                <a:cubicBezTo>
                  <a:pt x="11178" y="4356"/>
                  <a:pt x="11159" y="4356"/>
                  <a:pt x="11159" y="4356"/>
                </a:cubicBezTo>
                <a:cubicBezTo>
                  <a:pt x="11159" y="4320"/>
                  <a:pt x="11178" y="4284"/>
                  <a:pt x="11197" y="4284"/>
                </a:cubicBezTo>
                <a:cubicBezTo>
                  <a:pt x="11197" y="4247"/>
                  <a:pt x="11197" y="4247"/>
                  <a:pt x="11197" y="4247"/>
                </a:cubicBezTo>
                <a:cubicBezTo>
                  <a:pt x="11197" y="4211"/>
                  <a:pt x="11216" y="4247"/>
                  <a:pt x="11216" y="4247"/>
                </a:cubicBezTo>
                <a:cubicBezTo>
                  <a:pt x="11254" y="4211"/>
                  <a:pt x="11235" y="4175"/>
                  <a:pt x="11254" y="4138"/>
                </a:cubicBezTo>
                <a:cubicBezTo>
                  <a:pt x="11254" y="4138"/>
                  <a:pt x="11254" y="4138"/>
                  <a:pt x="11254" y="4138"/>
                </a:cubicBezTo>
                <a:cubicBezTo>
                  <a:pt x="11254" y="4138"/>
                  <a:pt x="11273" y="4138"/>
                  <a:pt x="11273" y="4138"/>
                </a:cubicBezTo>
                <a:cubicBezTo>
                  <a:pt x="11273" y="4138"/>
                  <a:pt x="11273" y="4138"/>
                  <a:pt x="11273" y="4138"/>
                </a:cubicBezTo>
                <a:cubicBezTo>
                  <a:pt x="11292" y="4102"/>
                  <a:pt x="11386" y="3921"/>
                  <a:pt x="11405" y="3921"/>
                </a:cubicBezTo>
                <a:cubicBezTo>
                  <a:pt x="11405" y="3921"/>
                  <a:pt x="11424" y="3921"/>
                  <a:pt x="11424" y="3921"/>
                </a:cubicBezTo>
                <a:cubicBezTo>
                  <a:pt x="11424" y="3921"/>
                  <a:pt x="11424" y="3884"/>
                  <a:pt x="11424" y="3884"/>
                </a:cubicBezTo>
                <a:cubicBezTo>
                  <a:pt x="11424" y="3884"/>
                  <a:pt x="11424" y="3884"/>
                  <a:pt x="11424" y="3884"/>
                </a:cubicBezTo>
                <a:cubicBezTo>
                  <a:pt x="11424" y="3848"/>
                  <a:pt x="11424" y="3812"/>
                  <a:pt x="11424" y="3812"/>
                </a:cubicBezTo>
                <a:cubicBezTo>
                  <a:pt x="11424" y="3812"/>
                  <a:pt x="11424" y="3775"/>
                  <a:pt x="11405" y="3775"/>
                </a:cubicBezTo>
                <a:cubicBezTo>
                  <a:pt x="11386" y="3775"/>
                  <a:pt x="11367" y="3775"/>
                  <a:pt x="11349" y="3739"/>
                </a:cubicBezTo>
                <a:cubicBezTo>
                  <a:pt x="11349" y="3739"/>
                  <a:pt x="11292" y="3739"/>
                  <a:pt x="11292" y="3739"/>
                </a:cubicBezTo>
                <a:cubicBezTo>
                  <a:pt x="11273" y="3739"/>
                  <a:pt x="11273" y="3703"/>
                  <a:pt x="11254" y="3703"/>
                </a:cubicBezTo>
                <a:cubicBezTo>
                  <a:pt x="11235" y="3739"/>
                  <a:pt x="11235" y="3775"/>
                  <a:pt x="11216" y="3812"/>
                </a:cubicBezTo>
                <a:cubicBezTo>
                  <a:pt x="11197" y="3812"/>
                  <a:pt x="11197" y="3812"/>
                  <a:pt x="11178" y="3848"/>
                </a:cubicBezTo>
                <a:cubicBezTo>
                  <a:pt x="11178" y="3848"/>
                  <a:pt x="11197" y="3884"/>
                  <a:pt x="11178" y="3884"/>
                </a:cubicBezTo>
                <a:cubicBezTo>
                  <a:pt x="11178" y="3921"/>
                  <a:pt x="11159" y="3921"/>
                  <a:pt x="11159" y="3957"/>
                </a:cubicBezTo>
                <a:cubicBezTo>
                  <a:pt x="11159" y="3957"/>
                  <a:pt x="11159" y="3957"/>
                  <a:pt x="11159" y="3957"/>
                </a:cubicBezTo>
                <a:cubicBezTo>
                  <a:pt x="11159" y="3957"/>
                  <a:pt x="11178" y="3993"/>
                  <a:pt x="11178" y="3993"/>
                </a:cubicBezTo>
                <a:cubicBezTo>
                  <a:pt x="11178" y="3993"/>
                  <a:pt x="11178" y="3993"/>
                  <a:pt x="11178" y="3993"/>
                </a:cubicBezTo>
                <a:cubicBezTo>
                  <a:pt x="11159" y="4030"/>
                  <a:pt x="11159" y="4066"/>
                  <a:pt x="11140" y="4102"/>
                </a:cubicBezTo>
                <a:cubicBezTo>
                  <a:pt x="11122" y="4138"/>
                  <a:pt x="11103" y="4175"/>
                  <a:pt x="11084" y="4175"/>
                </a:cubicBezTo>
                <a:cubicBezTo>
                  <a:pt x="11084" y="4175"/>
                  <a:pt x="11065" y="4175"/>
                  <a:pt x="11065" y="4175"/>
                </a:cubicBezTo>
                <a:cubicBezTo>
                  <a:pt x="11046" y="4175"/>
                  <a:pt x="11046" y="4211"/>
                  <a:pt x="11046" y="4211"/>
                </a:cubicBezTo>
                <a:cubicBezTo>
                  <a:pt x="11027" y="4247"/>
                  <a:pt x="11008" y="4247"/>
                  <a:pt x="10989" y="4320"/>
                </a:cubicBezTo>
                <a:cubicBezTo>
                  <a:pt x="10989" y="4320"/>
                  <a:pt x="10970" y="4320"/>
                  <a:pt x="10970" y="4320"/>
                </a:cubicBezTo>
                <a:cubicBezTo>
                  <a:pt x="10970" y="4320"/>
                  <a:pt x="10970" y="4320"/>
                  <a:pt x="10970" y="4356"/>
                </a:cubicBezTo>
                <a:cubicBezTo>
                  <a:pt x="10970" y="4356"/>
                  <a:pt x="10951" y="4356"/>
                  <a:pt x="10951" y="4393"/>
                </a:cubicBezTo>
                <a:cubicBezTo>
                  <a:pt x="10951" y="4393"/>
                  <a:pt x="10932" y="4356"/>
                  <a:pt x="10932" y="4356"/>
                </a:cubicBezTo>
                <a:cubicBezTo>
                  <a:pt x="10932" y="4429"/>
                  <a:pt x="10951" y="4429"/>
                  <a:pt x="10932" y="4502"/>
                </a:cubicBezTo>
                <a:cubicBezTo>
                  <a:pt x="10932" y="4502"/>
                  <a:pt x="10932" y="4502"/>
                  <a:pt x="10913" y="4502"/>
                </a:cubicBezTo>
                <a:cubicBezTo>
                  <a:pt x="10913" y="4574"/>
                  <a:pt x="10932" y="4683"/>
                  <a:pt x="10932" y="4683"/>
                </a:cubicBezTo>
                <a:cubicBezTo>
                  <a:pt x="10932" y="4683"/>
                  <a:pt x="10932" y="4683"/>
                  <a:pt x="10932" y="4683"/>
                </a:cubicBezTo>
                <a:cubicBezTo>
                  <a:pt x="10951" y="4683"/>
                  <a:pt x="10951" y="4683"/>
                  <a:pt x="10951" y="4719"/>
                </a:cubicBezTo>
                <a:cubicBezTo>
                  <a:pt x="10970" y="4719"/>
                  <a:pt x="10970" y="4719"/>
                  <a:pt x="10970" y="4719"/>
                </a:cubicBezTo>
                <a:cubicBezTo>
                  <a:pt x="10989" y="4756"/>
                  <a:pt x="10989" y="4792"/>
                  <a:pt x="11027" y="4792"/>
                </a:cubicBezTo>
                <a:cubicBezTo>
                  <a:pt x="11027" y="4828"/>
                  <a:pt x="11046" y="4828"/>
                  <a:pt x="11046" y="4865"/>
                </a:cubicBezTo>
                <a:cubicBezTo>
                  <a:pt x="11027" y="4865"/>
                  <a:pt x="11027" y="4865"/>
                  <a:pt x="11027" y="4865"/>
                </a:cubicBezTo>
                <a:cubicBezTo>
                  <a:pt x="11027" y="4865"/>
                  <a:pt x="10970" y="4937"/>
                  <a:pt x="10970" y="4901"/>
                </a:cubicBezTo>
                <a:cubicBezTo>
                  <a:pt x="10951" y="4901"/>
                  <a:pt x="10895" y="4865"/>
                  <a:pt x="10876" y="4901"/>
                </a:cubicBezTo>
                <a:cubicBezTo>
                  <a:pt x="10876" y="4901"/>
                  <a:pt x="10876" y="4901"/>
                  <a:pt x="10876" y="4901"/>
                </a:cubicBezTo>
                <a:cubicBezTo>
                  <a:pt x="10876" y="4901"/>
                  <a:pt x="10876" y="4901"/>
                  <a:pt x="10876" y="4901"/>
                </a:cubicBezTo>
                <a:cubicBezTo>
                  <a:pt x="10913" y="4901"/>
                  <a:pt x="10913" y="4937"/>
                  <a:pt x="10951" y="4937"/>
                </a:cubicBezTo>
                <a:cubicBezTo>
                  <a:pt x="10970" y="4937"/>
                  <a:pt x="10989" y="4901"/>
                  <a:pt x="11008" y="4937"/>
                </a:cubicBezTo>
                <a:cubicBezTo>
                  <a:pt x="11008" y="4937"/>
                  <a:pt x="11008" y="4901"/>
                  <a:pt x="11008" y="4901"/>
                </a:cubicBezTo>
                <a:cubicBezTo>
                  <a:pt x="11008" y="4901"/>
                  <a:pt x="11008" y="4901"/>
                  <a:pt x="11008" y="4901"/>
                </a:cubicBezTo>
                <a:cubicBezTo>
                  <a:pt x="11008" y="4901"/>
                  <a:pt x="11008" y="4901"/>
                  <a:pt x="11008" y="4901"/>
                </a:cubicBezTo>
                <a:cubicBezTo>
                  <a:pt x="11008" y="4937"/>
                  <a:pt x="11008" y="4937"/>
                  <a:pt x="11008" y="4937"/>
                </a:cubicBezTo>
                <a:cubicBezTo>
                  <a:pt x="11008" y="4937"/>
                  <a:pt x="11008" y="4937"/>
                  <a:pt x="10989" y="4937"/>
                </a:cubicBezTo>
                <a:cubicBezTo>
                  <a:pt x="10989" y="4937"/>
                  <a:pt x="10989" y="4937"/>
                  <a:pt x="10989" y="4973"/>
                </a:cubicBezTo>
                <a:cubicBezTo>
                  <a:pt x="10989" y="4973"/>
                  <a:pt x="10970" y="4973"/>
                  <a:pt x="10970" y="5010"/>
                </a:cubicBezTo>
                <a:cubicBezTo>
                  <a:pt x="10970" y="5010"/>
                  <a:pt x="10970" y="5010"/>
                  <a:pt x="10951" y="5010"/>
                </a:cubicBezTo>
                <a:cubicBezTo>
                  <a:pt x="10951" y="5010"/>
                  <a:pt x="10951" y="5010"/>
                  <a:pt x="10951" y="5010"/>
                </a:cubicBezTo>
                <a:cubicBezTo>
                  <a:pt x="10951" y="4973"/>
                  <a:pt x="10951" y="4973"/>
                  <a:pt x="10951" y="4973"/>
                </a:cubicBezTo>
                <a:cubicBezTo>
                  <a:pt x="10932" y="4973"/>
                  <a:pt x="10951" y="5046"/>
                  <a:pt x="10913" y="5046"/>
                </a:cubicBezTo>
                <a:cubicBezTo>
                  <a:pt x="10913" y="5046"/>
                  <a:pt x="10913" y="5046"/>
                  <a:pt x="10913" y="5046"/>
                </a:cubicBezTo>
                <a:cubicBezTo>
                  <a:pt x="10913" y="5046"/>
                  <a:pt x="10895" y="5046"/>
                  <a:pt x="10876" y="5046"/>
                </a:cubicBezTo>
                <a:cubicBezTo>
                  <a:pt x="10876" y="5082"/>
                  <a:pt x="10913" y="5155"/>
                  <a:pt x="10895" y="5191"/>
                </a:cubicBezTo>
                <a:cubicBezTo>
                  <a:pt x="10895" y="5191"/>
                  <a:pt x="10895" y="5191"/>
                  <a:pt x="10876" y="5191"/>
                </a:cubicBezTo>
                <a:cubicBezTo>
                  <a:pt x="10876" y="5191"/>
                  <a:pt x="10876" y="5191"/>
                  <a:pt x="10876" y="5191"/>
                </a:cubicBezTo>
                <a:cubicBezTo>
                  <a:pt x="10876" y="5191"/>
                  <a:pt x="10895" y="5228"/>
                  <a:pt x="10895" y="5228"/>
                </a:cubicBezTo>
                <a:cubicBezTo>
                  <a:pt x="10895" y="5228"/>
                  <a:pt x="10895" y="5228"/>
                  <a:pt x="10895" y="5264"/>
                </a:cubicBezTo>
                <a:cubicBezTo>
                  <a:pt x="10895" y="5264"/>
                  <a:pt x="10876" y="5300"/>
                  <a:pt x="10876" y="5300"/>
                </a:cubicBezTo>
                <a:cubicBezTo>
                  <a:pt x="10876" y="5336"/>
                  <a:pt x="10876" y="5336"/>
                  <a:pt x="10876" y="5373"/>
                </a:cubicBezTo>
                <a:cubicBezTo>
                  <a:pt x="10857" y="5409"/>
                  <a:pt x="10857" y="5445"/>
                  <a:pt x="10838" y="5482"/>
                </a:cubicBezTo>
                <a:cubicBezTo>
                  <a:pt x="10838" y="5482"/>
                  <a:pt x="10838" y="5482"/>
                  <a:pt x="10838" y="5482"/>
                </a:cubicBezTo>
                <a:cubicBezTo>
                  <a:pt x="10838" y="5482"/>
                  <a:pt x="10819" y="5482"/>
                  <a:pt x="10819" y="5482"/>
                </a:cubicBezTo>
                <a:cubicBezTo>
                  <a:pt x="10800" y="5482"/>
                  <a:pt x="10800" y="5482"/>
                  <a:pt x="10762" y="5482"/>
                </a:cubicBezTo>
                <a:cubicBezTo>
                  <a:pt x="10762" y="5482"/>
                  <a:pt x="10762" y="5482"/>
                  <a:pt x="10762" y="5482"/>
                </a:cubicBezTo>
                <a:cubicBezTo>
                  <a:pt x="10762" y="5482"/>
                  <a:pt x="10762" y="5482"/>
                  <a:pt x="10762" y="5482"/>
                </a:cubicBezTo>
                <a:cubicBezTo>
                  <a:pt x="10743" y="5518"/>
                  <a:pt x="10743" y="5518"/>
                  <a:pt x="10743" y="5554"/>
                </a:cubicBezTo>
                <a:cubicBezTo>
                  <a:pt x="10743" y="5554"/>
                  <a:pt x="10743" y="5554"/>
                  <a:pt x="10743" y="5591"/>
                </a:cubicBezTo>
                <a:cubicBezTo>
                  <a:pt x="10743" y="5591"/>
                  <a:pt x="10743" y="5591"/>
                  <a:pt x="10743" y="5591"/>
                </a:cubicBezTo>
                <a:cubicBezTo>
                  <a:pt x="10705" y="5591"/>
                  <a:pt x="10687" y="5627"/>
                  <a:pt x="10649" y="5591"/>
                </a:cubicBezTo>
                <a:cubicBezTo>
                  <a:pt x="10649" y="5591"/>
                  <a:pt x="10668" y="5554"/>
                  <a:pt x="10668" y="5554"/>
                </a:cubicBezTo>
                <a:cubicBezTo>
                  <a:pt x="10649" y="5518"/>
                  <a:pt x="10649" y="5482"/>
                  <a:pt x="10630" y="5445"/>
                </a:cubicBezTo>
                <a:cubicBezTo>
                  <a:pt x="10630" y="5445"/>
                  <a:pt x="10649" y="5445"/>
                  <a:pt x="10649" y="5445"/>
                </a:cubicBezTo>
                <a:cubicBezTo>
                  <a:pt x="10649" y="5445"/>
                  <a:pt x="10649" y="5445"/>
                  <a:pt x="10649" y="5409"/>
                </a:cubicBezTo>
                <a:cubicBezTo>
                  <a:pt x="10649" y="5409"/>
                  <a:pt x="10649" y="5409"/>
                  <a:pt x="10649" y="5409"/>
                </a:cubicBezTo>
                <a:cubicBezTo>
                  <a:pt x="10649" y="5409"/>
                  <a:pt x="10649" y="5409"/>
                  <a:pt x="10668" y="5409"/>
                </a:cubicBezTo>
                <a:cubicBezTo>
                  <a:pt x="10630" y="5373"/>
                  <a:pt x="10611" y="5336"/>
                  <a:pt x="10611" y="5264"/>
                </a:cubicBezTo>
                <a:cubicBezTo>
                  <a:pt x="10611" y="5264"/>
                  <a:pt x="10592" y="5264"/>
                  <a:pt x="10592" y="5264"/>
                </a:cubicBezTo>
                <a:cubicBezTo>
                  <a:pt x="10592" y="5228"/>
                  <a:pt x="10592" y="5228"/>
                  <a:pt x="10573" y="5191"/>
                </a:cubicBezTo>
                <a:cubicBezTo>
                  <a:pt x="10592" y="5155"/>
                  <a:pt x="10592" y="5155"/>
                  <a:pt x="10592" y="5119"/>
                </a:cubicBezTo>
                <a:cubicBezTo>
                  <a:pt x="10573" y="5119"/>
                  <a:pt x="10573" y="5119"/>
                  <a:pt x="10573" y="5119"/>
                </a:cubicBezTo>
                <a:cubicBezTo>
                  <a:pt x="10573" y="5119"/>
                  <a:pt x="10573" y="5119"/>
                  <a:pt x="10573" y="5119"/>
                </a:cubicBezTo>
                <a:cubicBezTo>
                  <a:pt x="10573" y="5119"/>
                  <a:pt x="10554" y="5119"/>
                  <a:pt x="10554" y="5119"/>
                </a:cubicBezTo>
                <a:cubicBezTo>
                  <a:pt x="10554" y="5082"/>
                  <a:pt x="10554" y="5010"/>
                  <a:pt x="10554" y="5010"/>
                </a:cubicBezTo>
                <a:cubicBezTo>
                  <a:pt x="10554" y="4973"/>
                  <a:pt x="10554" y="4973"/>
                  <a:pt x="10554" y="4973"/>
                </a:cubicBezTo>
                <a:cubicBezTo>
                  <a:pt x="10554" y="4973"/>
                  <a:pt x="10554" y="4937"/>
                  <a:pt x="10554" y="4937"/>
                </a:cubicBezTo>
                <a:cubicBezTo>
                  <a:pt x="10535" y="4973"/>
                  <a:pt x="10535" y="4937"/>
                  <a:pt x="10516" y="4901"/>
                </a:cubicBezTo>
                <a:cubicBezTo>
                  <a:pt x="10516" y="4901"/>
                  <a:pt x="10516" y="4901"/>
                  <a:pt x="10516" y="4865"/>
                </a:cubicBezTo>
                <a:cubicBezTo>
                  <a:pt x="10516" y="4901"/>
                  <a:pt x="10516" y="4901"/>
                  <a:pt x="10516" y="4901"/>
                </a:cubicBezTo>
                <a:cubicBezTo>
                  <a:pt x="10516" y="4937"/>
                  <a:pt x="10497" y="4973"/>
                  <a:pt x="10497" y="4973"/>
                </a:cubicBezTo>
                <a:cubicBezTo>
                  <a:pt x="10478" y="5010"/>
                  <a:pt x="10460" y="4973"/>
                  <a:pt x="10460" y="4973"/>
                </a:cubicBezTo>
                <a:cubicBezTo>
                  <a:pt x="10441" y="5010"/>
                  <a:pt x="10441" y="5010"/>
                  <a:pt x="10441" y="5010"/>
                </a:cubicBezTo>
                <a:cubicBezTo>
                  <a:pt x="10422" y="5082"/>
                  <a:pt x="10384" y="5082"/>
                  <a:pt x="10365" y="5155"/>
                </a:cubicBezTo>
                <a:cubicBezTo>
                  <a:pt x="10346" y="5155"/>
                  <a:pt x="10308" y="5155"/>
                  <a:pt x="10289" y="5155"/>
                </a:cubicBezTo>
                <a:cubicBezTo>
                  <a:pt x="10289" y="5155"/>
                  <a:pt x="10289" y="5155"/>
                  <a:pt x="10289" y="5119"/>
                </a:cubicBezTo>
                <a:cubicBezTo>
                  <a:pt x="10270" y="5155"/>
                  <a:pt x="10270" y="5155"/>
                  <a:pt x="10270" y="5155"/>
                </a:cubicBezTo>
                <a:cubicBezTo>
                  <a:pt x="10270" y="5155"/>
                  <a:pt x="10270" y="5155"/>
                  <a:pt x="10270" y="5155"/>
                </a:cubicBezTo>
                <a:cubicBezTo>
                  <a:pt x="10270" y="5119"/>
                  <a:pt x="10270" y="5119"/>
                  <a:pt x="10270" y="5119"/>
                </a:cubicBezTo>
                <a:cubicBezTo>
                  <a:pt x="10251" y="5119"/>
                  <a:pt x="10233" y="5082"/>
                  <a:pt x="10214" y="5082"/>
                </a:cubicBezTo>
                <a:cubicBezTo>
                  <a:pt x="10214" y="5046"/>
                  <a:pt x="10195" y="5046"/>
                  <a:pt x="10195" y="5046"/>
                </a:cubicBezTo>
                <a:cubicBezTo>
                  <a:pt x="10195" y="5010"/>
                  <a:pt x="10214" y="5010"/>
                  <a:pt x="10195" y="4973"/>
                </a:cubicBezTo>
                <a:cubicBezTo>
                  <a:pt x="10214" y="4973"/>
                  <a:pt x="10214" y="4973"/>
                  <a:pt x="10214" y="4973"/>
                </a:cubicBezTo>
                <a:cubicBezTo>
                  <a:pt x="10214" y="5010"/>
                  <a:pt x="10214" y="5010"/>
                  <a:pt x="10214" y="5010"/>
                </a:cubicBezTo>
                <a:cubicBezTo>
                  <a:pt x="10214" y="5010"/>
                  <a:pt x="10214" y="5010"/>
                  <a:pt x="10214" y="5010"/>
                </a:cubicBezTo>
                <a:cubicBezTo>
                  <a:pt x="10233" y="4973"/>
                  <a:pt x="10233" y="5010"/>
                  <a:pt x="10233" y="5010"/>
                </a:cubicBezTo>
                <a:cubicBezTo>
                  <a:pt x="10233" y="5010"/>
                  <a:pt x="10233" y="5010"/>
                  <a:pt x="10233" y="5010"/>
                </a:cubicBezTo>
                <a:cubicBezTo>
                  <a:pt x="10233" y="5010"/>
                  <a:pt x="10233" y="4973"/>
                  <a:pt x="10251" y="4973"/>
                </a:cubicBezTo>
                <a:cubicBezTo>
                  <a:pt x="10251" y="4973"/>
                  <a:pt x="10251" y="4973"/>
                  <a:pt x="10251" y="4973"/>
                </a:cubicBezTo>
                <a:cubicBezTo>
                  <a:pt x="10233" y="4973"/>
                  <a:pt x="10233" y="5010"/>
                  <a:pt x="10233" y="4973"/>
                </a:cubicBezTo>
                <a:cubicBezTo>
                  <a:pt x="10214" y="4973"/>
                  <a:pt x="10214" y="4973"/>
                  <a:pt x="10233" y="4973"/>
                </a:cubicBezTo>
                <a:cubicBezTo>
                  <a:pt x="10233" y="4937"/>
                  <a:pt x="10233" y="4937"/>
                  <a:pt x="10251" y="4937"/>
                </a:cubicBezTo>
                <a:cubicBezTo>
                  <a:pt x="10251" y="4937"/>
                  <a:pt x="10251" y="4937"/>
                  <a:pt x="10251" y="4937"/>
                </a:cubicBezTo>
                <a:cubicBezTo>
                  <a:pt x="10233" y="4937"/>
                  <a:pt x="10233" y="4937"/>
                  <a:pt x="10233" y="4937"/>
                </a:cubicBezTo>
                <a:cubicBezTo>
                  <a:pt x="10233" y="4901"/>
                  <a:pt x="10233" y="4901"/>
                  <a:pt x="10251" y="4901"/>
                </a:cubicBezTo>
                <a:cubicBezTo>
                  <a:pt x="10233" y="4901"/>
                  <a:pt x="10233" y="4901"/>
                  <a:pt x="10233" y="4937"/>
                </a:cubicBezTo>
                <a:cubicBezTo>
                  <a:pt x="10233" y="4937"/>
                  <a:pt x="10233" y="4937"/>
                  <a:pt x="10233" y="4937"/>
                </a:cubicBezTo>
                <a:cubicBezTo>
                  <a:pt x="10214" y="4901"/>
                  <a:pt x="10214" y="4901"/>
                  <a:pt x="10214" y="4901"/>
                </a:cubicBezTo>
                <a:cubicBezTo>
                  <a:pt x="10214" y="4901"/>
                  <a:pt x="10214" y="4901"/>
                  <a:pt x="10214" y="4937"/>
                </a:cubicBezTo>
                <a:cubicBezTo>
                  <a:pt x="10214" y="4937"/>
                  <a:pt x="10214" y="4937"/>
                  <a:pt x="10195" y="4937"/>
                </a:cubicBezTo>
                <a:cubicBezTo>
                  <a:pt x="10195" y="4937"/>
                  <a:pt x="10195" y="4937"/>
                  <a:pt x="10195" y="4937"/>
                </a:cubicBezTo>
                <a:cubicBezTo>
                  <a:pt x="10195" y="4937"/>
                  <a:pt x="10195" y="4937"/>
                  <a:pt x="10195" y="4937"/>
                </a:cubicBezTo>
                <a:cubicBezTo>
                  <a:pt x="10195" y="4937"/>
                  <a:pt x="10195" y="4937"/>
                  <a:pt x="10176" y="4937"/>
                </a:cubicBezTo>
                <a:cubicBezTo>
                  <a:pt x="10176" y="4901"/>
                  <a:pt x="10176" y="4901"/>
                  <a:pt x="10176" y="4901"/>
                </a:cubicBezTo>
                <a:cubicBezTo>
                  <a:pt x="10176" y="4865"/>
                  <a:pt x="10195" y="4865"/>
                  <a:pt x="10195" y="4865"/>
                </a:cubicBezTo>
                <a:cubicBezTo>
                  <a:pt x="10195" y="4865"/>
                  <a:pt x="10195" y="4865"/>
                  <a:pt x="10195" y="4865"/>
                </a:cubicBezTo>
                <a:cubicBezTo>
                  <a:pt x="10195" y="4865"/>
                  <a:pt x="10195" y="4865"/>
                  <a:pt x="10195" y="4865"/>
                </a:cubicBezTo>
                <a:cubicBezTo>
                  <a:pt x="10195" y="4865"/>
                  <a:pt x="10195" y="4865"/>
                  <a:pt x="10195" y="4865"/>
                </a:cubicBezTo>
                <a:cubicBezTo>
                  <a:pt x="10195" y="4865"/>
                  <a:pt x="10195" y="4865"/>
                  <a:pt x="10195" y="4865"/>
                </a:cubicBezTo>
                <a:cubicBezTo>
                  <a:pt x="10214" y="4865"/>
                  <a:pt x="10214" y="4865"/>
                  <a:pt x="10214" y="4865"/>
                </a:cubicBezTo>
                <a:cubicBezTo>
                  <a:pt x="10214" y="4865"/>
                  <a:pt x="10214" y="4865"/>
                  <a:pt x="10214" y="4865"/>
                </a:cubicBezTo>
                <a:cubicBezTo>
                  <a:pt x="10233" y="4865"/>
                  <a:pt x="10233" y="4865"/>
                  <a:pt x="10251" y="4828"/>
                </a:cubicBezTo>
                <a:cubicBezTo>
                  <a:pt x="10233" y="4828"/>
                  <a:pt x="10233" y="4865"/>
                  <a:pt x="10214" y="4865"/>
                </a:cubicBezTo>
                <a:cubicBezTo>
                  <a:pt x="10214" y="4828"/>
                  <a:pt x="10214" y="4828"/>
                  <a:pt x="10214" y="4828"/>
                </a:cubicBezTo>
                <a:cubicBezTo>
                  <a:pt x="10214" y="4828"/>
                  <a:pt x="10214" y="4828"/>
                  <a:pt x="10214" y="4828"/>
                </a:cubicBezTo>
                <a:cubicBezTo>
                  <a:pt x="10214" y="4828"/>
                  <a:pt x="10233" y="4792"/>
                  <a:pt x="10233" y="4792"/>
                </a:cubicBezTo>
                <a:cubicBezTo>
                  <a:pt x="10195" y="4792"/>
                  <a:pt x="10195" y="4792"/>
                  <a:pt x="10176" y="4756"/>
                </a:cubicBezTo>
                <a:cubicBezTo>
                  <a:pt x="10195" y="4756"/>
                  <a:pt x="10195" y="4719"/>
                  <a:pt x="10214" y="4719"/>
                </a:cubicBezTo>
                <a:cubicBezTo>
                  <a:pt x="10214" y="4719"/>
                  <a:pt x="10195" y="4719"/>
                  <a:pt x="10195" y="4683"/>
                </a:cubicBezTo>
                <a:cubicBezTo>
                  <a:pt x="10195" y="4719"/>
                  <a:pt x="10176" y="4719"/>
                  <a:pt x="10176" y="4683"/>
                </a:cubicBezTo>
                <a:cubicBezTo>
                  <a:pt x="10176" y="4683"/>
                  <a:pt x="10176" y="4683"/>
                  <a:pt x="10176" y="4683"/>
                </a:cubicBezTo>
                <a:cubicBezTo>
                  <a:pt x="10176" y="4647"/>
                  <a:pt x="10176" y="4647"/>
                  <a:pt x="10195" y="4610"/>
                </a:cubicBezTo>
                <a:cubicBezTo>
                  <a:pt x="10195" y="4610"/>
                  <a:pt x="10195" y="4610"/>
                  <a:pt x="10195" y="4610"/>
                </a:cubicBezTo>
                <a:cubicBezTo>
                  <a:pt x="10176" y="4610"/>
                  <a:pt x="10176" y="4610"/>
                  <a:pt x="10176" y="4574"/>
                </a:cubicBezTo>
                <a:cubicBezTo>
                  <a:pt x="10176" y="4538"/>
                  <a:pt x="10176" y="4538"/>
                  <a:pt x="10176" y="4502"/>
                </a:cubicBezTo>
                <a:cubicBezTo>
                  <a:pt x="10195" y="4502"/>
                  <a:pt x="10214" y="4502"/>
                  <a:pt x="10233" y="4502"/>
                </a:cubicBezTo>
                <a:cubicBezTo>
                  <a:pt x="10233" y="4465"/>
                  <a:pt x="10233" y="4465"/>
                  <a:pt x="10233" y="4465"/>
                </a:cubicBezTo>
                <a:cubicBezTo>
                  <a:pt x="10214" y="4465"/>
                  <a:pt x="10214" y="4465"/>
                  <a:pt x="10195" y="4429"/>
                </a:cubicBezTo>
                <a:cubicBezTo>
                  <a:pt x="10195" y="4429"/>
                  <a:pt x="10195" y="4429"/>
                  <a:pt x="10195" y="4429"/>
                </a:cubicBezTo>
                <a:cubicBezTo>
                  <a:pt x="10233" y="4429"/>
                  <a:pt x="10233" y="4393"/>
                  <a:pt x="10251" y="4393"/>
                </a:cubicBezTo>
                <a:cubicBezTo>
                  <a:pt x="10270" y="4393"/>
                  <a:pt x="10270" y="4356"/>
                  <a:pt x="10270" y="4356"/>
                </a:cubicBezTo>
                <a:cubicBezTo>
                  <a:pt x="10289" y="4356"/>
                  <a:pt x="10308" y="4356"/>
                  <a:pt x="10327" y="4320"/>
                </a:cubicBezTo>
                <a:cubicBezTo>
                  <a:pt x="10308" y="4320"/>
                  <a:pt x="10308" y="4320"/>
                  <a:pt x="10289" y="4284"/>
                </a:cubicBezTo>
                <a:cubicBezTo>
                  <a:pt x="10289" y="4284"/>
                  <a:pt x="10308" y="4284"/>
                  <a:pt x="10308" y="4284"/>
                </a:cubicBezTo>
                <a:cubicBezTo>
                  <a:pt x="10327" y="4284"/>
                  <a:pt x="10365" y="4284"/>
                  <a:pt x="10365" y="4284"/>
                </a:cubicBezTo>
                <a:cubicBezTo>
                  <a:pt x="10365" y="4247"/>
                  <a:pt x="10403" y="4175"/>
                  <a:pt x="10422" y="4175"/>
                </a:cubicBezTo>
                <a:cubicBezTo>
                  <a:pt x="10422" y="4211"/>
                  <a:pt x="10422" y="4211"/>
                  <a:pt x="10441" y="4211"/>
                </a:cubicBezTo>
                <a:cubicBezTo>
                  <a:pt x="10441" y="4211"/>
                  <a:pt x="10441" y="4211"/>
                  <a:pt x="10441" y="4211"/>
                </a:cubicBezTo>
                <a:cubicBezTo>
                  <a:pt x="10441" y="4175"/>
                  <a:pt x="10460" y="4175"/>
                  <a:pt x="10478" y="4138"/>
                </a:cubicBezTo>
                <a:cubicBezTo>
                  <a:pt x="10478" y="4138"/>
                  <a:pt x="10478" y="4102"/>
                  <a:pt x="10478" y="4102"/>
                </a:cubicBezTo>
                <a:cubicBezTo>
                  <a:pt x="10478" y="4066"/>
                  <a:pt x="10516" y="3993"/>
                  <a:pt x="10535" y="3993"/>
                </a:cubicBezTo>
                <a:cubicBezTo>
                  <a:pt x="10554" y="3993"/>
                  <a:pt x="10554" y="3993"/>
                  <a:pt x="10573" y="3993"/>
                </a:cubicBezTo>
                <a:cubicBezTo>
                  <a:pt x="10573" y="3993"/>
                  <a:pt x="10573" y="3993"/>
                  <a:pt x="10573" y="3993"/>
                </a:cubicBezTo>
                <a:cubicBezTo>
                  <a:pt x="10573" y="3957"/>
                  <a:pt x="10573" y="3957"/>
                  <a:pt x="10573" y="3957"/>
                </a:cubicBezTo>
                <a:cubicBezTo>
                  <a:pt x="10592" y="3921"/>
                  <a:pt x="10592" y="3884"/>
                  <a:pt x="10611" y="3848"/>
                </a:cubicBezTo>
                <a:cubicBezTo>
                  <a:pt x="10630" y="3848"/>
                  <a:pt x="10630" y="3848"/>
                  <a:pt x="10630" y="3848"/>
                </a:cubicBezTo>
                <a:cubicBezTo>
                  <a:pt x="10630" y="3848"/>
                  <a:pt x="10630" y="3812"/>
                  <a:pt x="10630" y="3812"/>
                </a:cubicBezTo>
                <a:cubicBezTo>
                  <a:pt x="10630" y="3812"/>
                  <a:pt x="10630" y="3812"/>
                  <a:pt x="10630" y="3812"/>
                </a:cubicBezTo>
                <a:cubicBezTo>
                  <a:pt x="10630" y="3739"/>
                  <a:pt x="10630" y="3703"/>
                  <a:pt x="10668" y="3703"/>
                </a:cubicBezTo>
                <a:cubicBezTo>
                  <a:pt x="10668" y="3703"/>
                  <a:pt x="10668" y="3667"/>
                  <a:pt x="10668" y="3667"/>
                </a:cubicBezTo>
                <a:cubicBezTo>
                  <a:pt x="10687" y="3667"/>
                  <a:pt x="10687" y="3667"/>
                  <a:pt x="10705" y="3667"/>
                </a:cubicBezTo>
                <a:cubicBezTo>
                  <a:pt x="10705" y="3667"/>
                  <a:pt x="10705" y="3667"/>
                  <a:pt x="10705" y="3667"/>
                </a:cubicBezTo>
                <a:cubicBezTo>
                  <a:pt x="10687" y="3630"/>
                  <a:pt x="10687" y="3630"/>
                  <a:pt x="10668" y="3594"/>
                </a:cubicBezTo>
                <a:cubicBezTo>
                  <a:pt x="10687" y="3594"/>
                  <a:pt x="10687" y="3558"/>
                  <a:pt x="10687" y="3558"/>
                </a:cubicBezTo>
                <a:cubicBezTo>
                  <a:pt x="10705" y="3558"/>
                  <a:pt x="10705" y="3558"/>
                  <a:pt x="10724" y="3558"/>
                </a:cubicBezTo>
                <a:cubicBezTo>
                  <a:pt x="10724" y="3558"/>
                  <a:pt x="10724" y="3558"/>
                  <a:pt x="10724" y="3558"/>
                </a:cubicBezTo>
                <a:cubicBezTo>
                  <a:pt x="10724" y="3521"/>
                  <a:pt x="10724" y="3521"/>
                  <a:pt x="10705" y="3521"/>
                </a:cubicBezTo>
                <a:cubicBezTo>
                  <a:pt x="10705" y="3521"/>
                  <a:pt x="10724" y="3521"/>
                  <a:pt x="10724" y="3521"/>
                </a:cubicBezTo>
                <a:cubicBezTo>
                  <a:pt x="10724" y="3485"/>
                  <a:pt x="10762" y="3485"/>
                  <a:pt x="10781" y="3449"/>
                </a:cubicBezTo>
                <a:cubicBezTo>
                  <a:pt x="10762" y="3449"/>
                  <a:pt x="10762" y="3449"/>
                  <a:pt x="10762" y="3412"/>
                </a:cubicBezTo>
                <a:cubicBezTo>
                  <a:pt x="10781" y="3412"/>
                  <a:pt x="10781" y="3412"/>
                  <a:pt x="10781" y="3376"/>
                </a:cubicBezTo>
                <a:cubicBezTo>
                  <a:pt x="10800" y="3376"/>
                  <a:pt x="10800" y="3376"/>
                  <a:pt x="10819" y="3412"/>
                </a:cubicBezTo>
                <a:cubicBezTo>
                  <a:pt x="10819" y="3376"/>
                  <a:pt x="10819" y="3376"/>
                  <a:pt x="10838" y="3376"/>
                </a:cubicBezTo>
                <a:cubicBezTo>
                  <a:pt x="10838" y="3376"/>
                  <a:pt x="10838" y="3376"/>
                  <a:pt x="10838" y="3340"/>
                </a:cubicBezTo>
                <a:cubicBezTo>
                  <a:pt x="10838" y="3340"/>
                  <a:pt x="10819" y="3340"/>
                  <a:pt x="10819" y="3340"/>
                </a:cubicBezTo>
                <a:cubicBezTo>
                  <a:pt x="10838" y="3304"/>
                  <a:pt x="10838" y="3267"/>
                  <a:pt x="10857" y="3267"/>
                </a:cubicBezTo>
                <a:cubicBezTo>
                  <a:pt x="10857" y="3267"/>
                  <a:pt x="10857" y="3267"/>
                  <a:pt x="10857" y="3267"/>
                </a:cubicBezTo>
                <a:cubicBezTo>
                  <a:pt x="10857" y="3304"/>
                  <a:pt x="10857" y="3304"/>
                  <a:pt x="10876" y="3304"/>
                </a:cubicBezTo>
                <a:cubicBezTo>
                  <a:pt x="10876" y="3304"/>
                  <a:pt x="10876" y="3304"/>
                  <a:pt x="10876" y="3304"/>
                </a:cubicBezTo>
                <a:cubicBezTo>
                  <a:pt x="10876" y="3304"/>
                  <a:pt x="10895" y="3304"/>
                  <a:pt x="10895" y="3267"/>
                </a:cubicBezTo>
                <a:cubicBezTo>
                  <a:pt x="10895" y="3267"/>
                  <a:pt x="10895" y="3231"/>
                  <a:pt x="10876" y="3231"/>
                </a:cubicBezTo>
                <a:cubicBezTo>
                  <a:pt x="10895" y="3231"/>
                  <a:pt x="10913" y="3231"/>
                  <a:pt x="10913" y="3195"/>
                </a:cubicBezTo>
                <a:cubicBezTo>
                  <a:pt x="10913" y="3195"/>
                  <a:pt x="10913" y="3195"/>
                  <a:pt x="10913" y="3195"/>
                </a:cubicBezTo>
                <a:cubicBezTo>
                  <a:pt x="10913" y="3195"/>
                  <a:pt x="10913" y="3195"/>
                  <a:pt x="10913" y="3195"/>
                </a:cubicBezTo>
                <a:cubicBezTo>
                  <a:pt x="10913" y="3158"/>
                  <a:pt x="10913" y="3158"/>
                  <a:pt x="10913" y="3158"/>
                </a:cubicBezTo>
                <a:cubicBezTo>
                  <a:pt x="10932" y="3122"/>
                  <a:pt x="10932" y="3122"/>
                  <a:pt x="10951" y="3086"/>
                </a:cubicBezTo>
                <a:cubicBezTo>
                  <a:pt x="10970" y="3049"/>
                  <a:pt x="10989" y="3122"/>
                  <a:pt x="10989" y="3013"/>
                </a:cubicBezTo>
                <a:cubicBezTo>
                  <a:pt x="11008" y="3013"/>
                  <a:pt x="11008" y="3013"/>
                  <a:pt x="11008" y="3049"/>
                </a:cubicBezTo>
                <a:cubicBezTo>
                  <a:pt x="11046" y="3013"/>
                  <a:pt x="11046" y="3049"/>
                  <a:pt x="11065" y="3049"/>
                </a:cubicBezTo>
                <a:cubicBezTo>
                  <a:pt x="11084" y="3013"/>
                  <a:pt x="11103" y="2941"/>
                  <a:pt x="11122" y="2904"/>
                </a:cubicBezTo>
                <a:cubicBezTo>
                  <a:pt x="11122" y="2941"/>
                  <a:pt x="11122" y="2941"/>
                  <a:pt x="11122" y="2941"/>
                </a:cubicBezTo>
                <a:cubicBezTo>
                  <a:pt x="11122" y="2941"/>
                  <a:pt x="11122" y="2941"/>
                  <a:pt x="11122" y="2941"/>
                </a:cubicBezTo>
                <a:cubicBezTo>
                  <a:pt x="11122" y="2977"/>
                  <a:pt x="11122" y="2977"/>
                  <a:pt x="11103" y="3013"/>
                </a:cubicBezTo>
                <a:cubicBezTo>
                  <a:pt x="11122" y="2977"/>
                  <a:pt x="11140" y="2977"/>
                  <a:pt x="11140" y="2941"/>
                </a:cubicBezTo>
                <a:cubicBezTo>
                  <a:pt x="11159" y="2904"/>
                  <a:pt x="11178" y="2904"/>
                  <a:pt x="11178" y="2868"/>
                </a:cubicBezTo>
                <a:cubicBezTo>
                  <a:pt x="11178" y="2868"/>
                  <a:pt x="11197" y="2868"/>
                  <a:pt x="11197" y="2868"/>
                </a:cubicBezTo>
                <a:cubicBezTo>
                  <a:pt x="11197" y="2904"/>
                  <a:pt x="11216" y="2904"/>
                  <a:pt x="11216" y="2904"/>
                </a:cubicBezTo>
                <a:cubicBezTo>
                  <a:pt x="11235" y="2759"/>
                  <a:pt x="11254" y="2832"/>
                  <a:pt x="11292" y="2868"/>
                </a:cubicBezTo>
                <a:cubicBezTo>
                  <a:pt x="11311" y="2832"/>
                  <a:pt x="11311" y="2795"/>
                  <a:pt x="11330" y="2759"/>
                </a:cubicBezTo>
                <a:cubicBezTo>
                  <a:pt x="11349" y="2759"/>
                  <a:pt x="11349" y="2759"/>
                  <a:pt x="11367" y="2759"/>
                </a:cubicBezTo>
                <a:cubicBezTo>
                  <a:pt x="11386" y="2723"/>
                  <a:pt x="11405" y="2686"/>
                  <a:pt x="11462" y="2686"/>
                </a:cubicBezTo>
                <a:cubicBezTo>
                  <a:pt x="11443" y="2723"/>
                  <a:pt x="11405" y="2759"/>
                  <a:pt x="11405" y="2832"/>
                </a:cubicBezTo>
                <a:cubicBezTo>
                  <a:pt x="11424" y="2832"/>
                  <a:pt x="11424" y="2832"/>
                  <a:pt x="11424" y="2868"/>
                </a:cubicBezTo>
                <a:cubicBezTo>
                  <a:pt x="11443" y="2795"/>
                  <a:pt x="11481" y="2723"/>
                  <a:pt x="11500" y="2686"/>
                </a:cubicBezTo>
                <a:cubicBezTo>
                  <a:pt x="11500" y="2723"/>
                  <a:pt x="11500" y="2759"/>
                  <a:pt x="11500" y="2795"/>
                </a:cubicBezTo>
                <a:cubicBezTo>
                  <a:pt x="11538" y="2759"/>
                  <a:pt x="11557" y="2723"/>
                  <a:pt x="11557" y="2650"/>
                </a:cubicBezTo>
                <a:cubicBezTo>
                  <a:pt x="11575" y="2650"/>
                  <a:pt x="11594" y="2650"/>
                  <a:pt x="11613" y="2686"/>
                </a:cubicBezTo>
                <a:cubicBezTo>
                  <a:pt x="11594" y="2723"/>
                  <a:pt x="11594" y="2723"/>
                  <a:pt x="11575" y="2795"/>
                </a:cubicBezTo>
                <a:cubicBezTo>
                  <a:pt x="11594" y="2795"/>
                  <a:pt x="11594" y="2795"/>
                  <a:pt x="11613" y="2795"/>
                </a:cubicBezTo>
                <a:cubicBezTo>
                  <a:pt x="11613" y="2759"/>
                  <a:pt x="11632" y="2723"/>
                  <a:pt x="11651" y="2686"/>
                </a:cubicBezTo>
                <a:cubicBezTo>
                  <a:pt x="11670" y="2686"/>
                  <a:pt x="11689" y="2723"/>
                  <a:pt x="11708" y="2759"/>
                </a:cubicBezTo>
                <a:cubicBezTo>
                  <a:pt x="11708" y="2759"/>
                  <a:pt x="11727" y="2759"/>
                  <a:pt x="11746" y="2759"/>
                </a:cubicBezTo>
                <a:cubicBezTo>
                  <a:pt x="11746" y="2759"/>
                  <a:pt x="11765" y="2759"/>
                  <a:pt x="11765" y="2795"/>
                </a:cubicBezTo>
                <a:cubicBezTo>
                  <a:pt x="11765" y="2795"/>
                  <a:pt x="11765" y="2795"/>
                  <a:pt x="11765" y="2795"/>
                </a:cubicBezTo>
                <a:cubicBezTo>
                  <a:pt x="11746" y="2868"/>
                  <a:pt x="11689" y="2832"/>
                  <a:pt x="11632" y="2832"/>
                </a:cubicBezTo>
                <a:cubicBezTo>
                  <a:pt x="11651" y="2868"/>
                  <a:pt x="11689" y="2904"/>
                  <a:pt x="11689" y="2941"/>
                </a:cubicBezTo>
                <a:cubicBezTo>
                  <a:pt x="11727" y="2941"/>
                  <a:pt x="11746" y="2904"/>
                  <a:pt x="11784" y="2941"/>
                </a:cubicBezTo>
                <a:cubicBezTo>
                  <a:pt x="11784" y="2941"/>
                  <a:pt x="11802" y="2941"/>
                  <a:pt x="11802" y="2941"/>
                </a:cubicBezTo>
                <a:cubicBezTo>
                  <a:pt x="11821" y="2904"/>
                  <a:pt x="11840" y="2904"/>
                  <a:pt x="11840" y="2868"/>
                </a:cubicBezTo>
                <a:cubicBezTo>
                  <a:pt x="11840" y="2977"/>
                  <a:pt x="11878" y="2977"/>
                  <a:pt x="11916" y="3013"/>
                </a:cubicBezTo>
                <a:cubicBezTo>
                  <a:pt x="11916" y="3013"/>
                  <a:pt x="11916" y="3049"/>
                  <a:pt x="11916" y="3049"/>
                </a:cubicBezTo>
                <a:cubicBezTo>
                  <a:pt x="11935" y="3049"/>
                  <a:pt x="11935" y="3049"/>
                  <a:pt x="11935" y="3013"/>
                </a:cubicBezTo>
                <a:cubicBezTo>
                  <a:pt x="11973" y="3049"/>
                  <a:pt x="12011" y="3049"/>
                  <a:pt x="12048" y="3049"/>
                </a:cubicBezTo>
                <a:cubicBezTo>
                  <a:pt x="12086" y="3049"/>
                  <a:pt x="12105" y="3086"/>
                  <a:pt x="12124" y="3086"/>
                </a:cubicBezTo>
                <a:cubicBezTo>
                  <a:pt x="12143" y="3086"/>
                  <a:pt x="12143" y="3122"/>
                  <a:pt x="12162" y="3122"/>
                </a:cubicBezTo>
                <a:cubicBezTo>
                  <a:pt x="12200" y="3158"/>
                  <a:pt x="12219" y="3195"/>
                  <a:pt x="12237" y="3231"/>
                </a:cubicBezTo>
                <a:cubicBezTo>
                  <a:pt x="12275" y="3267"/>
                  <a:pt x="12294" y="3267"/>
                  <a:pt x="12313" y="3267"/>
                </a:cubicBezTo>
                <a:cubicBezTo>
                  <a:pt x="12351" y="3304"/>
                  <a:pt x="12370" y="3340"/>
                  <a:pt x="12389" y="3376"/>
                </a:cubicBezTo>
                <a:cubicBezTo>
                  <a:pt x="12389" y="3412"/>
                  <a:pt x="12389" y="3449"/>
                  <a:pt x="12408" y="3449"/>
                </a:cubicBezTo>
                <a:cubicBezTo>
                  <a:pt x="12408" y="3521"/>
                  <a:pt x="12389" y="3558"/>
                  <a:pt x="12351" y="3594"/>
                </a:cubicBezTo>
                <a:cubicBezTo>
                  <a:pt x="12256" y="3775"/>
                  <a:pt x="12086" y="3594"/>
                  <a:pt x="11973" y="3558"/>
                </a:cubicBezTo>
                <a:cubicBezTo>
                  <a:pt x="11954" y="3558"/>
                  <a:pt x="11935" y="3558"/>
                  <a:pt x="11935" y="3521"/>
                </a:cubicBezTo>
                <a:cubicBezTo>
                  <a:pt x="11916" y="3521"/>
                  <a:pt x="11897" y="3449"/>
                  <a:pt x="11859" y="3485"/>
                </a:cubicBezTo>
                <a:cubicBezTo>
                  <a:pt x="11878" y="3521"/>
                  <a:pt x="11897" y="3594"/>
                  <a:pt x="11935" y="3630"/>
                </a:cubicBezTo>
                <a:cubicBezTo>
                  <a:pt x="11954" y="3630"/>
                  <a:pt x="11992" y="3630"/>
                  <a:pt x="11992" y="3667"/>
                </a:cubicBezTo>
                <a:cubicBezTo>
                  <a:pt x="12011" y="3703"/>
                  <a:pt x="12011" y="3775"/>
                  <a:pt x="11973" y="3775"/>
                </a:cubicBezTo>
                <a:cubicBezTo>
                  <a:pt x="11992" y="3812"/>
                  <a:pt x="12011" y="3993"/>
                  <a:pt x="12029" y="3993"/>
                </a:cubicBezTo>
                <a:cubicBezTo>
                  <a:pt x="12048" y="4030"/>
                  <a:pt x="12067" y="4030"/>
                  <a:pt x="12086" y="4030"/>
                </a:cubicBezTo>
                <a:cubicBezTo>
                  <a:pt x="12086" y="4030"/>
                  <a:pt x="12105" y="4066"/>
                  <a:pt x="12105" y="4066"/>
                </a:cubicBezTo>
                <a:cubicBezTo>
                  <a:pt x="12105" y="4102"/>
                  <a:pt x="12124" y="4066"/>
                  <a:pt x="12143" y="4102"/>
                </a:cubicBezTo>
                <a:cubicBezTo>
                  <a:pt x="12181" y="4102"/>
                  <a:pt x="12237" y="4102"/>
                  <a:pt x="12200" y="3993"/>
                </a:cubicBezTo>
                <a:cubicBezTo>
                  <a:pt x="12200" y="3993"/>
                  <a:pt x="12181" y="3993"/>
                  <a:pt x="12162" y="3993"/>
                </a:cubicBezTo>
                <a:cubicBezTo>
                  <a:pt x="12143" y="3993"/>
                  <a:pt x="12124" y="3921"/>
                  <a:pt x="12124" y="3921"/>
                </a:cubicBezTo>
                <a:cubicBezTo>
                  <a:pt x="12124" y="3884"/>
                  <a:pt x="12124" y="3848"/>
                  <a:pt x="12162" y="3848"/>
                </a:cubicBezTo>
                <a:cubicBezTo>
                  <a:pt x="12181" y="3884"/>
                  <a:pt x="12237" y="3921"/>
                  <a:pt x="12275" y="3957"/>
                </a:cubicBezTo>
                <a:cubicBezTo>
                  <a:pt x="12294" y="3957"/>
                  <a:pt x="12313" y="3957"/>
                  <a:pt x="12332" y="3957"/>
                </a:cubicBezTo>
                <a:cubicBezTo>
                  <a:pt x="12332" y="3957"/>
                  <a:pt x="12351" y="3957"/>
                  <a:pt x="12351" y="3957"/>
                </a:cubicBezTo>
                <a:cubicBezTo>
                  <a:pt x="12370" y="3884"/>
                  <a:pt x="12332" y="3848"/>
                  <a:pt x="12313" y="3775"/>
                </a:cubicBezTo>
                <a:cubicBezTo>
                  <a:pt x="12351" y="3703"/>
                  <a:pt x="12427" y="3703"/>
                  <a:pt x="12464" y="3594"/>
                </a:cubicBezTo>
                <a:cubicBezTo>
                  <a:pt x="12502" y="3594"/>
                  <a:pt x="12540" y="3667"/>
                  <a:pt x="12578" y="3667"/>
                </a:cubicBezTo>
                <a:cubicBezTo>
                  <a:pt x="12578" y="3667"/>
                  <a:pt x="12578" y="3667"/>
                  <a:pt x="12578" y="3667"/>
                </a:cubicBezTo>
                <a:cubicBezTo>
                  <a:pt x="12578" y="3667"/>
                  <a:pt x="12578" y="3630"/>
                  <a:pt x="12578" y="3630"/>
                </a:cubicBezTo>
                <a:cubicBezTo>
                  <a:pt x="12597" y="3558"/>
                  <a:pt x="12616" y="3558"/>
                  <a:pt x="12597" y="3449"/>
                </a:cubicBezTo>
                <a:cubicBezTo>
                  <a:pt x="12578" y="3449"/>
                  <a:pt x="12559" y="3449"/>
                  <a:pt x="12559" y="3412"/>
                </a:cubicBezTo>
                <a:cubicBezTo>
                  <a:pt x="12559" y="3412"/>
                  <a:pt x="12559" y="3412"/>
                  <a:pt x="12559" y="3412"/>
                </a:cubicBezTo>
                <a:cubicBezTo>
                  <a:pt x="12578" y="3376"/>
                  <a:pt x="12578" y="3340"/>
                  <a:pt x="12597" y="3304"/>
                </a:cubicBezTo>
                <a:cubicBezTo>
                  <a:pt x="12597" y="3231"/>
                  <a:pt x="12559" y="3231"/>
                  <a:pt x="12578" y="3195"/>
                </a:cubicBezTo>
                <a:cubicBezTo>
                  <a:pt x="12578" y="3158"/>
                  <a:pt x="12597" y="3195"/>
                  <a:pt x="12616" y="3195"/>
                </a:cubicBezTo>
                <a:cubicBezTo>
                  <a:pt x="12635" y="3195"/>
                  <a:pt x="12654" y="3195"/>
                  <a:pt x="12673" y="3195"/>
                </a:cubicBezTo>
                <a:cubicBezTo>
                  <a:pt x="12710" y="3195"/>
                  <a:pt x="12729" y="3304"/>
                  <a:pt x="12748" y="3340"/>
                </a:cubicBezTo>
                <a:cubicBezTo>
                  <a:pt x="12691" y="3340"/>
                  <a:pt x="12635" y="3340"/>
                  <a:pt x="12635" y="3412"/>
                </a:cubicBezTo>
                <a:cubicBezTo>
                  <a:pt x="12673" y="3485"/>
                  <a:pt x="12691" y="3558"/>
                  <a:pt x="12767" y="3521"/>
                </a:cubicBezTo>
                <a:cubicBezTo>
                  <a:pt x="12786" y="3521"/>
                  <a:pt x="12786" y="3521"/>
                  <a:pt x="12805" y="3521"/>
                </a:cubicBezTo>
                <a:cubicBezTo>
                  <a:pt x="12824" y="3485"/>
                  <a:pt x="12805" y="3376"/>
                  <a:pt x="12824" y="3376"/>
                </a:cubicBezTo>
                <a:cubicBezTo>
                  <a:pt x="12843" y="3376"/>
                  <a:pt x="12862" y="3340"/>
                  <a:pt x="12862" y="3340"/>
                </a:cubicBezTo>
                <a:cubicBezTo>
                  <a:pt x="12899" y="3304"/>
                  <a:pt x="12956" y="3267"/>
                  <a:pt x="13013" y="3231"/>
                </a:cubicBezTo>
                <a:cubicBezTo>
                  <a:pt x="13032" y="3231"/>
                  <a:pt x="13070" y="3195"/>
                  <a:pt x="13089" y="3158"/>
                </a:cubicBezTo>
                <a:cubicBezTo>
                  <a:pt x="13089" y="3195"/>
                  <a:pt x="13089" y="3195"/>
                  <a:pt x="13089" y="3195"/>
                </a:cubicBezTo>
                <a:cubicBezTo>
                  <a:pt x="13089" y="3195"/>
                  <a:pt x="13108" y="3195"/>
                  <a:pt x="13108" y="3231"/>
                </a:cubicBezTo>
                <a:cubicBezTo>
                  <a:pt x="13145" y="3195"/>
                  <a:pt x="13108" y="3122"/>
                  <a:pt x="13183" y="3122"/>
                </a:cubicBezTo>
                <a:cubicBezTo>
                  <a:pt x="13183" y="3158"/>
                  <a:pt x="13183" y="3158"/>
                  <a:pt x="13183" y="3195"/>
                </a:cubicBezTo>
                <a:cubicBezTo>
                  <a:pt x="13183" y="3195"/>
                  <a:pt x="13164" y="3231"/>
                  <a:pt x="13164" y="3231"/>
                </a:cubicBezTo>
                <a:cubicBezTo>
                  <a:pt x="13145" y="3231"/>
                  <a:pt x="13145" y="3231"/>
                  <a:pt x="13145" y="3267"/>
                </a:cubicBezTo>
                <a:cubicBezTo>
                  <a:pt x="13183" y="3267"/>
                  <a:pt x="13202" y="3231"/>
                  <a:pt x="13240" y="3231"/>
                </a:cubicBezTo>
                <a:cubicBezTo>
                  <a:pt x="13240" y="3267"/>
                  <a:pt x="13240" y="3267"/>
                  <a:pt x="13240" y="3267"/>
                </a:cubicBezTo>
                <a:cubicBezTo>
                  <a:pt x="13259" y="3231"/>
                  <a:pt x="13259" y="3195"/>
                  <a:pt x="13278" y="3195"/>
                </a:cubicBezTo>
                <a:cubicBezTo>
                  <a:pt x="13297" y="3158"/>
                  <a:pt x="13335" y="3158"/>
                  <a:pt x="13353" y="3158"/>
                </a:cubicBezTo>
                <a:cubicBezTo>
                  <a:pt x="13372" y="3158"/>
                  <a:pt x="13391" y="3195"/>
                  <a:pt x="13410" y="3195"/>
                </a:cubicBezTo>
                <a:cubicBezTo>
                  <a:pt x="13410" y="3158"/>
                  <a:pt x="13429" y="3158"/>
                  <a:pt x="13429" y="3158"/>
                </a:cubicBezTo>
                <a:cubicBezTo>
                  <a:pt x="13467" y="3086"/>
                  <a:pt x="13486" y="3086"/>
                  <a:pt x="13524" y="3122"/>
                </a:cubicBezTo>
                <a:cubicBezTo>
                  <a:pt x="13524" y="3158"/>
                  <a:pt x="13505" y="3158"/>
                  <a:pt x="13505" y="3195"/>
                </a:cubicBezTo>
                <a:cubicBezTo>
                  <a:pt x="13505" y="3195"/>
                  <a:pt x="13543" y="3231"/>
                  <a:pt x="13561" y="3231"/>
                </a:cubicBezTo>
                <a:cubicBezTo>
                  <a:pt x="13561" y="3195"/>
                  <a:pt x="13561" y="3158"/>
                  <a:pt x="13561" y="3158"/>
                </a:cubicBezTo>
                <a:cubicBezTo>
                  <a:pt x="13599" y="3158"/>
                  <a:pt x="13618" y="3158"/>
                  <a:pt x="13618" y="3086"/>
                </a:cubicBezTo>
                <a:cubicBezTo>
                  <a:pt x="13618" y="3049"/>
                  <a:pt x="13599" y="3013"/>
                  <a:pt x="13580" y="2977"/>
                </a:cubicBezTo>
                <a:cubicBezTo>
                  <a:pt x="13580" y="2977"/>
                  <a:pt x="13580" y="2977"/>
                  <a:pt x="13580" y="2977"/>
                </a:cubicBezTo>
                <a:cubicBezTo>
                  <a:pt x="13599" y="2941"/>
                  <a:pt x="13618" y="2941"/>
                  <a:pt x="13618" y="2904"/>
                </a:cubicBezTo>
                <a:cubicBezTo>
                  <a:pt x="13656" y="2904"/>
                  <a:pt x="13732" y="2941"/>
                  <a:pt x="13770" y="2941"/>
                </a:cubicBezTo>
                <a:cubicBezTo>
                  <a:pt x="13883" y="3013"/>
                  <a:pt x="13996" y="3086"/>
                  <a:pt x="14072" y="3231"/>
                </a:cubicBezTo>
                <a:cubicBezTo>
                  <a:pt x="14072" y="3231"/>
                  <a:pt x="14091" y="3231"/>
                  <a:pt x="14091" y="3231"/>
                </a:cubicBezTo>
                <a:cubicBezTo>
                  <a:pt x="14110" y="3231"/>
                  <a:pt x="14129" y="3158"/>
                  <a:pt x="14129" y="3122"/>
                </a:cubicBezTo>
                <a:cubicBezTo>
                  <a:pt x="14091" y="3122"/>
                  <a:pt x="14072" y="3086"/>
                  <a:pt x="14072" y="3049"/>
                </a:cubicBezTo>
                <a:cubicBezTo>
                  <a:pt x="14053" y="3013"/>
                  <a:pt x="14072" y="3013"/>
                  <a:pt x="14053" y="2977"/>
                </a:cubicBezTo>
                <a:cubicBezTo>
                  <a:pt x="14034" y="2941"/>
                  <a:pt x="13996" y="2977"/>
                  <a:pt x="13978" y="2904"/>
                </a:cubicBezTo>
                <a:cubicBezTo>
                  <a:pt x="13996" y="2832"/>
                  <a:pt x="14034" y="2868"/>
                  <a:pt x="14015" y="2723"/>
                </a:cubicBezTo>
                <a:cubicBezTo>
                  <a:pt x="13996" y="2723"/>
                  <a:pt x="13996" y="2723"/>
                  <a:pt x="13978" y="2723"/>
                </a:cubicBezTo>
                <a:cubicBezTo>
                  <a:pt x="13959" y="2577"/>
                  <a:pt x="14053" y="2577"/>
                  <a:pt x="14072" y="2505"/>
                </a:cubicBezTo>
                <a:cubicBezTo>
                  <a:pt x="14091" y="2469"/>
                  <a:pt x="14091" y="2432"/>
                  <a:pt x="14110" y="2396"/>
                </a:cubicBezTo>
                <a:cubicBezTo>
                  <a:pt x="14110" y="2360"/>
                  <a:pt x="14110" y="2323"/>
                  <a:pt x="14129" y="2287"/>
                </a:cubicBezTo>
                <a:cubicBezTo>
                  <a:pt x="14129" y="2287"/>
                  <a:pt x="14129" y="2251"/>
                  <a:pt x="14148" y="2251"/>
                </a:cubicBezTo>
                <a:cubicBezTo>
                  <a:pt x="14167" y="2251"/>
                  <a:pt x="14186" y="2287"/>
                  <a:pt x="14205" y="2251"/>
                </a:cubicBezTo>
                <a:cubicBezTo>
                  <a:pt x="14242" y="2251"/>
                  <a:pt x="14261" y="2251"/>
                  <a:pt x="14299" y="2251"/>
                </a:cubicBezTo>
                <a:cubicBezTo>
                  <a:pt x="14318" y="2251"/>
                  <a:pt x="14337" y="2214"/>
                  <a:pt x="14356" y="2251"/>
                </a:cubicBezTo>
                <a:cubicBezTo>
                  <a:pt x="14394" y="2360"/>
                  <a:pt x="14299" y="2505"/>
                  <a:pt x="14299" y="2541"/>
                </a:cubicBezTo>
                <a:cubicBezTo>
                  <a:pt x="14318" y="2577"/>
                  <a:pt x="14356" y="2686"/>
                  <a:pt x="14356" y="2759"/>
                </a:cubicBezTo>
                <a:cubicBezTo>
                  <a:pt x="14337" y="2795"/>
                  <a:pt x="14337" y="2795"/>
                  <a:pt x="14337" y="2832"/>
                </a:cubicBezTo>
                <a:cubicBezTo>
                  <a:pt x="14337" y="2868"/>
                  <a:pt x="14337" y="2868"/>
                  <a:pt x="14337" y="2904"/>
                </a:cubicBezTo>
                <a:cubicBezTo>
                  <a:pt x="14337" y="2977"/>
                  <a:pt x="14337" y="3013"/>
                  <a:pt x="14337" y="3049"/>
                </a:cubicBezTo>
                <a:cubicBezTo>
                  <a:pt x="14356" y="3158"/>
                  <a:pt x="14375" y="3122"/>
                  <a:pt x="14394" y="3195"/>
                </a:cubicBezTo>
                <a:cubicBezTo>
                  <a:pt x="14394" y="3231"/>
                  <a:pt x="14375" y="3231"/>
                  <a:pt x="14375" y="3231"/>
                </a:cubicBezTo>
                <a:cubicBezTo>
                  <a:pt x="14375" y="3267"/>
                  <a:pt x="14375" y="3304"/>
                  <a:pt x="14375" y="3304"/>
                </a:cubicBezTo>
                <a:cubicBezTo>
                  <a:pt x="14356" y="3340"/>
                  <a:pt x="14337" y="3412"/>
                  <a:pt x="14318" y="3449"/>
                </a:cubicBezTo>
                <a:cubicBezTo>
                  <a:pt x="14299" y="3449"/>
                  <a:pt x="14280" y="3449"/>
                  <a:pt x="14261" y="3485"/>
                </a:cubicBezTo>
                <a:cubicBezTo>
                  <a:pt x="14280" y="3521"/>
                  <a:pt x="14280" y="3521"/>
                  <a:pt x="14280" y="3521"/>
                </a:cubicBezTo>
                <a:cubicBezTo>
                  <a:pt x="14261" y="3558"/>
                  <a:pt x="14242" y="3558"/>
                  <a:pt x="14223" y="3558"/>
                </a:cubicBezTo>
                <a:cubicBezTo>
                  <a:pt x="14223" y="3558"/>
                  <a:pt x="14223" y="3558"/>
                  <a:pt x="14205" y="3558"/>
                </a:cubicBezTo>
                <a:cubicBezTo>
                  <a:pt x="14186" y="3521"/>
                  <a:pt x="14148" y="3521"/>
                  <a:pt x="14129" y="3558"/>
                </a:cubicBezTo>
                <a:cubicBezTo>
                  <a:pt x="14148" y="3594"/>
                  <a:pt x="14186" y="3630"/>
                  <a:pt x="14223" y="3630"/>
                </a:cubicBezTo>
                <a:cubicBezTo>
                  <a:pt x="14242" y="3630"/>
                  <a:pt x="14261" y="3630"/>
                  <a:pt x="14261" y="3630"/>
                </a:cubicBezTo>
                <a:cubicBezTo>
                  <a:pt x="14280" y="3630"/>
                  <a:pt x="14299" y="3667"/>
                  <a:pt x="14318" y="3630"/>
                </a:cubicBezTo>
                <a:cubicBezTo>
                  <a:pt x="14337" y="3558"/>
                  <a:pt x="14375" y="3558"/>
                  <a:pt x="14413" y="3521"/>
                </a:cubicBezTo>
                <a:cubicBezTo>
                  <a:pt x="14413" y="3485"/>
                  <a:pt x="14413" y="3449"/>
                  <a:pt x="14432" y="3412"/>
                </a:cubicBezTo>
                <a:cubicBezTo>
                  <a:pt x="14432" y="3412"/>
                  <a:pt x="14450" y="3412"/>
                  <a:pt x="14450" y="3412"/>
                </a:cubicBezTo>
                <a:cubicBezTo>
                  <a:pt x="14450" y="3376"/>
                  <a:pt x="14469" y="3376"/>
                  <a:pt x="14469" y="3340"/>
                </a:cubicBezTo>
                <a:cubicBezTo>
                  <a:pt x="14469" y="3267"/>
                  <a:pt x="14469" y="3231"/>
                  <a:pt x="14450" y="3195"/>
                </a:cubicBezTo>
                <a:cubicBezTo>
                  <a:pt x="14469" y="3086"/>
                  <a:pt x="14583" y="3086"/>
                  <a:pt x="14621" y="3195"/>
                </a:cubicBezTo>
                <a:cubicBezTo>
                  <a:pt x="14621" y="3231"/>
                  <a:pt x="14602" y="3340"/>
                  <a:pt x="14621" y="3340"/>
                </a:cubicBezTo>
                <a:cubicBezTo>
                  <a:pt x="14621" y="3412"/>
                  <a:pt x="14677" y="3412"/>
                  <a:pt x="14696" y="3376"/>
                </a:cubicBezTo>
                <a:cubicBezTo>
                  <a:pt x="14696" y="3376"/>
                  <a:pt x="14715" y="3376"/>
                  <a:pt x="14715" y="3340"/>
                </a:cubicBezTo>
                <a:cubicBezTo>
                  <a:pt x="14696" y="3340"/>
                  <a:pt x="14658" y="3340"/>
                  <a:pt x="14640" y="3304"/>
                </a:cubicBezTo>
                <a:cubicBezTo>
                  <a:pt x="14640" y="3304"/>
                  <a:pt x="14640" y="3304"/>
                  <a:pt x="14640" y="3304"/>
                </a:cubicBezTo>
                <a:cubicBezTo>
                  <a:pt x="14640" y="3304"/>
                  <a:pt x="14640" y="3304"/>
                  <a:pt x="14640" y="3267"/>
                </a:cubicBezTo>
                <a:cubicBezTo>
                  <a:pt x="14658" y="3267"/>
                  <a:pt x="14677" y="3267"/>
                  <a:pt x="14677" y="3231"/>
                </a:cubicBezTo>
                <a:cubicBezTo>
                  <a:pt x="14677" y="3231"/>
                  <a:pt x="14658" y="3195"/>
                  <a:pt x="14658" y="3195"/>
                </a:cubicBezTo>
                <a:cubicBezTo>
                  <a:pt x="14658" y="3158"/>
                  <a:pt x="14658" y="3086"/>
                  <a:pt x="14640" y="3086"/>
                </a:cubicBezTo>
                <a:cubicBezTo>
                  <a:pt x="14621" y="3086"/>
                  <a:pt x="14621" y="3086"/>
                  <a:pt x="14621" y="3086"/>
                </a:cubicBezTo>
                <a:cubicBezTo>
                  <a:pt x="14583" y="3049"/>
                  <a:pt x="14545" y="3013"/>
                  <a:pt x="14526" y="3013"/>
                </a:cubicBezTo>
                <a:cubicBezTo>
                  <a:pt x="14507" y="3049"/>
                  <a:pt x="14507" y="3049"/>
                  <a:pt x="14488" y="3049"/>
                </a:cubicBezTo>
                <a:cubicBezTo>
                  <a:pt x="14469" y="3049"/>
                  <a:pt x="14450" y="3049"/>
                  <a:pt x="14413" y="3049"/>
                </a:cubicBezTo>
                <a:cubicBezTo>
                  <a:pt x="14413" y="2977"/>
                  <a:pt x="14413" y="2941"/>
                  <a:pt x="14413" y="2904"/>
                </a:cubicBezTo>
                <a:cubicBezTo>
                  <a:pt x="14413" y="2832"/>
                  <a:pt x="14450" y="2795"/>
                  <a:pt x="14450" y="2723"/>
                </a:cubicBezTo>
                <a:cubicBezTo>
                  <a:pt x="14432" y="2686"/>
                  <a:pt x="14394" y="2614"/>
                  <a:pt x="14375" y="2541"/>
                </a:cubicBezTo>
                <a:cubicBezTo>
                  <a:pt x="14394" y="2469"/>
                  <a:pt x="14432" y="2505"/>
                  <a:pt x="14469" y="2469"/>
                </a:cubicBezTo>
                <a:cubicBezTo>
                  <a:pt x="14488" y="2432"/>
                  <a:pt x="14488" y="2360"/>
                  <a:pt x="14488" y="2287"/>
                </a:cubicBezTo>
                <a:cubicBezTo>
                  <a:pt x="14507" y="2287"/>
                  <a:pt x="14507" y="2287"/>
                  <a:pt x="14526" y="2287"/>
                </a:cubicBezTo>
                <a:cubicBezTo>
                  <a:pt x="14526" y="2323"/>
                  <a:pt x="14526" y="2360"/>
                  <a:pt x="14526" y="2396"/>
                </a:cubicBezTo>
                <a:cubicBezTo>
                  <a:pt x="14526" y="2432"/>
                  <a:pt x="14488" y="2505"/>
                  <a:pt x="14507" y="2541"/>
                </a:cubicBezTo>
                <a:cubicBezTo>
                  <a:pt x="14526" y="2614"/>
                  <a:pt x="14583" y="2614"/>
                  <a:pt x="14640" y="2650"/>
                </a:cubicBezTo>
                <a:cubicBezTo>
                  <a:pt x="14640" y="2650"/>
                  <a:pt x="14658" y="2650"/>
                  <a:pt x="14658" y="2650"/>
                </a:cubicBezTo>
                <a:cubicBezTo>
                  <a:pt x="14658" y="2650"/>
                  <a:pt x="14677" y="2686"/>
                  <a:pt x="14677" y="2686"/>
                </a:cubicBezTo>
                <a:cubicBezTo>
                  <a:pt x="14696" y="2686"/>
                  <a:pt x="14696" y="2686"/>
                  <a:pt x="14715" y="2686"/>
                </a:cubicBezTo>
                <a:cubicBezTo>
                  <a:pt x="14715" y="2686"/>
                  <a:pt x="14715" y="2686"/>
                  <a:pt x="14715" y="2686"/>
                </a:cubicBezTo>
                <a:cubicBezTo>
                  <a:pt x="14696" y="2650"/>
                  <a:pt x="14696" y="2614"/>
                  <a:pt x="14677" y="2577"/>
                </a:cubicBezTo>
                <a:cubicBezTo>
                  <a:pt x="14621" y="2577"/>
                  <a:pt x="14602" y="2541"/>
                  <a:pt x="14564" y="2505"/>
                </a:cubicBezTo>
                <a:cubicBezTo>
                  <a:pt x="14583" y="2469"/>
                  <a:pt x="14583" y="2469"/>
                  <a:pt x="14583" y="2469"/>
                </a:cubicBezTo>
                <a:cubicBezTo>
                  <a:pt x="14602" y="2469"/>
                  <a:pt x="14602" y="2469"/>
                  <a:pt x="14621" y="2469"/>
                </a:cubicBezTo>
                <a:cubicBezTo>
                  <a:pt x="14640" y="2469"/>
                  <a:pt x="14640" y="2469"/>
                  <a:pt x="14677" y="2469"/>
                </a:cubicBezTo>
                <a:cubicBezTo>
                  <a:pt x="14677" y="2432"/>
                  <a:pt x="14677" y="2432"/>
                  <a:pt x="14677" y="2396"/>
                </a:cubicBezTo>
                <a:cubicBezTo>
                  <a:pt x="14772" y="2287"/>
                  <a:pt x="14829" y="2505"/>
                  <a:pt x="14904" y="2505"/>
                </a:cubicBezTo>
                <a:cubicBezTo>
                  <a:pt x="14923" y="2541"/>
                  <a:pt x="14961" y="2505"/>
                  <a:pt x="14980" y="2505"/>
                </a:cubicBezTo>
                <a:cubicBezTo>
                  <a:pt x="14980" y="2505"/>
                  <a:pt x="14980" y="2541"/>
                  <a:pt x="14980" y="2541"/>
                </a:cubicBezTo>
                <a:cubicBezTo>
                  <a:pt x="14961" y="2577"/>
                  <a:pt x="14942" y="2577"/>
                  <a:pt x="14942" y="2614"/>
                </a:cubicBezTo>
                <a:cubicBezTo>
                  <a:pt x="14923" y="2650"/>
                  <a:pt x="14923" y="2723"/>
                  <a:pt x="14923" y="2759"/>
                </a:cubicBezTo>
                <a:cubicBezTo>
                  <a:pt x="14923" y="2795"/>
                  <a:pt x="14923" y="2795"/>
                  <a:pt x="14942" y="2795"/>
                </a:cubicBezTo>
                <a:cubicBezTo>
                  <a:pt x="14942" y="2759"/>
                  <a:pt x="14942" y="2723"/>
                  <a:pt x="14961" y="2686"/>
                </a:cubicBezTo>
                <a:cubicBezTo>
                  <a:pt x="14961" y="2686"/>
                  <a:pt x="14961" y="2686"/>
                  <a:pt x="14980" y="2686"/>
                </a:cubicBezTo>
                <a:cubicBezTo>
                  <a:pt x="14980" y="2723"/>
                  <a:pt x="14999" y="2759"/>
                  <a:pt x="14980" y="2795"/>
                </a:cubicBezTo>
                <a:cubicBezTo>
                  <a:pt x="14980" y="2795"/>
                  <a:pt x="14980" y="2795"/>
                  <a:pt x="14980" y="2795"/>
                </a:cubicBezTo>
                <a:cubicBezTo>
                  <a:pt x="14999" y="2795"/>
                  <a:pt x="15018" y="2795"/>
                  <a:pt x="15018" y="2759"/>
                </a:cubicBezTo>
                <a:cubicBezTo>
                  <a:pt x="15018" y="2686"/>
                  <a:pt x="14999" y="2650"/>
                  <a:pt x="14999" y="2614"/>
                </a:cubicBezTo>
                <a:cubicBezTo>
                  <a:pt x="14999" y="2577"/>
                  <a:pt x="15018" y="2541"/>
                  <a:pt x="15018" y="2505"/>
                </a:cubicBezTo>
                <a:cubicBezTo>
                  <a:pt x="15018" y="2505"/>
                  <a:pt x="14999" y="2469"/>
                  <a:pt x="14999" y="2469"/>
                </a:cubicBezTo>
                <a:cubicBezTo>
                  <a:pt x="14980" y="2432"/>
                  <a:pt x="14942" y="2432"/>
                  <a:pt x="14942" y="2396"/>
                </a:cubicBezTo>
                <a:cubicBezTo>
                  <a:pt x="14923" y="2360"/>
                  <a:pt x="14848" y="2323"/>
                  <a:pt x="14848" y="2323"/>
                </a:cubicBezTo>
                <a:cubicBezTo>
                  <a:pt x="14848" y="2287"/>
                  <a:pt x="14848" y="2251"/>
                  <a:pt x="14848" y="2214"/>
                </a:cubicBezTo>
                <a:cubicBezTo>
                  <a:pt x="14848" y="2178"/>
                  <a:pt x="14810" y="2142"/>
                  <a:pt x="14829" y="2106"/>
                </a:cubicBezTo>
                <a:cubicBezTo>
                  <a:pt x="14848" y="2069"/>
                  <a:pt x="14999" y="2069"/>
                  <a:pt x="15018" y="2069"/>
                </a:cubicBezTo>
                <a:cubicBezTo>
                  <a:pt x="15037" y="2069"/>
                  <a:pt x="15075" y="2033"/>
                  <a:pt x="15075" y="2033"/>
                </a:cubicBezTo>
                <a:cubicBezTo>
                  <a:pt x="15094" y="2069"/>
                  <a:pt x="15094" y="2069"/>
                  <a:pt x="15112" y="2069"/>
                </a:cubicBezTo>
                <a:cubicBezTo>
                  <a:pt x="15131" y="2033"/>
                  <a:pt x="15169" y="1997"/>
                  <a:pt x="15207" y="2033"/>
                </a:cubicBezTo>
                <a:cubicBezTo>
                  <a:pt x="15207" y="2033"/>
                  <a:pt x="15207" y="2033"/>
                  <a:pt x="15207" y="2033"/>
                </a:cubicBezTo>
                <a:cubicBezTo>
                  <a:pt x="15188" y="2033"/>
                  <a:pt x="15188" y="2069"/>
                  <a:pt x="15169" y="2106"/>
                </a:cubicBezTo>
                <a:cubicBezTo>
                  <a:pt x="15226" y="2106"/>
                  <a:pt x="15264" y="2069"/>
                  <a:pt x="15264" y="1997"/>
                </a:cubicBezTo>
                <a:cubicBezTo>
                  <a:pt x="15264" y="1997"/>
                  <a:pt x="15264" y="1960"/>
                  <a:pt x="15264" y="1960"/>
                </a:cubicBezTo>
                <a:cubicBezTo>
                  <a:pt x="15264" y="1924"/>
                  <a:pt x="15245" y="1924"/>
                  <a:pt x="15226" y="1924"/>
                </a:cubicBezTo>
                <a:cubicBezTo>
                  <a:pt x="15226" y="1888"/>
                  <a:pt x="15226" y="1888"/>
                  <a:pt x="15226" y="1888"/>
                </a:cubicBezTo>
                <a:cubicBezTo>
                  <a:pt x="15226" y="1851"/>
                  <a:pt x="15226" y="1815"/>
                  <a:pt x="15226" y="1779"/>
                </a:cubicBezTo>
                <a:cubicBezTo>
                  <a:pt x="15283" y="1743"/>
                  <a:pt x="15320" y="1670"/>
                  <a:pt x="15377" y="1634"/>
                </a:cubicBezTo>
                <a:cubicBezTo>
                  <a:pt x="15396" y="1634"/>
                  <a:pt x="15415" y="1597"/>
                  <a:pt x="15434" y="1597"/>
                </a:cubicBezTo>
                <a:cubicBezTo>
                  <a:pt x="15510" y="1597"/>
                  <a:pt x="15566" y="1561"/>
                  <a:pt x="15623" y="1525"/>
                </a:cubicBezTo>
                <a:cubicBezTo>
                  <a:pt x="15680" y="1488"/>
                  <a:pt x="15680" y="1452"/>
                  <a:pt x="15756" y="1452"/>
                </a:cubicBezTo>
                <a:cubicBezTo>
                  <a:pt x="15756" y="1452"/>
                  <a:pt x="15774" y="1452"/>
                  <a:pt x="15793" y="1488"/>
                </a:cubicBezTo>
                <a:cubicBezTo>
                  <a:pt x="15793" y="1488"/>
                  <a:pt x="15793" y="1488"/>
                  <a:pt x="15793" y="1488"/>
                </a:cubicBezTo>
                <a:cubicBezTo>
                  <a:pt x="15793" y="1488"/>
                  <a:pt x="15793" y="1525"/>
                  <a:pt x="15774" y="1525"/>
                </a:cubicBezTo>
                <a:cubicBezTo>
                  <a:pt x="15793" y="1525"/>
                  <a:pt x="15812" y="1525"/>
                  <a:pt x="15831" y="1525"/>
                </a:cubicBezTo>
                <a:cubicBezTo>
                  <a:pt x="15869" y="1525"/>
                  <a:pt x="15907" y="1488"/>
                  <a:pt x="15926" y="1488"/>
                </a:cubicBezTo>
                <a:cubicBezTo>
                  <a:pt x="15964" y="1488"/>
                  <a:pt x="15982" y="1525"/>
                  <a:pt x="16001" y="1525"/>
                </a:cubicBezTo>
                <a:cubicBezTo>
                  <a:pt x="16001" y="1488"/>
                  <a:pt x="16020" y="1488"/>
                  <a:pt x="16020" y="1488"/>
                </a:cubicBezTo>
                <a:cubicBezTo>
                  <a:pt x="16020" y="1452"/>
                  <a:pt x="16020" y="1416"/>
                  <a:pt x="16039" y="1379"/>
                </a:cubicBezTo>
                <a:cubicBezTo>
                  <a:pt x="16039" y="1379"/>
                  <a:pt x="16077" y="1379"/>
                  <a:pt x="16077" y="1379"/>
                </a:cubicBezTo>
                <a:cubicBezTo>
                  <a:pt x="16096" y="1379"/>
                  <a:pt x="16115" y="1379"/>
                  <a:pt x="16115" y="1343"/>
                </a:cubicBezTo>
                <a:cubicBezTo>
                  <a:pt x="16115" y="1343"/>
                  <a:pt x="16115" y="1343"/>
                  <a:pt x="16115" y="1343"/>
                </a:cubicBezTo>
                <a:cubicBezTo>
                  <a:pt x="16096" y="1307"/>
                  <a:pt x="16096" y="1307"/>
                  <a:pt x="16096" y="1234"/>
                </a:cubicBezTo>
                <a:cubicBezTo>
                  <a:pt x="16115" y="1234"/>
                  <a:pt x="16115" y="1234"/>
                  <a:pt x="16134" y="1198"/>
                </a:cubicBezTo>
                <a:cubicBezTo>
                  <a:pt x="16191" y="1162"/>
                  <a:pt x="16304" y="1053"/>
                  <a:pt x="16361" y="1162"/>
                </a:cubicBezTo>
                <a:cubicBezTo>
                  <a:pt x="16361" y="1162"/>
                  <a:pt x="16361" y="1162"/>
                  <a:pt x="16361" y="1162"/>
                </a:cubicBezTo>
                <a:cubicBezTo>
                  <a:pt x="16342" y="1198"/>
                  <a:pt x="16323" y="1234"/>
                  <a:pt x="16304" y="1271"/>
                </a:cubicBezTo>
                <a:cubicBezTo>
                  <a:pt x="16304" y="1271"/>
                  <a:pt x="16304" y="1271"/>
                  <a:pt x="16304" y="1271"/>
                </a:cubicBezTo>
                <a:cubicBezTo>
                  <a:pt x="16342" y="1271"/>
                  <a:pt x="16342" y="1271"/>
                  <a:pt x="16380" y="1271"/>
                </a:cubicBezTo>
                <a:cubicBezTo>
                  <a:pt x="16418" y="1271"/>
                  <a:pt x="16436" y="1271"/>
                  <a:pt x="16474" y="1271"/>
                </a:cubicBezTo>
                <a:cubicBezTo>
                  <a:pt x="16474" y="1271"/>
                  <a:pt x="16474" y="1271"/>
                  <a:pt x="16474" y="1271"/>
                </a:cubicBezTo>
                <a:cubicBezTo>
                  <a:pt x="16474" y="1271"/>
                  <a:pt x="16474" y="1271"/>
                  <a:pt x="16474" y="1271"/>
                </a:cubicBezTo>
                <a:cubicBezTo>
                  <a:pt x="16455" y="1307"/>
                  <a:pt x="16436" y="1343"/>
                  <a:pt x="16418" y="1379"/>
                </a:cubicBezTo>
                <a:cubicBezTo>
                  <a:pt x="16436" y="1379"/>
                  <a:pt x="16512" y="1416"/>
                  <a:pt x="16512" y="1416"/>
                </a:cubicBezTo>
                <a:cubicBezTo>
                  <a:pt x="16512" y="1379"/>
                  <a:pt x="16531" y="1379"/>
                  <a:pt x="16531" y="1379"/>
                </a:cubicBezTo>
                <a:cubicBezTo>
                  <a:pt x="16531" y="1343"/>
                  <a:pt x="16531" y="1343"/>
                  <a:pt x="16550" y="1343"/>
                </a:cubicBezTo>
                <a:cubicBezTo>
                  <a:pt x="16644" y="1343"/>
                  <a:pt x="16796" y="1343"/>
                  <a:pt x="16815" y="1488"/>
                </a:cubicBezTo>
                <a:cubicBezTo>
                  <a:pt x="16834" y="1488"/>
                  <a:pt x="16853" y="1488"/>
                  <a:pt x="16871" y="1488"/>
                </a:cubicBezTo>
                <a:cubicBezTo>
                  <a:pt x="16871" y="1488"/>
                  <a:pt x="16871" y="1525"/>
                  <a:pt x="16871" y="1525"/>
                </a:cubicBezTo>
                <a:cubicBezTo>
                  <a:pt x="16871" y="1561"/>
                  <a:pt x="16853" y="1597"/>
                  <a:pt x="16834" y="1634"/>
                </a:cubicBezTo>
                <a:cubicBezTo>
                  <a:pt x="16834" y="1634"/>
                  <a:pt x="16834" y="1634"/>
                  <a:pt x="16834" y="1634"/>
                </a:cubicBezTo>
                <a:cubicBezTo>
                  <a:pt x="16853" y="1634"/>
                  <a:pt x="16871" y="1670"/>
                  <a:pt x="16871" y="1670"/>
                </a:cubicBezTo>
                <a:cubicBezTo>
                  <a:pt x="16871" y="1670"/>
                  <a:pt x="16871" y="1670"/>
                  <a:pt x="16871" y="1670"/>
                </a:cubicBezTo>
                <a:cubicBezTo>
                  <a:pt x="16853" y="1706"/>
                  <a:pt x="16834" y="1743"/>
                  <a:pt x="16815" y="1779"/>
                </a:cubicBezTo>
                <a:cubicBezTo>
                  <a:pt x="16796" y="1779"/>
                  <a:pt x="16758" y="1779"/>
                  <a:pt x="16739" y="1815"/>
                </a:cubicBezTo>
                <a:cubicBezTo>
                  <a:pt x="16682" y="1888"/>
                  <a:pt x="16607" y="1960"/>
                  <a:pt x="16550" y="2033"/>
                </a:cubicBezTo>
                <a:cubicBezTo>
                  <a:pt x="16531" y="2069"/>
                  <a:pt x="16493" y="2069"/>
                  <a:pt x="16474" y="2106"/>
                </a:cubicBezTo>
                <a:cubicBezTo>
                  <a:pt x="16436" y="2142"/>
                  <a:pt x="16380" y="2178"/>
                  <a:pt x="16361" y="2251"/>
                </a:cubicBezTo>
                <a:cubicBezTo>
                  <a:pt x="16399" y="2251"/>
                  <a:pt x="16399" y="2214"/>
                  <a:pt x="16436" y="2178"/>
                </a:cubicBezTo>
                <a:cubicBezTo>
                  <a:pt x="16455" y="2178"/>
                  <a:pt x="16474" y="2178"/>
                  <a:pt x="16512" y="2178"/>
                </a:cubicBezTo>
                <a:cubicBezTo>
                  <a:pt x="16550" y="2178"/>
                  <a:pt x="16644" y="2106"/>
                  <a:pt x="16682" y="2069"/>
                </a:cubicBezTo>
                <a:cubicBezTo>
                  <a:pt x="16682" y="2069"/>
                  <a:pt x="16663" y="2033"/>
                  <a:pt x="16663" y="2033"/>
                </a:cubicBezTo>
                <a:cubicBezTo>
                  <a:pt x="16663" y="2033"/>
                  <a:pt x="16663" y="2033"/>
                  <a:pt x="16663" y="2033"/>
                </a:cubicBezTo>
                <a:cubicBezTo>
                  <a:pt x="16663" y="1997"/>
                  <a:pt x="16663" y="1997"/>
                  <a:pt x="16682" y="1960"/>
                </a:cubicBezTo>
                <a:cubicBezTo>
                  <a:pt x="16701" y="1997"/>
                  <a:pt x="16720" y="2033"/>
                  <a:pt x="16758" y="2069"/>
                </a:cubicBezTo>
                <a:cubicBezTo>
                  <a:pt x="16796" y="2069"/>
                  <a:pt x="16815" y="2033"/>
                  <a:pt x="16853" y="2033"/>
                </a:cubicBezTo>
                <a:cubicBezTo>
                  <a:pt x="16853" y="2069"/>
                  <a:pt x="16853" y="2106"/>
                  <a:pt x="16853" y="2106"/>
                </a:cubicBezTo>
                <a:cubicBezTo>
                  <a:pt x="16853" y="2142"/>
                  <a:pt x="16853" y="2142"/>
                  <a:pt x="16871" y="2178"/>
                </a:cubicBezTo>
                <a:cubicBezTo>
                  <a:pt x="16871" y="2142"/>
                  <a:pt x="16871" y="2142"/>
                  <a:pt x="16871" y="2142"/>
                </a:cubicBezTo>
                <a:cubicBezTo>
                  <a:pt x="16890" y="2142"/>
                  <a:pt x="16890" y="2106"/>
                  <a:pt x="16909" y="2069"/>
                </a:cubicBezTo>
                <a:cubicBezTo>
                  <a:pt x="16928" y="2069"/>
                  <a:pt x="16966" y="2069"/>
                  <a:pt x="17004" y="2069"/>
                </a:cubicBezTo>
                <a:cubicBezTo>
                  <a:pt x="17061" y="2069"/>
                  <a:pt x="17117" y="2069"/>
                  <a:pt x="17174" y="2106"/>
                </a:cubicBezTo>
                <a:cubicBezTo>
                  <a:pt x="17174" y="2142"/>
                  <a:pt x="17155" y="2142"/>
                  <a:pt x="17174" y="2214"/>
                </a:cubicBezTo>
                <a:cubicBezTo>
                  <a:pt x="17212" y="2214"/>
                  <a:pt x="17250" y="2214"/>
                  <a:pt x="17288" y="2251"/>
                </a:cubicBezTo>
                <a:cubicBezTo>
                  <a:pt x="17325" y="2251"/>
                  <a:pt x="17363" y="2214"/>
                  <a:pt x="17401" y="2214"/>
                </a:cubicBezTo>
                <a:cubicBezTo>
                  <a:pt x="17420" y="2214"/>
                  <a:pt x="17439" y="2251"/>
                  <a:pt x="17439" y="2251"/>
                </a:cubicBezTo>
                <a:cubicBezTo>
                  <a:pt x="17458" y="2214"/>
                  <a:pt x="17477" y="2178"/>
                  <a:pt x="17477" y="2178"/>
                </a:cubicBezTo>
                <a:cubicBezTo>
                  <a:pt x="17477" y="2142"/>
                  <a:pt x="17477" y="2106"/>
                  <a:pt x="17477" y="2106"/>
                </a:cubicBezTo>
                <a:cubicBezTo>
                  <a:pt x="17496" y="2069"/>
                  <a:pt x="17515" y="2069"/>
                  <a:pt x="17515" y="2033"/>
                </a:cubicBezTo>
                <a:cubicBezTo>
                  <a:pt x="17552" y="2033"/>
                  <a:pt x="17590" y="2106"/>
                  <a:pt x="17609" y="2106"/>
                </a:cubicBezTo>
                <a:cubicBezTo>
                  <a:pt x="17647" y="2106"/>
                  <a:pt x="17704" y="2106"/>
                  <a:pt x="17741" y="2106"/>
                </a:cubicBezTo>
                <a:cubicBezTo>
                  <a:pt x="17760" y="2142"/>
                  <a:pt x="17779" y="2142"/>
                  <a:pt x="17779" y="2178"/>
                </a:cubicBezTo>
                <a:cubicBezTo>
                  <a:pt x="17779" y="2178"/>
                  <a:pt x="17779" y="2214"/>
                  <a:pt x="17798" y="2214"/>
                </a:cubicBezTo>
                <a:cubicBezTo>
                  <a:pt x="17760" y="2214"/>
                  <a:pt x="17647" y="2323"/>
                  <a:pt x="17647" y="2360"/>
                </a:cubicBezTo>
                <a:cubicBezTo>
                  <a:pt x="17647" y="2360"/>
                  <a:pt x="17647" y="2360"/>
                  <a:pt x="17647" y="2360"/>
                </a:cubicBezTo>
                <a:cubicBezTo>
                  <a:pt x="17647" y="2360"/>
                  <a:pt x="17647" y="2360"/>
                  <a:pt x="17647" y="2360"/>
                </a:cubicBezTo>
                <a:cubicBezTo>
                  <a:pt x="17723" y="2396"/>
                  <a:pt x="17723" y="2432"/>
                  <a:pt x="17760" y="2469"/>
                </a:cubicBezTo>
                <a:cubicBezTo>
                  <a:pt x="17779" y="2469"/>
                  <a:pt x="17779" y="2469"/>
                  <a:pt x="17798" y="2505"/>
                </a:cubicBezTo>
                <a:cubicBezTo>
                  <a:pt x="17817" y="2541"/>
                  <a:pt x="17817" y="2577"/>
                  <a:pt x="17855" y="2614"/>
                </a:cubicBezTo>
                <a:cubicBezTo>
                  <a:pt x="17874" y="2650"/>
                  <a:pt x="17912" y="2723"/>
                  <a:pt x="17950" y="2723"/>
                </a:cubicBezTo>
                <a:cubicBezTo>
                  <a:pt x="17987" y="2650"/>
                  <a:pt x="17987" y="2541"/>
                  <a:pt x="18044" y="2469"/>
                </a:cubicBezTo>
                <a:cubicBezTo>
                  <a:pt x="18044" y="2469"/>
                  <a:pt x="18044" y="2469"/>
                  <a:pt x="18044" y="2469"/>
                </a:cubicBezTo>
                <a:cubicBezTo>
                  <a:pt x="18044" y="2541"/>
                  <a:pt x="18063" y="2541"/>
                  <a:pt x="18082" y="2541"/>
                </a:cubicBezTo>
                <a:cubicBezTo>
                  <a:pt x="18101" y="2577"/>
                  <a:pt x="18120" y="2614"/>
                  <a:pt x="18139" y="2577"/>
                </a:cubicBezTo>
                <a:cubicBezTo>
                  <a:pt x="18177" y="2577"/>
                  <a:pt x="18214" y="2505"/>
                  <a:pt x="18252" y="2541"/>
                </a:cubicBezTo>
                <a:cubicBezTo>
                  <a:pt x="18271" y="2541"/>
                  <a:pt x="18347" y="2614"/>
                  <a:pt x="18347" y="2614"/>
                </a:cubicBezTo>
                <a:cubicBezTo>
                  <a:pt x="18385" y="2614"/>
                  <a:pt x="18366" y="2577"/>
                  <a:pt x="18385" y="2541"/>
                </a:cubicBezTo>
                <a:cubicBezTo>
                  <a:pt x="18403" y="2541"/>
                  <a:pt x="18403" y="2505"/>
                  <a:pt x="18422" y="2505"/>
                </a:cubicBezTo>
                <a:cubicBezTo>
                  <a:pt x="18422" y="2541"/>
                  <a:pt x="18441" y="2577"/>
                  <a:pt x="18479" y="2541"/>
                </a:cubicBezTo>
                <a:cubicBezTo>
                  <a:pt x="18479" y="2505"/>
                  <a:pt x="18479" y="2432"/>
                  <a:pt x="18479" y="2396"/>
                </a:cubicBezTo>
                <a:cubicBezTo>
                  <a:pt x="18479" y="2396"/>
                  <a:pt x="18441" y="2396"/>
                  <a:pt x="18422" y="2396"/>
                </a:cubicBezTo>
                <a:cubicBezTo>
                  <a:pt x="18441" y="2396"/>
                  <a:pt x="18441" y="2396"/>
                  <a:pt x="18441" y="2396"/>
                </a:cubicBezTo>
                <a:cubicBezTo>
                  <a:pt x="18441" y="2360"/>
                  <a:pt x="18441" y="2360"/>
                  <a:pt x="18441" y="2360"/>
                </a:cubicBezTo>
                <a:cubicBezTo>
                  <a:pt x="18460" y="2323"/>
                  <a:pt x="18479" y="2360"/>
                  <a:pt x="18517" y="2323"/>
                </a:cubicBezTo>
                <a:cubicBezTo>
                  <a:pt x="18536" y="2323"/>
                  <a:pt x="18555" y="2287"/>
                  <a:pt x="18574" y="2251"/>
                </a:cubicBezTo>
                <a:cubicBezTo>
                  <a:pt x="18630" y="2251"/>
                  <a:pt x="18725" y="2287"/>
                  <a:pt x="18782" y="2323"/>
                </a:cubicBezTo>
                <a:cubicBezTo>
                  <a:pt x="18801" y="2323"/>
                  <a:pt x="18820" y="2323"/>
                  <a:pt x="18839" y="2323"/>
                </a:cubicBezTo>
                <a:cubicBezTo>
                  <a:pt x="18839" y="2323"/>
                  <a:pt x="18839" y="2323"/>
                  <a:pt x="18839" y="2323"/>
                </a:cubicBezTo>
                <a:cubicBezTo>
                  <a:pt x="18820" y="2360"/>
                  <a:pt x="18820" y="2396"/>
                  <a:pt x="18801" y="2396"/>
                </a:cubicBezTo>
                <a:cubicBezTo>
                  <a:pt x="18820" y="2396"/>
                  <a:pt x="18839" y="2396"/>
                  <a:pt x="18857" y="2396"/>
                </a:cubicBezTo>
                <a:cubicBezTo>
                  <a:pt x="18857" y="2396"/>
                  <a:pt x="18857" y="2396"/>
                  <a:pt x="18857" y="2396"/>
                </a:cubicBezTo>
                <a:cubicBezTo>
                  <a:pt x="18857" y="2396"/>
                  <a:pt x="18857" y="2432"/>
                  <a:pt x="18857" y="2432"/>
                </a:cubicBezTo>
                <a:cubicBezTo>
                  <a:pt x="18857" y="2432"/>
                  <a:pt x="18857" y="2432"/>
                  <a:pt x="18839" y="2432"/>
                </a:cubicBezTo>
                <a:cubicBezTo>
                  <a:pt x="18820" y="2469"/>
                  <a:pt x="18801" y="2469"/>
                  <a:pt x="18801" y="2505"/>
                </a:cubicBezTo>
                <a:cubicBezTo>
                  <a:pt x="18857" y="2541"/>
                  <a:pt x="18895" y="2432"/>
                  <a:pt x="18914" y="2396"/>
                </a:cubicBezTo>
                <a:cubicBezTo>
                  <a:pt x="18990" y="2396"/>
                  <a:pt x="19047" y="2396"/>
                  <a:pt x="19103" y="2469"/>
                </a:cubicBezTo>
                <a:cubicBezTo>
                  <a:pt x="19103" y="2469"/>
                  <a:pt x="19103" y="2469"/>
                  <a:pt x="19103" y="2469"/>
                </a:cubicBezTo>
                <a:cubicBezTo>
                  <a:pt x="19065" y="2469"/>
                  <a:pt x="19047" y="2505"/>
                  <a:pt x="19028" y="2505"/>
                </a:cubicBezTo>
                <a:cubicBezTo>
                  <a:pt x="19028" y="2505"/>
                  <a:pt x="19028" y="2505"/>
                  <a:pt x="19028" y="2505"/>
                </a:cubicBezTo>
                <a:cubicBezTo>
                  <a:pt x="19047" y="2541"/>
                  <a:pt x="19065" y="2541"/>
                  <a:pt x="19084" y="2541"/>
                </a:cubicBezTo>
                <a:cubicBezTo>
                  <a:pt x="19122" y="2577"/>
                  <a:pt x="19160" y="2577"/>
                  <a:pt x="19179" y="2577"/>
                </a:cubicBezTo>
                <a:cubicBezTo>
                  <a:pt x="19198" y="2614"/>
                  <a:pt x="19217" y="2723"/>
                  <a:pt x="19236" y="2723"/>
                </a:cubicBezTo>
                <a:cubicBezTo>
                  <a:pt x="19274" y="2723"/>
                  <a:pt x="19311" y="2723"/>
                  <a:pt x="19330" y="2686"/>
                </a:cubicBezTo>
                <a:cubicBezTo>
                  <a:pt x="19368" y="2686"/>
                  <a:pt x="19387" y="2686"/>
                  <a:pt x="19425" y="2650"/>
                </a:cubicBezTo>
                <a:cubicBezTo>
                  <a:pt x="19463" y="2650"/>
                  <a:pt x="19595" y="2650"/>
                  <a:pt x="19633" y="2686"/>
                </a:cubicBezTo>
                <a:cubicBezTo>
                  <a:pt x="19652" y="2723"/>
                  <a:pt x="19690" y="2759"/>
                  <a:pt x="19709" y="2795"/>
                </a:cubicBezTo>
                <a:cubicBezTo>
                  <a:pt x="19709" y="2832"/>
                  <a:pt x="19709" y="2904"/>
                  <a:pt x="19690" y="2904"/>
                </a:cubicBezTo>
                <a:cubicBezTo>
                  <a:pt x="19709" y="2941"/>
                  <a:pt x="19746" y="2941"/>
                  <a:pt x="19765" y="2941"/>
                </a:cubicBezTo>
                <a:cubicBezTo>
                  <a:pt x="19765" y="3013"/>
                  <a:pt x="19765" y="3049"/>
                  <a:pt x="19784" y="3049"/>
                </a:cubicBezTo>
                <a:cubicBezTo>
                  <a:pt x="19803" y="3013"/>
                  <a:pt x="19822" y="2977"/>
                  <a:pt x="19841" y="2977"/>
                </a:cubicBezTo>
                <a:cubicBezTo>
                  <a:pt x="19879" y="2977"/>
                  <a:pt x="19898" y="2977"/>
                  <a:pt x="19917" y="2941"/>
                </a:cubicBezTo>
                <a:cubicBezTo>
                  <a:pt x="19936" y="2941"/>
                  <a:pt x="19936" y="2941"/>
                  <a:pt x="19954" y="2941"/>
                </a:cubicBezTo>
                <a:cubicBezTo>
                  <a:pt x="19992" y="2904"/>
                  <a:pt x="19992" y="2977"/>
                  <a:pt x="20011" y="2977"/>
                </a:cubicBezTo>
                <a:cubicBezTo>
                  <a:pt x="20030" y="2977"/>
                  <a:pt x="20049" y="2977"/>
                  <a:pt x="20068" y="2977"/>
                </a:cubicBezTo>
                <a:cubicBezTo>
                  <a:pt x="20125" y="3013"/>
                  <a:pt x="20144" y="2977"/>
                  <a:pt x="20181" y="2941"/>
                </a:cubicBezTo>
                <a:cubicBezTo>
                  <a:pt x="20200" y="2977"/>
                  <a:pt x="20219" y="3013"/>
                  <a:pt x="20238" y="3013"/>
                </a:cubicBezTo>
                <a:cubicBezTo>
                  <a:pt x="20257" y="3049"/>
                  <a:pt x="20276" y="3049"/>
                  <a:pt x="20295" y="3122"/>
                </a:cubicBezTo>
                <a:cubicBezTo>
                  <a:pt x="20314" y="3122"/>
                  <a:pt x="20389" y="3122"/>
                  <a:pt x="20389" y="3086"/>
                </a:cubicBezTo>
                <a:cubicBezTo>
                  <a:pt x="20408" y="3049"/>
                  <a:pt x="20389" y="2977"/>
                  <a:pt x="20371" y="2941"/>
                </a:cubicBezTo>
                <a:cubicBezTo>
                  <a:pt x="20371" y="2941"/>
                  <a:pt x="20352" y="2941"/>
                  <a:pt x="20352" y="2941"/>
                </a:cubicBezTo>
                <a:cubicBezTo>
                  <a:pt x="20352" y="2904"/>
                  <a:pt x="20371" y="2868"/>
                  <a:pt x="20371" y="2868"/>
                </a:cubicBezTo>
                <a:cubicBezTo>
                  <a:pt x="20427" y="2868"/>
                  <a:pt x="20484" y="2868"/>
                  <a:pt x="20522" y="2904"/>
                </a:cubicBezTo>
                <a:cubicBezTo>
                  <a:pt x="20522" y="2904"/>
                  <a:pt x="20522" y="2904"/>
                  <a:pt x="20522" y="2941"/>
                </a:cubicBezTo>
                <a:cubicBezTo>
                  <a:pt x="20579" y="2904"/>
                  <a:pt x="20654" y="2904"/>
                  <a:pt x="20692" y="2904"/>
                </a:cubicBezTo>
                <a:cubicBezTo>
                  <a:pt x="20711" y="2904"/>
                  <a:pt x="20730" y="2941"/>
                  <a:pt x="20749" y="2941"/>
                </a:cubicBezTo>
                <a:cubicBezTo>
                  <a:pt x="20787" y="2941"/>
                  <a:pt x="20806" y="2977"/>
                  <a:pt x="20825" y="2977"/>
                </a:cubicBezTo>
                <a:cubicBezTo>
                  <a:pt x="20862" y="3013"/>
                  <a:pt x="20919" y="3049"/>
                  <a:pt x="20957" y="3086"/>
                </a:cubicBezTo>
                <a:cubicBezTo>
                  <a:pt x="20957" y="3267"/>
                  <a:pt x="20957" y="3485"/>
                  <a:pt x="20957" y="3667"/>
                </a:cubicBezTo>
                <a:cubicBezTo>
                  <a:pt x="20957" y="3703"/>
                  <a:pt x="20957" y="3848"/>
                  <a:pt x="20957" y="3884"/>
                </a:cubicBezTo>
                <a:cubicBezTo>
                  <a:pt x="20938" y="3884"/>
                  <a:pt x="20919" y="3884"/>
                  <a:pt x="20900" y="3921"/>
                </a:cubicBezTo>
                <a:close/>
                <a:moveTo>
                  <a:pt x="11500" y="7696"/>
                </a:moveTo>
                <a:cubicBezTo>
                  <a:pt x="11500" y="7696"/>
                  <a:pt x="11500" y="7696"/>
                  <a:pt x="11500" y="7696"/>
                </a:cubicBezTo>
                <a:cubicBezTo>
                  <a:pt x="11500" y="7696"/>
                  <a:pt x="11500" y="7696"/>
                  <a:pt x="11500" y="7696"/>
                </a:cubicBezTo>
                <a:cubicBezTo>
                  <a:pt x="11500" y="7696"/>
                  <a:pt x="11500" y="7696"/>
                  <a:pt x="11500" y="7696"/>
                </a:cubicBezTo>
                <a:cubicBezTo>
                  <a:pt x="11519" y="7696"/>
                  <a:pt x="11519" y="7696"/>
                  <a:pt x="11519" y="7696"/>
                </a:cubicBezTo>
                <a:cubicBezTo>
                  <a:pt x="11519" y="7696"/>
                  <a:pt x="11519" y="7696"/>
                  <a:pt x="11500" y="7696"/>
                </a:cubicBezTo>
                <a:close/>
                <a:moveTo>
                  <a:pt x="13202" y="7696"/>
                </a:moveTo>
                <a:cubicBezTo>
                  <a:pt x="13202" y="7696"/>
                  <a:pt x="13202" y="7624"/>
                  <a:pt x="13202" y="7624"/>
                </a:cubicBezTo>
                <a:cubicBezTo>
                  <a:pt x="13183" y="7624"/>
                  <a:pt x="13164" y="7624"/>
                  <a:pt x="13145" y="7624"/>
                </a:cubicBezTo>
                <a:cubicBezTo>
                  <a:pt x="13126" y="7660"/>
                  <a:pt x="13145" y="7732"/>
                  <a:pt x="13126" y="7732"/>
                </a:cubicBezTo>
                <a:cubicBezTo>
                  <a:pt x="13126" y="7732"/>
                  <a:pt x="13126" y="7732"/>
                  <a:pt x="13126" y="7732"/>
                </a:cubicBezTo>
                <a:cubicBezTo>
                  <a:pt x="13126" y="7732"/>
                  <a:pt x="13126" y="7696"/>
                  <a:pt x="13126" y="7696"/>
                </a:cubicBezTo>
                <a:cubicBezTo>
                  <a:pt x="13126" y="7696"/>
                  <a:pt x="13126" y="7696"/>
                  <a:pt x="13126" y="7660"/>
                </a:cubicBezTo>
                <a:cubicBezTo>
                  <a:pt x="13108" y="7660"/>
                  <a:pt x="13108" y="7660"/>
                  <a:pt x="13108" y="7660"/>
                </a:cubicBezTo>
                <a:cubicBezTo>
                  <a:pt x="13108" y="7660"/>
                  <a:pt x="13108" y="7624"/>
                  <a:pt x="13108" y="7624"/>
                </a:cubicBezTo>
                <a:cubicBezTo>
                  <a:pt x="13108" y="7587"/>
                  <a:pt x="13126" y="7551"/>
                  <a:pt x="13126" y="7551"/>
                </a:cubicBezTo>
                <a:cubicBezTo>
                  <a:pt x="13108" y="7515"/>
                  <a:pt x="13089" y="7515"/>
                  <a:pt x="13070" y="7515"/>
                </a:cubicBezTo>
                <a:cubicBezTo>
                  <a:pt x="13070" y="7478"/>
                  <a:pt x="13070" y="7478"/>
                  <a:pt x="13051" y="7478"/>
                </a:cubicBezTo>
                <a:cubicBezTo>
                  <a:pt x="13051" y="7478"/>
                  <a:pt x="13051" y="7478"/>
                  <a:pt x="13032" y="7478"/>
                </a:cubicBezTo>
                <a:cubicBezTo>
                  <a:pt x="13032" y="7406"/>
                  <a:pt x="13013" y="7369"/>
                  <a:pt x="13013" y="7297"/>
                </a:cubicBezTo>
                <a:cubicBezTo>
                  <a:pt x="12994" y="7297"/>
                  <a:pt x="12975" y="7297"/>
                  <a:pt x="12975" y="7297"/>
                </a:cubicBezTo>
                <a:cubicBezTo>
                  <a:pt x="12975" y="7297"/>
                  <a:pt x="12975" y="7261"/>
                  <a:pt x="12975" y="7261"/>
                </a:cubicBezTo>
                <a:cubicBezTo>
                  <a:pt x="12975" y="7261"/>
                  <a:pt x="12975" y="7261"/>
                  <a:pt x="12975" y="7261"/>
                </a:cubicBezTo>
                <a:cubicBezTo>
                  <a:pt x="12994" y="7261"/>
                  <a:pt x="13032" y="7261"/>
                  <a:pt x="13051" y="7261"/>
                </a:cubicBezTo>
                <a:cubicBezTo>
                  <a:pt x="13051" y="7261"/>
                  <a:pt x="13051" y="7261"/>
                  <a:pt x="13051" y="7261"/>
                </a:cubicBezTo>
                <a:cubicBezTo>
                  <a:pt x="13032" y="7261"/>
                  <a:pt x="13032" y="7224"/>
                  <a:pt x="13013" y="7224"/>
                </a:cubicBezTo>
                <a:cubicBezTo>
                  <a:pt x="13032" y="7188"/>
                  <a:pt x="13032" y="7188"/>
                  <a:pt x="13032" y="7188"/>
                </a:cubicBezTo>
                <a:cubicBezTo>
                  <a:pt x="13032" y="7188"/>
                  <a:pt x="13032" y="7152"/>
                  <a:pt x="13051" y="7152"/>
                </a:cubicBezTo>
                <a:cubicBezTo>
                  <a:pt x="13051" y="7152"/>
                  <a:pt x="13051" y="7152"/>
                  <a:pt x="13070" y="7115"/>
                </a:cubicBezTo>
                <a:cubicBezTo>
                  <a:pt x="13089" y="7152"/>
                  <a:pt x="13126" y="7152"/>
                  <a:pt x="13145" y="7152"/>
                </a:cubicBezTo>
                <a:cubicBezTo>
                  <a:pt x="13145" y="7152"/>
                  <a:pt x="13145" y="7152"/>
                  <a:pt x="13145" y="7152"/>
                </a:cubicBezTo>
                <a:cubicBezTo>
                  <a:pt x="13145" y="7152"/>
                  <a:pt x="13126" y="7115"/>
                  <a:pt x="13126" y="7115"/>
                </a:cubicBezTo>
                <a:cubicBezTo>
                  <a:pt x="13145" y="7043"/>
                  <a:pt x="13145" y="7043"/>
                  <a:pt x="13145" y="6970"/>
                </a:cubicBezTo>
                <a:cubicBezTo>
                  <a:pt x="13145" y="6970"/>
                  <a:pt x="13145" y="6970"/>
                  <a:pt x="13145" y="6934"/>
                </a:cubicBezTo>
                <a:cubicBezTo>
                  <a:pt x="13145" y="6934"/>
                  <a:pt x="13145" y="6934"/>
                  <a:pt x="13145" y="6934"/>
                </a:cubicBezTo>
                <a:cubicBezTo>
                  <a:pt x="13126" y="6897"/>
                  <a:pt x="13126" y="6897"/>
                  <a:pt x="13108" y="6897"/>
                </a:cubicBezTo>
                <a:cubicBezTo>
                  <a:pt x="13108" y="6897"/>
                  <a:pt x="13089" y="6934"/>
                  <a:pt x="13089" y="6934"/>
                </a:cubicBezTo>
                <a:cubicBezTo>
                  <a:pt x="13070" y="6934"/>
                  <a:pt x="13051" y="6897"/>
                  <a:pt x="13032" y="6897"/>
                </a:cubicBezTo>
                <a:cubicBezTo>
                  <a:pt x="12994" y="6897"/>
                  <a:pt x="12975" y="6934"/>
                  <a:pt x="12956" y="6970"/>
                </a:cubicBezTo>
                <a:cubicBezTo>
                  <a:pt x="12937" y="6970"/>
                  <a:pt x="12937" y="6970"/>
                  <a:pt x="12918" y="6970"/>
                </a:cubicBezTo>
                <a:cubicBezTo>
                  <a:pt x="12899" y="6970"/>
                  <a:pt x="12899" y="7006"/>
                  <a:pt x="12881" y="7043"/>
                </a:cubicBezTo>
                <a:cubicBezTo>
                  <a:pt x="12881" y="7043"/>
                  <a:pt x="12881" y="7043"/>
                  <a:pt x="12881" y="7079"/>
                </a:cubicBezTo>
                <a:cubicBezTo>
                  <a:pt x="12862" y="7043"/>
                  <a:pt x="12862" y="7043"/>
                  <a:pt x="12862" y="7043"/>
                </a:cubicBezTo>
                <a:cubicBezTo>
                  <a:pt x="12843" y="7079"/>
                  <a:pt x="12824" y="7115"/>
                  <a:pt x="12805" y="7079"/>
                </a:cubicBezTo>
                <a:cubicBezTo>
                  <a:pt x="12805" y="7079"/>
                  <a:pt x="12805" y="7079"/>
                  <a:pt x="12805" y="7079"/>
                </a:cubicBezTo>
                <a:cubicBezTo>
                  <a:pt x="12805" y="7115"/>
                  <a:pt x="12786" y="7152"/>
                  <a:pt x="12786" y="7188"/>
                </a:cubicBezTo>
                <a:cubicBezTo>
                  <a:pt x="12767" y="7224"/>
                  <a:pt x="12748" y="7224"/>
                  <a:pt x="12748" y="7261"/>
                </a:cubicBezTo>
                <a:cubicBezTo>
                  <a:pt x="12748" y="7261"/>
                  <a:pt x="12748" y="7261"/>
                  <a:pt x="12748" y="7261"/>
                </a:cubicBezTo>
                <a:cubicBezTo>
                  <a:pt x="12748" y="7297"/>
                  <a:pt x="12767" y="7297"/>
                  <a:pt x="12767" y="7297"/>
                </a:cubicBezTo>
                <a:cubicBezTo>
                  <a:pt x="12786" y="7297"/>
                  <a:pt x="12805" y="7369"/>
                  <a:pt x="12805" y="7406"/>
                </a:cubicBezTo>
                <a:cubicBezTo>
                  <a:pt x="12805" y="7406"/>
                  <a:pt x="12805" y="7406"/>
                  <a:pt x="12805" y="7406"/>
                </a:cubicBezTo>
                <a:cubicBezTo>
                  <a:pt x="12805" y="7406"/>
                  <a:pt x="12805" y="7369"/>
                  <a:pt x="12805" y="7369"/>
                </a:cubicBezTo>
                <a:cubicBezTo>
                  <a:pt x="12805" y="7369"/>
                  <a:pt x="12805" y="7369"/>
                  <a:pt x="12805" y="7369"/>
                </a:cubicBezTo>
                <a:cubicBezTo>
                  <a:pt x="12805" y="7369"/>
                  <a:pt x="12805" y="7369"/>
                  <a:pt x="12805" y="7369"/>
                </a:cubicBezTo>
                <a:cubicBezTo>
                  <a:pt x="12805" y="7406"/>
                  <a:pt x="12786" y="7442"/>
                  <a:pt x="12805" y="7478"/>
                </a:cubicBezTo>
                <a:cubicBezTo>
                  <a:pt x="12824" y="7515"/>
                  <a:pt x="12805" y="7515"/>
                  <a:pt x="12824" y="7551"/>
                </a:cubicBezTo>
                <a:cubicBezTo>
                  <a:pt x="12824" y="7551"/>
                  <a:pt x="12824" y="7551"/>
                  <a:pt x="12824" y="7551"/>
                </a:cubicBezTo>
                <a:cubicBezTo>
                  <a:pt x="12843" y="7551"/>
                  <a:pt x="12843" y="7587"/>
                  <a:pt x="12862" y="7624"/>
                </a:cubicBezTo>
                <a:cubicBezTo>
                  <a:pt x="12862" y="7624"/>
                  <a:pt x="12862" y="7624"/>
                  <a:pt x="12862" y="7624"/>
                </a:cubicBezTo>
                <a:cubicBezTo>
                  <a:pt x="12881" y="7660"/>
                  <a:pt x="12899" y="7696"/>
                  <a:pt x="12899" y="7696"/>
                </a:cubicBezTo>
                <a:cubicBezTo>
                  <a:pt x="12899" y="7732"/>
                  <a:pt x="12899" y="7732"/>
                  <a:pt x="12899" y="7769"/>
                </a:cubicBezTo>
                <a:cubicBezTo>
                  <a:pt x="12918" y="7769"/>
                  <a:pt x="12918" y="7805"/>
                  <a:pt x="12918" y="7805"/>
                </a:cubicBezTo>
                <a:cubicBezTo>
                  <a:pt x="12937" y="7841"/>
                  <a:pt x="12975" y="7805"/>
                  <a:pt x="12975" y="7878"/>
                </a:cubicBezTo>
                <a:cubicBezTo>
                  <a:pt x="12975" y="7878"/>
                  <a:pt x="12975" y="7878"/>
                  <a:pt x="12975" y="7878"/>
                </a:cubicBezTo>
                <a:cubicBezTo>
                  <a:pt x="12975" y="7878"/>
                  <a:pt x="12975" y="7878"/>
                  <a:pt x="12975" y="7878"/>
                </a:cubicBezTo>
                <a:cubicBezTo>
                  <a:pt x="12918" y="7841"/>
                  <a:pt x="12918" y="7950"/>
                  <a:pt x="12918" y="8023"/>
                </a:cubicBezTo>
                <a:cubicBezTo>
                  <a:pt x="12918" y="8023"/>
                  <a:pt x="12918" y="8023"/>
                  <a:pt x="12918" y="8023"/>
                </a:cubicBezTo>
                <a:cubicBezTo>
                  <a:pt x="12918" y="8023"/>
                  <a:pt x="12899" y="8023"/>
                  <a:pt x="12899" y="8059"/>
                </a:cubicBezTo>
                <a:cubicBezTo>
                  <a:pt x="12899" y="8059"/>
                  <a:pt x="12899" y="8059"/>
                  <a:pt x="12899" y="8059"/>
                </a:cubicBezTo>
                <a:cubicBezTo>
                  <a:pt x="12899" y="8023"/>
                  <a:pt x="12899" y="8023"/>
                  <a:pt x="12899" y="8023"/>
                </a:cubicBezTo>
                <a:cubicBezTo>
                  <a:pt x="12899" y="8023"/>
                  <a:pt x="12899" y="8023"/>
                  <a:pt x="12899" y="8023"/>
                </a:cubicBezTo>
                <a:cubicBezTo>
                  <a:pt x="12899" y="8095"/>
                  <a:pt x="12862" y="8168"/>
                  <a:pt x="12881" y="8241"/>
                </a:cubicBezTo>
                <a:cubicBezTo>
                  <a:pt x="12899" y="8277"/>
                  <a:pt x="12937" y="8277"/>
                  <a:pt x="12956" y="8277"/>
                </a:cubicBezTo>
                <a:cubicBezTo>
                  <a:pt x="12975" y="8422"/>
                  <a:pt x="13070" y="8386"/>
                  <a:pt x="13126" y="8386"/>
                </a:cubicBezTo>
                <a:cubicBezTo>
                  <a:pt x="13145" y="8350"/>
                  <a:pt x="13183" y="8386"/>
                  <a:pt x="13202" y="8350"/>
                </a:cubicBezTo>
                <a:cubicBezTo>
                  <a:pt x="13221" y="8313"/>
                  <a:pt x="13202" y="8241"/>
                  <a:pt x="13183" y="8204"/>
                </a:cubicBezTo>
                <a:cubicBezTo>
                  <a:pt x="13183" y="8168"/>
                  <a:pt x="13202" y="8168"/>
                  <a:pt x="13202" y="8132"/>
                </a:cubicBezTo>
                <a:cubicBezTo>
                  <a:pt x="13202" y="8095"/>
                  <a:pt x="13202" y="8095"/>
                  <a:pt x="13202" y="8059"/>
                </a:cubicBezTo>
                <a:cubicBezTo>
                  <a:pt x="13202" y="8023"/>
                  <a:pt x="13183" y="8023"/>
                  <a:pt x="13183" y="8023"/>
                </a:cubicBezTo>
                <a:cubicBezTo>
                  <a:pt x="13164" y="7987"/>
                  <a:pt x="13164" y="7987"/>
                  <a:pt x="13145" y="8023"/>
                </a:cubicBezTo>
                <a:cubicBezTo>
                  <a:pt x="13145" y="7987"/>
                  <a:pt x="13145" y="7987"/>
                  <a:pt x="13145" y="7987"/>
                </a:cubicBezTo>
                <a:cubicBezTo>
                  <a:pt x="13145" y="7987"/>
                  <a:pt x="13164" y="7987"/>
                  <a:pt x="13164" y="7987"/>
                </a:cubicBezTo>
                <a:cubicBezTo>
                  <a:pt x="13164" y="7987"/>
                  <a:pt x="13183" y="7987"/>
                  <a:pt x="13183" y="7987"/>
                </a:cubicBezTo>
                <a:cubicBezTo>
                  <a:pt x="13183" y="7987"/>
                  <a:pt x="13183" y="7987"/>
                  <a:pt x="13183" y="7987"/>
                </a:cubicBezTo>
                <a:cubicBezTo>
                  <a:pt x="13183" y="7950"/>
                  <a:pt x="13164" y="7950"/>
                  <a:pt x="13164" y="7950"/>
                </a:cubicBezTo>
                <a:cubicBezTo>
                  <a:pt x="13164" y="7950"/>
                  <a:pt x="13164" y="7950"/>
                  <a:pt x="13164" y="7950"/>
                </a:cubicBezTo>
                <a:cubicBezTo>
                  <a:pt x="13164" y="7914"/>
                  <a:pt x="13183" y="7914"/>
                  <a:pt x="13183" y="7914"/>
                </a:cubicBezTo>
                <a:cubicBezTo>
                  <a:pt x="13164" y="7914"/>
                  <a:pt x="13145" y="7914"/>
                  <a:pt x="13126" y="7914"/>
                </a:cubicBezTo>
                <a:cubicBezTo>
                  <a:pt x="13126" y="7878"/>
                  <a:pt x="13126" y="7805"/>
                  <a:pt x="13145" y="7769"/>
                </a:cubicBezTo>
                <a:cubicBezTo>
                  <a:pt x="13145" y="7769"/>
                  <a:pt x="13145" y="7805"/>
                  <a:pt x="13145" y="7805"/>
                </a:cubicBezTo>
                <a:cubicBezTo>
                  <a:pt x="13164" y="7805"/>
                  <a:pt x="13164" y="7805"/>
                  <a:pt x="13183" y="7805"/>
                </a:cubicBezTo>
                <a:cubicBezTo>
                  <a:pt x="13183" y="7805"/>
                  <a:pt x="13183" y="7805"/>
                  <a:pt x="13183" y="7769"/>
                </a:cubicBezTo>
                <a:cubicBezTo>
                  <a:pt x="13183" y="7769"/>
                  <a:pt x="13183" y="7805"/>
                  <a:pt x="13183" y="7805"/>
                </a:cubicBezTo>
                <a:cubicBezTo>
                  <a:pt x="13183" y="7805"/>
                  <a:pt x="13183" y="7805"/>
                  <a:pt x="13183" y="7805"/>
                </a:cubicBezTo>
                <a:cubicBezTo>
                  <a:pt x="13183" y="7805"/>
                  <a:pt x="13183" y="7805"/>
                  <a:pt x="13183" y="7805"/>
                </a:cubicBezTo>
                <a:cubicBezTo>
                  <a:pt x="13202" y="7805"/>
                  <a:pt x="13202" y="7805"/>
                  <a:pt x="13202" y="7805"/>
                </a:cubicBezTo>
                <a:cubicBezTo>
                  <a:pt x="13221" y="7805"/>
                  <a:pt x="13221" y="7805"/>
                  <a:pt x="13221" y="7805"/>
                </a:cubicBezTo>
                <a:cubicBezTo>
                  <a:pt x="13221" y="7805"/>
                  <a:pt x="13221" y="7805"/>
                  <a:pt x="13221" y="7769"/>
                </a:cubicBezTo>
                <a:cubicBezTo>
                  <a:pt x="13221" y="7769"/>
                  <a:pt x="13221" y="7805"/>
                  <a:pt x="13240" y="7805"/>
                </a:cubicBezTo>
                <a:cubicBezTo>
                  <a:pt x="13240" y="7805"/>
                  <a:pt x="13240" y="7805"/>
                  <a:pt x="13259" y="7769"/>
                </a:cubicBezTo>
                <a:cubicBezTo>
                  <a:pt x="13240" y="7732"/>
                  <a:pt x="13221" y="7732"/>
                  <a:pt x="13202" y="7696"/>
                </a:cubicBezTo>
                <a:close/>
                <a:moveTo>
                  <a:pt x="13978" y="1488"/>
                </a:moveTo>
                <a:cubicBezTo>
                  <a:pt x="13902" y="1525"/>
                  <a:pt x="13807" y="1597"/>
                  <a:pt x="13713" y="1634"/>
                </a:cubicBezTo>
                <a:cubicBezTo>
                  <a:pt x="13675" y="1670"/>
                  <a:pt x="13599" y="1670"/>
                  <a:pt x="13580" y="1743"/>
                </a:cubicBezTo>
                <a:cubicBezTo>
                  <a:pt x="13599" y="1743"/>
                  <a:pt x="13599" y="1743"/>
                  <a:pt x="13599" y="1743"/>
                </a:cubicBezTo>
                <a:cubicBezTo>
                  <a:pt x="13599" y="1779"/>
                  <a:pt x="13599" y="1779"/>
                  <a:pt x="13599" y="1779"/>
                </a:cubicBezTo>
                <a:cubicBezTo>
                  <a:pt x="13580" y="1815"/>
                  <a:pt x="13580" y="1815"/>
                  <a:pt x="13561" y="1815"/>
                </a:cubicBezTo>
                <a:cubicBezTo>
                  <a:pt x="13543" y="1851"/>
                  <a:pt x="13524" y="1815"/>
                  <a:pt x="13486" y="1815"/>
                </a:cubicBezTo>
                <a:cubicBezTo>
                  <a:pt x="13486" y="1815"/>
                  <a:pt x="13486" y="1815"/>
                  <a:pt x="13486" y="1815"/>
                </a:cubicBezTo>
                <a:cubicBezTo>
                  <a:pt x="13486" y="1851"/>
                  <a:pt x="13486" y="1851"/>
                  <a:pt x="13486" y="1851"/>
                </a:cubicBezTo>
                <a:cubicBezTo>
                  <a:pt x="13486" y="1888"/>
                  <a:pt x="13486" y="1888"/>
                  <a:pt x="13505" y="1888"/>
                </a:cubicBezTo>
                <a:cubicBezTo>
                  <a:pt x="13505" y="1888"/>
                  <a:pt x="13505" y="1888"/>
                  <a:pt x="13505" y="1888"/>
                </a:cubicBezTo>
                <a:cubicBezTo>
                  <a:pt x="13486" y="1924"/>
                  <a:pt x="13467" y="1924"/>
                  <a:pt x="13448" y="1960"/>
                </a:cubicBezTo>
                <a:cubicBezTo>
                  <a:pt x="13448" y="1960"/>
                  <a:pt x="13429" y="1924"/>
                  <a:pt x="13429" y="1924"/>
                </a:cubicBezTo>
                <a:cubicBezTo>
                  <a:pt x="13410" y="1960"/>
                  <a:pt x="13410" y="1960"/>
                  <a:pt x="13410" y="1960"/>
                </a:cubicBezTo>
                <a:cubicBezTo>
                  <a:pt x="13410" y="1960"/>
                  <a:pt x="13410" y="1960"/>
                  <a:pt x="13410" y="1960"/>
                </a:cubicBezTo>
                <a:cubicBezTo>
                  <a:pt x="13410" y="1997"/>
                  <a:pt x="13429" y="1997"/>
                  <a:pt x="13429" y="1997"/>
                </a:cubicBezTo>
                <a:cubicBezTo>
                  <a:pt x="13429" y="1997"/>
                  <a:pt x="13429" y="2033"/>
                  <a:pt x="13429" y="2033"/>
                </a:cubicBezTo>
                <a:cubicBezTo>
                  <a:pt x="13410" y="2069"/>
                  <a:pt x="13410" y="2106"/>
                  <a:pt x="13372" y="2142"/>
                </a:cubicBezTo>
                <a:cubicBezTo>
                  <a:pt x="13353" y="2106"/>
                  <a:pt x="13335" y="2069"/>
                  <a:pt x="13316" y="2069"/>
                </a:cubicBezTo>
                <a:cubicBezTo>
                  <a:pt x="13240" y="2069"/>
                  <a:pt x="13240" y="2142"/>
                  <a:pt x="13202" y="2033"/>
                </a:cubicBezTo>
                <a:cubicBezTo>
                  <a:pt x="13202" y="2033"/>
                  <a:pt x="13202" y="2033"/>
                  <a:pt x="13202" y="2033"/>
                </a:cubicBezTo>
                <a:cubicBezTo>
                  <a:pt x="13240" y="1997"/>
                  <a:pt x="13240" y="1960"/>
                  <a:pt x="13316" y="1960"/>
                </a:cubicBezTo>
                <a:cubicBezTo>
                  <a:pt x="13316" y="1924"/>
                  <a:pt x="13316" y="1924"/>
                  <a:pt x="13316" y="1924"/>
                </a:cubicBezTo>
                <a:cubicBezTo>
                  <a:pt x="13316" y="1888"/>
                  <a:pt x="13297" y="1888"/>
                  <a:pt x="13297" y="1888"/>
                </a:cubicBezTo>
                <a:cubicBezTo>
                  <a:pt x="13297" y="1888"/>
                  <a:pt x="13297" y="1888"/>
                  <a:pt x="13297" y="1888"/>
                </a:cubicBezTo>
                <a:cubicBezTo>
                  <a:pt x="13316" y="1815"/>
                  <a:pt x="13335" y="1851"/>
                  <a:pt x="13353" y="1815"/>
                </a:cubicBezTo>
                <a:cubicBezTo>
                  <a:pt x="13353" y="1815"/>
                  <a:pt x="13353" y="1779"/>
                  <a:pt x="13335" y="1779"/>
                </a:cubicBezTo>
                <a:cubicBezTo>
                  <a:pt x="13335" y="1779"/>
                  <a:pt x="13335" y="1779"/>
                  <a:pt x="13353" y="1743"/>
                </a:cubicBezTo>
                <a:cubicBezTo>
                  <a:pt x="13353" y="1743"/>
                  <a:pt x="13372" y="1670"/>
                  <a:pt x="13391" y="1670"/>
                </a:cubicBezTo>
                <a:cubicBezTo>
                  <a:pt x="13391" y="1670"/>
                  <a:pt x="13410" y="1670"/>
                  <a:pt x="13429" y="1670"/>
                </a:cubicBezTo>
                <a:cubicBezTo>
                  <a:pt x="13448" y="1634"/>
                  <a:pt x="13467" y="1561"/>
                  <a:pt x="13505" y="1561"/>
                </a:cubicBezTo>
                <a:cubicBezTo>
                  <a:pt x="13580" y="1488"/>
                  <a:pt x="13618" y="1561"/>
                  <a:pt x="13637" y="1452"/>
                </a:cubicBezTo>
                <a:cubicBezTo>
                  <a:pt x="13656" y="1452"/>
                  <a:pt x="13675" y="1416"/>
                  <a:pt x="13675" y="1416"/>
                </a:cubicBezTo>
                <a:cubicBezTo>
                  <a:pt x="13694" y="1452"/>
                  <a:pt x="13713" y="1452"/>
                  <a:pt x="13732" y="1452"/>
                </a:cubicBezTo>
                <a:cubicBezTo>
                  <a:pt x="13751" y="1452"/>
                  <a:pt x="13770" y="1452"/>
                  <a:pt x="13788" y="1416"/>
                </a:cubicBezTo>
                <a:cubicBezTo>
                  <a:pt x="13807" y="1416"/>
                  <a:pt x="13807" y="1416"/>
                  <a:pt x="13826" y="1416"/>
                </a:cubicBezTo>
                <a:cubicBezTo>
                  <a:pt x="13864" y="1416"/>
                  <a:pt x="13883" y="1379"/>
                  <a:pt x="13921" y="1379"/>
                </a:cubicBezTo>
                <a:cubicBezTo>
                  <a:pt x="13959" y="1271"/>
                  <a:pt x="13978" y="1307"/>
                  <a:pt x="14034" y="1271"/>
                </a:cubicBezTo>
                <a:cubicBezTo>
                  <a:pt x="14053" y="1271"/>
                  <a:pt x="14072" y="1271"/>
                  <a:pt x="14072" y="1271"/>
                </a:cubicBezTo>
                <a:cubicBezTo>
                  <a:pt x="14091" y="1271"/>
                  <a:pt x="14129" y="1307"/>
                  <a:pt x="14110" y="1343"/>
                </a:cubicBezTo>
                <a:cubicBezTo>
                  <a:pt x="14091" y="1452"/>
                  <a:pt x="14034" y="1452"/>
                  <a:pt x="13978" y="1488"/>
                </a:cubicBezTo>
                <a:close/>
                <a:moveTo>
                  <a:pt x="13316" y="2142"/>
                </a:moveTo>
                <a:cubicBezTo>
                  <a:pt x="13316" y="2142"/>
                  <a:pt x="13335" y="2142"/>
                  <a:pt x="13353" y="2178"/>
                </a:cubicBezTo>
                <a:cubicBezTo>
                  <a:pt x="13335" y="2287"/>
                  <a:pt x="13278" y="2214"/>
                  <a:pt x="13297" y="2396"/>
                </a:cubicBezTo>
                <a:cubicBezTo>
                  <a:pt x="13297" y="2505"/>
                  <a:pt x="13316" y="2577"/>
                  <a:pt x="13335" y="2614"/>
                </a:cubicBezTo>
                <a:cubicBezTo>
                  <a:pt x="13353" y="2650"/>
                  <a:pt x="13391" y="2650"/>
                  <a:pt x="13391" y="2723"/>
                </a:cubicBezTo>
                <a:cubicBezTo>
                  <a:pt x="13372" y="2723"/>
                  <a:pt x="13335" y="2723"/>
                  <a:pt x="13297" y="2723"/>
                </a:cubicBezTo>
                <a:cubicBezTo>
                  <a:pt x="13278" y="2723"/>
                  <a:pt x="13278" y="2759"/>
                  <a:pt x="13259" y="2759"/>
                </a:cubicBezTo>
                <a:cubicBezTo>
                  <a:pt x="13240" y="2723"/>
                  <a:pt x="13240" y="2723"/>
                  <a:pt x="13240" y="2686"/>
                </a:cubicBezTo>
                <a:cubicBezTo>
                  <a:pt x="13221" y="2686"/>
                  <a:pt x="13202" y="2723"/>
                  <a:pt x="13183" y="2686"/>
                </a:cubicBezTo>
                <a:cubicBezTo>
                  <a:pt x="13183" y="2650"/>
                  <a:pt x="13202" y="2650"/>
                  <a:pt x="13221" y="2614"/>
                </a:cubicBezTo>
                <a:cubicBezTo>
                  <a:pt x="13221" y="2614"/>
                  <a:pt x="13221" y="2614"/>
                  <a:pt x="13221" y="2614"/>
                </a:cubicBezTo>
                <a:cubicBezTo>
                  <a:pt x="13183" y="2577"/>
                  <a:pt x="13164" y="2541"/>
                  <a:pt x="13108" y="2505"/>
                </a:cubicBezTo>
                <a:cubicBezTo>
                  <a:pt x="13089" y="2505"/>
                  <a:pt x="13089" y="2577"/>
                  <a:pt x="13051" y="2541"/>
                </a:cubicBezTo>
                <a:cubicBezTo>
                  <a:pt x="13051" y="2541"/>
                  <a:pt x="13051" y="2505"/>
                  <a:pt x="13051" y="2505"/>
                </a:cubicBezTo>
                <a:cubicBezTo>
                  <a:pt x="13032" y="2469"/>
                  <a:pt x="13051" y="2432"/>
                  <a:pt x="13051" y="2396"/>
                </a:cubicBezTo>
                <a:cubicBezTo>
                  <a:pt x="13070" y="2396"/>
                  <a:pt x="13070" y="2432"/>
                  <a:pt x="13089" y="2432"/>
                </a:cubicBezTo>
                <a:cubicBezTo>
                  <a:pt x="13108" y="2396"/>
                  <a:pt x="13145" y="2323"/>
                  <a:pt x="13145" y="2287"/>
                </a:cubicBezTo>
                <a:cubicBezTo>
                  <a:pt x="13126" y="2287"/>
                  <a:pt x="13126" y="2287"/>
                  <a:pt x="13108" y="2251"/>
                </a:cubicBezTo>
                <a:cubicBezTo>
                  <a:pt x="13108" y="2251"/>
                  <a:pt x="13108" y="2251"/>
                  <a:pt x="13108" y="2251"/>
                </a:cubicBezTo>
                <a:cubicBezTo>
                  <a:pt x="13126" y="2251"/>
                  <a:pt x="13145" y="2178"/>
                  <a:pt x="13164" y="2178"/>
                </a:cubicBezTo>
                <a:cubicBezTo>
                  <a:pt x="13183" y="2178"/>
                  <a:pt x="13202" y="2178"/>
                  <a:pt x="13202" y="2178"/>
                </a:cubicBezTo>
                <a:cubicBezTo>
                  <a:pt x="13240" y="2178"/>
                  <a:pt x="13278" y="2142"/>
                  <a:pt x="13316" y="2142"/>
                </a:cubicBezTo>
                <a:close/>
                <a:moveTo>
                  <a:pt x="11481" y="617"/>
                </a:moveTo>
                <a:cubicBezTo>
                  <a:pt x="11462" y="617"/>
                  <a:pt x="11443" y="653"/>
                  <a:pt x="11424" y="653"/>
                </a:cubicBezTo>
                <a:cubicBezTo>
                  <a:pt x="11405" y="653"/>
                  <a:pt x="11386" y="653"/>
                  <a:pt x="11367" y="690"/>
                </a:cubicBezTo>
                <a:cubicBezTo>
                  <a:pt x="11367" y="690"/>
                  <a:pt x="11349" y="690"/>
                  <a:pt x="11330" y="726"/>
                </a:cubicBezTo>
                <a:cubicBezTo>
                  <a:pt x="11273" y="726"/>
                  <a:pt x="11216" y="726"/>
                  <a:pt x="11159" y="690"/>
                </a:cubicBezTo>
                <a:cubicBezTo>
                  <a:pt x="11159" y="690"/>
                  <a:pt x="11159" y="690"/>
                  <a:pt x="11159" y="653"/>
                </a:cubicBezTo>
                <a:cubicBezTo>
                  <a:pt x="11197" y="653"/>
                  <a:pt x="11197" y="617"/>
                  <a:pt x="11216" y="545"/>
                </a:cubicBezTo>
                <a:cubicBezTo>
                  <a:pt x="11216" y="545"/>
                  <a:pt x="11216" y="545"/>
                  <a:pt x="11216" y="545"/>
                </a:cubicBezTo>
                <a:cubicBezTo>
                  <a:pt x="11140" y="545"/>
                  <a:pt x="11046" y="581"/>
                  <a:pt x="10989" y="508"/>
                </a:cubicBezTo>
                <a:cubicBezTo>
                  <a:pt x="10989" y="508"/>
                  <a:pt x="10989" y="508"/>
                  <a:pt x="11008" y="508"/>
                </a:cubicBezTo>
                <a:cubicBezTo>
                  <a:pt x="11008" y="472"/>
                  <a:pt x="11027" y="472"/>
                  <a:pt x="11046" y="436"/>
                </a:cubicBezTo>
                <a:cubicBezTo>
                  <a:pt x="11065" y="399"/>
                  <a:pt x="11084" y="363"/>
                  <a:pt x="11084" y="327"/>
                </a:cubicBezTo>
                <a:cubicBezTo>
                  <a:pt x="11103" y="363"/>
                  <a:pt x="11122" y="363"/>
                  <a:pt x="11122" y="399"/>
                </a:cubicBezTo>
                <a:cubicBezTo>
                  <a:pt x="11159" y="436"/>
                  <a:pt x="11197" y="363"/>
                  <a:pt x="11235" y="472"/>
                </a:cubicBezTo>
                <a:cubicBezTo>
                  <a:pt x="11235" y="472"/>
                  <a:pt x="11235" y="436"/>
                  <a:pt x="11235" y="436"/>
                </a:cubicBezTo>
                <a:cubicBezTo>
                  <a:pt x="11273" y="436"/>
                  <a:pt x="11273" y="363"/>
                  <a:pt x="11292" y="327"/>
                </a:cubicBezTo>
                <a:cubicBezTo>
                  <a:pt x="11292" y="363"/>
                  <a:pt x="11292" y="436"/>
                  <a:pt x="11292" y="472"/>
                </a:cubicBezTo>
                <a:cubicBezTo>
                  <a:pt x="11292" y="472"/>
                  <a:pt x="11311" y="472"/>
                  <a:pt x="11311" y="472"/>
                </a:cubicBezTo>
                <a:cubicBezTo>
                  <a:pt x="11330" y="436"/>
                  <a:pt x="11349" y="363"/>
                  <a:pt x="11367" y="363"/>
                </a:cubicBezTo>
                <a:cubicBezTo>
                  <a:pt x="11386" y="363"/>
                  <a:pt x="11386" y="399"/>
                  <a:pt x="11386" y="399"/>
                </a:cubicBezTo>
                <a:cubicBezTo>
                  <a:pt x="11405" y="399"/>
                  <a:pt x="11405" y="436"/>
                  <a:pt x="11405" y="436"/>
                </a:cubicBezTo>
                <a:cubicBezTo>
                  <a:pt x="11443" y="436"/>
                  <a:pt x="11462" y="436"/>
                  <a:pt x="11481" y="436"/>
                </a:cubicBezTo>
                <a:cubicBezTo>
                  <a:pt x="11500" y="436"/>
                  <a:pt x="11519" y="436"/>
                  <a:pt x="11519" y="472"/>
                </a:cubicBezTo>
                <a:cubicBezTo>
                  <a:pt x="11538" y="472"/>
                  <a:pt x="11538" y="508"/>
                  <a:pt x="11538" y="508"/>
                </a:cubicBezTo>
                <a:cubicBezTo>
                  <a:pt x="11538" y="508"/>
                  <a:pt x="11538" y="508"/>
                  <a:pt x="11538" y="508"/>
                </a:cubicBezTo>
                <a:cubicBezTo>
                  <a:pt x="11519" y="545"/>
                  <a:pt x="11500" y="581"/>
                  <a:pt x="11481" y="617"/>
                </a:cubicBezTo>
                <a:close/>
                <a:moveTo>
                  <a:pt x="10970" y="653"/>
                </a:moveTo>
                <a:cubicBezTo>
                  <a:pt x="10989" y="653"/>
                  <a:pt x="10989" y="617"/>
                  <a:pt x="11008" y="617"/>
                </a:cubicBezTo>
                <a:cubicBezTo>
                  <a:pt x="11027" y="653"/>
                  <a:pt x="11027" y="690"/>
                  <a:pt x="11046" y="690"/>
                </a:cubicBezTo>
                <a:cubicBezTo>
                  <a:pt x="11065" y="726"/>
                  <a:pt x="11084" y="726"/>
                  <a:pt x="11103" y="726"/>
                </a:cubicBezTo>
                <a:cubicBezTo>
                  <a:pt x="11122" y="726"/>
                  <a:pt x="11140" y="762"/>
                  <a:pt x="11159" y="799"/>
                </a:cubicBezTo>
                <a:cubicBezTo>
                  <a:pt x="11140" y="835"/>
                  <a:pt x="11140" y="835"/>
                  <a:pt x="11122" y="835"/>
                </a:cubicBezTo>
                <a:cubicBezTo>
                  <a:pt x="11103" y="835"/>
                  <a:pt x="11084" y="871"/>
                  <a:pt x="11065" y="871"/>
                </a:cubicBezTo>
                <a:cubicBezTo>
                  <a:pt x="11027" y="908"/>
                  <a:pt x="11046" y="980"/>
                  <a:pt x="11027" y="1053"/>
                </a:cubicBezTo>
                <a:cubicBezTo>
                  <a:pt x="11008" y="1089"/>
                  <a:pt x="11008" y="1089"/>
                  <a:pt x="11008" y="1125"/>
                </a:cubicBezTo>
                <a:cubicBezTo>
                  <a:pt x="10989" y="1125"/>
                  <a:pt x="10970" y="1125"/>
                  <a:pt x="10970" y="1162"/>
                </a:cubicBezTo>
                <a:cubicBezTo>
                  <a:pt x="10951" y="1198"/>
                  <a:pt x="10932" y="1234"/>
                  <a:pt x="10932" y="1307"/>
                </a:cubicBezTo>
                <a:cubicBezTo>
                  <a:pt x="10932" y="1343"/>
                  <a:pt x="10913" y="1343"/>
                  <a:pt x="10913" y="1343"/>
                </a:cubicBezTo>
                <a:cubicBezTo>
                  <a:pt x="10876" y="1343"/>
                  <a:pt x="10781" y="1198"/>
                  <a:pt x="10762" y="1198"/>
                </a:cubicBezTo>
                <a:cubicBezTo>
                  <a:pt x="10762" y="1162"/>
                  <a:pt x="10762" y="1162"/>
                  <a:pt x="10762" y="1162"/>
                </a:cubicBezTo>
                <a:cubicBezTo>
                  <a:pt x="10762" y="1162"/>
                  <a:pt x="10762" y="1162"/>
                  <a:pt x="10781" y="1125"/>
                </a:cubicBezTo>
                <a:cubicBezTo>
                  <a:pt x="10819" y="1125"/>
                  <a:pt x="10876" y="1125"/>
                  <a:pt x="10895" y="1089"/>
                </a:cubicBezTo>
                <a:cubicBezTo>
                  <a:pt x="10895" y="1053"/>
                  <a:pt x="10876" y="1053"/>
                  <a:pt x="10876" y="1053"/>
                </a:cubicBezTo>
                <a:cubicBezTo>
                  <a:pt x="10838" y="1053"/>
                  <a:pt x="10781" y="1089"/>
                  <a:pt x="10743" y="1089"/>
                </a:cubicBezTo>
                <a:cubicBezTo>
                  <a:pt x="10724" y="1053"/>
                  <a:pt x="10724" y="1053"/>
                  <a:pt x="10724" y="1016"/>
                </a:cubicBezTo>
                <a:cubicBezTo>
                  <a:pt x="10724" y="1016"/>
                  <a:pt x="10724" y="1016"/>
                  <a:pt x="10724" y="1016"/>
                </a:cubicBezTo>
                <a:cubicBezTo>
                  <a:pt x="10781" y="980"/>
                  <a:pt x="10857" y="980"/>
                  <a:pt x="10895" y="908"/>
                </a:cubicBezTo>
                <a:cubicBezTo>
                  <a:pt x="10895" y="908"/>
                  <a:pt x="10895" y="908"/>
                  <a:pt x="10895" y="908"/>
                </a:cubicBezTo>
                <a:cubicBezTo>
                  <a:pt x="10857" y="871"/>
                  <a:pt x="10819" y="871"/>
                  <a:pt x="10800" y="835"/>
                </a:cubicBezTo>
                <a:cubicBezTo>
                  <a:pt x="10762" y="835"/>
                  <a:pt x="10762" y="908"/>
                  <a:pt x="10724" y="944"/>
                </a:cubicBezTo>
                <a:cubicBezTo>
                  <a:pt x="10687" y="980"/>
                  <a:pt x="10611" y="835"/>
                  <a:pt x="10592" y="799"/>
                </a:cubicBezTo>
                <a:cubicBezTo>
                  <a:pt x="10611" y="762"/>
                  <a:pt x="10630" y="762"/>
                  <a:pt x="10630" y="726"/>
                </a:cubicBezTo>
                <a:cubicBezTo>
                  <a:pt x="10630" y="726"/>
                  <a:pt x="10630" y="690"/>
                  <a:pt x="10611" y="690"/>
                </a:cubicBezTo>
                <a:cubicBezTo>
                  <a:pt x="10611" y="690"/>
                  <a:pt x="10592" y="690"/>
                  <a:pt x="10573" y="726"/>
                </a:cubicBezTo>
                <a:cubicBezTo>
                  <a:pt x="10554" y="690"/>
                  <a:pt x="10535" y="653"/>
                  <a:pt x="10535" y="617"/>
                </a:cubicBezTo>
                <a:cubicBezTo>
                  <a:pt x="10554" y="581"/>
                  <a:pt x="10573" y="545"/>
                  <a:pt x="10611" y="545"/>
                </a:cubicBezTo>
                <a:cubicBezTo>
                  <a:pt x="10611" y="545"/>
                  <a:pt x="10630" y="545"/>
                  <a:pt x="10630" y="545"/>
                </a:cubicBezTo>
                <a:cubicBezTo>
                  <a:pt x="10649" y="545"/>
                  <a:pt x="10668" y="545"/>
                  <a:pt x="10687" y="545"/>
                </a:cubicBezTo>
                <a:cubicBezTo>
                  <a:pt x="10687" y="581"/>
                  <a:pt x="10687" y="617"/>
                  <a:pt x="10687" y="653"/>
                </a:cubicBezTo>
                <a:cubicBezTo>
                  <a:pt x="10705" y="653"/>
                  <a:pt x="10724" y="653"/>
                  <a:pt x="10743" y="653"/>
                </a:cubicBezTo>
                <a:cubicBezTo>
                  <a:pt x="10743" y="653"/>
                  <a:pt x="10743" y="653"/>
                  <a:pt x="10743" y="653"/>
                </a:cubicBezTo>
                <a:cubicBezTo>
                  <a:pt x="10743" y="617"/>
                  <a:pt x="10743" y="581"/>
                  <a:pt x="10743" y="581"/>
                </a:cubicBezTo>
                <a:cubicBezTo>
                  <a:pt x="10762" y="545"/>
                  <a:pt x="10781" y="545"/>
                  <a:pt x="10781" y="581"/>
                </a:cubicBezTo>
                <a:cubicBezTo>
                  <a:pt x="10800" y="617"/>
                  <a:pt x="10838" y="726"/>
                  <a:pt x="10857" y="726"/>
                </a:cubicBezTo>
                <a:cubicBezTo>
                  <a:pt x="10857" y="726"/>
                  <a:pt x="10876" y="690"/>
                  <a:pt x="10876" y="690"/>
                </a:cubicBezTo>
                <a:cubicBezTo>
                  <a:pt x="10876" y="653"/>
                  <a:pt x="10838" y="581"/>
                  <a:pt x="10857" y="545"/>
                </a:cubicBezTo>
                <a:cubicBezTo>
                  <a:pt x="10857" y="508"/>
                  <a:pt x="10857" y="508"/>
                  <a:pt x="10876" y="472"/>
                </a:cubicBezTo>
                <a:cubicBezTo>
                  <a:pt x="10895" y="472"/>
                  <a:pt x="10895" y="508"/>
                  <a:pt x="10913" y="508"/>
                </a:cubicBezTo>
                <a:cubicBezTo>
                  <a:pt x="10932" y="508"/>
                  <a:pt x="10932" y="508"/>
                  <a:pt x="10951" y="508"/>
                </a:cubicBezTo>
                <a:cubicBezTo>
                  <a:pt x="10951" y="545"/>
                  <a:pt x="10951" y="545"/>
                  <a:pt x="10970" y="545"/>
                </a:cubicBezTo>
                <a:cubicBezTo>
                  <a:pt x="10970" y="581"/>
                  <a:pt x="10951" y="617"/>
                  <a:pt x="10970" y="653"/>
                </a:cubicBezTo>
                <a:cubicBezTo>
                  <a:pt x="10970" y="653"/>
                  <a:pt x="10970" y="653"/>
                  <a:pt x="10970" y="653"/>
                </a:cubicBezTo>
                <a:close/>
                <a:moveTo>
                  <a:pt x="9892" y="6244"/>
                </a:moveTo>
                <a:cubicBezTo>
                  <a:pt x="9892" y="6244"/>
                  <a:pt x="9892" y="6244"/>
                  <a:pt x="9892" y="6244"/>
                </a:cubicBezTo>
                <a:cubicBezTo>
                  <a:pt x="9892" y="6244"/>
                  <a:pt x="9949" y="6244"/>
                  <a:pt x="9949" y="6244"/>
                </a:cubicBezTo>
                <a:cubicBezTo>
                  <a:pt x="9949" y="6244"/>
                  <a:pt x="9949" y="6244"/>
                  <a:pt x="9949" y="6244"/>
                </a:cubicBezTo>
                <a:cubicBezTo>
                  <a:pt x="9949" y="6244"/>
                  <a:pt x="9949" y="6280"/>
                  <a:pt x="9949" y="6280"/>
                </a:cubicBezTo>
                <a:cubicBezTo>
                  <a:pt x="9930" y="6280"/>
                  <a:pt x="9930" y="6280"/>
                  <a:pt x="9930" y="6317"/>
                </a:cubicBezTo>
                <a:cubicBezTo>
                  <a:pt x="9892" y="6317"/>
                  <a:pt x="9892" y="6353"/>
                  <a:pt x="9873" y="6353"/>
                </a:cubicBezTo>
                <a:cubicBezTo>
                  <a:pt x="9873" y="6353"/>
                  <a:pt x="9854" y="6353"/>
                  <a:pt x="9835" y="6317"/>
                </a:cubicBezTo>
                <a:cubicBezTo>
                  <a:pt x="9835" y="6353"/>
                  <a:pt x="9816" y="6353"/>
                  <a:pt x="9816" y="6353"/>
                </a:cubicBezTo>
                <a:cubicBezTo>
                  <a:pt x="9798" y="6353"/>
                  <a:pt x="9798" y="6317"/>
                  <a:pt x="9798" y="6317"/>
                </a:cubicBezTo>
                <a:cubicBezTo>
                  <a:pt x="9779" y="6353"/>
                  <a:pt x="9760" y="6353"/>
                  <a:pt x="9741" y="6353"/>
                </a:cubicBezTo>
                <a:cubicBezTo>
                  <a:pt x="9741" y="6353"/>
                  <a:pt x="9741" y="6353"/>
                  <a:pt x="9741" y="6353"/>
                </a:cubicBezTo>
                <a:cubicBezTo>
                  <a:pt x="9703" y="6353"/>
                  <a:pt x="9684" y="6353"/>
                  <a:pt x="9646" y="6353"/>
                </a:cubicBezTo>
                <a:cubicBezTo>
                  <a:pt x="9646" y="6426"/>
                  <a:pt x="9627" y="6426"/>
                  <a:pt x="9608" y="6389"/>
                </a:cubicBezTo>
                <a:cubicBezTo>
                  <a:pt x="9608" y="6389"/>
                  <a:pt x="9589" y="6426"/>
                  <a:pt x="9589" y="6389"/>
                </a:cubicBezTo>
                <a:cubicBezTo>
                  <a:pt x="9571" y="6426"/>
                  <a:pt x="9552" y="6426"/>
                  <a:pt x="9533" y="6462"/>
                </a:cubicBezTo>
                <a:cubicBezTo>
                  <a:pt x="9533" y="6462"/>
                  <a:pt x="9533" y="6462"/>
                  <a:pt x="9533" y="6462"/>
                </a:cubicBezTo>
                <a:cubicBezTo>
                  <a:pt x="9514" y="6426"/>
                  <a:pt x="9514" y="6426"/>
                  <a:pt x="9514" y="6426"/>
                </a:cubicBezTo>
                <a:cubicBezTo>
                  <a:pt x="9514" y="6426"/>
                  <a:pt x="9514" y="6426"/>
                  <a:pt x="9514" y="6426"/>
                </a:cubicBezTo>
                <a:cubicBezTo>
                  <a:pt x="9533" y="6426"/>
                  <a:pt x="9589" y="6353"/>
                  <a:pt x="9589" y="6317"/>
                </a:cubicBezTo>
                <a:cubicBezTo>
                  <a:pt x="9608" y="6317"/>
                  <a:pt x="9589" y="6280"/>
                  <a:pt x="9608" y="6280"/>
                </a:cubicBezTo>
                <a:cubicBezTo>
                  <a:pt x="9627" y="6244"/>
                  <a:pt x="9646" y="6280"/>
                  <a:pt x="9684" y="6280"/>
                </a:cubicBezTo>
                <a:cubicBezTo>
                  <a:pt x="9684" y="6244"/>
                  <a:pt x="9684" y="6208"/>
                  <a:pt x="9703" y="6208"/>
                </a:cubicBezTo>
                <a:cubicBezTo>
                  <a:pt x="9684" y="6208"/>
                  <a:pt x="9665" y="6244"/>
                  <a:pt x="9646" y="6244"/>
                </a:cubicBezTo>
                <a:cubicBezTo>
                  <a:pt x="9646" y="6244"/>
                  <a:pt x="9646" y="6244"/>
                  <a:pt x="9646" y="6244"/>
                </a:cubicBezTo>
                <a:cubicBezTo>
                  <a:pt x="9646" y="6244"/>
                  <a:pt x="9646" y="6244"/>
                  <a:pt x="9646" y="6244"/>
                </a:cubicBezTo>
                <a:cubicBezTo>
                  <a:pt x="9646" y="6208"/>
                  <a:pt x="9627" y="6208"/>
                  <a:pt x="9608" y="6208"/>
                </a:cubicBezTo>
                <a:cubicBezTo>
                  <a:pt x="9589" y="6208"/>
                  <a:pt x="9571" y="6208"/>
                  <a:pt x="9552" y="6208"/>
                </a:cubicBezTo>
                <a:cubicBezTo>
                  <a:pt x="9552" y="6171"/>
                  <a:pt x="9552" y="6171"/>
                  <a:pt x="9533" y="6171"/>
                </a:cubicBezTo>
                <a:cubicBezTo>
                  <a:pt x="9552" y="6171"/>
                  <a:pt x="9552" y="6171"/>
                  <a:pt x="9552" y="6171"/>
                </a:cubicBezTo>
                <a:cubicBezTo>
                  <a:pt x="9552" y="6135"/>
                  <a:pt x="9589" y="6135"/>
                  <a:pt x="9608" y="6099"/>
                </a:cubicBezTo>
                <a:cubicBezTo>
                  <a:pt x="9608" y="6063"/>
                  <a:pt x="9608" y="6026"/>
                  <a:pt x="9608" y="6026"/>
                </a:cubicBezTo>
                <a:cubicBezTo>
                  <a:pt x="9608" y="6026"/>
                  <a:pt x="9608" y="6026"/>
                  <a:pt x="9608" y="6026"/>
                </a:cubicBezTo>
                <a:cubicBezTo>
                  <a:pt x="9608" y="6026"/>
                  <a:pt x="9589" y="6026"/>
                  <a:pt x="9589" y="6026"/>
                </a:cubicBezTo>
                <a:cubicBezTo>
                  <a:pt x="9589" y="6026"/>
                  <a:pt x="9589" y="6026"/>
                  <a:pt x="9589" y="6026"/>
                </a:cubicBezTo>
                <a:cubicBezTo>
                  <a:pt x="9589" y="5954"/>
                  <a:pt x="9646" y="5954"/>
                  <a:pt x="9684" y="5954"/>
                </a:cubicBezTo>
                <a:cubicBezTo>
                  <a:pt x="9684" y="5954"/>
                  <a:pt x="9684" y="5954"/>
                  <a:pt x="9684" y="5954"/>
                </a:cubicBezTo>
                <a:cubicBezTo>
                  <a:pt x="9665" y="5881"/>
                  <a:pt x="9684" y="5845"/>
                  <a:pt x="9684" y="5808"/>
                </a:cubicBezTo>
                <a:cubicBezTo>
                  <a:pt x="9684" y="5808"/>
                  <a:pt x="9684" y="5808"/>
                  <a:pt x="9684" y="5808"/>
                </a:cubicBezTo>
                <a:cubicBezTo>
                  <a:pt x="9684" y="5808"/>
                  <a:pt x="9665" y="5808"/>
                  <a:pt x="9665" y="5808"/>
                </a:cubicBezTo>
                <a:cubicBezTo>
                  <a:pt x="9665" y="5772"/>
                  <a:pt x="9646" y="5772"/>
                  <a:pt x="9646" y="5772"/>
                </a:cubicBezTo>
                <a:cubicBezTo>
                  <a:pt x="9646" y="5736"/>
                  <a:pt x="9665" y="5699"/>
                  <a:pt x="9665" y="5699"/>
                </a:cubicBezTo>
                <a:cubicBezTo>
                  <a:pt x="9627" y="5663"/>
                  <a:pt x="9646" y="5699"/>
                  <a:pt x="9608" y="5699"/>
                </a:cubicBezTo>
                <a:cubicBezTo>
                  <a:pt x="9608" y="5699"/>
                  <a:pt x="9589" y="5699"/>
                  <a:pt x="9589" y="5699"/>
                </a:cubicBezTo>
                <a:cubicBezTo>
                  <a:pt x="9589" y="5699"/>
                  <a:pt x="9589" y="5699"/>
                  <a:pt x="9589" y="5699"/>
                </a:cubicBezTo>
                <a:cubicBezTo>
                  <a:pt x="9571" y="5699"/>
                  <a:pt x="9552" y="5699"/>
                  <a:pt x="9552" y="5699"/>
                </a:cubicBezTo>
                <a:cubicBezTo>
                  <a:pt x="9552" y="5663"/>
                  <a:pt x="9589" y="5591"/>
                  <a:pt x="9571" y="5591"/>
                </a:cubicBezTo>
                <a:cubicBezTo>
                  <a:pt x="9571" y="5591"/>
                  <a:pt x="9571" y="5554"/>
                  <a:pt x="9571" y="5518"/>
                </a:cubicBezTo>
                <a:cubicBezTo>
                  <a:pt x="9571" y="5518"/>
                  <a:pt x="9571" y="5518"/>
                  <a:pt x="9589" y="5518"/>
                </a:cubicBezTo>
                <a:cubicBezTo>
                  <a:pt x="9571" y="5482"/>
                  <a:pt x="9571" y="5482"/>
                  <a:pt x="9571" y="5482"/>
                </a:cubicBezTo>
                <a:cubicBezTo>
                  <a:pt x="9571" y="5482"/>
                  <a:pt x="9571" y="5482"/>
                  <a:pt x="9571" y="5482"/>
                </a:cubicBezTo>
                <a:cubicBezTo>
                  <a:pt x="9552" y="5482"/>
                  <a:pt x="9533" y="5518"/>
                  <a:pt x="9514" y="5554"/>
                </a:cubicBezTo>
                <a:cubicBezTo>
                  <a:pt x="9514" y="5518"/>
                  <a:pt x="9514" y="5518"/>
                  <a:pt x="9514" y="5518"/>
                </a:cubicBezTo>
                <a:cubicBezTo>
                  <a:pt x="9514" y="5482"/>
                  <a:pt x="9533" y="5445"/>
                  <a:pt x="9533" y="5409"/>
                </a:cubicBezTo>
                <a:cubicBezTo>
                  <a:pt x="9533" y="5409"/>
                  <a:pt x="9533" y="5409"/>
                  <a:pt x="9533" y="5373"/>
                </a:cubicBezTo>
                <a:cubicBezTo>
                  <a:pt x="9533" y="5373"/>
                  <a:pt x="9514" y="5373"/>
                  <a:pt x="9514" y="5409"/>
                </a:cubicBezTo>
                <a:cubicBezTo>
                  <a:pt x="9514" y="5409"/>
                  <a:pt x="9514" y="5409"/>
                  <a:pt x="9514" y="5409"/>
                </a:cubicBezTo>
                <a:cubicBezTo>
                  <a:pt x="9495" y="5409"/>
                  <a:pt x="9495" y="5409"/>
                  <a:pt x="9495" y="5409"/>
                </a:cubicBezTo>
                <a:cubicBezTo>
                  <a:pt x="9495" y="5409"/>
                  <a:pt x="9514" y="5336"/>
                  <a:pt x="9514" y="5336"/>
                </a:cubicBezTo>
                <a:cubicBezTo>
                  <a:pt x="9514" y="5300"/>
                  <a:pt x="9514" y="5300"/>
                  <a:pt x="9514" y="5264"/>
                </a:cubicBezTo>
                <a:cubicBezTo>
                  <a:pt x="9514" y="5264"/>
                  <a:pt x="9533" y="5264"/>
                  <a:pt x="9533" y="5264"/>
                </a:cubicBezTo>
                <a:cubicBezTo>
                  <a:pt x="9514" y="5264"/>
                  <a:pt x="9514" y="5228"/>
                  <a:pt x="9514" y="5228"/>
                </a:cubicBezTo>
                <a:cubicBezTo>
                  <a:pt x="9514" y="5228"/>
                  <a:pt x="9514" y="5191"/>
                  <a:pt x="9533" y="5191"/>
                </a:cubicBezTo>
                <a:cubicBezTo>
                  <a:pt x="9533" y="5191"/>
                  <a:pt x="9533" y="5191"/>
                  <a:pt x="9552" y="5191"/>
                </a:cubicBezTo>
                <a:cubicBezTo>
                  <a:pt x="9552" y="5191"/>
                  <a:pt x="9533" y="5155"/>
                  <a:pt x="9533" y="5155"/>
                </a:cubicBezTo>
                <a:cubicBezTo>
                  <a:pt x="9552" y="5119"/>
                  <a:pt x="9552" y="5119"/>
                  <a:pt x="9571" y="5119"/>
                </a:cubicBezTo>
                <a:cubicBezTo>
                  <a:pt x="9552" y="5119"/>
                  <a:pt x="9552" y="5082"/>
                  <a:pt x="9552" y="5082"/>
                </a:cubicBezTo>
                <a:cubicBezTo>
                  <a:pt x="9552" y="5082"/>
                  <a:pt x="9552" y="5082"/>
                  <a:pt x="9571" y="5046"/>
                </a:cubicBezTo>
                <a:cubicBezTo>
                  <a:pt x="9571" y="5082"/>
                  <a:pt x="9571" y="5082"/>
                  <a:pt x="9589" y="5082"/>
                </a:cubicBezTo>
                <a:cubicBezTo>
                  <a:pt x="9608" y="5082"/>
                  <a:pt x="9646" y="5046"/>
                  <a:pt x="9665" y="5082"/>
                </a:cubicBezTo>
                <a:cubicBezTo>
                  <a:pt x="9684" y="5082"/>
                  <a:pt x="9684" y="5082"/>
                  <a:pt x="9665" y="5082"/>
                </a:cubicBezTo>
                <a:cubicBezTo>
                  <a:pt x="9665" y="5155"/>
                  <a:pt x="9608" y="5155"/>
                  <a:pt x="9608" y="5228"/>
                </a:cubicBezTo>
                <a:cubicBezTo>
                  <a:pt x="9608" y="5228"/>
                  <a:pt x="9608" y="5228"/>
                  <a:pt x="9608" y="5228"/>
                </a:cubicBezTo>
                <a:cubicBezTo>
                  <a:pt x="9646" y="5228"/>
                  <a:pt x="9722" y="5228"/>
                  <a:pt x="9741" y="5228"/>
                </a:cubicBezTo>
                <a:cubicBezTo>
                  <a:pt x="9741" y="5264"/>
                  <a:pt x="9741" y="5264"/>
                  <a:pt x="9741" y="5264"/>
                </a:cubicBezTo>
                <a:cubicBezTo>
                  <a:pt x="9741" y="5336"/>
                  <a:pt x="9722" y="5445"/>
                  <a:pt x="9665" y="5445"/>
                </a:cubicBezTo>
                <a:cubicBezTo>
                  <a:pt x="9665" y="5445"/>
                  <a:pt x="9665" y="5445"/>
                  <a:pt x="9665" y="5445"/>
                </a:cubicBezTo>
                <a:cubicBezTo>
                  <a:pt x="9684" y="5445"/>
                  <a:pt x="9684" y="5445"/>
                  <a:pt x="9703" y="5482"/>
                </a:cubicBezTo>
                <a:cubicBezTo>
                  <a:pt x="9703" y="5482"/>
                  <a:pt x="9703" y="5482"/>
                  <a:pt x="9684" y="5482"/>
                </a:cubicBezTo>
                <a:cubicBezTo>
                  <a:pt x="9684" y="5482"/>
                  <a:pt x="9646" y="5482"/>
                  <a:pt x="9627" y="5482"/>
                </a:cubicBezTo>
                <a:cubicBezTo>
                  <a:pt x="9627" y="5482"/>
                  <a:pt x="9627" y="5518"/>
                  <a:pt x="9627" y="5518"/>
                </a:cubicBezTo>
                <a:cubicBezTo>
                  <a:pt x="9665" y="5518"/>
                  <a:pt x="9665" y="5518"/>
                  <a:pt x="9684" y="5518"/>
                </a:cubicBezTo>
                <a:cubicBezTo>
                  <a:pt x="9703" y="5482"/>
                  <a:pt x="9760" y="5554"/>
                  <a:pt x="9760" y="5591"/>
                </a:cubicBezTo>
                <a:cubicBezTo>
                  <a:pt x="9760" y="5627"/>
                  <a:pt x="9760" y="5663"/>
                  <a:pt x="9779" y="5699"/>
                </a:cubicBezTo>
                <a:cubicBezTo>
                  <a:pt x="9798" y="5736"/>
                  <a:pt x="9798" y="5736"/>
                  <a:pt x="9816" y="5736"/>
                </a:cubicBezTo>
                <a:cubicBezTo>
                  <a:pt x="9816" y="5772"/>
                  <a:pt x="9835" y="5772"/>
                  <a:pt x="9835" y="5808"/>
                </a:cubicBezTo>
                <a:cubicBezTo>
                  <a:pt x="9854" y="5845"/>
                  <a:pt x="9854" y="5881"/>
                  <a:pt x="9854" y="5881"/>
                </a:cubicBezTo>
                <a:cubicBezTo>
                  <a:pt x="9873" y="5954"/>
                  <a:pt x="9892" y="5954"/>
                  <a:pt x="9873" y="6026"/>
                </a:cubicBezTo>
                <a:cubicBezTo>
                  <a:pt x="9873" y="6026"/>
                  <a:pt x="9873" y="6026"/>
                  <a:pt x="9892" y="6026"/>
                </a:cubicBezTo>
                <a:cubicBezTo>
                  <a:pt x="9911" y="5990"/>
                  <a:pt x="9949" y="6026"/>
                  <a:pt x="9968" y="6026"/>
                </a:cubicBezTo>
                <a:cubicBezTo>
                  <a:pt x="9968" y="6063"/>
                  <a:pt x="9968" y="6099"/>
                  <a:pt x="9968" y="6099"/>
                </a:cubicBezTo>
                <a:cubicBezTo>
                  <a:pt x="9968" y="6135"/>
                  <a:pt x="9911" y="6208"/>
                  <a:pt x="9892" y="6244"/>
                </a:cubicBezTo>
                <a:close/>
                <a:moveTo>
                  <a:pt x="9514" y="5554"/>
                </a:moveTo>
                <a:cubicBezTo>
                  <a:pt x="9514" y="5554"/>
                  <a:pt x="9514" y="5554"/>
                  <a:pt x="9533" y="5554"/>
                </a:cubicBezTo>
                <a:cubicBezTo>
                  <a:pt x="9533" y="5554"/>
                  <a:pt x="9533" y="5591"/>
                  <a:pt x="9533" y="5591"/>
                </a:cubicBezTo>
                <a:cubicBezTo>
                  <a:pt x="9533" y="5591"/>
                  <a:pt x="9514" y="5591"/>
                  <a:pt x="9514" y="5591"/>
                </a:cubicBezTo>
                <a:cubicBezTo>
                  <a:pt x="9514" y="5591"/>
                  <a:pt x="9514" y="5591"/>
                  <a:pt x="9514" y="5591"/>
                </a:cubicBezTo>
                <a:cubicBezTo>
                  <a:pt x="9514" y="5591"/>
                  <a:pt x="9514" y="5591"/>
                  <a:pt x="9514" y="5554"/>
                </a:cubicBezTo>
                <a:close/>
                <a:moveTo>
                  <a:pt x="9514" y="5772"/>
                </a:moveTo>
                <a:cubicBezTo>
                  <a:pt x="9495" y="5808"/>
                  <a:pt x="9495" y="5808"/>
                  <a:pt x="9476" y="5845"/>
                </a:cubicBezTo>
                <a:cubicBezTo>
                  <a:pt x="9476" y="5881"/>
                  <a:pt x="9495" y="5954"/>
                  <a:pt x="9495" y="6026"/>
                </a:cubicBezTo>
                <a:cubicBezTo>
                  <a:pt x="9495" y="6063"/>
                  <a:pt x="9476" y="6063"/>
                  <a:pt x="9476" y="6099"/>
                </a:cubicBezTo>
                <a:cubicBezTo>
                  <a:pt x="9457" y="6099"/>
                  <a:pt x="9457" y="6099"/>
                  <a:pt x="9438" y="6099"/>
                </a:cubicBezTo>
                <a:cubicBezTo>
                  <a:pt x="9438" y="6135"/>
                  <a:pt x="9438" y="6135"/>
                  <a:pt x="9438" y="6135"/>
                </a:cubicBezTo>
                <a:cubicBezTo>
                  <a:pt x="9419" y="6135"/>
                  <a:pt x="9400" y="6135"/>
                  <a:pt x="9381" y="6135"/>
                </a:cubicBezTo>
                <a:cubicBezTo>
                  <a:pt x="9381" y="6171"/>
                  <a:pt x="9363" y="6171"/>
                  <a:pt x="9344" y="6208"/>
                </a:cubicBezTo>
                <a:cubicBezTo>
                  <a:pt x="9325" y="6208"/>
                  <a:pt x="9325" y="6208"/>
                  <a:pt x="9325" y="6208"/>
                </a:cubicBezTo>
                <a:cubicBezTo>
                  <a:pt x="9306" y="6208"/>
                  <a:pt x="9287" y="6244"/>
                  <a:pt x="9268" y="6244"/>
                </a:cubicBezTo>
                <a:cubicBezTo>
                  <a:pt x="9268" y="6208"/>
                  <a:pt x="9268" y="6208"/>
                  <a:pt x="9249" y="6171"/>
                </a:cubicBezTo>
                <a:cubicBezTo>
                  <a:pt x="9249" y="6171"/>
                  <a:pt x="9249" y="6171"/>
                  <a:pt x="9230" y="6171"/>
                </a:cubicBezTo>
                <a:cubicBezTo>
                  <a:pt x="9230" y="6171"/>
                  <a:pt x="9230" y="6171"/>
                  <a:pt x="9230" y="6135"/>
                </a:cubicBezTo>
                <a:cubicBezTo>
                  <a:pt x="9230" y="6135"/>
                  <a:pt x="9249" y="6135"/>
                  <a:pt x="9249" y="6135"/>
                </a:cubicBezTo>
                <a:cubicBezTo>
                  <a:pt x="9249" y="6135"/>
                  <a:pt x="9249" y="6135"/>
                  <a:pt x="9249" y="6135"/>
                </a:cubicBezTo>
                <a:cubicBezTo>
                  <a:pt x="9230" y="6135"/>
                  <a:pt x="9230" y="6135"/>
                  <a:pt x="9211" y="6135"/>
                </a:cubicBezTo>
                <a:cubicBezTo>
                  <a:pt x="9211" y="6135"/>
                  <a:pt x="9211" y="6099"/>
                  <a:pt x="9211" y="6099"/>
                </a:cubicBezTo>
                <a:cubicBezTo>
                  <a:pt x="9230" y="6099"/>
                  <a:pt x="9249" y="6099"/>
                  <a:pt x="9249" y="6099"/>
                </a:cubicBezTo>
                <a:cubicBezTo>
                  <a:pt x="9268" y="6099"/>
                  <a:pt x="9268" y="6063"/>
                  <a:pt x="9268" y="6063"/>
                </a:cubicBezTo>
                <a:cubicBezTo>
                  <a:pt x="9287" y="6063"/>
                  <a:pt x="9306" y="6063"/>
                  <a:pt x="9306" y="6026"/>
                </a:cubicBezTo>
                <a:cubicBezTo>
                  <a:pt x="9287" y="6026"/>
                  <a:pt x="9287" y="6026"/>
                  <a:pt x="9268" y="6026"/>
                </a:cubicBezTo>
                <a:cubicBezTo>
                  <a:pt x="9268" y="6026"/>
                  <a:pt x="9268" y="6026"/>
                  <a:pt x="9268" y="6026"/>
                </a:cubicBezTo>
                <a:cubicBezTo>
                  <a:pt x="9268" y="6026"/>
                  <a:pt x="9287" y="6026"/>
                  <a:pt x="9287" y="6026"/>
                </a:cubicBezTo>
                <a:cubicBezTo>
                  <a:pt x="9287" y="5990"/>
                  <a:pt x="9287" y="5990"/>
                  <a:pt x="9287" y="5990"/>
                </a:cubicBezTo>
                <a:cubicBezTo>
                  <a:pt x="9287" y="5954"/>
                  <a:pt x="9306" y="5990"/>
                  <a:pt x="9306" y="5954"/>
                </a:cubicBezTo>
                <a:cubicBezTo>
                  <a:pt x="9306" y="5954"/>
                  <a:pt x="9306" y="5954"/>
                  <a:pt x="9306" y="5954"/>
                </a:cubicBezTo>
                <a:cubicBezTo>
                  <a:pt x="9306" y="5954"/>
                  <a:pt x="9249" y="5917"/>
                  <a:pt x="9230" y="5917"/>
                </a:cubicBezTo>
                <a:cubicBezTo>
                  <a:pt x="9249" y="5917"/>
                  <a:pt x="9249" y="5917"/>
                  <a:pt x="9249" y="5917"/>
                </a:cubicBezTo>
                <a:cubicBezTo>
                  <a:pt x="9249" y="5881"/>
                  <a:pt x="9249" y="5881"/>
                  <a:pt x="9249" y="5881"/>
                </a:cubicBezTo>
                <a:cubicBezTo>
                  <a:pt x="9249" y="5881"/>
                  <a:pt x="9249" y="5881"/>
                  <a:pt x="9268" y="5881"/>
                </a:cubicBezTo>
                <a:cubicBezTo>
                  <a:pt x="9249" y="5845"/>
                  <a:pt x="9268" y="5845"/>
                  <a:pt x="9268" y="5845"/>
                </a:cubicBezTo>
                <a:cubicBezTo>
                  <a:pt x="9268" y="5845"/>
                  <a:pt x="9268" y="5845"/>
                  <a:pt x="9268" y="5845"/>
                </a:cubicBezTo>
                <a:cubicBezTo>
                  <a:pt x="9249" y="5845"/>
                  <a:pt x="9249" y="5845"/>
                  <a:pt x="9230" y="5845"/>
                </a:cubicBezTo>
                <a:cubicBezTo>
                  <a:pt x="9230" y="5845"/>
                  <a:pt x="9230" y="5845"/>
                  <a:pt x="9230" y="5808"/>
                </a:cubicBezTo>
                <a:cubicBezTo>
                  <a:pt x="9249" y="5808"/>
                  <a:pt x="9249" y="5772"/>
                  <a:pt x="9249" y="5772"/>
                </a:cubicBezTo>
                <a:cubicBezTo>
                  <a:pt x="9268" y="5772"/>
                  <a:pt x="9306" y="5772"/>
                  <a:pt x="9344" y="5772"/>
                </a:cubicBezTo>
                <a:cubicBezTo>
                  <a:pt x="9325" y="5772"/>
                  <a:pt x="9325" y="5772"/>
                  <a:pt x="9325" y="5772"/>
                </a:cubicBezTo>
                <a:cubicBezTo>
                  <a:pt x="9344" y="5772"/>
                  <a:pt x="9363" y="5736"/>
                  <a:pt x="9363" y="5736"/>
                </a:cubicBezTo>
                <a:cubicBezTo>
                  <a:pt x="9344" y="5736"/>
                  <a:pt x="9325" y="5736"/>
                  <a:pt x="9325" y="5736"/>
                </a:cubicBezTo>
                <a:cubicBezTo>
                  <a:pt x="9325" y="5699"/>
                  <a:pt x="9325" y="5699"/>
                  <a:pt x="9325" y="5699"/>
                </a:cubicBezTo>
                <a:cubicBezTo>
                  <a:pt x="9325" y="5699"/>
                  <a:pt x="9344" y="5699"/>
                  <a:pt x="9344" y="5699"/>
                </a:cubicBezTo>
                <a:cubicBezTo>
                  <a:pt x="9344" y="5663"/>
                  <a:pt x="9363" y="5627"/>
                  <a:pt x="9381" y="5627"/>
                </a:cubicBezTo>
                <a:cubicBezTo>
                  <a:pt x="9400" y="5627"/>
                  <a:pt x="9400" y="5663"/>
                  <a:pt x="9419" y="5663"/>
                </a:cubicBezTo>
                <a:cubicBezTo>
                  <a:pt x="9438" y="5627"/>
                  <a:pt x="9476" y="5627"/>
                  <a:pt x="9495" y="5627"/>
                </a:cubicBezTo>
                <a:cubicBezTo>
                  <a:pt x="9495" y="5699"/>
                  <a:pt x="9514" y="5736"/>
                  <a:pt x="9514" y="5772"/>
                </a:cubicBezTo>
                <a:close/>
                <a:moveTo>
                  <a:pt x="10460" y="7878"/>
                </a:moveTo>
                <a:cubicBezTo>
                  <a:pt x="10460" y="7878"/>
                  <a:pt x="10460" y="7878"/>
                  <a:pt x="10460" y="7914"/>
                </a:cubicBezTo>
                <a:cubicBezTo>
                  <a:pt x="10460" y="7914"/>
                  <a:pt x="10460" y="7950"/>
                  <a:pt x="10460" y="7950"/>
                </a:cubicBezTo>
                <a:cubicBezTo>
                  <a:pt x="10460" y="7987"/>
                  <a:pt x="10460" y="8023"/>
                  <a:pt x="10460" y="8023"/>
                </a:cubicBezTo>
                <a:cubicBezTo>
                  <a:pt x="10441" y="8023"/>
                  <a:pt x="10441" y="8023"/>
                  <a:pt x="10422" y="8023"/>
                </a:cubicBezTo>
                <a:cubicBezTo>
                  <a:pt x="10422" y="8059"/>
                  <a:pt x="10422" y="8059"/>
                  <a:pt x="10403" y="8059"/>
                </a:cubicBezTo>
                <a:cubicBezTo>
                  <a:pt x="10365" y="8059"/>
                  <a:pt x="10403" y="7950"/>
                  <a:pt x="10384" y="7878"/>
                </a:cubicBezTo>
                <a:cubicBezTo>
                  <a:pt x="10384" y="7841"/>
                  <a:pt x="10365" y="7841"/>
                  <a:pt x="10365" y="7805"/>
                </a:cubicBezTo>
                <a:cubicBezTo>
                  <a:pt x="10365" y="7805"/>
                  <a:pt x="10365" y="7805"/>
                  <a:pt x="10365" y="7805"/>
                </a:cubicBezTo>
                <a:cubicBezTo>
                  <a:pt x="10403" y="7805"/>
                  <a:pt x="10422" y="7805"/>
                  <a:pt x="10441" y="7769"/>
                </a:cubicBezTo>
                <a:cubicBezTo>
                  <a:pt x="10441" y="7769"/>
                  <a:pt x="10478" y="7841"/>
                  <a:pt x="10460" y="7878"/>
                </a:cubicBezTo>
                <a:close/>
                <a:moveTo>
                  <a:pt x="10441" y="7551"/>
                </a:moveTo>
                <a:cubicBezTo>
                  <a:pt x="10441" y="7515"/>
                  <a:pt x="10441" y="7515"/>
                  <a:pt x="10441" y="7515"/>
                </a:cubicBezTo>
                <a:cubicBezTo>
                  <a:pt x="10441" y="7515"/>
                  <a:pt x="10441" y="7515"/>
                  <a:pt x="10441" y="7515"/>
                </a:cubicBezTo>
                <a:cubicBezTo>
                  <a:pt x="10441" y="7515"/>
                  <a:pt x="10441" y="7515"/>
                  <a:pt x="10441" y="7515"/>
                </a:cubicBezTo>
                <a:cubicBezTo>
                  <a:pt x="10441" y="7587"/>
                  <a:pt x="10460" y="7696"/>
                  <a:pt x="10422" y="7732"/>
                </a:cubicBezTo>
                <a:cubicBezTo>
                  <a:pt x="10422" y="7732"/>
                  <a:pt x="10422" y="7732"/>
                  <a:pt x="10422" y="7732"/>
                </a:cubicBezTo>
                <a:cubicBezTo>
                  <a:pt x="10422" y="7732"/>
                  <a:pt x="10422" y="7732"/>
                  <a:pt x="10422" y="7732"/>
                </a:cubicBezTo>
                <a:cubicBezTo>
                  <a:pt x="10422" y="7732"/>
                  <a:pt x="10422" y="7732"/>
                  <a:pt x="10403" y="7732"/>
                </a:cubicBezTo>
                <a:cubicBezTo>
                  <a:pt x="10403" y="7696"/>
                  <a:pt x="10403" y="7696"/>
                  <a:pt x="10403" y="7696"/>
                </a:cubicBezTo>
                <a:cubicBezTo>
                  <a:pt x="10403" y="7696"/>
                  <a:pt x="10403" y="7696"/>
                  <a:pt x="10403" y="7696"/>
                </a:cubicBezTo>
                <a:cubicBezTo>
                  <a:pt x="10403" y="7696"/>
                  <a:pt x="10403" y="7696"/>
                  <a:pt x="10403" y="7660"/>
                </a:cubicBezTo>
                <a:cubicBezTo>
                  <a:pt x="10403" y="7660"/>
                  <a:pt x="10403" y="7660"/>
                  <a:pt x="10403" y="7660"/>
                </a:cubicBezTo>
                <a:cubicBezTo>
                  <a:pt x="10403" y="7660"/>
                  <a:pt x="10403" y="7660"/>
                  <a:pt x="10403" y="7660"/>
                </a:cubicBezTo>
                <a:cubicBezTo>
                  <a:pt x="10403" y="7660"/>
                  <a:pt x="10403" y="7660"/>
                  <a:pt x="10403" y="7660"/>
                </a:cubicBezTo>
                <a:cubicBezTo>
                  <a:pt x="10403" y="7660"/>
                  <a:pt x="10403" y="7660"/>
                  <a:pt x="10384" y="7660"/>
                </a:cubicBezTo>
                <a:cubicBezTo>
                  <a:pt x="10403" y="7660"/>
                  <a:pt x="10403" y="7624"/>
                  <a:pt x="10403" y="7624"/>
                </a:cubicBezTo>
                <a:cubicBezTo>
                  <a:pt x="10403" y="7624"/>
                  <a:pt x="10384" y="7624"/>
                  <a:pt x="10384" y="7624"/>
                </a:cubicBezTo>
                <a:cubicBezTo>
                  <a:pt x="10384" y="7624"/>
                  <a:pt x="10384" y="7587"/>
                  <a:pt x="10403" y="7587"/>
                </a:cubicBezTo>
                <a:cubicBezTo>
                  <a:pt x="10384" y="7587"/>
                  <a:pt x="10384" y="7587"/>
                  <a:pt x="10384" y="7587"/>
                </a:cubicBezTo>
                <a:cubicBezTo>
                  <a:pt x="10403" y="7551"/>
                  <a:pt x="10441" y="7551"/>
                  <a:pt x="10441" y="7551"/>
                </a:cubicBezTo>
                <a:close/>
                <a:moveTo>
                  <a:pt x="10800" y="8350"/>
                </a:moveTo>
                <a:cubicBezTo>
                  <a:pt x="10800" y="8350"/>
                  <a:pt x="10800" y="8350"/>
                  <a:pt x="10781" y="8386"/>
                </a:cubicBezTo>
                <a:cubicBezTo>
                  <a:pt x="10743" y="8350"/>
                  <a:pt x="10705" y="8313"/>
                  <a:pt x="10668" y="8277"/>
                </a:cubicBezTo>
                <a:cubicBezTo>
                  <a:pt x="10649" y="8241"/>
                  <a:pt x="10649" y="8277"/>
                  <a:pt x="10630" y="8241"/>
                </a:cubicBezTo>
                <a:cubicBezTo>
                  <a:pt x="10649" y="8168"/>
                  <a:pt x="10668" y="8204"/>
                  <a:pt x="10687" y="8168"/>
                </a:cubicBezTo>
                <a:cubicBezTo>
                  <a:pt x="10724" y="8204"/>
                  <a:pt x="10743" y="8204"/>
                  <a:pt x="10781" y="8204"/>
                </a:cubicBezTo>
                <a:cubicBezTo>
                  <a:pt x="10800" y="8168"/>
                  <a:pt x="10800" y="8168"/>
                  <a:pt x="10819" y="8168"/>
                </a:cubicBezTo>
                <a:cubicBezTo>
                  <a:pt x="10819" y="8168"/>
                  <a:pt x="10819" y="8168"/>
                  <a:pt x="10819" y="8168"/>
                </a:cubicBezTo>
                <a:cubicBezTo>
                  <a:pt x="10819" y="8204"/>
                  <a:pt x="10781" y="8277"/>
                  <a:pt x="10800" y="8313"/>
                </a:cubicBezTo>
                <a:cubicBezTo>
                  <a:pt x="10800" y="8313"/>
                  <a:pt x="10819" y="8313"/>
                  <a:pt x="10800" y="8350"/>
                </a:cubicBezTo>
                <a:close/>
                <a:moveTo>
                  <a:pt x="11481" y="8567"/>
                </a:moveTo>
                <a:cubicBezTo>
                  <a:pt x="11481" y="8567"/>
                  <a:pt x="11481" y="8604"/>
                  <a:pt x="11481" y="8604"/>
                </a:cubicBezTo>
                <a:cubicBezTo>
                  <a:pt x="11443" y="8604"/>
                  <a:pt x="11424" y="8604"/>
                  <a:pt x="11386" y="8604"/>
                </a:cubicBezTo>
                <a:cubicBezTo>
                  <a:pt x="11386" y="8604"/>
                  <a:pt x="11386" y="8604"/>
                  <a:pt x="11386" y="8604"/>
                </a:cubicBezTo>
                <a:cubicBezTo>
                  <a:pt x="11367" y="8567"/>
                  <a:pt x="11330" y="8567"/>
                  <a:pt x="11311" y="8567"/>
                </a:cubicBezTo>
                <a:cubicBezTo>
                  <a:pt x="11311" y="8567"/>
                  <a:pt x="11311" y="8531"/>
                  <a:pt x="11311" y="8531"/>
                </a:cubicBezTo>
                <a:cubicBezTo>
                  <a:pt x="11311" y="8531"/>
                  <a:pt x="11330" y="8531"/>
                  <a:pt x="11330" y="8531"/>
                </a:cubicBezTo>
                <a:cubicBezTo>
                  <a:pt x="11330" y="8531"/>
                  <a:pt x="11330" y="8531"/>
                  <a:pt x="11330" y="8531"/>
                </a:cubicBezTo>
                <a:cubicBezTo>
                  <a:pt x="11330" y="8531"/>
                  <a:pt x="11330" y="8531"/>
                  <a:pt x="11330" y="8531"/>
                </a:cubicBezTo>
                <a:cubicBezTo>
                  <a:pt x="11330" y="8531"/>
                  <a:pt x="11330" y="8531"/>
                  <a:pt x="11349" y="8531"/>
                </a:cubicBezTo>
                <a:cubicBezTo>
                  <a:pt x="11349" y="8531"/>
                  <a:pt x="11349" y="8531"/>
                  <a:pt x="11349" y="8531"/>
                </a:cubicBezTo>
                <a:cubicBezTo>
                  <a:pt x="11349" y="8531"/>
                  <a:pt x="11349" y="8531"/>
                  <a:pt x="11349" y="8531"/>
                </a:cubicBezTo>
                <a:cubicBezTo>
                  <a:pt x="11349" y="8531"/>
                  <a:pt x="11349" y="8531"/>
                  <a:pt x="11349" y="8531"/>
                </a:cubicBezTo>
                <a:cubicBezTo>
                  <a:pt x="11367" y="8531"/>
                  <a:pt x="11349" y="8531"/>
                  <a:pt x="11367" y="8567"/>
                </a:cubicBezTo>
                <a:cubicBezTo>
                  <a:pt x="11367" y="8567"/>
                  <a:pt x="11386" y="8567"/>
                  <a:pt x="11405" y="8531"/>
                </a:cubicBezTo>
                <a:cubicBezTo>
                  <a:pt x="11424" y="8567"/>
                  <a:pt x="11424" y="8567"/>
                  <a:pt x="11443" y="8567"/>
                </a:cubicBezTo>
                <a:cubicBezTo>
                  <a:pt x="11443" y="8567"/>
                  <a:pt x="11443" y="8567"/>
                  <a:pt x="11443" y="8567"/>
                </a:cubicBezTo>
                <a:cubicBezTo>
                  <a:pt x="11443" y="8567"/>
                  <a:pt x="11443" y="8567"/>
                  <a:pt x="11443" y="8567"/>
                </a:cubicBezTo>
                <a:cubicBezTo>
                  <a:pt x="11443" y="8567"/>
                  <a:pt x="11443" y="8604"/>
                  <a:pt x="11462" y="8604"/>
                </a:cubicBezTo>
                <a:cubicBezTo>
                  <a:pt x="11462" y="8567"/>
                  <a:pt x="11481" y="8567"/>
                  <a:pt x="11481" y="8567"/>
                </a:cubicBezTo>
                <a:close/>
                <a:moveTo>
                  <a:pt x="11935" y="8567"/>
                </a:moveTo>
                <a:cubicBezTo>
                  <a:pt x="11954" y="8531"/>
                  <a:pt x="11973" y="8531"/>
                  <a:pt x="11992" y="8495"/>
                </a:cubicBezTo>
                <a:cubicBezTo>
                  <a:pt x="11973" y="8531"/>
                  <a:pt x="11954" y="8531"/>
                  <a:pt x="11954" y="8567"/>
                </a:cubicBezTo>
                <a:cubicBezTo>
                  <a:pt x="11954" y="8567"/>
                  <a:pt x="11954" y="8604"/>
                  <a:pt x="11954" y="8604"/>
                </a:cubicBezTo>
                <a:cubicBezTo>
                  <a:pt x="11935" y="8604"/>
                  <a:pt x="11935" y="8640"/>
                  <a:pt x="11897" y="8640"/>
                </a:cubicBezTo>
                <a:cubicBezTo>
                  <a:pt x="11897" y="8640"/>
                  <a:pt x="11897" y="8640"/>
                  <a:pt x="11897" y="8640"/>
                </a:cubicBezTo>
                <a:cubicBezTo>
                  <a:pt x="11878" y="8640"/>
                  <a:pt x="11878" y="8640"/>
                  <a:pt x="11859" y="8640"/>
                </a:cubicBezTo>
                <a:cubicBezTo>
                  <a:pt x="11859" y="8604"/>
                  <a:pt x="11859" y="8604"/>
                  <a:pt x="11859" y="8604"/>
                </a:cubicBezTo>
                <a:cubicBezTo>
                  <a:pt x="11859" y="8604"/>
                  <a:pt x="11897" y="8567"/>
                  <a:pt x="11897" y="8567"/>
                </a:cubicBezTo>
                <a:cubicBezTo>
                  <a:pt x="11897" y="8567"/>
                  <a:pt x="11897" y="8567"/>
                  <a:pt x="11897" y="8531"/>
                </a:cubicBezTo>
                <a:cubicBezTo>
                  <a:pt x="11897" y="8531"/>
                  <a:pt x="11916" y="8567"/>
                  <a:pt x="11935" y="8567"/>
                </a:cubicBezTo>
                <a:close/>
                <a:moveTo>
                  <a:pt x="9249" y="9076"/>
                </a:moveTo>
                <a:cubicBezTo>
                  <a:pt x="9268" y="9039"/>
                  <a:pt x="9287" y="9039"/>
                  <a:pt x="9287" y="9003"/>
                </a:cubicBezTo>
                <a:cubicBezTo>
                  <a:pt x="9287" y="8967"/>
                  <a:pt x="9287" y="8967"/>
                  <a:pt x="9287" y="8930"/>
                </a:cubicBezTo>
                <a:cubicBezTo>
                  <a:pt x="9306" y="8894"/>
                  <a:pt x="9344" y="8858"/>
                  <a:pt x="9344" y="8822"/>
                </a:cubicBezTo>
                <a:cubicBezTo>
                  <a:pt x="9381" y="8785"/>
                  <a:pt x="9419" y="8785"/>
                  <a:pt x="9438" y="8713"/>
                </a:cubicBezTo>
                <a:cubicBezTo>
                  <a:pt x="9457" y="8676"/>
                  <a:pt x="9476" y="8531"/>
                  <a:pt x="9495" y="8495"/>
                </a:cubicBezTo>
                <a:cubicBezTo>
                  <a:pt x="9514" y="8495"/>
                  <a:pt x="9514" y="8495"/>
                  <a:pt x="9514" y="8495"/>
                </a:cubicBezTo>
                <a:cubicBezTo>
                  <a:pt x="9533" y="8531"/>
                  <a:pt x="9552" y="8567"/>
                  <a:pt x="9571" y="8567"/>
                </a:cubicBezTo>
                <a:cubicBezTo>
                  <a:pt x="9608" y="8604"/>
                  <a:pt x="9684" y="8567"/>
                  <a:pt x="9684" y="8567"/>
                </a:cubicBezTo>
                <a:cubicBezTo>
                  <a:pt x="9684" y="8604"/>
                  <a:pt x="9722" y="8604"/>
                  <a:pt x="9741" y="8604"/>
                </a:cubicBezTo>
                <a:cubicBezTo>
                  <a:pt x="9779" y="8567"/>
                  <a:pt x="9779" y="8531"/>
                  <a:pt x="9779" y="8531"/>
                </a:cubicBezTo>
                <a:cubicBezTo>
                  <a:pt x="9798" y="8495"/>
                  <a:pt x="9835" y="8495"/>
                  <a:pt x="9835" y="8495"/>
                </a:cubicBezTo>
                <a:cubicBezTo>
                  <a:pt x="9835" y="8495"/>
                  <a:pt x="9854" y="8495"/>
                  <a:pt x="9854" y="8495"/>
                </a:cubicBezTo>
                <a:cubicBezTo>
                  <a:pt x="9873" y="8458"/>
                  <a:pt x="9892" y="8422"/>
                  <a:pt x="9911" y="8422"/>
                </a:cubicBezTo>
                <a:cubicBezTo>
                  <a:pt x="9930" y="8386"/>
                  <a:pt x="9968" y="8422"/>
                  <a:pt x="10006" y="8386"/>
                </a:cubicBezTo>
                <a:cubicBezTo>
                  <a:pt x="10006" y="8386"/>
                  <a:pt x="10025" y="8386"/>
                  <a:pt x="10043" y="8386"/>
                </a:cubicBezTo>
                <a:cubicBezTo>
                  <a:pt x="10043" y="8350"/>
                  <a:pt x="10043" y="8386"/>
                  <a:pt x="10062" y="8386"/>
                </a:cubicBezTo>
                <a:cubicBezTo>
                  <a:pt x="10081" y="8386"/>
                  <a:pt x="10081" y="8350"/>
                  <a:pt x="10100" y="8350"/>
                </a:cubicBezTo>
                <a:cubicBezTo>
                  <a:pt x="10138" y="8313"/>
                  <a:pt x="10157" y="8386"/>
                  <a:pt x="10195" y="8386"/>
                </a:cubicBezTo>
                <a:cubicBezTo>
                  <a:pt x="10214" y="8350"/>
                  <a:pt x="10233" y="8350"/>
                  <a:pt x="10251" y="8313"/>
                </a:cubicBezTo>
                <a:cubicBezTo>
                  <a:pt x="10270" y="8313"/>
                  <a:pt x="10270" y="8350"/>
                  <a:pt x="10289" y="8350"/>
                </a:cubicBezTo>
                <a:cubicBezTo>
                  <a:pt x="10308" y="8350"/>
                  <a:pt x="10308" y="8313"/>
                  <a:pt x="10327" y="8313"/>
                </a:cubicBezTo>
                <a:cubicBezTo>
                  <a:pt x="10327" y="8350"/>
                  <a:pt x="10346" y="8350"/>
                  <a:pt x="10346" y="8350"/>
                </a:cubicBezTo>
                <a:cubicBezTo>
                  <a:pt x="10384" y="8386"/>
                  <a:pt x="10422" y="8313"/>
                  <a:pt x="10441" y="8277"/>
                </a:cubicBezTo>
                <a:cubicBezTo>
                  <a:pt x="10441" y="8277"/>
                  <a:pt x="10460" y="8277"/>
                  <a:pt x="10460" y="8277"/>
                </a:cubicBezTo>
                <a:cubicBezTo>
                  <a:pt x="10478" y="8313"/>
                  <a:pt x="10478" y="8313"/>
                  <a:pt x="10497" y="8313"/>
                </a:cubicBezTo>
                <a:cubicBezTo>
                  <a:pt x="10497" y="8350"/>
                  <a:pt x="10497" y="8350"/>
                  <a:pt x="10497" y="8350"/>
                </a:cubicBezTo>
                <a:cubicBezTo>
                  <a:pt x="10497" y="8386"/>
                  <a:pt x="10497" y="8386"/>
                  <a:pt x="10497" y="8386"/>
                </a:cubicBezTo>
                <a:cubicBezTo>
                  <a:pt x="10516" y="8350"/>
                  <a:pt x="10535" y="8350"/>
                  <a:pt x="10535" y="8313"/>
                </a:cubicBezTo>
                <a:cubicBezTo>
                  <a:pt x="10535" y="8422"/>
                  <a:pt x="10478" y="8458"/>
                  <a:pt x="10535" y="8531"/>
                </a:cubicBezTo>
                <a:cubicBezTo>
                  <a:pt x="10554" y="8531"/>
                  <a:pt x="10554" y="8567"/>
                  <a:pt x="10554" y="8567"/>
                </a:cubicBezTo>
                <a:cubicBezTo>
                  <a:pt x="10554" y="8604"/>
                  <a:pt x="10497" y="8676"/>
                  <a:pt x="10478" y="8713"/>
                </a:cubicBezTo>
                <a:cubicBezTo>
                  <a:pt x="10478" y="8749"/>
                  <a:pt x="10497" y="8785"/>
                  <a:pt x="10516" y="8822"/>
                </a:cubicBezTo>
                <a:cubicBezTo>
                  <a:pt x="10535" y="8785"/>
                  <a:pt x="10535" y="8785"/>
                  <a:pt x="10554" y="8785"/>
                </a:cubicBezTo>
                <a:cubicBezTo>
                  <a:pt x="10554" y="8822"/>
                  <a:pt x="10554" y="8822"/>
                  <a:pt x="10554" y="8822"/>
                </a:cubicBezTo>
                <a:cubicBezTo>
                  <a:pt x="10573" y="8858"/>
                  <a:pt x="10611" y="8894"/>
                  <a:pt x="10630" y="8894"/>
                </a:cubicBezTo>
                <a:cubicBezTo>
                  <a:pt x="10649" y="8894"/>
                  <a:pt x="10668" y="8894"/>
                  <a:pt x="10705" y="8894"/>
                </a:cubicBezTo>
                <a:cubicBezTo>
                  <a:pt x="10705" y="8894"/>
                  <a:pt x="10724" y="8894"/>
                  <a:pt x="10743" y="8894"/>
                </a:cubicBezTo>
                <a:cubicBezTo>
                  <a:pt x="10743" y="8930"/>
                  <a:pt x="10743" y="8930"/>
                  <a:pt x="10762" y="8930"/>
                </a:cubicBezTo>
                <a:cubicBezTo>
                  <a:pt x="10762" y="8967"/>
                  <a:pt x="10781" y="8930"/>
                  <a:pt x="10781" y="8967"/>
                </a:cubicBezTo>
                <a:cubicBezTo>
                  <a:pt x="10819" y="8967"/>
                  <a:pt x="10819" y="9076"/>
                  <a:pt x="10838" y="9076"/>
                </a:cubicBezTo>
                <a:cubicBezTo>
                  <a:pt x="10857" y="9112"/>
                  <a:pt x="10932" y="9112"/>
                  <a:pt x="10951" y="9148"/>
                </a:cubicBezTo>
                <a:cubicBezTo>
                  <a:pt x="10989" y="9148"/>
                  <a:pt x="11008" y="9221"/>
                  <a:pt x="11046" y="9221"/>
                </a:cubicBezTo>
                <a:cubicBezTo>
                  <a:pt x="11046" y="9221"/>
                  <a:pt x="11065" y="9221"/>
                  <a:pt x="11065" y="9221"/>
                </a:cubicBezTo>
                <a:cubicBezTo>
                  <a:pt x="11140" y="9148"/>
                  <a:pt x="11065" y="9076"/>
                  <a:pt x="11103" y="9003"/>
                </a:cubicBezTo>
                <a:cubicBezTo>
                  <a:pt x="11122" y="8930"/>
                  <a:pt x="11216" y="8858"/>
                  <a:pt x="11273" y="8894"/>
                </a:cubicBezTo>
                <a:cubicBezTo>
                  <a:pt x="11292" y="8930"/>
                  <a:pt x="11273" y="8967"/>
                  <a:pt x="11292" y="8967"/>
                </a:cubicBezTo>
                <a:cubicBezTo>
                  <a:pt x="11311" y="9003"/>
                  <a:pt x="11349" y="9003"/>
                  <a:pt x="11367" y="9003"/>
                </a:cubicBezTo>
                <a:cubicBezTo>
                  <a:pt x="11367" y="9003"/>
                  <a:pt x="11386" y="9003"/>
                  <a:pt x="11386" y="9003"/>
                </a:cubicBezTo>
                <a:cubicBezTo>
                  <a:pt x="11405" y="9003"/>
                  <a:pt x="11405" y="9039"/>
                  <a:pt x="11424" y="9076"/>
                </a:cubicBezTo>
                <a:cubicBezTo>
                  <a:pt x="11443" y="9076"/>
                  <a:pt x="11462" y="9076"/>
                  <a:pt x="11481" y="9076"/>
                </a:cubicBezTo>
                <a:cubicBezTo>
                  <a:pt x="11519" y="9076"/>
                  <a:pt x="11538" y="9076"/>
                  <a:pt x="11575" y="9112"/>
                </a:cubicBezTo>
                <a:cubicBezTo>
                  <a:pt x="11575" y="9112"/>
                  <a:pt x="11575" y="9112"/>
                  <a:pt x="11575" y="9112"/>
                </a:cubicBezTo>
                <a:cubicBezTo>
                  <a:pt x="11594" y="9112"/>
                  <a:pt x="11613" y="9148"/>
                  <a:pt x="11632" y="9148"/>
                </a:cubicBezTo>
                <a:cubicBezTo>
                  <a:pt x="11632" y="9148"/>
                  <a:pt x="11651" y="9185"/>
                  <a:pt x="11670" y="9148"/>
                </a:cubicBezTo>
                <a:cubicBezTo>
                  <a:pt x="11670" y="9148"/>
                  <a:pt x="11689" y="9148"/>
                  <a:pt x="11689" y="9112"/>
                </a:cubicBezTo>
                <a:cubicBezTo>
                  <a:pt x="11727" y="9076"/>
                  <a:pt x="11784" y="9076"/>
                  <a:pt x="11821" y="9076"/>
                </a:cubicBezTo>
                <a:cubicBezTo>
                  <a:pt x="11821" y="9112"/>
                  <a:pt x="11840" y="9112"/>
                  <a:pt x="11840" y="9112"/>
                </a:cubicBezTo>
                <a:cubicBezTo>
                  <a:pt x="11859" y="9112"/>
                  <a:pt x="11878" y="9148"/>
                  <a:pt x="11897" y="9112"/>
                </a:cubicBezTo>
                <a:cubicBezTo>
                  <a:pt x="11935" y="9148"/>
                  <a:pt x="11954" y="9112"/>
                  <a:pt x="11973" y="9112"/>
                </a:cubicBezTo>
                <a:cubicBezTo>
                  <a:pt x="11992" y="9185"/>
                  <a:pt x="12011" y="9257"/>
                  <a:pt x="12011" y="9330"/>
                </a:cubicBezTo>
                <a:cubicBezTo>
                  <a:pt x="11992" y="9366"/>
                  <a:pt x="11992" y="9475"/>
                  <a:pt x="11973" y="9548"/>
                </a:cubicBezTo>
                <a:cubicBezTo>
                  <a:pt x="11973" y="9548"/>
                  <a:pt x="11973" y="9548"/>
                  <a:pt x="11954" y="9548"/>
                </a:cubicBezTo>
                <a:cubicBezTo>
                  <a:pt x="11916" y="9475"/>
                  <a:pt x="11897" y="9366"/>
                  <a:pt x="11878" y="9293"/>
                </a:cubicBezTo>
                <a:cubicBezTo>
                  <a:pt x="11859" y="9293"/>
                  <a:pt x="11859" y="9293"/>
                  <a:pt x="11859" y="9330"/>
                </a:cubicBezTo>
                <a:cubicBezTo>
                  <a:pt x="11859" y="9402"/>
                  <a:pt x="11897" y="9475"/>
                  <a:pt x="11916" y="9511"/>
                </a:cubicBezTo>
                <a:cubicBezTo>
                  <a:pt x="11935" y="9584"/>
                  <a:pt x="11954" y="9656"/>
                  <a:pt x="11954" y="9693"/>
                </a:cubicBezTo>
                <a:cubicBezTo>
                  <a:pt x="11992" y="9802"/>
                  <a:pt x="12011" y="9874"/>
                  <a:pt x="12029" y="9983"/>
                </a:cubicBezTo>
                <a:cubicBezTo>
                  <a:pt x="12048" y="9983"/>
                  <a:pt x="12048" y="10019"/>
                  <a:pt x="12067" y="10019"/>
                </a:cubicBezTo>
                <a:cubicBezTo>
                  <a:pt x="12067" y="10056"/>
                  <a:pt x="12048" y="10056"/>
                  <a:pt x="12048" y="10056"/>
                </a:cubicBezTo>
                <a:cubicBezTo>
                  <a:pt x="12048" y="10092"/>
                  <a:pt x="12067" y="10128"/>
                  <a:pt x="12067" y="10165"/>
                </a:cubicBezTo>
                <a:cubicBezTo>
                  <a:pt x="12067" y="10165"/>
                  <a:pt x="12086" y="10201"/>
                  <a:pt x="12105" y="10201"/>
                </a:cubicBezTo>
                <a:cubicBezTo>
                  <a:pt x="12124" y="10237"/>
                  <a:pt x="12143" y="10310"/>
                  <a:pt x="12162" y="10383"/>
                </a:cubicBezTo>
                <a:cubicBezTo>
                  <a:pt x="12162" y="10455"/>
                  <a:pt x="12143" y="10600"/>
                  <a:pt x="12181" y="10673"/>
                </a:cubicBezTo>
                <a:cubicBezTo>
                  <a:pt x="12181" y="10709"/>
                  <a:pt x="12237" y="10709"/>
                  <a:pt x="12256" y="10782"/>
                </a:cubicBezTo>
                <a:cubicBezTo>
                  <a:pt x="12275" y="10854"/>
                  <a:pt x="12275" y="11072"/>
                  <a:pt x="12313" y="11109"/>
                </a:cubicBezTo>
                <a:cubicBezTo>
                  <a:pt x="12313" y="11109"/>
                  <a:pt x="12313" y="11109"/>
                  <a:pt x="12313" y="11109"/>
                </a:cubicBezTo>
                <a:cubicBezTo>
                  <a:pt x="12332" y="11109"/>
                  <a:pt x="12313" y="11072"/>
                  <a:pt x="12332" y="11072"/>
                </a:cubicBezTo>
                <a:cubicBezTo>
                  <a:pt x="12332" y="11072"/>
                  <a:pt x="12351" y="11109"/>
                  <a:pt x="12351" y="11145"/>
                </a:cubicBezTo>
                <a:cubicBezTo>
                  <a:pt x="12370" y="11145"/>
                  <a:pt x="12370" y="11145"/>
                  <a:pt x="12389" y="11145"/>
                </a:cubicBezTo>
                <a:cubicBezTo>
                  <a:pt x="12408" y="11181"/>
                  <a:pt x="12427" y="11217"/>
                  <a:pt x="12446" y="11254"/>
                </a:cubicBezTo>
                <a:cubicBezTo>
                  <a:pt x="12446" y="11254"/>
                  <a:pt x="12464" y="11254"/>
                  <a:pt x="12464" y="11290"/>
                </a:cubicBezTo>
                <a:cubicBezTo>
                  <a:pt x="12464" y="11290"/>
                  <a:pt x="12483" y="11326"/>
                  <a:pt x="12483" y="11363"/>
                </a:cubicBezTo>
                <a:cubicBezTo>
                  <a:pt x="12502" y="11399"/>
                  <a:pt x="12540" y="11399"/>
                  <a:pt x="12540" y="11472"/>
                </a:cubicBezTo>
                <a:cubicBezTo>
                  <a:pt x="12540" y="11508"/>
                  <a:pt x="12502" y="11508"/>
                  <a:pt x="12502" y="11544"/>
                </a:cubicBezTo>
                <a:cubicBezTo>
                  <a:pt x="12502" y="11544"/>
                  <a:pt x="12502" y="11544"/>
                  <a:pt x="12502" y="11544"/>
                </a:cubicBezTo>
                <a:cubicBezTo>
                  <a:pt x="12502" y="11544"/>
                  <a:pt x="12502" y="11544"/>
                  <a:pt x="12502" y="11544"/>
                </a:cubicBezTo>
                <a:cubicBezTo>
                  <a:pt x="12502" y="11544"/>
                  <a:pt x="12521" y="11544"/>
                  <a:pt x="12540" y="11544"/>
                </a:cubicBezTo>
                <a:cubicBezTo>
                  <a:pt x="12540" y="11581"/>
                  <a:pt x="12578" y="11653"/>
                  <a:pt x="12597" y="11689"/>
                </a:cubicBezTo>
                <a:cubicBezTo>
                  <a:pt x="12616" y="11689"/>
                  <a:pt x="12616" y="11689"/>
                  <a:pt x="12635" y="11689"/>
                </a:cubicBezTo>
                <a:cubicBezTo>
                  <a:pt x="12654" y="11653"/>
                  <a:pt x="12673" y="11653"/>
                  <a:pt x="12691" y="11617"/>
                </a:cubicBezTo>
                <a:cubicBezTo>
                  <a:pt x="12710" y="11617"/>
                  <a:pt x="12729" y="11653"/>
                  <a:pt x="12748" y="11653"/>
                </a:cubicBezTo>
                <a:cubicBezTo>
                  <a:pt x="12748" y="11617"/>
                  <a:pt x="12767" y="11617"/>
                  <a:pt x="12786" y="11581"/>
                </a:cubicBezTo>
                <a:cubicBezTo>
                  <a:pt x="12786" y="11581"/>
                  <a:pt x="12786" y="11581"/>
                  <a:pt x="12786" y="11581"/>
                </a:cubicBezTo>
                <a:cubicBezTo>
                  <a:pt x="12805" y="11581"/>
                  <a:pt x="12824" y="11581"/>
                  <a:pt x="12824" y="11617"/>
                </a:cubicBezTo>
                <a:cubicBezTo>
                  <a:pt x="12843" y="11581"/>
                  <a:pt x="12843" y="11581"/>
                  <a:pt x="12862" y="11581"/>
                </a:cubicBezTo>
                <a:cubicBezTo>
                  <a:pt x="12881" y="11581"/>
                  <a:pt x="12899" y="11581"/>
                  <a:pt x="12918" y="11581"/>
                </a:cubicBezTo>
                <a:cubicBezTo>
                  <a:pt x="12937" y="11581"/>
                  <a:pt x="12956" y="11544"/>
                  <a:pt x="12994" y="11508"/>
                </a:cubicBezTo>
                <a:cubicBezTo>
                  <a:pt x="12994" y="11508"/>
                  <a:pt x="13013" y="11508"/>
                  <a:pt x="13032" y="11508"/>
                </a:cubicBezTo>
                <a:cubicBezTo>
                  <a:pt x="13032" y="11508"/>
                  <a:pt x="13032" y="11544"/>
                  <a:pt x="13032" y="11544"/>
                </a:cubicBezTo>
                <a:cubicBezTo>
                  <a:pt x="13013" y="11544"/>
                  <a:pt x="13013" y="11581"/>
                  <a:pt x="13013" y="11581"/>
                </a:cubicBezTo>
                <a:cubicBezTo>
                  <a:pt x="13013" y="11617"/>
                  <a:pt x="13013" y="11617"/>
                  <a:pt x="13013" y="11653"/>
                </a:cubicBezTo>
                <a:cubicBezTo>
                  <a:pt x="13013" y="11689"/>
                  <a:pt x="13013" y="11689"/>
                  <a:pt x="12994" y="11689"/>
                </a:cubicBezTo>
                <a:cubicBezTo>
                  <a:pt x="12994" y="11726"/>
                  <a:pt x="12994" y="11762"/>
                  <a:pt x="12994" y="11798"/>
                </a:cubicBezTo>
                <a:cubicBezTo>
                  <a:pt x="12994" y="11835"/>
                  <a:pt x="12975" y="11871"/>
                  <a:pt x="12956" y="11907"/>
                </a:cubicBezTo>
                <a:cubicBezTo>
                  <a:pt x="12956" y="11944"/>
                  <a:pt x="12937" y="11944"/>
                  <a:pt x="12937" y="11980"/>
                </a:cubicBezTo>
                <a:cubicBezTo>
                  <a:pt x="12937" y="11980"/>
                  <a:pt x="12937" y="11980"/>
                  <a:pt x="12937" y="12016"/>
                </a:cubicBezTo>
                <a:cubicBezTo>
                  <a:pt x="12918" y="12052"/>
                  <a:pt x="12899" y="12089"/>
                  <a:pt x="12899" y="12161"/>
                </a:cubicBezTo>
                <a:cubicBezTo>
                  <a:pt x="12881" y="12161"/>
                  <a:pt x="12881" y="12198"/>
                  <a:pt x="12881" y="12198"/>
                </a:cubicBezTo>
                <a:cubicBezTo>
                  <a:pt x="12862" y="12307"/>
                  <a:pt x="12805" y="12415"/>
                  <a:pt x="12767" y="12488"/>
                </a:cubicBezTo>
                <a:cubicBezTo>
                  <a:pt x="12748" y="12524"/>
                  <a:pt x="12729" y="12561"/>
                  <a:pt x="12710" y="12597"/>
                </a:cubicBezTo>
                <a:cubicBezTo>
                  <a:pt x="12673" y="12706"/>
                  <a:pt x="12616" y="12742"/>
                  <a:pt x="12559" y="12815"/>
                </a:cubicBezTo>
                <a:cubicBezTo>
                  <a:pt x="12521" y="12924"/>
                  <a:pt x="12464" y="12996"/>
                  <a:pt x="12427" y="13105"/>
                </a:cubicBezTo>
                <a:cubicBezTo>
                  <a:pt x="12427" y="13105"/>
                  <a:pt x="12427" y="13142"/>
                  <a:pt x="12427" y="13142"/>
                </a:cubicBezTo>
                <a:cubicBezTo>
                  <a:pt x="12408" y="13142"/>
                  <a:pt x="12408" y="13178"/>
                  <a:pt x="12389" y="13178"/>
                </a:cubicBezTo>
                <a:cubicBezTo>
                  <a:pt x="12389" y="13214"/>
                  <a:pt x="12370" y="13214"/>
                  <a:pt x="12351" y="13250"/>
                </a:cubicBezTo>
                <a:cubicBezTo>
                  <a:pt x="12351" y="13323"/>
                  <a:pt x="12313" y="13359"/>
                  <a:pt x="12313" y="13396"/>
                </a:cubicBezTo>
                <a:cubicBezTo>
                  <a:pt x="12313" y="13432"/>
                  <a:pt x="12313" y="13432"/>
                  <a:pt x="12313" y="13468"/>
                </a:cubicBezTo>
                <a:cubicBezTo>
                  <a:pt x="12294" y="13468"/>
                  <a:pt x="12294" y="13468"/>
                  <a:pt x="12294" y="13468"/>
                </a:cubicBezTo>
                <a:cubicBezTo>
                  <a:pt x="12275" y="13505"/>
                  <a:pt x="12256" y="13613"/>
                  <a:pt x="12256" y="13650"/>
                </a:cubicBezTo>
                <a:cubicBezTo>
                  <a:pt x="12275" y="13722"/>
                  <a:pt x="12294" y="13722"/>
                  <a:pt x="12313" y="13759"/>
                </a:cubicBezTo>
                <a:cubicBezTo>
                  <a:pt x="12313" y="13795"/>
                  <a:pt x="12294" y="13831"/>
                  <a:pt x="12294" y="13831"/>
                </a:cubicBezTo>
                <a:cubicBezTo>
                  <a:pt x="12294" y="13868"/>
                  <a:pt x="12294" y="13868"/>
                  <a:pt x="12294" y="13868"/>
                </a:cubicBezTo>
                <a:cubicBezTo>
                  <a:pt x="12294" y="13940"/>
                  <a:pt x="12294" y="14049"/>
                  <a:pt x="12313" y="14085"/>
                </a:cubicBezTo>
                <a:cubicBezTo>
                  <a:pt x="12332" y="14122"/>
                  <a:pt x="12351" y="14158"/>
                  <a:pt x="12370" y="14194"/>
                </a:cubicBezTo>
                <a:cubicBezTo>
                  <a:pt x="12370" y="14231"/>
                  <a:pt x="12351" y="14231"/>
                  <a:pt x="12351" y="14267"/>
                </a:cubicBezTo>
                <a:cubicBezTo>
                  <a:pt x="12351" y="14303"/>
                  <a:pt x="12370" y="14376"/>
                  <a:pt x="12370" y="14412"/>
                </a:cubicBezTo>
                <a:cubicBezTo>
                  <a:pt x="12370" y="14448"/>
                  <a:pt x="12351" y="14448"/>
                  <a:pt x="12351" y="14485"/>
                </a:cubicBezTo>
                <a:cubicBezTo>
                  <a:pt x="12370" y="14521"/>
                  <a:pt x="12370" y="14594"/>
                  <a:pt x="12370" y="14630"/>
                </a:cubicBezTo>
                <a:cubicBezTo>
                  <a:pt x="12370" y="14666"/>
                  <a:pt x="12370" y="14666"/>
                  <a:pt x="12389" y="14666"/>
                </a:cubicBezTo>
                <a:cubicBezTo>
                  <a:pt x="12389" y="14666"/>
                  <a:pt x="12389" y="14666"/>
                  <a:pt x="12389" y="14666"/>
                </a:cubicBezTo>
                <a:cubicBezTo>
                  <a:pt x="12389" y="14703"/>
                  <a:pt x="12370" y="14703"/>
                  <a:pt x="12370" y="14739"/>
                </a:cubicBezTo>
                <a:cubicBezTo>
                  <a:pt x="12370" y="14739"/>
                  <a:pt x="12370" y="14739"/>
                  <a:pt x="12370" y="14739"/>
                </a:cubicBezTo>
                <a:cubicBezTo>
                  <a:pt x="12351" y="14811"/>
                  <a:pt x="12332" y="14884"/>
                  <a:pt x="12294" y="14920"/>
                </a:cubicBezTo>
                <a:cubicBezTo>
                  <a:pt x="12256" y="14957"/>
                  <a:pt x="12200" y="14993"/>
                  <a:pt x="12162" y="15029"/>
                </a:cubicBezTo>
                <a:cubicBezTo>
                  <a:pt x="12124" y="15066"/>
                  <a:pt x="12105" y="15138"/>
                  <a:pt x="12086" y="15211"/>
                </a:cubicBezTo>
                <a:cubicBezTo>
                  <a:pt x="12048" y="15247"/>
                  <a:pt x="12029" y="15283"/>
                  <a:pt x="12011" y="15320"/>
                </a:cubicBezTo>
                <a:cubicBezTo>
                  <a:pt x="12011" y="15320"/>
                  <a:pt x="12011" y="15356"/>
                  <a:pt x="12011" y="15392"/>
                </a:cubicBezTo>
                <a:cubicBezTo>
                  <a:pt x="12011" y="15392"/>
                  <a:pt x="12029" y="15429"/>
                  <a:pt x="12029" y="15429"/>
                </a:cubicBezTo>
                <a:cubicBezTo>
                  <a:pt x="12011" y="15501"/>
                  <a:pt x="12029" y="15537"/>
                  <a:pt x="12029" y="15610"/>
                </a:cubicBezTo>
                <a:cubicBezTo>
                  <a:pt x="12048" y="15610"/>
                  <a:pt x="12048" y="15574"/>
                  <a:pt x="12048" y="15574"/>
                </a:cubicBezTo>
                <a:cubicBezTo>
                  <a:pt x="12048" y="15646"/>
                  <a:pt x="12048" y="15683"/>
                  <a:pt x="12048" y="15755"/>
                </a:cubicBezTo>
                <a:cubicBezTo>
                  <a:pt x="12048" y="15755"/>
                  <a:pt x="12048" y="15755"/>
                  <a:pt x="12048" y="15792"/>
                </a:cubicBezTo>
                <a:cubicBezTo>
                  <a:pt x="12048" y="15792"/>
                  <a:pt x="12048" y="15792"/>
                  <a:pt x="12048" y="15792"/>
                </a:cubicBezTo>
                <a:cubicBezTo>
                  <a:pt x="12048" y="15792"/>
                  <a:pt x="12048" y="15792"/>
                  <a:pt x="12048" y="15828"/>
                </a:cubicBezTo>
                <a:cubicBezTo>
                  <a:pt x="12029" y="15937"/>
                  <a:pt x="11973" y="15937"/>
                  <a:pt x="11916" y="15973"/>
                </a:cubicBezTo>
                <a:cubicBezTo>
                  <a:pt x="11897" y="16009"/>
                  <a:pt x="11878" y="16046"/>
                  <a:pt x="11878" y="16082"/>
                </a:cubicBezTo>
                <a:cubicBezTo>
                  <a:pt x="11878" y="16082"/>
                  <a:pt x="11878" y="16082"/>
                  <a:pt x="11878" y="16082"/>
                </a:cubicBezTo>
                <a:cubicBezTo>
                  <a:pt x="11878" y="16082"/>
                  <a:pt x="11878" y="16118"/>
                  <a:pt x="11897" y="16118"/>
                </a:cubicBezTo>
                <a:cubicBezTo>
                  <a:pt x="11897" y="16155"/>
                  <a:pt x="11897" y="16264"/>
                  <a:pt x="11878" y="16300"/>
                </a:cubicBezTo>
                <a:cubicBezTo>
                  <a:pt x="11878" y="16336"/>
                  <a:pt x="11859" y="16336"/>
                  <a:pt x="11859" y="16336"/>
                </a:cubicBezTo>
                <a:cubicBezTo>
                  <a:pt x="11859" y="16336"/>
                  <a:pt x="11859" y="16372"/>
                  <a:pt x="11859" y="16409"/>
                </a:cubicBezTo>
                <a:cubicBezTo>
                  <a:pt x="11859" y="16445"/>
                  <a:pt x="11802" y="16481"/>
                  <a:pt x="11802" y="16518"/>
                </a:cubicBezTo>
                <a:cubicBezTo>
                  <a:pt x="11727" y="16699"/>
                  <a:pt x="11670" y="16844"/>
                  <a:pt x="11575" y="16990"/>
                </a:cubicBezTo>
                <a:cubicBezTo>
                  <a:pt x="11557" y="16990"/>
                  <a:pt x="11538" y="17026"/>
                  <a:pt x="11519" y="17062"/>
                </a:cubicBezTo>
                <a:cubicBezTo>
                  <a:pt x="11519" y="17098"/>
                  <a:pt x="11462" y="17062"/>
                  <a:pt x="11443" y="17098"/>
                </a:cubicBezTo>
                <a:cubicBezTo>
                  <a:pt x="11443" y="17098"/>
                  <a:pt x="11443" y="17135"/>
                  <a:pt x="11443" y="17135"/>
                </a:cubicBezTo>
                <a:cubicBezTo>
                  <a:pt x="11424" y="17135"/>
                  <a:pt x="11405" y="17098"/>
                  <a:pt x="11405" y="17098"/>
                </a:cubicBezTo>
                <a:cubicBezTo>
                  <a:pt x="11386" y="17135"/>
                  <a:pt x="11386" y="17135"/>
                  <a:pt x="11386" y="17135"/>
                </a:cubicBezTo>
                <a:cubicBezTo>
                  <a:pt x="11367" y="17135"/>
                  <a:pt x="11330" y="17098"/>
                  <a:pt x="11311" y="17098"/>
                </a:cubicBezTo>
                <a:cubicBezTo>
                  <a:pt x="11311" y="17098"/>
                  <a:pt x="11292" y="17135"/>
                  <a:pt x="11292" y="17135"/>
                </a:cubicBezTo>
                <a:cubicBezTo>
                  <a:pt x="11273" y="17135"/>
                  <a:pt x="11254" y="17098"/>
                  <a:pt x="11216" y="17135"/>
                </a:cubicBezTo>
                <a:cubicBezTo>
                  <a:pt x="11216" y="17135"/>
                  <a:pt x="11216" y="17171"/>
                  <a:pt x="11197" y="17171"/>
                </a:cubicBezTo>
                <a:cubicBezTo>
                  <a:pt x="11178" y="17171"/>
                  <a:pt x="11159" y="17171"/>
                  <a:pt x="11122" y="17171"/>
                </a:cubicBezTo>
                <a:cubicBezTo>
                  <a:pt x="11103" y="17171"/>
                  <a:pt x="11103" y="17207"/>
                  <a:pt x="11084" y="17244"/>
                </a:cubicBezTo>
                <a:cubicBezTo>
                  <a:pt x="11084" y="17207"/>
                  <a:pt x="11065" y="17207"/>
                  <a:pt x="11046" y="17207"/>
                </a:cubicBezTo>
                <a:cubicBezTo>
                  <a:pt x="11046" y="17171"/>
                  <a:pt x="11046" y="17171"/>
                  <a:pt x="11046" y="17171"/>
                </a:cubicBezTo>
                <a:cubicBezTo>
                  <a:pt x="11027" y="17171"/>
                  <a:pt x="11027" y="17171"/>
                  <a:pt x="11027" y="17171"/>
                </a:cubicBezTo>
                <a:cubicBezTo>
                  <a:pt x="11027" y="17135"/>
                  <a:pt x="11027" y="17135"/>
                  <a:pt x="11008" y="17135"/>
                </a:cubicBezTo>
                <a:cubicBezTo>
                  <a:pt x="11008" y="17135"/>
                  <a:pt x="11008" y="17135"/>
                  <a:pt x="11008" y="17135"/>
                </a:cubicBezTo>
                <a:cubicBezTo>
                  <a:pt x="11008" y="17135"/>
                  <a:pt x="11008" y="17135"/>
                  <a:pt x="11008" y="17135"/>
                </a:cubicBezTo>
                <a:cubicBezTo>
                  <a:pt x="11008" y="17135"/>
                  <a:pt x="11008" y="17135"/>
                  <a:pt x="10989" y="17135"/>
                </a:cubicBezTo>
                <a:cubicBezTo>
                  <a:pt x="10989" y="17135"/>
                  <a:pt x="10989" y="17135"/>
                  <a:pt x="10989" y="17135"/>
                </a:cubicBezTo>
                <a:cubicBezTo>
                  <a:pt x="10989" y="17135"/>
                  <a:pt x="10989" y="17098"/>
                  <a:pt x="11008" y="17062"/>
                </a:cubicBezTo>
                <a:cubicBezTo>
                  <a:pt x="10989" y="17062"/>
                  <a:pt x="10970" y="16990"/>
                  <a:pt x="10970" y="16953"/>
                </a:cubicBezTo>
                <a:cubicBezTo>
                  <a:pt x="10970" y="16953"/>
                  <a:pt x="10989" y="16953"/>
                  <a:pt x="10989" y="16953"/>
                </a:cubicBezTo>
                <a:cubicBezTo>
                  <a:pt x="11008" y="16844"/>
                  <a:pt x="10970" y="16772"/>
                  <a:pt x="10951" y="16699"/>
                </a:cubicBezTo>
                <a:cubicBezTo>
                  <a:pt x="10913" y="16590"/>
                  <a:pt x="10913" y="16518"/>
                  <a:pt x="10895" y="16445"/>
                </a:cubicBezTo>
                <a:cubicBezTo>
                  <a:pt x="10857" y="16372"/>
                  <a:pt x="10838" y="16336"/>
                  <a:pt x="10819" y="16264"/>
                </a:cubicBezTo>
                <a:cubicBezTo>
                  <a:pt x="10800" y="16227"/>
                  <a:pt x="10800" y="16191"/>
                  <a:pt x="10800" y="16155"/>
                </a:cubicBezTo>
                <a:cubicBezTo>
                  <a:pt x="10800" y="16118"/>
                  <a:pt x="10800" y="16118"/>
                  <a:pt x="10800" y="16118"/>
                </a:cubicBezTo>
                <a:cubicBezTo>
                  <a:pt x="10800" y="16082"/>
                  <a:pt x="10781" y="16046"/>
                  <a:pt x="10781" y="16009"/>
                </a:cubicBezTo>
                <a:cubicBezTo>
                  <a:pt x="10781" y="16009"/>
                  <a:pt x="10781" y="15973"/>
                  <a:pt x="10781" y="15937"/>
                </a:cubicBezTo>
                <a:cubicBezTo>
                  <a:pt x="10781" y="15901"/>
                  <a:pt x="10781" y="15901"/>
                  <a:pt x="10762" y="15864"/>
                </a:cubicBezTo>
                <a:cubicBezTo>
                  <a:pt x="10762" y="15828"/>
                  <a:pt x="10762" y="15755"/>
                  <a:pt x="10743" y="15683"/>
                </a:cubicBezTo>
                <a:cubicBezTo>
                  <a:pt x="10781" y="15646"/>
                  <a:pt x="10724" y="15537"/>
                  <a:pt x="10705" y="15465"/>
                </a:cubicBezTo>
                <a:cubicBezTo>
                  <a:pt x="10687" y="15392"/>
                  <a:pt x="10668" y="15283"/>
                  <a:pt x="10630" y="15211"/>
                </a:cubicBezTo>
                <a:cubicBezTo>
                  <a:pt x="10630" y="15174"/>
                  <a:pt x="10592" y="15138"/>
                  <a:pt x="10592" y="15066"/>
                </a:cubicBezTo>
                <a:cubicBezTo>
                  <a:pt x="10573" y="14993"/>
                  <a:pt x="10592" y="14884"/>
                  <a:pt x="10592" y="14811"/>
                </a:cubicBezTo>
                <a:cubicBezTo>
                  <a:pt x="10630" y="14739"/>
                  <a:pt x="10611" y="14630"/>
                  <a:pt x="10630" y="14521"/>
                </a:cubicBezTo>
                <a:cubicBezTo>
                  <a:pt x="10649" y="14521"/>
                  <a:pt x="10649" y="14485"/>
                  <a:pt x="10649" y="14485"/>
                </a:cubicBezTo>
                <a:cubicBezTo>
                  <a:pt x="10668" y="14485"/>
                  <a:pt x="10668" y="14448"/>
                  <a:pt x="10668" y="14448"/>
                </a:cubicBezTo>
                <a:cubicBezTo>
                  <a:pt x="10668" y="14448"/>
                  <a:pt x="10687" y="14412"/>
                  <a:pt x="10687" y="14412"/>
                </a:cubicBezTo>
                <a:cubicBezTo>
                  <a:pt x="10705" y="14412"/>
                  <a:pt x="10705" y="14339"/>
                  <a:pt x="10724" y="14303"/>
                </a:cubicBezTo>
                <a:cubicBezTo>
                  <a:pt x="10705" y="14231"/>
                  <a:pt x="10705" y="14194"/>
                  <a:pt x="10705" y="14158"/>
                </a:cubicBezTo>
                <a:cubicBezTo>
                  <a:pt x="10705" y="14122"/>
                  <a:pt x="10649" y="14013"/>
                  <a:pt x="10687" y="13976"/>
                </a:cubicBezTo>
                <a:cubicBezTo>
                  <a:pt x="10705" y="13868"/>
                  <a:pt x="10668" y="13868"/>
                  <a:pt x="10668" y="13795"/>
                </a:cubicBezTo>
                <a:cubicBezTo>
                  <a:pt x="10668" y="13795"/>
                  <a:pt x="10649" y="13759"/>
                  <a:pt x="10649" y="13722"/>
                </a:cubicBezTo>
                <a:cubicBezTo>
                  <a:pt x="10649" y="13722"/>
                  <a:pt x="10630" y="13686"/>
                  <a:pt x="10630" y="13650"/>
                </a:cubicBezTo>
                <a:cubicBezTo>
                  <a:pt x="10611" y="13613"/>
                  <a:pt x="10630" y="13577"/>
                  <a:pt x="10611" y="13541"/>
                </a:cubicBezTo>
                <a:cubicBezTo>
                  <a:pt x="10611" y="13541"/>
                  <a:pt x="10592" y="13468"/>
                  <a:pt x="10592" y="13468"/>
                </a:cubicBezTo>
                <a:cubicBezTo>
                  <a:pt x="10573" y="13396"/>
                  <a:pt x="10535" y="13359"/>
                  <a:pt x="10516" y="13323"/>
                </a:cubicBezTo>
                <a:cubicBezTo>
                  <a:pt x="10497" y="13287"/>
                  <a:pt x="10497" y="13250"/>
                  <a:pt x="10478" y="13250"/>
                </a:cubicBezTo>
                <a:cubicBezTo>
                  <a:pt x="10478" y="13250"/>
                  <a:pt x="10478" y="13214"/>
                  <a:pt x="10478" y="13214"/>
                </a:cubicBezTo>
                <a:cubicBezTo>
                  <a:pt x="10478" y="13214"/>
                  <a:pt x="10478" y="13214"/>
                  <a:pt x="10460" y="13214"/>
                </a:cubicBezTo>
                <a:cubicBezTo>
                  <a:pt x="10460" y="13178"/>
                  <a:pt x="10441" y="13142"/>
                  <a:pt x="10441" y="13142"/>
                </a:cubicBezTo>
                <a:cubicBezTo>
                  <a:pt x="10441" y="13142"/>
                  <a:pt x="10441" y="13142"/>
                  <a:pt x="10441" y="13142"/>
                </a:cubicBezTo>
                <a:cubicBezTo>
                  <a:pt x="10441" y="13105"/>
                  <a:pt x="10441" y="13105"/>
                  <a:pt x="10441" y="13105"/>
                </a:cubicBezTo>
                <a:cubicBezTo>
                  <a:pt x="10441" y="13069"/>
                  <a:pt x="10422" y="13105"/>
                  <a:pt x="10422" y="13069"/>
                </a:cubicBezTo>
                <a:cubicBezTo>
                  <a:pt x="10422" y="13069"/>
                  <a:pt x="10403" y="13033"/>
                  <a:pt x="10403" y="13033"/>
                </a:cubicBezTo>
                <a:cubicBezTo>
                  <a:pt x="10441" y="12996"/>
                  <a:pt x="10441" y="12960"/>
                  <a:pt x="10441" y="12887"/>
                </a:cubicBezTo>
                <a:cubicBezTo>
                  <a:pt x="10460" y="12887"/>
                  <a:pt x="10460" y="12924"/>
                  <a:pt x="10478" y="12924"/>
                </a:cubicBezTo>
                <a:cubicBezTo>
                  <a:pt x="10478" y="12924"/>
                  <a:pt x="10478" y="12924"/>
                  <a:pt x="10478" y="12887"/>
                </a:cubicBezTo>
                <a:cubicBezTo>
                  <a:pt x="10460" y="12887"/>
                  <a:pt x="10460" y="12887"/>
                  <a:pt x="10441" y="12851"/>
                </a:cubicBezTo>
                <a:cubicBezTo>
                  <a:pt x="10460" y="12851"/>
                  <a:pt x="10460" y="12815"/>
                  <a:pt x="10460" y="12778"/>
                </a:cubicBezTo>
                <a:cubicBezTo>
                  <a:pt x="10460" y="12778"/>
                  <a:pt x="10441" y="12778"/>
                  <a:pt x="10441" y="12778"/>
                </a:cubicBezTo>
                <a:cubicBezTo>
                  <a:pt x="10441" y="12778"/>
                  <a:pt x="10441" y="12778"/>
                  <a:pt x="10441" y="12778"/>
                </a:cubicBezTo>
                <a:cubicBezTo>
                  <a:pt x="10460" y="12742"/>
                  <a:pt x="10478" y="12706"/>
                  <a:pt x="10478" y="12670"/>
                </a:cubicBezTo>
                <a:cubicBezTo>
                  <a:pt x="10478" y="12670"/>
                  <a:pt x="10478" y="12633"/>
                  <a:pt x="10460" y="12633"/>
                </a:cubicBezTo>
                <a:cubicBezTo>
                  <a:pt x="10478" y="12597"/>
                  <a:pt x="10478" y="12597"/>
                  <a:pt x="10478" y="12561"/>
                </a:cubicBezTo>
                <a:cubicBezTo>
                  <a:pt x="10478" y="12524"/>
                  <a:pt x="10460" y="12524"/>
                  <a:pt x="10460" y="12488"/>
                </a:cubicBezTo>
                <a:cubicBezTo>
                  <a:pt x="10460" y="12488"/>
                  <a:pt x="10460" y="12452"/>
                  <a:pt x="10460" y="12452"/>
                </a:cubicBezTo>
                <a:cubicBezTo>
                  <a:pt x="10460" y="12452"/>
                  <a:pt x="10460" y="12452"/>
                  <a:pt x="10460" y="12452"/>
                </a:cubicBezTo>
                <a:cubicBezTo>
                  <a:pt x="10460" y="12452"/>
                  <a:pt x="10460" y="12452"/>
                  <a:pt x="10460" y="12452"/>
                </a:cubicBezTo>
                <a:cubicBezTo>
                  <a:pt x="10403" y="12452"/>
                  <a:pt x="10422" y="12415"/>
                  <a:pt x="10403" y="12379"/>
                </a:cubicBezTo>
                <a:cubicBezTo>
                  <a:pt x="10403" y="12343"/>
                  <a:pt x="10384" y="12343"/>
                  <a:pt x="10365" y="12343"/>
                </a:cubicBezTo>
                <a:cubicBezTo>
                  <a:pt x="10384" y="12379"/>
                  <a:pt x="10384" y="12379"/>
                  <a:pt x="10384" y="12379"/>
                </a:cubicBezTo>
                <a:cubicBezTo>
                  <a:pt x="10346" y="12415"/>
                  <a:pt x="10327" y="12379"/>
                  <a:pt x="10308" y="12379"/>
                </a:cubicBezTo>
                <a:cubicBezTo>
                  <a:pt x="10270" y="12452"/>
                  <a:pt x="10195" y="12379"/>
                  <a:pt x="10195" y="12307"/>
                </a:cubicBezTo>
                <a:cubicBezTo>
                  <a:pt x="10195" y="12307"/>
                  <a:pt x="10195" y="12270"/>
                  <a:pt x="10195" y="12270"/>
                </a:cubicBezTo>
                <a:cubicBezTo>
                  <a:pt x="10195" y="12270"/>
                  <a:pt x="10195" y="12270"/>
                  <a:pt x="10195" y="12270"/>
                </a:cubicBezTo>
                <a:cubicBezTo>
                  <a:pt x="10195" y="12270"/>
                  <a:pt x="10195" y="12234"/>
                  <a:pt x="10176" y="12234"/>
                </a:cubicBezTo>
                <a:cubicBezTo>
                  <a:pt x="10176" y="12234"/>
                  <a:pt x="10176" y="12234"/>
                  <a:pt x="10176" y="12234"/>
                </a:cubicBezTo>
                <a:cubicBezTo>
                  <a:pt x="10157" y="12198"/>
                  <a:pt x="10119" y="12161"/>
                  <a:pt x="10100" y="12125"/>
                </a:cubicBezTo>
                <a:cubicBezTo>
                  <a:pt x="10100" y="12161"/>
                  <a:pt x="10081" y="12161"/>
                  <a:pt x="10081" y="12161"/>
                </a:cubicBezTo>
                <a:cubicBezTo>
                  <a:pt x="10043" y="12161"/>
                  <a:pt x="9987" y="12161"/>
                  <a:pt x="9949" y="12198"/>
                </a:cubicBezTo>
                <a:cubicBezTo>
                  <a:pt x="9930" y="12198"/>
                  <a:pt x="9930" y="12234"/>
                  <a:pt x="9930" y="12234"/>
                </a:cubicBezTo>
                <a:cubicBezTo>
                  <a:pt x="9911" y="12234"/>
                  <a:pt x="9892" y="12234"/>
                  <a:pt x="9873" y="12234"/>
                </a:cubicBezTo>
                <a:cubicBezTo>
                  <a:pt x="9816" y="12270"/>
                  <a:pt x="9779" y="12307"/>
                  <a:pt x="9741" y="12379"/>
                </a:cubicBezTo>
                <a:cubicBezTo>
                  <a:pt x="9722" y="12343"/>
                  <a:pt x="9684" y="12307"/>
                  <a:pt x="9684" y="12307"/>
                </a:cubicBezTo>
                <a:cubicBezTo>
                  <a:pt x="9665" y="12307"/>
                  <a:pt x="9665" y="12307"/>
                  <a:pt x="9665" y="12307"/>
                </a:cubicBezTo>
                <a:cubicBezTo>
                  <a:pt x="9646" y="12307"/>
                  <a:pt x="9627" y="12307"/>
                  <a:pt x="9627" y="12307"/>
                </a:cubicBezTo>
                <a:cubicBezTo>
                  <a:pt x="9608" y="12270"/>
                  <a:pt x="9552" y="12307"/>
                  <a:pt x="9533" y="12307"/>
                </a:cubicBezTo>
                <a:cubicBezTo>
                  <a:pt x="9514" y="12307"/>
                  <a:pt x="9495" y="12343"/>
                  <a:pt x="9476" y="12343"/>
                </a:cubicBezTo>
                <a:cubicBezTo>
                  <a:pt x="9457" y="12379"/>
                  <a:pt x="9438" y="12379"/>
                  <a:pt x="9400" y="12415"/>
                </a:cubicBezTo>
                <a:cubicBezTo>
                  <a:pt x="9400" y="12415"/>
                  <a:pt x="9344" y="12343"/>
                  <a:pt x="9325" y="12343"/>
                </a:cubicBezTo>
                <a:cubicBezTo>
                  <a:pt x="9287" y="12307"/>
                  <a:pt x="9268" y="12234"/>
                  <a:pt x="9230" y="12198"/>
                </a:cubicBezTo>
                <a:cubicBezTo>
                  <a:pt x="9211" y="12161"/>
                  <a:pt x="9192" y="12161"/>
                  <a:pt x="9173" y="12125"/>
                </a:cubicBezTo>
                <a:cubicBezTo>
                  <a:pt x="9154" y="12125"/>
                  <a:pt x="9136" y="12052"/>
                  <a:pt x="9098" y="12052"/>
                </a:cubicBezTo>
                <a:cubicBezTo>
                  <a:pt x="9098" y="12016"/>
                  <a:pt x="9117" y="12016"/>
                  <a:pt x="9098" y="12016"/>
                </a:cubicBezTo>
                <a:cubicBezTo>
                  <a:pt x="9079" y="12016"/>
                  <a:pt x="9060" y="11980"/>
                  <a:pt x="9041" y="11944"/>
                </a:cubicBezTo>
                <a:cubicBezTo>
                  <a:pt x="9041" y="11944"/>
                  <a:pt x="9060" y="11944"/>
                  <a:pt x="9060" y="11944"/>
                </a:cubicBezTo>
                <a:cubicBezTo>
                  <a:pt x="9060" y="11907"/>
                  <a:pt x="9060" y="11907"/>
                  <a:pt x="9060" y="11907"/>
                </a:cubicBezTo>
                <a:cubicBezTo>
                  <a:pt x="9060" y="11907"/>
                  <a:pt x="9060" y="11907"/>
                  <a:pt x="9060" y="11907"/>
                </a:cubicBezTo>
                <a:cubicBezTo>
                  <a:pt x="9060" y="11907"/>
                  <a:pt x="9060" y="11907"/>
                  <a:pt x="9060" y="11871"/>
                </a:cubicBezTo>
                <a:cubicBezTo>
                  <a:pt x="9060" y="11871"/>
                  <a:pt x="9060" y="11871"/>
                  <a:pt x="9060" y="11835"/>
                </a:cubicBezTo>
                <a:cubicBezTo>
                  <a:pt x="9041" y="11798"/>
                  <a:pt x="9022" y="11798"/>
                  <a:pt x="9022" y="11762"/>
                </a:cubicBezTo>
                <a:cubicBezTo>
                  <a:pt x="9022" y="11762"/>
                  <a:pt x="9022" y="11762"/>
                  <a:pt x="9022" y="11726"/>
                </a:cubicBezTo>
                <a:cubicBezTo>
                  <a:pt x="9003" y="11726"/>
                  <a:pt x="8984" y="11689"/>
                  <a:pt x="8965" y="11689"/>
                </a:cubicBezTo>
                <a:cubicBezTo>
                  <a:pt x="8965" y="11653"/>
                  <a:pt x="8965" y="11653"/>
                  <a:pt x="8965" y="11653"/>
                </a:cubicBezTo>
                <a:cubicBezTo>
                  <a:pt x="8946" y="11653"/>
                  <a:pt x="8946" y="11617"/>
                  <a:pt x="8927" y="11617"/>
                </a:cubicBezTo>
                <a:cubicBezTo>
                  <a:pt x="8946" y="11617"/>
                  <a:pt x="8946" y="11617"/>
                  <a:pt x="8927" y="11617"/>
                </a:cubicBezTo>
                <a:cubicBezTo>
                  <a:pt x="8927" y="11581"/>
                  <a:pt x="8927" y="11581"/>
                  <a:pt x="8909" y="11581"/>
                </a:cubicBezTo>
                <a:cubicBezTo>
                  <a:pt x="8909" y="11544"/>
                  <a:pt x="8927" y="11544"/>
                  <a:pt x="8927" y="11508"/>
                </a:cubicBezTo>
                <a:cubicBezTo>
                  <a:pt x="8927" y="11508"/>
                  <a:pt x="8909" y="11508"/>
                  <a:pt x="8890" y="11508"/>
                </a:cubicBezTo>
                <a:cubicBezTo>
                  <a:pt x="8871" y="11508"/>
                  <a:pt x="8871" y="11508"/>
                  <a:pt x="8852" y="11472"/>
                </a:cubicBezTo>
                <a:cubicBezTo>
                  <a:pt x="8852" y="11472"/>
                  <a:pt x="8852" y="11472"/>
                  <a:pt x="8852" y="11472"/>
                </a:cubicBezTo>
                <a:cubicBezTo>
                  <a:pt x="8833" y="11435"/>
                  <a:pt x="8852" y="11472"/>
                  <a:pt x="8833" y="11435"/>
                </a:cubicBezTo>
                <a:cubicBezTo>
                  <a:pt x="8833" y="11399"/>
                  <a:pt x="8833" y="11326"/>
                  <a:pt x="8833" y="11326"/>
                </a:cubicBezTo>
                <a:cubicBezTo>
                  <a:pt x="8833" y="11326"/>
                  <a:pt x="8833" y="11326"/>
                  <a:pt x="8852" y="11326"/>
                </a:cubicBezTo>
                <a:cubicBezTo>
                  <a:pt x="8852" y="11290"/>
                  <a:pt x="8852" y="11290"/>
                  <a:pt x="8852" y="11290"/>
                </a:cubicBezTo>
                <a:cubicBezTo>
                  <a:pt x="8833" y="11254"/>
                  <a:pt x="8833" y="11181"/>
                  <a:pt x="8795" y="11145"/>
                </a:cubicBezTo>
                <a:cubicBezTo>
                  <a:pt x="8795" y="11145"/>
                  <a:pt x="8795" y="11145"/>
                  <a:pt x="8795" y="11145"/>
                </a:cubicBezTo>
                <a:cubicBezTo>
                  <a:pt x="8814" y="11145"/>
                  <a:pt x="8833" y="11072"/>
                  <a:pt x="8852" y="11000"/>
                </a:cubicBezTo>
                <a:cubicBezTo>
                  <a:pt x="8852" y="10963"/>
                  <a:pt x="8852" y="10963"/>
                  <a:pt x="8852" y="10927"/>
                </a:cubicBezTo>
                <a:cubicBezTo>
                  <a:pt x="8871" y="10818"/>
                  <a:pt x="8890" y="10673"/>
                  <a:pt x="8852" y="10600"/>
                </a:cubicBezTo>
                <a:cubicBezTo>
                  <a:pt x="8871" y="10528"/>
                  <a:pt x="8871" y="10419"/>
                  <a:pt x="8814" y="10419"/>
                </a:cubicBezTo>
                <a:cubicBezTo>
                  <a:pt x="8814" y="10419"/>
                  <a:pt x="8814" y="10419"/>
                  <a:pt x="8814" y="10419"/>
                </a:cubicBezTo>
                <a:cubicBezTo>
                  <a:pt x="8814" y="10383"/>
                  <a:pt x="8814" y="10310"/>
                  <a:pt x="8833" y="10274"/>
                </a:cubicBezTo>
                <a:cubicBezTo>
                  <a:pt x="8833" y="10237"/>
                  <a:pt x="8852" y="10237"/>
                  <a:pt x="8852" y="10201"/>
                </a:cubicBezTo>
                <a:cubicBezTo>
                  <a:pt x="8871" y="10165"/>
                  <a:pt x="8890" y="10092"/>
                  <a:pt x="8890" y="10019"/>
                </a:cubicBezTo>
                <a:cubicBezTo>
                  <a:pt x="8909" y="9983"/>
                  <a:pt x="8946" y="9983"/>
                  <a:pt x="8946" y="9947"/>
                </a:cubicBezTo>
                <a:cubicBezTo>
                  <a:pt x="8946" y="9911"/>
                  <a:pt x="8946" y="9911"/>
                  <a:pt x="8946" y="9874"/>
                </a:cubicBezTo>
                <a:cubicBezTo>
                  <a:pt x="8946" y="9838"/>
                  <a:pt x="8965" y="9802"/>
                  <a:pt x="8984" y="9765"/>
                </a:cubicBezTo>
                <a:cubicBezTo>
                  <a:pt x="8984" y="9729"/>
                  <a:pt x="9022" y="9729"/>
                  <a:pt x="9022" y="9693"/>
                </a:cubicBezTo>
                <a:cubicBezTo>
                  <a:pt x="9041" y="9656"/>
                  <a:pt x="9041" y="9548"/>
                  <a:pt x="9060" y="9548"/>
                </a:cubicBezTo>
                <a:cubicBezTo>
                  <a:pt x="9098" y="9511"/>
                  <a:pt x="9117" y="9511"/>
                  <a:pt x="9136" y="9511"/>
                </a:cubicBezTo>
                <a:cubicBezTo>
                  <a:pt x="9173" y="9475"/>
                  <a:pt x="9230" y="9366"/>
                  <a:pt x="9249" y="9293"/>
                </a:cubicBezTo>
                <a:cubicBezTo>
                  <a:pt x="9287" y="9221"/>
                  <a:pt x="9249" y="9185"/>
                  <a:pt x="9249" y="9076"/>
                </a:cubicBezTo>
                <a:close/>
                <a:moveTo>
                  <a:pt x="8984" y="3957"/>
                </a:moveTo>
                <a:cubicBezTo>
                  <a:pt x="8984" y="3957"/>
                  <a:pt x="8984" y="3957"/>
                  <a:pt x="8984" y="3993"/>
                </a:cubicBezTo>
                <a:cubicBezTo>
                  <a:pt x="8965" y="4030"/>
                  <a:pt x="8946" y="4066"/>
                  <a:pt x="8927" y="4030"/>
                </a:cubicBezTo>
                <a:cubicBezTo>
                  <a:pt x="8909" y="4066"/>
                  <a:pt x="8871" y="4102"/>
                  <a:pt x="8852" y="4102"/>
                </a:cubicBezTo>
                <a:cubicBezTo>
                  <a:pt x="8833" y="4138"/>
                  <a:pt x="8814" y="4138"/>
                  <a:pt x="8776" y="4138"/>
                </a:cubicBezTo>
                <a:cubicBezTo>
                  <a:pt x="8757" y="4138"/>
                  <a:pt x="8757" y="4211"/>
                  <a:pt x="8701" y="4211"/>
                </a:cubicBezTo>
                <a:cubicBezTo>
                  <a:pt x="8682" y="4211"/>
                  <a:pt x="8663" y="4175"/>
                  <a:pt x="8644" y="4175"/>
                </a:cubicBezTo>
                <a:cubicBezTo>
                  <a:pt x="8625" y="4175"/>
                  <a:pt x="8625" y="4138"/>
                  <a:pt x="8606" y="4138"/>
                </a:cubicBezTo>
                <a:cubicBezTo>
                  <a:pt x="8568" y="4102"/>
                  <a:pt x="8492" y="4138"/>
                  <a:pt x="8474" y="4102"/>
                </a:cubicBezTo>
                <a:cubicBezTo>
                  <a:pt x="8492" y="4066"/>
                  <a:pt x="8530" y="4066"/>
                  <a:pt x="8549" y="3993"/>
                </a:cubicBezTo>
                <a:cubicBezTo>
                  <a:pt x="8511" y="3993"/>
                  <a:pt x="8511" y="3993"/>
                  <a:pt x="8492" y="3957"/>
                </a:cubicBezTo>
                <a:cubicBezTo>
                  <a:pt x="8474" y="3957"/>
                  <a:pt x="8436" y="3993"/>
                  <a:pt x="8417" y="3957"/>
                </a:cubicBezTo>
                <a:cubicBezTo>
                  <a:pt x="8417" y="3957"/>
                  <a:pt x="8417" y="3957"/>
                  <a:pt x="8417" y="3957"/>
                </a:cubicBezTo>
                <a:cubicBezTo>
                  <a:pt x="8417" y="3957"/>
                  <a:pt x="8417" y="3957"/>
                  <a:pt x="8417" y="3957"/>
                </a:cubicBezTo>
                <a:cubicBezTo>
                  <a:pt x="8417" y="3884"/>
                  <a:pt x="8492" y="3921"/>
                  <a:pt x="8530" y="3884"/>
                </a:cubicBezTo>
                <a:cubicBezTo>
                  <a:pt x="8530" y="3884"/>
                  <a:pt x="8530" y="3848"/>
                  <a:pt x="8530" y="3848"/>
                </a:cubicBezTo>
                <a:cubicBezTo>
                  <a:pt x="8530" y="3848"/>
                  <a:pt x="8530" y="3848"/>
                  <a:pt x="8530" y="3812"/>
                </a:cubicBezTo>
                <a:cubicBezTo>
                  <a:pt x="8511" y="3812"/>
                  <a:pt x="8492" y="3812"/>
                  <a:pt x="8474" y="3812"/>
                </a:cubicBezTo>
                <a:cubicBezTo>
                  <a:pt x="8436" y="3775"/>
                  <a:pt x="8398" y="3848"/>
                  <a:pt x="8379" y="3775"/>
                </a:cubicBezTo>
                <a:cubicBezTo>
                  <a:pt x="8379" y="3775"/>
                  <a:pt x="8379" y="3775"/>
                  <a:pt x="8379" y="3775"/>
                </a:cubicBezTo>
                <a:cubicBezTo>
                  <a:pt x="8398" y="3739"/>
                  <a:pt x="8417" y="3739"/>
                  <a:pt x="8436" y="3739"/>
                </a:cubicBezTo>
                <a:cubicBezTo>
                  <a:pt x="8436" y="3739"/>
                  <a:pt x="8436" y="3739"/>
                  <a:pt x="8417" y="3739"/>
                </a:cubicBezTo>
                <a:cubicBezTo>
                  <a:pt x="8417" y="3739"/>
                  <a:pt x="8417" y="3703"/>
                  <a:pt x="8417" y="3703"/>
                </a:cubicBezTo>
                <a:cubicBezTo>
                  <a:pt x="8436" y="3630"/>
                  <a:pt x="8455" y="3739"/>
                  <a:pt x="8474" y="3703"/>
                </a:cubicBezTo>
                <a:cubicBezTo>
                  <a:pt x="8474" y="3703"/>
                  <a:pt x="8474" y="3703"/>
                  <a:pt x="8474" y="3703"/>
                </a:cubicBezTo>
                <a:cubicBezTo>
                  <a:pt x="8474" y="3667"/>
                  <a:pt x="8474" y="3667"/>
                  <a:pt x="8455" y="3630"/>
                </a:cubicBezTo>
                <a:cubicBezTo>
                  <a:pt x="8455" y="3630"/>
                  <a:pt x="8455" y="3630"/>
                  <a:pt x="8455" y="3630"/>
                </a:cubicBezTo>
                <a:cubicBezTo>
                  <a:pt x="8455" y="3630"/>
                  <a:pt x="8474" y="3630"/>
                  <a:pt x="8474" y="3630"/>
                </a:cubicBezTo>
                <a:cubicBezTo>
                  <a:pt x="8492" y="3630"/>
                  <a:pt x="8549" y="3630"/>
                  <a:pt x="8549" y="3703"/>
                </a:cubicBezTo>
                <a:cubicBezTo>
                  <a:pt x="8568" y="3739"/>
                  <a:pt x="8549" y="3775"/>
                  <a:pt x="8549" y="3775"/>
                </a:cubicBezTo>
                <a:cubicBezTo>
                  <a:pt x="8549" y="3812"/>
                  <a:pt x="8549" y="3812"/>
                  <a:pt x="8568" y="3848"/>
                </a:cubicBezTo>
                <a:cubicBezTo>
                  <a:pt x="8568" y="3812"/>
                  <a:pt x="8587" y="3812"/>
                  <a:pt x="8587" y="3812"/>
                </a:cubicBezTo>
                <a:cubicBezTo>
                  <a:pt x="8606" y="3775"/>
                  <a:pt x="8606" y="3812"/>
                  <a:pt x="8625" y="3775"/>
                </a:cubicBezTo>
                <a:cubicBezTo>
                  <a:pt x="8625" y="3739"/>
                  <a:pt x="8625" y="3703"/>
                  <a:pt x="8625" y="3667"/>
                </a:cubicBezTo>
                <a:cubicBezTo>
                  <a:pt x="8625" y="3667"/>
                  <a:pt x="8625" y="3667"/>
                  <a:pt x="8625" y="3667"/>
                </a:cubicBezTo>
                <a:cubicBezTo>
                  <a:pt x="8644" y="3667"/>
                  <a:pt x="8644" y="3667"/>
                  <a:pt x="8644" y="3667"/>
                </a:cubicBezTo>
                <a:cubicBezTo>
                  <a:pt x="8644" y="3703"/>
                  <a:pt x="8663" y="3739"/>
                  <a:pt x="8682" y="3739"/>
                </a:cubicBezTo>
                <a:cubicBezTo>
                  <a:pt x="8682" y="3739"/>
                  <a:pt x="8682" y="3739"/>
                  <a:pt x="8682" y="3739"/>
                </a:cubicBezTo>
                <a:cubicBezTo>
                  <a:pt x="8682" y="3739"/>
                  <a:pt x="8682" y="3739"/>
                  <a:pt x="8682" y="3739"/>
                </a:cubicBezTo>
                <a:cubicBezTo>
                  <a:pt x="8682" y="3739"/>
                  <a:pt x="8682" y="3703"/>
                  <a:pt x="8682" y="3703"/>
                </a:cubicBezTo>
                <a:cubicBezTo>
                  <a:pt x="8701" y="3667"/>
                  <a:pt x="8701" y="3667"/>
                  <a:pt x="8719" y="3703"/>
                </a:cubicBezTo>
                <a:cubicBezTo>
                  <a:pt x="8719" y="3703"/>
                  <a:pt x="8738" y="3739"/>
                  <a:pt x="8757" y="3739"/>
                </a:cubicBezTo>
                <a:cubicBezTo>
                  <a:pt x="8757" y="3703"/>
                  <a:pt x="8757" y="3703"/>
                  <a:pt x="8757" y="3667"/>
                </a:cubicBezTo>
                <a:cubicBezTo>
                  <a:pt x="8795" y="3703"/>
                  <a:pt x="8833" y="3703"/>
                  <a:pt x="8852" y="3667"/>
                </a:cubicBezTo>
                <a:cubicBezTo>
                  <a:pt x="8852" y="3630"/>
                  <a:pt x="8852" y="3630"/>
                  <a:pt x="8852" y="3594"/>
                </a:cubicBezTo>
                <a:cubicBezTo>
                  <a:pt x="8871" y="3594"/>
                  <a:pt x="8890" y="3594"/>
                  <a:pt x="8890" y="3630"/>
                </a:cubicBezTo>
                <a:cubicBezTo>
                  <a:pt x="8909" y="3667"/>
                  <a:pt x="8927" y="3667"/>
                  <a:pt x="8965" y="3667"/>
                </a:cubicBezTo>
                <a:cubicBezTo>
                  <a:pt x="8965" y="3703"/>
                  <a:pt x="8965" y="3703"/>
                  <a:pt x="8965" y="3703"/>
                </a:cubicBezTo>
                <a:cubicBezTo>
                  <a:pt x="8965" y="3703"/>
                  <a:pt x="8965" y="3739"/>
                  <a:pt x="8965" y="3739"/>
                </a:cubicBezTo>
                <a:cubicBezTo>
                  <a:pt x="8965" y="3775"/>
                  <a:pt x="8965" y="3775"/>
                  <a:pt x="8984" y="3775"/>
                </a:cubicBezTo>
                <a:cubicBezTo>
                  <a:pt x="8984" y="3775"/>
                  <a:pt x="9022" y="3775"/>
                  <a:pt x="9022" y="3775"/>
                </a:cubicBezTo>
                <a:cubicBezTo>
                  <a:pt x="9041" y="3812"/>
                  <a:pt x="9022" y="3884"/>
                  <a:pt x="9022" y="3921"/>
                </a:cubicBezTo>
                <a:cubicBezTo>
                  <a:pt x="9003" y="3921"/>
                  <a:pt x="9003" y="3957"/>
                  <a:pt x="8984" y="3957"/>
                </a:cubicBezTo>
                <a:close/>
                <a:moveTo>
                  <a:pt x="7017" y="3267"/>
                </a:moveTo>
                <a:cubicBezTo>
                  <a:pt x="7017" y="3267"/>
                  <a:pt x="7017" y="3267"/>
                  <a:pt x="7017" y="3267"/>
                </a:cubicBezTo>
                <a:cubicBezTo>
                  <a:pt x="6998" y="3231"/>
                  <a:pt x="7017" y="3195"/>
                  <a:pt x="7036" y="3195"/>
                </a:cubicBezTo>
                <a:cubicBezTo>
                  <a:pt x="7036" y="3195"/>
                  <a:pt x="7036" y="3231"/>
                  <a:pt x="7017" y="3267"/>
                </a:cubicBezTo>
                <a:close/>
                <a:moveTo>
                  <a:pt x="6885" y="2795"/>
                </a:moveTo>
                <a:cubicBezTo>
                  <a:pt x="6904" y="2795"/>
                  <a:pt x="6923" y="2832"/>
                  <a:pt x="6904" y="2832"/>
                </a:cubicBezTo>
                <a:cubicBezTo>
                  <a:pt x="6885" y="2832"/>
                  <a:pt x="6885" y="2832"/>
                  <a:pt x="6885" y="2795"/>
                </a:cubicBezTo>
                <a:cubicBezTo>
                  <a:pt x="6885" y="2795"/>
                  <a:pt x="6885" y="2795"/>
                  <a:pt x="6885" y="2795"/>
                </a:cubicBezTo>
                <a:close/>
                <a:moveTo>
                  <a:pt x="6866" y="2904"/>
                </a:moveTo>
                <a:cubicBezTo>
                  <a:pt x="6866" y="2904"/>
                  <a:pt x="6866" y="2904"/>
                  <a:pt x="6866" y="2868"/>
                </a:cubicBezTo>
                <a:cubicBezTo>
                  <a:pt x="6885" y="2868"/>
                  <a:pt x="6885" y="2868"/>
                  <a:pt x="6885" y="2868"/>
                </a:cubicBezTo>
                <a:cubicBezTo>
                  <a:pt x="6885" y="2904"/>
                  <a:pt x="6904" y="2941"/>
                  <a:pt x="6885" y="2941"/>
                </a:cubicBezTo>
                <a:cubicBezTo>
                  <a:pt x="6866" y="2941"/>
                  <a:pt x="6847" y="2941"/>
                  <a:pt x="6866" y="2904"/>
                </a:cubicBezTo>
                <a:close/>
                <a:moveTo>
                  <a:pt x="8436" y="1597"/>
                </a:moveTo>
                <a:cubicBezTo>
                  <a:pt x="8417" y="1634"/>
                  <a:pt x="8398" y="1597"/>
                  <a:pt x="8379" y="1597"/>
                </a:cubicBezTo>
                <a:cubicBezTo>
                  <a:pt x="8379" y="1561"/>
                  <a:pt x="8398" y="1561"/>
                  <a:pt x="8417" y="1525"/>
                </a:cubicBezTo>
                <a:cubicBezTo>
                  <a:pt x="8436" y="1525"/>
                  <a:pt x="8436" y="1561"/>
                  <a:pt x="8455" y="1561"/>
                </a:cubicBezTo>
                <a:cubicBezTo>
                  <a:pt x="8455" y="1561"/>
                  <a:pt x="8455" y="1597"/>
                  <a:pt x="8455" y="1597"/>
                </a:cubicBezTo>
                <a:cubicBezTo>
                  <a:pt x="8436" y="1597"/>
                  <a:pt x="8436" y="1597"/>
                  <a:pt x="8436" y="1597"/>
                </a:cubicBezTo>
                <a:close/>
                <a:moveTo>
                  <a:pt x="8474" y="2432"/>
                </a:moveTo>
                <a:cubicBezTo>
                  <a:pt x="8474" y="2469"/>
                  <a:pt x="8474" y="2469"/>
                  <a:pt x="8474" y="2469"/>
                </a:cubicBezTo>
                <a:cubicBezTo>
                  <a:pt x="8474" y="2469"/>
                  <a:pt x="8455" y="2469"/>
                  <a:pt x="8455" y="2469"/>
                </a:cubicBezTo>
                <a:cubicBezTo>
                  <a:pt x="8455" y="2505"/>
                  <a:pt x="8436" y="2505"/>
                  <a:pt x="8436" y="2505"/>
                </a:cubicBezTo>
                <a:cubicBezTo>
                  <a:pt x="8436" y="2505"/>
                  <a:pt x="8436" y="2505"/>
                  <a:pt x="8436" y="2505"/>
                </a:cubicBezTo>
                <a:cubicBezTo>
                  <a:pt x="8417" y="2505"/>
                  <a:pt x="8417" y="2541"/>
                  <a:pt x="8417" y="2541"/>
                </a:cubicBezTo>
                <a:cubicBezTo>
                  <a:pt x="8398" y="2541"/>
                  <a:pt x="8379" y="2541"/>
                  <a:pt x="8379" y="2541"/>
                </a:cubicBezTo>
                <a:cubicBezTo>
                  <a:pt x="8379" y="2541"/>
                  <a:pt x="8379" y="2505"/>
                  <a:pt x="8379" y="2505"/>
                </a:cubicBezTo>
                <a:cubicBezTo>
                  <a:pt x="8398" y="2469"/>
                  <a:pt x="8398" y="2469"/>
                  <a:pt x="8398" y="2432"/>
                </a:cubicBezTo>
                <a:cubicBezTo>
                  <a:pt x="8417" y="2432"/>
                  <a:pt x="8417" y="2432"/>
                  <a:pt x="8436" y="2432"/>
                </a:cubicBezTo>
                <a:cubicBezTo>
                  <a:pt x="8436" y="2396"/>
                  <a:pt x="8455" y="2360"/>
                  <a:pt x="8474" y="2360"/>
                </a:cubicBezTo>
                <a:cubicBezTo>
                  <a:pt x="8474" y="2360"/>
                  <a:pt x="8474" y="2360"/>
                  <a:pt x="8474" y="2360"/>
                </a:cubicBezTo>
                <a:cubicBezTo>
                  <a:pt x="8474" y="2360"/>
                  <a:pt x="8511" y="2396"/>
                  <a:pt x="8511" y="2396"/>
                </a:cubicBezTo>
                <a:cubicBezTo>
                  <a:pt x="8492" y="2432"/>
                  <a:pt x="8492" y="2432"/>
                  <a:pt x="8492" y="2469"/>
                </a:cubicBezTo>
                <a:cubicBezTo>
                  <a:pt x="8492" y="2469"/>
                  <a:pt x="8474" y="2469"/>
                  <a:pt x="8474" y="2432"/>
                </a:cubicBezTo>
                <a:close/>
                <a:moveTo>
                  <a:pt x="8701" y="2469"/>
                </a:moveTo>
                <a:cubicBezTo>
                  <a:pt x="8701" y="2469"/>
                  <a:pt x="8719" y="2469"/>
                  <a:pt x="8719" y="2469"/>
                </a:cubicBezTo>
                <a:cubicBezTo>
                  <a:pt x="8719" y="2469"/>
                  <a:pt x="8719" y="2469"/>
                  <a:pt x="8719" y="2505"/>
                </a:cubicBezTo>
                <a:cubicBezTo>
                  <a:pt x="8701" y="2505"/>
                  <a:pt x="8701" y="2505"/>
                  <a:pt x="8682" y="2505"/>
                </a:cubicBezTo>
                <a:cubicBezTo>
                  <a:pt x="8682" y="2505"/>
                  <a:pt x="8682" y="2505"/>
                  <a:pt x="8682" y="2505"/>
                </a:cubicBezTo>
                <a:cubicBezTo>
                  <a:pt x="8682" y="2505"/>
                  <a:pt x="8701" y="2505"/>
                  <a:pt x="8701" y="2505"/>
                </a:cubicBezTo>
                <a:cubicBezTo>
                  <a:pt x="8701" y="2505"/>
                  <a:pt x="8701" y="2505"/>
                  <a:pt x="8701" y="2505"/>
                </a:cubicBezTo>
                <a:cubicBezTo>
                  <a:pt x="8682" y="2505"/>
                  <a:pt x="8644" y="2541"/>
                  <a:pt x="8663" y="2577"/>
                </a:cubicBezTo>
                <a:cubicBezTo>
                  <a:pt x="8663" y="2577"/>
                  <a:pt x="8663" y="2577"/>
                  <a:pt x="8682" y="2614"/>
                </a:cubicBezTo>
                <a:cubicBezTo>
                  <a:pt x="8682" y="2614"/>
                  <a:pt x="8682" y="2614"/>
                  <a:pt x="8682" y="2614"/>
                </a:cubicBezTo>
                <a:cubicBezTo>
                  <a:pt x="8663" y="2614"/>
                  <a:pt x="8663" y="2614"/>
                  <a:pt x="8644" y="2614"/>
                </a:cubicBezTo>
                <a:cubicBezTo>
                  <a:pt x="8644" y="2650"/>
                  <a:pt x="8663" y="2650"/>
                  <a:pt x="8663" y="2650"/>
                </a:cubicBezTo>
                <a:cubicBezTo>
                  <a:pt x="8663" y="2650"/>
                  <a:pt x="8644" y="2650"/>
                  <a:pt x="8625" y="2686"/>
                </a:cubicBezTo>
                <a:cubicBezTo>
                  <a:pt x="8644" y="2686"/>
                  <a:pt x="8644" y="2686"/>
                  <a:pt x="8644" y="2686"/>
                </a:cubicBezTo>
                <a:cubicBezTo>
                  <a:pt x="8644" y="2723"/>
                  <a:pt x="8625" y="2723"/>
                  <a:pt x="8625" y="2723"/>
                </a:cubicBezTo>
                <a:cubicBezTo>
                  <a:pt x="8625" y="2723"/>
                  <a:pt x="8625" y="2759"/>
                  <a:pt x="8625" y="2759"/>
                </a:cubicBezTo>
                <a:cubicBezTo>
                  <a:pt x="8625" y="2759"/>
                  <a:pt x="8625" y="2759"/>
                  <a:pt x="8625" y="2795"/>
                </a:cubicBezTo>
                <a:cubicBezTo>
                  <a:pt x="8625" y="2795"/>
                  <a:pt x="8625" y="2795"/>
                  <a:pt x="8625" y="2795"/>
                </a:cubicBezTo>
                <a:cubicBezTo>
                  <a:pt x="8606" y="2795"/>
                  <a:pt x="8606" y="2795"/>
                  <a:pt x="8606" y="2795"/>
                </a:cubicBezTo>
                <a:cubicBezTo>
                  <a:pt x="8606" y="2832"/>
                  <a:pt x="8606" y="2832"/>
                  <a:pt x="8606" y="2832"/>
                </a:cubicBezTo>
                <a:cubicBezTo>
                  <a:pt x="8625" y="2832"/>
                  <a:pt x="8606" y="2832"/>
                  <a:pt x="8587" y="2832"/>
                </a:cubicBezTo>
                <a:cubicBezTo>
                  <a:pt x="8587" y="2832"/>
                  <a:pt x="8587" y="2832"/>
                  <a:pt x="8587" y="2832"/>
                </a:cubicBezTo>
                <a:cubicBezTo>
                  <a:pt x="8587" y="2832"/>
                  <a:pt x="8587" y="2832"/>
                  <a:pt x="8587" y="2832"/>
                </a:cubicBezTo>
                <a:cubicBezTo>
                  <a:pt x="8587" y="2868"/>
                  <a:pt x="8568" y="2904"/>
                  <a:pt x="8549" y="2904"/>
                </a:cubicBezTo>
                <a:cubicBezTo>
                  <a:pt x="8549" y="2904"/>
                  <a:pt x="8549" y="2941"/>
                  <a:pt x="8530" y="2941"/>
                </a:cubicBezTo>
                <a:cubicBezTo>
                  <a:pt x="8530" y="2941"/>
                  <a:pt x="8530" y="2941"/>
                  <a:pt x="8511" y="2941"/>
                </a:cubicBezTo>
                <a:cubicBezTo>
                  <a:pt x="8511" y="2941"/>
                  <a:pt x="8492" y="2977"/>
                  <a:pt x="8492" y="2977"/>
                </a:cubicBezTo>
                <a:cubicBezTo>
                  <a:pt x="8474" y="2977"/>
                  <a:pt x="8474" y="2977"/>
                  <a:pt x="8455" y="3013"/>
                </a:cubicBezTo>
                <a:cubicBezTo>
                  <a:pt x="8455" y="3013"/>
                  <a:pt x="8455" y="3049"/>
                  <a:pt x="8455" y="3049"/>
                </a:cubicBezTo>
                <a:cubicBezTo>
                  <a:pt x="8436" y="3049"/>
                  <a:pt x="8417" y="3049"/>
                  <a:pt x="8417" y="3013"/>
                </a:cubicBezTo>
                <a:cubicBezTo>
                  <a:pt x="8417" y="3013"/>
                  <a:pt x="8417" y="3013"/>
                  <a:pt x="8417" y="3013"/>
                </a:cubicBezTo>
                <a:cubicBezTo>
                  <a:pt x="8417" y="3049"/>
                  <a:pt x="8417" y="3049"/>
                  <a:pt x="8417" y="3086"/>
                </a:cubicBezTo>
                <a:cubicBezTo>
                  <a:pt x="8417" y="3086"/>
                  <a:pt x="8417" y="3086"/>
                  <a:pt x="8398" y="3086"/>
                </a:cubicBezTo>
                <a:cubicBezTo>
                  <a:pt x="8379" y="3086"/>
                  <a:pt x="8398" y="3086"/>
                  <a:pt x="8379" y="3086"/>
                </a:cubicBezTo>
                <a:cubicBezTo>
                  <a:pt x="8379" y="3086"/>
                  <a:pt x="8398" y="3086"/>
                  <a:pt x="8398" y="3122"/>
                </a:cubicBezTo>
                <a:cubicBezTo>
                  <a:pt x="8398" y="3122"/>
                  <a:pt x="8360" y="3122"/>
                  <a:pt x="8360" y="3122"/>
                </a:cubicBezTo>
                <a:cubicBezTo>
                  <a:pt x="8341" y="3122"/>
                  <a:pt x="8341" y="3122"/>
                  <a:pt x="8322" y="3122"/>
                </a:cubicBezTo>
                <a:cubicBezTo>
                  <a:pt x="8322" y="3122"/>
                  <a:pt x="8303" y="3122"/>
                  <a:pt x="8303" y="3122"/>
                </a:cubicBezTo>
                <a:cubicBezTo>
                  <a:pt x="8284" y="3122"/>
                  <a:pt x="8265" y="3122"/>
                  <a:pt x="8247" y="3086"/>
                </a:cubicBezTo>
                <a:cubicBezTo>
                  <a:pt x="8247" y="3086"/>
                  <a:pt x="8247" y="3086"/>
                  <a:pt x="8247" y="3086"/>
                </a:cubicBezTo>
                <a:cubicBezTo>
                  <a:pt x="8247" y="3086"/>
                  <a:pt x="8247" y="3086"/>
                  <a:pt x="8247" y="3086"/>
                </a:cubicBezTo>
                <a:cubicBezTo>
                  <a:pt x="8247" y="3122"/>
                  <a:pt x="8284" y="3122"/>
                  <a:pt x="8284" y="3158"/>
                </a:cubicBezTo>
                <a:cubicBezTo>
                  <a:pt x="8284" y="3158"/>
                  <a:pt x="8284" y="3158"/>
                  <a:pt x="8265" y="3158"/>
                </a:cubicBezTo>
                <a:cubicBezTo>
                  <a:pt x="8265" y="3158"/>
                  <a:pt x="8265" y="3158"/>
                  <a:pt x="8265" y="3158"/>
                </a:cubicBezTo>
                <a:cubicBezTo>
                  <a:pt x="8284" y="3158"/>
                  <a:pt x="8284" y="3158"/>
                  <a:pt x="8284" y="3158"/>
                </a:cubicBezTo>
                <a:cubicBezTo>
                  <a:pt x="8303" y="3158"/>
                  <a:pt x="8284" y="3195"/>
                  <a:pt x="8284" y="3231"/>
                </a:cubicBezTo>
                <a:cubicBezTo>
                  <a:pt x="8284" y="3231"/>
                  <a:pt x="8284" y="3231"/>
                  <a:pt x="8284" y="3231"/>
                </a:cubicBezTo>
                <a:cubicBezTo>
                  <a:pt x="8265" y="3267"/>
                  <a:pt x="8247" y="3267"/>
                  <a:pt x="8247" y="3267"/>
                </a:cubicBezTo>
                <a:cubicBezTo>
                  <a:pt x="8247" y="3304"/>
                  <a:pt x="8247" y="3304"/>
                  <a:pt x="8247" y="3340"/>
                </a:cubicBezTo>
                <a:cubicBezTo>
                  <a:pt x="8247" y="3340"/>
                  <a:pt x="8247" y="3340"/>
                  <a:pt x="8228" y="3340"/>
                </a:cubicBezTo>
                <a:cubicBezTo>
                  <a:pt x="8228" y="3376"/>
                  <a:pt x="8228" y="3376"/>
                  <a:pt x="8247" y="3412"/>
                </a:cubicBezTo>
                <a:cubicBezTo>
                  <a:pt x="8247" y="3412"/>
                  <a:pt x="8247" y="3412"/>
                  <a:pt x="8247" y="3412"/>
                </a:cubicBezTo>
                <a:cubicBezTo>
                  <a:pt x="8247" y="3449"/>
                  <a:pt x="8247" y="3449"/>
                  <a:pt x="8228" y="3449"/>
                </a:cubicBezTo>
                <a:cubicBezTo>
                  <a:pt x="8228" y="3449"/>
                  <a:pt x="8228" y="3449"/>
                  <a:pt x="8228" y="3449"/>
                </a:cubicBezTo>
                <a:cubicBezTo>
                  <a:pt x="8247" y="3449"/>
                  <a:pt x="8247" y="3485"/>
                  <a:pt x="8247" y="3485"/>
                </a:cubicBezTo>
                <a:cubicBezTo>
                  <a:pt x="8247" y="3521"/>
                  <a:pt x="8228" y="3521"/>
                  <a:pt x="8228" y="3521"/>
                </a:cubicBezTo>
                <a:cubicBezTo>
                  <a:pt x="8228" y="3558"/>
                  <a:pt x="8228" y="3594"/>
                  <a:pt x="8209" y="3594"/>
                </a:cubicBezTo>
                <a:cubicBezTo>
                  <a:pt x="8209" y="3630"/>
                  <a:pt x="8209" y="3630"/>
                  <a:pt x="8190" y="3630"/>
                </a:cubicBezTo>
                <a:cubicBezTo>
                  <a:pt x="8190" y="3630"/>
                  <a:pt x="8190" y="3630"/>
                  <a:pt x="8190" y="3630"/>
                </a:cubicBezTo>
                <a:cubicBezTo>
                  <a:pt x="8171" y="3630"/>
                  <a:pt x="8133" y="3594"/>
                  <a:pt x="8133" y="3630"/>
                </a:cubicBezTo>
                <a:cubicBezTo>
                  <a:pt x="8133" y="3630"/>
                  <a:pt x="8152" y="3630"/>
                  <a:pt x="8152" y="3667"/>
                </a:cubicBezTo>
                <a:cubicBezTo>
                  <a:pt x="8152" y="3667"/>
                  <a:pt x="8152" y="3667"/>
                  <a:pt x="8152" y="3703"/>
                </a:cubicBezTo>
                <a:cubicBezTo>
                  <a:pt x="8152" y="3703"/>
                  <a:pt x="8152" y="3703"/>
                  <a:pt x="8152" y="3739"/>
                </a:cubicBezTo>
                <a:cubicBezTo>
                  <a:pt x="8133" y="3739"/>
                  <a:pt x="8114" y="3739"/>
                  <a:pt x="8095" y="3739"/>
                </a:cubicBezTo>
                <a:cubicBezTo>
                  <a:pt x="8095" y="3739"/>
                  <a:pt x="8095" y="3739"/>
                  <a:pt x="8095" y="3739"/>
                </a:cubicBezTo>
                <a:cubicBezTo>
                  <a:pt x="8095" y="3739"/>
                  <a:pt x="8095" y="3739"/>
                  <a:pt x="8095" y="3739"/>
                </a:cubicBezTo>
                <a:cubicBezTo>
                  <a:pt x="8095" y="3739"/>
                  <a:pt x="8095" y="3775"/>
                  <a:pt x="8076" y="3775"/>
                </a:cubicBezTo>
                <a:cubicBezTo>
                  <a:pt x="8076" y="3775"/>
                  <a:pt x="8076" y="3775"/>
                  <a:pt x="8076" y="3775"/>
                </a:cubicBezTo>
                <a:cubicBezTo>
                  <a:pt x="8076" y="3775"/>
                  <a:pt x="8057" y="3775"/>
                  <a:pt x="8057" y="3775"/>
                </a:cubicBezTo>
                <a:cubicBezTo>
                  <a:pt x="8057" y="3775"/>
                  <a:pt x="8057" y="3775"/>
                  <a:pt x="8057" y="3775"/>
                </a:cubicBezTo>
                <a:cubicBezTo>
                  <a:pt x="8057" y="3775"/>
                  <a:pt x="8057" y="3812"/>
                  <a:pt x="8039" y="3812"/>
                </a:cubicBezTo>
                <a:cubicBezTo>
                  <a:pt x="8039" y="3812"/>
                  <a:pt x="8039" y="3848"/>
                  <a:pt x="8039" y="3848"/>
                </a:cubicBezTo>
                <a:cubicBezTo>
                  <a:pt x="8039" y="3848"/>
                  <a:pt x="8039" y="3848"/>
                  <a:pt x="8039" y="3848"/>
                </a:cubicBezTo>
                <a:cubicBezTo>
                  <a:pt x="8039" y="3848"/>
                  <a:pt x="8020" y="3848"/>
                  <a:pt x="8020" y="3848"/>
                </a:cubicBezTo>
                <a:cubicBezTo>
                  <a:pt x="8001" y="3848"/>
                  <a:pt x="8020" y="3812"/>
                  <a:pt x="8020" y="3812"/>
                </a:cubicBezTo>
                <a:cubicBezTo>
                  <a:pt x="8020" y="3812"/>
                  <a:pt x="8020" y="3812"/>
                  <a:pt x="8020" y="3812"/>
                </a:cubicBezTo>
                <a:cubicBezTo>
                  <a:pt x="8020" y="3775"/>
                  <a:pt x="8020" y="3775"/>
                  <a:pt x="8020" y="3739"/>
                </a:cubicBezTo>
                <a:cubicBezTo>
                  <a:pt x="8039" y="3739"/>
                  <a:pt x="8039" y="3703"/>
                  <a:pt x="8039" y="3703"/>
                </a:cubicBezTo>
                <a:cubicBezTo>
                  <a:pt x="8020" y="3703"/>
                  <a:pt x="8001" y="3703"/>
                  <a:pt x="8001" y="3703"/>
                </a:cubicBezTo>
                <a:cubicBezTo>
                  <a:pt x="8001" y="3703"/>
                  <a:pt x="8001" y="3739"/>
                  <a:pt x="8001" y="3739"/>
                </a:cubicBezTo>
                <a:cubicBezTo>
                  <a:pt x="8001" y="3739"/>
                  <a:pt x="8001" y="3739"/>
                  <a:pt x="8001" y="3739"/>
                </a:cubicBezTo>
                <a:cubicBezTo>
                  <a:pt x="8001" y="3739"/>
                  <a:pt x="8001" y="3739"/>
                  <a:pt x="8001" y="3739"/>
                </a:cubicBezTo>
                <a:cubicBezTo>
                  <a:pt x="8001" y="3739"/>
                  <a:pt x="7982" y="3775"/>
                  <a:pt x="7982" y="3775"/>
                </a:cubicBezTo>
                <a:cubicBezTo>
                  <a:pt x="7963" y="3775"/>
                  <a:pt x="7963" y="3812"/>
                  <a:pt x="7963" y="3812"/>
                </a:cubicBezTo>
                <a:cubicBezTo>
                  <a:pt x="7963" y="3812"/>
                  <a:pt x="8020" y="3812"/>
                  <a:pt x="7982" y="3884"/>
                </a:cubicBezTo>
                <a:cubicBezTo>
                  <a:pt x="7982" y="3848"/>
                  <a:pt x="7982" y="3848"/>
                  <a:pt x="7982" y="3884"/>
                </a:cubicBezTo>
                <a:cubicBezTo>
                  <a:pt x="7982" y="3884"/>
                  <a:pt x="7982" y="3884"/>
                  <a:pt x="7963" y="3884"/>
                </a:cubicBezTo>
                <a:cubicBezTo>
                  <a:pt x="7963" y="3921"/>
                  <a:pt x="7944" y="3921"/>
                  <a:pt x="7944" y="3921"/>
                </a:cubicBezTo>
                <a:cubicBezTo>
                  <a:pt x="7925" y="3921"/>
                  <a:pt x="7925" y="3884"/>
                  <a:pt x="7925" y="3884"/>
                </a:cubicBezTo>
                <a:cubicBezTo>
                  <a:pt x="7925" y="3884"/>
                  <a:pt x="7925" y="3884"/>
                  <a:pt x="7925" y="3884"/>
                </a:cubicBezTo>
                <a:cubicBezTo>
                  <a:pt x="7925" y="3884"/>
                  <a:pt x="7906" y="3884"/>
                  <a:pt x="7906" y="3884"/>
                </a:cubicBezTo>
                <a:cubicBezTo>
                  <a:pt x="7906" y="3884"/>
                  <a:pt x="7906" y="3884"/>
                  <a:pt x="7906" y="3884"/>
                </a:cubicBezTo>
                <a:cubicBezTo>
                  <a:pt x="7906" y="3884"/>
                  <a:pt x="7906" y="3921"/>
                  <a:pt x="7925" y="3921"/>
                </a:cubicBezTo>
                <a:cubicBezTo>
                  <a:pt x="7925" y="3921"/>
                  <a:pt x="7925" y="3921"/>
                  <a:pt x="7925" y="3921"/>
                </a:cubicBezTo>
                <a:cubicBezTo>
                  <a:pt x="7906" y="3921"/>
                  <a:pt x="7906" y="3921"/>
                  <a:pt x="7906" y="3921"/>
                </a:cubicBezTo>
                <a:cubicBezTo>
                  <a:pt x="7906" y="3921"/>
                  <a:pt x="7906" y="3921"/>
                  <a:pt x="7887" y="3921"/>
                </a:cubicBezTo>
                <a:cubicBezTo>
                  <a:pt x="7887" y="3921"/>
                  <a:pt x="7887" y="3921"/>
                  <a:pt x="7887" y="3921"/>
                </a:cubicBezTo>
                <a:cubicBezTo>
                  <a:pt x="7887" y="3921"/>
                  <a:pt x="7887" y="3921"/>
                  <a:pt x="7887" y="3921"/>
                </a:cubicBezTo>
                <a:cubicBezTo>
                  <a:pt x="7887" y="3957"/>
                  <a:pt x="7887" y="3957"/>
                  <a:pt x="7849" y="3957"/>
                </a:cubicBezTo>
                <a:cubicBezTo>
                  <a:pt x="7849" y="3957"/>
                  <a:pt x="7849" y="3957"/>
                  <a:pt x="7849" y="3957"/>
                </a:cubicBezTo>
                <a:cubicBezTo>
                  <a:pt x="7849" y="3957"/>
                  <a:pt x="7849" y="3957"/>
                  <a:pt x="7849" y="3957"/>
                </a:cubicBezTo>
                <a:cubicBezTo>
                  <a:pt x="7868" y="3957"/>
                  <a:pt x="7887" y="3957"/>
                  <a:pt x="7887" y="3957"/>
                </a:cubicBezTo>
                <a:cubicBezTo>
                  <a:pt x="7906" y="3993"/>
                  <a:pt x="7906" y="4030"/>
                  <a:pt x="7887" y="4030"/>
                </a:cubicBezTo>
                <a:cubicBezTo>
                  <a:pt x="7887" y="4066"/>
                  <a:pt x="7868" y="4066"/>
                  <a:pt x="7868" y="4066"/>
                </a:cubicBezTo>
                <a:cubicBezTo>
                  <a:pt x="7830" y="4066"/>
                  <a:pt x="7849" y="4030"/>
                  <a:pt x="7793" y="4066"/>
                </a:cubicBezTo>
                <a:cubicBezTo>
                  <a:pt x="7812" y="4066"/>
                  <a:pt x="7812" y="4066"/>
                  <a:pt x="7812" y="4066"/>
                </a:cubicBezTo>
                <a:cubicBezTo>
                  <a:pt x="7812" y="4102"/>
                  <a:pt x="7830" y="4102"/>
                  <a:pt x="7849" y="4102"/>
                </a:cubicBezTo>
                <a:cubicBezTo>
                  <a:pt x="7849" y="4102"/>
                  <a:pt x="7849" y="4102"/>
                  <a:pt x="7868" y="4138"/>
                </a:cubicBezTo>
                <a:cubicBezTo>
                  <a:pt x="7868" y="4138"/>
                  <a:pt x="7868" y="4138"/>
                  <a:pt x="7868" y="4138"/>
                </a:cubicBezTo>
                <a:cubicBezTo>
                  <a:pt x="7868" y="4138"/>
                  <a:pt x="7868" y="4138"/>
                  <a:pt x="7868" y="4138"/>
                </a:cubicBezTo>
                <a:cubicBezTo>
                  <a:pt x="7868" y="4175"/>
                  <a:pt x="7868" y="4175"/>
                  <a:pt x="7868" y="4175"/>
                </a:cubicBezTo>
                <a:cubicBezTo>
                  <a:pt x="7868" y="4175"/>
                  <a:pt x="7887" y="4175"/>
                  <a:pt x="7887" y="4211"/>
                </a:cubicBezTo>
                <a:cubicBezTo>
                  <a:pt x="7868" y="4211"/>
                  <a:pt x="7868" y="4211"/>
                  <a:pt x="7849" y="4211"/>
                </a:cubicBezTo>
                <a:cubicBezTo>
                  <a:pt x="7849" y="4211"/>
                  <a:pt x="7830" y="4247"/>
                  <a:pt x="7830" y="4247"/>
                </a:cubicBezTo>
                <a:cubicBezTo>
                  <a:pt x="7812" y="4247"/>
                  <a:pt x="7812" y="4247"/>
                  <a:pt x="7793" y="4247"/>
                </a:cubicBezTo>
                <a:cubicBezTo>
                  <a:pt x="7812" y="4247"/>
                  <a:pt x="7830" y="4284"/>
                  <a:pt x="7830" y="4284"/>
                </a:cubicBezTo>
                <a:cubicBezTo>
                  <a:pt x="7830" y="4284"/>
                  <a:pt x="7849" y="4284"/>
                  <a:pt x="7849" y="4284"/>
                </a:cubicBezTo>
                <a:cubicBezTo>
                  <a:pt x="7849" y="4284"/>
                  <a:pt x="7849" y="4284"/>
                  <a:pt x="7849" y="4284"/>
                </a:cubicBezTo>
                <a:cubicBezTo>
                  <a:pt x="7868" y="4284"/>
                  <a:pt x="7868" y="4320"/>
                  <a:pt x="7868" y="4320"/>
                </a:cubicBezTo>
                <a:cubicBezTo>
                  <a:pt x="7887" y="4320"/>
                  <a:pt x="7887" y="4320"/>
                  <a:pt x="7887" y="4356"/>
                </a:cubicBezTo>
                <a:cubicBezTo>
                  <a:pt x="7887" y="4356"/>
                  <a:pt x="7868" y="4356"/>
                  <a:pt x="7868" y="4356"/>
                </a:cubicBezTo>
                <a:cubicBezTo>
                  <a:pt x="7849" y="4356"/>
                  <a:pt x="7849" y="4356"/>
                  <a:pt x="7830" y="4356"/>
                </a:cubicBezTo>
                <a:cubicBezTo>
                  <a:pt x="7830" y="4356"/>
                  <a:pt x="7812" y="4356"/>
                  <a:pt x="7812" y="4356"/>
                </a:cubicBezTo>
                <a:cubicBezTo>
                  <a:pt x="7812" y="4356"/>
                  <a:pt x="7812" y="4356"/>
                  <a:pt x="7812" y="4356"/>
                </a:cubicBezTo>
                <a:cubicBezTo>
                  <a:pt x="7812" y="4356"/>
                  <a:pt x="7812" y="4356"/>
                  <a:pt x="7830" y="4356"/>
                </a:cubicBezTo>
                <a:cubicBezTo>
                  <a:pt x="7830" y="4356"/>
                  <a:pt x="7830" y="4356"/>
                  <a:pt x="7830" y="4356"/>
                </a:cubicBezTo>
                <a:cubicBezTo>
                  <a:pt x="7849" y="4356"/>
                  <a:pt x="7868" y="4393"/>
                  <a:pt x="7868" y="4356"/>
                </a:cubicBezTo>
                <a:cubicBezTo>
                  <a:pt x="7868" y="4393"/>
                  <a:pt x="7887" y="4393"/>
                  <a:pt x="7868" y="4393"/>
                </a:cubicBezTo>
                <a:cubicBezTo>
                  <a:pt x="7868" y="4393"/>
                  <a:pt x="7868" y="4393"/>
                  <a:pt x="7849" y="4393"/>
                </a:cubicBezTo>
                <a:cubicBezTo>
                  <a:pt x="7849" y="4393"/>
                  <a:pt x="7849" y="4429"/>
                  <a:pt x="7849" y="4429"/>
                </a:cubicBezTo>
                <a:cubicBezTo>
                  <a:pt x="7849" y="4429"/>
                  <a:pt x="7830" y="4429"/>
                  <a:pt x="7830" y="4429"/>
                </a:cubicBezTo>
                <a:cubicBezTo>
                  <a:pt x="7830" y="4429"/>
                  <a:pt x="7830" y="4429"/>
                  <a:pt x="7830" y="4429"/>
                </a:cubicBezTo>
                <a:cubicBezTo>
                  <a:pt x="7830" y="4429"/>
                  <a:pt x="7830" y="4429"/>
                  <a:pt x="7849" y="4465"/>
                </a:cubicBezTo>
                <a:cubicBezTo>
                  <a:pt x="7849" y="4465"/>
                  <a:pt x="7849" y="4465"/>
                  <a:pt x="7830" y="4465"/>
                </a:cubicBezTo>
                <a:cubicBezTo>
                  <a:pt x="7830" y="4465"/>
                  <a:pt x="7830" y="4465"/>
                  <a:pt x="7812" y="4465"/>
                </a:cubicBezTo>
                <a:cubicBezTo>
                  <a:pt x="7812" y="4465"/>
                  <a:pt x="7812" y="4465"/>
                  <a:pt x="7812" y="4465"/>
                </a:cubicBezTo>
                <a:cubicBezTo>
                  <a:pt x="7812" y="4465"/>
                  <a:pt x="7830" y="4502"/>
                  <a:pt x="7830" y="4502"/>
                </a:cubicBezTo>
                <a:cubicBezTo>
                  <a:pt x="7830" y="4502"/>
                  <a:pt x="7830" y="4502"/>
                  <a:pt x="7830" y="4502"/>
                </a:cubicBezTo>
                <a:cubicBezTo>
                  <a:pt x="7830" y="4502"/>
                  <a:pt x="7830" y="4502"/>
                  <a:pt x="7830" y="4502"/>
                </a:cubicBezTo>
                <a:cubicBezTo>
                  <a:pt x="7830" y="4502"/>
                  <a:pt x="7793" y="4502"/>
                  <a:pt x="7793" y="4502"/>
                </a:cubicBezTo>
                <a:cubicBezTo>
                  <a:pt x="7793" y="4502"/>
                  <a:pt x="7793" y="4502"/>
                  <a:pt x="7793" y="4502"/>
                </a:cubicBezTo>
                <a:cubicBezTo>
                  <a:pt x="7774" y="4502"/>
                  <a:pt x="7793" y="4538"/>
                  <a:pt x="7812" y="4538"/>
                </a:cubicBezTo>
                <a:cubicBezTo>
                  <a:pt x="7812" y="4538"/>
                  <a:pt x="7812" y="4538"/>
                  <a:pt x="7812" y="4574"/>
                </a:cubicBezTo>
                <a:cubicBezTo>
                  <a:pt x="7812" y="4574"/>
                  <a:pt x="7812" y="4574"/>
                  <a:pt x="7812" y="4574"/>
                </a:cubicBezTo>
                <a:cubicBezTo>
                  <a:pt x="7812" y="4574"/>
                  <a:pt x="7793" y="4574"/>
                  <a:pt x="7793" y="4574"/>
                </a:cubicBezTo>
                <a:cubicBezTo>
                  <a:pt x="7774" y="4610"/>
                  <a:pt x="7774" y="4610"/>
                  <a:pt x="7755" y="4610"/>
                </a:cubicBezTo>
                <a:cubicBezTo>
                  <a:pt x="7755" y="4647"/>
                  <a:pt x="7755" y="4647"/>
                  <a:pt x="7774" y="4647"/>
                </a:cubicBezTo>
                <a:cubicBezTo>
                  <a:pt x="7774" y="4683"/>
                  <a:pt x="7793" y="4683"/>
                  <a:pt x="7793" y="4683"/>
                </a:cubicBezTo>
                <a:cubicBezTo>
                  <a:pt x="7793" y="4683"/>
                  <a:pt x="7793" y="4683"/>
                  <a:pt x="7793" y="4683"/>
                </a:cubicBezTo>
                <a:cubicBezTo>
                  <a:pt x="7793" y="4683"/>
                  <a:pt x="7793" y="4683"/>
                  <a:pt x="7793" y="4683"/>
                </a:cubicBezTo>
                <a:cubicBezTo>
                  <a:pt x="7774" y="4683"/>
                  <a:pt x="7755" y="4683"/>
                  <a:pt x="7736" y="4683"/>
                </a:cubicBezTo>
                <a:cubicBezTo>
                  <a:pt x="7755" y="4683"/>
                  <a:pt x="7774" y="4719"/>
                  <a:pt x="7793" y="4719"/>
                </a:cubicBezTo>
                <a:cubicBezTo>
                  <a:pt x="7793" y="4756"/>
                  <a:pt x="7812" y="4756"/>
                  <a:pt x="7812" y="4792"/>
                </a:cubicBezTo>
                <a:cubicBezTo>
                  <a:pt x="7812" y="4792"/>
                  <a:pt x="7812" y="4828"/>
                  <a:pt x="7793" y="4828"/>
                </a:cubicBezTo>
                <a:cubicBezTo>
                  <a:pt x="7793" y="4828"/>
                  <a:pt x="7793" y="4828"/>
                  <a:pt x="7793" y="4828"/>
                </a:cubicBezTo>
                <a:cubicBezTo>
                  <a:pt x="7793" y="4828"/>
                  <a:pt x="7812" y="4828"/>
                  <a:pt x="7812" y="4828"/>
                </a:cubicBezTo>
                <a:cubicBezTo>
                  <a:pt x="7812" y="4828"/>
                  <a:pt x="7812" y="4828"/>
                  <a:pt x="7812" y="4828"/>
                </a:cubicBezTo>
                <a:cubicBezTo>
                  <a:pt x="7793" y="4865"/>
                  <a:pt x="7812" y="4865"/>
                  <a:pt x="7793" y="4865"/>
                </a:cubicBezTo>
                <a:cubicBezTo>
                  <a:pt x="7793" y="4901"/>
                  <a:pt x="7793" y="4901"/>
                  <a:pt x="7793" y="4937"/>
                </a:cubicBezTo>
                <a:cubicBezTo>
                  <a:pt x="7793" y="4937"/>
                  <a:pt x="7793" y="4937"/>
                  <a:pt x="7793" y="4937"/>
                </a:cubicBezTo>
                <a:cubicBezTo>
                  <a:pt x="7774" y="4901"/>
                  <a:pt x="7755" y="4901"/>
                  <a:pt x="7736" y="4937"/>
                </a:cubicBezTo>
                <a:cubicBezTo>
                  <a:pt x="7736" y="4937"/>
                  <a:pt x="7736" y="4937"/>
                  <a:pt x="7736" y="4937"/>
                </a:cubicBezTo>
                <a:cubicBezTo>
                  <a:pt x="7755" y="4973"/>
                  <a:pt x="7774" y="4937"/>
                  <a:pt x="7793" y="4973"/>
                </a:cubicBezTo>
                <a:cubicBezTo>
                  <a:pt x="7793" y="4973"/>
                  <a:pt x="7793" y="4973"/>
                  <a:pt x="7793" y="4973"/>
                </a:cubicBezTo>
                <a:cubicBezTo>
                  <a:pt x="7774" y="4973"/>
                  <a:pt x="7774" y="5010"/>
                  <a:pt x="7774" y="5010"/>
                </a:cubicBezTo>
                <a:cubicBezTo>
                  <a:pt x="7774" y="5010"/>
                  <a:pt x="7755" y="5010"/>
                  <a:pt x="7755" y="5046"/>
                </a:cubicBezTo>
                <a:cubicBezTo>
                  <a:pt x="7755" y="5046"/>
                  <a:pt x="7755" y="5046"/>
                  <a:pt x="7755" y="5046"/>
                </a:cubicBezTo>
                <a:cubicBezTo>
                  <a:pt x="7755" y="5046"/>
                  <a:pt x="7774" y="5046"/>
                  <a:pt x="7774" y="5046"/>
                </a:cubicBezTo>
                <a:cubicBezTo>
                  <a:pt x="7755" y="5046"/>
                  <a:pt x="7755" y="5046"/>
                  <a:pt x="7736" y="5046"/>
                </a:cubicBezTo>
                <a:cubicBezTo>
                  <a:pt x="7736" y="5082"/>
                  <a:pt x="7755" y="5082"/>
                  <a:pt x="7755" y="5082"/>
                </a:cubicBezTo>
                <a:cubicBezTo>
                  <a:pt x="7774" y="5082"/>
                  <a:pt x="7774" y="5082"/>
                  <a:pt x="7793" y="5082"/>
                </a:cubicBezTo>
                <a:cubicBezTo>
                  <a:pt x="7793" y="5082"/>
                  <a:pt x="7793" y="5082"/>
                  <a:pt x="7793" y="5082"/>
                </a:cubicBezTo>
                <a:cubicBezTo>
                  <a:pt x="7793" y="5082"/>
                  <a:pt x="7736" y="5119"/>
                  <a:pt x="7717" y="5155"/>
                </a:cubicBezTo>
                <a:cubicBezTo>
                  <a:pt x="7717" y="5155"/>
                  <a:pt x="7736" y="5155"/>
                  <a:pt x="7755" y="5155"/>
                </a:cubicBezTo>
                <a:cubicBezTo>
                  <a:pt x="7755" y="5155"/>
                  <a:pt x="7755" y="5155"/>
                  <a:pt x="7774" y="5155"/>
                </a:cubicBezTo>
                <a:cubicBezTo>
                  <a:pt x="7755" y="5155"/>
                  <a:pt x="7793" y="5155"/>
                  <a:pt x="7774" y="5191"/>
                </a:cubicBezTo>
                <a:cubicBezTo>
                  <a:pt x="7774" y="5191"/>
                  <a:pt x="7774" y="5191"/>
                  <a:pt x="7774" y="5191"/>
                </a:cubicBezTo>
                <a:cubicBezTo>
                  <a:pt x="7774" y="5228"/>
                  <a:pt x="7755" y="5191"/>
                  <a:pt x="7755" y="5191"/>
                </a:cubicBezTo>
                <a:cubicBezTo>
                  <a:pt x="7736" y="5191"/>
                  <a:pt x="7736" y="5191"/>
                  <a:pt x="7717" y="5191"/>
                </a:cubicBezTo>
                <a:cubicBezTo>
                  <a:pt x="7717" y="5191"/>
                  <a:pt x="7698" y="5191"/>
                  <a:pt x="7679" y="5191"/>
                </a:cubicBezTo>
                <a:cubicBezTo>
                  <a:pt x="7660" y="5191"/>
                  <a:pt x="7660" y="5228"/>
                  <a:pt x="7660" y="5264"/>
                </a:cubicBezTo>
                <a:cubicBezTo>
                  <a:pt x="7660" y="5264"/>
                  <a:pt x="7660" y="5264"/>
                  <a:pt x="7660" y="5264"/>
                </a:cubicBezTo>
                <a:cubicBezTo>
                  <a:pt x="7641" y="5264"/>
                  <a:pt x="7641" y="5228"/>
                  <a:pt x="7641" y="5228"/>
                </a:cubicBezTo>
                <a:cubicBezTo>
                  <a:pt x="7622" y="5228"/>
                  <a:pt x="7604" y="5264"/>
                  <a:pt x="7604" y="5264"/>
                </a:cubicBezTo>
                <a:cubicBezTo>
                  <a:pt x="7585" y="5228"/>
                  <a:pt x="7622" y="5191"/>
                  <a:pt x="7604" y="5191"/>
                </a:cubicBezTo>
                <a:cubicBezTo>
                  <a:pt x="7604" y="5191"/>
                  <a:pt x="7604" y="5191"/>
                  <a:pt x="7604" y="5191"/>
                </a:cubicBezTo>
                <a:cubicBezTo>
                  <a:pt x="7622" y="5155"/>
                  <a:pt x="7622" y="5155"/>
                  <a:pt x="7622" y="5119"/>
                </a:cubicBezTo>
                <a:cubicBezTo>
                  <a:pt x="7622" y="5119"/>
                  <a:pt x="7604" y="5155"/>
                  <a:pt x="7604" y="5155"/>
                </a:cubicBezTo>
                <a:cubicBezTo>
                  <a:pt x="7604" y="5155"/>
                  <a:pt x="7604" y="5191"/>
                  <a:pt x="7585" y="5191"/>
                </a:cubicBezTo>
                <a:cubicBezTo>
                  <a:pt x="7585" y="5155"/>
                  <a:pt x="7585" y="5155"/>
                  <a:pt x="7585" y="5119"/>
                </a:cubicBezTo>
                <a:cubicBezTo>
                  <a:pt x="7585" y="5119"/>
                  <a:pt x="7585" y="5119"/>
                  <a:pt x="7566" y="5119"/>
                </a:cubicBezTo>
                <a:cubicBezTo>
                  <a:pt x="7566" y="5119"/>
                  <a:pt x="7566" y="5155"/>
                  <a:pt x="7547" y="5155"/>
                </a:cubicBezTo>
                <a:cubicBezTo>
                  <a:pt x="7547" y="5155"/>
                  <a:pt x="7547" y="5155"/>
                  <a:pt x="7547" y="5155"/>
                </a:cubicBezTo>
                <a:cubicBezTo>
                  <a:pt x="7547" y="5155"/>
                  <a:pt x="7547" y="5155"/>
                  <a:pt x="7547" y="5155"/>
                </a:cubicBezTo>
                <a:cubicBezTo>
                  <a:pt x="7528" y="5155"/>
                  <a:pt x="7528" y="5155"/>
                  <a:pt x="7528" y="5155"/>
                </a:cubicBezTo>
                <a:cubicBezTo>
                  <a:pt x="7528" y="5155"/>
                  <a:pt x="7528" y="5155"/>
                  <a:pt x="7528" y="5155"/>
                </a:cubicBezTo>
                <a:cubicBezTo>
                  <a:pt x="7528" y="5155"/>
                  <a:pt x="7547" y="5119"/>
                  <a:pt x="7547" y="5119"/>
                </a:cubicBezTo>
                <a:cubicBezTo>
                  <a:pt x="7547" y="5119"/>
                  <a:pt x="7547" y="5119"/>
                  <a:pt x="7547" y="5119"/>
                </a:cubicBezTo>
                <a:cubicBezTo>
                  <a:pt x="7566" y="5082"/>
                  <a:pt x="7566" y="5082"/>
                  <a:pt x="7566" y="5082"/>
                </a:cubicBezTo>
                <a:cubicBezTo>
                  <a:pt x="7566" y="5082"/>
                  <a:pt x="7566" y="5046"/>
                  <a:pt x="7566" y="5046"/>
                </a:cubicBezTo>
                <a:cubicBezTo>
                  <a:pt x="7566" y="5046"/>
                  <a:pt x="7547" y="5046"/>
                  <a:pt x="7547" y="5046"/>
                </a:cubicBezTo>
                <a:cubicBezTo>
                  <a:pt x="7547" y="5046"/>
                  <a:pt x="7547" y="5046"/>
                  <a:pt x="7547" y="5046"/>
                </a:cubicBezTo>
                <a:cubicBezTo>
                  <a:pt x="7528" y="5046"/>
                  <a:pt x="7528" y="5046"/>
                  <a:pt x="7528" y="5046"/>
                </a:cubicBezTo>
                <a:cubicBezTo>
                  <a:pt x="7509" y="5082"/>
                  <a:pt x="7509" y="5082"/>
                  <a:pt x="7509" y="5082"/>
                </a:cubicBezTo>
                <a:cubicBezTo>
                  <a:pt x="7509" y="5082"/>
                  <a:pt x="7528" y="5046"/>
                  <a:pt x="7528" y="5046"/>
                </a:cubicBezTo>
                <a:cubicBezTo>
                  <a:pt x="7528" y="5010"/>
                  <a:pt x="7528" y="5010"/>
                  <a:pt x="7528" y="5010"/>
                </a:cubicBezTo>
                <a:cubicBezTo>
                  <a:pt x="7528" y="5010"/>
                  <a:pt x="7528" y="5010"/>
                  <a:pt x="7509" y="5010"/>
                </a:cubicBezTo>
                <a:cubicBezTo>
                  <a:pt x="7490" y="5010"/>
                  <a:pt x="7490" y="5010"/>
                  <a:pt x="7509" y="5046"/>
                </a:cubicBezTo>
                <a:cubicBezTo>
                  <a:pt x="7509" y="5046"/>
                  <a:pt x="7490" y="5046"/>
                  <a:pt x="7490" y="5046"/>
                </a:cubicBezTo>
                <a:cubicBezTo>
                  <a:pt x="7490" y="5082"/>
                  <a:pt x="7471" y="5082"/>
                  <a:pt x="7471" y="5082"/>
                </a:cubicBezTo>
                <a:cubicBezTo>
                  <a:pt x="7452" y="5082"/>
                  <a:pt x="7452" y="5082"/>
                  <a:pt x="7433" y="5082"/>
                </a:cubicBezTo>
                <a:cubicBezTo>
                  <a:pt x="7433" y="5119"/>
                  <a:pt x="7433" y="5082"/>
                  <a:pt x="7414" y="5082"/>
                </a:cubicBezTo>
                <a:cubicBezTo>
                  <a:pt x="7414" y="5082"/>
                  <a:pt x="7414" y="5082"/>
                  <a:pt x="7414" y="5082"/>
                </a:cubicBezTo>
                <a:cubicBezTo>
                  <a:pt x="7414" y="5082"/>
                  <a:pt x="7414" y="5082"/>
                  <a:pt x="7414" y="5082"/>
                </a:cubicBezTo>
                <a:cubicBezTo>
                  <a:pt x="7414" y="5082"/>
                  <a:pt x="7414" y="5082"/>
                  <a:pt x="7414" y="5082"/>
                </a:cubicBezTo>
                <a:cubicBezTo>
                  <a:pt x="7414" y="5082"/>
                  <a:pt x="7414" y="5082"/>
                  <a:pt x="7414" y="5082"/>
                </a:cubicBezTo>
                <a:cubicBezTo>
                  <a:pt x="7414" y="5082"/>
                  <a:pt x="7414" y="5119"/>
                  <a:pt x="7414" y="5119"/>
                </a:cubicBezTo>
                <a:cubicBezTo>
                  <a:pt x="7395" y="5119"/>
                  <a:pt x="7395" y="5119"/>
                  <a:pt x="7395" y="5119"/>
                </a:cubicBezTo>
                <a:cubicBezTo>
                  <a:pt x="7395" y="5119"/>
                  <a:pt x="7395" y="5119"/>
                  <a:pt x="7395" y="5119"/>
                </a:cubicBezTo>
                <a:cubicBezTo>
                  <a:pt x="7395" y="5119"/>
                  <a:pt x="7395" y="5119"/>
                  <a:pt x="7395" y="5119"/>
                </a:cubicBezTo>
                <a:cubicBezTo>
                  <a:pt x="7377" y="5155"/>
                  <a:pt x="7339" y="5155"/>
                  <a:pt x="7339" y="5119"/>
                </a:cubicBezTo>
                <a:cubicBezTo>
                  <a:pt x="7339" y="5119"/>
                  <a:pt x="7358" y="5119"/>
                  <a:pt x="7358" y="5119"/>
                </a:cubicBezTo>
                <a:cubicBezTo>
                  <a:pt x="7358" y="5082"/>
                  <a:pt x="7358" y="5082"/>
                  <a:pt x="7358" y="5082"/>
                </a:cubicBezTo>
                <a:cubicBezTo>
                  <a:pt x="7358" y="5082"/>
                  <a:pt x="7358" y="5082"/>
                  <a:pt x="7339" y="5082"/>
                </a:cubicBezTo>
                <a:cubicBezTo>
                  <a:pt x="7339" y="5082"/>
                  <a:pt x="7339" y="5082"/>
                  <a:pt x="7320" y="5082"/>
                </a:cubicBezTo>
                <a:cubicBezTo>
                  <a:pt x="7320" y="5082"/>
                  <a:pt x="7320" y="5082"/>
                  <a:pt x="7320" y="5082"/>
                </a:cubicBezTo>
                <a:cubicBezTo>
                  <a:pt x="7320" y="5082"/>
                  <a:pt x="7339" y="5046"/>
                  <a:pt x="7320" y="5046"/>
                </a:cubicBezTo>
                <a:cubicBezTo>
                  <a:pt x="7320" y="5010"/>
                  <a:pt x="7282" y="5046"/>
                  <a:pt x="7263" y="5010"/>
                </a:cubicBezTo>
                <a:cubicBezTo>
                  <a:pt x="7282" y="5010"/>
                  <a:pt x="7301" y="5010"/>
                  <a:pt x="7301" y="5010"/>
                </a:cubicBezTo>
                <a:cubicBezTo>
                  <a:pt x="7301" y="5010"/>
                  <a:pt x="7301" y="5010"/>
                  <a:pt x="7301" y="5010"/>
                </a:cubicBezTo>
                <a:cubicBezTo>
                  <a:pt x="7282" y="4973"/>
                  <a:pt x="7282" y="5010"/>
                  <a:pt x="7263" y="5010"/>
                </a:cubicBezTo>
                <a:cubicBezTo>
                  <a:pt x="7263" y="5010"/>
                  <a:pt x="7263" y="5010"/>
                  <a:pt x="7263" y="5010"/>
                </a:cubicBezTo>
                <a:cubicBezTo>
                  <a:pt x="7263" y="5010"/>
                  <a:pt x="7263" y="5010"/>
                  <a:pt x="7263" y="5010"/>
                </a:cubicBezTo>
                <a:cubicBezTo>
                  <a:pt x="7244" y="5046"/>
                  <a:pt x="7225" y="5010"/>
                  <a:pt x="7206" y="5010"/>
                </a:cubicBezTo>
                <a:cubicBezTo>
                  <a:pt x="7225" y="5010"/>
                  <a:pt x="7225" y="5010"/>
                  <a:pt x="7225" y="4973"/>
                </a:cubicBezTo>
                <a:cubicBezTo>
                  <a:pt x="7225" y="4973"/>
                  <a:pt x="7225" y="4973"/>
                  <a:pt x="7225" y="4973"/>
                </a:cubicBezTo>
                <a:cubicBezTo>
                  <a:pt x="7225" y="4937"/>
                  <a:pt x="7244" y="4937"/>
                  <a:pt x="7244" y="4901"/>
                </a:cubicBezTo>
                <a:cubicBezTo>
                  <a:pt x="7225" y="4901"/>
                  <a:pt x="7225" y="4937"/>
                  <a:pt x="7206" y="4937"/>
                </a:cubicBezTo>
                <a:cubicBezTo>
                  <a:pt x="7206" y="4937"/>
                  <a:pt x="7206" y="4937"/>
                  <a:pt x="7225" y="4901"/>
                </a:cubicBezTo>
                <a:cubicBezTo>
                  <a:pt x="7225" y="4901"/>
                  <a:pt x="7225" y="4901"/>
                  <a:pt x="7225" y="4901"/>
                </a:cubicBezTo>
                <a:cubicBezTo>
                  <a:pt x="7225" y="4901"/>
                  <a:pt x="7225" y="4901"/>
                  <a:pt x="7225" y="4901"/>
                </a:cubicBezTo>
                <a:cubicBezTo>
                  <a:pt x="7225" y="4901"/>
                  <a:pt x="7206" y="4901"/>
                  <a:pt x="7206" y="4901"/>
                </a:cubicBezTo>
                <a:cubicBezTo>
                  <a:pt x="7206" y="4901"/>
                  <a:pt x="7187" y="4901"/>
                  <a:pt x="7187" y="4901"/>
                </a:cubicBezTo>
                <a:cubicBezTo>
                  <a:pt x="7187" y="4901"/>
                  <a:pt x="7187" y="4901"/>
                  <a:pt x="7187" y="4901"/>
                </a:cubicBezTo>
                <a:cubicBezTo>
                  <a:pt x="7206" y="4901"/>
                  <a:pt x="7206" y="4865"/>
                  <a:pt x="7206" y="4865"/>
                </a:cubicBezTo>
                <a:cubicBezTo>
                  <a:pt x="7206" y="4865"/>
                  <a:pt x="7206" y="4865"/>
                  <a:pt x="7206" y="4865"/>
                </a:cubicBezTo>
                <a:cubicBezTo>
                  <a:pt x="7187" y="4865"/>
                  <a:pt x="7187" y="4865"/>
                  <a:pt x="7168" y="4828"/>
                </a:cubicBezTo>
                <a:cubicBezTo>
                  <a:pt x="7168" y="4828"/>
                  <a:pt x="7150" y="4828"/>
                  <a:pt x="7150" y="4828"/>
                </a:cubicBezTo>
                <a:cubicBezTo>
                  <a:pt x="7131" y="4828"/>
                  <a:pt x="7112" y="4828"/>
                  <a:pt x="7131" y="4792"/>
                </a:cubicBezTo>
                <a:cubicBezTo>
                  <a:pt x="7131" y="4756"/>
                  <a:pt x="7150" y="4756"/>
                  <a:pt x="7150" y="4719"/>
                </a:cubicBezTo>
                <a:cubicBezTo>
                  <a:pt x="7150" y="4719"/>
                  <a:pt x="7168" y="4683"/>
                  <a:pt x="7168" y="4683"/>
                </a:cubicBezTo>
                <a:cubicBezTo>
                  <a:pt x="7168" y="4683"/>
                  <a:pt x="7150" y="4683"/>
                  <a:pt x="7150" y="4683"/>
                </a:cubicBezTo>
                <a:cubicBezTo>
                  <a:pt x="7150" y="4683"/>
                  <a:pt x="7131" y="4719"/>
                  <a:pt x="7112" y="4756"/>
                </a:cubicBezTo>
                <a:cubicBezTo>
                  <a:pt x="7112" y="4719"/>
                  <a:pt x="7112" y="4719"/>
                  <a:pt x="7112" y="4719"/>
                </a:cubicBezTo>
                <a:cubicBezTo>
                  <a:pt x="7112" y="4719"/>
                  <a:pt x="7112" y="4719"/>
                  <a:pt x="7131" y="4719"/>
                </a:cubicBezTo>
                <a:cubicBezTo>
                  <a:pt x="7112" y="4719"/>
                  <a:pt x="7112" y="4719"/>
                  <a:pt x="7112" y="4719"/>
                </a:cubicBezTo>
                <a:cubicBezTo>
                  <a:pt x="7112" y="4683"/>
                  <a:pt x="7112" y="4719"/>
                  <a:pt x="7093" y="4719"/>
                </a:cubicBezTo>
                <a:cubicBezTo>
                  <a:pt x="7074" y="4683"/>
                  <a:pt x="7112" y="4683"/>
                  <a:pt x="7112" y="4647"/>
                </a:cubicBezTo>
                <a:cubicBezTo>
                  <a:pt x="7112" y="4647"/>
                  <a:pt x="7093" y="4610"/>
                  <a:pt x="7093" y="4610"/>
                </a:cubicBezTo>
                <a:cubicBezTo>
                  <a:pt x="7074" y="4610"/>
                  <a:pt x="7055" y="4647"/>
                  <a:pt x="7055" y="4647"/>
                </a:cubicBezTo>
                <a:cubicBezTo>
                  <a:pt x="7055" y="4647"/>
                  <a:pt x="7055" y="4610"/>
                  <a:pt x="7055" y="4610"/>
                </a:cubicBezTo>
                <a:cubicBezTo>
                  <a:pt x="7055" y="4610"/>
                  <a:pt x="7074" y="4574"/>
                  <a:pt x="7093" y="4574"/>
                </a:cubicBezTo>
                <a:cubicBezTo>
                  <a:pt x="7074" y="4574"/>
                  <a:pt x="7074" y="4574"/>
                  <a:pt x="7074" y="4574"/>
                </a:cubicBezTo>
                <a:cubicBezTo>
                  <a:pt x="7055" y="4574"/>
                  <a:pt x="7036" y="4610"/>
                  <a:pt x="7036" y="4610"/>
                </a:cubicBezTo>
                <a:cubicBezTo>
                  <a:pt x="7017" y="4574"/>
                  <a:pt x="7036" y="4574"/>
                  <a:pt x="7017" y="4538"/>
                </a:cubicBezTo>
                <a:cubicBezTo>
                  <a:pt x="7017" y="4538"/>
                  <a:pt x="7017" y="4538"/>
                  <a:pt x="7017" y="4538"/>
                </a:cubicBezTo>
                <a:cubicBezTo>
                  <a:pt x="7017" y="4538"/>
                  <a:pt x="7036" y="4538"/>
                  <a:pt x="7036" y="4538"/>
                </a:cubicBezTo>
                <a:cubicBezTo>
                  <a:pt x="7036" y="4538"/>
                  <a:pt x="7036" y="4538"/>
                  <a:pt x="7036" y="4538"/>
                </a:cubicBezTo>
                <a:cubicBezTo>
                  <a:pt x="7036" y="4538"/>
                  <a:pt x="7036" y="4538"/>
                  <a:pt x="7036" y="4538"/>
                </a:cubicBezTo>
                <a:cubicBezTo>
                  <a:pt x="7017" y="4502"/>
                  <a:pt x="7017" y="4502"/>
                  <a:pt x="7017" y="4502"/>
                </a:cubicBezTo>
                <a:cubicBezTo>
                  <a:pt x="7017" y="4502"/>
                  <a:pt x="7036" y="4465"/>
                  <a:pt x="7036" y="4465"/>
                </a:cubicBezTo>
                <a:cubicBezTo>
                  <a:pt x="7055" y="4465"/>
                  <a:pt x="7074" y="4465"/>
                  <a:pt x="7093" y="4429"/>
                </a:cubicBezTo>
                <a:cubicBezTo>
                  <a:pt x="7112" y="4429"/>
                  <a:pt x="7112" y="4429"/>
                  <a:pt x="7112" y="4429"/>
                </a:cubicBezTo>
                <a:cubicBezTo>
                  <a:pt x="7112" y="4429"/>
                  <a:pt x="7112" y="4429"/>
                  <a:pt x="7112" y="4393"/>
                </a:cubicBezTo>
                <a:cubicBezTo>
                  <a:pt x="7093" y="4393"/>
                  <a:pt x="7093" y="4429"/>
                  <a:pt x="7093" y="4429"/>
                </a:cubicBezTo>
                <a:cubicBezTo>
                  <a:pt x="7074" y="4429"/>
                  <a:pt x="7055" y="4429"/>
                  <a:pt x="7036" y="4465"/>
                </a:cubicBezTo>
                <a:cubicBezTo>
                  <a:pt x="7017" y="4465"/>
                  <a:pt x="6998" y="4465"/>
                  <a:pt x="6998" y="4465"/>
                </a:cubicBezTo>
                <a:cubicBezTo>
                  <a:pt x="6998" y="4465"/>
                  <a:pt x="7017" y="4429"/>
                  <a:pt x="7017" y="4429"/>
                </a:cubicBezTo>
                <a:cubicBezTo>
                  <a:pt x="7036" y="4429"/>
                  <a:pt x="7055" y="4429"/>
                  <a:pt x="7055" y="4393"/>
                </a:cubicBezTo>
                <a:cubicBezTo>
                  <a:pt x="7074" y="4393"/>
                  <a:pt x="7074" y="4393"/>
                  <a:pt x="7074" y="4393"/>
                </a:cubicBezTo>
                <a:cubicBezTo>
                  <a:pt x="7074" y="4356"/>
                  <a:pt x="7074" y="4356"/>
                  <a:pt x="7074" y="4356"/>
                </a:cubicBezTo>
                <a:cubicBezTo>
                  <a:pt x="7074" y="4356"/>
                  <a:pt x="7074" y="4356"/>
                  <a:pt x="7074" y="4356"/>
                </a:cubicBezTo>
                <a:cubicBezTo>
                  <a:pt x="7074" y="4356"/>
                  <a:pt x="7093" y="4320"/>
                  <a:pt x="7093" y="4320"/>
                </a:cubicBezTo>
                <a:cubicBezTo>
                  <a:pt x="7112" y="4320"/>
                  <a:pt x="7112" y="4356"/>
                  <a:pt x="7112" y="4356"/>
                </a:cubicBezTo>
                <a:cubicBezTo>
                  <a:pt x="7131" y="4393"/>
                  <a:pt x="7150" y="4393"/>
                  <a:pt x="7168" y="4393"/>
                </a:cubicBezTo>
                <a:cubicBezTo>
                  <a:pt x="7168" y="4393"/>
                  <a:pt x="7168" y="4393"/>
                  <a:pt x="7168" y="4393"/>
                </a:cubicBezTo>
                <a:cubicBezTo>
                  <a:pt x="7168" y="4393"/>
                  <a:pt x="7150" y="4356"/>
                  <a:pt x="7150" y="4356"/>
                </a:cubicBezTo>
                <a:cubicBezTo>
                  <a:pt x="7150" y="4356"/>
                  <a:pt x="7131" y="4356"/>
                  <a:pt x="7131" y="4356"/>
                </a:cubicBezTo>
                <a:cubicBezTo>
                  <a:pt x="7131" y="4356"/>
                  <a:pt x="7112" y="4320"/>
                  <a:pt x="7112" y="4284"/>
                </a:cubicBezTo>
                <a:cubicBezTo>
                  <a:pt x="7112" y="4284"/>
                  <a:pt x="7093" y="4320"/>
                  <a:pt x="7093" y="4320"/>
                </a:cubicBezTo>
                <a:cubicBezTo>
                  <a:pt x="7074" y="4284"/>
                  <a:pt x="7074" y="4284"/>
                  <a:pt x="7074" y="4284"/>
                </a:cubicBezTo>
                <a:cubicBezTo>
                  <a:pt x="7074" y="4247"/>
                  <a:pt x="7074" y="4247"/>
                  <a:pt x="7074" y="4247"/>
                </a:cubicBezTo>
                <a:cubicBezTo>
                  <a:pt x="7074" y="4247"/>
                  <a:pt x="7074" y="4247"/>
                  <a:pt x="7055" y="4247"/>
                </a:cubicBezTo>
                <a:cubicBezTo>
                  <a:pt x="7055" y="4247"/>
                  <a:pt x="7055" y="4247"/>
                  <a:pt x="7055" y="4247"/>
                </a:cubicBezTo>
                <a:cubicBezTo>
                  <a:pt x="7055" y="4247"/>
                  <a:pt x="7055" y="4247"/>
                  <a:pt x="7055" y="4284"/>
                </a:cubicBezTo>
                <a:cubicBezTo>
                  <a:pt x="7055" y="4284"/>
                  <a:pt x="7055" y="4320"/>
                  <a:pt x="7055" y="4320"/>
                </a:cubicBezTo>
                <a:cubicBezTo>
                  <a:pt x="7055" y="4356"/>
                  <a:pt x="7055" y="4356"/>
                  <a:pt x="7055" y="4356"/>
                </a:cubicBezTo>
                <a:cubicBezTo>
                  <a:pt x="7055" y="4356"/>
                  <a:pt x="7055" y="4356"/>
                  <a:pt x="7055" y="4356"/>
                </a:cubicBezTo>
                <a:cubicBezTo>
                  <a:pt x="7036" y="4356"/>
                  <a:pt x="7036" y="4320"/>
                  <a:pt x="7036" y="4320"/>
                </a:cubicBezTo>
                <a:cubicBezTo>
                  <a:pt x="7036" y="4320"/>
                  <a:pt x="7036" y="4320"/>
                  <a:pt x="7036" y="4320"/>
                </a:cubicBezTo>
                <a:cubicBezTo>
                  <a:pt x="7017" y="4320"/>
                  <a:pt x="7017" y="4356"/>
                  <a:pt x="7017" y="4356"/>
                </a:cubicBezTo>
                <a:cubicBezTo>
                  <a:pt x="7017" y="4356"/>
                  <a:pt x="7017" y="4356"/>
                  <a:pt x="7017" y="4356"/>
                </a:cubicBezTo>
                <a:cubicBezTo>
                  <a:pt x="7017" y="4393"/>
                  <a:pt x="6998" y="4393"/>
                  <a:pt x="6998" y="4429"/>
                </a:cubicBezTo>
                <a:cubicBezTo>
                  <a:pt x="6998" y="4429"/>
                  <a:pt x="6979" y="4465"/>
                  <a:pt x="6979" y="4465"/>
                </a:cubicBezTo>
                <a:cubicBezTo>
                  <a:pt x="6979" y="4465"/>
                  <a:pt x="6979" y="4465"/>
                  <a:pt x="6979" y="4429"/>
                </a:cubicBezTo>
                <a:cubicBezTo>
                  <a:pt x="6960" y="4429"/>
                  <a:pt x="6979" y="4393"/>
                  <a:pt x="6979" y="4393"/>
                </a:cubicBezTo>
                <a:cubicBezTo>
                  <a:pt x="6979" y="4356"/>
                  <a:pt x="6960" y="4320"/>
                  <a:pt x="6998" y="4284"/>
                </a:cubicBezTo>
                <a:cubicBezTo>
                  <a:pt x="6998" y="4284"/>
                  <a:pt x="6998" y="4284"/>
                  <a:pt x="6998" y="4284"/>
                </a:cubicBezTo>
                <a:cubicBezTo>
                  <a:pt x="6979" y="4247"/>
                  <a:pt x="6960" y="4284"/>
                  <a:pt x="6960" y="4247"/>
                </a:cubicBezTo>
                <a:cubicBezTo>
                  <a:pt x="6960" y="4247"/>
                  <a:pt x="6960" y="4247"/>
                  <a:pt x="6960" y="4247"/>
                </a:cubicBezTo>
                <a:cubicBezTo>
                  <a:pt x="6960" y="4247"/>
                  <a:pt x="6979" y="4247"/>
                  <a:pt x="6979" y="4247"/>
                </a:cubicBezTo>
                <a:cubicBezTo>
                  <a:pt x="6979" y="4211"/>
                  <a:pt x="6979" y="4211"/>
                  <a:pt x="6979" y="4211"/>
                </a:cubicBezTo>
                <a:cubicBezTo>
                  <a:pt x="6960" y="4211"/>
                  <a:pt x="6960" y="4211"/>
                  <a:pt x="6960" y="4211"/>
                </a:cubicBezTo>
                <a:cubicBezTo>
                  <a:pt x="6942" y="4211"/>
                  <a:pt x="6942" y="4211"/>
                  <a:pt x="6942" y="4211"/>
                </a:cubicBezTo>
                <a:cubicBezTo>
                  <a:pt x="6942" y="4175"/>
                  <a:pt x="6979" y="4175"/>
                  <a:pt x="6979" y="4138"/>
                </a:cubicBezTo>
                <a:cubicBezTo>
                  <a:pt x="6979" y="4138"/>
                  <a:pt x="6979" y="4138"/>
                  <a:pt x="6979" y="4138"/>
                </a:cubicBezTo>
                <a:cubicBezTo>
                  <a:pt x="6979" y="4138"/>
                  <a:pt x="6979" y="4138"/>
                  <a:pt x="6979" y="4138"/>
                </a:cubicBezTo>
                <a:cubicBezTo>
                  <a:pt x="6979" y="4138"/>
                  <a:pt x="6979" y="4138"/>
                  <a:pt x="6979" y="4138"/>
                </a:cubicBezTo>
                <a:cubicBezTo>
                  <a:pt x="6960" y="4175"/>
                  <a:pt x="6942" y="4175"/>
                  <a:pt x="6942" y="4175"/>
                </a:cubicBezTo>
                <a:cubicBezTo>
                  <a:pt x="6942" y="4175"/>
                  <a:pt x="6942" y="4175"/>
                  <a:pt x="6942" y="4175"/>
                </a:cubicBezTo>
                <a:cubicBezTo>
                  <a:pt x="6942" y="4175"/>
                  <a:pt x="6942" y="4102"/>
                  <a:pt x="6923" y="4102"/>
                </a:cubicBezTo>
                <a:cubicBezTo>
                  <a:pt x="6923" y="4138"/>
                  <a:pt x="6904" y="4138"/>
                  <a:pt x="6885" y="4138"/>
                </a:cubicBezTo>
                <a:cubicBezTo>
                  <a:pt x="6885" y="4138"/>
                  <a:pt x="6885" y="4138"/>
                  <a:pt x="6885" y="4102"/>
                </a:cubicBezTo>
                <a:cubicBezTo>
                  <a:pt x="6904" y="4102"/>
                  <a:pt x="6904" y="4102"/>
                  <a:pt x="6923" y="4066"/>
                </a:cubicBezTo>
                <a:cubicBezTo>
                  <a:pt x="6904" y="4102"/>
                  <a:pt x="6885" y="4102"/>
                  <a:pt x="6866" y="4066"/>
                </a:cubicBezTo>
                <a:cubicBezTo>
                  <a:pt x="6866" y="4066"/>
                  <a:pt x="6866" y="4066"/>
                  <a:pt x="6866" y="4066"/>
                </a:cubicBezTo>
                <a:cubicBezTo>
                  <a:pt x="6866" y="4066"/>
                  <a:pt x="6885" y="4030"/>
                  <a:pt x="6904" y="4030"/>
                </a:cubicBezTo>
                <a:cubicBezTo>
                  <a:pt x="6923" y="3993"/>
                  <a:pt x="6942" y="3957"/>
                  <a:pt x="6979" y="3957"/>
                </a:cubicBezTo>
                <a:cubicBezTo>
                  <a:pt x="6979" y="3957"/>
                  <a:pt x="6979" y="3957"/>
                  <a:pt x="6979" y="3921"/>
                </a:cubicBezTo>
                <a:cubicBezTo>
                  <a:pt x="6979" y="3921"/>
                  <a:pt x="6998" y="3921"/>
                  <a:pt x="6998" y="3921"/>
                </a:cubicBezTo>
                <a:cubicBezTo>
                  <a:pt x="6998" y="3921"/>
                  <a:pt x="6998" y="3921"/>
                  <a:pt x="6998" y="3884"/>
                </a:cubicBezTo>
                <a:cubicBezTo>
                  <a:pt x="7017" y="3884"/>
                  <a:pt x="7017" y="3884"/>
                  <a:pt x="7036" y="3848"/>
                </a:cubicBezTo>
                <a:cubicBezTo>
                  <a:pt x="7055" y="3848"/>
                  <a:pt x="7074" y="3848"/>
                  <a:pt x="7093" y="3848"/>
                </a:cubicBezTo>
                <a:cubicBezTo>
                  <a:pt x="7112" y="3848"/>
                  <a:pt x="7112" y="3812"/>
                  <a:pt x="7112" y="3812"/>
                </a:cubicBezTo>
                <a:cubicBezTo>
                  <a:pt x="7112" y="3812"/>
                  <a:pt x="7112" y="3812"/>
                  <a:pt x="7093" y="3812"/>
                </a:cubicBezTo>
                <a:cubicBezTo>
                  <a:pt x="7093" y="3812"/>
                  <a:pt x="7093" y="3812"/>
                  <a:pt x="7074" y="3812"/>
                </a:cubicBezTo>
                <a:cubicBezTo>
                  <a:pt x="7074" y="3812"/>
                  <a:pt x="7055" y="3812"/>
                  <a:pt x="7055" y="3848"/>
                </a:cubicBezTo>
                <a:cubicBezTo>
                  <a:pt x="7055" y="3848"/>
                  <a:pt x="7036" y="3848"/>
                  <a:pt x="7036" y="3848"/>
                </a:cubicBezTo>
                <a:cubicBezTo>
                  <a:pt x="7017" y="3848"/>
                  <a:pt x="6998" y="3848"/>
                  <a:pt x="6998" y="3884"/>
                </a:cubicBezTo>
                <a:cubicBezTo>
                  <a:pt x="6979" y="3884"/>
                  <a:pt x="6979" y="3921"/>
                  <a:pt x="6979" y="3921"/>
                </a:cubicBezTo>
                <a:cubicBezTo>
                  <a:pt x="6960" y="3921"/>
                  <a:pt x="6960" y="3921"/>
                  <a:pt x="6960" y="3921"/>
                </a:cubicBezTo>
                <a:cubicBezTo>
                  <a:pt x="6942" y="3957"/>
                  <a:pt x="6923" y="3993"/>
                  <a:pt x="6904" y="3993"/>
                </a:cubicBezTo>
                <a:cubicBezTo>
                  <a:pt x="6904" y="3993"/>
                  <a:pt x="6885" y="4030"/>
                  <a:pt x="6885" y="4030"/>
                </a:cubicBezTo>
                <a:cubicBezTo>
                  <a:pt x="6866" y="4030"/>
                  <a:pt x="6866" y="4030"/>
                  <a:pt x="6866" y="4030"/>
                </a:cubicBezTo>
                <a:cubicBezTo>
                  <a:pt x="6866" y="4030"/>
                  <a:pt x="6866" y="3993"/>
                  <a:pt x="6866" y="3993"/>
                </a:cubicBezTo>
                <a:cubicBezTo>
                  <a:pt x="6866" y="3993"/>
                  <a:pt x="6866" y="3993"/>
                  <a:pt x="6866" y="3993"/>
                </a:cubicBezTo>
                <a:cubicBezTo>
                  <a:pt x="6847" y="3993"/>
                  <a:pt x="6866" y="3957"/>
                  <a:pt x="6866" y="3957"/>
                </a:cubicBezTo>
                <a:cubicBezTo>
                  <a:pt x="6885" y="3957"/>
                  <a:pt x="6885" y="3957"/>
                  <a:pt x="6885" y="3957"/>
                </a:cubicBezTo>
                <a:cubicBezTo>
                  <a:pt x="6885" y="3957"/>
                  <a:pt x="6923" y="3921"/>
                  <a:pt x="6923" y="3921"/>
                </a:cubicBezTo>
                <a:cubicBezTo>
                  <a:pt x="6923" y="3921"/>
                  <a:pt x="6885" y="3921"/>
                  <a:pt x="6885" y="3921"/>
                </a:cubicBezTo>
                <a:cubicBezTo>
                  <a:pt x="6885" y="3921"/>
                  <a:pt x="6885" y="3921"/>
                  <a:pt x="6885" y="3921"/>
                </a:cubicBezTo>
                <a:cubicBezTo>
                  <a:pt x="6904" y="3884"/>
                  <a:pt x="6942" y="3884"/>
                  <a:pt x="6960" y="3884"/>
                </a:cubicBezTo>
                <a:cubicBezTo>
                  <a:pt x="6960" y="3884"/>
                  <a:pt x="6960" y="3848"/>
                  <a:pt x="6942" y="3848"/>
                </a:cubicBezTo>
                <a:cubicBezTo>
                  <a:pt x="6942" y="3848"/>
                  <a:pt x="6942" y="3848"/>
                  <a:pt x="6923" y="3848"/>
                </a:cubicBezTo>
                <a:cubicBezTo>
                  <a:pt x="6923" y="3848"/>
                  <a:pt x="6885" y="3848"/>
                  <a:pt x="6885" y="3848"/>
                </a:cubicBezTo>
                <a:cubicBezTo>
                  <a:pt x="6885" y="3848"/>
                  <a:pt x="6885" y="3848"/>
                  <a:pt x="6866" y="3812"/>
                </a:cubicBezTo>
                <a:cubicBezTo>
                  <a:pt x="6866" y="3812"/>
                  <a:pt x="6847" y="3812"/>
                  <a:pt x="6847" y="3812"/>
                </a:cubicBezTo>
                <a:cubicBezTo>
                  <a:pt x="6866" y="3812"/>
                  <a:pt x="6866" y="3812"/>
                  <a:pt x="6866" y="3812"/>
                </a:cubicBezTo>
                <a:cubicBezTo>
                  <a:pt x="6923" y="3775"/>
                  <a:pt x="6960" y="3775"/>
                  <a:pt x="6998" y="3775"/>
                </a:cubicBezTo>
                <a:cubicBezTo>
                  <a:pt x="7017" y="3775"/>
                  <a:pt x="7017" y="3775"/>
                  <a:pt x="7036" y="3775"/>
                </a:cubicBezTo>
                <a:cubicBezTo>
                  <a:pt x="7017" y="3775"/>
                  <a:pt x="7017" y="3739"/>
                  <a:pt x="6998" y="3739"/>
                </a:cubicBezTo>
                <a:cubicBezTo>
                  <a:pt x="6998" y="3739"/>
                  <a:pt x="6998" y="3739"/>
                  <a:pt x="6979" y="3739"/>
                </a:cubicBezTo>
                <a:cubicBezTo>
                  <a:pt x="6979" y="3739"/>
                  <a:pt x="6979" y="3739"/>
                  <a:pt x="6960" y="3739"/>
                </a:cubicBezTo>
                <a:cubicBezTo>
                  <a:pt x="6960" y="3739"/>
                  <a:pt x="6960" y="3739"/>
                  <a:pt x="6942" y="3739"/>
                </a:cubicBezTo>
                <a:cubicBezTo>
                  <a:pt x="6923" y="3739"/>
                  <a:pt x="6866" y="3775"/>
                  <a:pt x="6847" y="3775"/>
                </a:cubicBezTo>
                <a:cubicBezTo>
                  <a:pt x="6847" y="3775"/>
                  <a:pt x="6847" y="3739"/>
                  <a:pt x="6866" y="3739"/>
                </a:cubicBezTo>
                <a:cubicBezTo>
                  <a:pt x="6866" y="3739"/>
                  <a:pt x="6866" y="3739"/>
                  <a:pt x="6885" y="3739"/>
                </a:cubicBezTo>
                <a:cubicBezTo>
                  <a:pt x="6885" y="3703"/>
                  <a:pt x="6904" y="3703"/>
                  <a:pt x="6923" y="3703"/>
                </a:cubicBezTo>
                <a:cubicBezTo>
                  <a:pt x="6923" y="3703"/>
                  <a:pt x="6923" y="3667"/>
                  <a:pt x="6942" y="3667"/>
                </a:cubicBezTo>
                <a:cubicBezTo>
                  <a:pt x="6960" y="3667"/>
                  <a:pt x="6960" y="3667"/>
                  <a:pt x="6979" y="3667"/>
                </a:cubicBezTo>
                <a:cubicBezTo>
                  <a:pt x="6998" y="3667"/>
                  <a:pt x="7017" y="3667"/>
                  <a:pt x="7036" y="3667"/>
                </a:cubicBezTo>
                <a:cubicBezTo>
                  <a:pt x="7036" y="3667"/>
                  <a:pt x="7036" y="3667"/>
                  <a:pt x="7017" y="3667"/>
                </a:cubicBezTo>
                <a:cubicBezTo>
                  <a:pt x="7017" y="3630"/>
                  <a:pt x="7036" y="3630"/>
                  <a:pt x="7055" y="3630"/>
                </a:cubicBezTo>
                <a:cubicBezTo>
                  <a:pt x="7055" y="3630"/>
                  <a:pt x="7055" y="3630"/>
                  <a:pt x="7036" y="3630"/>
                </a:cubicBezTo>
                <a:cubicBezTo>
                  <a:pt x="7036" y="3594"/>
                  <a:pt x="7017" y="3630"/>
                  <a:pt x="7017" y="3630"/>
                </a:cubicBezTo>
                <a:cubicBezTo>
                  <a:pt x="7017" y="3630"/>
                  <a:pt x="7017" y="3630"/>
                  <a:pt x="7017" y="3630"/>
                </a:cubicBezTo>
                <a:cubicBezTo>
                  <a:pt x="7017" y="3630"/>
                  <a:pt x="6998" y="3630"/>
                  <a:pt x="6998" y="3667"/>
                </a:cubicBezTo>
                <a:cubicBezTo>
                  <a:pt x="6998" y="3667"/>
                  <a:pt x="6998" y="3667"/>
                  <a:pt x="6979" y="3667"/>
                </a:cubicBezTo>
                <a:cubicBezTo>
                  <a:pt x="6979" y="3667"/>
                  <a:pt x="6960" y="3667"/>
                  <a:pt x="6960" y="3630"/>
                </a:cubicBezTo>
                <a:cubicBezTo>
                  <a:pt x="6960" y="3630"/>
                  <a:pt x="6960" y="3630"/>
                  <a:pt x="6960" y="3630"/>
                </a:cubicBezTo>
                <a:cubicBezTo>
                  <a:pt x="6942" y="3630"/>
                  <a:pt x="6923" y="3667"/>
                  <a:pt x="6923" y="3667"/>
                </a:cubicBezTo>
                <a:cubicBezTo>
                  <a:pt x="6904" y="3667"/>
                  <a:pt x="6904" y="3667"/>
                  <a:pt x="6904" y="3667"/>
                </a:cubicBezTo>
                <a:cubicBezTo>
                  <a:pt x="6885" y="3703"/>
                  <a:pt x="6885" y="3739"/>
                  <a:pt x="6847" y="3703"/>
                </a:cubicBezTo>
                <a:cubicBezTo>
                  <a:pt x="6847" y="3703"/>
                  <a:pt x="6847" y="3703"/>
                  <a:pt x="6847" y="3703"/>
                </a:cubicBezTo>
                <a:cubicBezTo>
                  <a:pt x="6866" y="3703"/>
                  <a:pt x="6866" y="3667"/>
                  <a:pt x="6866" y="3667"/>
                </a:cubicBezTo>
                <a:cubicBezTo>
                  <a:pt x="6885" y="3630"/>
                  <a:pt x="6866" y="3630"/>
                  <a:pt x="6904" y="3594"/>
                </a:cubicBezTo>
                <a:cubicBezTo>
                  <a:pt x="6904" y="3594"/>
                  <a:pt x="6942" y="3630"/>
                  <a:pt x="6942" y="3630"/>
                </a:cubicBezTo>
                <a:cubicBezTo>
                  <a:pt x="6942" y="3630"/>
                  <a:pt x="6942" y="3594"/>
                  <a:pt x="6942" y="3594"/>
                </a:cubicBezTo>
                <a:cubicBezTo>
                  <a:pt x="6942" y="3594"/>
                  <a:pt x="6904" y="3594"/>
                  <a:pt x="6904" y="3594"/>
                </a:cubicBezTo>
                <a:cubicBezTo>
                  <a:pt x="6904" y="3594"/>
                  <a:pt x="6904" y="3594"/>
                  <a:pt x="6904" y="3594"/>
                </a:cubicBezTo>
                <a:cubicBezTo>
                  <a:pt x="6904" y="3594"/>
                  <a:pt x="6904" y="3594"/>
                  <a:pt x="6904" y="3594"/>
                </a:cubicBezTo>
                <a:cubicBezTo>
                  <a:pt x="6923" y="3594"/>
                  <a:pt x="6942" y="3594"/>
                  <a:pt x="6942" y="3594"/>
                </a:cubicBezTo>
                <a:cubicBezTo>
                  <a:pt x="6960" y="3594"/>
                  <a:pt x="6960" y="3594"/>
                  <a:pt x="6979" y="3594"/>
                </a:cubicBezTo>
                <a:cubicBezTo>
                  <a:pt x="6998" y="3594"/>
                  <a:pt x="6998" y="3594"/>
                  <a:pt x="7017" y="3594"/>
                </a:cubicBezTo>
                <a:cubicBezTo>
                  <a:pt x="7036" y="3594"/>
                  <a:pt x="7036" y="3594"/>
                  <a:pt x="7055" y="3594"/>
                </a:cubicBezTo>
                <a:cubicBezTo>
                  <a:pt x="7055" y="3594"/>
                  <a:pt x="7055" y="3594"/>
                  <a:pt x="7055" y="3594"/>
                </a:cubicBezTo>
                <a:cubicBezTo>
                  <a:pt x="7055" y="3594"/>
                  <a:pt x="7017" y="3558"/>
                  <a:pt x="7017" y="3558"/>
                </a:cubicBezTo>
                <a:cubicBezTo>
                  <a:pt x="7017" y="3521"/>
                  <a:pt x="7036" y="3521"/>
                  <a:pt x="7036" y="3521"/>
                </a:cubicBezTo>
                <a:cubicBezTo>
                  <a:pt x="7036" y="3521"/>
                  <a:pt x="7017" y="3521"/>
                  <a:pt x="6998" y="3521"/>
                </a:cubicBezTo>
                <a:cubicBezTo>
                  <a:pt x="6998" y="3521"/>
                  <a:pt x="6998" y="3521"/>
                  <a:pt x="6998" y="3521"/>
                </a:cubicBezTo>
                <a:cubicBezTo>
                  <a:pt x="7017" y="3521"/>
                  <a:pt x="7017" y="3521"/>
                  <a:pt x="7017" y="3521"/>
                </a:cubicBezTo>
                <a:cubicBezTo>
                  <a:pt x="7017" y="3521"/>
                  <a:pt x="7017" y="3521"/>
                  <a:pt x="7017" y="3521"/>
                </a:cubicBezTo>
                <a:cubicBezTo>
                  <a:pt x="6998" y="3558"/>
                  <a:pt x="6998" y="3558"/>
                  <a:pt x="6979" y="3558"/>
                </a:cubicBezTo>
                <a:cubicBezTo>
                  <a:pt x="6979" y="3558"/>
                  <a:pt x="6960" y="3558"/>
                  <a:pt x="6960" y="3558"/>
                </a:cubicBezTo>
                <a:cubicBezTo>
                  <a:pt x="6942" y="3558"/>
                  <a:pt x="6942" y="3558"/>
                  <a:pt x="6942" y="3558"/>
                </a:cubicBezTo>
                <a:cubicBezTo>
                  <a:pt x="6923" y="3558"/>
                  <a:pt x="6923" y="3558"/>
                  <a:pt x="6923" y="3558"/>
                </a:cubicBezTo>
                <a:cubicBezTo>
                  <a:pt x="6904" y="3558"/>
                  <a:pt x="6904" y="3558"/>
                  <a:pt x="6885" y="3558"/>
                </a:cubicBezTo>
                <a:cubicBezTo>
                  <a:pt x="6923" y="3558"/>
                  <a:pt x="6923" y="3485"/>
                  <a:pt x="6942" y="3485"/>
                </a:cubicBezTo>
                <a:cubicBezTo>
                  <a:pt x="6960" y="3485"/>
                  <a:pt x="6979" y="3485"/>
                  <a:pt x="6979" y="3485"/>
                </a:cubicBezTo>
                <a:cubicBezTo>
                  <a:pt x="6998" y="3485"/>
                  <a:pt x="7017" y="3485"/>
                  <a:pt x="7017" y="3449"/>
                </a:cubicBezTo>
                <a:cubicBezTo>
                  <a:pt x="7036" y="3449"/>
                  <a:pt x="7036" y="3449"/>
                  <a:pt x="7036" y="3449"/>
                </a:cubicBezTo>
                <a:cubicBezTo>
                  <a:pt x="7055" y="3449"/>
                  <a:pt x="7055" y="3412"/>
                  <a:pt x="7055" y="3412"/>
                </a:cubicBezTo>
                <a:cubicBezTo>
                  <a:pt x="7036" y="3412"/>
                  <a:pt x="7036" y="3449"/>
                  <a:pt x="7017" y="3449"/>
                </a:cubicBezTo>
                <a:cubicBezTo>
                  <a:pt x="7017" y="3412"/>
                  <a:pt x="7017" y="3412"/>
                  <a:pt x="7036" y="3412"/>
                </a:cubicBezTo>
                <a:cubicBezTo>
                  <a:pt x="7036" y="3412"/>
                  <a:pt x="7036" y="3412"/>
                  <a:pt x="7036" y="3376"/>
                </a:cubicBezTo>
                <a:cubicBezTo>
                  <a:pt x="7036" y="3376"/>
                  <a:pt x="7036" y="3376"/>
                  <a:pt x="7036" y="3376"/>
                </a:cubicBezTo>
                <a:cubicBezTo>
                  <a:pt x="7036" y="3376"/>
                  <a:pt x="7036" y="3340"/>
                  <a:pt x="7055" y="3340"/>
                </a:cubicBezTo>
                <a:cubicBezTo>
                  <a:pt x="7055" y="3340"/>
                  <a:pt x="7074" y="3340"/>
                  <a:pt x="7093" y="3340"/>
                </a:cubicBezTo>
                <a:cubicBezTo>
                  <a:pt x="7093" y="3340"/>
                  <a:pt x="7093" y="3340"/>
                  <a:pt x="7093" y="3340"/>
                </a:cubicBezTo>
                <a:cubicBezTo>
                  <a:pt x="7093" y="3340"/>
                  <a:pt x="7093" y="3340"/>
                  <a:pt x="7093" y="3340"/>
                </a:cubicBezTo>
                <a:cubicBezTo>
                  <a:pt x="7074" y="3340"/>
                  <a:pt x="7074" y="3340"/>
                  <a:pt x="7074" y="3340"/>
                </a:cubicBezTo>
                <a:cubicBezTo>
                  <a:pt x="7074" y="3304"/>
                  <a:pt x="7074" y="3304"/>
                  <a:pt x="7074" y="3304"/>
                </a:cubicBezTo>
                <a:cubicBezTo>
                  <a:pt x="7055" y="3304"/>
                  <a:pt x="7055" y="3340"/>
                  <a:pt x="7036" y="3340"/>
                </a:cubicBezTo>
                <a:cubicBezTo>
                  <a:pt x="7036" y="3340"/>
                  <a:pt x="7036" y="3340"/>
                  <a:pt x="7036" y="3340"/>
                </a:cubicBezTo>
                <a:cubicBezTo>
                  <a:pt x="7036" y="3304"/>
                  <a:pt x="7055" y="3304"/>
                  <a:pt x="7055" y="3304"/>
                </a:cubicBezTo>
                <a:cubicBezTo>
                  <a:pt x="7055" y="3304"/>
                  <a:pt x="7055" y="3304"/>
                  <a:pt x="7055" y="3267"/>
                </a:cubicBezTo>
                <a:cubicBezTo>
                  <a:pt x="7055" y="3267"/>
                  <a:pt x="7055" y="3267"/>
                  <a:pt x="7055" y="3267"/>
                </a:cubicBezTo>
                <a:cubicBezTo>
                  <a:pt x="7055" y="3267"/>
                  <a:pt x="7055" y="3267"/>
                  <a:pt x="7055" y="3267"/>
                </a:cubicBezTo>
                <a:cubicBezTo>
                  <a:pt x="7055" y="3267"/>
                  <a:pt x="7055" y="3267"/>
                  <a:pt x="7055" y="3267"/>
                </a:cubicBezTo>
                <a:cubicBezTo>
                  <a:pt x="7036" y="3267"/>
                  <a:pt x="7055" y="3231"/>
                  <a:pt x="7055" y="3231"/>
                </a:cubicBezTo>
                <a:cubicBezTo>
                  <a:pt x="7055" y="3231"/>
                  <a:pt x="7055" y="3231"/>
                  <a:pt x="7055" y="3231"/>
                </a:cubicBezTo>
                <a:cubicBezTo>
                  <a:pt x="7055" y="3231"/>
                  <a:pt x="7055" y="3231"/>
                  <a:pt x="7055" y="3195"/>
                </a:cubicBezTo>
                <a:cubicBezTo>
                  <a:pt x="7055" y="3195"/>
                  <a:pt x="7055" y="3195"/>
                  <a:pt x="7055" y="3195"/>
                </a:cubicBezTo>
                <a:cubicBezTo>
                  <a:pt x="7055" y="3195"/>
                  <a:pt x="7055" y="3158"/>
                  <a:pt x="7074" y="3158"/>
                </a:cubicBezTo>
                <a:cubicBezTo>
                  <a:pt x="7074" y="3158"/>
                  <a:pt x="7074" y="3158"/>
                  <a:pt x="7074" y="3158"/>
                </a:cubicBezTo>
                <a:cubicBezTo>
                  <a:pt x="7074" y="3158"/>
                  <a:pt x="7074" y="3122"/>
                  <a:pt x="7055" y="3158"/>
                </a:cubicBezTo>
                <a:cubicBezTo>
                  <a:pt x="7055" y="3158"/>
                  <a:pt x="7036" y="3158"/>
                  <a:pt x="7036" y="3158"/>
                </a:cubicBezTo>
                <a:cubicBezTo>
                  <a:pt x="7017" y="3158"/>
                  <a:pt x="7017" y="3158"/>
                  <a:pt x="7017" y="3158"/>
                </a:cubicBezTo>
                <a:cubicBezTo>
                  <a:pt x="7036" y="3158"/>
                  <a:pt x="7036" y="3158"/>
                  <a:pt x="7036" y="3158"/>
                </a:cubicBezTo>
                <a:cubicBezTo>
                  <a:pt x="7036" y="3158"/>
                  <a:pt x="7036" y="3158"/>
                  <a:pt x="7036" y="3158"/>
                </a:cubicBezTo>
                <a:cubicBezTo>
                  <a:pt x="7036" y="3158"/>
                  <a:pt x="7036" y="3158"/>
                  <a:pt x="7036" y="3158"/>
                </a:cubicBezTo>
                <a:cubicBezTo>
                  <a:pt x="7017" y="3158"/>
                  <a:pt x="7017" y="3158"/>
                  <a:pt x="7017" y="3158"/>
                </a:cubicBezTo>
                <a:cubicBezTo>
                  <a:pt x="6998" y="3158"/>
                  <a:pt x="6998" y="3158"/>
                  <a:pt x="6998" y="3158"/>
                </a:cubicBezTo>
                <a:cubicBezTo>
                  <a:pt x="6979" y="3158"/>
                  <a:pt x="6960" y="3158"/>
                  <a:pt x="6960" y="3158"/>
                </a:cubicBezTo>
                <a:cubicBezTo>
                  <a:pt x="6942" y="3122"/>
                  <a:pt x="6923" y="3086"/>
                  <a:pt x="6904" y="3086"/>
                </a:cubicBezTo>
                <a:cubicBezTo>
                  <a:pt x="6904" y="3086"/>
                  <a:pt x="6885" y="3086"/>
                  <a:pt x="6885" y="3086"/>
                </a:cubicBezTo>
                <a:cubicBezTo>
                  <a:pt x="6885" y="3086"/>
                  <a:pt x="6885" y="3086"/>
                  <a:pt x="6885" y="3086"/>
                </a:cubicBezTo>
                <a:cubicBezTo>
                  <a:pt x="6866" y="3086"/>
                  <a:pt x="6847" y="3086"/>
                  <a:pt x="6847" y="3086"/>
                </a:cubicBezTo>
                <a:cubicBezTo>
                  <a:pt x="6828" y="3049"/>
                  <a:pt x="6847" y="3049"/>
                  <a:pt x="6828" y="3049"/>
                </a:cubicBezTo>
                <a:cubicBezTo>
                  <a:pt x="6828" y="3049"/>
                  <a:pt x="6828" y="3049"/>
                  <a:pt x="6809" y="3013"/>
                </a:cubicBezTo>
                <a:cubicBezTo>
                  <a:pt x="6828" y="3013"/>
                  <a:pt x="6828" y="2977"/>
                  <a:pt x="6847" y="2977"/>
                </a:cubicBezTo>
                <a:cubicBezTo>
                  <a:pt x="6866" y="2977"/>
                  <a:pt x="6866" y="3013"/>
                  <a:pt x="6885" y="3013"/>
                </a:cubicBezTo>
                <a:cubicBezTo>
                  <a:pt x="6885" y="3013"/>
                  <a:pt x="6904" y="2977"/>
                  <a:pt x="6923" y="2977"/>
                </a:cubicBezTo>
                <a:cubicBezTo>
                  <a:pt x="6923" y="3013"/>
                  <a:pt x="6960" y="3013"/>
                  <a:pt x="6979" y="3049"/>
                </a:cubicBezTo>
                <a:cubicBezTo>
                  <a:pt x="6979" y="3049"/>
                  <a:pt x="6998" y="3049"/>
                  <a:pt x="6998" y="3086"/>
                </a:cubicBezTo>
                <a:cubicBezTo>
                  <a:pt x="7017" y="3086"/>
                  <a:pt x="7036" y="3086"/>
                  <a:pt x="7055" y="3086"/>
                </a:cubicBezTo>
                <a:cubicBezTo>
                  <a:pt x="7055" y="3086"/>
                  <a:pt x="7055" y="3049"/>
                  <a:pt x="7055" y="3049"/>
                </a:cubicBezTo>
                <a:cubicBezTo>
                  <a:pt x="7055" y="3049"/>
                  <a:pt x="7055" y="3049"/>
                  <a:pt x="7055" y="3049"/>
                </a:cubicBezTo>
                <a:cubicBezTo>
                  <a:pt x="7055" y="3049"/>
                  <a:pt x="7055" y="3049"/>
                  <a:pt x="7055" y="3049"/>
                </a:cubicBezTo>
                <a:cubicBezTo>
                  <a:pt x="7036" y="3049"/>
                  <a:pt x="7017" y="3049"/>
                  <a:pt x="7017" y="3049"/>
                </a:cubicBezTo>
                <a:cubicBezTo>
                  <a:pt x="7017" y="3049"/>
                  <a:pt x="7017" y="3049"/>
                  <a:pt x="7017" y="3049"/>
                </a:cubicBezTo>
                <a:cubicBezTo>
                  <a:pt x="7017" y="3049"/>
                  <a:pt x="7017" y="3049"/>
                  <a:pt x="7017" y="3049"/>
                </a:cubicBezTo>
                <a:cubicBezTo>
                  <a:pt x="7036" y="3013"/>
                  <a:pt x="7036" y="3049"/>
                  <a:pt x="7055" y="3013"/>
                </a:cubicBezTo>
                <a:cubicBezTo>
                  <a:pt x="7055" y="3013"/>
                  <a:pt x="7055" y="3013"/>
                  <a:pt x="7055" y="3013"/>
                </a:cubicBezTo>
                <a:cubicBezTo>
                  <a:pt x="7055" y="3013"/>
                  <a:pt x="7017" y="3013"/>
                  <a:pt x="7017" y="2977"/>
                </a:cubicBezTo>
                <a:cubicBezTo>
                  <a:pt x="7036" y="2977"/>
                  <a:pt x="7036" y="2977"/>
                  <a:pt x="7055" y="2977"/>
                </a:cubicBezTo>
                <a:cubicBezTo>
                  <a:pt x="7036" y="2941"/>
                  <a:pt x="6979" y="2977"/>
                  <a:pt x="6979" y="2941"/>
                </a:cubicBezTo>
                <a:cubicBezTo>
                  <a:pt x="6979" y="2941"/>
                  <a:pt x="6979" y="2941"/>
                  <a:pt x="6979" y="2941"/>
                </a:cubicBezTo>
                <a:cubicBezTo>
                  <a:pt x="6979" y="2941"/>
                  <a:pt x="6979" y="2941"/>
                  <a:pt x="6979" y="2941"/>
                </a:cubicBezTo>
                <a:cubicBezTo>
                  <a:pt x="6998" y="2941"/>
                  <a:pt x="7017" y="2941"/>
                  <a:pt x="7036" y="2941"/>
                </a:cubicBezTo>
                <a:cubicBezTo>
                  <a:pt x="7036" y="2904"/>
                  <a:pt x="7017" y="2904"/>
                  <a:pt x="6998" y="2904"/>
                </a:cubicBezTo>
                <a:cubicBezTo>
                  <a:pt x="6998" y="2904"/>
                  <a:pt x="6998" y="2904"/>
                  <a:pt x="6998" y="2904"/>
                </a:cubicBezTo>
                <a:cubicBezTo>
                  <a:pt x="6979" y="2904"/>
                  <a:pt x="6998" y="2868"/>
                  <a:pt x="6998" y="2868"/>
                </a:cubicBezTo>
                <a:cubicBezTo>
                  <a:pt x="6979" y="2868"/>
                  <a:pt x="6960" y="2904"/>
                  <a:pt x="6942" y="2904"/>
                </a:cubicBezTo>
                <a:cubicBezTo>
                  <a:pt x="6942" y="2904"/>
                  <a:pt x="6942" y="2904"/>
                  <a:pt x="6960" y="2868"/>
                </a:cubicBezTo>
                <a:cubicBezTo>
                  <a:pt x="6960" y="2868"/>
                  <a:pt x="6960" y="2868"/>
                  <a:pt x="6960" y="2868"/>
                </a:cubicBezTo>
                <a:cubicBezTo>
                  <a:pt x="6979" y="2832"/>
                  <a:pt x="6979" y="2832"/>
                  <a:pt x="6998" y="2832"/>
                </a:cubicBezTo>
                <a:cubicBezTo>
                  <a:pt x="6998" y="2832"/>
                  <a:pt x="6998" y="2832"/>
                  <a:pt x="6998" y="2832"/>
                </a:cubicBezTo>
                <a:cubicBezTo>
                  <a:pt x="6998" y="2832"/>
                  <a:pt x="6979" y="2832"/>
                  <a:pt x="6979" y="2832"/>
                </a:cubicBezTo>
                <a:cubicBezTo>
                  <a:pt x="6960" y="2832"/>
                  <a:pt x="6960" y="2868"/>
                  <a:pt x="6942" y="2868"/>
                </a:cubicBezTo>
                <a:cubicBezTo>
                  <a:pt x="6942" y="2832"/>
                  <a:pt x="6942" y="2832"/>
                  <a:pt x="6923" y="2832"/>
                </a:cubicBezTo>
                <a:cubicBezTo>
                  <a:pt x="6923" y="2832"/>
                  <a:pt x="6923" y="2832"/>
                  <a:pt x="6923" y="2832"/>
                </a:cubicBezTo>
                <a:cubicBezTo>
                  <a:pt x="6942" y="2832"/>
                  <a:pt x="6979" y="2795"/>
                  <a:pt x="6979" y="2795"/>
                </a:cubicBezTo>
                <a:cubicBezTo>
                  <a:pt x="6998" y="2795"/>
                  <a:pt x="6998" y="2795"/>
                  <a:pt x="6998" y="2795"/>
                </a:cubicBezTo>
                <a:cubicBezTo>
                  <a:pt x="6979" y="2795"/>
                  <a:pt x="6960" y="2795"/>
                  <a:pt x="6942" y="2795"/>
                </a:cubicBezTo>
                <a:cubicBezTo>
                  <a:pt x="6942" y="2795"/>
                  <a:pt x="6923" y="2795"/>
                  <a:pt x="6923" y="2795"/>
                </a:cubicBezTo>
                <a:cubicBezTo>
                  <a:pt x="6923" y="2795"/>
                  <a:pt x="6904" y="2795"/>
                  <a:pt x="6904" y="2795"/>
                </a:cubicBezTo>
                <a:cubicBezTo>
                  <a:pt x="6923" y="2795"/>
                  <a:pt x="6923" y="2759"/>
                  <a:pt x="6923" y="2723"/>
                </a:cubicBezTo>
                <a:cubicBezTo>
                  <a:pt x="6923" y="2723"/>
                  <a:pt x="6904" y="2759"/>
                  <a:pt x="6904" y="2759"/>
                </a:cubicBezTo>
                <a:cubicBezTo>
                  <a:pt x="6904" y="2759"/>
                  <a:pt x="6904" y="2759"/>
                  <a:pt x="6904" y="2759"/>
                </a:cubicBezTo>
                <a:cubicBezTo>
                  <a:pt x="6904" y="2759"/>
                  <a:pt x="6904" y="2759"/>
                  <a:pt x="6904" y="2759"/>
                </a:cubicBezTo>
                <a:cubicBezTo>
                  <a:pt x="6904" y="2759"/>
                  <a:pt x="6904" y="2759"/>
                  <a:pt x="6904" y="2759"/>
                </a:cubicBezTo>
                <a:cubicBezTo>
                  <a:pt x="6904" y="2759"/>
                  <a:pt x="6904" y="2759"/>
                  <a:pt x="6885" y="2759"/>
                </a:cubicBezTo>
                <a:cubicBezTo>
                  <a:pt x="6885" y="2759"/>
                  <a:pt x="6885" y="2759"/>
                  <a:pt x="6866" y="2795"/>
                </a:cubicBezTo>
                <a:cubicBezTo>
                  <a:pt x="6866" y="2832"/>
                  <a:pt x="6866" y="2832"/>
                  <a:pt x="6847" y="2868"/>
                </a:cubicBezTo>
                <a:cubicBezTo>
                  <a:pt x="6828" y="2868"/>
                  <a:pt x="6790" y="2868"/>
                  <a:pt x="6790" y="2868"/>
                </a:cubicBezTo>
                <a:cubicBezTo>
                  <a:pt x="6771" y="2868"/>
                  <a:pt x="6771" y="2868"/>
                  <a:pt x="6771" y="2832"/>
                </a:cubicBezTo>
                <a:cubicBezTo>
                  <a:pt x="6752" y="2832"/>
                  <a:pt x="6771" y="2832"/>
                  <a:pt x="6771" y="2832"/>
                </a:cubicBezTo>
                <a:cubicBezTo>
                  <a:pt x="6771" y="2795"/>
                  <a:pt x="6752" y="2795"/>
                  <a:pt x="6752" y="2795"/>
                </a:cubicBezTo>
                <a:cubicBezTo>
                  <a:pt x="6771" y="2795"/>
                  <a:pt x="6790" y="2795"/>
                  <a:pt x="6790" y="2795"/>
                </a:cubicBezTo>
                <a:cubicBezTo>
                  <a:pt x="6809" y="2759"/>
                  <a:pt x="6809" y="2759"/>
                  <a:pt x="6809" y="2759"/>
                </a:cubicBezTo>
                <a:cubicBezTo>
                  <a:pt x="6828" y="2759"/>
                  <a:pt x="6828" y="2723"/>
                  <a:pt x="6828" y="2723"/>
                </a:cubicBezTo>
                <a:cubicBezTo>
                  <a:pt x="6828" y="2723"/>
                  <a:pt x="6828" y="2723"/>
                  <a:pt x="6828" y="2723"/>
                </a:cubicBezTo>
                <a:cubicBezTo>
                  <a:pt x="6828" y="2723"/>
                  <a:pt x="6828" y="2723"/>
                  <a:pt x="6809" y="2723"/>
                </a:cubicBezTo>
                <a:cubicBezTo>
                  <a:pt x="6809" y="2759"/>
                  <a:pt x="6771" y="2759"/>
                  <a:pt x="6771" y="2723"/>
                </a:cubicBezTo>
                <a:cubicBezTo>
                  <a:pt x="6771" y="2723"/>
                  <a:pt x="6809" y="2686"/>
                  <a:pt x="6809" y="2686"/>
                </a:cubicBezTo>
                <a:cubicBezTo>
                  <a:pt x="6809" y="2650"/>
                  <a:pt x="6828" y="2650"/>
                  <a:pt x="6809" y="2650"/>
                </a:cubicBezTo>
                <a:cubicBezTo>
                  <a:pt x="6809" y="2614"/>
                  <a:pt x="6771" y="2650"/>
                  <a:pt x="6771" y="2614"/>
                </a:cubicBezTo>
                <a:cubicBezTo>
                  <a:pt x="6771" y="2614"/>
                  <a:pt x="6771" y="2614"/>
                  <a:pt x="6771" y="2614"/>
                </a:cubicBezTo>
                <a:cubicBezTo>
                  <a:pt x="6790" y="2614"/>
                  <a:pt x="6790" y="2614"/>
                  <a:pt x="6809" y="2614"/>
                </a:cubicBezTo>
                <a:cubicBezTo>
                  <a:pt x="6809" y="2614"/>
                  <a:pt x="6828" y="2614"/>
                  <a:pt x="6828" y="2614"/>
                </a:cubicBezTo>
                <a:cubicBezTo>
                  <a:pt x="6828" y="2614"/>
                  <a:pt x="6847" y="2614"/>
                  <a:pt x="6847" y="2614"/>
                </a:cubicBezTo>
                <a:cubicBezTo>
                  <a:pt x="6847" y="2614"/>
                  <a:pt x="6847" y="2614"/>
                  <a:pt x="6847" y="2614"/>
                </a:cubicBezTo>
                <a:cubicBezTo>
                  <a:pt x="6847" y="2577"/>
                  <a:pt x="6847" y="2541"/>
                  <a:pt x="6809" y="2541"/>
                </a:cubicBezTo>
                <a:cubicBezTo>
                  <a:pt x="6809" y="2541"/>
                  <a:pt x="6828" y="2541"/>
                  <a:pt x="6828" y="2505"/>
                </a:cubicBezTo>
                <a:cubicBezTo>
                  <a:pt x="6828" y="2505"/>
                  <a:pt x="6828" y="2505"/>
                  <a:pt x="6828" y="2505"/>
                </a:cubicBezTo>
                <a:cubicBezTo>
                  <a:pt x="6809" y="2505"/>
                  <a:pt x="6809" y="2505"/>
                  <a:pt x="6809" y="2505"/>
                </a:cubicBezTo>
                <a:cubicBezTo>
                  <a:pt x="6809" y="2505"/>
                  <a:pt x="6790" y="2505"/>
                  <a:pt x="6790" y="2505"/>
                </a:cubicBezTo>
                <a:cubicBezTo>
                  <a:pt x="6790" y="2505"/>
                  <a:pt x="6771" y="2505"/>
                  <a:pt x="6771" y="2505"/>
                </a:cubicBezTo>
                <a:cubicBezTo>
                  <a:pt x="6771" y="2469"/>
                  <a:pt x="6790" y="2469"/>
                  <a:pt x="6790" y="2469"/>
                </a:cubicBezTo>
                <a:cubicBezTo>
                  <a:pt x="6809" y="2469"/>
                  <a:pt x="6809" y="2432"/>
                  <a:pt x="6809" y="2432"/>
                </a:cubicBezTo>
                <a:cubicBezTo>
                  <a:pt x="6809" y="2432"/>
                  <a:pt x="6809" y="2432"/>
                  <a:pt x="6809" y="2396"/>
                </a:cubicBezTo>
                <a:cubicBezTo>
                  <a:pt x="6809" y="2396"/>
                  <a:pt x="6790" y="2396"/>
                  <a:pt x="6790" y="2396"/>
                </a:cubicBezTo>
                <a:cubicBezTo>
                  <a:pt x="6790" y="2396"/>
                  <a:pt x="6790" y="2396"/>
                  <a:pt x="6771" y="2360"/>
                </a:cubicBezTo>
                <a:cubicBezTo>
                  <a:pt x="6771" y="2360"/>
                  <a:pt x="6771" y="2360"/>
                  <a:pt x="6771" y="2360"/>
                </a:cubicBezTo>
                <a:cubicBezTo>
                  <a:pt x="6771" y="2360"/>
                  <a:pt x="6771" y="2360"/>
                  <a:pt x="6771" y="2323"/>
                </a:cubicBezTo>
                <a:cubicBezTo>
                  <a:pt x="6790" y="2323"/>
                  <a:pt x="6790" y="2323"/>
                  <a:pt x="6790" y="2360"/>
                </a:cubicBezTo>
                <a:cubicBezTo>
                  <a:pt x="6790" y="2323"/>
                  <a:pt x="6790" y="2323"/>
                  <a:pt x="6790" y="2323"/>
                </a:cubicBezTo>
                <a:cubicBezTo>
                  <a:pt x="6790" y="2323"/>
                  <a:pt x="6790" y="2323"/>
                  <a:pt x="6790" y="2323"/>
                </a:cubicBezTo>
                <a:cubicBezTo>
                  <a:pt x="6771" y="2323"/>
                  <a:pt x="6752" y="2287"/>
                  <a:pt x="6752" y="2251"/>
                </a:cubicBezTo>
                <a:cubicBezTo>
                  <a:pt x="6733" y="2251"/>
                  <a:pt x="6733" y="2251"/>
                  <a:pt x="6715" y="2251"/>
                </a:cubicBezTo>
                <a:cubicBezTo>
                  <a:pt x="6715" y="2251"/>
                  <a:pt x="6715" y="2251"/>
                  <a:pt x="6715" y="2251"/>
                </a:cubicBezTo>
                <a:cubicBezTo>
                  <a:pt x="6733" y="2251"/>
                  <a:pt x="6733" y="2214"/>
                  <a:pt x="6752" y="2214"/>
                </a:cubicBezTo>
                <a:cubicBezTo>
                  <a:pt x="6752" y="2214"/>
                  <a:pt x="6752" y="2214"/>
                  <a:pt x="6752" y="2214"/>
                </a:cubicBezTo>
                <a:cubicBezTo>
                  <a:pt x="6752" y="2214"/>
                  <a:pt x="6771" y="2214"/>
                  <a:pt x="6771" y="2178"/>
                </a:cubicBezTo>
                <a:cubicBezTo>
                  <a:pt x="6771" y="2178"/>
                  <a:pt x="6733" y="2142"/>
                  <a:pt x="6733" y="2142"/>
                </a:cubicBezTo>
                <a:cubicBezTo>
                  <a:pt x="6733" y="2106"/>
                  <a:pt x="6733" y="2069"/>
                  <a:pt x="6715" y="2069"/>
                </a:cubicBezTo>
                <a:cubicBezTo>
                  <a:pt x="6715" y="2069"/>
                  <a:pt x="6696" y="2069"/>
                  <a:pt x="6696" y="2033"/>
                </a:cubicBezTo>
                <a:cubicBezTo>
                  <a:pt x="6677" y="2033"/>
                  <a:pt x="6677" y="2033"/>
                  <a:pt x="6677" y="2033"/>
                </a:cubicBezTo>
                <a:cubicBezTo>
                  <a:pt x="6677" y="1997"/>
                  <a:pt x="6658" y="1960"/>
                  <a:pt x="6658" y="1960"/>
                </a:cubicBezTo>
                <a:cubicBezTo>
                  <a:pt x="6658" y="1924"/>
                  <a:pt x="6658" y="1888"/>
                  <a:pt x="6658" y="1888"/>
                </a:cubicBezTo>
                <a:cubicBezTo>
                  <a:pt x="6639" y="1888"/>
                  <a:pt x="6639" y="1888"/>
                  <a:pt x="6639" y="1888"/>
                </a:cubicBezTo>
                <a:cubicBezTo>
                  <a:pt x="6620" y="1888"/>
                  <a:pt x="6620" y="1851"/>
                  <a:pt x="6620" y="1851"/>
                </a:cubicBezTo>
                <a:cubicBezTo>
                  <a:pt x="6620" y="1851"/>
                  <a:pt x="6601" y="1851"/>
                  <a:pt x="6601" y="1851"/>
                </a:cubicBezTo>
                <a:cubicBezTo>
                  <a:pt x="6582" y="1815"/>
                  <a:pt x="6582" y="1815"/>
                  <a:pt x="6582" y="1815"/>
                </a:cubicBezTo>
                <a:cubicBezTo>
                  <a:pt x="6582" y="1779"/>
                  <a:pt x="6563" y="1779"/>
                  <a:pt x="6544" y="1779"/>
                </a:cubicBezTo>
                <a:cubicBezTo>
                  <a:pt x="6544" y="1779"/>
                  <a:pt x="6544" y="1779"/>
                  <a:pt x="6525" y="1779"/>
                </a:cubicBezTo>
                <a:cubicBezTo>
                  <a:pt x="6525" y="1779"/>
                  <a:pt x="6506" y="1779"/>
                  <a:pt x="6506" y="1779"/>
                </a:cubicBezTo>
                <a:cubicBezTo>
                  <a:pt x="6506" y="1779"/>
                  <a:pt x="6506" y="1779"/>
                  <a:pt x="6506" y="1779"/>
                </a:cubicBezTo>
                <a:cubicBezTo>
                  <a:pt x="6506" y="1779"/>
                  <a:pt x="6506" y="1743"/>
                  <a:pt x="6488" y="1743"/>
                </a:cubicBezTo>
                <a:cubicBezTo>
                  <a:pt x="6488" y="1743"/>
                  <a:pt x="6469" y="1779"/>
                  <a:pt x="6450" y="1779"/>
                </a:cubicBezTo>
                <a:cubicBezTo>
                  <a:pt x="6450" y="1779"/>
                  <a:pt x="6450" y="1779"/>
                  <a:pt x="6450" y="1743"/>
                </a:cubicBezTo>
                <a:cubicBezTo>
                  <a:pt x="6450" y="1743"/>
                  <a:pt x="6450" y="1743"/>
                  <a:pt x="6450" y="1743"/>
                </a:cubicBezTo>
                <a:cubicBezTo>
                  <a:pt x="6450" y="1779"/>
                  <a:pt x="6431" y="1779"/>
                  <a:pt x="6412" y="1779"/>
                </a:cubicBezTo>
                <a:cubicBezTo>
                  <a:pt x="6412" y="1779"/>
                  <a:pt x="6412" y="1779"/>
                  <a:pt x="6393" y="1779"/>
                </a:cubicBezTo>
                <a:cubicBezTo>
                  <a:pt x="6393" y="1779"/>
                  <a:pt x="6393" y="1815"/>
                  <a:pt x="6393" y="1815"/>
                </a:cubicBezTo>
                <a:cubicBezTo>
                  <a:pt x="6374" y="1779"/>
                  <a:pt x="6393" y="1779"/>
                  <a:pt x="6393" y="1743"/>
                </a:cubicBezTo>
                <a:cubicBezTo>
                  <a:pt x="6374" y="1743"/>
                  <a:pt x="6355" y="1779"/>
                  <a:pt x="6355" y="1779"/>
                </a:cubicBezTo>
                <a:cubicBezTo>
                  <a:pt x="6355" y="1779"/>
                  <a:pt x="6355" y="1779"/>
                  <a:pt x="6355" y="1779"/>
                </a:cubicBezTo>
                <a:cubicBezTo>
                  <a:pt x="6355" y="1779"/>
                  <a:pt x="6355" y="1779"/>
                  <a:pt x="6355" y="1779"/>
                </a:cubicBezTo>
                <a:cubicBezTo>
                  <a:pt x="6355" y="1779"/>
                  <a:pt x="6355" y="1779"/>
                  <a:pt x="6336" y="1779"/>
                </a:cubicBezTo>
                <a:cubicBezTo>
                  <a:pt x="6336" y="1779"/>
                  <a:pt x="6336" y="1743"/>
                  <a:pt x="6336" y="1743"/>
                </a:cubicBezTo>
                <a:cubicBezTo>
                  <a:pt x="6336" y="1743"/>
                  <a:pt x="6336" y="1743"/>
                  <a:pt x="6336" y="1743"/>
                </a:cubicBezTo>
                <a:cubicBezTo>
                  <a:pt x="6317" y="1779"/>
                  <a:pt x="6336" y="1779"/>
                  <a:pt x="6317" y="1779"/>
                </a:cubicBezTo>
                <a:cubicBezTo>
                  <a:pt x="6298" y="1815"/>
                  <a:pt x="6261" y="1743"/>
                  <a:pt x="6242" y="1706"/>
                </a:cubicBezTo>
                <a:cubicBezTo>
                  <a:pt x="6242" y="1706"/>
                  <a:pt x="6242" y="1706"/>
                  <a:pt x="6242" y="1706"/>
                </a:cubicBezTo>
                <a:cubicBezTo>
                  <a:pt x="6242" y="1670"/>
                  <a:pt x="6242" y="1670"/>
                  <a:pt x="6261" y="1670"/>
                </a:cubicBezTo>
                <a:cubicBezTo>
                  <a:pt x="6261" y="1670"/>
                  <a:pt x="6261" y="1670"/>
                  <a:pt x="6261" y="1670"/>
                </a:cubicBezTo>
                <a:cubicBezTo>
                  <a:pt x="6261" y="1670"/>
                  <a:pt x="6280" y="1670"/>
                  <a:pt x="6280" y="1670"/>
                </a:cubicBezTo>
                <a:cubicBezTo>
                  <a:pt x="6280" y="1670"/>
                  <a:pt x="6298" y="1634"/>
                  <a:pt x="6298" y="1634"/>
                </a:cubicBezTo>
                <a:cubicBezTo>
                  <a:pt x="6298" y="1634"/>
                  <a:pt x="6298" y="1634"/>
                  <a:pt x="6298" y="1634"/>
                </a:cubicBezTo>
                <a:cubicBezTo>
                  <a:pt x="6280" y="1634"/>
                  <a:pt x="6261" y="1634"/>
                  <a:pt x="6242" y="1597"/>
                </a:cubicBezTo>
                <a:cubicBezTo>
                  <a:pt x="6242" y="1597"/>
                  <a:pt x="6242" y="1597"/>
                  <a:pt x="6242" y="1561"/>
                </a:cubicBezTo>
                <a:cubicBezTo>
                  <a:pt x="6242" y="1561"/>
                  <a:pt x="6242" y="1561"/>
                  <a:pt x="6242" y="1561"/>
                </a:cubicBezTo>
                <a:cubicBezTo>
                  <a:pt x="6242" y="1561"/>
                  <a:pt x="6242" y="1597"/>
                  <a:pt x="6223" y="1597"/>
                </a:cubicBezTo>
                <a:cubicBezTo>
                  <a:pt x="6223" y="1597"/>
                  <a:pt x="6204" y="1561"/>
                  <a:pt x="6204" y="1561"/>
                </a:cubicBezTo>
                <a:cubicBezTo>
                  <a:pt x="6223" y="1561"/>
                  <a:pt x="6223" y="1525"/>
                  <a:pt x="6223" y="1525"/>
                </a:cubicBezTo>
                <a:cubicBezTo>
                  <a:pt x="6223" y="1525"/>
                  <a:pt x="6242" y="1525"/>
                  <a:pt x="6242" y="1525"/>
                </a:cubicBezTo>
                <a:cubicBezTo>
                  <a:pt x="6261" y="1525"/>
                  <a:pt x="6261" y="1525"/>
                  <a:pt x="6261" y="1525"/>
                </a:cubicBezTo>
                <a:cubicBezTo>
                  <a:pt x="6280" y="1525"/>
                  <a:pt x="6317" y="1525"/>
                  <a:pt x="6336" y="1525"/>
                </a:cubicBezTo>
                <a:cubicBezTo>
                  <a:pt x="6336" y="1525"/>
                  <a:pt x="6355" y="1561"/>
                  <a:pt x="6355" y="1525"/>
                </a:cubicBezTo>
                <a:cubicBezTo>
                  <a:pt x="6355" y="1525"/>
                  <a:pt x="6355" y="1525"/>
                  <a:pt x="6355" y="1525"/>
                </a:cubicBezTo>
                <a:cubicBezTo>
                  <a:pt x="6355" y="1525"/>
                  <a:pt x="6355" y="1525"/>
                  <a:pt x="6355" y="1525"/>
                </a:cubicBezTo>
                <a:cubicBezTo>
                  <a:pt x="6336" y="1525"/>
                  <a:pt x="6317" y="1525"/>
                  <a:pt x="6317" y="1488"/>
                </a:cubicBezTo>
                <a:cubicBezTo>
                  <a:pt x="6317" y="1488"/>
                  <a:pt x="6317" y="1488"/>
                  <a:pt x="6317" y="1488"/>
                </a:cubicBezTo>
                <a:cubicBezTo>
                  <a:pt x="6336" y="1488"/>
                  <a:pt x="6374" y="1488"/>
                  <a:pt x="6393" y="1488"/>
                </a:cubicBezTo>
                <a:cubicBezTo>
                  <a:pt x="6393" y="1525"/>
                  <a:pt x="6393" y="1525"/>
                  <a:pt x="6412" y="1525"/>
                </a:cubicBezTo>
                <a:cubicBezTo>
                  <a:pt x="6393" y="1488"/>
                  <a:pt x="6412" y="1488"/>
                  <a:pt x="6431" y="1488"/>
                </a:cubicBezTo>
                <a:cubicBezTo>
                  <a:pt x="6431" y="1452"/>
                  <a:pt x="6412" y="1452"/>
                  <a:pt x="6412" y="1416"/>
                </a:cubicBezTo>
                <a:cubicBezTo>
                  <a:pt x="6393" y="1452"/>
                  <a:pt x="6393" y="1452"/>
                  <a:pt x="6393" y="1452"/>
                </a:cubicBezTo>
                <a:cubicBezTo>
                  <a:pt x="6393" y="1452"/>
                  <a:pt x="6374" y="1452"/>
                  <a:pt x="6374" y="1452"/>
                </a:cubicBezTo>
                <a:cubicBezTo>
                  <a:pt x="6355" y="1452"/>
                  <a:pt x="6336" y="1452"/>
                  <a:pt x="6336" y="1452"/>
                </a:cubicBezTo>
                <a:cubicBezTo>
                  <a:pt x="6317" y="1452"/>
                  <a:pt x="6298" y="1452"/>
                  <a:pt x="6298" y="1452"/>
                </a:cubicBezTo>
                <a:cubicBezTo>
                  <a:pt x="6298" y="1452"/>
                  <a:pt x="6298" y="1452"/>
                  <a:pt x="6280" y="1452"/>
                </a:cubicBezTo>
                <a:cubicBezTo>
                  <a:pt x="6280" y="1452"/>
                  <a:pt x="6280" y="1416"/>
                  <a:pt x="6280" y="1416"/>
                </a:cubicBezTo>
                <a:cubicBezTo>
                  <a:pt x="6280" y="1416"/>
                  <a:pt x="6298" y="1416"/>
                  <a:pt x="6298" y="1416"/>
                </a:cubicBezTo>
                <a:cubicBezTo>
                  <a:pt x="6298" y="1416"/>
                  <a:pt x="6298" y="1416"/>
                  <a:pt x="6298" y="1416"/>
                </a:cubicBezTo>
                <a:cubicBezTo>
                  <a:pt x="6280" y="1416"/>
                  <a:pt x="6280" y="1416"/>
                  <a:pt x="6261" y="1416"/>
                </a:cubicBezTo>
                <a:cubicBezTo>
                  <a:pt x="6261" y="1416"/>
                  <a:pt x="6261" y="1416"/>
                  <a:pt x="6261" y="1416"/>
                </a:cubicBezTo>
                <a:cubicBezTo>
                  <a:pt x="6280" y="1379"/>
                  <a:pt x="6280" y="1379"/>
                  <a:pt x="6298" y="1379"/>
                </a:cubicBezTo>
                <a:cubicBezTo>
                  <a:pt x="6298" y="1379"/>
                  <a:pt x="6298" y="1379"/>
                  <a:pt x="6298" y="1379"/>
                </a:cubicBezTo>
                <a:cubicBezTo>
                  <a:pt x="6280" y="1379"/>
                  <a:pt x="6261" y="1343"/>
                  <a:pt x="6242" y="1343"/>
                </a:cubicBezTo>
                <a:cubicBezTo>
                  <a:pt x="6242" y="1343"/>
                  <a:pt x="6223" y="1343"/>
                  <a:pt x="6223" y="1343"/>
                </a:cubicBezTo>
                <a:cubicBezTo>
                  <a:pt x="6223" y="1307"/>
                  <a:pt x="6204" y="1271"/>
                  <a:pt x="6204" y="1271"/>
                </a:cubicBezTo>
                <a:cubicBezTo>
                  <a:pt x="6204" y="1271"/>
                  <a:pt x="6204" y="1271"/>
                  <a:pt x="6204" y="1271"/>
                </a:cubicBezTo>
                <a:cubicBezTo>
                  <a:pt x="6204" y="1271"/>
                  <a:pt x="6223" y="1271"/>
                  <a:pt x="6242" y="1234"/>
                </a:cubicBezTo>
                <a:cubicBezTo>
                  <a:pt x="6223" y="1234"/>
                  <a:pt x="6223" y="1234"/>
                  <a:pt x="6223" y="1234"/>
                </a:cubicBezTo>
                <a:cubicBezTo>
                  <a:pt x="6223" y="1234"/>
                  <a:pt x="6242" y="1234"/>
                  <a:pt x="6242" y="1198"/>
                </a:cubicBezTo>
                <a:cubicBezTo>
                  <a:pt x="6242" y="1198"/>
                  <a:pt x="6242" y="1198"/>
                  <a:pt x="6242" y="1198"/>
                </a:cubicBezTo>
                <a:cubicBezTo>
                  <a:pt x="6261" y="1198"/>
                  <a:pt x="6280" y="1198"/>
                  <a:pt x="6280" y="1198"/>
                </a:cubicBezTo>
                <a:cubicBezTo>
                  <a:pt x="6298" y="1198"/>
                  <a:pt x="6298" y="1198"/>
                  <a:pt x="6298" y="1198"/>
                </a:cubicBezTo>
                <a:cubicBezTo>
                  <a:pt x="6317" y="1198"/>
                  <a:pt x="6317" y="1162"/>
                  <a:pt x="6336" y="1162"/>
                </a:cubicBezTo>
                <a:cubicBezTo>
                  <a:pt x="6336" y="1162"/>
                  <a:pt x="6336" y="1162"/>
                  <a:pt x="6336" y="1162"/>
                </a:cubicBezTo>
                <a:cubicBezTo>
                  <a:pt x="6355" y="1162"/>
                  <a:pt x="6355" y="1162"/>
                  <a:pt x="6374" y="1162"/>
                </a:cubicBezTo>
                <a:cubicBezTo>
                  <a:pt x="6374" y="1125"/>
                  <a:pt x="6393" y="1125"/>
                  <a:pt x="6412" y="1125"/>
                </a:cubicBezTo>
                <a:cubicBezTo>
                  <a:pt x="6431" y="1089"/>
                  <a:pt x="6450" y="1125"/>
                  <a:pt x="6469" y="1125"/>
                </a:cubicBezTo>
                <a:cubicBezTo>
                  <a:pt x="6469" y="1089"/>
                  <a:pt x="6488" y="1089"/>
                  <a:pt x="6488" y="1089"/>
                </a:cubicBezTo>
                <a:cubicBezTo>
                  <a:pt x="6506" y="1089"/>
                  <a:pt x="6506" y="1089"/>
                  <a:pt x="6506" y="1089"/>
                </a:cubicBezTo>
                <a:cubicBezTo>
                  <a:pt x="6525" y="1089"/>
                  <a:pt x="6544" y="1053"/>
                  <a:pt x="6544" y="1053"/>
                </a:cubicBezTo>
                <a:cubicBezTo>
                  <a:pt x="6544" y="1016"/>
                  <a:pt x="6563" y="1016"/>
                  <a:pt x="6563" y="1016"/>
                </a:cubicBezTo>
                <a:cubicBezTo>
                  <a:pt x="6563" y="1016"/>
                  <a:pt x="6544" y="1016"/>
                  <a:pt x="6544" y="1016"/>
                </a:cubicBezTo>
                <a:cubicBezTo>
                  <a:pt x="6563" y="980"/>
                  <a:pt x="6563" y="944"/>
                  <a:pt x="6582" y="944"/>
                </a:cubicBezTo>
                <a:cubicBezTo>
                  <a:pt x="6582" y="908"/>
                  <a:pt x="6601" y="908"/>
                  <a:pt x="6601" y="908"/>
                </a:cubicBezTo>
                <a:cubicBezTo>
                  <a:pt x="6601" y="908"/>
                  <a:pt x="6601" y="871"/>
                  <a:pt x="6601" y="871"/>
                </a:cubicBezTo>
                <a:cubicBezTo>
                  <a:pt x="6601" y="871"/>
                  <a:pt x="6601" y="871"/>
                  <a:pt x="6601" y="871"/>
                </a:cubicBezTo>
                <a:cubicBezTo>
                  <a:pt x="6601" y="908"/>
                  <a:pt x="6563" y="908"/>
                  <a:pt x="6525" y="908"/>
                </a:cubicBezTo>
                <a:cubicBezTo>
                  <a:pt x="6525" y="908"/>
                  <a:pt x="6506" y="908"/>
                  <a:pt x="6506" y="908"/>
                </a:cubicBezTo>
                <a:cubicBezTo>
                  <a:pt x="6506" y="871"/>
                  <a:pt x="6525" y="871"/>
                  <a:pt x="6525" y="835"/>
                </a:cubicBezTo>
                <a:cubicBezTo>
                  <a:pt x="6544" y="835"/>
                  <a:pt x="6525" y="835"/>
                  <a:pt x="6544" y="799"/>
                </a:cubicBezTo>
                <a:cubicBezTo>
                  <a:pt x="6544" y="799"/>
                  <a:pt x="6563" y="799"/>
                  <a:pt x="6563" y="762"/>
                </a:cubicBezTo>
                <a:cubicBezTo>
                  <a:pt x="6582" y="762"/>
                  <a:pt x="6601" y="726"/>
                  <a:pt x="6620" y="726"/>
                </a:cubicBezTo>
                <a:cubicBezTo>
                  <a:pt x="6620" y="726"/>
                  <a:pt x="6639" y="726"/>
                  <a:pt x="6639" y="690"/>
                </a:cubicBezTo>
                <a:cubicBezTo>
                  <a:pt x="6639" y="690"/>
                  <a:pt x="6639" y="690"/>
                  <a:pt x="6639" y="690"/>
                </a:cubicBezTo>
                <a:cubicBezTo>
                  <a:pt x="6658" y="690"/>
                  <a:pt x="6677" y="690"/>
                  <a:pt x="6696" y="690"/>
                </a:cubicBezTo>
                <a:cubicBezTo>
                  <a:pt x="6696" y="690"/>
                  <a:pt x="6715" y="690"/>
                  <a:pt x="6715" y="690"/>
                </a:cubicBezTo>
                <a:cubicBezTo>
                  <a:pt x="6715" y="690"/>
                  <a:pt x="6715" y="690"/>
                  <a:pt x="6715" y="653"/>
                </a:cubicBezTo>
                <a:cubicBezTo>
                  <a:pt x="6715" y="653"/>
                  <a:pt x="6715" y="653"/>
                  <a:pt x="6715" y="653"/>
                </a:cubicBezTo>
                <a:cubicBezTo>
                  <a:pt x="6715" y="653"/>
                  <a:pt x="6733" y="617"/>
                  <a:pt x="6733" y="617"/>
                </a:cubicBezTo>
                <a:cubicBezTo>
                  <a:pt x="6733" y="617"/>
                  <a:pt x="6733" y="617"/>
                  <a:pt x="6733" y="617"/>
                </a:cubicBezTo>
                <a:cubicBezTo>
                  <a:pt x="6733" y="581"/>
                  <a:pt x="6752" y="545"/>
                  <a:pt x="6752" y="508"/>
                </a:cubicBezTo>
                <a:cubicBezTo>
                  <a:pt x="6752" y="508"/>
                  <a:pt x="6771" y="508"/>
                  <a:pt x="6771" y="508"/>
                </a:cubicBezTo>
                <a:cubicBezTo>
                  <a:pt x="6790" y="508"/>
                  <a:pt x="6790" y="581"/>
                  <a:pt x="6809" y="581"/>
                </a:cubicBezTo>
                <a:cubicBezTo>
                  <a:pt x="6809" y="581"/>
                  <a:pt x="6809" y="581"/>
                  <a:pt x="6809" y="581"/>
                </a:cubicBezTo>
                <a:cubicBezTo>
                  <a:pt x="6809" y="581"/>
                  <a:pt x="6809" y="545"/>
                  <a:pt x="6809" y="545"/>
                </a:cubicBezTo>
                <a:cubicBezTo>
                  <a:pt x="6790" y="545"/>
                  <a:pt x="6790" y="508"/>
                  <a:pt x="6790" y="508"/>
                </a:cubicBezTo>
                <a:cubicBezTo>
                  <a:pt x="6790" y="508"/>
                  <a:pt x="6790" y="508"/>
                  <a:pt x="6790" y="508"/>
                </a:cubicBezTo>
                <a:cubicBezTo>
                  <a:pt x="6790" y="508"/>
                  <a:pt x="6809" y="472"/>
                  <a:pt x="6809" y="472"/>
                </a:cubicBezTo>
                <a:cubicBezTo>
                  <a:pt x="6828" y="472"/>
                  <a:pt x="6828" y="472"/>
                  <a:pt x="6847" y="472"/>
                </a:cubicBezTo>
                <a:cubicBezTo>
                  <a:pt x="6847" y="436"/>
                  <a:pt x="6847" y="436"/>
                  <a:pt x="6847" y="436"/>
                </a:cubicBezTo>
                <a:cubicBezTo>
                  <a:pt x="6866" y="436"/>
                  <a:pt x="6866" y="472"/>
                  <a:pt x="6885" y="472"/>
                </a:cubicBezTo>
                <a:cubicBezTo>
                  <a:pt x="6885" y="436"/>
                  <a:pt x="6885" y="436"/>
                  <a:pt x="6885" y="436"/>
                </a:cubicBezTo>
                <a:cubicBezTo>
                  <a:pt x="6923" y="363"/>
                  <a:pt x="6923" y="508"/>
                  <a:pt x="6942" y="508"/>
                </a:cubicBezTo>
                <a:cubicBezTo>
                  <a:pt x="6942" y="508"/>
                  <a:pt x="6942" y="508"/>
                  <a:pt x="6942" y="508"/>
                </a:cubicBezTo>
                <a:cubicBezTo>
                  <a:pt x="6942" y="508"/>
                  <a:pt x="6942" y="508"/>
                  <a:pt x="6942" y="508"/>
                </a:cubicBezTo>
                <a:cubicBezTo>
                  <a:pt x="6979" y="508"/>
                  <a:pt x="6998" y="545"/>
                  <a:pt x="7017" y="581"/>
                </a:cubicBezTo>
                <a:cubicBezTo>
                  <a:pt x="7017" y="581"/>
                  <a:pt x="7017" y="581"/>
                  <a:pt x="7017" y="581"/>
                </a:cubicBezTo>
                <a:cubicBezTo>
                  <a:pt x="7017" y="581"/>
                  <a:pt x="7036" y="545"/>
                  <a:pt x="7036" y="545"/>
                </a:cubicBezTo>
                <a:cubicBezTo>
                  <a:pt x="7017" y="545"/>
                  <a:pt x="7017" y="545"/>
                  <a:pt x="7017" y="545"/>
                </a:cubicBezTo>
                <a:cubicBezTo>
                  <a:pt x="6998" y="508"/>
                  <a:pt x="6998" y="508"/>
                  <a:pt x="6998" y="508"/>
                </a:cubicBezTo>
                <a:cubicBezTo>
                  <a:pt x="7017" y="508"/>
                  <a:pt x="7017" y="508"/>
                  <a:pt x="7036" y="508"/>
                </a:cubicBezTo>
                <a:cubicBezTo>
                  <a:pt x="7036" y="472"/>
                  <a:pt x="7017" y="472"/>
                  <a:pt x="6998" y="472"/>
                </a:cubicBezTo>
                <a:cubicBezTo>
                  <a:pt x="6979" y="436"/>
                  <a:pt x="6998" y="399"/>
                  <a:pt x="7017" y="399"/>
                </a:cubicBezTo>
                <a:cubicBezTo>
                  <a:pt x="7036" y="363"/>
                  <a:pt x="7036" y="399"/>
                  <a:pt x="7055" y="399"/>
                </a:cubicBezTo>
                <a:cubicBezTo>
                  <a:pt x="7055" y="399"/>
                  <a:pt x="7055" y="399"/>
                  <a:pt x="7055" y="399"/>
                </a:cubicBezTo>
                <a:cubicBezTo>
                  <a:pt x="7074" y="436"/>
                  <a:pt x="7074" y="436"/>
                  <a:pt x="7074" y="436"/>
                </a:cubicBezTo>
                <a:cubicBezTo>
                  <a:pt x="7093" y="436"/>
                  <a:pt x="7093" y="436"/>
                  <a:pt x="7112" y="436"/>
                </a:cubicBezTo>
                <a:cubicBezTo>
                  <a:pt x="7112" y="472"/>
                  <a:pt x="7131" y="508"/>
                  <a:pt x="7150" y="508"/>
                </a:cubicBezTo>
                <a:cubicBezTo>
                  <a:pt x="7150" y="508"/>
                  <a:pt x="7150" y="508"/>
                  <a:pt x="7150" y="508"/>
                </a:cubicBezTo>
                <a:cubicBezTo>
                  <a:pt x="7150" y="508"/>
                  <a:pt x="7168" y="508"/>
                  <a:pt x="7168" y="508"/>
                </a:cubicBezTo>
                <a:cubicBezTo>
                  <a:pt x="7168" y="472"/>
                  <a:pt x="7168" y="508"/>
                  <a:pt x="7168" y="472"/>
                </a:cubicBezTo>
                <a:cubicBezTo>
                  <a:pt x="7168" y="472"/>
                  <a:pt x="7168" y="472"/>
                  <a:pt x="7168" y="472"/>
                </a:cubicBezTo>
                <a:cubicBezTo>
                  <a:pt x="7168" y="472"/>
                  <a:pt x="7168" y="399"/>
                  <a:pt x="7187" y="399"/>
                </a:cubicBezTo>
                <a:cubicBezTo>
                  <a:pt x="7187" y="399"/>
                  <a:pt x="7187" y="399"/>
                  <a:pt x="7187" y="399"/>
                </a:cubicBezTo>
                <a:cubicBezTo>
                  <a:pt x="7187" y="363"/>
                  <a:pt x="7168" y="363"/>
                  <a:pt x="7168" y="363"/>
                </a:cubicBezTo>
                <a:cubicBezTo>
                  <a:pt x="7150" y="363"/>
                  <a:pt x="7150" y="327"/>
                  <a:pt x="7131" y="327"/>
                </a:cubicBezTo>
                <a:cubicBezTo>
                  <a:pt x="7131" y="327"/>
                  <a:pt x="7112" y="290"/>
                  <a:pt x="7112" y="290"/>
                </a:cubicBezTo>
                <a:cubicBezTo>
                  <a:pt x="7131" y="290"/>
                  <a:pt x="7168" y="290"/>
                  <a:pt x="7187" y="290"/>
                </a:cubicBezTo>
                <a:cubicBezTo>
                  <a:pt x="7187" y="290"/>
                  <a:pt x="7206" y="290"/>
                  <a:pt x="7206" y="290"/>
                </a:cubicBezTo>
                <a:cubicBezTo>
                  <a:pt x="7206" y="290"/>
                  <a:pt x="7206" y="327"/>
                  <a:pt x="7206" y="327"/>
                </a:cubicBezTo>
                <a:cubicBezTo>
                  <a:pt x="7206" y="327"/>
                  <a:pt x="7206" y="327"/>
                  <a:pt x="7206" y="327"/>
                </a:cubicBezTo>
                <a:cubicBezTo>
                  <a:pt x="7225" y="327"/>
                  <a:pt x="7225" y="290"/>
                  <a:pt x="7244" y="290"/>
                </a:cubicBezTo>
                <a:cubicBezTo>
                  <a:pt x="7244" y="290"/>
                  <a:pt x="7206" y="254"/>
                  <a:pt x="7187" y="254"/>
                </a:cubicBezTo>
                <a:cubicBezTo>
                  <a:pt x="7168" y="254"/>
                  <a:pt x="7168" y="290"/>
                  <a:pt x="7150" y="290"/>
                </a:cubicBezTo>
                <a:cubicBezTo>
                  <a:pt x="7131" y="290"/>
                  <a:pt x="7131" y="254"/>
                  <a:pt x="7112" y="254"/>
                </a:cubicBezTo>
                <a:cubicBezTo>
                  <a:pt x="7093" y="254"/>
                  <a:pt x="7093" y="254"/>
                  <a:pt x="7074" y="254"/>
                </a:cubicBezTo>
                <a:cubicBezTo>
                  <a:pt x="7093" y="254"/>
                  <a:pt x="7093" y="254"/>
                  <a:pt x="7112" y="254"/>
                </a:cubicBezTo>
                <a:cubicBezTo>
                  <a:pt x="7112" y="254"/>
                  <a:pt x="7112" y="254"/>
                  <a:pt x="7112" y="254"/>
                </a:cubicBezTo>
                <a:cubicBezTo>
                  <a:pt x="7112" y="254"/>
                  <a:pt x="7131" y="254"/>
                  <a:pt x="7150" y="254"/>
                </a:cubicBezTo>
                <a:cubicBezTo>
                  <a:pt x="7150" y="254"/>
                  <a:pt x="7150" y="254"/>
                  <a:pt x="7150" y="254"/>
                </a:cubicBezTo>
                <a:cubicBezTo>
                  <a:pt x="7150" y="254"/>
                  <a:pt x="7150" y="254"/>
                  <a:pt x="7150" y="254"/>
                </a:cubicBezTo>
                <a:cubicBezTo>
                  <a:pt x="7150" y="254"/>
                  <a:pt x="7093" y="218"/>
                  <a:pt x="7112" y="218"/>
                </a:cubicBezTo>
                <a:cubicBezTo>
                  <a:pt x="7131" y="218"/>
                  <a:pt x="7131" y="218"/>
                  <a:pt x="7131" y="218"/>
                </a:cubicBezTo>
                <a:cubicBezTo>
                  <a:pt x="7131" y="218"/>
                  <a:pt x="7131" y="218"/>
                  <a:pt x="7131" y="218"/>
                </a:cubicBezTo>
                <a:cubicBezTo>
                  <a:pt x="7131" y="182"/>
                  <a:pt x="7150" y="218"/>
                  <a:pt x="7150" y="218"/>
                </a:cubicBezTo>
                <a:cubicBezTo>
                  <a:pt x="7168" y="218"/>
                  <a:pt x="7168" y="218"/>
                  <a:pt x="7168" y="182"/>
                </a:cubicBezTo>
                <a:cubicBezTo>
                  <a:pt x="7168" y="182"/>
                  <a:pt x="7168" y="182"/>
                  <a:pt x="7168" y="182"/>
                </a:cubicBezTo>
                <a:cubicBezTo>
                  <a:pt x="7168" y="182"/>
                  <a:pt x="7187" y="182"/>
                  <a:pt x="7187" y="182"/>
                </a:cubicBezTo>
                <a:cubicBezTo>
                  <a:pt x="7187" y="182"/>
                  <a:pt x="7187" y="218"/>
                  <a:pt x="7187" y="218"/>
                </a:cubicBezTo>
                <a:cubicBezTo>
                  <a:pt x="7187" y="218"/>
                  <a:pt x="7206" y="218"/>
                  <a:pt x="7225" y="218"/>
                </a:cubicBezTo>
                <a:cubicBezTo>
                  <a:pt x="7225" y="218"/>
                  <a:pt x="7244" y="218"/>
                  <a:pt x="7244" y="218"/>
                </a:cubicBezTo>
                <a:cubicBezTo>
                  <a:pt x="7244" y="218"/>
                  <a:pt x="7263" y="218"/>
                  <a:pt x="7263" y="218"/>
                </a:cubicBezTo>
                <a:cubicBezTo>
                  <a:pt x="7263" y="218"/>
                  <a:pt x="7263" y="218"/>
                  <a:pt x="7263" y="218"/>
                </a:cubicBezTo>
                <a:cubicBezTo>
                  <a:pt x="7244" y="182"/>
                  <a:pt x="7244" y="182"/>
                  <a:pt x="7263" y="182"/>
                </a:cubicBezTo>
                <a:cubicBezTo>
                  <a:pt x="7263" y="145"/>
                  <a:pt x="7263" y="145"/>
                  <a:pt x="7282" y="145"/>
                </a:cubicBezTo>
                <a:cubicBezTo>
                  <a:pt x="7263" y="145"/>
                  <a:pt x="7244" y="109"/>
                  <a:pt x="7244" y="109"/>
                </a:cubicBezTo>
                <a:cubicBezTo>
                  <a:pt x="7263" y="109"/>
                  <a:pt x="7263" y="109"/>
                  <a:pt x="7263" y="109"/>
                </a:cubicBezTo>
                <a:cubicBezTo>
                  <a:pt x="7263" y="109"/>
                  <a:pt x="7263" y="109"/>
                  <a:pt x="7263" y="73"/>
                </a:cubicBezTo>
                <a:cubicBezTo>
                  <a:pt x="7282" y="73"/>
                  <a:pt x="7282" y="73"/>
                  <a:pt x="7282" y="109"/>
                </a:cubicBezTo>
                <a:cubicBezTo>
                  <a:pt x="7282" y="73"/>
                  <a:pt x="7282" y="73"/>
                  <a:pt x="7282" y="73"/>
                </a:cubicBezTo>
                <a:cubicBezTo>
                  <a:pt x="7282" y="36"/>
                  <a:pt x="7301" y="36"/>
                  <a:pt x="7301" y="36"/>
                </a:cubicBezTo>
                <a:cubicBezTo>
                  <a:pt x="7339" y="36"/>
                  <a:pt x="7377" y="0"/>
                  <a:pt x="7414" y="0"/>
                </a:cubicBezTo>
                <a:cubicBezTo>
                  <a:pt x="7433" y="0"/>
                  <a:pt x="7433" y="0"/>
                  <a:pt x="7452" y="0"/>
                </a:cubicBezTo>
                <a:cubicBezTo>
                  <a:pt x="7452" y="0"/>
                  <a:pt x="7452" y="0"/>
                  <a:pt x="7471" y="0"/>
                </a:cubicBezTo>
                <a:cubicBezTo>
                  <a:pt x="7471" y="0"/>
                  <a:pt x="7471" y="0"/>
                  <a:pt x="7471" y="0"/>
                </a:cubicBezTo>
                <a:cubicBezTo>
                  <a:pt x="7490" y="0"/>
                  <a:pt x="7509" y="0"/>
                  <a:pt x="7509" y="0"/>
                </a:cubicBezTo>
                <a:cubicBezTo>
                  <a:pt x="7490" y="36"/>
                  <a:pt x="7452" y="36"/>
                  <a:pt x="7433" y="73"/>
                </a:cubicBezTo>
                <a:cubicBezTo>
                  <a:pt x="7414" y="73"/>
                  <a:pt x="7414" y="109"/>
                  <a:pt x="7395" y="109"/>
                </a:cubicBezTo>
                <a:cubicBezTo>
                  <a:pt x="7395" y="109"/>
                  <a:pt x="7377" y="109"/>
                  <a:pt x="7377" y="109"/>
                </a:cubicBezTo>
                <a:cubicBezTo>
                  <a:pt x="7377" y="109"/>
                  <a:pt x="7377" y="109"/>
                  <a:pt x="7377" y="109"/>
                </a:cubicBezTo>
                <a:cubicBezTo>
                  <a:pt x="7377" y="109"/>
                  <a:pt x="7395" y="145"/>
                  <a:pt x="7377" y="145"/>
                </a:cubicBezTo>
                <a:cubicBezTo>
                  <a:pt x="7377" y="145"/>
                  <a:pt x="7377" y="145"/>
                  <a:pt x="7377" y="145"/>
                </a:cubicBezTo>
                <a:cubicBezTo>
                  <a:pt x="7377" y="145"/>
                  <a:pt x="7339" y="182"/>
                  <a:pt x="7339" y="182"/>
                </a:cubicBezTo>
                <a:cubicBezTo>
                  <a:pt x="7339" y="182"/>
                  <a:pt x="7339" y="218"/>
                  <a:pt x="7339" y="218"/>
                </a:cubicBezTo>
                <a:cubicBezTo>
                  <a:pt x="7339" y="218"/>
                  <a:pt x="7339" y="218"/>
                  <a:pt x="7339" y="218"/>
                </a:cubicBezTo>
                <a:cubicBezTo>
                  <a:pt x="7358" y="218"/>
                  <a:pt x="7339" y="182"/>
                  <a:pt x="7358" y="182"/>
                </a:cubicBezTo>
                <a:cubicBezTo>
                  <a:pt x="7358" y="182"/>
                  <a:pt x="7377" y="182"/>
                  <a:pt x="7377" y="182"/>
                </a:cubicBezTo>
                <a:cubicBezTo>
                  <a:pt x="7377" y="182"/>
                  <a:pt x="7377" y="145"/>
                  <a:pt x="7395" y="145"/>
                </a:cubicBezTo>
                <a:cubicBezTo>
                  <a:pt x="7414" y="145"/>
                  <a:pt x="7414" y="145"/>
                  <a:pt x="7414" y="145"/>
                </a:cubicBezTo>
                <a:cubicBezTo>
                  <a:pt x="7433" y="109"/>
                  <a:pt x="7433" y="109"/>
                  <a:pt x="7433" y="73"/>
                </a:cubicBezTo>
                <a:cubicBezTo>
                  <a:pt x="7452" y="73"/>
                  <a:pt x="7471" y="73"/>
                  <a:pt x="7471" y="73"/>
                </a:cubicBezTo>
                <a:cubicBezTo>
                  <a:pt x="7490" y="73"/>
                  <a:pt x="7490" y="73"/>
                  <a:pt x="7490" y="73"/>
                </a:cubicBezTo>
                <a:cubicBezTo>
                  <a:pt x="7509" y="73"/>
                  <a:pt x="7528" y="36"/>
                  <a:pt x="7528" y="0"/>
                </a:cubicBezTo>
                <a:cubicBezTo>
                  <a:pt x="7528" y="0"/>
                  <a:pt x="7528" y="0"/>
                  <a:pt x="7528" y="0"/>
                </a:cubicBezTo>
                <a:cubicBezTo>
                  <a:pt x="7528" y="36"/>
                  <a:pt x="7547" y="36"/>
                  <a:pt x="7547" y="36"/>
                </a:cubicBezTo>
                <a:cubicBezTo>
                  <a:pt x="7547" y="36"/>
                  <a:pt x="7566" y="36"/>
                  <a:pt x="7566" y="36"/>
                </a:cubicBezTo>
                <a:cubicBezTo>
                  <a:pt x="7566" y="36"/>
                  <a:pt x="7566" y="36"/>
                  <a:pt x="7566" y="36"/>
                </a:cubicBezTo>
                <a:cubicBezTo>
                  <a:pt x="7566" y="36"/>
                  <a:pt x="7566" y="73"/>
                  <a:pt x="7585" y="73"/>
                </a:cubicBezTo>
                <a:cubicBezTo>
                  <a:pt x="7585" y="73"/>
                  <a:pt x="7585" y="73"/>
                  <a:pt x="7585" y="73"/>
                </a:cubicBezTo>
                <a:cubicBezTo>
                  <a:pt x="7585" y="36"/>
                  <a:pt x="7585" y="36"/>
                  <a:pt x="7585" y="36"/>
                </a:cubicBezTo>
                <a:cubicBezTo>
                  <a:pt x="7585" y="36"/>
                  <a:pt x="7585" y="36"/>
                  <a:pt x="7585" y="36"/>
                </a:cubicBezTo>
                <a:cubicBezTo>
                  <a:pt x="7604" y="36"/>
                  <a:pt x="7622" y="73"/>
                  <a:pt x="7641" y="73"/>
                </a:cubicBezTo>
                <a:cubicBezTo>
                  <a:pt x="7641" y="73"/>
                  <a:pt x="7660" y="73"/>
                  <a:pt x="7660" y="73"/>
                </a:cubicBezTo>
                <a:cubicBezTo>
                  <a:pt x="7660" y="109"/>
                  <a:pt x="7622" y="182"/>
                  <a:pt x="7604" y="218"/>
                </a:cubicBezTo>
                <a:cubicBezTo>
                  <a:pt x="7604" y="218"/>
                  <a:pt x="7604" y="218"/>
                  <a:pt x="7585" y="218"/>
                </a:cubicBezTo>
                <a:cubicBezTo>
                  <a:pt x="7566" y="218"/>
                  <a:pt x="7566" y="218"/>
                  <a:pt x="7547" y="254"/>
                </a:cubicBezTo>
                <a:cubicBezTo>
                  <a:pt x="7528" y="254"/>
                  <a:pt x="7528" y="254"/>
                  <a:pt x="7528" y="254"/>
                </a:cubicBezTo>
                <a:cubicBezTo>
                  <a:pt x="7509" y="254"/>
                  <a:pt x="7509" y="290"/>
                  <a:pt x="7509" y="290"/>
                </a:cubicBezTo>
                <a:cubicBezTo>
                  <a:pt x="7509" y="290"/>
                  <a:pt x="7490" y="290"/>
                  <a:pt x="7490" y="254"/>
                </a:cubicBezTo>
                <a:cubicBezTo>
                  <a:pt x="7490" y="290"/>
                  <a:pt x="7490" y="327"/>
                  <a:pt x="7471" y="327"/>
                </a:cubicBezTo>
                <a:cubicBezTo>
                  <a:pt x="7471" y="327"/>
                  <a:pt x="7452" y="363"/>
                  <a:pt x="7452" y="399"/>
                </a:cubicBezTo>
                <a:cubicBezTo>
                  <a:pt x="7452" y="399"/>
                  <a:pt x="7452" y="399"/>
                  <a:pt x="7471" y="399"/>
                </a:cubicBezTo>
                <a:cubicBezTo>
                  <a:pt x="7471" y="399"/>
                  <a:pt x="7490" y="363"/>
                  <a:pt x="7490" y="363"/>
                </a:cubicBezTo>
                <a:cubicBezTo>
                  <a:pt x="7509" y="327"/>
                  <a:pt x="7509" y="327"/>
                  <a:pt x="7509" y="327"/>
                </a:cubicBezTo>
                <a:cubicBezTo>
                  <a:pt x="7509" y="327"/>
                  <a:pt x="7528" y="327"/>
                  <a:pt x="7528" y="327"/>
                </a:cubicBezTo>
                <a:cubicBezTo>
                  <a:pt x="7528" y="327"/>
                  <a:pt x="7528" y="327"/>
                  <a:pt x="7528" y="290"/>
                </a:cubicBezTo>
                <a:cubicBezTo>
                  <a:pt x="7528" y="290"/>
                  <a:pt x="7528" y="290"/>
                  <a:pt x="7528" y="290"/>
                </a:cubicBezTo>
                <a:cubicBezTo>
                  <a:pt x="7528" y="290"/>
                  <a:pt x="7547" y="290"/>
                  <a:pt x="7547" y="290"/>
                </a:cubicBezTo>
                <a:cubicBezTo>
                  <a:pt x="7547" y="290"/>
                  <a:pt x="7566" y="254"/>
                  <a:pt x="7585" y="254"/>
                </a:cubicBezTo>
                <a:cubicBezTo>
                  <a:pt x="7585" y="254"/>
                  <a:pt x="7604" y="254"/>
                  <a:pt x="7604" y="254"/>
                </a:cubicBezTo>
                <a:cubicBezTo>
                  <a:pt x="7604" y="254"/>
                  <a:pt x="7604" y="254"/>
                  <a:pt x="7604" y="218"/>
                </a:cubicBezTo>
                <a:cubicBezTo>
                  <a:pt x="7622" y="254"/>
                  <a:pt x="7622" y="254"/>
                  <a:pt x="7622" y="254"/>
                </a:cubicBezTo>
                <a:cubicBezTo>
                  <a:pt x="7622" y="254"/>
                  <a:pt x="7622" y="254"/>
                  <a:pt x="7641" y="254"/>
                </a:cubicBezTo>
                <a:cubicBezTo>
                  <a:pt x="7641" y="327"/>
                  <a:pt x="7604" y="327"/>
                  <a:pt x="7604" y="363"/>
                </a:cubicBezTo>
                <a:cubicBezTo>
                  <a:pt x="7604" y="363"/>
                  <a:pt x="7622" y="399"/>
                  <a:pt x="7622" y="399"/>
                </a:cubicBezTo>
                <a:cubicBezTo>
                  <a:pt x="7641" y="363"/>
                  <a:pt x="7641" y="290"/>
                  <a:pt x="7660" y="254"/>
                </a:cubicBezTo>
                <a:cubicBezTo>
                  <a:pt x="7660" y="254"/>
                  <a:pt x="7660" y="218"/>
                  <a:pt x="7641" y="218"/>
                </a:cubicBezTo>
                <a:cubicBezTo>
                  <a:pt x="7660" y="218"/>
                  <a:pt x="7660" y="182"/>
                  <a:pt x="7679" y="182"/>
                </a:cubicBezTo>
                <a:cubicBezTo>
                  <a:pt x="7698" y="182"/>
                  <a:pt x="7717" y="218"/>
                  <a:pt x="7736" y="254"/>
                </a:cubicBezTo>
                <a:cubicBezTo>
                  <a:pt x="7736" y="254"/>
                  <a:pt x="7717" y="290"/>
                  <a:pt x="7736" y="290"/>
                </a:cubicBezTo>
                <a:cubicBezTo>
                  <a:pt x="7736" y="290"/>
                  <a:pt x="7736" y="327"/>
                  <a:pt x="7755" y="363"/>
                </a:cubicBezTo>
                <a:cubicBezTo>
                  <a:pt x="7755" y="399"/>
                  <a:pt x="7755" y="399"/>
                  <a:pt x="7755" y="436"/>
                </a:cubicBezTo>
                <a:cubicBezTo>
                  <a:pt x="7755" y="436"/>
                  <a:pt x="7755" y="436"/>
                  <a:pt x="7755" y="436"/>
                </a:cubicBezTo>
                <a:cubicBezTo>
                  <a:pt x="7755" y="436"/>
                  <a:pt x="7755" y="399"/>
                  <a:pt x="7755" y="399"/>
                </a:cubicBezTo>
                <a:cubicBezTo>
                  <a:pt x="7755" y="399"/>
                  <a:pt x="7755" y="363"/>
                  <a:pt x="7755" y="363"/>
                </a:cubicBezTo>
                <a:cubicBezTo>
                  <a:pt x="7755" y="327"/>
                  <a:pt x="7755" y="290"/>
                  <a:pt x="7774" y="254"/>
                </a:cubicBezTo>
                <a:cubicBezTo>
                  <a:pt x="7774" y="254"/>
                  <a:pt x="7774" y="218"/>
                  <a:pt x="7774" y="218"/>
                </a:cubicBezTo>
                <a:cubicBezTo>
                  <a:pt x="7774" y="218"/>
                  <a:pt x="7793" y="218"/>
                  <a:pt x="7793" y="218"/>
                </a:cubicBezTo>
                <a:cubicBezTo>
                  <a:pt x="7812" y="218"/>
                  <a:pt x="7812" y="182"/>
                  <a:pt x="7812" y="182"/>
                </a:cubicBezTo>
                <a:cubicBezTo>
                  <a:pt x="7812" y="145"/>
                  <a:pt x="7812" y="145"/>
                  <a:pt x="7812" y="145"/>
                </a:cubicBezTo>
                <a:cubicBezTo>
                  <a:pt x="7812" y="109"/>
                  <a:pt x="7812" y="109"/>
                  <a:pt x="7812" y="109"/>
                </a:cubicBezTo>
                <a:cubicBezTo>
                  <a:pt x="7812" y="73"/>
                  <a:pt x="7830" y="73"/>
                  <a:pt x="7830" y="73"/>
                </a:cubicBezTo>
                <a:cubicBezTo>
                  <a:pt x="7849" y="73"/>
                  <a:pt x="7849" y="73"/>
                  <a:pt x="7849" y="36"/>
                </a:cubicBezTo>
                <a:cubicBezTo>
                  <a:pt x="7849" y="36"/>
                  <a:pt x="7868" y="73"/>
                  <a:pt x="7868" y="73"/>
                </a:cubicBezTo>
                <a:cubicBezTo>
                  <a:pt x="7887" y="73"/>
                  <a:pt x="7887" y="73"/>
                  <a:pt x="7906" y="73"/>
                </a:cubicBezTo>
                <a:cubicBezTo>
                  <a:pt x="7925" y="73"/>
                  <a:pt x="7944" y="73"/>
                  <a:pt x="7944" y="73"/>
                </a:cubicBezTo>
                <a:cubicBezTo>
                  <a:pt x="7944" y="109"/>
                  <a:pt x="7944" y="145"/>
                  <a:pt x="7944" y="145"/>
                </a:cubicBezTo>
                <a:cubicBezTo>
                  <a:pt x="7944" y="182"/>
                  <a:pt x="7925" y="182"/>
                  <a:pt x="7944" y="218"/>
                </a:cubicBezTo>
                <a:cubicBezTo>
                  <a:pt x="7944" y="218"/>
                  <a:pt x="7963" y="218"/>
                  <a:pt x="7963" y="218"/>
                </a:cubicBezTo>
                <a:cubicBezTo>
                  <a:pt x="7963" y="218"/>
                  <a:pt x="7944" y="290"/>
                  <a:pt x="7944" y="290"/>
                </a:cubicBezTo>
                <a:cubicBezTo>
                  <a:pt x="7944" y="290"/>
                  <a:pt x="7925" y="290"/>
                  <a:pt x="7925" y="290"/>
                </a:cubicBezTo>
                <a:cubicBezTo>
                  <a:pt x="7925" y="290"/>
                  <a:pt x="7925" y="327"/>
                  <a:pt x="7906" y="327"/>
                </a:cubicBezTo>
                <a:cubicBezTo>
                  <a:pt x="7906" y="327"/>
                  <a:pt x="7906" y="363"/>
                  <a:pt x="7906" y="363"/>
                </a:cubicBezTo>
                <a:cubicBezTo>
                  <a:pt x="7887" y="363"/>
                  <a:pt x="7868" y="363"/>
                  <a:pt x="7849" y="399"/>
                </a:cubicBezTo>
                <a:cubicBezTo>
                  <a:pt x="7849" y="399"/>
                  <a:pt x="7868" y="399"/>
                  <a:pt x="7868" y="399"/>
                </a:cubicBezTo>
                <a:cubicBezTo>
                  <a:pt x="7868" y="399"/>
                  <a:pt x="7868" y="399"/>
                  <a:pt x="7887" y="399"/>
                </a:cubicBezTo>
                <a:cubicBezTo>
                  <a:pt x="7887" y="363"/>
                  <a:pt x="7906" y="363"/>
                  <a:pt x="7906" y="363"/>
                </a:cubicBezTo>
                <a:cubicBezTo>
                  <a:pt x="7925" y="363"/>
                  <a:pt x="7925" y="327"/>
                  <a:pt x="7925" y="327"/>
                </a:cubicBezTo>
                <a:cubicBezTo>
                  <a:pt x="7925" y="327"/>
                  <a:pt x="7925" y="327"/>
                  <a:pt x="7925" y="327"/>
                </a:cubicBezTo>
                <a:cubicBezTo>
                  <a:pt x="7944" y="327"/>
                  <a:pt x="7944" y="327"/>
                  <a:pt x="7944" y="327"/>
                </a:cubicBezTo>
                <a:cubicBezTo>
                  <a:pt x="7963" y="327"/>
                  <a:pt x="7963" y="363"/>
                  <a:pt x="7963" y="363"/>
                </a:cubicBezTo>
                <a:cubicBezTo>
                  <a:pt x="7982" y="363"/>
                  <a:pt x="7944" y="436"/>
                  <a:pt x="7925" y="436"/>
                </a:cubicBezTo>
                <a:cubicBezTo>
                  <a:pt x="7925" y="436"/>
                  <a:pt x="7906" y="436"/>
                  <a:pt x="7906" y="472"/>
                </a:cubicBezTo>
                <a:cubicBezTo>
                  <a:pt x="7887" y="472"/>
                  <a:pt x="7906" y="508"/>
                  <a:pt x="7906" y="508"/>
                </a:cubicBezTo>
                <a:cubicBezTo>
                  <a:pt x="7906" y="508"/>
                  <a:pt x="7906" y="508"/>
                  <a:pt x="7906" y="508"/>
                </a:cubicBezTo>
                <a:cubicBezTo>
                  <a:pt x="7906" y="545"/>
                  <a:pt x="7925" y="545"/>
                  <a:pt x="7925" y="545"/>
                </a:cubicBezTo>
                <a:cubicBezTo>
                  <a:pt x="7925" y="545"/>
                  <a:pt x="7925" y="545"/>
                  <a:pt x="7944" y="545"/>
                </a:cubicBezTo>
                <a:cubicBezTo>
                  <a:pt x="7944" y="545"/>
                  <a:pt x="7944" y="545"/>
                  <a:pt x="7944" y="545"/>
                </a:cubicBezTo>
                <a:cubicBezTo>
                  <a:pt x="7944" y="508"/>
                  <a:pt x="7925" y="508"/>
                  <a:pt x="7925" y="508"/>
                </a:cubicBezTo>
                <a:cubicBezTo>
                  <a:pt x="7925" y="508"/>
                  <a:pt x="7925" y="508"/>
                  <a:pt x="7925" y="508"/>
                </a:cubicBezTo>
                <a:cubicBezTo>
                  <a:pt x="7925" y="472"/>
                  <a:pt x="7944" y="472"/>
                  <a:pt x="7944" y="472"/>
                </a:cubicBezTo>
                <a:cubicBezTo>
                  <a:pt x="7963" y="436"/>
                  <a:pt x="7982" y="436"/>
                  <a:pt x="7982" y="436"/>
                </a:cubicBezTo>
                <a:cubicBezTo>
                  <a:pt x="8001" y="436"/>
                  <a:pt x="8001" y="436"/>
                  <a:pt x="8001" y="472"/>
                </a:cubicBezTo>
                <a:cubicBezTo>
                  <a:pt x="8001" y="472"/>
                  <a:pt x="7982" y="508"/>
                  <a:pt x="7982" y="508"/>
                </a:cubicBezTo>
                <a:cubicBezTo>
                  <a:pt x="7982" y="508"/>
                  <a:pt x="7963" y="508"/>
                  <a:pt x="7963" y="545"/>
                </a:cubicBezTo>
                <a:cubicBezTo>
                  <a:pt x="7963" y="581"/>
                  <a:pt x="7982" y="581"/>
                  <a:pt x="8001" y="617"/>
                </a:cubicBezTo>
                <a:cubicBezTo>
                  <a:pt x="8001" y="617"/>
                  <a:pt x="8020" y="653"/>
                  <a:pt x="8020" y="690"/>
                </a:cubicBezTo>
                <a:cubicBezTo>
                  <a:pt x="8020" y="690"/>
                  <a:pt x="8020" y="690"/>
                  <a:pt x="8039" y="690"/>
                </a:cubicBezTo>
                <a:cubicBezTo>
                  <a:pt x="8020" y="726"/>
                  <a:pt x="8001" y="726"/>
                  <a:pt x="8001" y="762"/>
                </a:cubicBezTo>
                <a:cubicBezTo>
                  <a:pt x="8001" y="762"/>
                  <a:pt x="8001" y="762"/>
                  <a:pt x="8020" y="762"/>
                </a:cubicBezTo>
                <a:cubicBezTo>
                  <a:pt x="8020" y="762"/>
                  <a:pt x="8020" y="762"/>
                  <a:pt x="8020" y="762"/>
                </a:cubicBezTo>
                <a:cubicBezTo>
                  <a:pt x="8039" y="799"/>
                  <a:pt x="8020" y="799"/>
                  <a:pt x="8039" y="799"/>
                </a:cubicBezTo>
                <a:cubicBezTo>
                  <a:pt x="8039" y="835"/>
                  <a:pt x="8039" y="835"/>
                  <a:pt x="8039" y="871"/>
                </a:cubicBezTo>
                <a:cubicBezTo>
                  <a:pt x="8057" y="871"/>
                  <a:pt x="8057" y="871"/>
                  <a:pt x="8057" y="871"/>
                </a:cubicBezTo>
                <a:cubicBezTo>
                  <a:pt x="8057" y="871"/>
                  <a:pt x="8057" y="908"/>
                  <a:pt x="8057" y="908"/>
                </a:cubicBezTo>
                <a:cubicBezTo>
                  <a:pt x="8057" y="944"/>
                  <a:pt x="8076" y="944"/>
                  <a:pt x="8095" y="944"/>
                </a:cubicBezTo>
                <a:cubicBezTo>
                  <a:pt x="8076" y="944"/>
                  <a:pt x="8095" y="908"/>
                  <a:pt x="8114" y="871"/>
                </a:cubicBezTo>
                <a:cubicBezTo>
                  <a:pt x="8114" y="908"/>
                  <a:pt x="8114" y="908"/>
                  <a:pt x="8114" y="908"/>
                </a:cubicBezTo>
                <a:cubicBezTo>
                  <a:pt x="8114" y="871"/>
                  <a:pt x="8114" y="871"/>
                  <a:pt x="8114" y="871"/>
                </a:cubicBezTo>
                <a:cubicBezTo>
                  <a:pt x="8133" y="871"/>
                  <a:pt x="8133" y="871"/>
                  <a:pt x="8133" y="871"/>
                </a:cubicBezTo>
                <a:cubicBezTo>
                  <a:pt x="8133" y="871"/>
                  <a:pt x="8133" y="871"/>
                  <a:pt x="8133" y="871"/>
                </a:cubicBezTo>
                <a:cubicBezTo>
                  <a:pt x="8133" y="871"/>
                  <a:pt x="8133" y="871"/>
                  <a:pt x="8133" y="908"/>
                </a:cubicBezTo>
                <a:cubicBezTo>
                  <a:pt x="8171" y="871"/>
                  <a:pt x="8171" y="908"/>
                  <a:pt x="8171" y="908"/>
                </a:cubicBezTo>
                <a:cubicBezTo>
                  <a:pt x="8171" y="908"/>
                  <a:pt x="8171" y="908"/>
                  <a:pt x="8171" y="908"/>
                </a:cubicBezTo>
                <a:cubicBezTo>
                  <a:pt x="8152" y="908"/>
                  <a:pt x="8133" y="908"/>
                  <a:pt x="8114" y="944"/>
                </a:cubicBezTo>
                <a:cubicBezTo>
                  <a:pt x="8114" y="980"/>
                  <a:pt x="8133" y="980"/>
                  <a:pt x="8152" y="980"/>
                </a:cubicBezTo>
                <a:cubicBezTo>
                  <a:pt x="8152" y="980"/>
                  <a:pt x="8171" y="980"/>
                  <a:pt x="8171" y="980"/>
                </a:cubicBezTo>
                <a:cubicBezTo>
                  <a:pt x="8190" y="980"/>
                  <a:pt x="8190" y="980"/>
                  <a:pt x="8209" y="980"/>
                </a:cubicBezTo>
                <a:cubicBezTo>
                  <a:pt x="8209" y="980"/>
                  <a:pt x="8209" y="980"/>
                  <a:pt x="8209" y="980"/>
                </a:cubicBezTo>
                <a:cubicBezTo>
                  <a:pt x="8209" y="944"/>
                  <a:pt x="8209" y="944"/>
                  <a:pt x="8228" y="944"/>
                </a:cubicBezTo>
                <a:cubicBezTo>
                  <a:pt x="8228" y="944"/>
                  <a:pt x="8228" y="944"/>
                  <a:pt x="8247" y="944"/>
                </a:cubicBezTo>
                <a:cubicBezTo>
                  <a:pt x="8247" y="944"/>
                  <a:pt x="8247" y="944"/>
                  <a:pt x="8247" y="944"/>
                </a:cubicBezTo>
                <a:cubicBezTo>
                  <a:pt x="8247" y="944"/>
                  <a:pt x="8247" y="944"/>
                  <a:pt x="8247" y="980"/>
                </a:cubicBezTo>
                <a:cubicBezTo>
                  <a:pt x="8265" y="980"/>
                  <a:pt x="8265" y="980"/>
                  <a:pt x="8265" y="980"/>
                </a:cubicBezTo>
                <a:cubicBezTo>
                  <a:pt x="8265" y="980"/>
                  <a:pt x="8284" y="1016"/>
                  <a:pt x="8284" y="1016"/>
                </a:cubicBezTo>
                <a:cubicBezTo>
                  <a:pt x="8284" y="1053"/>
                  <a:pt x="8247" y="1053"/>
                  <a:pt x="8228" y="1053"/>
                </a:cubicBezTo>
                <a:cubicBezTo>
                  <a:pt x="8228" y="1053"/>
                  <a:pt x="8209" y="1053"/>
                  <a:pt x="8209" y="1053"/>
                </a:cubicBezTo>
                <a:cubicBezTo>
                  <a:pt x="8209" y="1053"/>
                  <a:pt x="8209" y="1053"/>
                  <a:pt x="8171" y="1089"/>
                </a:cubicBezTo>
                <a:cubicBezTo>
                  <a:pt x="8171" y="1089"/>
                  <a:pt x="8171" y="1089"/>
                  <a:pt x="8190" y="1089"/>
                </a:cubicBezTo>
                <a:cubicBezTo>
                  <a:pt x="8190" y="1089"/>
                  <a:pt x="8190" y="1089"/>
                  <a:pt x="8190" y="1089"/>
                </a:cubicBezTo>
                <a:cubicBezTo>
                  <a:pt x="8190" y="1089"/>
                  <a:pt x="8190" y="1089"/>
                  <a:pt x="8190" y="1089"/>
                </a:cubicBezTo>
                <a:cubicBezTo>
                  <a:pt x="8190" y="1089"/>
                  <a:pt x="8190" y="1125"/>
                  <a:pt x="8190" y="1125"/>
                </a:cubicBezTo>
                <a:cubicBezTo>
                  <a:pt x="8190" y="1125"/>
                  <a:pt x="8190" y="1162"/>
                  <a:pt x="8190" y="1162"/>
                </a:cubicBezTo>
                <a:cubicBezTo>
                  <a:pt x="8171" y="1162"/>
                  <a:pt x="8152" y="1125"/>
                  <a:pt x="8152" y="1125"/>
                </a:cubicBezTo>
                <a:cubicBezTo>
                  <a:pt x="8152" y="1125"/>
                  <a:pt x="8152" y="1125"/>
                  <a:pt x="8133" y="1125"/>
                </a:cubicBezTo>
                <a:cubicBezTo>
                  <a:pt x="8133" y="1162"/>
                  <a:pt x="8133" y="1162"/>
                  <a:pt x="8133" y="1162"/>
                </a:cubicBezTo>
                <a:cubicBezTo>
                  <a:pt x="8152" y="1162"/>
                  <a:pt x="8152" y="1198"/>
                  <a:pt x="8152" y="1198"/>
                </a:cubicBezTo>
                <a:cubicBezTo>
                  <a:pt x="8171" y="1198"/>
                  <a:pt x="8190" y="1198"/>
                  <a:pt x="8190" y="1198"/>
                </a:cubicBezTo>
                <a:cubicBezTo>
                  <a:pt x="8190" y="1198"/>
                  <a:pt x="8190" y="1198"/>
                  <a:pt x="8190" y="1198"/>
                </a:cubicBezTo>
                <a:cubicBezTo>
                  <a:pt x="8209" y="1198"/>
                  <a:pt x="8209" y="1198"/>
                  <a:pt x="8209" y="1234"/>
                </a:cubicBezTo>
                <a:cubicBezTo>
                  <a:pt x="8209" y="1234"/>
                  <a:pt x="8209" y="1234"/>
                  <a:pt x="8209" y="1234"/>
                </a:cubicBezTo>
                <a:cubicBezTo>
                  <a:pt x="8228" y="1234"/>
                  <a:pt x="8228" y="1198"/>
                  <a:pt x="8228" y="1198"/>
                </a:cubicBezTo>
                <a:cubicBezTo>
                  <a:pt x="8247" y="1198"/>
                  <a:pt x="8247" y="1198"/>
                  <a:pt x="8265" y="1198"/>
                </a:cubicBezTo>
                <a:cubicBezTo>
                  <a:pt x="8265" y="1198"/>
                  <a:pt x="8265" y="1198"/>
                  <a:pt x="8284" y="1198"/>
                </a:cubicBezTo>
                <a:cubicBezTo>
                  <a:pt x="8284" y="1162"/>
                  <a:pt x="8303" y="1198"/>
                  <a:pt x="8303" y="1198"/>
                </a:cubicBezTo>
                <a:cubicBezTo>
                  <a:pt x="8303" y="1198"/>
                  <a:pt x="8303" y="1198"/>
                  <a:pt x="8303" y="1234"/>
                </a:cubicBezTo>
                <a:cubicBezTo>
                  <a:pt x="8284" y="1234"/>
                  <a:pt x="8284" y="1234"/>
                  <a:pt x="8265" y="1234"/>
                </a:cubicBezTo>
                <a:cubicBezTo>
                  <a:pt x="8265" y="1271"/>
                  <a:pt x="8265" y="1271"/>
                  <a:pt x="8247" y="1271"/>
                </a:cubicBezTo>
                <a:cubicBezTo>
                  <a:pt x="8247" y="1271"/>
                  <a:pt x="8247" y="1271"/>
                  <a:pt x="8247" y="1271"/>
                </a:cubicBezTo>
                <a:cubicBezTo>
                  <a:pt x="8247" y="1271"/>
                  <a:pt x="8265" y="1271"/>
                  <a:pt x="8265" y="1271"/>
                </a:cubicBezTo>
                <a:cubicBezTo>
                  <a:pt x="8284" y="1271"/>
                  <a:pt x="8284" y="1271"/>
                  <a:pt x="8284" y="1234"/>
                </a:cubicBezTo>
                <a:cubicBezTo>
                  <a:pt x="8303" y="1271"/>
                  <a:pt x="8303" y="1271"/>
                  <a:pt x="8303" y="1271"/>
                </a:cubicBezTo>
                <a:cubicBezTo>
                  <a:pt x="8322" y="1234"/>
                  <a:pt x="8341" y="1234"/>
                  <a:pt x="8341" y="1271"/>
                </a:cubicBezTo>
                <a:cubicBezTo>
                  <a:pt x="8360" y="1271"/>
                  <a:pt x="8341" y="1271"/>
                  <a:pt x="8360" y="1271"/>
                </a:cubicBezTo>
                <a:cubicBezTo>
                  <a:pt x="8360" y="1307"/>
                  <a:pt x="8379" y="1307"/>
                  <a:pt x="8398" y="1343"/>
                </a:cubicBezTo>
                <a:cubicBezTo>
                  <a:pt x="8398" y="1343"/>
                  <a:pt x="8398" y="1379"/>
                  <a:pt x="8379" y="1379"/>
                </a:cubicBezTo>
                <a:cubicBezTo>
                  <a:pt x="8379" y="1379"/>
                  <a:pt x="8379" y="1343"/>
                  <a:pt x="8360" y="1343"/>
                </a:cubicBezTo>
                <a:cubicBezTo>
                  <a:pt x="8360" y="1343"/>
                  <a:pt x="8341" y="1379"/>
                  <a:pt x="8341" y="1379"/>
                </a:cubicBezTo>
                <a:cubicBezTo>
                  <a:pt x="8322" y="1379"/>
                  <a:pt x="8303" y="1379"/>
                  <a:pt x="8303" y="1379"/>
                </a:cubicBezTo>
                <a:cubicBezTo>
                  <a:pt x="8284" y="1343"/>
                  <a:pt x="8265" y="1343"/>
                  <a:pt x="8247" y="1343"/>
                </a:cubicBezTo>
                <a:cubicBezTo>
                  <a:pt x="8247" y="1343"/>
                  <a:pt x="8247" y="1343"/>
                  <a:pt x="8247" y="1343"/>
                </a:cubicBezTo>
                <a:cubicBezTo>
                  <a:pt x="8265" y="1379"/>
                  <a:pt x="8284" y="1379"/>
                  <a:pt x="8284" y="1379"/>
                </a:cubicBezTo>
                <a:cubicBezTo>
                  <a:pt x="8284" y="1379"/>
                  <a:pt x="8265" y="1379"/>
                  <a:pt x="8265" y="1379"/>
                </a:cubicBezTo>
                <a:cubicBezTo>
                  <a:pt x="8265" y="1416"/>
                  <a:pt x="8284" y="1379"/>
                  <a:pt x="8303" y="1379"/>
                </a:cubicBezTo>
                <a:cubicBezTo>
                  <a:pt x="8322" y="1379"/>
                  <a:pt x="8322" y="1379"/>
                  <a:pt x="8341" y="1416"/>
                </a:cubicBezTo>
                <a:cubicBezTo>
                  <a:pt x="8341" y="1416"/>
                  <a:pt x="8341" y="1416"/>
                  <a:pt x="8341" y="1416"/>
                </a:cubicBezTo>
                <a:cubicBezTo>
                  <a:pt x="8341" y="1416"/>
                  <a:pt x="8341" y="1416"/>
                  <a:pt x="8341" y="1416"/>
                </a:cubicBezTo>
                <a:cubicBezTo>
                  <a:pt x="8341" y="1416"/>
                  <a:pt x="8341" y="1416"/>
                  <a:pt x="8322" y="1452"/>
                </a:cubicBezTo>
                <a:cubicBezTo>
                  <a:pt x="8322" y="1452"/>
                  <a:pt x="8322" y="1452"/>
                  <a:pt x="8322" y="1452"/>
                </a:cubicBezTo>
                <a:cubicBezTo>
                  <a:pt x="8322" y="1452"/>
                  <a:pt x="8322" y="1452"/>
                  <a:pt x="8322" y="1452"/>
                </a:cubicBezTo>
                <a:cubicBezTo>
                  <a:pt x="8303" y="1452"/>
                  <a:pt x="8284" y="1452"/>
                  <a:pt x="8284" y="1452"/>
                </a:cubicBezTo>
                <a:cubicBezTo>
                  <a:pt x="8303" y="1452"/>
                  <a:pt x="8322" y="1488"/>
                  <a:pt x="8341" y="1452"/>
                </a:cubicBezTo>
                <a:cubicBezTo>
                  <a:pt x="8341" y="1452"/>
                  <a:pt x="8341" y="1416"/>
                  <a:pt x="8360" y="1416"/>
                </a:cubicBezTo>
                <a:cubicBezTo>
                  <a:pt x="8360" y="1416"/>
                  <a:pt x="8379" y="1452"/>
                  <a:pt x="8379" y="1452"/>
                </a:cubicBezTo>
                <a:cubicBezTo>
                  <a:pt x="8379" y="1488"/>
                  <a:pt x="8379" y="1488"/>
                  <a:pt x="8379" y="1488"/>
                </a:cubicBezTo>
                <a:cubicBezTo>
                  <a:pt x="8398" y="1488"/>
                  <a:pt x="8398" y="1488"/>
                  <a:pt x="8398" y="1488"/>
                </a:cubicBezTo>
                <a:cubicBezTo>
                  <a:pt x="8417" y="1452"/>
                  <a:pt x="8436" y="1452"/>
                  <a:pt x="8455" y="1452"/>
                </a:cubicBezTo>
                <a:cubicBezTo>
                  <a:pt x="8455" y="1452"/>
                  <a:pt x="8474" y="1452"/>
                  <a:pt x="8474" y="1452"/>
                </a:cubicBezTo>
                <a:cubicBezTo>
                  <a:pt x="8492" y="1488"/>
                  <a:pt x="8474" y="1525"/>
                  <a:pt x="8455" y="1525"/>
                </a:cubicBezTo>
                <a:cubicBezTo>
                  <a:pt x="8455" y="1525"/>
                  <a:pt x="8455" y="1525"/>
                  <a:pt x="8455" y="1525"/>
                </a:cubicBezTo>
                <a:cubicBezTo>
                  <a:pt x="8436" y="1525"/>
                  <a:pt x="8436" y="1525"/>
                  <a:pt x="8417" y="1525"/>
                </a:cubicBezTo>
                <a:cubicBezTo>
                  <a:pt x="8398" y="1525"/>
                  <a:pt x="8398" y="1561"/>
                  <a:pt x="8379" y="1561"/>
                </a:cubicBezTo>
                <a:cubicBezTo>
                  <a:pt x="8360" y="1561"/>
                  <a:pt x="8360" y="1561"/>
                  <a:pt x="8341" y="1561"/>
                </a:cubicBezTo>
                <a:cubicBezTo>
                  <a:pt x="8341" y="1561"/>
                  <a:pt x="8341" y="1561"/>
                  <a:pt x="8341" y="1561"/>
                </a:cubicBezTo>
                <a:cubicBezTo>
                  <a:pt x="8360" y="1561"/>
                  <a:pt x="8379" y="1597"/>
                  <a:pt x="8360" y="1597"/>
                </a:cubicBezTo>
                <a:cubicBezTo>
                  <a:pt x="8360" y="1597"/>
                  <a:pt x="8360" y="1597"/>
                  <a:pt x="8360" y="1597"/>
                </a:cubicBezTo>
                <a:cubicBezTo>
                  <a:pt x="8360" y="1597"/>
                  <a:pt x="8379" y="1597"/>
                  <a:pt x="8379" y="1597"/>
                </a:cubicBezTo>
                <a:cubicBezTo>
                  <a:pt x="8379" y="1634"/>
                  <a:pt x="8379" y="1634"/>
                  <a:pt x="8379" y="1670"/>
                </a:cubicBezTo>
                <a:cubicBezTo>
                  <a:pt x="8379" y="1670"/>
                  <a:pt x="8379" y="1670"/>
                  <a:pt x="8379" y="1670"/>
                </a:cubicBezTo>
                <a:cubicBezTo>
                  <a:pt x="8379" y="1670"/>
                  <a:pt x="8398" y="1670"/>
                  <a:pt x="8417" y="1670"/>
                </a:cubicBezTo>
                <a:cubicBezTo>
                  <a:pt x="8417" y="1670"/>
                  <a:pt x="8417" y="1670"/>
                  <a:pt x="8417" y="1670"/>
                </a:cubicBezTo>
                <a:cubicBezTo>
                  <a:pt x="8398" y="1670"/>
                  <a:pt x="8398" y="1634"/>
                  <a:pt x="8398" y="1634"/>
                </a:cubicBezTo>
                <a:cubicBezTo>
                  <a:pt x="8417" y="1597"/>
                  <a:pt x="8455" y="1634"/>
                  <a:pt x="8455" y="1634"/>
                </a:cubicBezTo>
                <a:cubicBezTo>
                  <a:pt x="8474" y="1634"/>
                  <a:pt x="8474" y="1634"/>
                  <a:pt x="8474" y="1634"/>
                </a:cubicBezTo>
                <a:cubicBezTo>
                  <a:pt x="8492" y="1634"/>
                  <a:pt x="8511" y="1706"/>
                  <a:pt x="8511" y="1706"/>
                </a:cubicBezTo>
                <a:cubicBezTo>
                  <a:pt x="8511" y="1706"/>
                  <a:pt x="8492" y="1743"/>
                  <a:pt x="8474" y="1743"/>
                </a:cubicBezTo>
                <a:cubicBezTo>
                  <a:pt x="8474" y="1743"/>
                  <a:pt x="8474" y="1743"/>
                  <a:pt x="8474" y="1743"/>
                </a:cubicBezTo>
                <a:cubicBezTo>
                  <a:pt x="8455" y="1779"/>
                  <a:pt x="8455" y="1779"/>
                  <a:pt x="8436" y="1815"/>
                </a:cubicBezTo>
                <a:cubicBezTo>
                  <a:pt x="8436" y="1815"/>
                  <a:pt x="8436" y="1815"/>
                  <a:pt x="8417" y="1815"/>
                </a:cubicBezTo>
                <a:cubicBezTo>
                  <a:pt x="8417" y="1815"/>
                  <a:pt x="8398" y="1815"/>
                  <a:pt x="8379" y="1815"/>
                </a:cubicBezTo>
                <a:cubicBezTo>
                  <a:pt x="8360" y="1815"/>
                  <a:pt x="8360" y="1815"/>
                  <a:pt x="8341" y="1779"/>
                </a:cubicBezTo>
                <a:cubicBezTo>
                  <a:pt x="8341" y="1779"/>
                  <a:pt x="8341" y="1779"/>
                  <a:pt x="8341" y="1779"/>
                </a:cubicBezTo>
                <a:cubicBezTo>
                  <a:pt x="8360" y="1779"/>
                  <a:pt x="8398" y="1779"/>
                  <a:pt x="8398" y="1779"/>
                </a:cubicBezTo>
                <a:cubicBezTo>
                  <a:pt x="8398" y="1779"/>
                  <a:pt x="8417" y="1779"/>
                  <a:pt x="8417" y="1743"/>
                </a:cubicBezTo>
                <a:cubicBezTo>
                  <a:pt x="8417" y="1743"/>
                  <a:pt x="8398" y="1743"/>
                  <a:pt x="8398" y="1743"/>
                </a:cubicBezTo>
                <a:cubicBezTo>
                  <a:pt x="8398" y="1779"/>
                  <a:pt x="8398" y="1779"/>
                  <a:pt x="8379" y="1779"/>
                </a:cubicBezTo>
                <a:cubicBezTo>
                  <a:pt x="8379" y="1779"/>
                  <a:pt x="8379" y="1779"/>
                  <a:pt x="8379" y="1779"/>
                </a:cubicBezTo>
                <a:cubicBezTo>
                  <a:pt x="8360" y="1779"/>
                  <a:pt x="8322" y="1779"/>
                  <a:pt x="8322" y="1815"/>
                </a:cubicBezTo>
                <a:cubicBezTo>
                  <a:pt x="8322" y="1815"/>
                  <a:pt x="8322" y="1815"/>
                  <a:pt x="8322" y="1815"/>
                </a:cubicBezTo>
                <a:cubicBezTo>
                  <a:pt x="8322" y="1815"/>
                  <a:pt x="8303" y="1815"/>
                  <a:pt x="8284" y="1815"/>
                </a:cubicBezTo>
                <a:cubicBezTo>
                  <a:pt x="8303" y="1815"/>
                  <a:pt x="8303" y="1851"/>
                  <a:pt x="8322" y="1851"/>
                </a:cubicBezTo>
                <a:cubicBezTo>
                  <a:pt x="8322" y="1851"/>
                  <a:pt x="8322" y="1851"/>
                  <a:pt x="8322" y="1851"/>
                </a:cubicBezTo>
                <a:cubicBezTo>
                  <a:pt x="8303" y="1851"/>
                  <a:pt x="8303" y="1851"/>
                  <a:pt x="8284" y="1888"/>
                </a:cubicBezTo>
                <a:cubicBezTo>
                  <a:pt x="8284" y="1888"/>
                  <a:pt x="8284" y="1888"/>
                  <a:pt x="8284" y="1888"/>
                </a:cubicBezTo>
                <a:cubicBezTo>
                  <a:pt x="8284" y="1888"/>
                  <a:pt x="8284" y="1924"/>
                  <a:pt x="8265" y="1924"/>
                </a:cubicBezTo>
                <a:cubicBezTo>
                  <a:pt x="8265" y="1924"/>
                  <a:pt x="8247" y="1924"/>
                  <a:pt x="8228" y="1960"/>
                </a:cubicBezTo>
                <a:cubicBezTo>
                  <a:pt x="8228" y="1960"/>
                  <a:pt x="8228" y="1960"/>
                  <a:pt x="8228" y="1960"/>
                </a:cubicBezTo>
                <a:cubicBezTo>
                  <a:pt x="8228" y="1960"/>
                  <a:pt x="8228" y="1960"/>
                  <a:pt x="8228" y="1960"/>
                </a:cubicBezTo>
                <a:cubicBezTo>
                  <a:pt x="8228" y="1960"/>
                  <a:pt x="8247" y="1960"/>
                  <a:pt x="8247" y="1960"/>
                </a:cubicBezTo>
                <a:cubicBezTo>
                  <a:pt x="8247" y="1997"/>
                  <a:pt x="8190" y="1997"/>
                  <a:pt x="8228" y="2033"/>
                </a:cubicBezTo>
                <a:cubicBezTo>
                  <a:pt x="8228" y="2033"/>
                  <a:pt x="8228" y="2033"/>
                  <a:pt x="8228" y="2033"/>
                </a:cubicBezTo>
                <a:cubicBezTo>
                  <a:pt x="8228" y="1997"/>
                  <a:pt x="8247" y="1997"/>
                  <a:pt x="8247" y="1960"/>
                </a:cubicBezTo>
                <a:cubicBezTo>
                  <a:pt x="8265" y="1960"/>
                  <a:pt x="8265" y="1960"/>
                  <a:pt x="8265" y="1960"/>
                </a:cubicBezTo>
                <a:cubicBezTo>
                  <a:pt x="8284" y="1960"/>
                  <a:pt x="8284" y="1960"/>
                  <a:pt x="8284" y="1960"/>
                </a:cubicBezTo>
                <a:cubicBezTo>
                  <a:pt x="8303" y="1960"/>
                  <a:pt x="8322" y="1960"/>
                  <a:pt x="8341" y="1960"/>
                </a:cubicBezTo>
                <a:cubicBezTo>
                  <a:pt x="8341" y="1960"/>
                  <a:pt x="8341" y="1960"/>
                  <a:pt x="8341" y="1960"/>
                </a:cubicBezTo>
                <a:cubicBezTo>
                  <a:pt x="8322" y="1997"/>
                  <a:pt x="8322" y="2033"/>
                  <a:pt x="8303" y="2033"/>
                </a:cubicBezTo>
                <a:cubicBezTo>
                  <a:pt x="8303" y="2033"/>
                  <a:pt x="8284" y="2033"/>
                  <a:pt x="8284" y="2033"/>
                </a:cubicBezTo>
                <a:cubicBezTo>
                  <a:pt x="8284" y="2033"/>
                  <a:pt x="8284" y="2033"/>
                  <a:pt x="8284" y="2033"/>
                </a:cubicBezTo>
                <a:cubicBezTo>
                  <a:pt x="8284" y="2033"/>
                  <a:pt x="8303" y="2069"/>
                  <a:pt x="8303" y="2069"/>
                </a:cubicBezTo>
                <a:cubicBezTo>
                  <a:pt x="8303" y="2069"/>
                  <a:pt x="8303" y="2069"/>
                  <a:pt x="8303" y="2069"/>
                </a:cubicBezTo>
                <a:cubicBezTo>
                  <a:pt x="8322" y="2069"/>
                  <a:pt x="8322" y="2033"/>
                  <a:pt x="8322" y="2033"/>
                </a:cubicBezTo>
                <a:cubicBezTo>
                  <a:pt x="8322" y="2033"/>
                  <a:pt x="8322" y="2033"/>
                  <a:pt x="8341" y="1997"/>
                </a:cubicBezTo>
                <a:cubicBezTo>
                  <a:pt x="8341" y="1997"/>
                  <a:pt x="8341" y="1997"/>
                  <a:pt x="8341" y="1997"/>
                </a:cubicBezTo>
                <a:cubicBezTo>
                  <a:pt x="8360" y="1997"/>
                  <a:pt x="8360" y="1997"/>
                  <a:pt x="8379" y="1997"/>
                </a:cubicBezTo>
                <a:cubicBezTo>
                  <a:pt x="8379" y="1997"/>
                  <a:pt x="8398" y="1997"/>
                  <a:pt x="8398" y="2033"/>
                </a:cubicBezTo>
                <a:cubicBezTo>
                  <a:pt x="8398" y="2033"/>
                  <a:pt x="8379" y="2069"/>
                  <a:pt x="8379" y="2069"/>
                </a:cubicBezTo>
                <a:cubicBezTo>
                  <a:pt x="8379" y="2069"/>
                  <a:pt x="8379" y="2069"/>
                  <a:pt x="8379" y="2069"/>
                </a:cubicBezTo>
                <a:cubicBezTo>
                  <a:pt x="8360" y="2106"/>
                  <a:pt x="8379" y="2106"/>
                  <a:pt x="8398" y="2142"/>
                </a:cubicBezTo>
                <a:cubicBezTo>
                  <a:pt x="8398" y="2142"/>
                  <a:pt x="8398" y="2106"/>
                  <a:pt x="8398" y="2106"/>
                </a:cubicBezTo>
                <a:cubicBezTo>
                  <a:pt x="8398" y="2106"/>
                  <a:pt x="8398" y="2106"/>
                  <a:pt x="8398" y="2106"/>
                </a:cubicBezTo>
                <a:cubicBezTo>
                  <a:pt x="8417" y="2069"/>
                  <a:pt x="8417" y="2069"/>
                  <a:pt x="8417" y="2033"/>
                </a:cubicBezTo>
                <a:cubicBezTo>
                  <a:pt x="8417" y="2033"/>
                  <a:pt x="8455" y="2033"/>
                  <a:pt x="8474" y="2033"/>
                </a:cubicBezTo>
                <a:cubicBezTo>
                  <a:pt x="8474" y="2069"/>
                  <a:pt x="8492" y="2069"/>
                  <a:pt x="8511" y="2069"/>
                </a:cubicBezTo>
                <a:cubicBezTo>
                  <a:pt x="8530" y="2069"/>
                  <a:pt x="8530" y="2069"/>
                  <a:pt x="8549" y="2069"/>
                </a:cubicBezTo>
                <a:cubicBezTo>
                  <a:pt x="8549" y="2069"/>
                  <a:pt x="8549" y="2069"/>
                  <a:pt x="8549" y="2069"/>
                </a:cubicBezTo>
                <a:cubicBezTo>
                  <a:pt x="8549" y="2069"/>
                  <a:pt x="8549" y="2069"/>
                  <a:pt x="8549" y="2069"/>
                </a:cubicBezTo>
                <a:cubicBezTo>
                  <a:pt x="8549" y="2069"/>
                  <a:pt x="8549" y="2069"/>
                  <a:pt x="8549" y="2069"/>
                </a:cubicBezTo>
                <a:cubicBezTo>
                  <a:pt x="8549" y="2069"/>
                  <a:pt x="8549" y="2069"/>
                  <a:pt x="8549" y="2106"/>
                </a:cubicBezTo>
                <a:cubicBezTo>
                  <a:pt x="8568" y="2106"/>
                  <a:pt x="8568" y="2106"/>
                  <a:pt x="8568" y="2106"/>
                </a:cubicBezTo>
                <a:cubicBezTo>
                  <a:pt x="8587" y="2106"/>
                  <a:pt x="8587" y="2106"/>
                  <a:pt x="8587" y="2106"/>
                </a:cubicBezTo>
                <a:cubicBezTo>
                  <a:pt x="8587" y="2106"/>
                  <a:pt x="8587" y="2106"/>
                  <a:pt x="8606" y="2069"/>
                </a:cubicBezTo>
                <a:cubicBezTo>
                  <a:pt x="8606" y="2106"/>
                  <a:pt x="8606" y="2106"/>
                  <a:pt x="8606" y="2142"/>
                </a:cubicBezTo>
                <a:cubicBezTo>
                  <a:pt x="8606" y="2142"/>
                  <a:pt x="8606" y="2178"/>
                  <a:pt x="8606" y="2178"/>
                </a:cubicBezTo>
                <a:cubicBezTo>
                  <a:pt x="8625" y="2178"/>
                  <a:pt x="8625" y="2178"/>
                  <a:pt x="8625" y="2178"/>
                </a:cubicBezTo>
                <a:cubicBezTo>
                  <a:pt x="8625" y="2178"/>
                  <a:pt x="8625" y="2178"/>
                  <a:pt x="8625" y="2178"/>
                </a:cubicBezTo>
                <a:cubicBezTo>
                  <a:pt x="8625" y="2142"/>
                  <a:pt x="8625" y="2142"/>
                  <a:pt x="8625" y="2106"/>
                </a:cubicBezTo>
                <a:cubicBezTo>
                  <a:pt x="8625" y="2106"/>
                  <a:pt x="8625" y="2106"/>
                  <a:pt x="8625" y="2106"/>
                </a:cubicBezTo>
                <a:cubicBezTo>
                  <a:pt x="8663" y="2142"/>
                  <a:pt x="8663" y="2142"/>
                  <a:pt x="8663" y="2178"/>
                </a:cubicBezTo>
                <a:cubicBezTo>
                  <a:pt x="8663" y="2178"/>
                  <a:pt x="8663" y="2178"/>
                  <a:pt x="8663" y="2178"/>
                </a:cubicBezTo>
                <a:cubicBezTo>
                  <a:pt x="8663" y="2178"/>
                  <a:pt x="8663" y="2178"/>
                  <a:pt x="8682" y="2178"/>
                </a:cubicBezTo>
                <a:cubicBezTo>
                  <a:pt x="8682" y="2214"/>
                  <a:pt x="8682" y="2214"/>
                  <a:pt x="8663" y="2214"/>
                </a:cubicBezTo>
                <a:cubicBezTo>
                  <a:pt x="8701" y="2214"/>
                  <a:pt x="8682" y="2214"/>
                  <a:pt x="8682" y="2251"/>
                </a:cubicBezTo>
                <a:cubicBezTo>
                  <a:pt x="8701" y="2251"/>
                  <a:pt x="8701" y="2251"/>
                  <a:pt x="8701" y="2251"/>
                </a:cubicBezTo>
                <a:cubicBezTo>
                  <a:pt x="8701" y="2251"/>
                  <a:pt x="8701" y="2251"/>
                  <a:pt x="8701" y="2251"/>
                </a:cubicBezTo>
                <a:cubicBezTo>
                  <a:pt x="8701" y="2251"/>
                  <a:pt x="8701" y="2251"/>
                  <a:pt x="8701" y="2251"/>
                </a:cubicBezTo>
                <a:cubicBezTo>
                  <a:pt x="8719" y="2287"/>
                  <a:pt x="8738" y="2287"/>
                  <a:pt x="8719" y="2323"/>
                </a:cubicBezTo>
                <a:cubicBezTo>
                  <a:pt x="8719" y="2323"/>
                  <a:pt x="8719" y="2323"/>
                  <a:pt x="8719" y="2323"/>
                </a:cubicBezTo>
                <a:cubicBezTo>
                  <a:pt x="8719" y="2323"/>
                  <a:pt x="8701" y="2323"/>
                  <a:pt x="8701" y="2323"/>
                </a:cubicBezTo>
                <a:cubicBezTo>
                  <a:pt x="8701" y="2323"/>
                  <a:pt x="8663" y="2287"/>
                  <a:pt x="8663" y="2287"/>
                </a:cubicBezTo>
                <a:cubicBezTo>
                  <a:pt x="8663" y="2287"/>
                  <a:pt x="8644" y="2287"/>
                  <a:pt x="8644" y="2287"/>
                </a:cubicBezTo>
                <a:cubicBezTo>
                  <a:pt x="8644" y="2287"/>
                  <a:pt x="8682" y="2323"/>
                  <a:pt x="8682" y="2323"/>
                </a:cubicBezTo>
                <a:cubicBezTo>
                  <a:pt x="8682" y="2360"/>
                  <a:pt x="8663" y="2360"/>
                  <a:pt x="8663" y="2360"/>
                </a:cubicBezTo>
                <a:cubicBezTo>
                  <a:pt x="8644" y="2360"/>
                  <a:pt x="8625" y="2360"/>
                  <a:pt x="8606" y="2360"/>
                </a:cubicBezTo>
                <a:cubicBezTo>
                  <a:pt x="8587" y="2360"/>
                  <a:pt x="8568" y="2360"/>
                  <a:pt x="8568" y="2360"/>
                </a:cubicBezTo>
                <a:cubicBezTo>
                  <a:pt x="8568" y="2323"/>
                  <a:pt x="8568" y="2323"/>
                  <a:pt x="8549" y="2323"/>
                </a:cubicBezTo>
                <a:cubicBezTo>
                  <a:pt x="8549" y="2323"/>
                  <a:pt x="8549" y="2323"/>
                  <a:pt x="8549" y="2323"/>
                </a:cubicBezTo>
                <a:cubicBezTo>
                  <a:pt x="8549" y="2287"/>
                  <a:pt x="8549" y="2287"/>
                  <a:pt x="8530" y="2287"/>
                </a:cubicBezTo>
                <a:cubicBezTo>
                  <a:pt x="8530" y="2287"/>
                  <a:pt x="8530" y="2287"/>
                  <a:pt x="8530" y="2287"/>
                </a:cubicBezTo>
                <a:cubicBezTo>
                  <a:pt x="8511" y="2287"/>
                  <a:pt x="8511" y="2251"/>
                  <a:pt x="8492" y="2251"/>
                </a:cubicBezTo>
                <a:cubicBezTo>
                  <a:pt x="8492" y="2251"/>
                  <a:pt x="8492" y="2251"/>
                  <a:pt x="8474" y="2287"/>
                </a:cubicBezTo>
                <a:cubicBezTo>
                  <a:pt x="8455" y="2251"/>
                  <a:pt x="8436" y="2251"/>
                  <a:pt x="8417" y="2251"/>
                </a:cubicBezTo>
                <a:cubicBezTo>
                  <a:pt x="8398" y="2251"/>
                  <a:pt x="8379" y="2287"/>
                  <a:pt x="8360" y="2287"/>
                </a:cubicBezTo>
                <a:cubicBezTo>
                  <a:pt x="8341" y="2251"/>
                  <a:pt x="8303" y="2251"/>
                  <a:pt x="8284" y="2251"/>
                </a:cubicBezTo>
                <a:cubicBezTo>
                  <a:pt x="8284" y="2251"/>
                  <a:pt x="8265" y="2251"/>
                  <a:pt x="8247" y="2251"/>
                </a:cubicBezTo>
                <a:cubicBezTo>
                  <a:pt x="8247" y="2251"/>
                  <a:pt x="8247" y="2251"/>
                  <a:pt x="8228" y="2251"/>
                </a:cubicBezTo>
                <a:cubicBezTo>
                  <a:pt x="8247" y="2251"/>
                  <a:pt x="8247" y="2287"/>
                  <a:pt x="8265" y="2287"/>
                </a:cubicBezTo>
                <a:cubicBezTo>
                  <a:pt x="8265" y="2251"/>
                  <a:pt x="8284" y="2251"/>
                  <a:pt x="8284" y="2251"/>
                </a:cubicBezTo>
                <a:cubicBezTo>
                  <a:pt x="8303" y="2251"/>
                  <a:pt x="8322" y="2287"/>
                  <a:pt x="8322" y="2287"/>
                </a:cubicBezTo>
                <a:cubicBezTo>
                  <a:pt x="8322" y="2287"/>
                  <a:pt x="8303" y="2323"/>
                  <a:pt x="8303" y="2323"/>
                </a:cubicBezTo>
                <a:cubicBezTo>
                  <a:pt x="8303" y="2323"/>
                  <a:pt x="8303" y="2323"/>
                  <a:pt x="8303" y="2323"/>
                </a:cubicBezTo>
                <a:cubicBezTo>
                  <a:pt x="8303" y="2323"/>
                  <a:pt x="8303" y="2323"/>
                  <a:pt x="8303" y="2323"/>
                </a:cubicBezTo>
                <a:cubicBezTo>
                  <a:pt x="8303" y="2323"/>
                  <a:pt x="8322" y="2323"/>
                  <a:pt x="8322" y="2323"/>
                </a:cubicBezTo>
                <a:cubicBezTo>
                  <a:pt x="8341" y="2323"/>
                  <a:pt x="8341" y="2323"/>
                  <a:pt x="8360" y="2323"/>
                </a:cubicBezTo>
                <a:cubicBezTo>
                  <a:pt x="8360" y="2287"/>
                  <a:pt x="8379" y="2287"/>
                  <a:pt x="8398" y="2287"/>
                </a:cubicBezTo>
                <a:cubicBezTo>
                  <a:pt x="8417" y="2287"/>
                  <a:pt x="8417" y="2251"/>
                  <a:pt x="8436" y="2287"/>
                </a:cubicBezTo>
                <a:cubicBezTo>
                  <a:pt x="8436" y="2287"/>
                  <a:pt x="8455" y="2287"/>
                  <a:pt x="8455" y="2287"/>
                </a:cubicBezTo>
                <a:cubicBezTo>
                  <a:pt x="8455" y="2287"/>
                  <a:pt x="8455" y="2287"/>
                  <a:pt x="8455" y="2323"/>
                </a:cubicBezTo>
                <a:cubicBezTo>
                  <a:pt x="8455" y="2323"/>
                  <a:pt x="8436" y="2396"/>
                  <a:pt x="8436" y="2396"/>
                </a:cubicBezTo>
                <a:cubicBezTo>
                  <a:pt x="8417" y="2396"/>
                  <a:pt x="8417" y="2396"/>
                  <a:pt x="8398" y="2432"/>
                </a:cubicBezTo>
                <a:cubicBezTo>
                  <a:pt x="8398" y="2432"/>
                  <a:pt x="8398" y="2432"/>
                  <a:pt x="8398" y="2432"/>
                </a:cubicBezTo>
                <a:cubicBezTo>
                  <a:pt x="8379" y="2432"/>
                  <a:pt x="8360" y="2432"/>
                  <a:pt x="8322" y="2469"/>
                </a:cubicBezTo>
                <a:cubicBezTo>
                  <a:pt x="8341" y="2469"/>
                  <a:pt x="8341" y="2469"/>
                  <a:pt x="8360" y="2469"/>
                </a:cubicBezTo>
                <a:cubicBezTo>
                  <a:pt x="8379" y="2505"/>
                  <a:pt x="8322" y="2577"/>
                  <a:pt x="8322" y="2614"/>
                </a:cubicBezTo>
                <a:cubicBezTo>
                  <a:pt x="8322" y="2614"/>
                  <a:pt x="8322" y="2614"/>
                  <a:pt x="8322" y="2614"/>
                </a:cubicBezTo>
                <a:cubicBezTo>
                  <a:pt x="8322" y="2614"/>
                  <a:pt x="8322" y="2614"/>
                  <a:pt x="8322" y="2614"/>
                </a:cubicBezTo>
                <a:cubicBezTo>
                  <a:pt x="8341" y="2577"/>
                  <a:pt x="8341" y="2541"/>
                  <a:pt x="8360" y="2541"/>
                </a:cubicBezTo>
                <a:cubicBezTo>
                  <a:pt x="8360" y="2541"/>
                  <a:pt x="8360" y="2577"/>
                  <a:pt x="8360" y="2577"/>
                </a:cubicBezTo>
                <a:cubicBezTo>
                  <a:pt x="8398" y="2577"/>
                  <a:pt x="8417" y="2541"/>
                  <a:pt x="8436" y="2541"/>
                </a:cubicBezTo>
                <a:cubicBezTo>
                  <a:pt x="8436" y="2505"/>
                  <a:pt x="8455" y="2505"/>
                  <a:pt x="8455" y="2505"/>
                </a:cubicBezTo>
                <a:cubicBezTo>
                  <a:pt x="8455" y="2505"/>
                  <a:pt x="8455" y="2505"/>
                  <a:pt x="8474" y="2505"/>
                </a:cubicBezTo>
                <a:cubicBezTo>
                  <a:pt x="8474" y="2505"/>
                  <a:pt x="8474" y="2505"/>
                  <a:pt x="8474" y="2505"/>
                </a:cubicBezTo>
                <a:cubicBezTo>
                  <a:pt x="8474" y="2541"/>
                  <a:pt x="8455" y="2541"/>
                  <a:pt x="8436" y="2541"/>
                </a:cubicBezTo>
                <a:cubicBezTo>
                  <a:pt x="8436" y="2577"/>
                  <a:pt x="8436" y="2577"/>
                  <a:pt x="8417" y="2614"/>
                </a:cubicBezTo>
                <a:cubicBezTo>
                  <a:pt x="8417" y="2614"/>
                  <a:pt x="8417" y="2614"/>
                  <a:pt x="8398" y="2614"/>
                </a:cubicBezTo>
                <a:cubicBezTo>
                  <a:pt x="8398" y="2614"/>
                  <a:pt x="8379" y="2614"/>
                  <a:pt x="8379" y="2650"/>
                </a:cubicBezTo>
                <a:cubicBezTo>
                  <a:pt x="8379" y="2650"/>
                  <a:pt x="8379" y="2650"/>
                  <a:pt x="8379" y="2650"/>
                </a:cubicBezTo>
                <a:cubicBezTo>
                  <a:pt x="8398" y="2650"/>
                  <a:pt x="8398" y="2614"/>
                  <a:pt x="8417" y="2650"/>
                </a:cubicBezTo>
                <a:cubicBezTo>
                  <a:pt x="8417" y="2650"/>
                  <a:pt x="8417" y="2650"/>
                  <a:pt x="8417" y="2650"/>
                </a:cubicBezTo>
                <a:cubicBezTo>
                  <a:pt x="8436" y="2614"/>
                  <a:pt x="8436" y="2650"/>
                  <a:pt x="8455" y="2614"/>
                </a:cubicBezTo>
                <a:cubicBezTo>
                  <a:pt x="8474" y="2614"/>
                  <a:pt x="8474" y="2577"/>
                  <a:pt x="8474" y="2577"/>
                </a:cubicBezTo>
                <a:cubicBezTo>
                  <a:pt x="8492" y="2577"/>
                  <a:pt x="8492" y="2541"/>
                  <a:pt x="8492" y="2541"/>
                </a:cubicBezTo>
                <a:cubicBezTo>
                  <a:pt x="8511" y="2505"/>
                  <a:pt x="8530" y="2469"/>
                  <a:pt x="8530" y="2469"/>
                </a:cubicBezTo>
                <a:cubicBezTo>
                  <a:pt x="8530" y="2469"/>
                  <a:pt x="8530" y="2469"/>
                  <a:pt x="8530" y="2469"/>
                </a:cubicBezTo>
                <a:cubicBezTo>
                  <a:pt x="8549" y="2469"/>
                  <a:pt x="8549" y="2469"/>
                  <a:pt x="8549" y="2469"/>
                </a:cubicBezTo>
                <a:cubicBezTo>
                  <a:pt x="8568" y="2469"/>
                  <a:pt x="8587" y="2469"/>
                  <a:pt x="8606" y="2469"/>
                </a:cubicBezTo>
                <a:cubicBezTo>
                  <a:pt x="8625" y="2469"/>
                  <a:pt x="8625" y="2469"/>
                  <a:pt x="8644" y="2469"/>
                </a:cubicBezTo>
                <a:cubicBezTo>
                  <a:pt x="8644" y="2469"/>
                  <a:pt x="8682" y="2432"/>
                  <a:pt x="8682" y="2432"/>
                </a:cubicBezTo>
                <a:cubicBezTo>
                  <a:pt x="8701" y="2432"/>
                  <a:pt x="8701" y="2396"/>
                  <a:pt x="8719" y="2396"/>
                </a:cubicBezTo>
                <a:cubicBezTo>
                  <a:pt x="8719" y="2396"/>
                  <a:pt x="8719" y="2396"/>
                  <a:pt x="8738" y="2360"/>
                </a:cubicBezTo>
                <a:cubicBezTo>
                  <a:pt x="8738" y="2396"/>
                  <a:pt x="8738" y="2396"/>
                  <a:pt x="8738" y="2432"/>
                </a:cubicBezTo>
                <a:cubicBezTo>
                  <a:pt x="8738" y="2432"/>
                  <a:pt x="8719" y="2432"/>
                  <a:pt x="8719" y="2432"/>
                </a:cubicBezTo>
                <a:cubicBezTo>
                  <a:pt x="8719" y="2432"/>
                  <a:pt x="8701" y="2432"/>
                  <a:pt x="8701" y="2469"/>
                </a:cubicBezTo>
                <a:close/>
                <a:moveTo>
                  <a:pt x="8379" y="1670"/>
                </a:moveTo>
                <a:cubicBezTo>
                  <a:pt x="8379" y="1670"/>
                  <a:pt x="8379" y="1670"/>
                  <a:pt x="8379" y="1670"/>
                </a:cubicBezTo>
                <a:cubicBezTo>
                  <a:pt x="8379" y="1670"/>
                  <a:pt x="8379" y="1670"/>
                  <a:pt x="8379" y="1670"/>
                </a:cubicBezTo>
                <a:cubicBezTo>
                  <a:pt x="8379" y="1670"/>
                  <a:pt x="8379" y="1670"/>
                  <a:pt x="8379" y="1670"/>
                </a:cubicBezTo>
                <a:cubicBezTo>
                  <a:pt x="8379" y="1670"/>
                  <a:pt x="8379" y="1670"/>
                  <a:pt x="8379" y="1670"/>
                </a:cubicBezTo>
                <a:close/>
                <a:moveTo>
                  <a:pt x="8322" y="1888"/>
                </a:moveTo>
                <a:cubicBezTo>
                  <a:pt x="8341" y="1888"/>
                  <a:pt x="8341" y="1851"/>
                  <a:pt x="8341" y="1851"/>
                </a:cubicBezTo>
                <a:cubicBezTo>
                  <a:pt x="8360" y="1851"/>
                  <a:pt x="8360" y="1851"/>
                  <a:pt x="8379" y="1851"/>
                </a:cubicBezTo>
                <a:cubicBezTo>
                  <a:pt x="8379" y="1851"/>
                  <a:pt x="8398" y="1851"/>
                  <a:pt x="8398" y="1851"/>
                </a:cubicBezTo>
                <a:cubicBezTo>
                  <a:pt x="8398" y="1851"/>
                  <a:pt x="8341" y="1888"/>
                  <a:pt x="8322" y="1888"/>
                </a:cubicBezTo>
                <a:close/>
                <a:moveTo>
                  <a:pt x="8492" y="1851"/>
                </a:moveTo>
                <a:cubicBezTo>
                  <a:pt x="8492" y="1851"/>
                  <a:pt x="8492" y="1851"/>
                  <a:pt x="8492" y="1851"/>
                </a:cubicBezTo>
                <a:cubicBezTo>
                  <a:pt x="8474" y="1888"/>
                  <a:pt x="8474" y="1888"/>
                  <a:pt x="8455" y="1888"/>
                </a:cubicBezTo>
                <a:cubicBezTo>
                  <a:pt x="8455" y="1888"/>
                  <a:pt x="8436" y="1924"/>
                  <a:pt x="8436" y="1924"/>
                </a:cubicBezTo>
                <a:cubicBezTo>
                  <a:pt x="8417" y="1924"/>
                  <a:pt x="8417" y="1924"/>
                  <a:pt x="8398" y="1924"/>
                </a:cubicBezTo>
                <a:cubicBezTo>
                  <a:pt x="8398" y="1924"/>
                  <a:pt x="8379" y="1924"/>
                  <a:pt x="8379" y="1924"/>
                </a:cubicBezTo>
                <a:cubicBezTo>
                  <a:pt x="8379" y="1924"/>
                  <a:pt x="8379" y="1924"/>
                  <a:pt x="8379" y="1924"/>
                </a:cubicBezTo>
                <a:cubicBezTo>
                  <a:pt x="8379" y="1924"/>
                  <a:pt x="8379" y="1924"/>
                  <a:pt x="8379" y="1924"/>
                </a:cubicBezTo>
                <a:cubicBezTo>
                  <a:pt x="8398" y="1888"/>
                  <a:pt x="8417" y="1888"/>
                  <a:pt x="8436" y="1888"/>
                </a:cubicBezTo>
                <a:cubicBezTo>
                  <a:pt x="8455" y="1888"/>
                  <a:pt x="8474" y="1851"/>
                  <a:pt x="8492" y="1851"/>
                </a:cubicBezTo>
                <a:close/>
                <a:moveTo>
                  <a:pt x="8568" y="1997"/>
                </a:moveTo>
                <a:cubicBezTo>
                  <a:pt x="8568" y="1997"/>
                  <a:pt x="8568" y="1997"/>
                  <a:pt x="8568" y="1997"/>
                </a:cubicBezTo>
                <a:cubicBezTo>
                  <a:pt x="8549" y="1997"/>
                  <a:pt x="8549" y="2033"/>
                  <a:pt x="8530" y="2033"/>
                </a:cubicBezTo>
                <a:cubicBezTo>
                  <a:pt x="8530" y="2033"/>
                  <a:pt x="8530" y="2033"/>
                  <a:pt x="8530" y="1997"/>
                </a:cubicBezTo>
                <a:cubicBezTo>
                  <a:pt x="8530" y="1997"/>
                  <a:pt x="8511" y="1997"/>
                  <a:pt x="8511" y="1997"/>
                </a:cubicBezTo>
                <a:cubicBezTo>
                  <a:pt x="8474" y="1997"/>
                  <a:pt x="8436" y="1997"/>
                  <a:pt x="8417" y="1997"/>
                </a:cubicBezTo>
                <a:cubicBezTo>
                  <a:pt x="8398" y="1997"/>
                  <a:pt x="8379" y="1997"/>
                  <a:pt x="8379" y="1960"/>
                </a:cubicBezTo>
                <a:cubicBezTo>
                  <a:pt x="8398" y="1960"/>
                  <a:pt x="8436" y="1924"/>
                  <a:pt x="8436" y="1924"/>
                </a:cubicBezTo>
                <a:cubicBezTo>
                  <a:pt x="8474" y="1924"/>
                  <a:pt x="8492" y="1960"/>
                  <a:pt x="8530" y="1960"/>
                </a:cubicBezTo>
                <a:cubicBezTo>
                  <a:pt x="8530" y="1960"/>
                  <a:pt x="8530" y="1960"/>
                  <a:pt x="8530" y="1960"/>
                </a:cubicBezTo>
                <a:cubicBezTo>
                  <a:pt x="8530" y="1960"/>
                  <a:pt x="8530" y="1960"/>
                  <a:pt x="8530" y="1960"/>
                </a:cubicBezTo>
                <a:cubicBezTo>
                  <a:pt x="8530" y="1960"/>
                  <a:pt x="8530" y="1960"/>
                  <a:pt x="8530" y="1960"/>
                </a:cubicBezTo>
                <a:cubicBezTo>
                  <a:pt x="8530" y="1960"/>
                  <a:pt x="8511" y="1960"/>
                  <a:pt x="8511" y="1960"/>
                </a:cubicBezTo>
                <a:cubicBezTo>
                  <a:pt x="8511" y="1997"/>
                  <a:pt x="8549" y="1997"/>
                  <a:pt x="8568" y="1997"/>
                </a:cubicBezTo>
                <a:close/>
                <a:moveTo>
                  <a:pt x="8417" y="1452"/>
                </a:moveTo>
                <a:cubicBezTo>
                  <a:pt x="8398" y="1452"/>
                  <a:pt x="8379" y="1416"/>
                  <a:pt x="8379" y="1416"/>
                </a:cubicBezTo>
                <a:cubicBezTo>
                  <a:pt x="8379" y="1416"/>
                  <a:pt x="8379" y="1416"/>
                  <a:pt x="8379" y="1416"/>
                </a:cubicBezTo>
                <a:cubicBezTo>
                  <a:pt x="8398" y="1416"/>
                  <a:pt x="8398" y="1416"/>
                  <a:pt x="8398" y="1416"/>
                </a:cubicBezTo>
                <a:cubicBezTo>
                  <a:pt x="8417" y="1416"/>
                  <a:pt x="8417" y="1452"/>
                  <a:pt x="8417" y="1452"/>
                </a:cubicBezTo>
                <a:close/>
                <a:moveTo>
                  <a:pt x="8436" y="1379"/>
                </a:moveTo>
                <a:cubicBezTo>
                  <a:pt x="8436" y="1379"/>
                  <a:pt x="8436" y="1343"/>
                  <a:pt x="8417" y="1343"/>
                </a:cubicBezTo>
                <a:cubicBezTo>
                  <a:pt x="8417" y="1343"/>
                  <a:pt x="8398" y="1307"/>
                  <a:pt x="8398" y="1307"/>
                </a:cubicBezTo>
                <a:cubicBezTo>
                  <a:pt x="8417" y="1307"/>
                  <a:pt x="8436" y="1271"/>
                  <a:pt x="8436" y="1271"/>
                </a:cubicBezTo>
                <a:cubicBezTo>
                  <a:pt x="8436" y="1271"/>
                  <a:pt x="8455" y="1307"/>
                  <a:pt x="8474" y="1307"/>
                </a:cubicBezTo>
                <a:cubicBezTo>
                  <a:pt x="8474" y="1307"/>
                  <a:pt x="8474" y="1271"/>
                  <a:pt x="8492" y="1307"/>
                </a:cubicBezTo>
                <a:cubicBezTo>
                  <a:pt x="8492" y="1307"/>
                  <a:pt x="8492" y="1307"/>
                  <a:pt x="8492" y="1307"/>
                </a:cubicBezTo>
                <a:cubicBezTo>
                  <a:pt x="8474" y="1307"/>
                  <a:pt x="8436" y="1379"/>
                  <a:pt x="8436" y="1379"/>
                </a:cubicBezTo>
                <a:close/>
                <a:moveTo>
                  <a:pt x="8360" y="1198"/>
                </a:moveTo>
                <a:cubicBezTo>
                  <a:pt x="8360" y="1198"/>
                  <a:pt x="8341" y="1162"/>
                  <a:pt x="8341" y="1162"/>
                </a:cubicBezTo>
                <a:cubicBezTo>
                  <a:pt x="8341" y="1162"/>
                  <a:pt x="8322" y="1162"/>
                  <a:pt x="8322" y="1162"/>
                </a:cubicBezTo>
                <a:cubicBezTo>
                  <a:pt x="8322" y="1162"/>
                  <a:pt x="8303" y="1125"/>
                  <a:pt x="8303" y="1125"/>
                </a:cubicBezTo>
                <a:cubicBezTo>
                  <a:pt x="8303" y="1125"/>
                  <a:pt x="8284" y="1125"/>
                  <a:pt x="8284" y="1125"/>
                </a:cubicBezTo>
                <a:cubicBezTo>
                  <a:pt x="8284" y="1089"/>
                  <a:pt x="8284" y="1089"/>
                  <a:pt x="8284" y="1089"/>
                </a:cubicBezTo>
                <a:cubicBezTo>
                  <a:pt x="8284" y="1089"/>
                  <a:pt x="8303" y="1089"/>
                  <a:pt x="8303" y="1089"/>
                </a:cubicBezTo>
                <a:cubicBezTo>
                  <a:pt x="8322" y="1125"/>
                  <a:pt x="8341" y="1125"/>
                  <a:pt x="8341" y="1162"/>
                </a:cubicBezTo>
                <a:cubicBezTo>
                  <a:pt x="8360" y="1162"/>
                  <a:pt x="8360" y="1162"/>
                  <a:pt x="8360" y="1198"/>
                </a:cubicBezTo>
                <a:cubicBezTo>
                  <a:pt x="8360" y="1198"/>
                  <a:pt x="8360" y="1198"/>
                  <a:pt x="8360" y="1198"/>
                </a:cubicBezTo>
                <a:cubicBezTo>
                  <a:pt x="8360" y="1198"/>
                  <a:pt x="8360" y="1198"/>
                  <a:pt x="8360" y="1198"/>
                </a:cubicBezTo>
                <a:close/>
                <a:moveTo>
                  <a:pt x="7150" y="436"/>
                </a:moveTo>
                <a:cubicBezTo>
                  <a:pt x="7131" y="436"/>
                  <a:pt x="7131" y="436"/>
                  <a:pt x="7131" y="436"/>
                </a:cubicBezTo>
                <a:cubicBezTo>
                  <a:pt x="7093" y="399"/>
                  <a:pt x="7074" y="399"/>
                  <a:pt x="7074" y="327"/>
                </a:cubicBezTo>
                <a:cubicBezTo>
                  <a:pt x="7074" y="327"/>
                  <a:pt x="7093" y="327"/>
                  <a:pt x="7093" y="327"/>
                </a:cubicBezTo>
                <a:cubicBezTo>
                  <a:pt x="7112" y="327"/>
                  <a:pt x="7112" y="327"/>
                  <a:pt x="7112" y="327"/>
                </a:cubicBezTo>
                <a:cubicBezTo>
                  <a:pt x="7131" y="363"/>
                  <a:pt x="7150" y="363"/>
                  <a:pt x="7150" y="399"/>
                </a:cubicBezTo>
                <a:cubicBezTo>
                  <a:pt x="7150" y="399"/>
                  <a:pt x="7150" y="399"/>
                  <a:pt x="7150" y="436"/>
                </a:cubicBezTo>
                <a:cubicBezTo>
                  <a:pt x="7150" y="436"/>
                  <a:pt x="7150" y="436"/>
                  <a:pt x="7150" y="436"/>
                </a:cubicBezTo>
                <a:cubicBezTo>
                  <a:pt x="7150" y="436"/>
                  <a:pt x="7150" y="436"/>
                  <a:pt x="7150" y="436"/>
                </a:cubicBezTo>
                <a:close/>
                <a:moveTo>
                  <a:pt x="6942" y="472"/>
                </a:moveTo>
                <a:cubicBezTo>
                  <a:pt x="6942" y="436"/>
                  <a:pt x="6942" y="436"/>
                  <a:pt x="6960" y="436"/>
                </a:cubicBezTo>
                <a:cubicBezTo>
                  <a:pt x="6960" y="436"/>
                  <a:pt x="6960" y="436"/>
                  <a:pt x="6960" y="436"/>
                </a:cubicBezTo>
                <a:cubicBezTo>
                  <a:pt x="6960" y="472"/>
                  <a:pt x="6979" y="472"/>
                  <a:pt x="6979" y="472"/>
                </a:cubicBezTo>
                <a:cubicBezTo>
                  <a:pt x="6979" y="472"/>
                  <a:pt x="6979" y="472"/>
                  <a:pt x="6979" y="472"/>
                </a:cubicBezTo>
                <a:cubicBezTo>
                  <a:pt x="6979" y="508"/>
                  <a:pt x="6942" y="472"/>
                  <a:pt x="6942" y="472"/>
                </a:cubicBezTo>
                <a:close/>
                <a:moveTo>
                  <a:pt x="6450" y="799"/>
                </a:moveTo>
                <a:cubicBezTo>
                  <a:pt x="6431" y="799"/>
                  <a:pt x="6393" y="799"/>
                  <a:pt x="6374" y="799"/>
                </a:cubicBezTo>
                <a:cubicBezTo>
                  <a:pt x="6298" y="762"/>
                  <a:pt x="6261" y="799"/>
                  <a:pt x="6223" y="835"/>
                </a:cubicBezTo>
                <a:cubicBezTo>
                  <a:pt x="6223" y="835"/>
                  <a:pt x="6204" y="871"/>
                  <a:pt x="6223" y="871"/>
                </a:cubicBezTo>
                <a:cubicBezTo>
                  <a:pt x="6223" y="908"/>
                  <a:pt x="6223" y="908"/>
                  <a:pt x="6242" y="944"/>
                </a:cubicBezTo>
                <a:cubicBezTo>
                  <a:pt x="6280" y="944"/>
                  <a:pt x="6298" y="908"/>
                  <a:pt x="6355" y="908"/>
                </a:cubicBezTo>
                <a:cubicBezTo>
                  <a:pt x="6355" y="908"/>
                  <a:pt x="6355" y="944"/>
                  <a:pt x="6374" y="944"/>
                </a:cubicBezTo>
                <a:cubicBezTo>
                  <a:pt x="6374" y="944"/>
                  <a:pt x="6374" y="980"/>
                  <a:pt x="6374" y="980"/>
                </a:cubicBezTo>
                <a:cubicBezTo>
                  <a:pt x="6298" y="980"/>
                  <a:pt x="6261" y="1053"/>
                  <a:pt x="6204" y="1089"/>
                </a:cubicBezTo>
                <a:cubicBezTo>
                  <a:pt x="6204" y="1125"/>
                  <a:pt x="6185" y="1125"/>
                  <a:pt x="6166" y="1125"/>
                </a:cubicBezTo>
                <a:cubicBezTo>
                  <a:pt x="6128" y="1198"/>
                  <a:pt x="6128" y="1234"/>
                  <a:pt x="6053" y="1234"/>
                </a:cubicBezTo>
                <a:cubicBezTo>
                  <a:pt x="6053" y="1271"/>
                  <a:pt x="6053" y="1307"/>
                  <a:pt x="6071" y="1343"/>
                </a:cubicBezTo>
                <a:cubicBezTo>
                  <a:pt x="6053" y="1343"/>
                  <a:pt x="6053" y="1343"/>
                  <a:pt x="6034" y="1379"/>
                </a:cubicBezTo>
                <a:cubicBezTo>
                  <a:pt x="5958" y="1452"/>
                  <a:pt x="5901" y="1379"/>
                  <a:pt x="5807" y="1343"/>
                </a:cubicBezTo>
                <a:cubicBezTo>
                  <a:pt x="5807" y="1379"/>
                  <a:pt x="5807" y="1379"/>
                  <a:pt x="5807" y="1416"/>
                </a:cubicBezTo>
                <a:cubicBezTo>
                  <a:pt x="5826" y="1416"/>
                  <a:pt x="5844" y="1452"/>
                  <a:pt x="5863" y="1488"/>
                </a:cubicBezTo>
                <a:cubicBezTo>
                  <a:pt x="5863" y="1488"/>
                  <a:pt x="5863" y="1488"/>
                  <a:pt x="5863" y="1488"/>
                </a:cubicBezTo>
                <a:cubicBezTo>
                  <a:pt x="5807" y="1525"/>
                  <a:pt x="5750" y="1488"/>
                  <a:pt x="5693" y="1488"/>
                </a:cubicBezTo>
                <a:cubicBezTo>
                  <a:pt x="5674" y="1488"/>
                  <a:pt x="5655" y="1488"/>
                  <a:pt x="5636" y="1488"/>
                </a:cubicBezTo>
                <a:cubicBezTo>
                  <a:pt x="5636" y="1488"/>
                  <a:pt x="5636" y="1525"/>
                  <a:pt x="5636" y="1561"/>
                </a:cubicBezTo>
                <a:cubicBezTo>
                  <a:pt x="5674" y="1561"/>
                  <a:pt x="5750" y="1561"/>
                  <a:pt x="5769" y="1597"/>
                </a:cubicBezTo>
                <a:cubicBezTo>
                  <a:pt x="5769" y="1634"/>
                  <a:pt x="5769" y="1670"/>
                  <a:pt x="5769" y="1670"/>
                </a:cubicBezTo>
                <a:cubicBezTo>
                  <a:pt x="5769" y="1706"/>
                  <a:pt x="5750" y="1706"/>
                  <a:pt x="5731" y="1706"/>
                </a:cubicBezTo>
                <a:cubicBezTo>
                  <a:pt x="5731" y="1743"/>
                  <a:pt x="5731" y="1779"/>
                  <a:pt x="5731" y="1815"/>
                </a:cubicBezTo>
                <a:cubicBezTo>
                  <a:pt x="5712" y="1815"/>
                  <a:pt x="5693" y="1815"/>
                  <a:pt x="5674" y="1815"/>
                </a:cubicBezTo>
                <a:cubicBezTo>
                  <a:pt x="5674" y="1815"/>
                  <a:pt x="5674" y="1815"/>
                  <a:pt x="5674" y="1815"/>
                </a:cubicBezTo>
                <a:cubicBezTo>
                  <a:pt x="5674" y="1851"/>
                  <a:pt x="5693" y="1888"/>
                  <a:pt x="5693" y="1888"/>
                </a:cubicBezTo>
                <a:cubicBezTo>
                  <a:pt x="5674" y="1888"/>
                  <a:pt x="5636" y="1924"/>
                  <a:pt x="5618" y="1888"/>
                </a:cubicBezTo>
                <a:cubicBezTo>
                  <a:pt x="5599" y="1888"/>
                  <a:pt x="5580" y="1888"/>
                  <a:pt x="5561" y="1888"/>
                </a:cubicBezTo>
                <a:cubicBezTo>
                  <a:pt x="5561" y="1924"/>
                  <a:pt x="5580" y="1960"/>
                  <a:pt x="5580" y="1997"/>
                </a:cubicBezTo>
                <a:cubicBezTo>
                  <a:pt x="5561" y="2069"/>
                  <a:pt x="5504" y="2069"/>
                  <a:pt x="5466" y="2033"/>
                </a:cubicBezTo>
                <a:cubicBezTo>
                  <a:pt x="5409" y="2033"/>
                  <a:pt x="5372" y="1960"/>
                  <a:pt x="5334" y="2069"/>
                </a:cubicBezTo>
                <a:cubicBezTo>
                  <a:pt x="5334" y="2069"/>
                  <a:pt x="5334" y="2069"/>
                  <a:pt x="5334" y="2069"/>
                </a:cubicBezTo>
                <a:cubicBezTo>
                  <a:pt x="5372" y="2106"/>
                  <a:pt x="5466" y="2106"/>
                  <a:pt x="5523" y="2142"/>
                </a:cubicBezTo>
                <a:cubicBezTo>
                  <a:pt x="5542" y="2142"/>
                  <a:pt x="5561" y="2142"/>
                  <a:pt x="5580" y="2142"/>
                </a:cubicBezTo>
                <a:cubicBezTo>
                  <a:pt x="5580" y="2142"/>
                  <a:pt x="5599" y="2178"/>
                  <a:pt x="5599" y="2178"/>
                </a:cubicBezTo>
                <a:cubicBezTo>
                  <a:pt x="5599" y="2178"/>
                  <a:pt x="5599" y="2214"/>
                  <a:pt x="5599" y="2214"/>
                </a:cubicBezTo>
                <a:cubicBezTo>
                  <a:pt x="5580" y="2214"/>
                  <a:pt x="5580" y="2251"/>
                  <a:pt x="5580" y="2251"/>
                </a:cubicBezTo>
                <a:cubicBezTo>
                  <a:pt x="5542" y="2287"/>
                  <a:pt x="5504" y="2287"/>
                  <a:pt x="5485" y="2287"/>
                </a:cubicBezTo>
                <a:cubicBezTo>
                  <a:pt x="5447" y="2323"/>
                  <a:pt x="5447" y="2323"/>
                  <a:pt x="5409" y="2323"/>
                </a:cubicBezTo>
                <a:cubicBezTo>
                  <a:pt x="5409" y="2323"/>
                  <a:pt x="5372" y="2214"/>
                  <a:pt x="5372" y="2214"/>
                </a:cubicBezTo>
                <a:cubicBezTo>
                  <a:pt x="5372" y="2251"/>
                  <a:pt x="5353" y="2251"/>
                  <a:pt x="5334" y="2251"/>
                </a:cubicBezTo>
                <a:cubicBezTo>
                  <a:pt x="5334" y="2214"/>
                  <a:pt x="5315" y="2214"/>
                  <a:pt x="5296" y="2214"/>
                </a:cubicBezTo>
                <a:cubicBezTo>
                  <a:pt x="5296" y="2214"/>
                  <a:pt x="5296" y="2214"/>
                  <a:pt x="5296" y="2214"/>
                </a:cubicBezTo>
                <a:cubicBezTo>
                  <a:pt x="5315" y="2251"/>
                  <a:pt x="5315" y="2251"/>
                  <a:pt x="5315" y="2287"/>
                </a:cubicBezTo>
                <a:cubicBezTo>
                  <a:pt x="5239" y="2287"/>
                  <a:pt x="5220" y="2251"/>
                  <a:pt x="5182" y="2178"/>
                </a:cubicBezTo>
                <a:cubicBezTo>
                  <a:pt x="5182" y="2178"/>
                  <a:pt x="5164" y="2178"/>
                  <a:pt x="5164" y="2178"/>
                </a:cubicBezTo>
                <a:cubicBezTo>
                  <a:pt x="5164" y="2214"/>
                  <a:pt x="5182" y="2251"/>
                  <a:pt x="5182" y="2251"/>
                </a:cubicBezTo>
                <a:cubicBezTo>
                  <a:pt x="5182" y="2287"/>
                  <a:pt x="5164" y="2287"/>
                  <a:pt x="5145" y="2287"/>
                </a:cubicBezTo>
                <a:cubicBezTo>
                  <a:pt x="5107" y="2287"/>
                  <a:pt x="5050" y="2287"/>
                  <a:pt x="5012" y="2287"/>
                </a:cubicBezTo>
                <a:cubicBezTo>
                  <a:pt x="4993" y="2251"/>
                  <a:pt x="4974" y="2214"/>
                  <a:pt x="4956" y="2214"/>
                </a:cubicBezTo>
                <a:cubicBezTo>
                  <a:pt x="4937" y="2251"/>
                  <a:pt x="4956" y="2251"/>
                  <a:pt x="4937" y="2287"/>
                </a:cubicBezTo>
                <a:cubicBezTo>
                  <a:pt x="4918" y="2251"/>
                  <a:pt x="4899" y="2251"/>
                  <a:pt x="4880" y="2251"/>
                </a:cubicBezTo>
                <a:cubicBezTo>
                  <a:pt x="4880" y="2214"/>
                  <a:pt x="4880" y="2178"/>
                  <a:pt x="4899" y="2142"/>
                </a:cubicBezTo>
                <a:cubicBezTo>
                  <a:pt x="4937" y="2142"/>
                  <a:pt x="4937" y="2106"/>
                  <a:pt x="4974" y="2106"/>
                </a:cubicBezTo>
                <a:cubicBezTo>
                  <a:pt x="4993" y="2069"/>
                  <a:pt x="5012" y="2106"/>
                  <a:pt x="5031" y="2069"/>
                </a:cubicBezTo>
                <a:cubicBezTo>
                  <a:pt x="5031" y="2069"/>
                  <a:pt x="5012" y="2069"/>
                  <a:pt x="5012" y="2069"/>
                </a:cubicBezTo>
                <a:cubicBezTo>
                  <a:pt x="4993" y="2069"/>
                  <a:pt x="4974" y="1997"/>
                  <a:pt x="4956" y="1924"/>
                </a:cubicBezTo>
                <a:cubicBezTo>
                  <a:pt x="4974" y="1924"/>
                  <a:pt x="4974" y="1924"/>
                  <a:pt x="4974" y="1924"/>
                </a:cubicBezTo>
                <a:cubicBezTo>
                  <a:pt x="4974" y="1924"/>
                  <a:pt x="4993" y="1924"/>
                  <a:pt x="5012" y="1924"/>
                </a:cubicBezTo>
                <a:cubicBezTo>
                  <a:pt x="5031" y="1924"/>
                  <a:pt x="5069" y="1924"/>
                  <a:pt x="5088" y="1960"/>
                </a:cubicBezTo>
                <a:cubicBezTo>
                  <a:pt x="5107" y="1997"/>
                  <a:pt x="5126" y="2033"/>
                  <a:pt x="5164" y="2069"/>
                </a:cubicBezTo>
                <a:cubicBezTo>
                  <a:pt x="5182" y="2069"/>
                  <a:pt x="5239" y="2069"/>
                  <a:pt x="5258" y="2069"/>
                </a:cubicBezTo>
                <a:cubicBezTo>
                  <a:pt x="5258" y="2069"/>
                  <a:pt x="5258" y="2069"/>
                  <a:pt x="5258" y="2069"/>
                </a:cubicBezTo>
                <a:cubicBezTo>
                  <a:pt x="5258" y="2033"/>
                  <a:pt x="5258" y="2033"/>
                  <a:pt x="5258" y="2033"/>
                </a:cubicBezTo>
                <a:cubicBezTo>
                  <a:pt x="5258" y="1997"/>
                  <a:pt x="5258" y="1997"/>
                  <a:pt x="5277" y="1997"/>
                </a:cubicBezTo>
                <a:cubicBezTo>
                  <a:pt x="5277" y="1997"/>
                  <a:pt x="5277" y="1997"/>
                  <a:pt x="5277" y="1997"/>
                </a:cubicBezTo>
                <a:cubicBezTo>
                  <a:pt x="5239" y="1997"/>
                  <a:pt x="5182" y="1997"/>
                  <a:pt x="5164" y="1960"/>
                </a:cubicBezTo>
                <a:cubicBezTo>
                  <a:pt x="5164" y="1924"/>
                  <a:pt x="5164" y="1888"/>
                  <a:pt x="5164" y="1851"/>
                </a:cubicBezTo>
                <a:cubicBezTo>
                  <a:pt x="5164" y="1851"/>
                  <a:pt x="5164" y="1851"/>
                  <a:pt x="5164" y="1851"/>
                </a:cubicBezTo>
                <a:cubicBezTo>
                  <a:pt x="5126" y="1851"/>
                  <a:pt x="5069" y="1815"/>
                  <a:pt x="5031" y="1815"/>
                </a:cubicBezTo>
                <a:cubicBezTo>
                  <a:pt x="5031" y="1815"/>
                  <a:pt x="5031" y="1815"/>
                  <a:pt x="5031" y="1815"/>
                </a:cubicBezTo>
                <a:cubicBezTo>
                  <a:pt x="5050" y="1743"/>
                  <a:pt x="5050" y="1706"/>
                  <a:pt x="5069" y="1670"/>
                </a:cubicBezTo>
                <a:cubicBezTo>
                  <a:pt x="5088" y="1634"/>
                  <a:pt x="5182" y="1670"/>
                  <a:pt x="5220" y="1670"/>
                </a:cubicBezTo>
                <a:cubicBezTo>
                  <a:pt x="5258" y="1670"/>
                  <a:pt x="5277" y="1706"/>
                  <a:pt x="5315" y="1706"/>
                </a:cubicBezTo>
                <a:cubicBezTo>
                  <a:pt x="5315" y="1706"/>
                  <a:pt x="5334" y="1706"/>
                  <a:pt x="5334" y="1706"/>
                </a:cubicBezTo>
                <a:cubicBezTo>
                  <a:pt x="5334" y="1706"/>
                  <a:pt x="5353" y="1706"/>
                  <a:pt x="5353" y="1706"/>
                </a:cubicBezTo>
                <a:cubicBezTo>
                  <a:pt x="5334" y="1670"/>
                  <a:pt x="5296" y="1634"/>
                  <a:pt x="5258" y="1597"/>
                </a:cubicBezTo>
                <a:cubicBezTo>
                  <a:pt x="5258" y="1597"/>
                  <a:pt x="5239" y="1561"/>
                  <a:pt x="5220" y="1561"/>
                </a:cubicBezTo>
                <a:cubicBezTo>
                  <a:pt x="5182" y="1525"/>
                  <a:pt x="5145" y="1452"/>
                  <a:pt x="5126" y="1416"/>
                </a:cubicBezTo>
                <a:cubicBezTo>
                  <a:pt x="5126" y="1416"/>
                  <a:pt x="5107" y="1452"/>
                  <a:pt x="5107" y="1452"/>
                </a:cubicBezTo>
                <a:cubicBezTo>
                  <a:pt x="5107" y="1452"/>
                  <a:pt x="5107" y="1452"/>
                  <a:pt x="5107" y="1452"/>
                </a:cubicBezTo>
                <a:cubicBezTo>
                  <a:pt x="5088" y="1416"/>
                  <a:pt x="5088" y="1379"/>
                  <a:pt x="5069" y="1343"/>
                </a:cubicBezTo>
                <a:cubicBezTo>
                  <a:pt x="5069" y="1343"/>
                  <a:pt x="5069" y="1307"/>
                  <a:pt x="5069" y="1307"/>
                </a:cubicBezTo>
                <a:cubicBezTo>
                  <a:pt x="5069" y="1307"/>
                  <a:pt x="5069" y="1307"/>
                  <a:pt x="5069" y="1307"/>
                </a:cubicBezTo>
                <a:cubicBezTo>
                  <a:pt x="5107" y="1307"/>
                  <a:pt x="5126" y="1307"/>
                  <a:pt x="5164" y="1307"/>
                </a:cubicBezTo>
                <a:cubicBezTo>
                  <a:pt x="5182" y="1307"/>
                  <a:pt x="5220" y="1307"/>
                  <a:pt x="5239" y="1307"/>
                </a:cubicBezTo>
                <a:cubicBezTo>
                  <a:pt x="5277" y="1343"/>
                  <a:pt x="5315" y="1416"/>
                  <a:pt x="5353" y="1452"/>
                </a:cubicBezTo>
                <a:cubicBezTo>
                  <a:pt x="5372" y="1452"/>
                  <a:pt x="5391" y="1452"/>
                  <a:pt x="5409" y="1452"/>
                </a:cubicBezTo>
                <a:cubicBezTo>
                  <a:pt x="5409" y="1452"/>
                  <a:pt x="5391" y="1416"/>
                  <a:pt x="5391" y="1416"/>
                </a:cubicBezTo>
                <a:cubicBezTo>
                  <a:pt x="5372" y="1379"/>
                  <a:pt x="5334" y="1379"/>
                  <a:pt x="5315" y="1343"/>
                </a:cubicBezTo>
                <a:cubicBezTo>
                  <a:pt x="5334" y="1307"/>
                  <a:pt x="5353" y="1307"/>
                  <a:pt x="5353" y="1271"/>
                </a:cubicBezTo>
                <a:cubicBezTo>
                  <a:pt x="5372" y="1234"/>
                  <a:pt x="5391" y="1234"/>
                  <a:pt x="5391" y="1234"/>
                </a:cubicBezTo>
                <a:cubicBezTo>
                  <a:pt x="5409" y="1234"/>
                  <a:pt x="5428" y="1234"/>
                  <a:pt x="5447" y="1234"/>
                </a:cubicBezTo>
                <a:cubicBezTo>
                  <a:pt x="5466" y="1198"/>
                  <a:pt x="5466" y="1198"/>
                  <a:pt x="5485" y="1198"/>
                </a:cubicBezTo>
                <a:cubicBezTo>
                  <a:pt x="5523" y="1198"/>
                  <a:pt x="5580" y="1162"/>
                  <a:pt x="5618" y="1162"/>
                </a:cubicBezTo>
                <a:cubicBezTo>
                  <a:pt x="5618" y="1162"/>
                  <a:pt x="5618" y="1162"/>
                  <a:pt x="5618" y="1162"/>
                </a:cubicBezTo>
                <a:cubicBezTo>
                  <a:pt x="5599" y="1125"/>
                  <a:pt x="5580" y="1125"/>
                  <a:pt x="5561" y="1089"/>
                </a:cubicBezTo>
                <a:cubicBezTo>
                  <a:pt x="5542" y="1089"/>
                  <a:pt x="5485" y="1089"/>
                  <a:pt x="5447" y="1089"/>
                </a:cubicBezTo>
                <a:cubicBezTo>
                  <a:pt x="5428" y="1125"/>
                  <a:pt x="5391" y="1162"/>
                  <a:pt x="5353" y="1162"/>
                </a:cubicBezTo>
                <a:cubicBezTo>
                  <a:pt x="5334" y="1162"/>
                  <a:pt x="5315" y="1162"/>
                  <a:pt x="5315" y="1162"/>
                </a:cubicBezTo>
                <a:cubicBezTo>
                  <a:pt x="5296" y="1162"/>
                  <a:pt x="5296" y="1162"/>
                  <a:pt x="5296" y="1162"/>
                </a:cubicBezTo>
                <a:cubicBezTo>
                  <a:pt x="5277" y="1162"/>
                  <a:pt x="5258" y="1162"/>
                  <a:pt x="5239" y="1125"/>
                </a:cubicBezTo>
                <a:cubicBezTo>
                  <a:pt x="5239" y="1162"/>
                  <a:pt x="5220" y="1162"/>
                  <a:pt x="5201" y="1162"/>
                </a:cubicBezTo>
                <a:cubicBezTo>
                  <a:pt x="5182" y="1162"/>
                  <a:pt x="5182" y="1162"/>
                  <a:pt x="5164" y="1162"/>
                </a:cubicBezTo>
                <a:cubicBezTo>
                  <a:pt x="5145" y="1162"/>
                  <a:pt x="5145" y="1198"/>
                  <a:pt x="5126" y="1198"/>
                </a:cubicBezTo>
                <a:cubicBezTo>
                  <a:pt x="5126" y="1162"/>
                  <a:pt x="5126" y="1125"/>
                  <a:pt x="5126" y="1089"/>
                </a:cubicBezTo>
                <a:cubicBezTo>
                  <a:pt x="5145" y="1089"/>
                  <a:pt x="5145" y="1089"/>
                  <a:pt x="5164" y="1053"/>
                </a:cubicBezTo>
                <a:cubicBezTo>
                  <a:pt x="5164" y="1053"/>
                  <a:pt x="5164" y="1053"/>
                  <a:pt x="5164" y="1016"/>
                </a:cubicBezTo>
                <a:cubicBezTo>
                  <a:pt x="5145" y="1016"/>
                  <a:pt x="5145" y="1016"/>
                  <a:pt x="5145" y="1016"/>
                </a:cubicBezTo>
                <a:cubicBezTo>
                  <a:pt x="5107" y="944"/>
                  <a:pt x="4974" y="1016"/>
                  <a:pt x="4956" y="1053"/>
                </a:cubicBezTo>
                <a:cubicBezTo>
                  <a:pt x="4937" y="1089"/>
                  <a:pt x="4918" y="1089"/>
                  <a:pt x="4899" y="1125"/>
                </a:cubicBezTo>
                <a:cubicBezTo>
                  <a:pt x="4880" y="1125"/>
                  <a:pt x="4880" y="1089"/>
                  <a:pt x="4861" y="1089"/>
                </a:cubicBezTo>
                <a:cubicBezTo>
                  <a:pt x="4861" y="1089"/>
                  <a:pt x="4861" y="1089"/>
                  <a:pt x="4861" y="1089"/>
                </a:cubicBezTo>
                <a:cubicBezTo>
                  <a:pt x="4880" y="1053"/>
                  <a:pt x="4899" y="1089"/>
                  <a:pt x="4899" y="1053"/>
                </a:cubicBezTo>
                <a:cubicBezTo>
                  <a:pt x="4880" y="1016"/>
                  <a:pt x="4880" y="1016"/>
                  <a:pt x="4880" y="980"/>
                </a:cubicBezTo>
                <a:cubicBezTo>
                  <a:pt x="4842" y="980"/>
                  <a:pt x="4804" y="944"/>
                  <a:pt x="4785" y="944"/>
                </a:cubicBezTo>
                <a:cubicBezTo>
                  <a:pt x="4766" y="908"/>
                  <a:pt x="4766" y="871"/>
                  <a:pt x="4766" y="871"/>
                </a:cubicBezTo>
                <a:cubicBezTo>
                  <a:pt x="4785" y="835"/>
                  <a:pt x="4785" y="835"/>
                  <a:pt x="4785" y="835"/>
                </a:cubicBezTo>
                <a:cubicBezTo>
                  <a:pt x="4823" y="799"/>
                  <a:pt x="4880" y="799"/>
                  <a:pt x="4937" y="799"/>
                </a:cubicBezTo>
                <a:cubicBezTo>
                  <a:pt x="4956" y="799"/>
                  <a:pt x="4974" y="762"/>
                  <a:pt x="5012" y="762"/>
                </a:cubicBezTo>
                <a:cubicBezTo>
                  <a:pt x="5012" y="762"/>
                  <a:pt x="5031" y="799"/>
                  <a:pt x="5050" y="799"/>
                </a:cubicBezTo>
                <a:cubicBezTo>
                  <a:pt x="5069" y="799"/>
                  <a:pt x="5069" y="762"/>
                  <a:pt x="5069" y="762"/>
                </a:cubicBezTo>
                <a:cubicBezTo>
                  <a:pt x="5088" y="726"/>
                  <a:pt x="5126" y="690"/>
                  <a:pt x="5164" y="690"/>
                </a:cubicBezTo>
                <a:cubicBezTo>
                  <a:pt x="5164" y="726"/>
                  <a:pt x="5182" y="726"/>
                  <a:pt x="5201" y="726"/>
                </a:cubicBezTo>
                <a:cubicBezTo>
                  <a:pt x="5239" y="762"/>
                  <a:pt x="5277" y="726"/>
                  <a:pt x="5315" y="762"/>
                </a:cubicBezTo>
                <a:cubicBezTo>
                  <a:pt x="5334" y="762"/>
                  <a:pt x="5447" y="835"/>
                  <a:pt x="5466" y="835"/>
                </a:cubicBezTo>
                <a:cubicBezTo>
                  <a:pt x="5466" y="799"/>
                  <a:pt x="5466" y="799"/>
                  <a:pt x="5466" y="799"/>
                </a:cubicBezTo>
                <a:cubicBezTo>
                  <a:pt x="5466" y="799"/>
                  <a:pt x="5466" y="799"/>
                  <a:pt x="5466" y="799"/>
                </a:cubicBezTo>
                <a:cubicBezTo>
                  <a:pt x="5447" y="762"/>
                  <a:pt x="5447" y="762"/>
                  <a:pt x="5428" y="762"/>
                </a:cubicBezTo>
                <a:cubicBezTo>
                  <a:pt x="5391" y="726"/>
                  <a:pt x="5372" y="690"/>
                  <a:pt x="5353" y="653"/>
                </a:cubicBezTo>
                <a:cubicBezTo>
                  <a:pt x="5353" y="653"/>
                  <a:pt x="5372" y="617"/>
                  <a:pt x="5372" y="617"/>
                </a:cubicBezTo>
                <a:cubicBezTo>
                  <a:pt x="5391" y="617"/>
                  <a:pt x="5409" y="581"/>
                  <a:pt x="5428" y="545"/>
                </a:cubicBezTo>
                <a:cubicBezTo>
                  <a:pt x="5466" y="545"/>
                  <a:pt x="5485" y="545"/>
                  <a:pt x="5504" y="545"/>
                </a:cubicBezTo>
                <a:cubicBezTo>
                  <a:pt x="5523" y="545"/>
                  <a:pt x="5542" y="508"/>
                  <a:pt x="5542" y="508"/>
                </a:cubicBezTo>
                <a:cubicBezTo>
                  <a:pt x="5580" y="545"/>
                  <a:pt x="5618" y="545"/>
                  <a:pt x="5636" y="545"/>
                </a:cubicBezTo>
                <a:cubicBezTo>
                  <a:pt x="5674" y="581"/>
                  <a:pt x="5693" y="653"/>
                  <a:pt x="5712" y="653"/>
                </a:cubicBezTo>
                <a:cubicBezTo>
                  <a:pt x="5712" y="653"/>
                  <a:pt x="5712" y="617"/>
                  <a:pt x="5712" y="617"/>
                </a:cubicBezTo>
                <a:cubicBezTo>
                  <a:pt x="5712" y="581"/>
                  <a:pt x="5674" y="508"/>
                  <a:pt x="5674" y="508"/>
                </a:cubicBezTo>
                <a:cubicBezTo>
                  <a:pt x="5674" y="508"/>
                  <a:pt x="5674" y="472"/>
                  <a:pt x="5693" y="472"/>
                </a:cubicBezTo>
                <a:cubicBezTo>
                  <a:pt x="5712" y="472"/>
                  <a:pt x="5750" y="508"/>
                  <a:pt x="5769" y="508"/>
                </a:cubicBezTo>
                <a:cubicBezTo>
                  <a:pt x="5788" y="508"/>
                  <a:pt x="5807" y="508"/>
                  <a:pt x="5826" y="508"/>
                </a:cubicBezTo>
                <a:cubicBezTo>
                  <a:pt x="5844" y="545"/>
                  <a:pt x="5844" y="581"/>
                  <a:pt x="5882" y="581"/>
                </a:cubicBezTo>
                <a:cubicBezTo>
                  <a:pt x="5882" y="545"/>
                  <a:pt x="5882" y="508"/>
                  <a:pt x="5863" y="508"/>
                </a:cubicBezTo>
                <a:cubicBezTo>
                  <a:pt x="5863" y="508"/>
                  <a:pt x="5863" y="508"/>
                  <a:pt x="5863" y="508"/>
                </a:cubicBezTo>
                <a:cubicBezTo>
                  <a:pt x="5901" y="508"/>
                  <a:pt x="5939" y="508"/>
                  <a:pt x="5958" y="508"/>
                </a:cubicBezTo>
                <a:cubicBezTo>
                  <a:pt x="5977" y="508"/>
                  <a:pt x="5996" y="545"/>
                  <a:pt x="6015" y="581"/>
                </a:cubicBezTo>
                <a:cubicBezTo>
                  <a:pt x="6015" y="581"/>
                  <a:pt x="6015" y="581"/>
                  <a:pt x="6015" y="581"/>
                </a:cubicBezTo>
                <a:cubicBezTo>
                  <a:pt x="6015" y="545"/>
                  <a:pt x="6015" y="508"/>
                  <a:pt x="6015" y="472"/>
                </a:cubicBezTo>
                <a:cubicBezTo>
                  <a:pt x="6090" y="472"/>
                  <a:pt x="6147" y="545"/>
                  <a:pt x="6223" y="545"/>
                </a:cubicBezTo>
                <a:cubicBezTo>
                  <a:pt x="6242" y="545"/>
                  <a:pt x="6242" y="545"/>
                  <a:pt x="6261" y="545"/>
                </a:cubicBezTo>
                <a:cubicBezTo>
                  <a:pt x="6298" y="545"/>
                  <a:pt x="6336" y="545"/>
                  <a:pt x="6374" y="545"/>
                </a:cubicBezTo>
                <a:cubicBezTo>
                  <a:pt x="6374" y="545"/>
                  <a:pt x="6393" y="581"/>
                  <a:pt x="6412" y="581"/>
                </a:cubicBezTo>
                <a:cubicBezTo>
                  <a:pt x="6431" y="581"/>
                  <a:pt x="6431" y="581"/>
                  <a:pt x="6450" y="581"/>
                </a:cubicBezTo>
                <a:cubicBezTo>
                  <a:pt x="6469" y="581"/>
                  <a:pt x="6488" y="617"/>
                  <a:pt x="6488" y="617"/>
                </a:cubicBezTo>
                <a:cubicBezTo>
                  <a:pt x="6506" y="617"/>
                  <a:pt x="6525" y="617"/>
                  <a:pt x="6544" y="617"/>
                </a:cubicBezTo>
                <a:cubicBezTo>
                  <a:pt x="6563" y="653"/>
                  <a:pt x="6563" y="653"/>
                  <a:pt x="6582" y="690"/>
                </a:cubicBezTo>
                <a:cubicBezTo>
                  <a:pt x="6582" y="690"/>
                  <a:pt x="6582" y="690"/>
                  <a:pt x="6563" y="726"/>
                </a:cubicBezTo>
                <a:cubicBezTo>
                  <a:pt x="6525" y="726"/>
                  <a:pt x="6506" y="799"/>
                  <a:pt x="6450" y="799"/>
                </a:cubicBezTo>
                <a:close/>
                <a:moveTo>
                  <a:pt x="4861" y="1162"/>
                </a:moveTo>
                <a:cubicBezTo>
                  <a:pt x="4861" y="1198"/>
                  <a:pt x="4880" y="1198"/>
                  <a:pt x="4880" y="1198"/>
                </a:cubicBezTo>
                <a:cubicBezTo>
                  <a:pt x="4880" y="1234"/>
                  <a:pt x="4899" y="1271"/>
                  <a:pt x="4899" y="1307"/>
                </a:cubicBezTo>
                <a:cubicBezTo>
                  <a:pt x="4918" y="1343"/>
                  <a:pt x="4937" y="1343"/>
                  <a:pt x="4937" y="1343"/>
                </a:cubicBezTo>
                <a:cubicBezTo>
                  <a:pt x="4956" y="1307"/>
                  <a:pt x="4956" y="1271"/>
                  <a:pt x="4956" y="1271"/>
                </a:cubicBezTo>
                <a:cubicBezTo>
                  <a:pt x="4956" y="1234"/>
                  <a:pt x="4956" y="1234"/>
                  <a:pt x="4956" y="1234"/>
                </a:cubicBezTo>
                <a:cubicBezTo>
                  <a:pt x="4974" y="1271"/>
                  <a:pt x="5012" y="1307"/>
                  <a:pt x="5012" y="1343"/>
                </a:cubicBezTo>
                <a:cubicBezTo>
                  <a:pt x="5012" y="1379"/>
                  <a:pt x="5012" y="1416"/>
                  <a:pt x="5012" y="1452"/>
                </a:cubicBezTo>
                <a:cubicBezTo>
                  <a:pt x="5012" y="1488"/>
                  <a:pt x="5031" y="1488"/>
                  <a:pt x="5031" y="1525"/>
                </a:cubicBezTo>
                <a:cubicBezTo>
                  <a:pt x="5088" y="1525"/>
                  <a:pt x="5107" y="1488"/>
                  <a:pt x="5126" y="1561"/>
                </a:cubicBezTo>
                <a:cubicBezTo>
                  <a:pt x="5126" y="1561"/>
                  <a:pt x="5107" y="1561"/>
                  <a:pt x="5107" y="1525"/>
                </a:cubicBezTo>
                <a:cubicBezTo>
                  <a:pt x="5050" y="1597"/>
                  <a:pt x="4993" y="1561"/>
                  <a:pt x="4974" y="1706"/>
                </a:cubicBezTo>
                <a:cubicBezTo>
                  <a:pt x="4956" y="1706"/>
                  <a:pt x="4937" y="1670"/>
                  <a:pt x="4918" y="1670"/>
                </a:cubicBezTo>
                <a:cubicBezTo>
                  <a:pt x="4918" y="1670"/>
                  <a:pt x="4918" y="1706"/>
                  <a:pt x="4918" y="1706"/>
                </a:cubicBezTo>
                <a:cubicBezTo>
                  <a:pt x="4918" y="1706"/>
                  <a:pt x="4918" y="1743"/>
                  <a:pt x="4918" y="1779"/>
                </a:cubicBezTo>
                <a:cubicBezTo>
                  <a:pt x="4918" y="1779"/>
                  <a:pt x="4918" y="1815"/>
                  <a:pt x="4899" y="1815"/>
                </a:cubicBezTo>
                <a:cubicBezTo>
                  <a:pt x="4880" y="1779"/>
                  <a:pt x="4861" y="1743"/>
                  <a:pt x="4842" y="1743"/>
                </a:cubicBezTo>
                <a:cubicBezTo>
                  <a:pt x="4842" y="1779"/>
                  <a:pt x="4842" y="1815"/>
                  <a:pt x="4823" y="1815"/>
                </a:cubicBezTo>
                <a:cubicBezTo>
                  <a:pt x="4785" y="1815"/>
                  <a:pt x="4729" y="1815"/>
                  <a:pt x="4691" y="1779"/>
                </a:cubicBezTo>
                <a:cubicBezTo>
                  <a:pt x="4691" y="1779"/>
                  <a:pt x="4691" y="1779"/>
                  <a:pt x="4672" y="1779"/>
                </a:cubicBezTo>
                <a:cubicBezTo>
                  <a:pt x="4653" y="1743"/>
                  <a:pt x="4653" y="1706"/>
                  <a:pt x="4634" y="1706"/>
                </a:cubicBezTo>
                <a:cubicBezTo>
                  <a:pt x="4615" y="1670"/>
                  <a:pt x="4596" y="1634"/>
                  <a:pt x="4596" y="1597"/>
                </a:cubicBezTo>
                <a:cubicBezTo>
                  <a:pt x="4596" y="1597"/>
                  <a:pt x="4615" y="1561"/>
                  <a:pt x="4634" y="1561"/>
                </a:cubicBezTo>
                <a:cubicBezTo>
                  <a:pt x="4672" y="1561"/>
                  <a:pt x="4766" y="1597"/>
                  <a:pt x="4804" y="1597"/>
                </a:cubicBezTo>
                <a:cubicBezTo>
                  <a:pt x="4785" y="1561"/>
                  <a:pt x="4691" y="1488"/>
                  <a:pt x="4653" y="1488"/>
                </a:cubicBezTo>
                <a:cubicBezTo>
                  <a:pt x="4634" y="1488"/>
                  <a:pt x="4634" y="1488"/>
                  <a:pt x="4615" y="1525"/>
                </a:cubicBezTo>
                <a:cubicBezTo>
                  <a:pt x="4615" y="1525"/>
                  <a:pt x="4596" y="1488"/>
                  <a:pt x="4577" y="1488"/>
                </a:cubicBezTo>
                <a:cubicBezTo>
                  <a:pt x="4558" y="1525"/>
                  <a:pt x="4539" y="1561"/>
                  <a:pt x="4539" y="1525"/>
                </a:cubicBezTo>
                <a:cubicBezTo>
                  <a:pt x="4502" y="1525"/>
                  <a:pt x="4502" y="1452"/>
                  <a:pt x="4483" y="1452"/>
                </a:cubicBezTo>
                <a:cubicBezTo>
                  <a:pt x="4464" y="1416"/>
                  <a:pt x="4464" y="1416"/>
                  <a:pt x="4445" y="1379"/>
                </a:cubicBezTo>
                <a:cubicBezTo>
                  <a:pt x="4445" y="1379"/>
                  <a:pt x="4445" y="1343"/>
                  <a:pt x="4445" y="1343"/>
                </a:cubicBezTo>
                <a:cubicBezTo>
                  <a:pt x="4445" y="1343"/>
                  <a:pt x="4445" y="1343"/>
                  <a:pt x="4445" y="1343"/>
                </a:cubicBezTo>
                <a:cubicBezTo>
                  <a:pt x="4483" y="1379"/>
                  <a:pt x="4520" y="1343"/>
                  <a:pt x="4558" y="1343"/>
                </a:cubicBezTo>
                <a:cubicBezTo>
                  <a:pt x="4539" y="1307"/>
                  <a:pt x="4520" y="1307"/>
                  <a:pt x="4502" y="1271"/>
                </a:cubicBezTo>
                <a:cubicBezTo>
                  <a:pt x="4502" y="1234"/>
                  <a:pt x="4502" y="1234"/>
                  <a:pt x="4520" y="1234"/>
                </a:cubicBezTo>
                <a:cubicBezTo>
                  <a:pt x="4520" y="1198"/>
                  <a:pt x="4577" y="1234"/>
                  <a:pt x="4577" y="1198"/>
                </a:cubicBezTo>
                <a:cubicBezTo>
                  <a:pt x="4577" y="1198"/>
                  <a:pt x="4577" y="1198"/>
                  <a:pt x="4577" y="1198"/>
                </a:cubicBezTo>
                <a:cubicBezTo>
                  <a:pt x="4558" y="1162"/>
                  <a:pt x="4558" y="1125"/>
                  <a:pt x="4539" y="1089"/>
                </a:cubicBezTo>
                <a:cubicBezTo>
                  <a:pt x="4539" y="1089"/>
                  <a:pt x="4539" y="1089"/>
                  <a:pt x="4539" y="1089"/>
                </a:cubicBezTo>
                <a:cubicBezTo>
                  <a:pt x="4558" y="1089"/>
                  <a:pt x="4577" y="1053"/>
                  <a:pt x="4596" y="1053"/>
                </a:cubicBezTo>
                <a:cubicBezTo>
                  <a:pt x="4615" y="1053"/>
                  <a:pt x="4634" y="1053"/>
                  <a:pt x="4653" y="1053"/>
                </a:cubicBezTo>
                <a:cubicBezTo>
                  <a:pt x="4653" y="1016"/>
                  <a:pt x="4634" y="1016"/>
                  <a:pt x="4634" y="980"/>
                </a:cubicBezTo>
                <a:cubicBezTo>
                  <a:pt x="4710" y="980"/>
                  <a:pt x="4729" y="1016"/>
                  <a:pt x="4766" y="1125"/>
                </a:cubicBezTo>
                <a:cubicBezTo>
                  <a:pt x="4766" y="1162"/>
                  <a:pt x="4785" y="1162"/>
                  <a:pt x="4804" y="1198"/>
                </a:cubicBezTo>
                <a:cubicBezTo>
                  <a:pt x="4823" y="1198"/>
                  <a:pt x="4842" y="1198"/>
                  <a:pt x="4861" y="1162"/>
                </a:cubicBezTo>
                <a:close/>
                <a:moveTo>
                  <a:pt x="4539" y="1815"/>
                </a:moveTo>
                <a:cubicBezTo>
                  <a:pt x="4520" y="1815"/>
                  <a:pt x="4520" y="1851"/>
                  <a:pt x="4520" y="1851"/>
                </a:cubicBezTo>
                <a:cubicBezTo>
                  <a:pt x="4426" y="1888"/>
                  <a:pt x="4388" y="1924"/>
                  <a:pt x="4350" y="1779"/>
                </a:cubicBezTo>
                <a:cubicBezTo>
                  <a:pt x="4331" y="1743"/>
                  <a:pt x="4331" y="1743"/>
                  <a:pt x="4331" y="1706"/>
                </a:cubicBezTo>
                <a:cubicBezTo>
                  <a:pt x="4331" y="1706"/>
                  <a:pt x="4331" y="1706"/>
                  <a:pt x="4331" y="1670"/>
                </a:cubicBezTo>
                <a:cubicBezTo>
                  <a:pt x="4350" y="1670"/>
                  <a:pt x="4350" y="1670"/>
                  <a:pt x="4369" y="1670"/>
                </a:cubicBezTo>
                <a:cubicBezTo>
                  <a:pt x="4426" y="1670"/>
                  <a:pt x="4464" y="1743"/>
                  <a:pt x="4502" y="1743"/>
                </a:cubicBezTo>
                <a:cubicBezTo>
                  <a:pt x="4520" y="1779"/>
                  <a:pt x="4539" y="1779"/>
                  <a:pt x="4539" y="1815"/>
                </a:cubicBezTo>
                <a:close/>
                <a:moveTo>
                  <a:pt x="4369" y="2323"/>
                </a:moveTo>
                <a:cubicBezTo>
                  <a:pt x="4369" y="2360"/>
                  <a:pt x="4369" y="2396"/>
                  <a:pt x="4369" y="2432"/>
                </a:cubicBezTo>
                <a:cubicBezTo>
                  <a:pt x="4369" y="2469"/>
                  <a:pt x="4350" y="2469"/>
                  <a:pt x="4350" y="2505"/>
                </a:cubicBezTo>
                <a:cubicBezTo>
                  <a:pt x="4331" y="2505"/>
                  <a:pt x="4350" y="2577"/>
                  <a:pt x="4350" y="2614"/>
                </a:cubicBezTo>
                <a:cubicBezTo>
                  <a:pt x="4350" y="2614"/>
                  <a:pt x="4350" y="2614"/>
                  <a:pt x="4350" y="2614"/>
                </a:cubicBezTo>
                <a:cubicBezTo>
                  <a:pt x="4331" y="2614"/>
                  <a:pt x="4312" y="2614"/>
                  <a:pt x="4294" y="2614"/>
                </a:cubicBezTo>
                <a:cubicBezTo>
                  <a:pt x="4256" y="2614"/>
                  <a:pt x="4199" y="2650"/>
                  <a:pt x="4199" y="2541"/>
                </a:cubicBezTo>
                <a:cubicBezTo>
                  <a:pt x="4218" y="2541"/>
                  <a:pt x="4218" y="2505"/>
                  <a:pt x="4237" y="2505"/>
                </a:cubicBezTo>
                <a:cubicBezTo>
                  <a:pt x="4237" y="2505"/>
                  <a:pt x="4237" y="2505"/>
                  <a:pt x="4237" y="2469"/>
                </a:cubicBezTo>
                <a:cubicBezTo>
                  <a:pt x="4237" y="2469"/>
                  <a:pt x="4218" y="2469"/>
                  <a:pt x="4218" y="2469"/>
                </a:cubicBezTo>
                <a:cubicBezTo>
                  <a:pt x="4199" y="2432"/>
                  <a:pt x="4123" y="2469"/>
                  <a:pt x="4104" y="2469"/>
                </a:cubicBezTo>
                <a:cubicBezTo>
                  <a:pt x="4085" y="2469"/>
                  <a:pt x="4085" y="2469"/>
                  <a:pt x="4067" y="2469"/>
                </a:cubicBezTo>
                <a:cubicBezTo>
                  <a:pt x="4067" y="2432"/>
                  <a:pt x="4067" y="2432"/>
                  <a:pt x="4067" y="2396"/>
                </a:cubicBezTo>
                <a:cubicBezTo>
                  <a:pt x="4104" y="2396"/>
                  <a:pt x="4104" y="2396"/>
                  <a:pt x="4123" y="2360"/>
                </a:cubicBezTo>
                <a:cubicBezTo>
                  <a:pt x="4123" y="2360"/>
                  <a:pt x="4123" y="2360"/>
                  <a:pt x="4123" y="2360"/>
                </a:cubicBezTo>
                <a:cubicBezTo>
                  <a:pt x="4104" y="2323"/>
                  <a:pt x="4123" y="2287"/>
                  <a:pt x="4123" y="2251"/>
                </a:cubicBezTo>
                <a:cubicBezTo>
                  <a:pt x="4180" y="2251"/>
                  <a:pt x="4180" y="2360"/>
                  <a:pt x="4237" y="2396"/>
                </a:cubicBezTo>
                <a:cubicBezTo>
                  <a:pt x="4237" y="2396"/>
                  <a:pt x="4237" y="2396"/>
                  <a:pt x="4237" y="2396"/>
                </a:cubicBezTo>
                <a:cubicBezTo>
                  <a:pt x="4237" y="2323"/>
                  <a:pt x="4199" y="2287"/>
                  <a:pt x="4180" y="2251"/>
                </a:cubicBezTo>
                <a:cubicBezTo>
                  <a:pt x="4180" y="2251"/>
                  <a:pt x="4180" y="2251"/>
                  <a:pt x="4180" y="2251"/>
                </a:cubicBezTo>
                <a:cubicBezTo>
                  <a:pt x="4237" y="2178"/>
                  <a:pt x="4256" y="2287"/>
                  <a:pt x="4294" y="2287"/>
                </a:cubicBezTo>
                <a:cubicBezTo>
                  <a:pt x="4294" y="2287"/>
                  <a:pt x="4294" y="2251"/>
                  <a:pt x="4294" y="2251"/>
                </a:cubicBezTo>
                <a:cubicBezTo>
                  <a:pt x="4312" y="2251"/>
                  <a:pt x="4312" y="2214"/>
                  <a:pt x="4312" y="2214"/>
                </a:cubicBezTo>
                <a:cubicBezTo>
                  <a:pt x="4350" y="2251"/>
                  <a:pt x="4369" y="2251"/>
                  <a:pt x="4369" y="2323"/>
                </a:cubicBezTo>
                <a:close/>
                <a:moveTo>
                  <a:pt x="4218" y="1960"/>
                </a:moveTo>
                <a:cubicBezTo>
                  <a:pt x="4180" y="1924"/>
                  <a:pt x="4180" y="1851"/>
                  <a:pt x="4161" y="1815"/>
                </a:cubicBezTo>
                <a:cubicBezTo>
                  <a:pt x="4142" y="1815"/>
                  <a:pt x="4142" y="1815"/>
                  <a:pt x="4123" y="1815"/>
                </a:cubicBezTo>
                <a:cubicBezTo>
                  <a:pt x="4048" y="1815"/>
                  <a:pt x="3934" y="1851"/>
                  <a:pt x="3915" y="1743"/>
                </a:cubicBezTo>
                <a:cubicBezTo>
                  <a:pt x="3915" y="1743"/>
                  <a:pt x="3934" y="1706"/>
                  <a:pt x="3934" y="1706"/>
                </a:cubicBezTo>
                <a:cubicBezTo>
                  <a:pt x="3972" y="1706"/>
                  <a:pt x="3991" y="1743"/>
                  <a:pt x="4029" y="1743"/>
                </a:cubicBezTo>
                <a:cubicBezTo>
                  <a:pt x="4010" y="1634"/>
                  <a:pt x="3934" y="1597"/>
                  <a:pt x="3896" y="1561"/>
                </a:cubicBezTo>
                <a:cubicBezTo>
                  <a:pt x="3896" y="1561"/>
                  <a:pt x="3896" y="1561"/>
                  <a:pt x="3896" y="1561"/>
                </a:cubicBezTo>
                <a:cubicBezTo>
                  <a:pt x="3896" y="1561"/>
                  <a:pt x="3896" y="1525"/>
                  <a:pt x="3896" y="1525"/>
                </a:cubicBezTo>
                <a:cubicBezTo>
                  <a:pt x="3934" y="1525"/>
                  <a:pt x="3991" y="1488"/>
                  <a:pt x="4029" y="1525"/>
                </a:cubicBezTo>
                <a:cubicBezTo>
                  <a:pt x="4048" y="1561"/>
                  <a:pt x="4048" y="1634"/>
                  <a:pt x="4067" y="1634"/>
                </a:cubicBezTo>
                <a:cubicBezTo>
                  <a:pt x="4085" y="1634"/>
                  <a:pt x="4104" y="1634"/>
                  <a:pt x="4123" y="1634"/>
                </a:cubicBezTo>
                <a:cubicBezTo>
                  <a:pt x="4199" y="1670"/>
                  <a:pt x="4218" y="1670"/>
                  <a:pt x="4256" y="1779"/>
                </a:cubicBezTo>
                <a:cubicBezTo>
                  <a:pt x="4275" y="1815"/>
                  <a:pt x="4294" y="1851"/>
                  <a:pt x="4294" y="1924"/>
                </a:cubicBezTo>
                <a:cubicBezTo>
                  <a:pt x="4275" y="1924"/>
                  <a:pt x="4256" y="1960"/>
                  <a:pt x="4218" y="1960"/>
                </a:cubicBezTo>
                <a:close/>
                <a:moveTo>
                  <a:pt x="3858" y="2614"/>
                </a:moveTo>
                <a:cubicBezTo>
                  <a:pt x="3840" y="2614"/>
                  <a:pt x="3821" y="2614"/>
                  <a:pt x="3802" y="2614"/>
                </a:cubicBezTo>
                <a:cubicBezTo>
                  <a:pt x="3802" y="2614"/>
                  <a:pt x="3783" y="2614"/>
                  <a:pt x="3764" y="2614"/>
                </a:cubicBezTo>
                <a:cubicBezTo>
                  <a:pt x="3726" y="2614"/>
                  <a:pt x="3707" y="2614"/>
                  <a:pt x="3669" y="2614"/>
                </a:cubicBezTo>
                <a:cubicBezTo>
                  <a:pt x="3594" y="2650"/>
                  <a:pt x="3518" y="2795"/>
                  <a:pt x="3423" y="2759"/>
                </a:cubicBezTo>
                <a:cubicBezTo>
                  <a:pt x="3386" y="2723"/>
                  <a:pt x="3386" y="2723"/>
                  <a:pt x="3367" y="2723"/>
                </a:cubicBezTo>
                <a:cubicBezTo>
                  <a:pt x="3348" y="2686"/>
                  <a:pt x="3348" y="2686"/>
                  <a:pt x="3348" y="2686"/>
                </a:cubicBezTo>
                <a:cubicBezTo>
                  <a:pt x="3348" y="2650"/>
                  <a:pt x="3348" y="2650"/>
                  <a:pt x="3348" y="2650"/>
                </a:cubicBezTo>
                <a:cubicBezTo>
                  <a:pt x="3367" y="2650"/>
                  <a:pt x="3386" y="2650"/>
                  <a:pt x="3405" y="2650"/>
                </a:cubicBezTo>
                <a:cubicBezTo>
                  <a:pt x="3405" y="2650"/>
                  <a:pt x="3423" y="2650"/>
                  <a:pt x="3423" y="2650"/>
                </a:cubicBezTo>
                <a:cubicBezTo>
                  <a:pt x="3461" y="2614"/>
                  <a:pt x="3499" y="2614"/>
                  <a:pt x="3518" y="2614"/>
                </a:cubicBezTo>
                <a:cubicBezTo>
                  <a:pt x="3537" y="2577"/>
                  <a:pt x="3537" y="2577"/>
                  <a:pt x="3537" y="2541"/>
                </a:cubicBezTo>
                <a:cubicBezTo>
                  <a:pt x="3537" y="2541"/>
                  <a:pt x="3537" y="2541"/>
                  <a:pt x="3537" y="2541"/>
                </a:cubicBezTo>
                <a:cubicBezTo>
                  <a:pt x="3499" y="2541"/>
                  <a:pt x="3480" y="2541"/>
                  <a:pt x="3442" y="2541"/>
                </a:cubicBezTo>
                <a:cubicBezTo>
                  <a:pt x="3423" y="2541"/>
                  <a:pt x="3405" y="2541"/>
                  <a:pt x="3386" y="2577"/>
                </a:cubicBezTo>
                <a:cubicBezTo>
                  <a:pt x="3367" y="2577"/>
                  <a:pt x="3348" y="2577"/>
                  <a:pt x="3310" y="2577"/>
                </a:cubicBezTo>
                <a:cubicBezTo>
                  <a:pt x="3310" y="2577"/>
                  <a:pt x="3291" y="2577"/>
                  <a:pt x="3291" y="2614"/>
                </a:cubicBezTo>
                <a:cubicBezTo>
                  <a:pt x="3272" y="2577"/>
                  <a:pt x="3253" y="2577"/>
                  <a:pt x="3253" y="2577"/>
                </a:cubicBezTo>
                <a:cubicBezTo>
                  <a:pt x="3215" y="2614"/>
                  <a:pt x="3178" y="2577"/>
                  <a:pt x="3159" y="2541"/>
                </a:cubicBezTo>
                <a:cubicBezTo>
                  <a:pt x="3159" y="2541"/>
                  <a:pt x="3159" y="2541"/>
                  <a:pt x="3159" y="2505"/>
                </a:cubicBezTo>
                <a:cubicBezTo>
                  <a:pt x="3159" y="2505"/>
                  <a:pt x="3178" y="2505"/>
                  <a:pt x="3178" y="2469"/>
                </a:cubicBezTo>
                <a:cubicBezTo>
                  <a:pt x="3215" y="2432"/>
                  <a:pt x="3272" y="2505"/>
                  <a:pt x="3291" y="2469"/>
                </a:cubicBezTo>
                <a:cubicBezTo>
                  <a:pt x="3272" y="2432"/>
                  <a:pt x="3253" y="2432"/>
                  <a:pt x="3234" y="2396"/>
                </a:cubicBezTo>
                <a:cubicBezTo>
                  <a:pt x="3234" y="2396"/>
                  <a:pt x="3234" y="2360"/>
                  <a:pt x="3215" y="2323"/>
                </a:cubicBezTo>
                <a:cubicBezTo>
                  <a:pt x="3253" y="2323"/>
                  <a:pt x="3310" y="2251"/>
                  <a:pt x="3348" y="2287"/>
                </a:cubicBezTo>
                <a:cubicBezTo>
                  <a:pt x="3367" y="2287"/>
                  <a:pt x="3367" y="2323"/>
                  <a:pt x="3386" y="2360"/>
                </a:cubicBezTo>
                <a:cubicBezTo>
                  <a:pt x="3405" y="2360"/>
                  <a:pt x="3423" y="2360"/>
                  <a:pt x="3442" y="2323"/>
                </a:cubicBezTo>
                <a:cubicBezTo>
                  <a:pt x="3461" y="2360"/>
                  <a:pt x="3499" y="2469"/>
                  <a:pt x="3518" y="2469"/>
                </a:cubicBezTo>
                <a:cubicBezTo>
                  <a:pt x="3537" y="2469"/>
                  <a:pt x="3556" y="2469"/>
                  <a:pt x="3575" y="2469"/>
                </a:cubicBezTo>
                <a:cubicBezTo>
                  <a:pt x="3594" y="2469"/>
                  <a:pt x="3594" y="2469"/>
                  <a:pt x="3613" y="2469"/>
                </a:cubicBezTo>
                <a:cubicBezTo>
                  <a:pt x="3632" y="2469"/>
                  <a:pt x="3650" y="2469"/>
                  <a:pt x="3669" y="2469"/>
                </a:cubicBezTo>
                <a:cubicBezTo>
                  <a:pt x="3669" y="2360"/>
                  <a:pt x="3632" y="2323"/>
                  <a:pt x="3594" y="2287"/>
                </a:cubicBezTo>
                <a:cubicBezTo>
                  <a:pt x="3594" y="2287"/>
                  <a:pt x="3594" y="2287"/>
                  <a:pt x="3594" y="2287"/>
                </a:cubicBezTo>
                <a:cubicBezTo>
                  <a:pt x="3613" y="2251"/>
                  <a:pt x="3613" y="2214"/>
                  <a:pt x="3632" y="2214"/>
                </a:cubicBezTo>
                <a:cubicBezTo>
                  <a:pt x="3650" y="2214"/>
                  <a:pt x="3650" y="2178"/>
                  <a:pt x="3669" y="2178"/>
                </a:cubicBezTo>
                <a:cubicBezTo>
                  <a:pt x="3688" y="2178"/>
                  <a:pt x="3688" y="2178"/>
                  <a:pt x="3688" y="2178"/>
                </a:cubicBezTo>
                <a:cubicBezTo>
                  <a:pt x="3707" y="2214"/>
                  <a:pt x="3707" y="2323"/>
                  <a:pt x="3726" y="2396"/>
                </a:cubicBezTo>
                <a:cubicBezTo>
                  <a:pt x="3764" y="2396"/>
                  <a:pt x="3783" y="2432"/>
                  <a:pt x="3821" y="2469"/>
                </a:cubicBezTo>
                <a:cubicBezTo>
                  <a:pt x="3802" y="2432"/>
                  <a:pt x="3802" y="2396"/>
                  <a:pt x="3802" y="2360"/>
                </a:cubicBezTo>
                <a:cubicBezTo>
                  <a:pt x="3840" y="2360"/>
                  <a:pt x="3858" y="2396"/>
                  <a:pt x="3896" y="2432"/>
                </a:cubicBezTo>
                <a:cubicBezTo>
                  <a:pt x="3877" y="2469"/>
                  <a:pt x="3877" y="2577"/>
                  <a:pt x="3858" y="2614"/>
                </a:cubicBezTo>
                <a:close/>
                <a:moveTo>
                  <a:pt x="3575" y="1997"/>
                </a:moveTo>
                <a:cubicBezTo>
                  <a:pt x="3537" y="2033"/>
                  <a:pt x="3442" y="2033"/>
                  <a:pt x="3423" y="1997"/>
                </a:cubicBezTo>
                <a:cubicBezTo>
                  <a:pt x="3423" y="1960"/>
                  <a:pt x="3423" y="1960"/>
                  <a:pt x="3423" y="1960"/>
                </a:cubicBezTo>
                <a:cubicBezTo>
                  <a:pt x="3423" y="1924"/>
                  <a:pt x="3423" y="1924"/>
                  <a:pt x="3423" y="1924"/>
                </a:cubicBezTo>
                <a:cubicBezTo>
                  <a:pt x="3442" y="1924"/>
                  <a:pt x="3442" y="1888"/>
                  <a:pt x="3461" y="1888"/>
                </a:cubicBezTo>
                <a:cubicBezTo>
                  <a:pt x="3480" y="1888"/>
                  <a:pt x="3518" y="1924"/>
                  <a:pt x="3556" y="1888"/>
                </a:cubicBezTo>
                <a:cubicBezTo>
                  <a:pt x="3575" y="1888"/>
                  <a:pt x="3613" y="1888"/>
                  <a:pt x="3632" y="1888"/>
                </a:cubicBezTo>
                <a:cubicBezTo>
                  <a:pt x="3632" y="1924"/>
                  <a:pt x="3632" y="1924"/>
                  <a:pt x="3632" y="1924"/>
                </a:cubicBezTo>
                <a:cubicBezTo>
                  <a:pt x="3613" y="1960"/>
                  <a:pt x="3594" y="1997"/>
                  <a:pt x="3575" y="1997"/>
                </a:cubicBezTo>
                <a:close/>
                <a:moveTo>
                  <a:pt x="3215" y="2106"/>
                </a:moveTo>
                <a:cubicBezTo>
                  <a:pt x="3196" y="2142"/>
                  <a:pt x="3215" y="2178"/>
                  <a:pt x="3234" y="2214"/>
                </a:cubicBezTo>
                <a:cubicBezTo>
                  <a:pt x="3215" y="2214"/>
                  <a:pt x="3196" y="2214"/>
                  <a:pt x="3178" y="2214"/>
                </a:cubicBezTo>
                <a:cubicBezTo>
                  <a:pt x="3178" y="2251"/>
                  <a:pt x="3159" y="2251"/>
                  <a:pt x="3159" y="2287"/>
                </a:cubicBezTo>
                <a:cubicBezTo>
                  <a:pt x="3140" y="2287"/>
                  <a:pt x="3140" y="2287"/>
                  <a:pt x="3121" y="2287"/>
                </a:cubicBezTo>
                <a:cubicBezTo>
                  <a:pt x="3121" y="2251"/>
                  <a:pt x="3102" y="2142"/>
                  <a:pt x="3083" y="2178"/>
                </a:cubicBezTo>
                <a:cubicBezTo>
                  <a:pt x="3083" y="2178"/>
                  <a:pt x="3083" y="2178"/>
                  <a:pt x="3083" y="2178"/>
                </a:cubicBezTo>
                <a:cubicBezTo>
                  <a:pt x="3064" y="2214"/>
                  <a:pt x="3045" y="2251"/>
                  <a:pt x="3045" y="2287"/>
                </a:cubicBezTo>
                <a:cubicBezTo>
                  <a:pt x="3026" y="2287"/>
                  <a:pt x="3026" y="2323"/>
                  <a:pt x="3007" y="2323"/>
                </a:cubicBezTo>
                <a:cubicBezTo>
                  <a:pt x="3007" y="2323"/>
                  <a:pt x="3007" y="2360"/>
                  <a:pt x="3007" y="2360"/>
                </a:cubicBezTo>
                <a:cubicBezTo>
                  <a:pt x="3007" y="2360"/>
                  <a:pt x="2988" y="2396"/>
                  <a:pt x="2988" y="2396"/>
                </a:cubicBezTo>
                <a:cubicBezTo>
                  <a:pt x="2951" y="2396"/>
                  <a:pt x="2951" y="2360"/>
                  <a:pt x="2913" y="2323"/>
                </a:cubicBezTo>
                <a:cubicBezTo>
                  <a:pt x="2875" y="2323"/>
                  <a:pt x="2875" y="2396"/>
                  <a:pt x="2837" y="2323"/>
                </a:cubicBezTo>
                <a:cubicBezTo>
                  <a:pt x="2818" y="2287"/>
                  <a:pt x="2818" y="2287"/>
                  <a:pt x="2837" y="2251"/>
                </a:cubicBezTo>
                <a:cubicBezTo>
                  <a:pt x="2856" y="2251"/>
                  <a:pt x="2875" y="2251"/>
                  <a:pt x="2894" y="2214"/>
                </a:cubicBezTo>
                <a:cubicBezTo>
                  <a:pt x="2913" y="2214"/>
                  <a:pt x="2913" y="2178"/>
                  <a:pt x="2932" y="2178"/>
                </a:cubicBezTo>
                <a:cubicBezTo>
                  <a:pt x="2932" y="2178"/>
                  <a:pt x="2951" y="2142"/>
                  <a:pt x="2970" y="2142"/>
                </a:cubicBezTo>
                <a:cubicBezTo>
                  <a:pt x="2988" y="2106"/>
                  <a:pt x="2988" y="2069"/>
                  <a:pt x="3007" y="2069"/>
                </a:cubicBezTo>
                <a:cubicBezTo>
                  <a:pt x="3045" y="2069"/>
                  <a:pt x="3083" y="2033"/>
                  <a:pt x="3121" y="2033"/>
                </a:cubicBezTo>
                <a:cubicBezTo>
                  <a:pt x="3140" y="2033"/>
                  <a:pt x="3159" y="2033"/>
                  <a:pt x="3159" y="2033"/>
                </a:cubicBezTo>
                <a:cubicBezTo>
                  <a:pt x="3178" y="2033"/>
                  <a:pt x="3178" y="2033"/>
                  <a:pt x="3196" y="1997"/>
                </a:cubicBezTo>
                <a:cubicBezTo>
                  <a:pt x="3196" y="1997"/>
                  <a:pt x="3196" y="1997"/>
                  <a:pt x="3215" y="1997"/>
                </a:cubicBezTo>
                <a:cubicBezTo>
                  <a:pt x="3234" y="1997"/>
                  <a:pt x="3253" y="2033"/>
                  <a:pt x="3253" y="2069"/>
                </a:cubicBezTo>
                <a:cubicBezTo>
                  <a:pt x="3253" y="2069"/>
                  <a:pt x="3215" y="2069"/>
                  <a:pt x="3215" y="2106"/>
                </a:cubicBezTo>
                <a:close/>
                <a:moveTo>
                  <a:pt x="2913" y="2723"/>
                </a:moveTo>
                <a:cubicBezTo>
                  <a:pt x="2951" y="2723"/>
                  <a:pt x="2988" y="2795"/>
                  <a:pt x="3026" y="2832"/>
                </a:cubicBezTo>
                <a:cubicBezTo>
                  <a:pt x="3064" y="2868"/>
                  <a:pt x="3102" y="2795"/>
                  <a:pt x="3140" y="2832"/>
                </a:cubicBezTo>
                <a:cubicBezTo>
                  <a:pt x="3178" y="2832"/>
                  <a:pt x="3234" y="2904"/>
                  <a:pt x="3272" y="2941"/>
                </a:cubicBezTo>
                <a:cubicBezTo>
                  <a:pt x="3253" y="2941"/>
                  <a:pt x="3253" y="2977"/>
                  <a:pt x="3253" y="2977"/>
                </a:cubicBezTo>
                <a:cubicBezTo>
                  <a:pt x="3215" y="2977"/>
                  <a:pt x="3102" y="3049"/>
                  <a:pt x="3083" y="3122"/>
                </a:cubicBezTo>
                <a:cubicBezTo>
                  <a:pt x="3064" y="3122"/>
                  <a:pt x="3045" y="3195"/>
                  <a:pt x="3007" y="3231"/>
                </a:cubicBezTo>
                <a:cubicBezTo>
                  <a:pt x="2988" y="3231"/>
                  <a:pt x="2988" y="3231"/>
                  <a:pt x="2970" y="3267"/>
                </a:cubicBezTo>
                <a:cubicBezTo>
                  <a:pt x="2970" y="3412"/>
                  <a:pt x="2951" y="3449"/>
                  <a:pt x="2875" y="3412"/>
                </a:cubicBezTo>
                <a:cubicBezTo>
                  <a:pt x="2856" y="3485"/>
                  <a:pt x="2837" y="3521"/>
                  <a:pt x="2780" y="3485"/>
                </a:cubicBezTo>
                <a:cubicBezTo>
                  <a:pt x="2761" y="3412"/>
                  <a:pt x="2743" y="3376"/>
                  <a:pt x="2705" y="3340"/>
                </a:cubicBezTo>
                <a:cubicBezTo>
                  <a:pt x="2686" y="3304"/>
                  <a:pt x="2648" y="3340"/>
                  <a:pt x="2629" y="3267"/>
                </a:cubicBezTo>
                <a:cubicBezTo>
                  <a:pt x="2648" y="3267"/>
                  <a:pt x="2667" y="3231"/>
                  <a:pt x="2686" y="3231"/>
                </a:cubicBezTo>
                <a:cubicBezTo>
                  <a:pt x="2686" y="3158"/>
                  <a:pt x="2667" y="3158"/>
                  <a:pt x="2667" y="3086"/>
                </a:cubicBezTo>
                <a:cubicBezTo>
                  <a:pt x="2705" y="3086"/>
                  <a:pt x="2686" y="3086"/>
                  <a:pt x="2705" y="3049"/>
                </a:cubicBezTo>
                <a:cubicBezTo>
                  <a:pt x="2724" y="3013"/>
                  <a:pt x="2761" y="2977"/>
                  <a:pt x="2743" y="2904"/>
                </a:cubicBezTo>
                <a:cubicBezTo>
                  <a:pt x="2724" y="2868"/>
                  <a:pt x="2705" y="2832"/>
                  <a:pt x="2686" y="2759"/>
                </a:cubicBezTo>
                <a:cubicBezTo>
                  <a:pt x="2686" y="2759"/>
                  <a:pt x="2686" y="2759"/>
                  <a:pt x="2686" y="2759"/>
                </a:cubicBezTo>
                <a:cubicBezTo>
                  <a:pt x="2761" y="2759"/>
                  <a:pt x="2818" y="2759"/>
                  <a:pt x="2875" y="2759"/>
                </a:cubicBezTo>
                <a:cubicBezTo>
                  <a:pt x="2894" y="2723"/>
                  <a:pt x="2894" y="2723"/>
                  <a:pt x="2913" y="2723"/>
                </a:cubicBezTo>
                <a:close/>
                <a:moveTo>
                  <a:pt x="5712" y="4102"/>
                </a:moveTo>
                <a:cubicBezTo>
                  <a:pt x="5731" y="4102"/>
                  <a:pt x="5750" y="4138"/>
                  <a:pt x="5769" y="4138"/>
                </a:cubicBezTo>
                <a:cubicBezTo>
                  <a:pt x="5769" y="4175"/>
                  <a:pt x="5769" y="4211"/>
                  <a:pt x="5769" y="4247"/>
                </a:cubicBezTo>
                <a:cubicBezTo>
                  <a:pt x="5750" y="4284"/>
                  <a:pt x="5674" y="4356"/>
                  <a:pt x="5636" y="4320"/>
                </a:cubicBezTo>
                <a:cubicBezTo>
                  <a:pt x="5618" y="4247"/>
                  <a:pt x="5655" y="4138"/>
                  <a:pt x="5674" y="4102"/>
                </a:cubicBezTo>
                <a:cubicBezTo>
                  <a:pt x="5693" y="4102"/>
                  <a:pt x="5693" y="4102"/>
                  <a:pt x="5712" y="4102"/>
                </a:cubicBezTo>
                <a:close/>
                <a:moveTo>
                  <a:pt x="5447" y="5010"/>
                </a:moveTo>
                <a:cubicBezTo>
                  <a:pt x="5447" y="5010"/>
                  <a:pt x="5447" y="5010"/>
                  <a:pt x="5447" y="5010"/>
                </a:cubicBezTo>
                <a:cubicBezTo>
                  <a:pt x="5428" y="5010"/>
                  <a:pt x="5428" y="5010"/>
                  <a:pt x="5409" y="5046"/>
                </a:cubicBezTo>
                <a:cubicBezTo>
                  <a:pt x="5391" y="5046"/>
                  <a:pt x="5353" y="5046"/>
                  <a:pt x="5334" y="5010"/>
                </a:cubicBezTo>
                <a:cubicBezTo>
                  <a:pt x="5296" y="4973"/>
                  <a:pt x="5315" y="4901"/>
                  <a:pt x="5258" y="4901"/>
                </a:cubicBezTo>
                <a:cubicBezTo>
                  <a:pt x="5239" y="4937"/>
                  <a:pt x="5239" y="4937"/>
                  <a:pt x="5239" y="4937"/>
                </a:cubicBezTo>
                <a:cubicBezTo>
                  <a:pt x="5239" y="4973"/>
                  <a:pt x="5239" y="4973"/>
                  <a:pt x="5258" y="4973"/>
                </a:cubicBezTo>
                <a:cubicBezTo>
                  <a:pt x="5239" y="5010"/>
                  <a:pt x="5239" y="5010"/>
                  <a:pt x="5239" y="5010"/>
                </a:cubicBezTo>
                <a:cubicBezTo>
                  <a:pt x="5182" y="5010"/>
                  <a:pt x="5182" y="5082"/>
                  <a:pt x="5126" y="5082"/>
                </a:cubicBezTo>
                <a:cubicBezTo>
                  <a:pt x="5126" y="5046"/>
                  <a:pt x="5126" y="5010"/>
                  <a:pt x="5126" y="5010"/>
                </a:cubicBezTo>
                <a:cubicBezTo>
                  <a:pt x="5088" y="5010"/>
                  <a:pt x="5050" y="5010"/>
                  <a:pt x="5031" y="5046"/>
                </a:cubicBezTo>
                <a:cubicBezTo>
                  <a:pt x="5031" y="5046"/>
                  <a:pt x="5031" y="5010"/>
                  <a:pt x="5031" y="5010"/>
                </a:cubicBezTo>
                <a:cubicBezTo>
                  <a:pt x="5031" y="4973"/>
                  <a:pt x="5069" y="4937"/>
                  <a:pt x="5088" y="4937"/>
                </a:cubicBezTo>
                <a:cubicBezTo>
                  <a:pt x="5069" y="4828"/>
                  <a:pt x="5107" y="4683"/>
                  <a:pt x="5126" y="4574"/>
                </a:cubicBezTo>
                <a:cubicBezTo>
                  <a:pt x="5126" y="4610"/>
                  <a:pt x="5145" y="4610"/>
                  <a:pt x="5145" y="4647"/>
                </a:cubicBezTo>
                <a:cubicBezTo>
                  <a:pt x="5145" y="4647"/>
                  <a:pt x="5145" y="4683"/>
                  <a:pt x="5145" y="4683"/>
                </a:cubicBezTo>
                <a:cubicBezTo>
                  <a:pt x="5145" y="4719"/>
                  <a:pt x="5164" y="4719"/>
                  <a:pt x="5182" y="4719"/>
                </a:cubicBezTo>
                <a:cubicBezTo>
                  <a:pt x="5182" y="4719"/>
                  <a:pt x="5182" y="4683"/>
                  <a:pt x="5182" y="4683"/>
                </a:cubicBezTo>
                <a:cubicBezTo>
                  <a:pt x="5220" y="4719"/>
                  <a:pt x="5239" y="4756"/>
                  <a:pt x="5277" y="4792"/>
                </a:cubicBezTo>
                <a:cubicBezTo>
                  <a:pt x="5315" y="4828"/>
                  <a:pt x="5353" y="4792"/>
                  <a:pt x="5353" y="4937"/>
                </a:cubicBezTo>
                <a:cubicBezTo>
                  <a:pt x="5372" y="4937"/>
                  <a:pt x="5391" y="4937"/>
                  <a:pt x="5428" y="4973"/>
                </a:cubicBezTo>
                <a:cubicBezTo>
                  <a:pt x="5428" y="4973"/>
                  <a:pt x="5447" y="4973"/>
                  <a:pt x="5447" y="5010"/>
                </a:cubicBezTo>
                <a:close/>
                <a:moveTo>
                  <a:pt x="4823" y="2904"/>
                </a:moveTo>
                <a:cubicBezTo>
                  <a:pt x="4823" y="2904"/>
                  <a:pt x="4823" y="2904"/>
                  <a:pt x="4823" y="2904"/>
                </a:cubicBezTo>
                <a:cubicBezTo>
                  <a:pt x="4785" y="2977"/>
                  <a:pt x="4766" y="3086"/>
                  <a:pt x="4729" y="3122"/>
                </a:cubicBezTo>
                <a:cubicBezTo>
                  <a:pt x="4691" y="3122"/>
                  <a:pt x="4615" y="3122"/>
                  <a:pt x="4577" y="3122"/>
                </a:cubicBezTo>
                <a:cubicBezTo>
                  <a:pt x="4596" y="3122"/>
                  <a:pt x="4596" y="3158"/>
                  <a:pt x="4596" y="3158"/>
                </a:cubicBezTo>
                <a:cubicBezTo>
                  <a:pt x="4596" y="3158"/>
                  <a:pt x="4615" y="3195"/>
                  <a:pt x="4615" y="3195"/>
                </a:cubicBezTo>
                <a:cubicBezTo>
                  <a:pt x="4615" y="3267"/>
                  <a:pt x="4577" y="3304"/>
                  <a:pt x="4539" y="3267"/>
                </a:cubicBezTo>
                <a:cubicBezTo>
                  <a:pt x="4539" y="3195"/>
                  <a:pt x="4520" y="3158"/>
                  <a:pt x="4502" y="3122"/>
                </a:cubicBezTo>
                <a:cubicBezTo>
                  <a:pt x="4483" y="3049"/>
                  <a:pt x="4502" y="2977"/>
                  <a:pt x="4520" y="2904"/>
                </a:cubicBezTo>
                <a:cubicBezTo>
                  <a:pt x="4520" y="2941"/>
                  <a:pt x="4539" y="2941"/>
                  <a:pt x="4558" y="2941"/>
                </a:cubicBezTo>
                <a:cubicBezTo>
                  <a:pt x="4539" y="2904"/>
                  <a:pt x="4539" y="2868"/>
                  <a:pt x="4539" y="2832"/>
                </a:cubicBezTo>
                <a:cubicBezTo>
                  <a:pt x="4539" y="2832"/>
                  <a:pt x="4577" y="2832"/>
                  <a:pt x="4596" y="2832"/>
                </a:cubicBezTo>
                <a:cubicBezTo>
                  <a:pt x="4653" y="2832"/>
                  <a:pt x="4672" y="2868"/>
                  <a:pt x="4710" y="2868"/>
                </a:cubicBezTo>
                <a:cubicBezTo>
                  <a:pt x="4747" y="2868"/>
                  <a:pt x="4785" y="2832"/>
                  <a:pt x="4823" y="2904"/>
                </a:cubicBezTo>
                <a:close/>
                <a:moveTo>
                  <a:pt x="4483" y="2142"/>
                </a:moveTo>
                <a:cubicBezTo>
                  <a:pt x="4502" y="2142"/>
                  <a:pt x="4520" y="2142"/>
                  <a:pt x="4539" y="2178"/>
                </a:cubicBezTo>
                <a:cubicBezTo>
                  <a:pt x="4558" y="2178"/>
                  <a:pt x="4577" y="2178"/>
                  <a:pt x="4577" y="2178"/>
                </a:cubicBezTo>
                <a:cubicBezTo>
                  <a:pt x="4596" y="2178"/>
                  <a:pt x="4596" y="2214"/>
                  <a:pt x="4615" y="2214"/>
                </a:cubicBezTo>
                <a:cubicBezTo>
                  <a:pt x="4615" y="2251"/>
                  <a:pt x="4615" y="2287"/>
                  <a:pt x="4596" y="2287"/>
                </a:cubicBezTo>
                <a:cubicBezTo>
                  <a:pt x="4577" y="2287"/>
                  <a:pt x="4539" y="2287"/>
                  <a:pt x="4520" y="2287"/>
                </a:cubicBezTo>
                <a:cubicBezTo>
                  <a:pt x="4502" y="2287"/>
                  <a:pt x="4502" y="2287"/>
                  <a:pt x="4483" y="2287"/>
                </a:cubicBezTo>
                <a:cubicBezTo>
                  <a:pt x="4483" y="2287"/>
                  <a:pt x="4483" y="2287"/>
                  <a:pt x="4483" y="2287"/>
                </a:cubicBezTo>
                <a:cubicBezTo>
                  <a:pt x="4483" y="2287"/>
                  <a:pt x="4426" y="2178"/>
                  <a:pt x="4426" y="2178"/>
                </a:cubicBezTo>
                <a:cubicBezTo>
                  <a:pt x="4426" y="2106"/>
                  <a:pt x="4464" y="2142"/>
                  <a:pt x="4483" y="2142"/>
                </a:cubicBezTo>
                <a:close/>
                <a:moveTo>
                  <a:pt x="4331" y="3884"/>
                </a:moveTo>
                <a:cubicBezTo>
                  <a:pt x="4331" y="3884"/>
                  <a:pt x="4331" y="3812"/>
                  <a:pt x="4350" y="3775"/>
                </a:cubicBezTo>
                <a:cubicBezTo>
                  <a:pt x="4350" y="3775"/>
                  <a:pt x="4350" y="3775"/>
                  <a:pt x="4369" y="3775"/>
                </a:cubicBezTo>
                <a:cubicBezTo>
                  <a:pt x="4369" y="3775"/>
                  <a:pt x="4464" y="3884"/>
                  <a:pt x="4464" y="3884"/>
                </a:cubicBezTo>
                <a:cubicBezTo>
                  <a:pt x="4483" y="3957"/>
                  <a:pt x="4483" y="3957"/>
                  <a:pt x="4502" y="3993"/>
                </a:cubicBezTo>
                <a:cubicBezTo>
                  <a:pt x="4502" y="3993"/>
                  <a:pt x="4502" y="3993"/>
                  <a:pt x="4502" y="3993"/>
                </a:cubicBezTo>
                <a:cubicBezTo>
                  <a:pt x="4483" y="4030"/>
                  <a:pt x="4483" y="4030"/>
                  <a:pt x="4464" y="4066"/>
                </a:cubicBezTo>
                <a:cubicBezTo>
                  <a:pt x="4426" y="4066"/>
                  <a:pt x="4350" y="3993"/>
                  <a:pt x="4312" y="3993"/>
                </a:cubicBezTo>
                <a:cubicBezTo>
                  <a:pt x="4294" y="3993"/>
                  <a:pt x="4275" y="3993"/>
                  <a:pt x="4275" y="3957"/>
                </a:cubicBezTo>
                <a:cubicBezTo>
                  <a:pt x="4275" y="3957"/>
                  <a:pt x="4275" y="3957"/>
                  <a:pt x="4275" y="3957"/>
                </a:cubicBezTo>
                <a:cubicBezTo>
                  <a:pt x="4275" y="3921"/>
                  <a:pt x="4312" y="3921"/>
                  <a:pt x="4331" y="3884"/>
                </a:cubicBezTo>
                <a:close/>
                <a:moveTo>
                  <a:pt x="4010" y="3630"/>
                </a:moveTo>
                <a:cubicBezTo>
                  <a:pt x="4067" y="3667"/>
                  <a:pt x="4161" y="3667"/>
                  <a:pt x="4180" y="3812"/>
                </a:cubicBezTo>
                <a:cubicBezTo>
                  <a:pt x="4180" y="3812"/>
                  <a:pt x="4180" y="3812"/>
                  <a:pt x="4161" y="3812"/>
                </a:cubicBezTo>
                <a:cubicBezTo>
                  <a:pt x="4142" y="3812"/>
                  <a:pt x="4104" y="3812"/>
                  <a:pt x="4085" y="3775"/>
                </a:cubicBezTo>
                <a:cubicBezTo>
                  <a:pt x="4067" y="3812"/>
                  <a:pt x="4048" y="3812"/>
                  <a:pt x="4029" y="3812"/>
                </a:cubicBezTo>
                <a:cubicBezTo>
                  <a:pt x="4029" y="3812"/>
                  <a:pt x="4029" y="3812"/>
                  <a:pt x="4029" y="3812"/>
                </a:cubicBezTo>
                <a:cubicBezTo>
                  <a:pt x="4029" y="3848"/>
                  <a:pt x="4029" y="3884"/>
                  <a:pt x="4029" y="3884"/>
                </a:cubicBezTo>
                <a:cubicBezTo>
                  <a:pt x="4048" y="3884"/>
                  <a:pt x="4085" y="3848"/>
                  <a:pt x="4104" y="3848"/>
                </a:cubicBezTo>
                <a:cubicBezTo>
                  <a:pt x="4104" y="3884"/>
                  <a:pt x="4123" y="3884"/>
                  <a:pt x="4123" y="3921"/>
                </a:cubicBezTo>
                <a:cubicBezTo>
                  <a:pt x="4104" y="3957"/>
                  <a:pt x="4085" y="3957"/>
                  <a:pt x="4067" y="3993"/>
                </a:cubicBezTo>
                <a:cubicBezTo>
                  <a:pt x="3991" y="3993"/>
                  <a:pt x="3915" y="3957"/>
                  <a:pt x="3858" y="3921"/>
                </a:cubicBezTo>
                <a:cubicBezTo>
                  <a:pt x="3858" y="3884"/>
                  <a:pt x="3840" y="3884"/>
                  <a:pt x="3840" y="3848"/>
                </a:cubicBezTo>
                <a:cubicBezTo>
                  <a:pt x="3821" y="3848"/>
                  <a:pt x="3821" y="3848"/>
                  <a:pt x="3802" y="3884"/>
                </a:cubicBezTo>
                <a:cubicBezTo>
                  <a:pt x="3802" y="3921"/>
                  <a:pt x="3764" y="3957"/>
                  <a:pt x="3726" y="3957"/>
                </a:cubicBezTo>
                <a:cubicBezTo>
                  <a:pt x="3726" y="3957"/>
                  <a:pt x="3707" y="3957"/>
                  <a:pt x="3688" y="3957"/>
                </a:cubicBezTo>
                <a:cubicBezTo>
                  <a:pt x="3688" y="3957"/>
                  <a:pt x="3669" y="3993"/>
                  <a:pt x="3669" y="3993"/>
                </a:cubicBezTo>
                <a:cubicBezTo>
                  <a:pt x="3632" y="4030"/>
                  <a:pt x="3556" y="4066"/>
                  <a:pt x="3499" y="4030"/>
                </a:cubicBezTo>
                <a:cubicBezTo>
                  <a:pt x="3461" y="4030"/>
                  <a:pt x="3405" y="4066"/>
                  <a:pt x="3386" y="3993"/>
                </a:cubicBezTo>
                <a:cubicBezTo>
                  <a:pt x="3386" y="3993"/>
                  <a:pt x="3405" y="3957"/>
                  <a:pt x="3386" y="3921"/>
                </a:cubicBezTo>
                <a:cubicBezTo>
                  <a:pt x="3367" y="3884"/>
                  <a:pt x="3291" y="3921"/>
                  <a:pt x="3253" y="3884"/>
                </a:cubicBezTo>
                <a:cubicBezTo>
                  <a:pt x="3215" y="3884"/>
                  <a:pt x="3178" y="3812"/>
                  <a:pt x="3140" y="3739"/>
                </a:cubicBezTo>
                <a:cubicBezTo>
                  <a:pt x="3140" y="3739"/>
                  <a:pt x="3140" y="3739"/>
                  <a:pt x="3140" y="3739"/>
                </a:cubicBezTo>
                <a:cubicBezTo>
                  <a:pt x="3159" y="3739"/>
                  <a:pt x="3159" y="3739"/>
                  <a:pt x="3178" y="3703"/>
                </a:cubicBezTo>
                <a:cubicBezTo>
                  <a:pt x="3178" y="3703"/>
                  <a:pt x="3196" y="3703"/>
                  <a:pt x="3196" y="3703"/>
                </a:cubicBezTo>
                <a:cubicBezTo>
                  <a:pt x="3215" y="3703"/>
                  <a:pt x="3215" y="3703"/>
                  <a:pt x="3234" y="3703"/>
                </a:cubicBezTo>
                <a:cubicBezTo>
                  <a:pt x="3253" y="3703"/>
                  <a:pt x="3272" y="3703"/>
                  <a:pt x="3291" y="3703"/>
                </a:cubicBezTo>
                <a:cubicBezTo>
                  <a:pt x="3310" y="3703"/>
                  <a:pt x="3329" y="3703"/>
                  <a:pt x="3348" y="3703"/>
                </a:cubicBezTo>
                <a:cubicBezTo>
                  <a:pt x="3386" y="3703"/>
                  <a:pt x="3499" y="3703"/>
                  <a:pt x="3518" y="3667"/>
                </a:cubicBezTo>
                <a:cubicBezTo>
                  <a:pt x="3461" y="3558"/>
                  <a:pt x="3310" y="3594"/>
                  <a:pt x="3196" y="3594"/>
                </a:cubicBezTo>
                <a:cubicBezTo>
                  <a:pt x="3159" y="3594"/>
                  <a:pt x="3083" y="3594"/>
                  <a:pt x="3083" y="3521"/>
                </a:cubicBezTo>
                <a:cubicBezTo>
                  <a:pt x="3102" y="3485"/>
                  <a:pt x="3234" y="3521"/>
                  <a:pt x="3272" y="3449"/>
                </a:cubicBezTo>
                <a:cubicBezTo>
                  <a:pt x="3272" y="3449"/>
                  <a:pt x="3272" y="3449"/>
                  <a:pt x="3272" y="3449"/>
                </a:cubicBezTo>
                <a:cubicBezTo>
                  <a:pt x="3272" y="3449"/>
                  <a:pt x="3272" y="3412"/>
                  <a:pt x="3253" y="3412"/>
                </a:cubicBezTo>
                <a:cubicBezTo>
                  <a:pt x="3215" y="3412"/>
                  <a:pt x="3196" y="3412"/>
                  <a:pt x="3159" y="3449"/>
                </a:cubicBezTo>
                <a:cubicBezTo>
                  <a:pt x="3140" y="3412"/>
                  <a:pt x="3121" y="3376"/>
                  <a:pt x="3121" y="3376"/>
                </a:cubicBezTo>
                <a:cubicBezTo>
                  <a:pt x="3102" y="3340"/>
                  <a:pt x="3102" y="3376"/>
                  <a:pt x="3083" y="3376"/>
                </a:cubicBezTo>
                <a:cubicBezTo>
                  <a:pt x="3064" y="3340"/>
                  <a:pt x="3064" y="3340"/>
                  <a:pt x="3064" y="3340"/>
                </a:cubicBezTo>
                <a:cubicBezTo>
                  <a:pt x="3064" y="3195"/>
                  <a:pt x="3178" y="3086"/>
                  <a:pt x="3234" y="3049"/>
                </a:cubicBezTo>
                <a:cubicBezTo>
                  <a:pt x="3272" y="3049"/>
                  <a:pt x="3348" y="2977"/>
                  <a:pt x="3348" y="3049"/>
                </a:cubicBezTo>
                <a:cubicBezTo>
                  <a:pt x="3348" y="3086"/>
                  <a:pt x="3329" y="3086"/>
                  <a:pt x="3329" y="3195"/>
                </a:cubicBezTo>
                <a:cubicBezTo>
                  <a:pt x="3386" y="3158"/>
                  <a:pt x="3386" y="3122"/>
                  <a:pt x="3405" y="3122"/>
                </a:cubicBezTo>
                <a:cubicBezTo>
                  <a:pt x="3442" y="3086"/>
                  <a:pt x="3499" y="3122"/>
                  <a:pt x="3518" y="3158"/>
                </a:cubicBezTo>
                <a:cubicBezTo>
                  <a:pt x="3518" y="3195"/>
                  <a:pt x="3499" y="3231"/>
                  <a:pt x="3499" y="3231"/>
                </a:cubicBezTo>
                <a:cubicBezTo>
                  <a:pt x="3537" y="3231"/>
                  <a:pt x="3556" y="3195"/>
                  <a:pt x="3575" y="3195"/>
                </a:cubicBezTo>
                <a:cubicBezTo>
                  <a:pt x="3594" y="3195"/>
                  <a:pt x="3594" y="3195"/>
                  <a:pt x="3613" y="3195"/>
                </a:cubicBezTo>
                <a:cubicBezTo>
                  <a:pt x="3594" y="3158"/>
                  <a:pt x="3575" y="3122"/>
                  <a:pt x="3575" y="3086"/>
                </a:cubicBezTo>
                <a:cubicBezTo>
                  <a:pt x="3575" y="3086"/>
                  <a:pt x="3575" y="3086"/>
                  <a:pt x="3575" y="3086"/>
                </a:cubicBezTo>
                <a:cubicBezTo>
                  <a:pt x="3613" y="3086"/>
                  <a:pt x="3650" y="3122"/>
                  <a:pt x="3669" y="3158"/>
                </a:cubicBezTo>
                <a:cubicBezTo>
                  <a:pt x="3688" y="3158"/>
                  <a:pt x="3688" y="3195"/>
                  <a:pt x="3688" y="3231"/>
                </a:cubicBezTo>
                <a:cubicBezTo>
                  <a:pt x="3688" y="3267"/>
                  <a:pt x="3707" y="3340"/>
                  <a:pt x="3726" y="3376"/>
                </a:cubicBezTo>
                <a:cubicBezTo>
                  <a:pt x="3745" y="3376"/>
                  <a:pt x="3745" y="3340"/>
                  <a:pt x="3764" y="3340"/>
                </a:cubicBezTo>
                <a:cubicBezTo>
                  <a:pt x="3764" y="3304"/>
                  <a:pt x="3745" y="3231"/>
                  <a:pt x="3726" y="3195"/>
                </a:cubicBezTo>
                <a:cubicBezTo>
                  <a:pt x="3726" y="3122"/>
                  <a:pt x="3726" y="3049"/>
                  <a:pt x="3726" y="3013"/>
                </a:cubicBezTo>
                <a:cubicBezTo>
                  <a:pt x="3783" y="3013"/>
                  <a:pt x="3858" y="3049"/>
                  <a:pt x="3896" y="3122"/>
                </a:cubicBezTo>
                <a:cubicBezTo>
                  <a:pt x="3896" y="3158"/>
                  <a:pt x="3896" y="3195"/>
                  <a:pt x="3915" y="3267"/>
                </a:cubicBezTo>
                <a:cubicBezTo>
                  <a:pt x="3915" y="3304"/>
                  <a:pt x="3934" y="3340"/>
                  <a:pt x="3953" y="3376"/>
                </a:cubicBezTo>
                <a:cubicBezTo>
                  <a:pt x="3953" y="3449"/>
                  <a:pt x="3934" y="3485"/>
                  <a:pt x="3953" y="3521"/>
                </a:cubicBezTo>
                <a:cubicBezTo>
                  <a:pt x="3972" y="3558"/>
                  <a:pt x="3972" y="3594"/>
                  <a:pt x="4010" y="3630"/>
                </a:cubicBezTo>
                <a:close/>
                <a:moveTo>
                  <a:pt x="4369" y="3086"/>
                </a:moveTo>
                <a:cubicBezTo>
                  <a:pt x="4388" y="3086"/>
                  <a:pt x="4445" y="3158"/>
                  <a:pt x="4445" y="3158"/>
                </a:cubicBezTo>
                <a:cubicBezTo>
                  <a:pt x="4445" y="3158"/>
                  <a:pt x="4445" y="3195"/>
                  <a:pt x="4445" y="3195"/>
                </a:cubicBezTo>
                <a:cubicBezTo>
                  <a:pt x="4445" y="3231"/>
                  <a:pt x="4445" y="3231"/>
                  <a:pt x="4426" y="3231"/>
                </a:cubicBezTo>
                <a:cubicBezTo>
                  <a:pt x="4426" y="3304"/>
                  <a:pt x="4426" y="3412"/>
                  <a:pt x="4369" y="3412"/>
                </a:cubicBezTo>
                <a:cubicBezTo>
                  <a:pt x="4350" y="3376"/>
                  <a:pt x="4350" y="3340"/>
                  <a:pt x="4331" y="3340"/>
                </a:cubicBezTo>
                <a:cubicBezTo>
                  <a:pt x="4331" y="3340"/>
                  <a:pt x="4331" y="3340"/>
                  <a:pt x="4331" y="3376"/>
                </a:cubicBezTo>
                <a:cubicBezTo>
                  <a:pt x="4331" y="3376"/>
                  <a:pt x="4350" y="3412"/>
                  <a:pt x="4350" y="3412"/>
                </a:cubicBezTo>
                <a:cubicBezTo>
                  <a:pt x="4350" y="3412"/>
                  <a:pt x="4331" y="3449"/>
                  <a:pt x="4331" y="3449"/>
                </a:cubicBezTo>
                <a:cubicBezTo>
                  <a:pt x="4256" y="3449"/>
                  <a:pt x="4256" y="3340"/>
                  <a:pt x="4218" y="3304"/>
                </a:cubicBezTo>
                <a:cubicBezTo>
                  <a:pt x="4199" y="3267"/>
                  <a:pt x="4161" y="3267"/>
                  <a:pt x="4142" y="3267"/>
                </a:cubicBezTo>
                <a:cubicBezTo>
                  <a:pt x="4123" y="3231"/>
                  <a:pt x="4085" y="3158"/>
                  <a:pt x="4067" y="3122"/>
                </a:cubicBezTo>
                <a:cubicBezTo>
                  <a:pt x="4067" y="3122"/>
                  <a:pt x="4085" y="3086"/>
                  <a:pt x="4085" y="3049"/>
                </a:cubicBezTo>
                <a:cubicBezTo>
                  <a:pt x="4123" y="3086"/>
                  <a:pt x="4142" y="3158"/>
                  <a:pt x="4180" y="3158"/>
                </a:cubicBezTo>
                <a:cubicBezTo>
                  <a:pt x="4199" y="3122"/>
                  <a:pt x="4218" y="3086"/>
                  <a:pt x="4237" y="3049"/>
                </a:cubicBezTo>
                <a:cubicBezTo>
                  <a:pt x="4237" y="3049"/>
                  <a:pt x="4237" y="3049"/>
                  <a:pt x="4237" y="3049"/>
                </a:cubicBezTo>
                <a:cubicBezTo>
                  <a:pt x="4218" y="3013"/>
                  <a:pt x="4180" y="2941"/>
                  <a:pt x="4180" y="2941"/>
                </a:cubicBezTo>
                <a:cubicBezTo>
                  <a:pt x="4161" y="2941"/>
                  <a:pt x="4161" y="2904"/>
                  <a:pt x="4161" y="2904"/>
                </a:cubicBezTo>
                <a:cubicBezTo>
                  <a:pt x="4161" y="2904"/>
                  <a:pt x="4161" y="2904"/>
                  <a:pt x="4180" y="2904"/>
                </a:cubicBezTo>
                <a:cubicBezTo>
                  <a:pt x="4180" y="2904"/>
                  <a:pt x="4199" y="2904"/>
                  <a:pt x="4218" y="2904"/>
                </a:cubicBezTo>
                <a:cubicBezTo>
                  <a:pt x="4237" y="2904"/>
                  <a:pt x="4237" y="2868"/>
                  <a:pt x="4256" y="2904"/>
                </a:cubicBezTo>
                <a:cubicBezTo>
                  <a:pt x="4256" y="2904"/>
                  <a:pt x="4275" y="2904"/>
                  <a:pt x="4275" y="2941"/>
                </a:cubicBezTo>
                <a:cubicBezTo>
                  <a:pt x="4294" y="2941"/>
                  <a:pt x="4350" y="2904"/>
                  <a:pt x="4350" y="2868"/>
                </a:cubicBezTo>
                <a:cubicBezTo>
                  <a:pt x="4388" y="2868"/>
                  <a:pt x="4407" y="2904"/>
                  <a:pt x="4426" y="2904"/>
                </a:cubicBezTo>
                <a:cubicBezTo>
                  <a:pt x="4407" y="2904"/>
                  <a:pt x="4407" y="2941"/>
                  <a:pt x="4407" y="2941"/>
                </a:cubicBezTo>
                <a:cubicBezTo>
                  <a:pt x="4407" y="2941"/>
                  <a:pt x="4407" y="2941"/>
                  <a:pt x="4388" y="2941"/>
                </a:cubicBezTo>
                <a:cubicBezTo>
                  <a:pt x="4388" y="2977"/>
                  <a:pt x="4388" y="2977"/>
                  <a:pt x="4388" y="2977"/>
                </a:cubicBezTo>
                <a:cubicBezTo>
                  <a:pt x="4369" y="3013"/>
                  <a:pt x="4350" y="3013"/>
                  <a:pt x="4331" y="3049"/>
                </a:cubicBezTo>
                <a:cubicBezTo>
                  <a:pt x="4331" y="3049"/>
                  <a:pt x="4331" y="3086"/>
                  <a:pt x="4331" y="3086"/>
                </a:cubicBezTo>
                <a:cubicBezTo>
                  <a:pt x="4350" y="3086"/>
                  <a:pt x="4350" y="3086"/>
                  <a:pt x="4369" y="3086"/>
                </a:cubicBezTo>
                <a:close/>
                <a:moveTo>
                  <a:pt x="4899" y="2541"/>
                </a:moveTo>
                <a:cubicBezTo>
                  <a:pt x="4918" y="2541"/>
                  <a:pt x="4918" y="2541"/>
                  <a:pt x="4937" y="2505"/>
                </a:cubicBezTo>
                <a:cubicBezTo>
                  <a:pt x="4937" y="2469"/>
                  <a:pt x="4956" y="2469"/>
                  <a:pt x="4974" y="2469"/>
                </a:cubicBezTo>
                <a:cubicBezTo>
                  <a:pt x="4974" y="2469"/>
                  <a:pt x="4974" y="2469"/>
                  <a:pt x="4993" y="2469"/>
                </a:cubicBezTo>
                <a:cubicBezTo>
                  <a:pt x="5031" y="2469"/>
                  <a:pt x="5031" y="2541"/>
                  <a:pt x="5088" y="2541"/>
                </a:cubicBezTo>
                <a:cubicBezTo>
                  <a:pt x="5088" y="2505"/>
                  <a:pt x="5088" y="2505"/>
                  <a:pt x="5107" y="2469"/>
                </a:cubicBezTo>
                <a:cubicBezTo>
                  <a:pt x="5145" y="2432"/>
                  <a:pt x="5296" y="2396"/>
                  <a:pt x="5353" y="2432"/>
                </a:cubicBezTo>
                <a:cubicBezTo>
                  <a:pt x="5372" y="2432"/>
                  <a:pt x="5391" y="2469"/>
                  <a:pt x="5409" y="2505"/>
                </a:cubicBezTo>
                <a:cubicBezTo>
                  <a:pt x="5447" y="2505"/>
                  <a:pt x="5466" y="2505"/>
                  <a:pt x="5485" y="2577"/>
                </a:cubicBezTo>
                <a:cubicBezTo>
                  <a:pt x="5485" y="2577"/>
                  <a:pt x="5485" y="2577"/>
                  <a:pt x="5485" y="2577"/>
                </a:cubicBezTo>
                <a:cubicBezTo>
                  <a:pt x="5485" y="2577"/>
                  <a:pt x="5428" y="2614"/>
                  <a:pt x="5428" y="2650"/>
                </a:cubicBezTo>
                <a:cubicBezTo>
                  <a:pt x="5428" y="2686"/>
                  <a:pt x="5428" y="2686"/>
                  <a:pt x="5447" y="2723"/>
                </a:cubicBezTo>
                <a:cubicBezTo>
                  <a:pt x="5409" y="2723"/>
                  <a:pt x="5334" y="2759"/>
                  <a:pt x="5315" y="2723"/>
                </a:cubicBezTo>
                <a:cubicBezTo>
                  <a:pt x="5296" y="2723"/>
                  <a:pt x="5296" y="2723"/>
                  <a:pt x="5277" y="2723"/>
                </a:cubicBezTo>
                <a:cubicBezTo>
                  <a:pt x="5277" y="2686"/>
                  <a:pt x="5277" y="2650"/>
                  <a:pt x="5277" y="2650"/>
                </a:cubicBezTo>
                <a:cubicBezTo>
                  <a:pt x="5258" y="2614"/>
                  <a:pt x="5258" y="2614"/>
                  <a:pt x="5239" y="2614"/>
                </a:cubicBezTo>
                <a:cubicBezTo>
                  <a:pt x="5239" y="2614"/>
                  <a:pt x="5239" y="2614"/>
                  <a:pt x="5239" y="2614"/>
                </a:cubicBezTo>
                <a:cubicBezTo>
                  <a:pt x="5239" y="2650"/>
                  <a:pt x="5239" y="2686"/>
                  <a:pt x="5239" y="2686"/>
                </a:cubicBezTo>
                <a:cubicBezTo>
                  <a:pt x="5220" y="2723"/>
                  <a:pt x="5164" y="2723"/>
                  <a:pt x="5145" y="2723"/>
                </a:cubicBezTo>
                <a:cubicBezTo>
                  <a:pt x="5126" y="2723"/>
                  <a:pt x="5107" y="2686"/>
                  <a:pt x="5069" y="2686"/>
                </a:cubicBezTo>
                <a:cubicBezTo>
                  <a:pt x="5069" y="2686"/>
                  <a:pt x="5069" y="2723"/>
                  <a:pt x="5069" y="2723"/>
                </a:cubicBezTo>
                <a:cubicBezTo>
                  <a:pt x="5031" y="2723"/>
                  <a:pt x="4993" y="2759"/>
                  <a:pt x="4956" y="2723"/>
                </a:cubicBezTo>
                <a:cubicBezTo>
                  <a:pt x="4956" y="2723"/>
                  <a:pt x="4937" y="2686"/>
                  <a:pt x="4937" y="2650"/>
                </a:cubicBezTo>
                <a:cubicBezTo>
                  <a:pt x="4918" y="2650"/>
                  <a:pt x="4899" y="2650"/>
                  <a:pt x="4899" y="2686"/>
                </a:cubicBezTo>
                <a:cubicBezTo>
                  <a:pt x="4899" y="2686"/>
                  <a:pt x="4899" y="2686"/>
                  <a:pt x="4880" y="2723"/>
                </a:cubicBezTo>
                <a:cubicBezTo>
                  <a:pt x="4842" y="2759"/>
                  <a:pt x="4804" y="2686"/>
                  <a:pt x="4785" y="2650"/>
                </a:cubicBezTo>
                <a:cubicBezTo>
                  <a:pt x="4785" y="2650"/>
                  <a:pt x="4785" y="2650"/>
                  <a:pt x="4785" y="2650"/>
                </a:cubicBezTo>
                <a:cubicBezTo>
                  <a:pt x="4766" y="2650"/>
                  <a:pt x="4766" y="2686"/>
                  <a:pt x="4766" y="2686"/>
                </a:cubicBezTo>
                <a:cubicBezTo>
                  <a:pt x="4747" y="2686"/>
                  <a:pt x="4747" y="2686"/>
                  <a:pt x="4729" y="2686"/>
                </a:cubicBezTo>
                <a:cubicBezTo>
                  <a:pt x="4729" y="2614"/>
                  <a:pt x="4710" y="2577"/>
                  <a:pt x="4691" y="2541"/>
                </a:cubicBezTo>
                <a:cubicBezTo>
                  <a:pt x="4747" y="2432"/>
                  <a:pt x="4691" y="2396"/>
                  <a:pt x="4672" y="2323"/>
                </a:cubicBezTo>
                <a:cubicBezTo>
                  <a:pt x="4672" y="2323"/>
                  <a:pt x="4653" y="2287"/>
                  <a:pt x="4653" y="2251"/>
                </a:cubicBezTo>
                <a:cubicBezTo>
                  <a:pt x="4672" y="2251"/>
                  <a:pt x="4691" y="2251"/>
                  <a:pt x="4710" y="2251"/>
                </a:cubicBezTo>
                <a:cubicBezTo>
                  <a:pt x="4729" y="2251"/>
                  <a:pt x="4747" y="2251"/>
                  <a:pt x="4785" y="2251"/>
                </a:cubicBezTo>
                <a:cubicBezTo>
                  <a:pt x="4804" y="2251"/>
                  <a:pt x="4823" y="2287"/>
                  <a:pt x="4861" y="2287"/>
                </a:cubicBezTo>
                <a:cubicBezTo>
                  <a:pt x="4861" y="2287"/>
                  <a:pt x="4861" y="2287"/>
                  <a:pt x="4861" y="2287"/>
                </a:cubicBezTo>
                <a:cubicBezTo>
                  <a:pt x="4842" y="2323"/>
                  <a:pt x="4785" y="2323"/>
                  <a:pt x="4785" y="2360"/>
                </a:cubicBezTo>
                <a:cubicBezTo>
                  <a:pt x="4785" y="2360"/>
                  <a:pt x="4785" y="2396"/>
                  <a:pt x="4766" y="2396"/>
                </a:cubicBezTo>
                <a:cubicBezTo>
                  <a:pt x="4823" y="2396"/>
                  <a:pt x="4842" y="2396"/>
                  <a:pt x="4880" y="2432"/>
                </a:cubicBezTo>
                <a:cubicBezTo>
                  <a:pt x="4880" y="2469"/>
                  <a:pt x="4899" y="2505"/>
                  <a:pt x="4899" y="2541"/>
                </a:cubicBezTo>
                <a:close/>
                <a:moveTo>
                  <a:pt x="6563" y="4356"/>
                </a:moveTo>
                <a:cubicBezTo>
                  <a:pt x="6582" y="4393"/>
                  <a:pt x="6601" y="4429"/>
                  <a:pt x="6620" y="4429"/>
                </a:cubicBezTo>
                <a:cubicBezTo>
                  <a:pt x="6620" y="4429"/>
                  <a:pt x="6620" y="4429"/>
                  <a:pt x="6620" y="4429"/>
                </a:cubicBezTo>
                <a:cubicBezTo>
                  <a:pt x="6620" y="4465"/>
                  <a:pt x="6601" y="4502"/>
                  <a:pt x="6601" y="4502"/>
                </a:cubicBezTo>
                <a:cubicBezTo>
                  <a:pt x="6563" y="4538"/>
                  <a:pt x="6563" y="4465"/>
                  <a:pt x="6525" y="4502"/>
                </a:cubicBezTo>
                <a:cubicBezTo>
                  <a:pt x="6525" y="4502"/>
                  <a:pt x="6525" y="4502"/>
                  <a:pt x="6525" y="4502"/>
                </a:cubicBezTo>
                <a:cubicBezTo>
                  <a:pt x="6544" y="4502"/>
                  <a:pt x="6563" y="4538"/>
                  <a:pt x="6563" y="4574"/>
                </a:cubicBezTo>
                <a:cubicBezTo>
                  <a:pt x="6544" y="4574"/>
                  <a:pt x="6525" y="4610"/>
                  <a:pt x="6525" y="4647"/>
                </a:cubicBezTo>
                <a:cubicBezTo>
                  <a:pt x="6506" y="4647"/>
                  <a:pt x="6488" y="4610"/>
                  <a:pt x="6488" y="4574"/>
                </a:cubicBezTo>
                <a:cubicBezTo>
                  <a:pt x="6488" y="4574"/>
                  <a:pt x="6488" y="4574"/>
                  <a:pt x="6488" y="4574"/>
                </a:cubicBezTo>
                <a:cubicBezTo>
                  <a:pt x="6488" y="4610"/>
                  <a:pt x="6488" y="4647"/>
                  <a:pt x="6469" y="4683"/>
                </a:cubicBezTo>
                <a:cubicBezTo>
                  <a:pt x="6488" y="4719"/>
                  <a:pt x="6488" y="4719"/>
                  <a:pt x="6488" y="4756"/>
                </a:cubicBezTo>
                <a:cubicBezTo>
                  <a:pt x="6488" y="4756"/>
                  <a:pt x="6488" y="4756"/>
                  <a:pt x="6488" y="4756"/>
                </a:cubicBezTo>
                <a:cubicBezTo>
                  <a:pt x="6469" y="4756"/>
                  <a:pt x="6431" y="4719"/>
                  <a:pt x="6431" y="4719"/>
                </a:cubicBezTo>
                <a:cubicBezTo>
                  <a:pt x="6431" y="4683"/>
                  <a:pt x="6431" y="4683"/>
                  <a:pt x="6412" y="4647"/>
                </a:cubicBezTo>
                <a:cubicBezTo>
                  <a:pt x="6412" y="4683"/>
                  <a:pt x="6412" y="4683"/>
                  <a:pt x="6393" y="4683"/>
                </a:cubicBezTo>
                <a:cubicBezTo>
                  <a:pt x="6393" y="4647"/>
                  <a:pt x="6374" y="4647"/>
                  <a:pt x="6374" y="4610"/>
                </a:cubicBezTo>
                <a:cubicBezTo>
                  <a:pt x="6374" y="4610"/>
                  <a:pt x="6374" y="4574"/>
                  <a:pt x="6374" y="4574"/>
                </a:cubicBezTo>
                <a:cubicBezTo>
                  <a:pt x="6374" y="4574"/>
                  <a:pt x="6355" y="4574"/>
                  <a:pt x="6336" y="4538"/>
                </a:cubicBezTo>
                <a:cubicBezTo>
                  <a:pt x="6298" y="4538"/>
                  <a:pt x="6298" y="4465"/>
                  <a:pt x="6242" y="4429"/>
                </a:cubicBezTo>
                <a:cubicBezTo>
                  <a:pt x="6242" y="4465"/>
                  <a:pt x="6223" y="4465"/>
                  <a:pt x="6223" y="4502"/>
                </a:cubicBezTo>
                <a:cubicBezTo>
                  <a:pt x="6223" y="4502"/>
                  <a:pt x="6242" y="4538"/>
                  <a:pt x="6261" y="4574"/>
                </a:cubicBezTo>
                <a:cubicBezTo>
                  <a:pt x="6242" y="4574"/>
                  <a:pt x="6242" y="4574"/>
                  <a:pt x="6242" y="4574"/>
                </a:cubicBezTo>
                <a:cubicBezTo>
                  <a:pt x="6242" y="4574"/>
                  <a:pt x="6223" y="4574"/>
                  <a:pt x="6223" y="4574"/>
                </a:cubicBezTo>
                <a:cubicBezTo>
                  <a:pt x="6223" y="4538"/>
                  <a:pt x="6204" y="4538"/>
                  <a:pt x="6185" y="4502"/>
                </a:cubicBezTo>
                <a:cubicBezTo>
                  <a:pt x="6185" y="4574"/>
                  <a:pt x="6204" y="4574"/>
                  <a:pt x="6204" y="4647"/>
                </a:cubicBezTo>
                <a:cubicBezTo>
                  <a:pt x="6223" y="4647"/>
                  <a:pt x="6223" y="4647"/>
                  <a:pt x="6242" y="4647"/>
                </a:cubicBezTo>
                <a:cubicBezTo>
                  <a:pt x="6261" y="4683"/>
                  <a:pt x="6280" y="4756"/>
                  <a:pt x="6280" y="4792"/>
                </a:cubicBezTo>
                <a:cubicBezTo>
                  <a:pt x="6280" y="4792"/>
                  <a:pt x="6298" y="4792"/>
                  <a:pt x="6298" y="4792"/>
                </a:cubicBezTo>
                <a:cubicBezTo>
                  <a:pt x="6298" y="4792"/>
                  <a:pt x="6298" y="4792"/>
                  <a:pt x="6298" y="4792"/>
                </a:cubicBezTo>
                <a:cubicBezTo>
                  <a:pt x="6317" y="4792"/>
                  <a:pt x="6336" y="4828"/>
                  <a:pt x="6336" y="4828"/>
                </a:cubicBezTo>
                <a:cubicBezTo>
                  <a:pt x="6355" y="4865"/>
                  <a:pt x="6374" y="4865"/>
                  <a:pt x="6374" y="4865"/>
                </a:cubicBezTo>
                <a:cubicBezTo>
                  <a:pt x="6374" y="4865"/>
                  <a:pt x="6374" y="4865"/>
                  <a:pt x="6374" y="4865"/>
                </a:cubicBezTo>
                <a:cubicBezTo>
                  <a:pt x="6374" y="4865"/>
                  <a:pt x="6374" y="4865"/>
                  <a:pt x="6374" y="4865"/>
                </a:cubicBezTo>
                <a:cubicBezTo>
                  <a:pt x="6355" y="4901"/>
                  <a:pt x="6355" y="4901"/>
                  <a:pt x="6355" y="4901"/>
                </a:cubicBezTo>
                <a:cubicBezTo>
                  <a:pt x="6393" y="4973"/>
                  <a:pt x="6431" y="4937"/>
                  <a:pt x="6431" y="5082"/>
                </a:cubicBezTo>
                <a:cubicBezTo>
                  <a:pt x="6412" y="5082"/>
                  <a:pt x="6412" y="5082"/>
                  <a:pt x="6412" y="5082"/>
                </a:cubicBezTo>
                <a:cubicBezTo>
                  <a:pt x="6412" y="5046"/>
                  <a:pt x="6393" y="5010"/>
                  <a:pt x="6374" y="4973"/>
                </a:cubicBezTo>
                <a:cubicBezTo>
                  <a:pt x="6374" y="5046"/>
                  <a:pt x="6393" y="5082"/>
                  <a:pt x="6412" y="5155"/>
                </a:cubicBezTo>
                <a:cubicBezTo>
                  <a:pt x="6412" y="5155"/>
                  <a:pt x="6412" y="5155"/>
                  <a:pt x="6393" y="5155"/>
                </a:cubicBezTo>
                <a:cubicBezTo>
                  <a:pt x="6393" y="5155"/>
                  <a:pt x="6393" y="5155"/>
                  <a:pt x="6374" y="5155"/>
                </a:cubicBezTo>
                <a:cubicBezTo>
                  <a:pt x="6393" y="5155"/>
                  <a:pt x="6393" y="5191"/>
                  <a:pt x="6393" y="5228"/>
                </a:cubicBezTo>
                <a:cubicBezTo>
                  <a:pt x="6374" y="5228"/>
                  <a:pt x="6355" y="5191"/>
                  <a:pt x="6336" y="5119"/>
                </a:cubicBezTo>
                <a:cubicBezTo>
                  <a:pt x="6280" y="5155"/>
                  <a:pt x="6261" y="5046"/>
                  <a:pt x="6223" y="4973"/>
                </a:cubicBezTo>
                <a:cubicBezTo>
                  <a:pt x="6223" y="5010"/>
                  <a:pt x="6223" y="5046"/>
                  <a:pt x="6223" y="5046"/>
                </a:cubicBezTo>
                <a:cubicBezTo>
                  <a:pt x="6204" y="5046"/>
                  <a:pt x="6185" y="5010"/>
                  <a:pt x="6147" y="5010"/>
                </a:cubicBezTo>
                <a:cubicBezTo>
                  <a:pt x="6147" y="5082"/>
                  <a:pt x="6223" y="5119"/>
                  <a:pt x="6242" y="5155"/>
                </a:cubicBezTo>
                <a:cubicBezTo>
                  <a:pt x="6280" y="5191"/>
                  <a:pt x="6317" y="5264"/>
                  <a:pt x="6336" y="5373"/>
                </a:cubicBezTo>
                <a:cubicBezTo>
                  <a:pt x="6280" y="5336"/>
                  <a:pt x="6242" y="5300"/>
                  <a:pt x="6204" y="5264"/>
                </a:cubicBezTo>
                <a:cubicBezTo>
                  <a:pt x="6166" y="5264"/>
                  <a:pt x="6147" y="5264"/>
                  <a:pt x="6128" y="5228"/>
                </a:cubicBezTo>
                <a:cubicBezTo>
                  <a:pt x="6128" y="5228"/>
                  <a:pt x="6109" y="5191"/>
                  <a:pt x="6109" y="5191"/>
                </a:cubicBezTo>
                <a:cubicBezTo>
                  <a:pt x="6090" y="5191"/>
                  <a:pt x="6090" y="5191"/>
                  <a:pt x="6071" y="5191"/>
                </a:cubicBezTo>
                <a:cubicBezTo>
                  <a:pt x="6071" y="5191"/>
                  <a:pt x="6053" y="5155"/>
                  <a:pt x="6053" y="5155"/>
                </a:cubicBezTo>
                <a:cubicBezTo>
                  <a:pt x="6053" y="5155"/>
                  <a:pt x="6034" y="5155"/>
                  <a:pt x="6034" y="5155"/>
                </a:cubicBezTo>
                <a:cubicBezTo>
                  <a:pt x="6015" y="5119"/>
                  <a:pt x="5977" y="5119"/>
                  <a:pt x="5977" y="5082"/>
                </a:cubicBezTo>
                <a:cubicBezTo>
                  <a:pt x="5977" y="5046"/>
                  <a:pt x="5996" y="5046"/>
                  <a:pt x="5996" y="5010"/>
                </a:cubicBezTo>
                <a:cubicBezTo>
                  <a:pt x="5996" y="5010"/>
                  <a:pt x="5977" y="5010"/>
                  <a:pt x="5958" y="4973"/>
                </a:cubicBezTo>
                <a:cubicBezTo>
                  <a:pt x="5958" y="4973"/>
                  <a:pt x="5939" y="4973"/>
                  <a:pt x="5939" y="4973"/>
                </a:cubicBezTo>
                <a:cubicBezTo>
                  <a:pt x="5901" y="4937"/>
                  <a:pt x="5882" y="4901"/>
                  <a:pt x="5882" y="4828"/>
                </a:cubicBezTo>
                <a:cubicBezTo>
                  <a:pt x="5844" y="4828"/>
                  <a:pt x="5826" y="4792"/>
                  <a:pt x="5807" y="4792"/>
                </a:cubicBezTo>
                <a:cubicBezTo>
                  <a:pt x="5807" y="4792"/>
                  <a:pt x="5807" y="4792"/>
                  <a:pt x="5807" y="4792"/>
                </a:cubicBezTo>
                <a:cubicBezTo>
                  <a:pt x="5807" y="4828"/>
                  <a:pt x="5807" y="4865"/>
                  <a:pt x="5807" y="4865"/>
                </a:cubicBezTo>
                <a:cubicBezTo>
                  <a:pt x="5807" y="4865"/>
                  <a:pt x="5807" y="4865"/>
                  <a:pt x="5788" y="4865"/>
                </a:cubicBezTo>
                <a:cubicBezTo>
                  <a:pt x="5769" y="4865"/>
                  <a:pt x="5750" y="4865"/>
                  <a:pt x="5731" y="4828"/>
                </a:cubicBezTo>
                <a:cubicBezTo>
                  <a:pt x="5731" y="4865"/>
                  <a:pt x="5712" y="4865"/>
                  <a:pt x="5712" y="4901"/>
                </a:cubicBezTo>
                <a:cubicBezTo>
                  <a:pt x="5655" y="4901"/>
                  <a:pt x="5618" y="4865"/>
                  <a:pt x="5580" y="4865"/>
                </a:cubicBezTo>
                <a:cubicBezTo>
                  <a:pt x="5580" y="4792"/>
                  <a:pt x="5580" y="4756"/>
                  <a:pt x="5618" y="4756"/>
                </a:cubicBezTo>
                <a:cubicBezTo>
                  <a:pt x="5618" y="4719"/>
                  <a:pt x="5618" y="4683"/>
                  <a:pt x="5618" y="4683"/>
                </a:cubicBezTo>
                <a:cubicBezTo>
                  <a:pt x="5636" y="4683"/>
                  <a:pt x="5712" y="4719"/>
                  <a:pt x="5731" y="4719"/>
                </a:cubicBezTo>
                <a:cubicBezTo>
                  <a:pt x="5731" y="4719"/>
                  <a:pt x="5731" y="4756"/>
                  <a:pt x="5750" y="4756"/>
                </a:cubicBezTo>
                <a:cubicBezTo>
                  <a:pt x="5750" y="4756"/>
                  <a:pt x="5750" y="4756"/>
                  <a:pt x="5750" y="4756"/>
                </a:cubicBezTo>
                <a:cubicBezTo>
                  <a:pt x="5750" y="4756"/>
                  <a:pt x="5750" y="4719"/>
                  <a:pt x="5750" y="4719"/>
                </a:cubicBezTo>
                <a:cubicBezTo>
                  <a:pt x="5788" y="4719"/>
                  <a:pt x="5807" y="4683"/>
                  <a:pt x="5826" y="4683"/>
                </a:cubicBezTo>
                <a:cubicBezTo>
                  <a:pt x="5844" y="4683"/>
                  <a:pt x="5844" y="4683"/>
                  <a:pt x="5863" y="4683"/>
                </a:cubicBezTo>
                <a:cubicBezTo>
                  <a:pt x="5863" y="4683"/>
                  <a:pt x="5863" y="4683"/>
                  <a:pt x="5863" y="4683"/>
                </a:cubicBezTo>
                <a:cubicBezTo>
                  <a:pt x="5863" y="4647"/>
                  <a:pt x="5863" y="4647"/>
                  <a:pt x="5863" y="4647"/>
                </a:cubicBezTo>
                <a:cubicBezTo>
                  <a:pt x="5863" y="4647"/>
                  <a:pt x="5807" y="4538"/>
                  <a:pt x="5807" y="4538"/>
                </a:cubicBezTo>
                <a:cubicBezTo>
                  <a:pt x="5826" y="4502"/>
                  <a:pt x="5882" y="4465"/>
                  <a:pt x="5882" y="4429"/>
                </a:cubicBezTo>
                <a:cubicBezTo>
                  <a:pt x="5901" y="4429"/>
                  <a:pt x="5901" y="4393"/>
                  <a:pt x="5901" y="4393"/>
                </a:cubicBezTo>
                <a:cubicBezTo>
                  <a:pt x="5920" y="4356"/>
                  <a:pt x="5920" y="4320"/>
                  <a:pt x="5939" y="4320"/>
                </a:cubicBezTo>
                <a:cubicBezTo>
                  <a:pt x="5939" y="4247"/>
                  <a:pt x="5901" y="4138"/>
                  <a:pt x="5882" y="4102"/>
                </a:cubicBezTo>
                <a:cubicBezTo>
                  <a:pt x="5844" y="4066"/>
                  <a:pt x="5826" y="4066"/>
                  <a:pt x="5807" y="4030"/>
                </a:cubicBezTo>
                <a:cubicBezTo>
                  <a:pt x="5807" y="4030"/>
                  <a:pt x="5788" y="3957"/>
                  <a:pt x="5788" y="3957"/>
                </a:cubicBezTo>
                <a:cubicBezTo>
                  <a:pt x="5769" y="3957"/>
                  <a:pt x="5769" y="3993"/>
                  <a:pt x="5750" y="3993"/>
                </a:cubicBezTo>
                <a:cubicBezTo>
                  <a:pt x="5750" y="3993"/>
                  <a:pt x="5750" y="3993"/>
                  <a:pt x="5731" y="3993"/>
                </a:cubicBezTo>
                <a:cubicBezTo>
                  <a:pt x="5712" y="3993"/>
                  <a:pt x="5693" y="3993"/>
                  <a:pt x="5674" y="4030"/>
                </a:cubicBezTo>
                <a:cubicBezTo>
                  <a:pt x="5674" y="4030"/>
                  <a:pt x="5674" y="4030"/>
                  <a:pt x="5674" y="4030"/>
                </a:cubicBezTo>
                <a:cubicBezTo>
                  <a:pt x="5674" y="3993"/>
                  <a:pt x="5674" y="3957"/>
                  <a:pt x="5674" y="3957"/>
                </a:cubicBezTo>
                <a:cubicBezTo>
                  <a:pt x="5693" y="3957"/>
                  <a:pt x="5712" y="3957"/>
                  <a:pt x="5731" y="3921"/>
                </a:cubicBezTo>
                <a:cubicBezTo>
                  <a:pt x="5731" y="3921"/>
                  <a:pt x="5731" y="3921"/>
                  <a:pt x="5731" y="3921"/>
                </a:cubicBezTo>
                <a:cubicBezTo>
                  <a:pt x="5712" y="3884"/>
                  <a:pt x="5674" y="3848"/>
                  <a:pt x="5655" y="3812"/>
                </a:cubicBezTo>
                <a:cubicBezTo>
                  <a:pt x="5636" y="3812"/>
                  <a:pt x="5636" y="3775"/>
                  <a:pt x="5618" y="3775"/>
                </a:cubicBezTo>
                <a:cubicBezTo>
                  <a:pt x="5618" y="3775"/>
                  <a:pt x="5618" y="3775"/>
                  <a:pt x="5599" y="3775"/>
                </a:cubicBezTo>
                <a:cubicBezTo>
                  <a:pt x="5599" y="3703"/>
                  <a:pt x="5580" y="3703"/>
                  <a:pt x="5542" y="3667"/>
                </a:cubicBezTo>
                <a:cubicBezTo>
                  <a:pt x="5542" y="3630"/>
                  <a:pt x="5523" y="3630"/>
                  <a:pt x="5523" y="3594"/>
                </a:cubicBezTo>
                <a:cubicBezTo>
                  <a:pt x="5504" y="3630"/>
                  <a:pt x="5504" y="3630"/>
                  <a:pt x="5504" y="3630"/>
                </a:cubicBezTo>
                <a:cubicBezTo>
                  <a:pt x="5485" y="3630"/>
                  <a:pt x="5447" y="3558"/>
                  <a:pt x="5428" y="3594"/>
                </a:cubicBezTo>
                <a:cubicBezTo>
                  <a:pt x="5428" y="3594"/>
                  <a:pt x="5428" y="3594"/>
                  <a:pt x="5428" y="3594"/>
                </a:cubicBezTo>
                <a:cubicBezTo>
                  <a:pt x="5428" y="3594"/>
                  <a:pt x="5428" y="3594"/>
                  <a:pt x="5428" y="3594"/>
                </a:cubicBezTo>
                <a:cubicBezTo>
                  <a:pt x="5447" y="3667"/>
                  <a:pt x="5523" y="3630"/>
                  <a:pt x="5542" y="3703"/>
                </a:cubicBezTo>
                <a:cubicBezTo>
                  <a:pt x="5542" y="3739"/>
                  <a:pt x="5542" y="3739"/>
                  <a:pt x="5542" y="3739"/>
                </a:cubicBezTo>
                <a:cubicBezTo>
                  <a:pt x="5523" y="3775"/>
                  <a:pt x="5523" y="3775"/>
                  <a:pt x="5504" y="3775"/>
                </a:cubicBezTo>
                <a:cubicBezTo>
                  <a:pt x="5466" y="3775"/>
                  <a:pt x="5428" y="3703"/>
                  <a:pt x="5391" y="3739"/>
                </a:cubicBezTo>
                <a:cubicBezTo>
                  <a:pt x="5391" y="3739"/>
                  <a:pt x="5391" y="3739"/>
                  <a:pt x="5391" y="3739"/>
                </a:cubicBezTo>
                <a:cubicBezTo>
                  <a:pt x="5391" y="3775"/>
                  <a:pt x="5409" y="3775"/>
                  <a:pt x="5409" y="3812"/>
                </a:cubicBezTo>
                <a:cubicBezTo>
                  <a:pt x="5391" y="3812"/>
                  <a:pt x="5372" y="3739"/>
                  <a:pt x="5353" y="3739"/>
                </a:cubicBezTo>
                <a:cubicBezTo>
                  <a:pt x="5334" y="3775"/>
                  <a:pt x="5334" y="3775"/>
                  <a:pt x="5315" y="3775"/>
                </a:cubicBezTo>
                <a:cubicBezTo>
                  <a:pt x="5315" y="3775"/>
                  <a:pt x="5296" y="3739"/>
                  <a:pt x="5277" y="3739"/>
                </a:cubicBezTo>
                <a:cubicBezTo>
                  <a:pt x="5277" y="3739"/>
                  <a:pt x="5258" y="3739"/>
                  <a:pt x="5258" y="3775"/>
                </a:cubicBezTo>
                <a:cubicBezTo>
                  <a:pt x="5220" y="3739"/>
                  <a:pt x="5201" y="3739"/>
                  <a:pt x="5164" y="3739"/>
                </a:cubicBezTo>
                <a:cubicBezTo>
                  <a:pt x="5145" y="3739"/>
                  <a:pt x="5126" y="3739"/>
                  <a:pt x="5088" y="3739"/>
                </a:cubicBezTo>
                <a:cubicBezTo>
                  <a:pt x="5088" y="3739"/>
                  <a:pt x="5069" y="3703"/>
                  <a:pt x="5069" y="3703"/>
                </a:cubicBezTo>
                <a:cubicBezTo>
                  <a:pt x="5069" y="3703"/>
                  <a:pt x="5069" y="3667"/>
                  <a:pt x="5069" y="3630"/>
                </a:cubicBezTo>
                <a:cubicBezTo>
                  <a:pt x="5050" y="3630"/>
                  <a:pt x="5050" y="3630"/>
                  <a:pt x="5031" y="3630"/>
                </a:cubicBezTo>
                <a:cubicBezTo>
                  <a:pt x="5031" y="3630"/>
                  <a:pt x="5031" y="3667"/>
                  <a:pt x="5031" y="3667"/>
                </a:cubicBezTo>
                <a:cubicBezTo>
                  <a:pt x="4974" y="3667"/>
                  <a:pt x="4880" y="3630"/>
                  <a:pt x="4899" y="3558"/>
                </a:cubicBezTo>
                <a:cubicBezTo>
                  <a:pt x="4918" y="3558"/>
                  <a:pt x="5012" y="3558"/>
                  <a:pt x="5012" y="3521"/>
                </a:cubicBezTo>
                <a:cubicBezTo>
                  <a:pt x="4974" y="3412"/>
                  <a:pt x="4918" y="3449"/>
                  <a:pt x="4842" y="3412"/>
                </a:cubicBezTo>
                <a:cubicBezTo>
                  <a:pt x="4842" y="3340"/>
                  <a:pt x="4842" y="3340"/>
                  <a:pt x="4880" y="3304"/>
                </a:cubicBezTo>
                <a:cubicBezTo>
                  <a:pt x="4880" y="3304"/>
                  <a:pt x="4880" y="3267"/>
                  <a:pt x="4880" y="3267"/>
                </a:cubicBezTo>
                <a:cubicBezTo>
                  <a:pt x="4880" y="3267"/>
                  <a:pt x="4861" y="3267"/>
                  <a:pt x="4861" y="3231"/>
                </a:cubicBezTo>
                <a:cubicBezTo>
                  <a:pt x="4842" y="3049"/>
                  <a:pt x="5031" y="2832"/>
                  <a:pt x="5145" y="2904"/>
                </a:cubicBezTo>
                <a:cubicBezTo>
                  <a:pt x="5126" y="2904"/>
                  <a:pt x="5126" y="2941"/>
                  <a:pt x="5126" y="2941"/>
                </a:cubicBezTo>
                <a:cubicBezTo>
                  <a:pt x="5107" y="2941"/>
                  <a:pt x="5050" y="3086"/>
                  <a:pt x="5031" y="3122"/>
                </a:cubicBezTo>
                <a:cubicBezTo>
                  <a:pt x="5031" y="3122"/>
                  <a:pt x="5050" y="3158"/>
                  <a:pt x="5050" y="3158"/>
                </a:cubicBezTo>
                <a:cubicBezTo>
                  <a:pt x="5050" y="3195"/>
                  <a:pt x="5069" y="3195"/>
                  <a:pt x="5069" y="3231"/>
                </a:cubicBezTo>
                <a:cubicBezTo>
                  <a:pt x="5031" y="3340"/>
                  <a:pt x="5107" y="3376"/>
                  <a:pt x="5145" y="3449"/>
                </a:cubicBezTo>
                <a:cubicBezTo>
                  <a:pt x="5145" y="3449"/>
                  <a:pt x="5126" y="3449"/>
                  <a:pt x="5126" y="3449"/>
                </a:cubicBezTo>
                <a:cubicBezTo>
                  <a:pt x="5126" y="3449"/>
                  <a:pt x="5107" y="3485"/>
                  <a:pt x="5107" y="3485"/>
                </a:cubicBezTo>
                <a:cubicBezTo>
                  <a:pt x="5107" y="3485"/>
                  <a:pt x="5107" y="3485"/>
                  <a:pt x="5107" y="3521"/>
                </a:cubicBezTo>
                <a:cubicBezTo>
                  <a:pt x="5126" y="3521"/>
                  <a:pt x="5145" y="3521"/>
                  <a:pt x="5164" y="3521"/>
                </a:cubicBezTo>
                <a:cubicBezTo>
                  <a:pt x="5182" y="3485"/>
                  <a:pt x="5182" y="3449"/>
                  <a:pt x="5182" y="3412"/>
                </a:cubicBezTo>
                <a:cubicBezTo>
                  <a:pt x="5182" y="3376"/>
                  <a:pt x="5164" y="3376"/>
                  <a:pt x="5145" y="3376"/>
                </a:cubicBezTo>
                <a:cubicBezTo>
                  <a:pt x="5126" y="3340"/>
                  <a:pt x="5126" y="3340"/>
                  <a:pt x="5126" y="3304"/>
                </a:cubicBezTo>
                <a:cubicBezTo>
                  <a:pt x="5126" y="3304"/>
                  <a:pt x="5126" y="3267"/>
                  <a:pt x="5145" y="3267"/>
                </a:cubicBezTo>
                <a:cubicBezTo>
                  <a:pt x="5164" y="3267"/>
                  <a:pt x="5182" y="3267"/>
                  <a:pt x="5201" y="3267"/>
                </a:cubicBezTo>
                <a:cubicBezTo>
                  <a:pt x="5201" y="3267"/>
                  <a:pt x="5201" y="3267"/>
                  <a:pt x="5201" y="3267"/>
                </a:cubicBezTo>
                <a:cubicBezTo>
                  <a:pt x="5182" y="3231"/>
                  <a:pt x="5182" y="3231"/>
                  <a:pt x="5164" y="3231"/>
                </a:cubicBezTo>
                <a:cubicBezTo>
                  <a:pt x="5164" y="3231"/>
                  <a:pt x="5145" y="3231"/>
                  <a:pt x="5145" y="3231"/>
                </a:cubicBezTo>
                <a:cubicBezTo>
                  <a:pt x="5145" y="3195"/>
                  <a:pt x="5126" y="3195"/>
                  <a:pt x="5126" y="3195"/>
                </a:cubicBezTo>
                <a:cubicBezTo>
                  <a:pt x="5126" y="3158"/>
                  <a:pt x="5126" y="3122"/>
                  <a:pt x="5126" y="3086"/>
                </a:cubicBezTo>
                <a:cubicBezTo>
                  <a:pt x="5126" y="3086"/>
                  <a:pt x="5145" y="3086"/>
                  <a:pt x="5145" y="3086"/>
                </a:cubicBezTo>
                <a:cubicBezTo>
                  <a:pt x="5164" y="3086"/>
                  <a:pt x="5201" y="3086"/>
                  <a:pt x="5220" y="3086"/>
                </a:cubicBezTo>
                <a:cubicBezTo>
                  <a:pt x="5220" y="3086"/>
                  <a:pt x="5220" y="3086"/>
                  <a:pt x="5220" y="3086"/>
                </a:cubicBezTo>
                <a:cubicBezTo>
                  <a:pt x="5201" y="3049"/>
                  <a:pt x="5182" y="3049"/>
                  <a:pt x="5164" y="3013"/>
                </a:cubicBezTo>
                <a:cubicBezTo>
                  <a:pt x="5164" y="3013"/>
                  <a:pt x="5164" y="3013"/>
                  <a:pt x="5164" y="3013"/>
                </a:cubicBezTo>
                <a:cubicBezTo>
                  <a:pt x="5201" y="2977"/>
                  <a:pt x="5315" y="2868"/>
                  <a:pt x="5372" y="2941"/>
                </a:cubicBezTo>
                <a:cubicBezTo>
                  <a:pt x="5372" y="2977"/>
                  <a:pt x="5391" y="2977"/>
                  <a:pt x="5409" y="3013"/>
                </a:cubicBezTo>
                <a:cubicBezTo>
                  <a:pt x="5409" y="3049"/>
                  <a:pt x="5428" y="3049"/>
                  <a:pt x="5428" y="3086"/>
                </a:cubicBezTo>
                <a:cubicBezTo>
                  <a:pt x="5428" y="3122"/>
                  <a:pt x="5409" y="3195"/>
                  <a:pt x="5391" y="3231"/>
                </a:cubicBezTo>
                <a:cubicBezTo>
                  <a:pt x="5391" y="3267"/>
                  <a:pt x="5391" y="3267"/>
                  <a:pt x="5391" y="3304"/>
                </a:cubicBezTo>
                <a:cubicBezTo>
                  <a:pt x="5428" y="3340"/>
                  <a:pt x="5466" y="3304"/>
                  <a:pt x="5466" y="3231"/>
                </a:cubicBezTo>
                <a:cubicBezTo>
                  <a:pt x="5485" y="3231"/>
                  <a:pt x="5504" y="3231"/>
                  <a:pt x="5523" y="3267"/>
                </a:cubicBezTo>
                <a:cubicBezTo>
                  <a:pt x="5523" y="3267"/>
                  <a:pt x="5523" y="3304"/>
                  <a:pt x="5523" y="3340"/>
                </a:cubicBezTo>
                <a:cubicBezTo>
                  <a:pt x="5523" y="3340"/>
                  <a:pt x="5542" y="3340"/>
                  <a:pt x="5542" y="3340"/>
                </a:cubicBezTo>
                <a:cubicBezTo>
                  <a:pt x="5542" y="3340"/>
                  <a:pt x="5542" y="3340"/>
                  <a:pt x="5542" y="3340"/>
                </a:cubicBezTo>
                <a:cubicBezTo>
                  <a:pt x="5542" y="3304"/>
                  <a:pt x="5542" y="3267"/>
                  <a:pt x="5542" y="3231"/>
                </a:cubicBezTo>
                <a:cubicBezTo>
                  <a:pt x="5580" y="3086"/>
                  <a:pt x="5636" y="3158"/>
                  <a:pt x="5693" y="3195"/>
                </a:cubicBezTo>
                <a:cubicBezTo>
                  <a:pt x="5712" y="3195"/>
                  <a:pt x="5731" y="3158"/>
                  <a:pt x="5750" y="3195"/>
                </a:cubicBezTo>
                <a:cubicBezTo>
                  <a:pt x="5769" y="3195"/>
                  <a:pt x="5769" y="3231"/>
                  <a:pt x="5769" y="3267"/>
                </a:cubicBezTo>
                <a:cubicBezTo>
                  <a:pt x="5788" y="3267"/>
                  <a:pt x="5807" y="3304"/>
                  <a:pt x="5807" y="3304"/>
                </a:cubicBezTo>
                <a:cubicBezTo>
                  <a:pt x="5807" y="3304"/>
                  <a:pt x="5807" y="3340"/>
                  <a:pt x="5807" y="3340"/>
                </a:cubicBezTo>
                <a:cubicBezTo>
                  <a:pt x="5788" y="3340"/>
                  <a:pt x="5769" y="3376"/>
                  <a:pt x="5750" y="3412"/>
                </a:cubicBezTo>
                <a:cubicBezTo>
                  <a:pt x="5769" y="3412"/>
                  <a:pt x="5769" y="3412"/>
                  <a:pt x="5769" y="3449"/>
                </a:cubicBezTo>
                <a:cubicBezTo>
                  <a:pt x="5769" y="3449"/>
                  <a:pt x="5769" y="3449"/>
                  <a:pt x="5788" y="3449"/>
                </a:cubicBezTo>
                <a:cubicBezTo>
                  <a:pt x="5788" y="3412"/>
                  <a:pt x="5807" y="3376"/>
                  <a:pt x="5844" y="3376"/>
                </a:cubicBezTo>
                <a:cubicBezTo>
                  <a:pt x="5844" y="3412"/>
                  <a:pt x="5863" y="3449"/>
                  <a:pt x="5882" y="3485"/>
                </a:cubicBezTo>
                <a:cubicBezTo>
                  <a:pt x="5882" y="3485"/>
                  <a:pt x="5882" y="3485"/>
                  <a:pt x="5882" y="3485"/>
                </a:cubicBezTo>
                <a:cubicBezTo>
                  <a:pt x="5882" y="3449"/>
                  <a:pt x="5901" y="3412"/>
                  <a:pt x="5920" y="3412"/>
                </a:cubicBezTo>
                <a:cubicBezTo>
                  <a:pt x="5958" y="3412"/>
                  <a:pt x="5977" y="3412"/>
                  <a:pt x="5996" y="3449"/>
                </a:cubicBezTo>
                <a:cubicBezTo>
                  <a:pt x="5996" y="3449"/>
                  <a:pt x="5996" y="3449"/>
                  <a:pt x="5996" y="3449"/>
                </a:cubicBezTo>
                <a:cubicBezTo>
                  <a:pt x="5996" y="3485"/>
                  <a:pt x="5977" y="3521"/>
                  <a:pt x="5958" y="3558"/>
                </a:cubicBezTo>
                <a:cubicBezTo>
                  <a:pt x="5996" y="3558"/>
                  <a:pt x="6015" y="3521"/>
                  <a:pt x="6034" y="3521"/>
                </a:cubicBezTo>
                <a:cubicBezTo>
                  <a:pt x="6034" y="3558"/>
                  <a:pt x="6034" y="3558"/>
                  <a:pt x="6034" y="3594"/>
                </a:cubicBezTo>
                <a:cubicBezTo>
                  <a:pt x="6053" y="3594"/>
                  <a:pt x="6053" y="3594"/>
                  <a:pt x="6053" y="3630"/>
                </a:cubicBezTo>
                <a:cubicBezTo>
                  <a:pt x="6109" y="3594"/>
                  <a:pt x="6128" y="3558"/>
                  <a:pt x="6166" y="3630"/>
                </a:cubicBezTo>
                <a:cubicBezTo>
                  <a:pt x="6166" y="3703"/>
                  <a:pt x="6128" y="3667"/>
                  <a:pt x="6109" y="3703"/>
                </a:cubicBezTo>
                <a:cubicBezTo>
                  <a:pt x="6109" y="3703"/>
                  <a:pt x="6090" y="3739"/>
                  <a:pt x="6090" y="3739"/>
                </a:cubicBezTo>
                <a:cubicBezTo>
                  <a:pt x="6109" y="3739"/>
                  <a:pt x="6109" y="3739"/>
                  <a:pt x="6109" y="3739"/>
                </a:cubicBezTo>
                <a:cubicBezTo>
                  <a:pt x="6128" y="3739"/>
                  <a:pt x="6128" y="3739"/>
                  <a:pt x="6147" y="3739"/>
                </a:cubicBezTo>
                <a:cubicBezTo>
                  <a:pt x="6166" y="3739"/>
                  <a:pt x="6166" y="3739"/>
                  <a:pt x="6185" y="3739"/>
                </a:cubicBezTo>
                <a:cubicBezTo>
                  <a:pt x="6185" y="3703"/>
                  <a:pt x="6185" y="3703"/>
                  <a:pt x="6204" y="3703"/>
                </a:cubicBezTo>
                <a:cubicBezTo>
                  <a:pt x="6223" y="3703"/>
                  <a:pt x="6261" y="3739"/>
                  <a:pt x="6261" y="3775"/>
                </a:cubicBezTo>
                <a:cubicBezTo>
                  <a:pt x="6242" y="3775"/>
                  <a:pt x="6204" y="3812"/>
                  <a:pt x="6185" y="3812"/>
                </a:cubicBezTo>
                <a:cubicBezTo>
                  <a:pt x="6185" y="3812"/>
                  <a:pt x="6185" y="3812"/>
                  <a:pt x="6185" y="3812"/>
                </a:cubicBezTo>
                <a:cubicBezTo>
                  <a:pt x="6204" y="3848"/>
                  <a:pt x="6242" y="3848"/>
                  <a:pt x="6261" y="3884"/>
                </a:cubicBezTo>
                <a:cubicBezTo>
                  <a:pt x="6280" y="3884"/>
                  <a:pt x="6280" y="3884"/>
                  <a:pt x="6280" y="3921"/>
                </a:cubicBezTo>
                <a:cubicBezTo>
                  <a:pt x="6280" y="3921"/>
                  <a:pt x="6280" y="3921"/>
                  <a:pt x="6280" y="3921"/>
                </a:cubicBezTo>
                <a:cubicBezTo>
                  <a:pt x="6261" y="3921"/>
                  <a:pt x="6242" y="3921"/>
                  <a:pt x="6223" y="3921"/>
                </a:cubicBezTo>
                <a:cubicBezTo>
                  <a:pt x="6223" y="3921"/>
                  <a:pt x="6204" y="3884"/>
                  <a:pt x="6185" y="3884"/>
                </a:cubicBezTo>
                <a:cubicBezTo>
                  <a:pt x="6166" y="3884"/>
                  <a:pt x="6166" y="3884"/>
                  <a:pt x="6166" y="3921"/>
                </a:cubicBezTo>
                <a:cubicBezTo>
                  <a:pt x="6166" y="3921"/>
                  <a:pt x="6166" y="3921"/>
                  <a:pt x="6166" y="3921"/>
                </a:cubicBezTo>
                <a:cubicBezTo>
                  <a:pt x="6185" y="3921"/>
                  <a:pt x="6185" y="3957"/>
                  <a:pt x="6204" y="3957"/>
                </a:cubicBezTo>
                <a:cubicBezTo>
                  <a:pt x="6204" y="3957"/>
                  <a:pt x="6204" y="3957"/>
                  <a:pt x="6204" y="3993"/>
                </a:cubicBezTo>
                <a:cubicBezTo>
                  <a:pt x="6185" y="3993"/>
                  <a:pt x="6166" y="3993"/>
                  <a:pt x="6147" y="3993"/>
                </a:cubicBezTo>
                <a:cubicBezTo>
                  <a:pt x="6166" y="4066"/>
                  <a:pt x="6223" y="4066"/>
                  <a:pt x="6261" y="4102"/>
                </a:cubicBezTo>
                <a:cubicBezTo>
                  <a:pt x="6261" y="4102"/>
                  <a:pt x="6280" y="4175"/>
                  <a:pt x="6280" y="4175"/>
                </a:cubicBezTo>
                <a:cubicBezTo>
                  <a:pt x="6317" y="4138"/>
                  <a:pt x="6317" y="4175"/>
                  <a:pt x="6355" y="4175"/>
                </a:cubicBezTo>
                <a:cubicBezTo>
                  <a:pt x="6374" y="4211"/>
                  <a:pt x="6374" y="4175"/>
                  <a:pt x="6393" y="4175"/>
                </a:cubicBezTo>
                <a:cubicBezTo>
                  <a:pt x="6412" y="4175"/>
                  <a:pt x="6450" y="4247"/>
                  <a:pt x="6450" y="4284"/>
                </a:cubicBezTo>
                <a:cubicBezTo>
                  <a:pt x="6450" y="4284"/>
                  <a:pt x="6450" y="4284"/>
                  <a:pt x="6450" y="4284"/>
                </a:cubicBezTo>
                <a:cubicBezTo>
                  <a:pt x="6431" y="4284"/>
                  <a:pt x="6431" y="4284"/>
                  <a:pt x="6412" y="4320"/>
                </a:cubicBezTo>
                <a:cubicBezTo>
                  <a:pt x="6412" y="4320"/>
                  <a:pt x="6412" y="4320"/>
                  <a:pt x="6412" y="4356"/>
                </a:cubicBezTo>
                <a:cubicBezTo>
                  <a:pt x="6450" y="4356"/>
                  <a:pt x="6488" y="4320"/>
                  <a:pt x="6506" y="4320"/>
                </a:cubicBezTo>
                <a:cubicBezTo>
                  <a:pt x="6506" y="4356"/>
                  <a:pt x="6506" y="4356"/>
                  <a:pt x="6506" y="4393"/>
                </a:cubicBezTo>
                <a:cubicBezTo>
                  <a:pt x="6525" y="4393"/>
                  <a:pt x="6544" y="4393"/>
                  <a:pt x="6563" y="4356"/>
                </a:cubicBezTo>
                <a:close/>
                <a:moveTo>
                  <a:pt x="6696" y="2432"/>
                </a:moveTo>
                <a:cubicBezTo>
                  <a:pt x="6715" y="2432"/>
                  <a:pt x="6715" y="2432"/>
                  <a:pt x="6715" y="2396"/>
                </a:cubicBezTo>
                <a:cubicBezTo>
                  <a:pt x="6715" y="2396"/>
                  <a:pt x="6715" y="2396"/>
                  <a:pt x="6715" y="2396"/>
                </a:cubicBezTo>
                <a:cubicBezTo>
                  <a:pt x="6733" y="2432"/>
                  <a:pt x="6733" y="2432"/>
                  <a:pt x="6733" y="2469"/>
                </a:cubicBezTo>
                <a:cubicBezTo>
                  <a:pt x="6715" y="2469"/>
                  <a:pt x="6715" y="2469"/>
                  <a:pt x="6696" y="2432"/>
                </a:cubicBezTo>
                <a:close/>
                <a:moveTo>
                  <a:pt x="6790" y="3158"/>
                </a:moveTo>
                <a:cubicBezTo>
                  <a:pt x="6809" y="3122"/>
                  <a:pt x="6809" y="3122"/>
                  <a:pt x="6828" y="3122"/>
                </a:cubicBezTo>
                <a:cubicBezTo>
                  <a:pt x="6866" y="3086"/>
                  <a:pt x="6885" y="3122"/>
                  <a:pt x="6904" y="3158"/>
                </a:cubicBezTo>
                <a:cubicBezTo>
                  <a:pt x="6923" y="3158"/>
                  <a:pt x="6923" y="3195"/>
                  <a:pt x="6942" y="3195"/>
                </a:cubicBezTo>
                <a:cubicBezTo>
                  <a:pt x="6960" y="3195"/>
                  <a:pt x="6998" y="3231"/>
                  <a:pt x="6979" y="3267"/>
                </a:cubicBezTo>
                <a:cubicBezTo>
                  <a:pt x="6979" y="3267"/>
                  <a:pt x="6960" y="3304"/>
                  <a:pt x="6942" y="3304"/>
                </a:cubicBezTo>
                <a:cubicBezTo>
                  <a:pt x="6923" y="3304"/>
                  <a:pt x="6904" y="3304"/>
                  <a:pt x="6904" y="3340"/>
                </a:cubicBezTo>
                <a:cubicBezTo>
                  <a:pt x="6885" y="3340"/>
                  <a:pt x="6885" y="3340"/>
                  <a:pt x="6866" y="3340"/>
                </a:cubicBezTo>
                <a:cubicBezTo>
                  <a:pt x="6866" y="3340"/>
                  <a:pt x="6828" y="3304"/>
                  <a:pt x="6828" y="3304"/>
                </a:cubicBezTo>
                <a:cubicBezTo>
                  <a:pt x="6828" y="3304"/>
                  <a:pt x="6847" y="3304"/>
                  <a:pt x="6847" y="3267"/>
                </a:cubicBezTo>
                <a:cubicBezTo>
                  <a:pt x="6866" y="3304"/>
                  <a:pt x="6866" y="3304"/>
                  <a:pt x="6866" y="3267"/>
                </a:cubicBezTo>
                <a:cubicBezTo>
                  <a:pt x="6866" y="3267"/>
                  <a:pt x="6866" y="3267"/>
                  <a:pt x="6866" y="3267"/>
                </a:cubicBezTo>
                <a:cubicBezTo>
                  <a:pt x="6866" y="3267"/>
                  <a:pt x="6866" y="3267"/>
                  <a:pt x="6847" y="3267"/>
                </a:cubicBezTo>
                <a:cubicBezTo>
                  <a:pt x="6847" y="3267"/>
                  <a:pt x="6847" y="3267"/>
                  <a:pt x="6847" y="3267"/>
                </a:cubicBezTo>
                <a:cubicBezTo>
                  <a:pt x="6847" y="3267"/>
                  <a:pt x="6847" y="3267"/>
                  <a:pt x="6847" y="3267"/>
                </a:cubicBezTo>
                <a:cubicBezTo>
                  <a:pt x="6847" y="3267"/>
                  <a:pt x="6847" y="3267"/>
                  <a:pt x="6828" y="3267"/>
                </a:cubicBezTo>
                <a:cubicBezTo>
                  <a:pt x="6828" y="3267"/>
                  <a:pt x="6828" y="3267"/>
                  <a:pt x="6809" y="3267"/>
                </a:cubicBezTo>
                <a:cubicBezTo>
                  <a:pt x="6809" y="3267"/>
                  <a:pt x="6790" y="3267"/>
                  <a:pt x="6790" y="3267"/>
                </a:cubicBezTo>
                <a:cubicBezTo>
                  <a:pt x="6790" y="3267"/>
                  <a:pt x="6790" y="3267"/>
                  <a:pt x="6790" y="3231"/>
                </a:cubicBezTo>
                <a:cubicBezTo>
                  <a:pt x="6790" y="3231"/>
                  <a:pt x="6809" y="3231"/>
                  <a:pt x="6828" y="3231"/>
                </a:cubicBezTo>
                <a:cubicBezTo>
                  <a:pt x="6809" y="3231"/>
                  <a:pt x="6809" y="3231"/>
                  <a:pt x="6790" y="3195"/>
                </a:cubicBezTo>
                <a:cubicBezTo>
                  <a:pt x="6790" y="3195"/>
                  <a:pt x="6790" y="3195"/>
                  <a:pt x="6809" y="3195"/>
                </a:cubicBezTo>
                <a:cubicBezTo>
                  <a:pt x="6809" y="3195"/>
                  <a:pt x="6809" y="3195"/>
                  <a:pt x="6809" y="3195"/>
                </a:cubicBezTo>
                <a:cubicBezTo>
                  <a:pt x="6809" y="3158"/>
                  <a:pt x="6809" y="3158"/>
                  <a:pt x="6790" y="3158"/>
                </a:cubicBezTo>
                <a:close/>
                <a:moveTo>
                  <a:pt x="5674" y="11653"/>
                </a:moveTo>
                <a:cubicBezTo>
                  <a:pt x="5674" y="11653"/>
                  <a:pt x="5674" y="11653"/>
                  <a:pt x="5674" y="11653"/>
                </a:cubicBezTo>
                <a:cubicBezTo>
                  <a:pt x="5655" y="11653"/>
                  <a:pt x="5655" y="11653"/>
                  <a:pt x="5655" y="11653"/>
                </a:cubicBezTo>
                <a:cubicBezTo>
                  <a:pt x="5636" y="11617"/>
                  <a:pt x="5636" y="11653"/>
                  <a:pt x="5618" y="11653"/>
                </a:cubicBezTo>
                <a:cubicBezTo>
                  <a:pt x="5599" y="11653"/>
                  <a:pt x="5561" y="11617"/>
                  <a:pt x="5561" y="11617"/>
                </a:cubicBezTo>
                <a:cubicBezTo>
                  <a:pt x="5561" y="11581"/>
                  <a:pt x="5561" y="11581"/>
                  <a:pt x="5561" y="11581"/>
                </a:cubicBezTo>
                <a:cubicBezTo>
                  <a:pt x="5599" y="11581"/>
                  <a:pt x="5655" y="11581"/>
                  <a:pt x="5674" y="11653"/>
                </a:cubicBezTo>
                <a:close/>
                <a:moveTo>
                  <a:pt x="5712" y="9293"/>
                </a:moveTo>
                <a:cubicBezTo>
                  <a:pt x="5712" y="9293"/>
                  <a:pt x="5712" y="9293"/>
                  <a:pt x="5731" y="9293"/>
                </a:cubicBezTo>
                <a:cubicBezTo>
                  <a:pt x="5712" y="9293"/>
                  <a:pt x="5712" y="9293"/>
                  <a:pt x="5712" y="9293"/>
                </a:cubicBezTo>
                <a:cubicBezTo>
                  <a:pt x="5712" y="9293"/>
                  <a:pt x="5712" y="9293"/>
                  <a:pt x="5712" y="9293"/>
                </a:cubicBezTo>
                <a:close/>
                <a:moveTo>
                  <a:pt x="5712" y="9257"/>
                </a:moveTo>
                <a:cubicBezTo>
                  <a:pt x="5712" y="9257"/>
                  <a:pt x="5712" y="9293"/>
                  <a:pt x="5712" y="9293"/>
                </a:cubicBezTo>
                <a:cubicBezTo>
                  <a:pt x="5712" y="9293"/>
                  <a:pt x="5712" y="9293"/>
                  <a:pt x="5712" y="9293"/>
                </a:cubicBezTo>
                <a:cubicBezTo>
                  <a:pt x="5712" y="9293"/>
                  <a:pt x="5712" y="9257"/>
                  <a:pt x="5712" y="9257"/>
                </a:cubicBezTo>
                <a:close/>
                <a:moveTo>
                  <a:pt x="5731" y="9366"/>
                </a:moveTo>
                <a:cubicBezTo>
                  <a:pt x="5731" y="9366"/>
                  <a:pt x="5731" y="9366"/>
                  <a:pt x="5731" y="9366"/>
                </a:cubicBezTo>
                <a:cubicBezTo>
                  <a:pt x="5731" y="9330"/>
                  <a:pt x="5731" y="9330"/>
                  <a:pt x="5731" y="9293"/>
                </a:cubicBezTo>
                <a:cubicBezTo>
                  <a:pt x="5731" y="9330"/>
                  <a:pt x="5731" y="9330"/>
                  <a:pt x="5731" y="9366"/>
                </a:cubicBezTo>
                <a:close/>
                <a:moveTo>
                  <a:pt x="5807" y="11363"/>
                </a:moveTo>
                <a:cubicBezTo>
                  <a:pt x="5807" y="11363"/>
                  <a:pt x="5807" y="11363"/>
                  <a:pt x="5807" y="11363"/>
                </a:cubicBezTo>
                <a:cubicBezTo>
                  <a:pt x="5788" y="11399"/>
                  <a:pt x="5769" y="11399"/>
                  <a:pt x="5731" y="11399"/>
                </a:cubicBezTo>
                <a:cubicBezTo>
                  <a:pt x="5712" y="11399"/>
                  <a:pt x="5693" y="11399"/>
                  <a:pt x="5674" y="11399"/>
                </a:cubicBezTo>
                <a:cubicBezTo>
                  <a:pt x="5655" y="11399"/>
                  <a:pt x="5618" y="11399"/>
                  <a:pt x="5599" y="11399"/>
                </a:cubicBezTo>
                <a:cubicBezTo>
                  <a:pt x="5599" y="11399"/>
                  <a:pt x="5599" y="11399"/>
                  <a:pt x="5599" y="11399"/>
                </a:cubicBezTo>
                <a:cubicBezTo>
                  <a:pt x="5599" y="11399"/>
                  <a:pt x="5599" y="11399"/>
                  <a:pt x="5599" y="11363"/>
                </a:cubicBezTo>
                <a:cubicBezTo>
                  <a:pt x="5618" y="11363"/>
                  <a:pt x="5618" y="11363"/>
                  <a:pt x="5618" y="11326"/>
                </a:cubicBezTo>
                <a:cubicBezTo>
                  <a:pt x="5599" y="11290"/>
                  <a:pt x="5561" y="11290"/>
                  <a:pt x="5542" y="11290"/>
                </a:cubicBezTo>
                <a:cubicBezTo>
                  <a:pt x="5542" y="11254"/>
                  <a:pt x="5542" y="11217"/>
                  <a:pt x="5523" y="11217"/>
                </a:cubicBezTo>
                <a:cubicBezTo>
                  <a:pt x="5523" y="11181"/>
                  <a:pt x="5485" y="11217"/>
                  <a:pt x="5466" y="11181"/>
                </a:cubicBezTo>
                <a:cubicBezTo>
                  <a:pt x="5447" y="11181"/>
                  <a:pt x="5428" y="11145"/>
                  <a:pt x="5409" y="11145"/>
                </a:cubicBezTo>
                <a:cubicBezTo>
                  <a:pt x="5372" y="11109"/>
                  <a:pt x="5334" y="11145"/>
                  <a:pt x="5315" y="11109"/>
                </a:cubicBezTo>
                <a:cubicBezTo>
                  <a:pt x="5334" y="11109"/>
                  <a:pt x="5334" y="11109"/>
                  <a:pt x="5353" y="11072"/>
                </a:cubicBezTo>
                <a:cubicBezTo>
                  <a:pt x="5353" y="11072"/>
                  <a:pt x="5353" y="11072"/>
                  <a:pt x="5353" y="11072"/>
                </a:cubicBezTo>
                <a:cubicBezTo>
                  <a:pt x="5353" y="11072"/>
                  <a:pt x="5334" y="11072"/>
                  <a:pt x="5334" y="11072"/>
                </a:cubicBezTo>
                <a:cubicBezTo>
                  <a:pt x="5277" y="11036"/>
                  <a:pt x="5277" y="11072"/>
                  <a:pt x="5239" y="11109"/>
                </a:cubicBezTo>
                <a:cubicBezTo>
                  <a:pt x="5239" y="11145"/>
                  <a:pt x="5220" y="11109"/>
                  <a:pt x="5201" y="11145"/>
                </a:cubicBezTo>
                <a:cubicBezTo>
                  <a:pt x="5201" y="11145"/>
                  <a:pt x="5182" y="11181"/>
                  <a:pt x="5164" y="11181"/>
                </a:cubicBezTo>
                <a:cubicBezTo>
                  <a:pt x="5164" y="11181"/>
                  <a:pt x="5164" y="11181"/>
                  <a:pt x="5164" y="11181"/>
                </a:cubicBezTo>
                <a:cubicBezTo>
                  <a:pt x="5164" y="11145"/>
                  <a:pt x="5182" y="11145"/>
                  <a:pt x="5182" y="11145"/>
                </a:cubicBezTo>
                <a:cubicBezTo>
                  <a:pt x="5182" y="11109"/>
                  <a:pt x="5182" y="11109"/>
                  <a:pt x="5182" y="11072"/>
                </a:cubicBezTo>
                <a:cubicBezTo>
                  <a:pt x="5201" y="11072"/>
                  <a:pt x="5239" y="11036"/>
                  <a:pt x="5258" y="11036"/>
                </a:cubicBezTo>
                <a:cubicBezTo>
                  <a:pt x="5277" y="11000"/>
                  <a:pt x="5296" y="11000"/>
                  <a:pt x="5315" y="11000"/>
                </a:cubicBezTo>
                <a:cubicBezTo>
                  <a:pt x="5372" y="11000"/>
                  <a:pt x="5409" y="11036"/>
                  <a:pt x="5428" y="11036"/>
                </a:cubicBezTo>
                <a:cubicBezTo>
                  <a:pt x="5447" y="11036"/>
                  <a:pt x="5447" y="11036"/>
                  <a:pt x="5447" y="11036"/>
                </a:cubicBezTo>
                <a:cubicBezTo>
                  <a:pt x="5466" y="11072"/>
                  <a:pt x="5485" y="11072"/>
                  <a:pt x="5485" y="11109"/>
                </a:cubicBezTo>
                <a:cubicBezTo>
                  <a:pt x="5523" y="11145"/>
                  <a:pt x="5561" y="11109"/>
                  <a:pt x="5599" y="11145"/>
                </a:cubicBezTo>
                <a:cubicBezTo>
                  <a:pt x="5599" y="11181"/>
                  <a:pt x="5618" y="11181"/>
                  <a:pt x="5618" y="11217"/>
                </a:cubicBezTo>
                <a:cubicBezTo>
                  <a:pt x="5636" y="11254"/>
                  <a:pt x="5712" y="11254"/>
                  <a:pt x="5712" y="11290"/>
                </a:cubicBezTo>
                <a:cubicBezTo>
                  <a:pt x="5712" y="11290"/>
                  <a:pt x="5712" y="11290"/>
                  <a:pt x="5712" y="11290"/>
                </a:cubicBezTo>
                <a:cubicBezTo>
                  <a:pt x="5712" y="11326"/>
                  <a:pt x="5712" y="11326"/>
                  <a:pt x="5712" y="11326"/>
                </a:cubicBezTo>
                <a:cubicBezTo>
                  <a:pt x="5769" y="11326"/>
                  <a:pt x="5788" y="11326"/>
                  <a:pt x="5807" y="11363"/>
                </a:cubicBezTo>
                <a:close/>
                <a:moveTo>
                  <a:pt x="5844" y="11435"/>
                </a:moveTo>
                <a:cubicBezTo>
                  <a:pt x="5844" y="11435"/>
                  <a:pt x="5844" y="11435"/>
                  <a:pt x="5844" y="11435"/>
                </a:cubicBezTo>
                <a:cubicBezTo>
                  <a:pt x="5844" y="11399"/>
                  <a:pt x="5844" y="11399"/>
                  <a:pt x="5863" y="11399"/>
                </a:cubicBezTo>
                <a:cubicBezTo>
                  <a:pt x="5863" y="11399"/>
                  <a:pt x="5863" y="11399"/>
                  <a:pt x="5863" y="11399"/>
                </a:cubicBezTo>
                <a:cubicBezTo>
                  <a:pt x="5901" y="11399"/>
                  <a:pt x="5920" y="11435"/>
                  <a:pt x="5939" y="11435"/>
                </a:cubicBezTo>
                <a:cubicBezTo>
                  <a:pt x="5958" y="11435"/>
                  <a:pt x="5958" y="11399"/>
                  <a:pt x="5977" y="11399"/>
                </a:cubicBezTo>
                <a:cubicBezTo>
                  <a:pt x="5977" y="11399"/>
                  <a:pt x="5977" y="11399"/>
                  <a:pt x="5996" y="11399"/>
                </a:cubicBezTo>
                <a:cubicBezTo>
                  <a:pt x="5996" y="11399"/>
                  <a:pt x="5996" y="11399"/>
                  <a:pt x="6015" y="11399"/>
                </a:cubicBezTo>
                <a:cubicBezTo>
                  <a:pt x="6015" y="11435"/>
                  <a:pt x="6053" y="11435"/>
                  <a:pt x="6071" y="11435"/>
                </a:cubicBezTo>
                <a:cubicBezTo>
                  <a:pt x="6071" y="11508"/>
                  <a:pt x="6147" y="11508"/>
                  <a:pt x="6166" y="11581"/>
                </a:cubicBezTo>
                <a:cubicBezTo>
                  <a:pt x="6166" y="11581"/>
                  <a:pt x="6147" y="11617"/>
                  <a:pt x="6147" y="11617"/>
                </a:cubicBezTo>
                <a:cubicBezTo>
                  <a:pt x="6128" y="11617"/>
                  <a:pt x="6128" y="11544"/>
                  <a:pt x="6090" y="11581"/>
                </a:cubicBezTo>
                <a:cubicBezTo>
                  <a:pt x="6090" y="11581"/>
                  <a:pt x="6090" y="11581"/>
                  <a:pt x="6071" y="11581"/>
                </a:cubicBezTo>
                <a:cubicBezTo>
                  <a:pt x="6053" y="11581"/>
                  <a:pt x="6053" y="11617"/>
                  <a:pt x="6034" y="11617"/>
                </a:cubicBezTo>
                <a:cubicBezTo>
                  <a:pt x="6034" y="11581"/>
                  <a:pt x="6034" y="11581"/>
                  <a:pt x="6015" y="11581"/>
                </a:cubicBezTo>
                <a:cubicBezTo>
                  <a:pt x="5996" y="11617"/>
                  <a:pt x="5996" y="11617"/>
                  <a:pt x="5977" y="11689"/>
                </a:cubicBezTo>
                <a:cubicBezTo>
                  <a:pt x="5958" y="11653"/>
                  <a:pt x="5958" y="11617"/>
                  <a:pt x="5939" y="11617"/>
                </a:cubicBezTo>
                <a:cubicBezTo>
                  <a:pt x="5920" y="11617"/>
                  <a:pt x="5901" y="11617"/>
                  <a:pt x="5901" y="11617"/>
                </a:cubicBezTo>
                <a:cubicBezTo>
                  <a:pt x="5882" y="11617"/>
                  <a:pt x="5863" y="11617"/>
                  <a:pt x="5844" y="11617"/>
                </a:cubicBezTo>
                <a:cubicBezTo>
                  <a:pt x="5826" y="11617"/>
                  <a:pt x="5826" y="11617"/>
                  <a:pt x="5826" y="11617"/>
                </a:cubicBezTo>
                <a:cubicBezTo>
                  <a:pt x="5807" y="11617"/>
                  <a:pt x="5807" y="11617"/>
                  <a:pt x="5788" y="11581"/>
                </a:cubicBezTo>
                <a:cubicBezTo>
                  <a:pt x="5788" y="11581"/>
                  <a:pt x="5788" y="11581"/>
                  <a:pt x="5788" y="11581"/>
                </a:cubicBezTo>
                <a:cubicBezTo>
                  <a:pt x="5788" y="11581"/>
                  <a:pt x="5807" y="11544"/>
                  <a:pt x="5807" y="11544"/>
                </a:cubicBezTo>
                <a:cubicBezTo>
                  <a:pt x="5844" y="11581"/>
                  <a:pt x="5901" y="11581"/>
                  <a:pt x="5920" y="11544"/>
                </a:cubicBezTo>
                <a:cubicBezTo>
                  <a:pt x="5920" y="11544"/>
                  <a:pt x="5920" y="11544"/>
                  <a:pt x="5920" y="11544"/>
                </a:cubicBezTo>
                <a:cubicBezTo>
                  <a:pt x="5882" y="11544"/>
                  <a:pt x="5901" y="11508"/>
                  <a:pt x="5901" y="11472"/>
                </a:cubicBezTo>
                <a:cubicBezTo>
                  <a:pt x="5882" y="11435"/>
                  <a:pt x="5863" y="11435"/>
                  <a:pt x="5844" y="11435"/>
                </a:cubicBezTo>
                <a:close/>
                <a:moveTo>
                  <a:pt x="6242" y="11581"/>
                </a:moveTo>
                <a:cubicBezTo>
                  <a:pt x="6242" y="11581"/>
                  <a:pt x="6242" y="11581"/>
                  <a:pt x="6242" y="11581"/>
                </a:cubicBezTo>
                <a:cubicBezTo>
                  <a:pt x="6261" y="11581"/>
                  <a:pt x="6317" y="11581"/>
                  <a:pt x="6336" y="11581"/>
                </a:cubicBezTo>
                <a:cubicBezTo>
                  <a:pt x="6317" y="11653"/>
                  <a:pt x="6298" y="11617"/>
                  <a:pt x="6280" y="11653"/>
                </a:cubicBezTo>
                <a:cubicBezTo>
                  <a:pt x="6261" y="11653"/>
                  <a:pt x="6261" y="11653"/>
                  <a:pt x="6242" y="11653"/>
                </a:cubicBezTo>
                <a:cubicBezTo>
                  <a:pt x="6242" y="11617"/>
                  <a:pt x="6242" y="11617"/>
                  <a:pt x="6242" y="11581"/>
                </a:cubicBezTo>
                <a:close/>
                <a:moveTo>
                  <a:pt x="6261" y="13033"/>
                </a:moveTo>
                <a:cubicBezTo>
                  <a:pt x="6261" y="13033"/>
                  <a:pt x="6261" y="13033"/>
                  <a:pt x="6261" y="13033"/>
                </a:cubicBezTo>
                <a:cubicBezTo>
                  <a:pt x="6280" y="13033"/>
                  <a:pt x="6280" y="13033"/>
                  <a:pt x="6298" y="13033"/>
                </a:cubicBezTo>
                <a:cubicBezTo>
                  <a:pt x="6298" y="13033"/>
                  <a:pt x="6298" y="13033"/>
                  <a:pt x="6298" y="13033"/>
                </a:cubicBezTo>
                <a:cubicBezTo>
                  <a:pt x="6298" y="13033"/>
                  <a:pt x="6298" y="13033"/>
                  <a:pt x="6298" y="13033"/>
                </a:cubicBezTo>
                <a:cubicBezTo>
                  <a:pt x="6298" y="13033"/>
                  <a:pt x="6298" y="13069"/>
                  <a:pt x="6298" y="13105"/>
                </a:cubicBezTo>
                <a:cubicBezTo>
                  <a:pt x="6280" y="13105"/>
                  <a:pt x="6261" y="13105"/>
                  <a:pt x="6242" y="13105"/>
                </a:cubicBezTo>
                <a:cubicBezTo>
                  <a:pt x="6242" y="13105"/>
                  <a:pt x="6242" y="13105"/>
                  <a:pt x="6242" y="13105"/>
                </a:cubicBezTo>
                <a:cubicBezTo>
                  <a:pt x="6242" y="13105"/>
                  <a:pt x="6242" y="13105"/>
                  <a:pt x="6242" y="13105"/>
                </a:cubicBezTo>
                <a:cubicBezTo>
                  <a:pt x="6261" y="13105"/>
                  <a:pt x="6261" y="13105"/>
                  <a:pt x="6280" y="13069"/>
                </a:cubicBezTo>
                <a:cubicBezTo>
                  <a:pt x="6261" y="13069"/>
                  <a:pt x="6261" y="13069"/>
                  <a:pt x="6280" y="13069"/>
                </a:cubicBezTo>
                <a:cubicBezTo>
                  <a:pt x="6261" y="13033"/>
                  <a:pt x="6261" y="13033"/>
                  <a:pt x="6261" y="13033"/>
                </a:cubicBezTo>
                <a:close/>
                <a:moveTo>
                  <a:pt x="6639" y="7950"/>
                </a:moveTo>
                <a:cubicBezTo>
                  <a:pt x="6658" y="7950"/>
                  <a:pt x="6677" y="7841"/>
                  <a:pt x="6715" y="7914"/>
                </a:cubicBezTo>
                <a:cubicBezTo>
                  <a:pt x="6696" y="7987"/>
                  <a:pt x="6620" y="8023"/>
                  <a:pt x="6601" y="7914"/>
                </a:cubicBezTo>
                <a:cubicBezTo>
                  <a:pt x="6601" y="7878"/>
                  <a:pt x="6639" y="7805"/>
                  <a:pt x="6658" y="7769"/>
                </a:cubicBezTo>
                <a:cubicBezTo>
                  <a:pt x="6658" y="7769"/>
                  <a:pt x="6677" y="7769"/>
                  <a:pt x="6677" y="7805"/>
                </a:cubicBezTo>
                <a:cubicBezTo>
                  <a:pt x="6677" y="7805"/>
                  <a:pt x="6677" y="7841"/>
                  <a:pt x="6658" y="7878"/>
                </a:cubicBezTo>
                <a:cubicBezTo>
                  <a:pt x="6639" y="7914"/>
                  <a:pt x="6620" y="7914"/>
                  <a:pt x="6639" y="7950"/>
                </a:cubicBezTo>
                <a:cubicBezTo>
                  <a:pt x="6639" y="7950"/>
                  <a:pt x="6639" y="7950"/>
                  <a:pt x="6639" y="7950"/>
                </a:cubicBezTo>
                <a:close/>
                <a:moveTo>
                  <a:pt x="7093" y="14339"/>
                </a:moveTo>
                <a:cubicBezTo>
                  <a:pt x="7074" y="14376"/>
                  <a:pt x="7074" y="14448"/>
                  <a:pt x="7074" y="14448"/>
                </a:cubicBezTo>
                <a:cubicBezTo>
                  <a:pt x="7055" y="14485"/>
                  <a:pt x="6998" y="14521"/>
                  <a:pt x="6960" y="14521"/>
                </a:cubicBezTo>
                <a:cubicBezTo>
                  <a:pt x="6942" y="14448"/>
                  <a:pt x="6942" y="14376"/>
                  <a:pt x="6960" y="14339"/>
                </a:cubicBezTo>
                <a:cubicBezTo>
                  <a:pt x="6998" y="14339"/>
                  <a:pt x="7074" y="14339"/>
                  <a:pt x="7093" y="14339"/>
                </a:cubicBezTo>
                <a:close/>
                <a:moveTo>
                  <a:pt x="7150" y="7696"/>
                </a:moveTo>
                <a:cubicBezTo>
                  <a:pt x="7150" y="7732"/>
                  <a:pt x="7131" y="7769"/>
                  <a:pt x="7131" y="7805"/>
                </a:cubicBezTo>
                <a:cubicBezTo>
                  <a:pt x="7112" y="7805"/>
                  <a:pt x="7093" y="7805"/>
                  <a:pt x="7093" y="7805"/>
                </a:cubicBezTo>
                <a:cubicBezTo>
                  <a:pt x="7093" y="7805"/>
                  <a:pt x="7093" y="7769"/>
                  <a:pt x="7093" y="7769"/>
                </a:cubicBezTo>
                <a:cubicBezTo>
                  <a:pt x="7074" y="7769"/>
                  <a:pt x="7074" y="7769"/>
                  <a:pt x="7074" y="7769"/>
                </a:cubicBezTo>
                <a:cubicBezTo>
                  <a:pt x="7074" y="7769"/>
                  <a:pt x="7055" y="7769"/>
                  <a:pt x="7055" y="7769"/>
                </a:cubicBezTo>
                <a:cubicBezTo>
                  <a:pt x="7055" y="7769"/>
                  <a:pt x="7055" y="7769"/>
                  <a:pt x="7055" y="7769"/>
                </a:cubicBezTo>
                <a:cubicBezTo>
                  <a:pt x="7055" y="7732"/>
                  <a:pt x="7074" y="7732"/>
                  <a:pt x="7074" y="7696"/>
                </a:cubicBezTo>
                <a:cubicBezTo>
                  <a:pt x="7074" y="7696"/>
                  <a:pt x="7055" y="7696"/>
                  <a:pt x="7055" y="7660"/>
                </a:cubicBezTo>
                <a:cubicBezTo>
                  <a:pt x="7055" y="7660"/>
                  <a:pt x="7055" y="7660"/>
                  <a:pt x="7055" y="7660"/>
                </a:cubicBezTo>
                <a:cubicBezTo>
                  <a:pt x="7036" y="7696"/>
                  <a:pt x="6998" y="7732"/>
                  <a:pt x="6979" y="7805"/>
                </a:cubicBezTo>
                <a:cubicBezTo>
                  <a:pt x="6960" y="7805"/>
                  <a:pt x="6960" y="7805"/>
                  <a:pt x="6942" y="7769"/>
                </a:cubicBezTo>
                <a:cubicBezTo>
                  <a:pt x="6942" y="7769"/>
                  <a:pt x="6942" y="7769"/>
                  <a:pt x="6942" y="7769"/>
                </a:cubicBezTo>
                <a:cubicBezTo>
                  <a:pt x="6979" y="7732"/>
                  <a:pt x="6998" y="7696"/>
                  <a:pt x="7017" y="7696"/>
                </a:cubicBezTo>
                <a:cubicBezTo>
                  <a:pt x="7017" y="7660"/>
                  <a:pt x="7017" y="7660"/>
                  <a:pt x="7017" y="7660"/>
                </a:cubicBezTo>
                <a:cubicBezTo>
                  <a:pt x="6998" y="7660"/>
                  <a:pt x="6998" y="7660"/>
                  <a:pt x="6979" y="7660"/>
                </a:cubicBezTo>
                <a:cubicBezTo>
                  <a:pt x="6979" y="7696"/>
                  <a:pt x="6979" y="7696"/>
                  <a:pt x="6960" y="7696"/>
                </a:cubicBezTo>
                <a:cubicBezTo>
                  <a:pt x="6960" y="7696"/>
                  <a:pt x="6960" y="7696"/>
                  <a:pt x="6960" y="7696"/>
                </a:cubicBezTo>
                <a:cubicBezTo>
                  <a:pt x="6960" y="7696"/>
                  <a:pt x="6960" y="7696"/>
                  <a:pt x="6960" y="7696"/>
                </a:cubicBezTo>
                <a:cubicBezTo>
                  <a:pt x="6960" y="7660"/>
                  <a:pt x="6960" y="7660"/>
                  <a:pt x="6960" y="7660"/>
                </a:cubicBezTo>
                <a:cubicBezTo>
                  <a:pt x="6942" y="7660"/>
                  <a:pt x="6942" y="7660"/>
                  <a:pt x="6942" y="7660"/>
                </a:cubicBezTo>
                <a:cubicBezTo>
                  <a:pt x="6923" y="7696"/>
                  <a:pt x="6904" y="7696"/>
                  <a:pt x="6885" y="7696"/>
                </a:cubicBezTo>
                <a:cubicBezTo>
                  <a:pt x="6866" y="7696"/>
                  <a:pt x="6828" y="7660"/>
                  <a:pt x="6809" y="7660"/>
                </a:cubicBezTo>
                <a:cubicBezTo>
                  <a:pt x="6790" y="7660"/>
                  <a:pt x="6771" y="7660"/>
                  <a:pt x="6752" y="7696"/>
                </a:cubicBezTo>
                <a:cubicBezTo>
                  <a:pt x="6733" y="7660"/>
                  <a:pt x="6733" y="7660"/>
                  <a:pt x="6733" y="7624"/>
                </a:cubicBezTo>
                <a:cubicBezTo>
                  <a:pt x="6752" y="7587"/>
                  <a:pt x="6790" y="7587"/>
                  <a:pt x="6809" y="7551"/>
                </a:cubicBezTo>
                <a:cubicBezTo>
                  <a:pt x="6790" y="7551"/>
                  <a:pt x="6790" y="7515"/>
                  <a:pt x="6771" y="7515"/>
                </a:cubicBezTo>
                <a:cubicBezTo>
                  <a:pt x="6771" y="7515"/>
                  <a:pt x="6771" y="7515"/>
                  <a:pt x="6771" y="7515"/>
                </a:cubicBezTo>
                <a:cubicBezTo>
                  <a:pt x="6790" y="7442"/>
                  <a:pt x="6809" y="7478"/>
                  <a:pt x="6828" y="7442"/>
                </a:cubicBezTo>
                <a:cubicBezTo>
                  <a:pt x="6828" y="7442"/>
                  <a:pt x="6809" y="7406"/>
                  <a:pt x="6809" y="7406"/>
                </a:cubicBezTo>
                <a:cubicBezTo>
                  <a:pt x="6828" y="7297"/>
                  <a:pt x="6885" y="7152"/>
                  <a:pt x="6923" y="7115"/>
                </a:cubicBezTo>
                <a:cubicBezTo>
                  <a:pt x="6942" y="7115"/>
                  <a:pt x="6942" y="7079"/>
                  <a:pt x="6960" y="7079"/>
                </a:cubicBezTo>
                <a:cubicBezTo>
                  <a:pt x="6960" y="7079"/>
                  <a:pt x="6979" y="7079"/>
                  <a:pt x="6979" y="7079"/>
                </a:cubicBezTo>
                <a:cubicBezTo>
                  <a:pt x="6979" y="7079"/>
                  <a:pt x="6979" y="7115"/>
                  <a:pt x="6979" y="7115"/>
                </a:cubicBezTo>
                <a:cubicBezTo>
                  <a:pt x="6979" y="7115"/>
                  <a:pt x="6979" y="7115"/>
                  <a:pt x="6979" y="7115"/>
                </a:cubicBezTo>
                <a:cubicBezTo>
                  <a:pt x="6960" y="7115"/>
                  <a:pt x="6960" y="7115"/>
                  <a:pt x="6942" y="7115"/>
                </a:cubicBezTo>
                <a:cubicBezTo>
                  <a:pt x="6960" y="7224"/>
                  <a:pt x="6885" y="7261"/>
                  <a:pt x="6904" y="7369"/>
                </a:cubicBezTo>
                <a:cubicBezTo>
                  <a:pt x="6923" y="7369"/>
                  <a:pt x="6923" y="7333"/>
                  <a:pt x="6942" y="7297"/>
                </a:cubicBezTo>
                <a:cubicBezTo>
                  <a:pt x="6942" y="7333"/>
                  <a:pt x="6960" y="7333"/>
                  <a:pt x="6960" y="7333"/>
                </a:cubicBezTo>
                <a:cubicBezTo>
                  <a:pt x="6960" y="7333"/>
                  <a:pt x="6960" y="7369"/>
                  <a:pt x="6942" y="7369"/>
                </a:cubicBezTo>
                <a:cubicBezTo>
                  <a:pt x="6942" y="7369"/>
                  <a:pt x="6942" y="7369"/>
                  <a:pt x="6942" y="7369"/>
                </a:cubicBezTo>
                <a:cubicBezTo>
                  <a:pt x="6942" y="7369"/>
                  <a:pt x="6942" y="7369"/>
                  <a:pt x="6942" y="7369"/>
                </a:cubicBezTo>
                <a:cubicBezTo>
                  <a:pt x="6960" y="7406"/>
                  <a:pt x="6979" y="7442"/>
                  <a:pt x="7017" y="7442"/>
                </a:cubicBezTo>
                <a:cubicBezTo>
                  <a:pt x="7017" y="7442"/>
                  <a:pt x="7017" y="7406"/>
                  <a:pt x="7017" y="7406"/>
                </a:cubicBezTo>
                <a:cubicBezTo>
                  <a:pt x="7055" y="7406"/>
                  <a:pt x="7074" y="7406"/>
                  <a:pt x="7093" y="7442"/>
                </a:cubicBezTo>
                <a:cubicBezTo>
                  <a:pt x="7093" y="7442"/>
                  <a:pt x="7093" y="7442"/>
                  <a:pt x="7093" y="7442"/>
                </a:cubicBezTo>
                <a:cubicBezTo>
                  <a:pt x="7074" y="7478"/>
                  <a:pt x="7074" y="7478"/>
                  <a:pt x="7055" y="7515"/>
                </a:cubicBezTo>
                <a:cubicBezTo>
                  <a:pt x="7055" y="7515"/>
                  <a:pt x="7055" y="7515"/>
                  <a:pt x="7055" y="7515"/>
                </a:cubicBezTo>
                <a:cubicBezTo>
                  <a:pt x="7055" y="7515"/>
                  <a:pt x="7074" y="7551"/>
                  <a:pt x="7074" y="7551"/>
                </a:cubicBezTo>
                <a:cubicBezTo>
                  <a:pt x="7093" y="7551"/>
                  <a:pt x="7093" y="7551"/>
                  <a:pt x="7112" y="7551"/>
                </a:cubicBezTo>
                <a:cubicBezTo>
                  <a:pt x="7112" y="7551"/>
                  <a:pt x="7112" y="7551"/>
                  <a:pt x="7112" y="7551"/>
                </a:cubicBezTo>
                <a:cubicBezTo>
                  <a:pt x="7112" y="7551"/>
                  <a:pt x="7112" y="7551"/>
                  <a:pt x="7112" y="7551"/>
                </a:cubicBezTo>
                <a:cubicBezTo>
                  <a:pt x="7093" y="7587"/>
                  <a:pt x="7093" y="7587"/>
                  <a:pt x="7074" y="7587"/>
                </a:cubicBezTo>
                <a:cubicBezTo>
                  <a:pt x="7074" y="7587"/>
                  <a:pt x="7074" y="7587"/>
                  <a:pt x="7074" y="7587"/>
                </a:cubicBezTo>
                <a:cubicBezTo>
                  <a:pt x="7074" y="7624"/>
                  <a:pt x="7074" y="7660"/>
                  <a:pt x="7093" y="7660"/>
                </a:cubicBezTo>
                <a:cubicBezTo>
                  <a:pt x="7093" y="7660"/>
                  <a:pt x="7093" y="7660"/>
                  <a:pt x="7093" y="7660"/>
                </a:cubicBezTo>
                <a:cubicBezTo>
                  <a:pt x="7093" y="7660"/>
                  <a:pt x="7093" y="7660"/>
                  <a:pt x="7112" y="7624"/>
                </a:cubicBezTo>
                <a:cubicBezTo>
                  <a:pt x="7112" y="7660"/>
                  <a:pt x="7112" y="7660"/>
                  <a:pt x="7112" y="7660"/>
                </a:cubicBezTo>
                <a:cubicBezTo>
                  <a:pt x="7112" y="7660"/>
                  <a:pt x="7112" y="7660"/>
                  <a:pt x="7112" y="7660"/>
                </a:cubicBezTo>
                <a:cubicBezTo>
                  <a:pt x="7112" y="7696"/>
                  <a:pt x="7112" y="7696"/>
                  <a:pt x="7150" y="7696"/>
                </a:cubicBezTo>
                <a:close/>
                <a:moveTo>
                  <a:pt x="7452" y="5119"/>
                </a:moveTo>
                <a:cubicBezTo>
                  <a:pt x="7452" y="5119"/>
                  <a:pt x="7471" y="5119"/>
                  <a:pt x="7471" y="5082"/>
                </a:cubicBezTo>
                <a:cubicBezTo>
                  <a:pt x="7471" y="5082"/>
                  <a:pt x="7471" y="5082"/>
                  <a:pt x="7490" y="5082"/>
                </a:cubicBezTo>
                <a:cubicBezTo>
                  <a:pt x="7490" y="5119"/>
                  <a:pt x="7490" y="5119"/>
                  <a:pt x="7490" y="5119"/>
                </a:cubicBezTo>
                <a:cubicBezTo>
                  <a:pt x="7471" y="5119"/>
                  <a:pt x="7471" y="5119"/>
                  <a:pt x="7452" y="5119"/>
                </a:cubicBezTo>
                <a:cubicBezTo>
                  <a:pt x="7452" y="5119"/>
                  <a:pt x="7452" y="5119"/>
                  <a:pt x="7452" y="5119"/>
                </a:cubicBezTo>
                <a:close/>
                <a:moveTo>
                  <a:pt x="5523" y="19785"/>
                </a:moveTo>
                <a:cubicBezTo>
                  <a:pt x="5523" y="19785"/>
                  <a:pt x="5523" y="19785"/>
                  <a:pt x="5523" y="19785"/>
                </a:cubicBezTo>
                <a:cubicBezTo>
                  <a:pt x="5504" y="19785"/>
                  <a:pt x="5504" y="19785"/>
                  <a:pt x="5485" y="19785"/>
                </a:cubicBezTo>
                <a:cubicBezTo>
                  <a:pt x="5504" y="19712"/>
                  <a:pt x="5504" y="19640"/>
                  <a:pt x="5504" y="19603"/>
                </a:cubicBezTo>
                <a:cubicBezTo>
                  <a:pt x="5523" y="19567"/>
                  <a:pt x="5523" y="19567"/>
                  <a:pt x="5523" y="19567"/>
                </a:cubicBezTo>
                <a:cubicBezTo>
                  <a:pt x="5523" y="19567"/>
                  <a:pt x="5523" y="19567"/>
                  <a:pt x="5542" y="19603"/>
                </a:cubicBezTo>
                <a:cubicBezTo>
                  <a:pt x="5542" y="19603"/>
                  <a:pt x="5542" y="19603"/>
                  <a:pt x="5542" y="19640"/>
                </a:cubicBezTo>
                <a:cubicBezTo>
                  <a:pt x="5542" y="19640"/>
                  <a:pt x="5523" y="19640"/>
                  <a:pt x="5523" y="19676"/>
                </a:cubicBezTo>
                <a:cubicBezTo>
                  <a:pt x="5523" y="19676"/>
                  <a:pt x="5523" y="19712"/>
                  <a:pt x="5542" y="19712"/>
                </a:cubicBezTo>
                <a:cubicBezTo>
                  <a:pt x="5523" y="19749"/>
                  <a:pt x="5523" y="19785"/>
                  <a:pt x="5523" y="19785"/>
                </a:cubicBezTo>
                <a:close/>
                <a:moveTo>
                  <a:pt x="2667" y="3884"/>
                </a:moveTo>
                <a:cubicBezTo>
                  <a:pt x="2667" y="3848"/>
                  <a:pt x="2648" y="3812"/>
                  <a:pt x="2667" y="3775"/>
                </a:cubicBezTo>
                <a:cubicBezTo>
                  <a:pt x="2686" y="3775"/>
                  <a:pt x="2705" y="3775"/>
                  <a:pt x="2705" y="3775"/>
                </a:cubicBezTo>
                <a:cubicBezTo>
                  <a:pt x="2724" y="3812"/>
                  <a:pt x="2724" y="3812"/>
                  <a:pt x="2705" y="3848"/>
                </a:cubicBezTo>
                <a:cubicBezTo>
                  <a:pt x="2761" y="3921"/>
                  <a:pt x="2799" y="3812"/>
                  <a:pt x="2818" y="3775"/>
                </a:cubicBezTo>
                <a:cubicBezTo>
                  <a:pt x="2837" y="3739"/>
                  <a:pt x="2913" y="3812"/>
                  <a:pt x="2932" y="3812"/>
                </a:cubicBezTo>
                <a:cubicBezTo>
                  <a:pt x="3007" y="3884"/>
                  <a:pt x="3140" y="3993"/>
                  <a:pt x="3253" y="3957"/>
                </a:cubicBezTo>
                <a:cubicBezTo>
                  <a:pt x="3291" y="3957"/>
                  <a:pt x="3348" y="4030"/>
                  <a:pt x="3367" y="4102"/>
                </a:cubicBezTo>
                <a:cubicBezTo>
                  <a:pt x="3329" y="4102"/>
                  <a:pt x="3310" y="4102"/>
                  <a:pt x="3272" y="4138"/>
                </a:cubicBezTo>
                <a:cubicBezTo>
                  <a:pt x="3272" y="4138"/>
                  <a:pt x="3272" y="4175"/>
                  <a:pt x="3272" y="4175"/>
                </a:cubicBezTo>
                <a:cubicBezTo>
                  <a:pt x="3329" y="4211"/>
                  <a:pt x="3386" y="4247"/>
                  <a:pt x="3461" y="4211"/>
                </a:cubicBezTo>
                <a:cubicBezTo>
                  <a:pt x="3499" y="4211"/>
                  <a:pt x="3537" y="4175"/>
                  <a:pt x="3575" y="4175"/>
                </a:cubicBezTo>
                <a:cubicBezTo>
                  <a:pt x="3613" y="4175"/>
                  <a:pt x="3632" y="4211"/>
                  <a:pt x="3650" y="4211"/>
                </a:cubicBezTo>
                <a:cubicBezTo>
                  <a:pt x="3669" y="4247"/>
                  <a:pt x="3707" y="4247"/>
                  <a:pt x="3726" y="4284"/>
                </a:cubicBezTo>
                <a:cubicBezTo>
                  <a:pt x="3726" y="4320"/>
                  <a:pt x="3726" y="4320"/>
                  <a:pt x="3726" y="4320"/>
                </a:cubicBezTo>
                <a:cubicBezTo>
                  <a:pt x="3707" y="4320"/>
                  <a:pt x="3707" y="4356"/>
                  <a:pt x="3707" y="4356"/>
                </a:cubicBezTo>
                <a:cubicBezTo>
                  <a:pt x="3726" y="4393"/>
                  <a:pt x="3745" y="4429"/>
                  <a:pt x="3764" y="4465"/>
                </a:cubicBezTo>
                <a:cubicBezTo>
                  <a:pt x="3764" y="4429"/>
                  <a:pt x="3764" y="4393"/>
                  <a:pt x="3764" y="4393"/>
                </a:cubicBezTo>
                <a:cubicBezTo>
                  <a:pt x="3764" y="4393"/>
                  <a:pt x="3783" y="4393"/>
                  <a:pt x="3783" y="4393"/>
                </a:cubicBezTo>
                <a:cubicBezTo>
                  <a:pt x="3783" y="4284"/>
                  <a:pt x="3745" y="4320"/>
                  <a:pt x="3764" y="4175"/>
                </a:cubicBezTo>
                <a:cubicBezTo>
                  <a:pt x="3783" y="4175"/>
                  <a:pt x="3821" y="4175"/>
                  <a:pt x="3840" y="4138"/>
                </a:cubicBezTo>
                <a:cubicBezTo>
                  <a:pt x="3858" y="4102"/>
                  <a:pt x="3858" y="4102"/>
                  <a:pt x="3858" y="4102"/>
                </a:cubicBezTo>
                <a:cubicBezTo>
                  <a:pt x="3915" y="4102"/>
                  <a:pt x="3934" y="4175"/>
                  <a:pt x="4010" y="4138"/>
                </a:cubicBezTo>
                <a:cubicBezTo>
                  <a:pt x="4029" y="4175"/>
                  <a:pt x="4085" y="4247"/>
                  <a:pt x="4142" y="4211"/>
                </a:cubicBezTo>
                <a:cubicBezTo>
                  <a:pt x="4161" y="4211"/>
                  <a:pt x="4161" y="4211"/>
                  <a:pt x="4180" y="4211"/>
                </a:cubicBezTo>
                <a:cubicBezTo>
                  <a:pt x="4237" y="4211"/>
                  <a:pt x="4294" y="4211"/>
                  <a:pt x="4331" y="4175"/>
                </a:cubicBezTo>
                <a:cubicBezTo>
                  <a:pt x="4350" y="4211"/>
                  <a:pt x="4369" y="4247"/>
                  <a:pt x="4388" y="4247"/>
                </a:cubicBezTo>
                <a:cubicBezTo>
                  <a:pt x="4407" y="4211"/>
                  <a:pt x="4407" y="4175"/>
                  <a:pt x="4407" y="4175"/>
                </a:cubicBezTo>
                <a:cubicBezTo>
                  <a:pt x="4388" y="4138"/>
                  <a:pt x="4350" y="4138"/>
                  <a:pt x="4331" y="4138"/>
                </a:cubicBezTo>
                <a:cubicBezTo>
                  <a:pt x="4331" y="4102"/>
                  <a:pt x="4331" y="4102"/>
                  <a:pt x="4331" y="4102"/>
                </a:cubicBezTo>
                <a:cubicBezTo>
                  <a:pt x="4369" y="4066"/>
                  <a:pt x="4388" y="4102"/>
                  <a:pt x="4426" y="4138"/>
                </a:cubicBezTo>
                <a:cubicBezTo>
                  <a:pt x="4445" y="4138"/>
                  <a:pt x="4445" y="4138"/>
                  <a:pt x="4464" y="4138"/>
                </a:cubicBezTo>
                <a:cubicBezTo>
                  <a:pt x="4464" y="4175"/>
                  <a:pt x="4464" y="4211"/>
                  <a:pt x="4445" y="4247"/>
                </a:cubicBezTo>
                <a:cubicBezTo>
                  <a:pt x="4445" y="4320"/>
                  <a:pt x="4502" y="4356"/>
                  <a:pt x="4520" y="4356"/>
                </a:cubicBezTo>
                <a:cubicBezTo>
                  <a:pt x="4520" y="4284"/>
                  <a:pt x="4483" y="4211"/>
                  <a:pt x="4520" y="4138"/>
                </a:cubicBezTo>
                <a:cubicBezTo>
                  <a:pt x="4520" y="4138"/>
                  <a:pt x="4558" y="4138"/>
                  <a:pt x="4558" y="4138"/>
                </a:cubicBezTo>
                <a:cubicBezTo>
                  <a:pt x="4577" y="4138"/>
                  <a:pt x="4577" y="4102"/>
                  <a:pt x="4596" y="4066"/>
                </a:cubicBezTo>
                <a:cubicBezTo>
                  <a:pt x="4615" y="4066"/>
                  <a:pt x="4615" y="4066"/>
                  <a:pt x="4634" y="4030"/>
                </a:cubicBezTo>
                <a:cubicBezTo>
                  <a:pt x="4634" y="4030"/>
                  <a:pt x="4634" y="3957"/>
                  <a:pt x="4615" y="3957"/>
                </a:cubicBezTo>
                <a:cubicBezTo>
                  <a:pt x="4596" y="3993"/>
                  <a:pt x="4577" y="3993"/>
                  <a:pt x="4558" y="3993"/>
                </a:cubicBezTo>
                <a:cubicBezTo>
                  <a:pt x="4558" y="3993"/>
                  <a:pt x="4558" y="3993"/>
                  <a:pt x="4558" y="3993"/>
                </a:cubicBezTo>
                <a:cubicBezTo>
                  <a:pt x="4577" y="3957"/>
                  <a:pt x="4577" y="3957"/>
                  <a:pt x="4577" y="3921"/>
                </a:cubicBezTo>
                <a:cubicBezTo>
                  <a:pt x="4596" y="3921"/>
                  <a:pt x="4596" y="3921"/>
                  <a:pt x="4634" y="3921"/>
                </a:cubicBezTo>
                <a:cubicBezTo>
                  <a:pt x="4634" y="3921"/>
                  <a:pt x="4653" y="3957"/>
                  <a:pt x="4653" y="3957"/>
                </a:cubicBezTo>
                <a:cubicBezTo>
                  <a:pt x="4653" y="3921"/>
                  <a:pt x="4653" y="3884"/>
                  <a:pt x="4653" y="3848"/>
                </a:cubicBezTo>
                <a:cubicBezTo>
                  <a:pt x="4653" y="3848"/>
                  <a:pt x="4653" y="3848"/>
                  <a:pt x="4653" y="3848"/>
                </a:cubicBezTo>
                <a:cubicBezTo>
                  <a:pt x="4615" y="3884"/>
                  <a:pt x="4596" y="3812"/>
                  <a:pt x="4577" y="3812"/>
                </a:cubicBezTo>
                <a:cubicBezTo>
                  <a:pt x="4558" y="3812"/>
                  <a:pt x="4558" y="3812"/>
                  <a:pt x="4558" y="3812"/>
                </a:cubicBezTo>
                <a:cubicBezTo>
                  <a:pt x="4520" y="3812"/>
                  <a:pt x="4445" y="3775"/>
                  <a:pt x="4445" y="3667"/>
                </a:cubicBezTo>
                <a:cubicBezTo>
                  <a:pt x="4464" y="3667"/>
                  <a:pt x="4464" y="3667"/>
                  <a:pt x="4483" y="3630"/>
                </a:cubicBezTo>
                <a:cubicBezTo>
                  <a:pt x="4464" y="3594"/>
                  <a:pt x="4445" y="3594"/>
                  <a:pt x="4426" y="3558"/>
                </a:cubicBezTo>
                <a:cubicBezTo>
                  <a:pt x="4445" y="3521"/>
                  <a:pt x="4445" y="3485"/>
                  <a:pt x="4464" y="3449"/>
                </a:cubicBezTo>
                <a:cubicBezTo>
                  <a:pt x="4483" y="3449"/>
                  <a:pt x="4502" y="3485"/>
                  <a:pt x="4520" y="3485"/>
                </a:cubicBezTo>
                <a:cubicBezTo>
                  <a:pt x="4520" y="3485"/>
                  <a:pt x="4520" y="3449"/>
                  <a:pt x="4520" y="3449"/>
                </a:cubicBezTo>
                <a:cubicBezTo>
                  <a:pt x="4502" y="3412"/>
                  <a:pt x="4502" y="3412"/>
                  <a:pt x="4483" y="3376"/>
                </a:cubicBezTo>
                <a:cubicBezTo>
                  <a:pt x="4502" y="3376"/>
                  <a:pt x="4502" y="3340"/>
                  <a:pt x="4520" y="3340"/>
                </a:cubicBezTo>
                <a:cubicBezTo>
                  <a:pt x="4577" y="3304"/>
                  <a:pt x="4634" y="3376"/>
                  <a:pt x="4653" y="3449"/>
                </a:cubicBezTo>
                <a:cubicBezTo>
                  <a:pt x="4672" y="3485"/>
                  <a:pt x="4653" y="3521"/>
                  <a:pt x="4653" y="3558"/>
                </a:cubicBezTo>
                <a:cubicBezTo>
                  <a:pt x="4672" y="3558"/>
                  <a:pt x="4729" y="3667"/>
                  <a:pt x="4747" y="3703"/>
                </a:cubicBezTo>
                <a:cubicBezTo>
                  <a:pt x="4747" y="3703"/>
                  <a:pt x="4729" y="3703"/>
                  <a:pt x="4729" y="3739"/>
                </a:cubicBezTo>
                <a:cubicBezTo>
                  <a:pt x="4710" y="3739"/>
                  <a:pt x="4710" y="3739"/>
                  <a:pt x="4691" y="3739"/>
                </a:cubicBezTo>
                <a:cubicBezTo>
                  <a:pt x="4691" y="3775"/>
                  <a:pt x="4691" y="3775"/>
                  <a:pt x="4691" y="3812"/>
                </a:cubicBezTo>
                <a:cubicBezTo>
                  <a:pt x="4691" y="3812"/>
                  <a:pt x="4710" y="3812"/>
                  <a:pt x="4729" y="3848"/>
                </a:cubicBezTo>
                <a:cubicBezTo>
                  <a:pt x="4747" y="3848"/>
                  <a:pt x="4747" y="3812"/>
                  <a:pt x="4747" y="3812"/>
                </a:cubicBezTo>
                <a:cubicBezTo>
                  <a:pt x="4766" y="3812"/>
                  <a:pt x="4804" y="3848"/>
                  <a:pt x="4804" y="3848"/>
                </a:cubicBezTo>
                <a:cubicBezTo>
                  <a:pt x="4804" y="3884"/>
                  <a:pt x="4804" y="3884"/>
                  <a:pt x="4785" y="3921"/>
                </a:cubicBezTo>
                <a:cubicBezTo>
                  <a:pt x="4785" y="3957"/>
                  <a:pt x="4804" y="3957"/>
                  <a:pt x="4804" y="3957"/>
                </a:cubicBezTo>
                <a:cubicBezTo>
                  <a:pt x="4823" y="3993"/>
                  <a:pt x="4823" y="4066"/>
                  <a:pt x="4823" y="4102"/>
                </a:cubicBezTo>
                <a:cubicBezTo>
                  <a:pt x="4880" y="4066"/>
                  <a:pt x="4861" y="3957"/>
                  <a:pt x="4899" y="3921"/>
                </a:cubicBezTo>
                <a:cubicBezTo>
                  <a:pt x="4937" y="3921"/>
                  <a:pt x="4993" y="4030"/>
                  <a:pt x="4974" y="4102"/>
                </a:cubicBezTo>
                <a:cubicBezTo>
                  <a:pt x="4974" y="4102"/>
                  <a:pt x="4956" y="4102"/>
                  <a:pt x="4937" y="4102"/>
                </a:cubicBezTo>
                <a:cubicBezTo>
                  <a:pt x="4937" y="4102"/>
                  <a:pt x="4937" y="4138"/>
                  <a:pt x="4937" y="4175"/>
                </a:cubicBezTo>
                <a:cubicBezTo>
                  <a:pt x="4937" y="4211"/>
                  <a:pt x="4993" y="4320"/>
                  <a:pt x="5012" y="4320"/>
                </a:cubicBezTo>
                <a:cubicBezTo>
                  <a:pt x="5031" y="4320"/>
                  <a:pt x="5050" y="4320"/>
                  <a:pt x="5069" y="4284"/>
                </a:cubicBezTo>
                <a:cubicBezTo>
                  <a:pt x="5069" y="4211"/>
                  <a:pt x="5088" y="4211"/>
                  <a:pt x="5107" y="4138"/>
                </a:cubicBezTo>
                <a:cubicBezTo>
                  <a:pt x="5126" y="4102"/>
                  <a:pt x="5107" y="4030"/>
                  <a:pt x="5126" y="3993"/>
                </a:cubicBezTo>
                <a:cubicBezTo>
                  <a:pt x="5145" y="3993"/>
                  <a:pt x="5164" y="4030"/>
                  <a:pt x="5182" y="3993"/>
                </a:cubicBezTo>
                <a:cubicBezTo>
                  <a:pt x="5182" y="3993"/>
                  <a:pt x="5182" y="3993"/>
                  <a:pt x="5182" y="3957"/>
                </a:cubicBezTo>
                <a:cubicBezTo>
                  <a:pt x="5164" y="3957"/>
                  <a:pt x="5145" y="3921"/>
                  <a:pt x="5126" y="3884"/>
                </a:cubicBezTo>
                <a:cubicBezTo>
                  <a:pt x="5126" y="3884"/>
                  <a:pt x="5126" y="3848"/>
                  <a:pt x="5126" y="3812"/>
                </a:cubicBezTo>
                <a:cubicBezTo>
                  <a:pt x="5126" y="3812"/>
                  <a:pt x="5145" y="3812"/>
                  <a:pt x="5145" y="3775"/>
                </a:cubicBezTo>
                <a:cubicBezTo>
                  <a:pt x="5201" y="3775"/>
                  <a:pt x="5220" y="3812"/>
                  <a:pt x="5258" y="3812"/>
                </a:cubicBezTo>
                <a:cubicBezTo>
                  <a:pt x="5258" y="3848"/>
                  <a:pt x="5277" y="3848"/>
                  <a:pt x="5296" y="3848"/>
                </a:cubicBezTo>
                <a:cubicBezTo>
                  <a:pt x="5296" y="3848"/>
                  <a:pt x="5315" y="3884"/>
                  <a:pt x="5334" y="3921"/>
                </a:cubicBezTo>
                <a:cubicBezTo>
                  <a:pt x="5353" y="3921"/>
                  <a:pt x="5353" y="3884"/>
                  <a:pt x="5353" y="3921"/>
                </a:cubicBezTo>
                <a:cubicBezTo>
                  <a:pt x="5372" y="3921"/>
                  <a:pt x="5372" y="4030"/>
                  <a:pt x="5372" y="4030"/>
                </a:cubicBezTo>
                <a:cubicBezTo>
                  <a:pt x="5372" y="4030"/>
                  <a:pt x="5353" y="4030"/>
                  <a:pt x="5353" y="4066"/>
                </a:cubicBezTo>
                <a:cubicBezTo>
                  <a:pt x="5334" y="4030"/>
                  <a:pt x="5334" y="4030"/>
                  <a:pt x="5334" y="3993"/>
                </a:cubicBezTo>
                <a:cubicBezTo>
                  <a:pt x="5315" y="3993"/>
                  <a:pt x="5315" y="4030"/>
                  <a:pt x="5296" y="4030"/>
                </a:cubicBezTo>
                <a:cubicBezTo>
                  <a:pt x="5296" y="4138"/>
                  <a:pt x="5353" y="4175"/>
                  <a:pt x="5391" y="4284"/>
                </a:cubicBezTo>
                <a:cubicBezTo>
                  <a:pt x="5391" y="4320"/>
                  <a:pt x="5334" y="4429"/>
                  <a:pt x="5315" y="4429"/>
                </a:cubicBezTo>
                <a:cubicBezTo>
                  <a:pt x="5296" y="4465"/>
                  <a:pt x="5277" y="4465"/>
                  <a:pt x="5277" y="4502"/>
                </a:cubicBezTo>
                <a:cubicBezTo>
                  <a:pt x="5220" y="4465"/>
                  <a:pt x="5220" y="4356"/>
                  <a:pt x="5164" y="4356"/>
                </a:cubicBezTo>
                <a:cubicBezTo>
                  <a:pt x="5164" y="4356"/>
                  <a:pt x="5164" y="4356"/>
                  <a:pt x="5145" y="4393"/>
                </a:cubicBezTo>
                <a:cubicBezTo>
                  <a:pt x="5164" y="4393"/>
                  <a:pt x="5164" y="4393"/>
                  <a:pt x="5164" y="4393"/>
                </a:cubicBezTo>
                <a:cubicBezTo>
                  <a:pt x="5182" y="4393"/>
                  <a:pt x="5220" y="4465"/>
                  <a:pt x="5239" y="4502"/>
                </a:cubicBezTo>
                <a:cubicBezTo>
                  <a:pt x="5220" y="4502"/>
                  <a:pt x="5201" y="4502"/>
                  <a:pt x="5182" y="4502"/>
                </a:cubicBezTo>
                <a:cubicBezTo>
                  <a:pt x="5145" y="4502"/>
                  <a:pt x="5145" y="4502"/>
                  <a:pt x="5126" y="4429"/>
                </a:cubicBezTo>
                <a:cubicBezTo>
                  <a:pt x="5107" y="4429"/>
                  <a:pt x="5069" y="4429"/>
                  <a:pt x="5050" y="4465"/>
                </a:cubicBezTo>
                <a:cubicBezTo>
                  <a:pt x="5050" y="4465"/>
                  <a:pt x="5031" y="4465"/>
                  <a:pt x="5031" y="4465"/>
                </a:cubicBezTo>
                <a:cubicBezTo>
                  <a:pt x="5031" y="4465"/>
                  <a:pt x="5031" y="4465"/>
                  <a:pt x="5050" y="4465"/>
                </a:cubicBezTo>
                <a:cubicBezTo>
                  <a:pt x="5050" y="4502"/>
                  <a:pt x="5069" y="4502"/>
                  <a:pt x="5088" y="4538"/>
                </a:cubicBezTo>
                <a:cubicBezTo>
                  <a:pt x="5088" y="4574"/>
                  <a:pt x="5012" y="4719"/>
                  <a:pt x="4974" y="4683"/>
                </a:cubicBezTo>
                <a:cubicBezTo>
                  <a:pt x="4956" y="4683"/>
                  <a:pt x="4956" y="4647"/>
                  <a:pt x="4937" y="4610"/>
                </a:cubicBezTo>
                <a:cubicBezTo>
                  <a:pt x="4918" y="4610"/>
                  <a:pt x="4899" y="4610"/>
                  <a:pt x="4899" y="4610"/>
                </a:cubicBezTo>
                <a:cubicBezTo>
                  <a:pt x="4880" y="4574"/>
                  <a:pt x="4880" y="4574"/>
                  <a:pt x="4861" y="4574"/>
                </a:cubicBezTo>
                <a:cubicBezTo>
                  <a:pt x="4842" y="4574"/>
                  <a:pt x="4804" y="4574"/>
                  <a:pt x="4785" y="4574"/>
                </a:cubicBezTo>
                <a:cubicBezTo>
                  <a:pt x="4785" y="4574"/>
                  <a:pt x="4804" y="4574"/>
                  <a:pt x="4804" y="4574"/>
                </a:cubicBezTo>
                <a:cubicBezTo>
                  <a:pt x="4823" y="4610"/>
                  <a:pt x="4842" y="4610"/>
                  <a:pt x="4861" y="4610"/>
                </a:cubicBezTo>
                <a:cubicBezTo>
                  <a:pt x="4880" y="4647"/>
                  <a:pt x="4899" y="4683"/>
                  <a:pt x="4918" y="4683"/>
                </a:cubicBezTo>
                <a:cubicBezTo>
                  <a:pt x="4937" y="4719"/>
                  <a:pt x="4974" y="4756"/>
                  <a:pt x="5012" y="4756"/>
                </a:cubicBezTo>
                <a:cubicBezTo>
                  <a:pt x="5012" y="4756"/>
                  <a:pt x="5012" y="4756"/>
                  <a:pt x="5012" y="4756"/>
                </a:cubicBezTo>
                <a:cubicBezTo>
                  <a:pt x="5012" y="4792"/>
                  <a:pt x="5012" y="4792"/>
                  <a:pt x="5012" y="4828"/>
                </a:cubicBezTo>
                <a:cubicBezTo>
                  <a:pt x="4993" y="4865"/>
                  <a:pt x="4937" y="4973"/>
                  <a:pt x="4899" y="4937"/>
                </a:cubicBezTo>
                <a:cubicBezTo>
                  <a:pt x="4880" y="4937"/>
                  <a:pt x="4861" y="4937"/>
                  <a:pt x="4842" y="4901"/>
                </a:cubicBezTo>
                <a:cubicBezTo>
                  <a:pt x="4842" y="4973"/>
                  <a:pt x="4861" y="5010"/>
                  <a:pt x="4861" y="5046"/>
                </a:cubicBezTo>
                <a:cubicBezTo>
                  <a:pt x="4804" y="5046"/>
                  <a:pt x="4785" y="5010"/>
                  <a:pt x="4747" y="4973"/>
                </a:cubicBezTo>
                <a:cubicBezTo>
                  <a:pt x="4710" y="4973"/>
                  <a:pt x="4672" y="4973"/>
                  <a:pt x="4634" y="4937"/>
                </a:cubicBezTo>
                <a:cubicBezTo>
                  <a:pt x="4634" y="4937"/>
                  <a:pt x="4634" y="4973"/>
                  <a:pt x="4634" y="4973"/>
                </a:cubicBezTo>
                <a:cubicBezTo>
                  <a:pt x="4634" y="4973"/>
                  <a:pt x="4634" y="4973"/>
                  <a:pt x="4653" y="4973"/>
                </a:cubicBezTo>
                <a:cubicBezTo>
                  <a:pt x="4672" y="4973"/>
                  <a:pt x="4691" y="5010"/>
                  <a:pt x="4710" y="5010"/>
                </a:cubicBezTo>
                <a:cubicBezTo>
                  <a:pt x="4747" y="5046"/>
                  <a:pt x="4785" y="5046"/>
                  <a:pt x="4804" y="5082"/>
                </a:cubicBezTo>
                <a:cubicBezTo>
                  <a:pt x="4804" y="5119"/>
                  <a:pt x="4804" y="5119"/>
                  <a:pt x="4804" y="5119"/>
                </a:cubicBezTo>
                <a:cubicBezTo>
                  <a:pt x="4785" y="5155"/>
                  <a:pt x="4785" y="5155"/>
                  <a:pt x="4766" y="5155"/>
                </a:cubicBezTo>
                <a:cubicBezTo>
                  <a:pt x="4729" y="5155"/>
                  <a:pt x="4710" y="5155"/>
                  <a:pt x="4691" y="5155"/>
                </a:cubicBezTo>
                <a:cubicBezTo>
                  <a:pt x="4691" y="5155"/>
                  <a:pt x="4691" y="5155"/>
                  <a:pt x="4691" y="5155"/>
                </a:cubicBezTo>
                <a:cubicBezTo>
                  <a:pt x="4691" y="5155"/>
                  <a:pt x="4691" y="5155"/>
                  <a:pt x="4691" y="5155"/>
                </a:cubicBezTo>
                <a:cubicBezTo>
                  <a:pt x="4710" y="5191"/>
                  <a:pt x="4710" y="5191"/>
                  <a:pt x="4729" y="5191"/>
                </a:cubicBezTo>
                <a:cubicBezTo>
                  <a:pt x="4729" y="5228"/>
                  <a:pt x="4729" y="5228"/>
                  <a:pt x="4729" y="5228"/>
                </a:cubicBezTo>
                <a:cubicBezTo>
                  <a:pt x="4710" y="5264"/>
                  <a:pt x="4653" y="5300"/>
                  <a:pt x="4634" y="5336"/>
                </a:cubicBezTo>
                <a:cubicBezTo>
                  <a:pt x="4634" y="5373"/>
                  <a:pt x="4634" y="5409"/>
                  <a:pt x="4634" y="5409"/>
                </a:cubicBezTo>
                <a:cubicBezTo>
                  <a:pt x="4634" y="5445"/>
                  <a:pt x="4615" y="5409"/>
                  <a:pt x="4596" y="5445"/>
                </a:cubicBezTo>
                <a:cubicBezTo>
                  <a:pt x="4577" y="5518"/>
                  <a:pt x="4520" y="5772"/>
                  <a:pt x="4558" y="5881"/>
                </a:cubicBezTo>
                <a:cubicBezTo>
                  <a:pt x="4596" y="5917"/>
                  <a:pt x="4615" y="5881"/>
                  <a:pt x="4653" y="5917"/>
                </a:cubicBezTo>
                <a:cubicBezTo>
                  <a:pt x="4672" y="5954"/>
                  <a:pt x="4691" y="6063"/>
                  <a:pt x="4691" y="6135"/>
                </a:cubicBezTo>
                <a:cubicBezTo>
                  <a:pt x="4691" y="6135"/>
                  <a:pt x="4691" y="6171"/>
                  <a:pt x="4691" y="6208"/>
                </a:cubicBezTo>
                <a:cubicBezTo>
                  <a:pt x="4729" y="6208"/>
                  <a:pt x="4747" y="6135"/>
                  <a:pt x="4804" y="6171"/>
                </a:cubicBezTo>
                <a:cubicBezTo>
                  <a:pt x="4861" y="6171"/>
                  <a:pt x="4937" y="6244"/>
                  <a:pt x="4974" y="6317"/>
                </a:cubicBezTo>
                <a:cubicBezTo>
                  <a:pt x="4974" y="6317"/>
                  <a:pt x="4993" y="6353"/>
                  <a:pt x="4993" y="6389"/>
                </a:cubicBezTo>
                <a:cubicBezTo>
                  <a:pt x="5031" y="6389"/>
                  <a:pt x="5069" y="6426"/>
                  <a:pt x="5088" y="6426"/>
                </a:cubicBezTo>
                <a:cubicBezTo>
                  <a:pt x="5107" y="6426"/>
                  <a:pt x="5126" y="6462"/>
                  <a:pt x="5145" y="6462"/>
                </a:cubicBezTo>
                <a:cubicBezTo>
                  <a:pt x="5182" y="6498"/>
                  <a:pt x="5296" y="6462"/>
                  <a:pt x="5334" y="6534"/>
                </a:cubicBezTo>
                <a:cubicBezTo>
                  <a:pt x="5315" y="6571"/>
                  <a:pt x="5315" y="6607"/>
                  <a:pt x="5315" y="6643"/>
                </a:cubicBezTo>
                <a:cubicBezTo>
                  <a:pt x="5315" y="6680"/>
                  <a:pt x="5315" y="6680"/>
                  <a:pt x="5334" y="6716"/>
                </a:cubicBezTo>
                <a:cubicBezTo>
                  <a:pt x="5334" y="6789"/>
                  <a:pt x="5315" y="6825"/>
                  <a:pt x="5315" y="6861"/>
                </a:cubicBezTo>
                <a:cubicBezTo>
                  <a:pt x="5334" y="6897"/>
                  <a:pt x="5353" y="6897"/>
                  <a:pt x="5353" y="7006"/>
                </a:cubicBezTo>
                <a:cubicBezTo>
                  <a:pt x="5391" y="7006"/>
                  <a:pt x="5428" y="7043"/>
                  <a:pt x="5447" y="7115"/>
                </a:cubicBezTo>
                <a:cubicBezTo>
                  <a:pt x="5466" y="7115"/>
                  <a:pt x="5485" y="7188"/>
                  <a:pt x="5504" y="7188"/>
                </a:cubicBezTo>
                <a:cubicBezTo>
                  <a:pt x="5504" y="7152"/>
                  <a:pt x="5485" y="7152"/>
                  <a:pt x="5485" y="7115"/>
                </a:cubicBezTo>
                <a:cubicBezTo>
                  <a:pt x="5485" y="7115"/>
                  <a:pt x="5504" y="7079"/>
                  <a:pt x="5504" y="7079"/>
                </a:cubicBezTo>
                <a:cubicBezTo>
                  <a:pt x="5523" y="7079"/>
                  <a:pt x="5523" y="7115"/>
                  <a:pt x="5542" y="7152"/>
                </a:cubicBezTo>
                <a:cubicBezTo>
                  <a:pt x="5542" y="7115"/>
                  <a:pt x="5542" y="7079"/>
                  <a:pt x="5542" y="7043"/>
                </a:cubicBezTo>
                <a:cubicBezTo>
                  <a:pt x="5580" y="7006"/>
                  <a:pt x="5542" y="6934"/>
                  <a:pt x="5542" y="6861"/>
                </a:cubicBezTo>
                <a:cubicBezTo>
                  <a:pt x="5542" y="6825"/>
                  <a:pt x="5542" y="6825"/>
                  <a:pt x="5542" y="6825"/>
                </a:cubicBezTo>
                <a:cubicBezTo>
                  <a:pt x="5523" y="6789"/>
                  <a:pt x="5523" y="6752"/>
                  <a:pt x="5523" y="6716"/>
                </a:cubicBezTo>
                <a:cubicBezTo>
                  <a:pt x="5523" y="6716"/>
                  <a:pt x="5523" y="6716"/>
                  <a:pt x="5542" y="6716"/>
                </a:cubicBezTo>
                <a:cubicBezTo>
                  <a:pt x="5542" y="6680"/>
                  <a:pt x="5523" y="6680"/>
                  <a:pt x="5504" y="6680"/>
                </a:cubicBezTo>
                <a:cubicBezTo>
                  <a:pt x="5504" y="6643"/>
                  <a:pt x="5485" y="6607"/>
                  <a:pt x="5485" y="6571"/>
                </a:cubicBezTo>
                <a:cubicBezTo>
                  <a:pt x="5580" y="6534"/>
                  <a:pt x="5750" y="6317"/>
                  <a:pt x="5655" y="6063"/>
                </a:cubicBezTo>
                <a:cubicBezTo>
                  <a:pt x="5636" y="6026"/>
                  <a:pt x="5561" y="5954"/>
                  <a:pt x="5561" y="5917"/>
                </a:cubicBezTo>
                <a:cubicBezTo>
                  <a:pt x="5580" y="5881"/>
                  <a:pt x="5580" y="5845"/>
                  <a:pt x="5599" y="5808"/>
                </a:cubicBezTo>
                <a:cubicBezTo>
                  <a:pt x="5599" y="5772"/>
                  <a:pt x="5599" y="5772"/>
                  <a:pt x="5599" y="5736"/>
                </a:cubicBezTo>
                <a:cubicBezTo>
                  <a:pt x="5618" y="5736"/>
                  <a:pt x="5618" y="5736"/>
                  <a:pt x="5636" y="5736"/>
                </a:cubicBezTo>
                <a:cubicBezTo>
                  <a:pt x="5636" y="5699"/>
                  <a:pt x="5636" y="5663"/>
                  <a:pt x="5618" y="5663"/>
                </a:cubicBezTo>
                <a:cubicBezTo>
                  <a:pt x="5618" y="5627"/>
                  <a:pt x="5618" y="5627"/>
                  <a:pt x="5618" y="5627"/>
                </a:cubicBezTo>
                <a:cubicBezTo>
                  <a:pt x="5618" y="5591"/>
                  <a:pt x="5618" y="5591"/>
                  <a:pt x="5618" y="5554"/>
                </a:cubicBezTo>
                <a:cubicBezTo>
                  <a:pt x="5599" y="5554"/>
                  <a:pt x="5599" y="5554"/>
                  <a:pt x="5580" y="5554"/>
                </a:cubicBezTo>
                <a:cubicBezTo>
                  <a:pt x="5580" y="5554"/>
                  <a:pt x="5580" y="5554"/>
                  <a:pt x="5580" y="5554"/>
                </a:cubicBezTo>
                <a:cubicBezTo>
                  <a:pt x="5580" y="5518"/>
                  <a:pt x="5618" y="5482"/>
                  <a:pt x="5618" y="5409"/>
                </a:cubicBezTo>
                <a:cubicBezTo>
                  <a:pt x="5599" y="5373"/>
                  <a:pt x="5599" y="5373"/>
                  <a:pt x="5580" y="5336"/>
                </a:cubicBezTo>
                <a:cubicBezTo>
                  <a:pt x="5580" y="5300"/>
                  <a:pt x="5599" y="5228"/>
                  <a:pt x="5636" y="5228"/>
                </a:cubicBezTo>
                <a:cubicBezTo>
                  <a:pt x="5674" y="5228"/>
                  <a:pt x="5712" y="5264"/>
                  <a:pt x="5750" y="5300"/>
                </a:cubicBezTo>
                <a:cubicBezTo>
                  <a:pt x="5788" y="5300"/>
                  <a:pt x="5844" y="5228"/>
                  <a:pt x="5863" y="5264"/>
                </a:cubicBezTo>
                <a:cubicBezTo>
                  <a:pt x="5901" y="5264"/>
                  <a:pt x="5939" y="5373"/>
                  <a:pt x="5977" y="5409"/>
                </a:cubicBezTo>
                <a:cubicBezTo>
                  <a:pt x="5958" y="5445"/>
                  <a:pt x="5958" y="5445"/>
                  <a:pt x="5977" y="5445"/>
                </a:cubicBezTo>
                <a:cubicBezTo>
                  <a:pt x="6015" y="5482"/>
                  <a:pt x="6034" y="5518"/>
                  <a:pt x="6071" y="5518"/>
                </a:cubicBezTo>
                <a:cubicBezTo>
                  <a:pt x="6090" y="5518"/>
                  <a:pt x="6109" y="5518"/>
                  <a:pt x="6109" y="5518"/>
                </a:cubicBezTo>
                <a:cubicBezTo>
                  <a:pt x="6109" y="5518"/>
                  <a:pt x="6109" y="5518"/>
                  <a:pt x="6109" y="5518"/>
                </a:cubicBezTo>
                <a:cubicBezTo>
                  <a:pt x="6109" y="5554"/>
                  <a:pt x="6109" y="5554"/>
                  <a:pt x="6109" y="5554"/>
                </a:cubicBezTo>
                <a:cubicBezTo>
                  <a:pt x="6071" y="5591"/>
                  <a:pt x="6128" y="5808"/>
                  <a:pt x="6109" y="5845"/>
                </a:cubicBezTo>
                <a:cubicBezTo>
                  <a:pt x="6109" y="5845"/>
                  <a:pt x="6090" y="5845"/>
                  <a:pt x="6090" y="5845"/>
                </a:cubicBezTo>
                <a:cubicBezTo>
                  <a:pt x="6090" y="5881"/>
                  <a:pt x="6090" y="5917"/>
                  <a:pt x="6090" y="5917"/>
                </a:cubicBezTo>
                <a:cubicBezTo>
                  <a:pt x="6090" y="5917"/>
                  <a:pt x="6090" y="5917"/>
                  <a:pt x="6090" y="5917"/>
                </a:cubicBezTo>
                <a:cubicBezTo>
                  <a:pt x="6147" y="5881"/>
                  <a:pt x="6166" y="5845"/>
                  <a:pt x="6204" y="5954"/>
                </a:cubicBezTo>
                <a:cubicBezTo>
                  <a:pt x="6204" y="5954"/>
                  <a:pt x="6204" y="5954"/>
                  <a:pt x="6185" y="5990"/>
                </a:cubicBezTo>
                <a:cubicBezTo>
                  <a:pt x="6204" y="5990"/>
                  <a:pt x="6204" y="5990"/>
                  <a:pt x="6204" y="5990"/>
                </a:cubicBezTo>
                <a:cubicBezTo>
                  <a:pt x="6223" y="5990"/>
                  <a:pt x="6261" y="5990"/>
                  <a:pt x="6280" y="5954"/>
                </a:cubicBezTo>
                <a:cubicBezTo>
                  <a:pt x="6280" y="5917"/>
                  <a:pt x="6298" y="5917"/>
                  <a:pt x="6298" y="5881"/>
                </a:cubicBezTo>
                <a:cubicBezTo>
                  <a:pt x="6317" y="5881"/>
                  <a:pt x="6317" y="5917"/>
                  <a:pt x="6336" y="5954"/>
                </a:cubicBezTo>
                <a:cubicBezTo>
                  <a:pt x="6336" y="5954"/>
                  <a:pt x="6336" y="5954"/>
                  <a:pt x="6336" y="5954"/>
                </a:cubicBezTo>
                <a:cubicBezTo>
                  <a:pt x="6336" y="5845"/>
                  <a:pt x="6355" y="5845"/>
                  <a:pt x="6374" y="5808"/>
                </a:cubicBezTo>
                <a:cubicBezTo>
                  <a:pt x="6336" y="5699"/>
                  <a:pt x="6355" y="5736"/>
                  <a:pt x="6393" y="5699"/>
                </a:cubicBezTo>
                <a:cubicBezTo>
                  <a:pt x="6393" y="5699"/>
                  <a:pt x="6393" y="5663"/>
                  <a:pt x="6412" y="5663"/>
                </a:cubicBezTo>
                <a:cubicBezTo>
                  <a:pt x="6412" y="5663"/>
                  <a:pt x="6412" y="5663"/>
                  <a:pt x="6412" y="5663"/>
                </a:cubicBezTo>
                <a:cubicBezTo>
                  <a:pt x="6431" y="5663"/>
                  <a:pt x="6488" y="5845"/>
                  <a:pt x="6525" y="5917"/>
                </a:cubicBezTo>
                <a:cubicBezTo>
                  <a:pt x="6506" y="5917"/>
                  <a:pt x="6506" y="5917"/>
                  <a:pt x="6506" y="5954"/>
                </a:cubicBezTo>
                <a:cubicBezTo>
                  <a:pt x="6506" y="5954"/>
                  <a:pt x="6525" y="5954"/>
                  <a:pt x="6525" y="5954"/>
                </a:cubicBezTo>
                <a:cubicBezTo>
                  <a:pt x="6525" y="6063"/>
                  <a:pt x="6582" y="6026"/>
                  <a:pt x="6582" y="6099"/>
                </a:cubicBezTo>
                <a:cubicBezTo>
                  <a:pt x="6582" y="6099"/>
                  <a:pt x="6563" y="6099"/>
                  <a:pt x="6563" y="6135"/>
                </a:cubicBezTo>
                <a:cubicBezTo>
                  <a:pt x="6582" y="6171"/>
                  <a:pt x="6601" y="6171"/>
                  <a:pt x="6620" y="6208"/>
                </a:cubicBezTo>
                <a:cubicBezTo>
                  <a:pt x="6620" y="6208"/>
                  <a:pt x="6620" y="6244"/>
                  <a:pt x="6601" y="6244"/>
                </a:cubicBezTo>
                <a:cubicBezTo>
                  <a:pt x="6601" y="6244"/>
                  <a:pt x="6563" y="6208"/>
                  <a:pt x="6563" y="6244"/>
                </a:cubicBezTo>
                <a:cubicBezTo>
                  <a:pt x="6544" y="6244"/>
                  <a:pt x="6544" y="6244"/>
                  <a:pt x="6544" y="6244"/>
                </a:cubicBezTo>
                <a:cubicBezTo>
                  <a:pt x="6563" y="6244"/>
                  <a:pt x="6582" y="6317"/>
                  <a:pt x="6582" y="6353"/>
                </a:cubicBezTo>
                <a:cubicBezTo>
                  <a:pt x="6601" y="6353"/>
                  <a:pt x="6601" y="6353"/>
                  <a:pt x="6601" y="6353"/>
                </a:cubicBezTo>
                <a:cubicBezTo>
                  <a:pt x="6620" y="6353"/>
                  <a:pt x="6677" y="6426"/>
                  <a:pt x="6677" y="6462"/>
                </a:cubicBezTo>
                <a:cubicBezTo>
                  <a:pt x="6677" y="6462"/>
                  <a:pt x="6658" y="6498"/>
                  <a:pt x="6658" y="6534"/>
                </a:cubicBezTo>
                <a:cubicBezTo>
                  <a:pt x="6677" y="6534"/>
                  <a:pt x="6696" y="6498"/>
                  <a:pt x="6715" y="6498"/>
                </a:cubicBezTo>
                <a:cubicBezTo>
                  <a:pt x="6733" y="6498"/>
                  <a:pt x="6752" y="6534"/>
                  <a:pt x="6790" y="6571"/>
                </a:cubicBezTo>
                <a:cubicBezTo>
                  <a:pt x="6809" y="6571"/>
                  <a:pt x="6828" y="6607"/>
                  <a:pt x="6847" y="6607"/>
                </a:cubicBezTo>
                <a:cubicBezTo>
                  <a:pt x="6847" y="6643"/>
                  <a:pt x="6809" y="6643"/>
                  <a:pt x="6790" y="6643"/>
                </a:cubicBezTo>
                <a:cubicBezTo>
                  <a:pt x="6771" y="6680"/>
                  <a:pt x="6752" y="6716"/>
                  <a:pt x="6733" y="6716"/>
                </a:cubicBezTo>
                <a:cubicBezTo>
                  <a:pt x="6715" y="6716"/>
                  <a:pt x="6715" y="6716"/>
                  <a:pt x="6696" y="6716"/>
                </a:cubicBezTo>
                <a:cubicBezTo>
                  <a:pt x="6696" y="6752"/>
                  <a:pt x="6677" y="6789"/>
                  <a:pt x="6677" y="6825"/>
                </a:cubicBezTo>
                <a:cubicBezTo>
                  <a:pt x="6696" y="6789"/>
                  <a:pt x="6733" y="6789"/>
                  <a:pt x="6752" y="6752"/>
                </a:cubicBezTo>
                <a:cubicBezTo>
                  <a:pt x="6790" y="6716"/>
                  <a:pt x="6828" y="6607"/>
                  <a:pt x="6866" y="6716"/>
                </a:cubicBezTo>
                <a:cubicBezTo>
                  <a:pt x="6866" y="6716"/>
                  <a:pt x="6866" y="6752"/>
                  <a:pt x="6866" y="6752"/>
                </a:cubicBezTo>
                <a:cubicBezTo>
                  <a:pt x="6866" y="6752"/>
                  <a:pt x="6866" y="6752"/>
                  <a:pt x="6866" y="6789"/>
                </a:cubicBezTo>
                <a:cubicBezTo>
                  <a:pt x="6885" y="6752"/>
                  <a:pt x="6885" y="6752"/>
                  <a:pt x="6904" y="6752"/>
                </a:cubicBezTo>
                <a:cubicBezTo>
                  <a:pt x="6923" y="6752"/>
                  <a:pt x="6960" y="6789"/>
                  <a:pt x="6960" y="6825"/>
                </a:cubicBezTo>
                <a:cubicBezTo>
                  <a:pt x="6942" y="6861"/>
                  <a:pt x="6942" y="6897"/>
                  <a:pt x="6942" y="6934"/>
                </a:cubicBezTo>
                <a:cubicBezTo>
                  <a:pt x="6942" y="6934"/>
                  <a:pt x="6960" y="6970"/>
                  <a:pt x="6960" y="6970"/>
                </a:cubicBezTo>
                <a:cubicBezTo>
                  <a:pt x="6960" y="6970"/>
                  <a:pt x="6960" y="6970"/>
                  <a:pt x="6960" y="7006"/>
                </a:cubicBezTo>
                <a:cubicBezTo>
                  <a:pt x="6942" y="7006"/>
                  <a:pt x="6904" y="7079"/>
                  <a:pt x="6885" y="7079"/>
                </a:cubicBezTo>
                <a:cubicBezTo>
                  <a:pt x="6847" y="7115"/>
                  <a:pt x="6809" y="7115"/>
                  <a:pt x="6790" y="7115"/>
                </a:cubicBezTo>
                <a:cubicBezTo>
                  <a:pt x="6771" y="7152"/>
                  <a:pt x="6752" y="7188"/>
                  <a:pt x="6733" y="7224"/>
                </a:cubicBezTo>
                <a:cubicBezTo>
                  <a:pt x="6696" y="7261"/>
                  <a:pt x="6658" y="7261"/>
                  <a:pt x="6601" y="7297"/>
                </a:cubicBezTo>
                <a:cubicBezTo>
                  <a:pt x="6563" y="7297"/>
                  <a:pt x="6525" y="7261"/>
                  <a:pt x="6506" y="7261"/>
                </a:cubicBezTo>
                <a:cubicBezTo>
                  <a:pt x="6469" y="7261"/>
                  <a:pt x="6431" y="7297"/>
                  <a:pt x="6393" y="7261"/>
                </a:cubicBezTo>
                <a:cubicBezTo>
                  <a:pt x="6374" y="7261"/>
                  <a:pt x="6317" y="7261"/>
                  <a:pt x="6298" y="7297"/>
                </a:cubicBezTo>
                <a:cubicBezTo>
                  <a:pt x="6261" y="7297"/>
                  <a:pt x="6261" y="7369"/>
                  <a:pt x="6242" y="7406"/>
                </a:cubicBezTo>
                <a:cubicBezTo>
                  <a:pt x="6223" y="7442"/>
                  <a:pt x="6204" y="7442"/>
                  <a:pt x="6185" y="7442"/>
                </a:cubicBezTo>
                <a:cubicBezTo>
                  <a:pt x="6109" y="7515"/>
                  <a:pt x="6053" y="7696"/>
                  <a:pt x="6015" y="7805"/>
                </a:cubicBezTo>
                <a:cubicBezTo>
                  <a:pt x="6053" y="7769"/>
                  <a:pt x="6090" y="7660"/>
                  <a:pt x="6128" y="7624"/>
                </a:cubicBezTo>
                <a:cubicBezTo>
                  <a:pt x="6166" y="7551"/>
                  <a:pt x="6242" y="7515"/>
                  <a:pt x="6298" y="7478"/>
                </a:cubicBezTo>
                <a:cubicBezTo>
                  <a:pt x="6355" y="7442"/>
                  <a:pt x="6412" y="7442"/>
                  <a:pt x="6431" y="7515"/>
                </a:cubicBezTo>
                <a:cubicBezTo>
                  <a:pt x="6431" y="7551"/>
                  <a:pt x="6374" y="7624"/>
                  <a:pt x="6355" y="7624"/>
                </a:cubicBezTo>
                <a:cubicBezTo>
                  <a:pt x="6355" y="7624"/>
                  <a:pt x="6336" y="7624"/>
                  <a:pt x="6336" y="7587"/>
                </a:cubicBezTo>
                <a:cubicBezTo>
                  <a:pt x="6317" y="7587"/>
                  <a:pt x="6298" y="7624"/>
                  <a:pt x="6298" y="7624"/>
                </a:cubicBezTo>
                <a:cubicBezTo>
                  <a:pt x="6298" y="7624"/>
                  <a:pt x="6298" y="7624"/>
                  <a:pt x="6298" y="7624"/>
                </a:cubicBezTo>
                <a:cubicBezTo>
                  <a:pt x="6317" y="7624"/>
                  <a:pt x="6336" y="7660"/>
                  <a:pt x="6355" y="7696"/>
                </a:cubicBezTo>
                <a:cubicBezTo>
                  <a:pt x="6355" y="7660"/>
                  <a:pt x="6374" y="7660"/>
                  <a:pt x="6393" y="7660"/>
                </a:cubicBezTo>
                <a:cubicBezTo>
                  <a:pt x="6393" y="7660"/>
                  <a:pt x="6393" y="7660"/>
                  <a:pt x="6393" y="7660"/>
                </a:cubicBezTo>
                <a:cubicBezTo>
                  <a:pt x="6393" y="7660"/>
                  <a:pt x="6393" y="7660"/>
                  <a:pt x="6393" y="7660"/>
                </a:cubicBezTo>
                <a:cubicBezTo>
                  <a:pt x="6393" y="7660"/>
                  <a:pt x="6412" y="7660"/>
                  <a:pt x="6412" y="7660"/>
                </a:cubicBezTo>
                <a:cubicBezTo>
                  <a:pt x="6393" y="7660"/>
                  <a:pt x="6393" y="7696"/>
                  <a:pt x="6393" y="7696"/>
                </a:cubicBezTo>
                <a:cubicBezTo>
                  <a:pt x="6393" y="7732"/>
                  <a:pt x="6374" y="7732"/>
                  <a:pt x="6374" y="7769"/>
                </a:cubicBezTo>
                <a:cubicBezTo>
                  <a:pt x="6374" y="7769"/>
                  <a:pt x="6393" y="7769"/>
                  <a:pt x="6393" y="7769"/>
                </a:cubicBezTo>
                <a:cubicBezTo>
                  <a:pt x="6393" y="7805"/>
                  <a:pt x="6393" y="7805"/>
                  <a:pt x="6393" y="7841"/>
                </a:cubicBezTo>
                <a:cubicBezTo>
                  <a:pt x="6393" y="7805"/>
                  <a:pt x="6393" y="7805"/>
                  <a:pt x="6412" y="7841"/>
                </a:cubicBezTo>
                <a:cubicBezTo>
                  <a:pt x="6393" y="7914"/>
                  <a:pt x="6431" y="7878"/>
                  <a:pt x="6469" y="7914"/>
                </a:cubicBezTo>
                <a:cubicBezTo>
                  <a:pt x="6469" y="7914"/>
                  <a:pt x="6469" y="7914"/>
                  <a:pt x="6450" y="7914"/>
                </a:cubicBezTo>
                <a:cubicBezTo>
                  <a:pt x="6450" y="7914"/>
                  <a:pt x="6450" y="7914"/>
                  <a:pt x="6450" y="7914"/>
                </a:cubicBezTo>
                <a:cubicBezTo>
                  <a:pt x="6450" y="7914"/>
                  <a:pt x="6450" y="7914"/>
                  <a:pt x="6450" y="7914"/>
                </a:cubicBezTo>
                <a:cubicBezTo>
                  <a:pt x="6450" y="7914"/>
                  <a:pt x="6450" y="7914"/>
                  <a:pt x="6450" y="7914"/>
                </a:cubicBezTo>
                <a:cubicBezTo>
                  <a:pt x="6450" y="7914"/>
                  <a:pt x="6450" y="7914"/>
                  <a:pt x="6450" y="7914"/>
                </a:cubicBezTo>
                <a:cubicBezTo>
                  <a:pt x="6450" y="7914"/>
                  <a:pt x="6450" y="7950"/>
                  <a:pt x="6469" y="7950"/>
                </a:cubicBezTo>
                <a:cubicBezTo>
                  <a:pt x="6469" y="7950"/>
                  <a:pt x="6469" y="7950"/>
                  <a:pt x="6488" y="7950"/>
                </a:cubicBezTo>
                <a:cubicBezTo>
                  <a:pt x="6488" y="7950"/>
                  <a:pt x="6488" y="7950"/>
                  <a:pt x="6488" y="7950"/>
                </a:cubicBezTo>
                <a:cubicBezTo>
                  <a:pt x="6506" y="7950"/>
                  <a:pt x="6506" y="7950"/>
                  <a:pt x="6525" y="7950"/>
                </a:cubicBezTo>
                <a:cubicBezTo>
                  <a:pt x="6525" y="7950"/>
                  <a:pt x="6525" y="7950"/>
                  <a:pt x="6525" y="7950"/>
                </a:cubicBezTo>
                <a:cubicBezTo>
                  <a:pt x="6525" y="7950"/>
                  <a:pt x="6525" y="7950"/>
                  <a:pt x="6525" y="7950"/>
                </a:cubicBezTo>
                <a:cubicBezTo>
                  <a:pt x="6525" y="7950"/>
                  <a:pt x="6525" y="7987"/>
                  <a:pt x="6525" y="7987"/>
                </a:cubicBezTo>
                <a:cubicBezTo>
                  <a:pt x="6525" y="7987"/>
                  <a:pt x="6544" y="7987"/>
                  <a:pt x="6544" y="7987"/>
                </a:cubicBezTo>
                <a:cubicBezTo>
                  <a:pt x="6563" y="7950"/>
                  <a:pt x="6563" y="7950"/>
                  <a:pt x="6582" y="7950"/>
                </a:cubicBezTo>
                <a:cubicBezTo>
                  <a:pt x="6582" y="7987"/>
                  <a:pt x="6582" y="7950"/>
                  <a:pt x="6601" y="7987"/>
                </a:cubicBezTo>
                <a:cubicBezTo>
                  <a:pt x="6601" y="7987"/>
                  <a:pt x="6620" y="7987"/>
                  <a:pt x="6620" y="7987"/>
                </a:cubicBezTo>
                <a:cubicBezTo>
                  <a:pt x="6620" y="7987"/>
                  <a:pt x="6620" y="7987"/>
                  <a:pt x="6620" y="8023"/>
                </a:cubicBezTo>
                <a:cubicBezTo>
                  <a:pt x="6601" y="8023"/>
                  <a:pt x="6601" y="8023"/>
                  <a:pt x="6601" y="8023"/>
                </a:cubicBezTo>
                <a:cubicBezTo>
                  <a:pt x="6601" y="8023"/>
                  <a:pt x="6601" y="8023"/>
                  <a:pt x="6601" y="8023"/>
                </a:cubicBezTo>
                <a:cubicBezTo>
                  <a:pt x="6620" y="8023"/>
                  <a:pt x="6639" y="8023"/>
                  <a:pt x="6639" y="8023"/>
                </a:cubicBezTo>
                <a:cubicBezTo>
                  <a:pt x="6639" y="8023"/>
                  <a:pt x="6620" y="8059"/>
                  <a:pt x="6620" y="8059"/>
                </a:cubicBezTo>
                <a:cubicBezTo>
                  <a:pt x="6620" y="8023"/>
                  <a:pt x="6620" y="8023"/>
                  <a:pt x="6620" y="8023"/>
                </a:cubicBezTo>
                <a:cubicBezTo>
                  <a:pt x="6620" y="8059"/>
                  <a:pt x="6601" y="8059"/>
                  <a:pt x="6601" y="8059"/>
                </a:cubicBezTo>
                <a:cubicBezTo>
                  <a:pt x="6601" y="8059"/>
                  <a:pt x="6620" y="8059"/>
                  <a:pt x="6620" y="8059"/>
                </a:cubicBezTo>
                <a:cubicBezTo>
                  <a:pt x="6601" y="8059"/>
                  <a:pt x="6601" y="8059"/>
                  <a:pt x="6582" y="8059"/>
                </a:cubicBezTo>
                <a:cubicBezTo>
                  <a:pt x="6601" y="8059"/>
                  <a:pt x="6601" y="8059"/>
                  <a:pt x="6601" y="8059"/>
                </a:cubicBezTo>
                <a:cubicBezTo>
                  <a:pt x="6563" y="8059"/>
                  <a:pt x="6525" y="8095"/>
                  <a:pt x="6506" y="8132"/>
                </a:cubicBezTo>
                <a:cubicBezTo>
                  <a:pt x="6506" y="8095"/>
                  <a:pt x="6506" y="8095"/>
                  <a:pt x="6506" y="8095"/>
                </a:cubicBezTo>
                <a:cubicBezTo>
                  <a:pt x="6488" y="8095"/>
                  <a:pt x="6488" y="8095"/>
                  <a:pt x="6488" y="8095"/>
                </a:cubicBezTo>
                <a:cubicBezTo>
                  <a:pt x="6488" y="8132"/>
                  <a:pt x="6488" y="8132"/>
                  <a:pt x="6488" y="8132"/>
                </a:cubicBezTo>
                <a:cubicBezTo>
                  <a:pt x="6488" y="8132"/>
                  <a:pt x="6488" y="8132"/>
                  <a:pt x="6488" y="8132"/>
                </a:cubicBezTo>
                <a:cubicBezTo>
                  <a:pt x="6488" y="8132"/>
                  <a:pt x="6488" y="8132"/>
                  <a:pt x="6469" y="8132"/>
                </a:cubicBezTo>
                <a:cubicBezTo>
                  <a:pt x="6469" y="8132"/>
                  <a:pt x="6469" y="8132"/>
                  <a:pt x="6450" y="8132"/>
                </a:cubicBezTo>
                <a:cubicBezTo>
                  <a:pt x="6450" y="8132"/>
                  <a:pt x="6450" y="8132"/>
                  <a:pt x="6450" y="8132"/>
                </a:cubicBezTo>
                <a:cubicBezTo>
                  <a:pt x="6450" y="8132"/>
                  <a:pt x="6450" y="8132"/>
                  <a:pt x="6450" y="8132"/>
                </a:cubicBezTo>
                <a:cubicBezTo>
                  <a:pt x="6450" y="8132"/>
                  <a:pt x="6450" y="8132"/>
                  <a:pt x="6450" y="8132"/>
                </a:cubicBezTo>
                <a:cubicBezTo>
                  <a:pt x="6450" y="8132"/>
                  <a:pt x="6450" y="8132"/>
                  <a:pt x="6450" y="8132"/>
                </a:cubicBezTo>
                <a:cubicBezTo>
                  <a:pt x="6431" y="8132"/>
                  <a:pt x="6431" y="8132"/>
                  <a:pt x="6431" y="8132"/>
                </a:cubicBezTo>
                <a:cubicBezTo>
                  <a:pt x="6431" y="8132"/>
                  <a:pt x="6431" y="8132"/>
                  <a:pt x="6431" y="8132"/>
                </a:cubicBezTo>
                <a:cubicBezTo>
                  <a:pt x="6431" y="8168"/>
                  <a:pt x="6431" y="8168"/>
                  <a:pt x="6431" y="8168"/>
                </a:cubicBezTo>
                <a:cubicBezTo>
                  <a:pt x="6412" y="8168"/>
                  <a:pt x="6393" y="8241"/>
                  <a:pt x="6393" y="8241"/>
                </a:cubicBezTo>
                <a:cubicBezTo>
                  <a:pt x="6393" y="8241"/>
                  <a:pt x="6393" y="8241"/>
                  <a:pt x="6393" y="8241"/>
                </a:cubicBezTo>
                <a:cubicBezTo>
                  <a:pt x="6393" y="8241"/>
                  <a:pt x="6393" y="8241"/>
                  <a:pt x="6393" y="8277"/>
                </a:cubicBezTo>
                <a:cubicBezTo>
                  <a:pt x="6374" y="8277"/>
                  <a:pt x="6374" y="8277"/>
                  <a:pt x="6355" y="8277"/>
                </a:cubicBezTo>
                <a:cubicBezTo>
                  <a:pt x="6355" y="8277"/>
                  <a:pt x="6355" y="8277"/>
                  <a:pt x="6355" y="8277"/>
                </a:cubicBezTo>
                <a:cubicBezTo>
                  <a:pt x="6355" y="8277"/>
                  <a:pt x="6355" y="8277"/>
                  <a:pt x="6336" y="8277"/>
                </a:cubicBezTo>
                <a:cubicBezTo>
                  <a:pt x="6336" y="8277"/>
                  <a:pt x="6336" y="8277"/>
                  <a:pt x="6336" y="8241"/>
                </a:cubicBezTo>
                <a:cubicBezTo>
                  <a:pt x="6317" y="8241"/>
                  <a:pt x="6317" y="8241"/>
                  <a:pt x="6317" y="8241"/>
                </a:cubicBezTo>
                <a:cubicBezTo>
                  <a:pt x="6317" y="8204"/>
                  <a:pt x="6317" y="8168"/>
                  <a:pt x="6317" y="8168"/>
                </a:cubicBezTo>
                <a:cubicBezTo>
                  <a:pt x="6336" y="8132"/>
                  <a:pt x="6336" y="8168"/>
                  <a:pt x="6336" y="8132"/>
                </a:cubicBezTo>
                <a:cubicBezTo>
                  <a:pt x="6336" y="8132"/>
                  <a:pt x="6317" y="8168"/>
                  <a:pt x="6317" y="8168"/>
                </a:cubicBezTo>
                <a:cubicBezTo>
                  <a:pt x="6317" y="8168"/>
                  <a:pt x="6317" y="8168"/>
                  <a:pt x="6317" y="8168"/>
                </a:cubicBezTo>
                <a:cubicBezTo>
                  <a:pt x="6317" y="8168"/>
                  <a:pt x="6317" y="8132"/>
                  <a:pt x="6317" y="8132"/>
                </a:cubicBezTo>
                <a:cubicBezTo>
                  <a:pt x="6317" y="8132"/>
                  <a:pt x="6336" y="8132"/>
                  <a:pt x="6336" y="8132"/>
                </a:cubicBezTo>
                <a:cubicBezTo>
                  <a:pt x="6336" y="8132"/>
                  <a:pt x="6336" y="8132"/>
                  <a:pt x="6355" y="8132"/>
                </a:cubicBezTo>
                <a:cubicBezTo>
                  <a:pt x="6355" y="8132"/>
                  <a:pt x="6355" y="8132"/>
                  <a:pt x="6355" y="8132"/>
                </a:cubicBezTo>
                <a:cubicBezTo>
                  <a:pt x="6336" y="8132"/>
                  <a:pt x="6336" y="8132"/>
                  <a:pt x="6336" y="8132"/>
                </a:cubicBezTo>
                <a:cubicBezTo>
                  <a:pt x="6336" y="8132"/>
                  <a:pt x="6336" y="8132"/>
                  <a:pt x="6336" y="8132"/>
                </a:cubicBezTo>
                <a:cubicBezTo>
                  <a:pt x="6355" y="8095"/>
                  <a:pt x="6412" y="8023"/>
                  <a:pt x="6431" y="8023"/>
                </a:cubicBezTo>
                <a:cubicBezTo>
                  <a:pt x="6431" y="8023"/>
                  <a:pt x="6431" y="8059"/>
                  <a:pt x="6431" y="8059"/>
                </a:cubicBezTo>
                <a:cubicBezTo>
                  <a:pt x="6431" y="8059"/>
                  <a:pt x="6431" y="8059"/>
                  <a:pt x="6431" y="8059"/>
                </a:cubicBezTo>
                <a:cubicBezTo>
                  <a:pt x="6431" y="8059"/>
                  <a:pt x="6431" y="8059"/>
                  <a:pt x="6431" y="8059"/>
                </a:cubicBezTo>
                <a:cubicBezTo>
                  <a:pt x="6450" y="8023"/>
                  <a:pt x="6469" y="8023"/>
                  <a:pt x="6488" y="8023"/>
                </a:cubicBezTo>
                <a:cubicBezTo>
                  <a:pt x="6488" y="8023"/>
                  <a:pt x="6488" y="8023"/>
                  <a:pt x="6488" y="8023"/>
                </a:cubicBezTo>
                <a:cubicBezTo>
                  <a:pt x="6450" y="8023"/>
                  <a:pt x="6412" y="7987"/>
                  <a:pt x="6393" y="8023"/>
                </a:cubicBezTo>
                <a:cubicBezTo>
                  <a:pt x="6393" y="8023"/>
                  <a:pt x="6393" y="8023"/>
                  <a:pt x="6393" y="8023"/>
                </a:cubicBezTo>
                <a:cubicBezTo>
                  <a:pt x="6412" y="7987"/>
                  <a:pt x="6431" y="7987"/>
                  <a:pt x="6431" y="7950"/>
                </a:cubicBezTo>
                <a:cubicBezTo>
                  <a:pt x="6431" y="7950"/>
                  <a:pt x="6431" y="7950"/>
                  <a:pt x="6431" y="7950"/>
                </a:cubicBezTo>
                <a:cubicBezTo>
                  <a:pt x="6431" y="7950"/>
                  <a:pt x="6412" y="7950"/>
                  <a:pt x="6412" y="7950"/>
                </a:cubicBezTo>
                <a:cubicBezTo>
                  <a:pt x="6412" y="7950"/>
                  <a:pt x="6412" y="7950"/>
                  <a:pt x="6412" y="7914"/>
                </a:cubicBezTo>
                <a:cubicBezTo>
                  <a:pt x="6412" y="7950"/>
                  <a:pt x="6412" y="7950"/>
                  <a:pt x="6412" y="7950"/>
                </a:cubicBezTo>
                <a:cubicBezTo>
                  <a:pt x="6412" y="7950"/>
                  <a:pt x="6412" y="7987"/>
                  <a:pt x="6412" y="7987"/>
                </a:cubicBezTo>
                <a:cubicBezTo>
                  <a:pt x="6374" y="7987"/>
                  <a:pt x="6355" y="8023"/>
                  <a:pt x="6336" y="8023"/>
                </a:cubicBezTo>
                <a:cubicBezTo>
                  <a:pt x="6317" y="8023"/>
                  <a:pt x="6317" y="8023"/>
                  <a:pt x="6317" y="8023"/>
                </a:cubicBezTo>
                <a:cubicBezTo>
                  <a:pt x="6317" y="8023"/>
                  <a:pt x="6317" y="8023"/>
                  <a:pt x="6317" y="8023"/>
                </a:cubicBezTo>
                <a:cubicBezTo>
                  <a:pt x="6317" y="8059"/>
                  <a:pt x="6298" y="8059"/>
                  <a:pt x="6298" y="8059"/>
                </a:cubicBezTo>
                <a:cubicBezTo>
                  <a:pt x="6298" y="8059"/>
                  <a:pt x="6280" y="8059"/>
                  <a:pt x="6261" y="8059"/>
                </a:cubicBezTo>
                <a:cubicBezTo>
                  <a:pt x="6261" y="8059"/>
                  <a:pt x="6261" y="8059"/>
                  <a:pt x="6261" y="8059"/>
                </a:cubicBezTo>
                <a:cubicBezTo>
                  <a:pt x="6261" y="8059"/>
                  <a:pt x="6261" y="8059"/>
                  <a:pt x="6261" y="8059"/>
                </a:cubicBezTo>
                <a:cubicBezTo>
                  <a:pt x="6261" y="8095"/>
                  <a:pt x="6261" y="8095"/>
                  <a:pt x="6261" y="8095"/>
                </a:cubicBezTo>
                <a:cubicBezTo>
                  <a:pt x="6261" y="8095"/>
                  <a:pt x="6261" y="8095"/>
                  <a:pt x="6261" y="8095"/>
                </a:cubicBezTo>
                <a:cubicBezTo>
                  <a:pt x="6261" y="8095"/>
                  <a:pt x="6261" y="8095"/>
                  <a:pt x="6261" y="8095"/>
                </a:cubicBezTo>
                <a:cubicBezTo>
                  <a:pt x="6242" y="8132"/>
                  <a:pt x="6242" y="8132"/>
                  <a:pt x="6223" y="8132"/>
                </a:cubicBezTo>
                <a:cubicBezTo>
                  <a:pt x="6223" y="8132"/>
                  <a:pt x="6223" y="8132"/>
                  <a:pt x="6223" y="8132"/>
                </a:cubicBezTo>
                <a:cubicBezTo>
                  <a:pt x="6223" y="8132"/>
                  <a:pt x="6223" y="8132"/>
                  <a:pt x="6223" y="8132"/>
                </a:cubicBezTo>
                <a:cubicBezTo>
                  <a:pt x="6204" y="8132"/>
                  <a:pt x="6204" y="8168"/>
                  <a:pt x="6204" y="8168"/>
                </a:cubicBezTo>
                <a:cubicBezTo>
                  <a:pt x="6204" y="8168"/>
                  <a:pt x="6185" y="8168"/>
                  <a:pt x="6185" y="8132"/>
                </a:cubicBezTo>
                <a:cubicBezTo>
                  <a:pt x="6185" y="8132"/>
                  <a:pt x="6185" y="8168"/>
                  <a:pt x="6166" y="8168"/>
                </a:cubicBezTo>
                <a:cubicBezTo>
                  <a:pt x="6166" y="8168"/>
                  <a:pt x="6166" y="8168"/>
                  <a:pt x="6166" y="8168"/>
                </a:cubicBezTo>
                <a:cubicBezTo>
                  <a:pt x="6166" y="8168"/>
                  <a:pt x="6166" y="8168"/>
                  <a:pt x="6147" y="8168"/>
                </a:cubicBezTo>
                <a:cubicBezTo>
                  <a:pt x="6147" y="8168"/>
                  <a:pt x="6147" y="8168"/>
                  <a:pt x="6147" y="8168"/>
                </a:cubicBezTo>
                <a:cubicBezTo>
                  <a:pt x="6147" y="8168"/>
                  <a:pt x="6147" y="8132"/>
                  <a:pt x="6166" y="8132"/>
                </a:cubicBezTo>
                <a:cubicBezTo>
                  <a:pt x="6147" y="8132"/>
                  <a:pt x="6147" y="8132"/>
                  <a:pt x="6147" y="8132"/>
                </a:cubicBezTo>
                <a:cubicBezTo>
                  <a:pt x="6147" y="8132"/>
                  <a:pt x="6147" y="8132"/>
                  <a:pt x="6147" y="8132"/>
                </a:cubicBezTo>
                <a:cubicBezTo>
                  <a:pt x="6147" y="8168"/>
                  <a:pt x="6128" y="8204"/>
                  <a:pt x="6128" y="8241"/>
                </a:cubicBezTo>
                <a:cubicBezTo>
                  <a:pt x="6128" y="8204"/>
                  <a:pt x="6109" y="8204"/>
                  <a:pt x="6109" y="8204"/>
                </a:cubicBezTo>
                <a:cubicBezTo>
                  <a:pt x="6109" y="8241"/>
                  <a:pt x="6109" y="8241"/>
                  <a:pt x="6109" y="8241"/>
                </a:cubicBezTo>
                <a:cubicBezTo>
                  <a:pt x="6109" y="8241"/>
                  <a:pt x="6109" y="8241"/>
                  <a:pt x="6090" y="8241"/>
                </a:cubicBezTo>
                <a:cubicBezTo>
                  <a:pt x="6090" y="8241"/>
                  <a:pt x="6109" y="8241"/>
                  <a:pt x="6109" y="8204"/>
                </a:cubicBezTo>
                <a:cubicBezTo>
                  <a:pt x="6090" y="8204"/>
                  <a:pt x="6090" y="8241"/>
                  <a:pt x="6090" y="8241"/>
                </a:cubicBezTo>
                <a:cubicBezTo>
                  <a:pt x="6090" y="8241"/>
                  <a:pt x="6090" y="8241"/>
                  <a:pt x="6090" y="8277"/>
                </a:cubicBezTo>
                <a:cubicBezTo>
                  <a:pt x="6090" y="8277"/>
                  <a:pt x="6090" y="8277"/>
                  <a:pt x="6090" y="8277"/>
                </a:cubicBezTo>
                <a:cubicBezTo>
                  <a:pt x="6090" y="8241"/>
                  <a:pt x="6090" y="8241"/>
                  <a:pt x="6071" y="8241"/>
                </a:cubicBezTo>
                <a:cubicBezTo>
                  <a:pt x="6071" y="8241"/>
                  <a:pt x="6090" y="8241"/>
                  <a:pt x="6090" y="8241"/>
                </a:cubicBezTo>
                <a:cubicBezTo>
                  <a:pt x="6071" y="8241"/>
                  <a:pt x="6071" y="8241"/>
                  <a:pt x="6071" y="8241"/>
                </a:cubicBezTo>
                <a:cubicBezTo>
                  <a:pt x="6071" y="8277"/>
                  <a:pt x="6071" y="8277"/>
                  <a:pt x="6071" y="8277"/>
                </a:cubicBezTo>
                <a:cubicBezTo>
                  <a:pt x="6053" y="8277"/>
                  <a:pt x="6034" y="8350"/>
                  <a:pt x="6034" y="8386"/>
                </a:cubicBezTo>
                <a:cubicBezTo>
                  <a:pt x="6034" y="8422"/>
                  <a:pt x="6034" y="8422"/>
                  <a:pt x="6034" y="8422"/>
                </a:cubicBezTo>
                <a:cubicBezTo>
                  <a:pt x="6034" y="8422"/>
                  <a:pt x="6034" y="8422"/>
                  <a:pt x="6034" y="8422"/>
                </a:cubicBezTo>
                <a:cubicBezTo>
                  <a:pt x="6034" y="8422"/>
                  <a:pt x="6015" y="8422"/>
                  <a:pt x="6015" y="8458"/>
                </a:cubicBezTo>
                <a:cubicBezTo>
                  <a:pt x="6034" y="8458"/>
                  <a:pt x="6053" y="8495"/>
                  <a:pt x="6053" y="8531"/>
                </a:cubicBezTo>
                <a:cubicBezTo>
                  <a:pt x="6053" y="8531"/>
                  <a:pt x="6053" y="8531"/>
                  <a:pt x="6053" y="8531"/>
                </a:cubicBezTo>
                <a:cubicBezTo>
                  <a:pt x="6071" y="8531"/>
                  <a:pt x="6071" y="8531"/>
                  <a:pt x="6071" y="8531"/>
                </a:cubicBezTo>
                <a:cubicBezTo>
                  <a:pt x="6071" y="8531"/>
                  <a:pt x="6071" y="8531"/>
                  <a:pt x="6071" y="8531"/>
                </a:cubicBezTo>
                <a:cubicBezTo>
                  <a:pt x="6071" y="8531"/>
                  <a:pt x="6071" y="8531"/>
                  <a:pt x="6071" y="8531"/>
                </a:cubicBezTo>
                <a:cubicBezTo>
                  <a:pt x="6071" y="8495"/>
                  <a:pt x="6071" y="8495"/>
                  <a:pt x="6071" y="8495"/>
                </a:cubicBezTo>
                <a:cubicBezTo>
                  <a:pt x="6071" y="8495"/>
                  <a:pt x="6071" y="8495"/>
                  <a:pt x="6071" y="8495"/>
                </a:cubicBezTo>
                <a:cubicBezTo>
                  <a:pt x="6071" y="8495"/>
                  <a:pt x="6071" y="8495"/>
                  <a:pt x="6071" y="8495"/>
                </a:cubicBezTo>
                <a:cubicBezTo>
                  <a:pt x="6071" y="8531"/>
                  <a:pt x="6090" y="8531"/>
                  <a:pt x="6090" y="8567"/>
                </a:cubicBezTo>
                <a:cubicBezTo>
                  <a:pt x="6071" y="8567"/>
                  <a:pt x="6053" y="8567"/>
                  <a:pt x="6034" y="8567"/>
                </a:cubicBezTo>
                <a:cubicBezTo>
                  <a:pt x="6034" y="8567"/>
                  <a:pt x="6034" y="8531"/>
                  <a:pt x="6034" y="8531"/>
                </a:cubicBezTo>
                <a:cubicBezTo>
                  <a:pt x="6034" y="8531"/>
                  <a:pt x="6034" y="8531"/>
                  <a:pt x="6034" y="8531"/>
                </a:cubicBezTo>
                <a:cubicBezTo>
                  <a:pt x="6034" y="8567"/>
                  <a:pt x="6015" y="8567"/>
                  <a:pt x="6015" y="8567"/>
                </a:cubicBezTo>
                <a:cubicBezTo>
                  <a:pt x="6015" y="8567"/>
                  <a:pt x="6015" y="8567"/>
                  <a:pt x="5996" y="8567"/>
                </a:cubicBezTo>
                <a:cubicBezTo>
                  <a:pt x="5996" y="8567"/>
                  <a:pt x="6015" y="8531"/>
                  <a:pt x="6015" y="8531"/>
                </a:cubicBezTo>
                <a:cubicBezTo>
                  <a:pt x="5996" y="8531"/>
                  <a:pt x="5996" y="8531"/>
                  <a:pt x="5996" y="8531"/>
                </a:cubicBezTo>
                <a:cubicBezTo>
                  <a:pt x="5996" y="8567"/>
                  <a:pt x="5996" y="8567"/>
                  <a:pt x="5996" y="8604"/>
                </a:cubicBezTo>
                <a:cubicBezTo>
                  <a:pt x="5920" y="8604"/>
                  <a:pt x="5863" y="8640"/>
                  <a:pt x="5826" y="8676"/>
                </a:cubicBezTo>
                <a:cubicBezTo>
                  <a:pt x="5826" y="8676"/>
                  <a:pt x="5844" y="8640"/>
                  <a:pt x="5844" y="8640"/>
                </a:cubicBezTo>
                <a:cubicBezTo>
                  <a:pt x="5844" y="8640"/>
                  <a:pt x="5826" y="8676"/>
                  <a:pt x="5826" y="8676"/>
                </a:cubicBezTo>
                <a:cubicBezTo>
                  <a:pt x="5826" y="8676"/>
                  <a:pt x="5826" y="8676"/>
                  <a:pt x="5807" y="8713"/>
                </a:cubicBezTo>
                <a:cubicBezTo>
                  <a:pt x="5807" y="8713"/>
                  <a:pt x="5807" y="8713"/>
                  <a:pt x="5807" y="8713"/>
                </a:cubicBezTo>
                <a:cubicBezTo>
                  <a:pt x="5826" y="8713"/>
                  <a:pt x="5826" y="8713"/>
                  <a:pt x="5826" y="8713"/>
                </a:cubicBezTo>
                <a:cubicBezTo>
                  <a:pt x="5826" y="8785"/>
                  <a:pt x="5826" y="8822"/>
                  <a:pt x="5807" y="8858"/>
                </a:cubicBezTo>
                <a:cubicBezTo>
                  <a:pt x="5807" y="8858"/>
                  <a:pt x="5807" y="8858"/>
                  <a:pt x="5807" y="8858"/>
                </a:cubicBezTo>
                <a:cubicBezTo>
                  <a:pt x="5807" y="8894"/>
                  <a:pt x="5788" y="8930"/>
                  <a:pt x="5769" y="8930"/>
                </a:cubicBezTo>
                <a:cubicBezTo>
                  <a:pt x="5769" y="8930"/>
                  <a:pt x="5769" y="8930"/>
                  <a:pt x="5769" y="8930"/>
                </a:cubicBezTo>
                <a:cubicBezTo>
                  <a:pt x="5769" y="8930"/>
                  <a:pt x="5769" y="8930"/>
                  <a:pt x="5769" y="8930"/>
                </a:cubicBezTo>
                <a:cubicBezTo>
                  <a:pt x="5769" y="8930"/>
                  <a:pt x="5769" y="8930"/>
                  <a:pt x="5769" y="8894"/>
                </a:cubicBezTo>
                <a:cubicBezTo>
                  <a:pt x="5750" y="8894"/>
                  <a:pt x="5750" y="8858"/>
                  <a:pt x="5731" y="8858"/>
                </a:cubicBezTo>
                <a:cubicBezTo>
                  <a:pt x="5731" y="8822"/>
                  <a:pt x="5750" y="8822"/>
                  <a:pt x="5750" y="8822"/>
                </a:cubicBezTo>
                <a:cubicBezTo>
                  <a:pt x="5750" y="8822"/>
                  <a:pt x="5750" y="8822"/>
                  <a:pt x="5750" y="8822"/>
                </a:cubicBezTo>
                <a:cubicBezTo>
                  <a:pt x="5731" y="8822"/>
                  <a:pt x="5731" y="8822"/>
                  <a:pt x="5731" y="8822"/>
                </a:cubicBezTo>
                <a:cubicBezTo>
                  <a:pt x="5731" y="8858"/>
                  <a:pt x="5750" y="8930"/>
                  <a:pt x="5769" y="8967"/>
                </a:cubicBezTo>
                <a:cubicBezTo>
                  <a:pt x="5769" y="8967"/>
                  <a:pt x="5769" y="9003"/>
                  <a:pt x="5769" y="9003"/>
                </a:cubicBezTo>
                <a:cubicBezTo>
                  <a:pt x="5769" y="9039"/>
                  <a:pt x="5750" y="9039"/>
                  <a:pt x="5750" y="9076"/>
                </a:cubicBezTo>
                <a:cubicBezTo>
                  <a:pt x="5750" y="9076"/>
                  <a:pt x="5731" y="9112"/>
                  <a:pt x="5731" y="9112"/>
                </a:cubicBezTo>
                <a:cubicBezTo>
                  <a:pt x="5731" y="9148"/>
                  <a:pt x="5731" y="9112"/>
                  <a:pt x="5731" y="9112"/>
                </a:cubicBezTo>
                <a:cubicBezTo>
                  <a:pt x="5712" y="9148"/>
                  <a:pt x="5712" y="9148"/>
                  <a:pt x="5712" y="9185"/>
                </a:cubicBezTo>
                <a:cubicBezTo>
                  <a:pt x="5712" y="9185"/>
                  <a:pt x="5712" y="9185"/>
                  <a:pt x="5712" y="9185"/>
                </a:cubicBezTo>
                <a:cubicBezTo>
                  <a:pt x="5712" y="9185"/>
                  <a:pt x="5712" y="9185"/>
                  <a:pt x="5712" y="9148"/>
                </a:cubicBezTo>
                <a:cubicBezTo>
                  <a:pt x="5712" y="9112"/>
                  <a:pt x="5712" y="9112"/>
                  <a:pt x="5731" y="9076"/>
                </a:cubicBezTo>
                <a:cubicBezTo>
                  <a:pt x="5731" y="9076"/>
                  <a:pt x="5731" y="9076"/>
                  <a:pt x="5712" y="9076"/>
                </a:cubicBezTo>
                <a:cubicBezTo>
                  <a:pt x="5712" y="9076"/>
                  <a:pt x="5712" y="9076"/>
                  <a:pt x="5712" y="9076"/>
                </a:cubicBezTo>
                <a:cubicBezTo>
                  <a:pt x="5712" y="9076"/>
                  <a:pt x="5712" y="9076"/>
                  <a:pt x="5712" y="9076"/>
                </a:cubicBezTo>
                <a:cubicBezTo>
                  <a:pt x="5712" y="9076"/>
                  <a:pt x="5712" y="9039"/>
                  <a:pt x="5731" y="9039"/>
                </a:cubicBezTo>
                <a:cubicBezTo>
                  <a:pt x="5712" y="9039"/>
                  <a:pt x="5712" y="9039"/>
                  <a:pt x="5712" y="9039"/>
                </a:cubicBezTo>
                <a:cubicBezTo>
                  <a:pt x="5712" y="9039"/>
                  <a:pt x="5712" y="9039"/>
                  <a:pt x="5712" y="9003"/>
                </a:cubicBezTo>
                <a:cubicBezTo>
                  <a:pt x="5712" y="9003"/>
                  <a:pt x="5712" y="9039"/>
                  <a:pt x="5712" y="9039"/>
                </a:cubicBezTo>
                <a:cubicBezTo>
                  <a:pt x="5693" y="9039"/>
                  <a:pt x="5693" y="9003"/>
                  <a:pt x="5693" y="9003"/>
                </a:cubicBezTo>
                <a:cubicBezTo>
                  <a:pt x="5693" y="9003"/>
                  <a:pt x="5693" y="9003"/>
                  <a:pt x="5693" y="9003"/>
                </a:cubicBezTo>
                <a:cubicBezTo>
                  <a:pt x="5693" y="9003"/>
                  <a:pt x="5693" y="9003"/>
                  <a:pt x="5693" y="9003"/>
                </a:cubicBezTo>
                <a:cubicBezTo>
                  <a:pt x="5693" y="9003"/>
                  <a:pt x="5693" y="8967"/>
                  <a:pt x="5712" y="8967"/>
                </a:cubicBezTo>
                <a:cubicBezTo>
                  <a:pt x="5712" y="8967"/>
                  <a:pt x="5712" y="8967"/>
                  <a:pt x="5712" y="8967"/>
                </a:cubicBezTo>
                <a:cubicBezTo>
                  <a:pt x="5693" y="8967"/>
                  <a:pt x="5693" y="8967"/>
                  <a:pt x="5693" y="8967"/>
                </a:cubicBezTo>
                <a:cubicBezTo>
                  <a:pt x="5693" y="8967"/>
                  <a:pt x="5693" y="8967"/>
                  <a:pt x="5693" y="8967"/>
                </a:cubicBezTo>
                <a:cubicBezTo>
                  <a:pt x="5693" y="8967"/>
                  <a:pt x="5693" y="8967"/>
                  <a:pt x="5693" y="8967"/>
                </a:cubicBezTo>
                <a:cubicBezTo>
                  <a:pt x="5693" y="8930"/>
                  <a:pt x="5693" y="8930"/>
                  <a:pt x="5693" y="8930"/>
                </a:cubicBezTo>
                <a:cubicBezTo>
                  <a:pt x="5693" y="8967"/>
                  <a:pt x="5693" y="8967"/>
                  <a:pt x="5693" y="8967"/>
                </a:cubicBezTo>
                <a:cubicBezTo>
                  <a:pt x="5693" y="8967"/>
                  <a:pt x="5693" y="8930"/>
                  <a:pt x="5693" y="8930"/>
                </a:cubicBezTo>
                <a:cubicBezTo>
                  <a:pt x="5693" y="8930"/>
                  <a:pt x="5693" y="8930"/>
                  <a:pt x="5693" y="8930"/>
                </a:cubicBezTo>
                <a:cubicBezTo>
                  <a:pt x="5693" y="8930"/>
                  <a:pt x="5693" y="8930"/>
                  <a:pt x="5693" y="8930"/>
                </a:cubicBezTo>
                <a:cubicBezTo>
                  <a:pt x="5693" y="8930"/>
                  <a:pt x="5693" y="8930"/>
                  <a:pt x="5693" y="8930"/>
                </a:cubicBezTo>
                <a:cubicBezTo>
                  <a:pt x="5693" y="8930"/>
                  <a:pt x="5693" y="8930"/>
                  <a:pt x="5712" y="8894"/>
                </a:cubicBezTo>
                <a:cubicBezTo>
                  <a:pt x="5693" y="8894"/>
                  <a:pt x="5693" y="8894"/>
                  <a:pt x="5693" y="8894"/>
                </a:cubicBezTo>
                <a:cubicBezTo>
                  <a:pt x="5693" y="8894"/>
                  <a:pt x="5693" y="8894"/>
                  <a:pt x="5693" y="8894"/>
                </a:cubicBezTo>
                <a:cubicBezTo>
                  <a:pt x="5693" y="8894"/>
                  <a:pt x="5693" y="8894"/>
                  <a:pt x="5693" y="8894"/>
                </a:cubicBezTo>
                <a:cubicBezTo>
                  <a:pt x="5712" y="8894"/>
                  <a:pt x="5712" y="8858"/>
                  <a:pt x="5712" y="8858"/>
                </a:cubicBezTo>
                <a:cubicBezTo>
                  <a:pt x="5712" y="8858"/>
                  <a:pt x="5712" y="8858"/>
                  <a:pt x="5712" y="8858"/>
                </a:cubicBezTo>
                <a:cubicBezTo>
                  <a:pt x="5712" y="8858"/>
                  <a:pt x="5712" y="8858"/>
                  <a:pt x="5712" y="8858"/>
                </a:cubicBezTo>
                <a:cubicBezTo>
                  <a:pt x="5712" y="8858"/>
                  <a:pt x="5712" y="8858"/>
                  <a:pt x="5693" y="8858"/>
                </a:cubicBezTo>
                <a:cubicBezTo>
                  <a:pt x="5693" y="8858"/>
                  <a:pt x="5693" y="8858"/>
                  <a:pt x="5693" y="8858"/>
                </a:cubicBezTo>
                <a:cubicBezTo>
                  <a:pt x="5693" y="8858"/>
                  <a:pt x="5693" y="8858"/>
                  <a:pt x="5693" y="8858"/>
                </a:cubicBezTo>
                <a:cubicBezTo>
                  <a:pt x="5693" y="8858"/>
                  <a:pt x="5693" y="8858"/>
                  <a:pt x="5693" y="8894"/>
                </a:cubicBezTo>
                <a:cubicBezTo>
                  <a:pt x="5693" y="8894"/>
                  <a:pt x="5693" y="8894"/>
                  <a:pt x="5693" y="8894"/>
                </a:cubicBezTo>
                <a:cubicBezTo>
                  <a:pt x="5693" y="8858"/>
                  <a:pt x="5693" y="8858"/>
                  <a:pt x="5693" y="8858"/>
                </a:cubicBezTo>
                <a:cubicBezTo>
                  <a:pt x="5693" y="8894"/>
                  <a:pt x="5693" y="8894"/>
                  <a:pt x="5693" y="8894"/>
                </a:cubicBezTo>
                <a:cubicBezTo>
                  <a:pt x="5674" y="8894"/>
                  <a:pt x="5674" y="8894"/>
                  <a:pt x="5674" y="8894"/>
                </a:cubicBezTo>
                <a:cubicBezTo>
                  <a:pt x="5693" y="8967"/>
                  <a:pt x="5674" y="8930"/>
                  <a:pt x="5674" y="8967"/>
                </a:cubicBezTo>
                <a:cubicBezTo>
                  <a:pt x="5674" y="8967"/>
                  <a:pt x="5674" y="9003"/>
                  <a:pt x="5693" y="9003"/>
                </a:cubicBezTo>
                <a:cubicBezTo>
                  <a:pt x="5693" y="9003"/>
                  <a:pt x="5674" y="9003"/>
                  <a:pt x="5674" y="9003"/>
                </a:cubicBezTo>
                <a:cubicBezTo>
                  <a:pt x="5674" y="9003"/>
                  <a:pt x="5674" y="9003"/>
                  <a:pt x="5674" y="9003"/>
                </a:cubicBezTo>
                <a:cubicBezTo>
                  <a:pt x="5674" y="9003"/>
                  <a:pt x="5674" y="9003"/>
                  <a:pt x="5674" y="9003"/>
                </a:cubicBezTo>
                <a:cubicBezTo>
                  <a:pt x="5674" y="9003"/>
                  <a:pt x="5674" y="9003"/>
                  <a:pt x="5674" y="9003"/>
                </a:cubicBezTo>
                <a:cubicBezTo>
                  <a:pt x="5674" y="9003"/>
                  <a:pt x="5674" y="9003"/>
                  <a:pt x="5693" y="9039"/>
                </a:cubicBezTo>
                <a:cubicBezTo>
                  <a:pt x="5674" y="9039"/>
                  <a:pt x="5655" y="9039"/>
                  <a:pt x="5655" y="9003"/>
                </a:cubicBezTo>
                <a:cubicBezTo>
                  <a:pt x="5655" y="9003"/>
                  <a:pt x="5655" y="9003"/>
                  <a:pt x="5655" y="9039"/>
                </a:cubicBezTo>
                <a:cubicBezTo>
                  <a:pt x="5636" y="9003"/>
                  <a:pt x="5636" y="9003"/>
                  <a:pt x="5636" y="9003"/>
                </a:cubicBezTo>
                <a:cubicBezTo>
                  <a:pt x="5636" y="9003"/>
                  <a:pt x="5636" y="9003"/>
                  <a:pt x="5636" y="9003"/>
                </a:cubicBezTo>
                <a:cubicBezTo>
                  <a:pt x="5636" y="8967"/>
                  <a:pt x="5636" y="8967"/>
                  <a:pt x="5636" y="8967"/>
                </a:cubicBezTo>
                <a:cubicBezTo>
                  <a:pt x="5636" y="8967"/>
                  <a:pt x="5636" y="8967"/>
                  <a:pt x="5636" y="8967"/>
                </a:cubicBezTo>
                <a:cubicBezTo>
                  <a:pt x="5636" y="9003"/>
                  <a:pt x="5618" y="9003"/>
                  <a:pt x="5636" y="9003"/>
                </a:cubicBezTo>
                <a:cubicBezTo>
                  <a:pt x="5636" y="9039"/>
                  <a:pt x="5693" y="9076"/>
                  <a:pt x="5693" y="9076"/>
                </a:cubicBezTo>
                <a:cubicBezTo>
                  <a:pt x="5693" y="9112"/>
                  <a:pt x="5693" y="9112"/>
                  <a:pt x="5674" y="9112"/>
                </a:cubicBezTo>
                <a:cubicBezTo>
                  <a:pt x="5674" y="9112"/>
                  <a:pt x="5674" y="9112"/>
                  <a:pt x="5674" y="9112"/>
                </a:cubicBezTo>
                <a:cubicBezTo>
                  <a:pt x="5674" y="9076"/>
                  <a:pt x="5655" y="9076"/>
                  <a:pt x="5655" y="9076"/>
                </a:cubicBezTo>
                <a:cubicBezTo>
                  <a:pt x="5674" y="9112"/>
                  <a:pt x="5674" y="9112"/>
                  <a:pt x="5693" y="9112"/>
                </a:cubicBezTo>
                <a:cubicBezTo>
                  <a:pt x="5693" y="9112"/>
                  <a:pt x="5693" y="9112"/>
                  <a:pt x="5693" y="9112"/>
                </a:cubicBezTo>
                <a:cubicBezTo>
                  <a:pt x="5693" y="9148"/>
                  <a:pt x="5693" y="9148"/>
                  <a:pt x="5693" y="9148"/>
                </a:cubicBezTo>
                <a:cubicBezTo>
                  <a:pt x="5693" y="9148"/>
                  <a:pt x="5693" y="9148"/>
                  <a:pt x="5693" y="9148"/>
                </a:cubicBezTo>
                <a:cubicBezTo>
                  <a:pt x="5693" y="9148"/>
                  <a:pt x="5693" y="9148"/>
                  <a:pt x="5674" y="9148"/>
                </a:cubicBezTo>
                <a:cubicBezTo>
                  <a:pt x="5674" y="9148"/>
                  <a:pt x="5674" y="9148"/>
                  <a:pt x="5674" y="9148"/>
                </a:cubicBezTo>
                <a:cubicBezTo>
                  <a:pt x="5674" y="9148"/>
                  <a:pt x="5674" y="9148"/>
                  <a:pt x="5674" y="9148"/>
                </a:cubicBezTo>
                <a:cubicBezTo>
                  <a:pt x="5674" y="9148"/>
                  <a:pt x="5674" y="9148"/>
                  <a:pt x="5655" y="9148"/>
                </a:cubicBezTo>
                <a:cubicBezTo>
                  <a:pt x="5674" y="9148"/>
                  <a:pt x="5674" y="9148"/>
                  <a:pt x="5693" y="9185"/>
                </a:cubicBezTo>
                <a:cubicBezTo>
                  <a:pt x="5693" y="9185"/>
                  <a:pt x="5693" y="9185"/>
                  <a:pt x="5693" y="9185"/>
                </a:cubicBezTo>
                <a:cubicBezTo>
                  <a:pt x="5674" y="9185"/>
                  <a:pt x="5674" y="9185"/>
                  <a:pt x="5674" y="9185"/>
                </a:cubicBezTo>
                <a:cubicBezTo>
                  <a:pt x="5674" y="9185"/>
                  <a:pt x="5674" y="9148"/>
                  <a:pt x="5655" y="9148"/>
                </a:cubicBezTo>
                <a:cubicBezTo>
                  <a:pt x="5655" y="9148"/>
                  <a:pt x="5655" y="9148"/>
                  <a:pt x="5655" y="9148"/>
                </a:cubicBezTo>
                <a:cubicBezTo>
                  <a:pt x="5655" y="9185"/>
                  <a:pt x="5655" y="9185"/>
                  <a:pt x="5655" y="9185"/>
                </a:cubicBezTo>
                <a:cubicBezTo>
                  <a:pt x="5655" y="9185"/>
                  <a:pt x="5674" y="9185"/>
                  <a:pt x="5674" y="9221"/>
                </a:cubicBezTo>
                <a:cubicBezTo>
                  <a:pt x="5693" y="9221"/>
                  <a:pt x="5712" y="9185"/>
                  <a:pt x="5712" y="9257"/>
                </a:cubicBezTo>
                <a:cubicBezTo>
                  <a:pt x="5712" y="9257"/>
                  <a:pt x="5712" y="9257"/>
                  <a:pt x="5712" y="9257"/>
                </a:cubicBezTo>
                <a:cubicBezTo>
                  <a:pt x="5712" y="9257"/>
                  <a:pt x="5712" y="9257"/>
                  <a:pt x="5712" y="9257"/>
                </a:cubicBezTo>
                <a:cubicBezTo>
                  <a:pt x="5712" y="9257"/>
                  <a:pt x="5712" y="9257"/>
                  <a:pt x="5712" y="9257"/>
                </a:cubicBezTo>
                <a:cubicBezTo>
                  <a:pt x="5712" y="9257"/>
                  <a:pt x="5712" y="9257"/>
                  <a:pt x="5712" y="9257"/>
                </a:cubicBezTo>
                <a:cubicBezTo>
                  <a:pt x="5712" y="9257"/>
                  <a:pt x="5712" y="9257"/>
                  <a:pt x="5712" y="9257"/>
                </a:cubicBezTo>
                <a:cubicBezTo>
                  <a:pt x="5712" y="9293"/>
                  <a:pt x="5712" y="9293"/>
                  <a:pt x="5712" y="9330"/>
                </a:cubicBezTo>
                <a:cubicBezTo>
                  <a:pt x="5712" y="9330"/>
                  <a:pt x="5712" y="9330"/>
                  <a:pt x="5712" y="9330"/>
                </a:cubicBezTo>
                <a:cubicBezTo>
                  <a:pt x="5712" y="9330"/>
                  <a:pt x="5712" y="9293"/>
                  <a:pt x="5712" y="9293"/>
                </a:cubicBezTo>
                <a:cubicBezTo>
                  <a:pt x="5712" y="9293"/>
                  <a:pt x="5693" y="9293"/>
                  <a:pt x="5693" y="9293"/>
                </a:cubicBezTo>
                <a:cubicBezTo>
                  <a:pt x="5693" y="9293"/>
                  <a:pt x="5693" y="9293"/>
                  <a:pt x="5693" y="9330"/>
                </a:cubicBezTo>
                <a:cubicBezTo>
                  <a:pt x="5693" y="9330"/>
                  <a:pt x="5693" y="9330"/>
                  <a:pt x="5693" y="9330"/>
                </a:cubicBezTo>
                <a:cubicBezTo>
                  <a:pt x="5693" y="9330"/>
                  <a:pt x="5693" y="9330"/>
                  <a:pt x="5693" y="9330"/>
                </a:cubicBezTo>
                <a:cubicBezTo>
                  <a:pt x="5693" y="9330"/>
                  <a:pt x="5693" y="9330"/>
                  <a:pt x="5674" y="9293"/>
                </a:cubicBezTo>
                <a:cubicBezTo>
                  <a:pt x="5693" y="9330"/>
                  <a:pt x="5693" y="9330"/>
                  <a:pt x="5693" y="9330"/>
                </a:cubicBezTo>
                <a:cubicBezTo>
                  <a:pt x="5674" y="9330"/>
                  <a:pt x="5674" y="9330"/>
                  <a:pt x="5674" y="9330"/>
                </a:cubicBezTo>
                <a:cubicBezTo>
                  <a:pt x="5674" y="9330"/>
                  <a:pt x="5674" y="9330"/>
                  <a:pt x="5674" y="9330"/>
                </a:cubicBezTo>
                <a:cubicBezTo>
                  <a:pt x="5655" y="9293"/>
                  <a:pt x="5674" y="9293"/>
                  <a:pt x="5655" y="9293"/>
                </a:cubicBezTo>
                <a:cubicBezTo>
                  <a:pt x="5655" y="9293"/>
                  <a:pt x="5655" y="9293"/>
                  <a:pt x="5655" y="9293"/>
                </a:cubicBezTo>
                <a:cubicBezTo>
                  <a:pt x="5655" y="9330"/>
                  <a:pt x="5674" y="9330"/>
                  <a:pt x="5655" y="9330"/>
                </a:cubicBezTo>
                <a:cubicBezTo>
                  <a:pt x="5674" y="9330"/>
                  <a:pt x="5693" y="9330"/>
                  <a:pt x="5712" y="9330"/>
                </a:cubicBezTo>
                <a:cubicBezTo>
                  <a:pt x="5712" y="9330"/>
                  <a:pt x="5712" y="9330"/>
                  <a:pt x="5712" y="9330"/>
                </a:cubicBezTo>
                <a:cubicBezTo>
                  <a:pt x="5712" y="9366"/>
                  <a:pt x="5693" y="9366"/>
                  <a:pt x="5712" y="9366"/>
                </a:cubicBezTo>
                <a:cubicBezTo>
                  <a:pt x="5712" y="9366"/>
                  <a:pt x="5712" y="9366"/>
                  <a:pt x="5712" y="9366"/>
                </a:cubicBezTo>
                <a:cubicBezTo>
                  <a:pt x="5712" y="9366"/>
                  <a:pt x="5712" y="9366"/>
                  <a:pt x="5712" y="9330"/>
                </a:cubicBezTo>
                <a:cubicBezTo>
                  <a:pt x="5712" y="9330"/>
                  <a:pt x="5712" y="9330"/>
                  <a:pt x="5712" y="9330"/>
                </a:cubicBezTo>
                <a:cubicBezTo>
                  <a:pt x="5731" y="9366"/>
                  <a:pt x="5731" y="9366"/>
                  <a:pt x="5731" y="9366"/>
                </a:cubicBezTo>
                <a:cubicBezTo>
                  <a:pt x="5731" y="9366"/>
                  <a:pt x="5731" y="9402"/>
                  <a:pt x="5731" y="9402"/>
                </a:cubicBezTo>
                <a:cubicBezTo>
                  <a:pt x="5712" y="9402"/>
                  <a:pt x="5712" y="9366"/>
                  <a:pt x="5712" y="9402"/>
                </a:cubicBezTo>
                <a:cubicBezTo>
                  <a:pt x="5712" y="9402"/>
                  <a:pt x="5712" y="9402"/>
                  <a:pt x="5693" y="9439"/>
                </a:cubicBezTo>
                <a:cubicBezTo>
                  <a:pt x="5674" y="9439"/>
                  <a:pt x="5674" y="9402"/>
                  <a:pt x="5674" y="9402"/>
                </a:cubicBezTo>
                <a:cubicBezTo>
                  <a:pt x="5674" y="9402"/>
                  <a:pt x="5674" y="9402"/>
                  <a:pt x="5674" y="9402"/>
                </a:cubicBezTo>
                <a:cubicBezTo>
                  <a:pt x="5674" y="9402"/>
                  <a:pt x="5674" y="9402"/>
                  <a:pt x="5674" y="9402"/>
                </a:cubicBezTo>
                <a:cubicBezTo>
                  <a:pt x="5655" y="9402"/>
                  <a:pt x="5655" y="9402"/>
                  <a:pt x="5636" y="9402"/>
                </a:cubicBezTo>
                <a:cubicBezTo>
                  <a:pt x="5636" y="9402"/>
                  <a:pt x="5655" y="9402"/>
                  <a:pt x="5655" y="9402"/>
                </a:cubicBezTo>
                <a:cubicBezTo>
                  <a:pt x="5655" y="9402"/>
                  <a:pt x="5674" y="9439"/>
                  <a:pt x="5674" y="9439"/>
                </a:cubicBezTo>
                <a:cubicBezTo>
                  <a:pt x="5674" y="9439"/>
                  <a:pt x="5674" y="9439"/>
                  <a:pt x="5674" y="9439"/>
                </a:cubicBezTo>
                <a:cubicBezTo>
                  <a:pt x="5674" y="9439"/>
                  <a:pt x="5674" y="9475"/>
                  <a:pt x="5655" y="9475"/>
                </a:cubicBezTo>
                <a:cubicBezTo>
                  <a:pt x="5655" y="9475"/>
                  <a:pt x="5655" y="9475"/>
                  <a:pt x="5636" y="9439"/>
                </a:cubicBezTo>
                <a:cubicBezTo>
                  <a:pt x="5636" y="9475"/>
                  <a:pt x="5655" y="9475"/>
                  <a:pt x="5655" y="9475"/>
                </a:cubicBezTo>
                <a:cubicBezTo>
                  <a:pt x="5655" y="9475"/>
                  <a:pt x="5655" y="9475"/>
                  <a:pt x="5655" y="9475"/>
                </a:cubicBezTo>
                <a:cubicBezTo>
                  <a:pt x="5674" y="9475"/>
                  <a:pt x="5674" y="9475"/>
                  <a:pt x="5674" y="9475"/>
                </a:cubicBezTo>
                <a:cubicBezTo>
                  <a:pt x="5674" y="9475"/>
                  <a:pt x="5693" y="9475"/>
                  <a:pt x="5693" y="9475"/>
                </a:cubicBezTo>
                <a:cubicBezTo>
                  <a:pt x="5693" y="9475"/>
                  <a:pt x="5693" y="9475"/>
                  <a:pt x="5693" y="9475"/>
                </a:cubicBezTo>
                <a:cubicBezTo>
                  <a:pt x="5674" y="9475"/>
                  <a:pt x="5674" y="9511"/>
                  <a:pt x="5674" y="9511"/>
                </a:cubicBezTo>
                <a:cubicBezTo>
                  <a:pt x="5655" y="9511"/>
                  <a:pt x="5636" y="9511"/>
                  <a:pt x="5636" y="9511"/>
                </a:cubicBezTo>
                <a:cubicBezTo>
                  <a:pt x="5618" y="9548"/>
                  <a:pt x="5599" y="9584"/>
                  <a:pt x="5580" y="9620"/>
                </a:cubicBezTo>
                <a:cubicBezTo>
                  <a:pt x="5580" y="9620"/>
                  <a:pt x="5542" y="9620"/>
                  <a:pt x="5523" y="9656"/>
                </a:cubicBezTo>
                <a:cubicBezTo>
                  <a:pt x="5504" y="9656"/>
                  <a:pt x="5504" y="9693"/>
                  <a:pt x="5504" y="9729"/>
                </a:cubicBezTo>
                <a:cubicBezTo>
                  <a:pt x="5485" y="9765"/>
                  <a:pt x="5447" y="9802"/>
                  <a:pt x="5428" y="9802"/>
                </a:cubicBezTo>
                <a:cubicBezTo>
                  <a:pt x="5409" y="9838"/>
                  <a:pt x="5409" y="9874"/>
                  <a:pt x="5391" y="9911"/>
                </a:cubicBezTo>
                <a:cubicBezTo>
                  <a:pt x="5391" y="9947"/>
                  <a:pt x="5372" y="9983"/>
                  <a:pt x="5372" y="10019"/>
                </a:cubicBezTo>
                <a:cubicBezTo>
                  <a:pt x="5353" y="10128"/>
                  <a:pt x="5409" y="10237"/>
                  <a:pt x="5428" y="10310"/>
                </a:cubicBezTo>
                <a:cubicBezTo>
                  <a:pt x="5428" y="10346"/>
                  <a:pt x="5428" y="10383"/>
                  <a:pt x="5428" y="10419"/>
                </a:cubicBezTo>
                <a:cubicBezTo>
                  <a:pt x="5447" y="10455"/>
                  <a:pt x="5447" y="10491"/>
                  <a:pt x="5447" y="10528"/>
                </a:cubicBezTo>
                <a:cubicBezTo>
                  <a:pt x="5466" y="10600"/>
                  <a:pt x="5447" y="10709"/>
                  <a:pt x="5428" y="10782"/>
                </a:cubicBezTo>
                <a:cubicBezTo>
                  <a:pt x="5428" y="10782"/>
                  <a:pt x="5428" y="10782"/>
                  <a:pt x="5428" y="10782"/>
                </a:cubicBezTo>
                <a:cubicBezTo>
                  <a:pt x="5428" y="10782"/>
                  <a:pt x="5428" y="10746"/>
                  <a:pt x="5428" y="10746"/>
                </a:cubicBezTo>
                <a:cubicBezTo>
                  <a:pt x="5428" y="10746"/>
                  <a:pt x="5409" y="10746"/>
                  <a:pt x="5391" y="10746"/>
                </a:cubicBezTo>
                <a:cubicBezTo>
                  <a:pt x="5391" y="10746"/>
                  <a:pt x="5372" y="10673"/>
                  <a:pt x="5372" y="10673"/>
                </a:cubicBezTo>
                <a:cubicBezTo>
                  <a:pt x="5334" y="10673"/>
                  <a:pt x="5353" y="10637"/>
                  <a:pt x="5353" y="10600"/>
                </a:cubicBezTo>
                <a:cubicBezTo>
                  <a:pt x="5334" y="10600"/>
                  <a:pt x="5334" y="10564"/>
                  <a:pt x="5334" y="10564"/>
                </a:cubicBezTo>
                <a:cubicBezTo>
                  <a:pt x="5334" y="10564"/>
                  <a:pt x="5334" y="10564"/>
                  <a:pt x="5334" y="10528"/>
                </a:cubicBezTo>
                <a:cubicBezTo>
                  <a:pt x="5334" y="10528"/>
                  <a:pt x="5315" y="10528"/>
                  <a:pt x="5315" y="10528"/>
                </a:cubicBezTo>
                <a:cubicBezTo>
                  <a:pt x="5315" y="10528"/>
                  <a:pt x="5296" y="10491"/>
                  <a:pt x="5296" y="10455"/>
                </a:cubicBezTo>
                <a:cubicBezTo>
                  <a:pt x="5296" y="10455"/>
                  <a:pt x="5296" y="10455"/>
                  <a:pt x="5315" y="10419"/>
                </a:cubicBezTo>
                <a:cubicBezTo>
                  <a:pt x="5315" y="10419"/>
                  <a:pt x="5315" y="10419"/>
                  <a:pt x="5315" y="10419"/>
                </a:cubicBezTo>
                <a:cubicBezTo>
                  <a:pt x="5296" y="10419"/>
                  <a:pt x="5296" y="10419"/>
                  <a:pt x="5296" y="10419"/>
                </a:cubicBezTo>
                <a:cubicBezTo>
                  <a:pt x="5296" y="10419"/>
                  <a:pt x="5277" y="10419"/>
                  <a:pt x="5277" y="10419"/>
                </a:cubicBezTo>
                <a:cubicBezTo>
                  <a:pt x="5296" y="10383"/>
                  <a:pt x="5296" y="10310"/>
                  <a:pt x="5296" y="10274"/>
                </a:cubicBezTo>
                <a:cubicBezTo>
                  <a:pt x="5296" y="10237"/>
                  <a:pt x="5277" y="10237"/>
                  <a:pt x="5277" y="10237"/>
                </a:cubicBezTo>
                <a:cubicBezTo>
                  <a:pt x="5258" y="10201"/>
                  <a:pt x="5239" y="10092"/>
                  <a:pt x="5201" y="10128"/>
                </a:cubicBezTo>
                <a:cubicBezTo>
                  <a:pt x="5182" y="10128"/>
                  <a:pt x="5182" y="10165"/>
                  <a:pt x="5164" y="10165"/>
                </a:cubicBezTo>
                <a:cubicBezTo>
                  <a:pt x="5164" y="10165"/>
                  <a:pt x="5145" y="10165"/>
                  <a:pt x="5126" y="10165"/>
                </a:cubicBezTo>
                <a:cubicBezTo>
                  <a:pt x="5126" y="10165"/>
                  <a:pt x="5126" y="10128"/>
                  <a:pt x="5107" y="10128"/>
                </a:cubicBezTo>
                <a:cubicBezTo>
                  <a:pt x="5088" y="10092"/>
                  <a:pt x="5088" y="10092"/>
                  <a:pt x="5069" y="10092"/>
                </a:cubicBezTo>
                <a:cubicBezTo>
                  <a:pt x="5050" y="10092"/>
                  <a:pt x="5031" y="10092"/>
                  <a:pt x="5012" y="10092"/>
                </a:cubicBezTo>
                <a:cubicBezTo>
                  <a:pt x="5012" y="10092"/>
                  <a:pt x="5012" y="10092"/>
                  <a:pt x="5012" y="10092"/>
                </a:cubicBezTo>
                <a:cubicBezTo>
                  <a:pt x="4993" y="10092"/>
                  <a:pt x="4993" y="10092"/>
                  <a:pt x="4974" y="10092"/>
                </a:cubicBezTo>
                <a:cubicBezTo>
                  <a:pt x="4974" y="10092"/>
                  <a:pt x="4974" y="10056"/>
                  <a:pt x="4974" y="10056"/>
                </a:cubicBezTo>
                <a:cubicBezTo>
                  <a:pt x="4974" y="10056"/>
                  <a:pt x="4974" y="10056"/>
                  <a:pt x="4956" y="10056"/>
                </a:cubicBezTo>
                <a:cubicBezTo>
                  <a:pt x="4956" y="10056"/>
                  <a:pt x="4956" y="10092"/>
                  <a:pt x="4956" y="10092"/>
                </a:cubicBezTo>
                <a:cubicBezTo>
                  <a:pt x="4937" y="10092"/>
                  <a:pt x="4899" y="10056"/>
                  <a:pt x="4899" y="10092"/>
                </a:cubicBezTo>
                <a:cubicBezTo>
                  <a:pt x="4880" y="10092"/>
                  <a:pt x="4880" y="10092"/>
                  <a:pt x="4861" y="10128"/>
                </a:cubicBezTo>
                <a:cubicBezTo>
                  <a:pt x="4861" y="10128"/>
                  <a:pt x="4842" y="10056"/>
                  <a:pt x="4823" y="10092"/>
                </a:cubicBezTo>
                <a:cubicBezTo>
                  <a:pt x="4823" y="10092"/>
                  <a:pt x="4823" y="10092"/>
                  <a:pt x="4823" y="10128"/>
                </a:cubicBezTo>
                <a:cubicBezTo>
                  <a:pt x="4823" y="10128"/>
                  <a:pt x="4842" y="10128"/>
                  <a:pt x="4861" y="10128"/>
                </a:cubicBezTo>
                <a:cubicBezTo>
                  <a:pt x="4861" y="10128"/>
                  <a:pt x="4880" y="10128"/>
                  <a:pt x="4880" y="10165"/>
                </a:cubicBezTo>
                <a:cubicBezTo>
                  <a:pt x="4880" y="10165"/>
                  <a:pt x="4880" y="10165"/>
                  <a:pt x="4861" y="10165"/>
                </a:cubicBezTo>
                <a:cubicBezTo>
                  <a:pt x="4861" y="10201"/>
                  <a:pt x="4899" y="10201"/>
                  <a:pt x="4899" y="10237"/>
                </a:cubicBezTo>
                <a:cubicBezTo>
                  <a:pt x="4899" y="10237"/>
                  <a:pt x="4880" y="10237"/>
                  <a:pt x="4880" y="10237"/>
                </a:cubicBezTo>
                <a:cubicBezTo>
                  <a:pt x="4861" y="10237"/>
                  <a:pt x="4842" y="10201"/>
                  <a:pt x="4823" y="10201"/>
                </a:cubicBezTo>
                <a:cubicBezTo>
                  <a:pt x="4823" y="10201"/>
                  <a:pt x="4823" y="10201"/>
                  <a:pt x="4823" y="10201"/>
                </a:cubicBezTo>
                <a:cubicBezTo>
                  <a:pt x="4823" y="10201"/>
                  <a:pt x="4823" y="10201"/>
                  <a:pt x="4823" y="10237"/>
                </a:cubicBezTo>
                <a:cubicBezTo>
                  <a:pt x="4823" y="10237"/>
                  <a:pt x="4842" y="10237"/>
                  <a:pt x="4842" y="10237"/>
                </a:cubicBezTo>
                <a:cubicBezTo>
                  <a:pt x="4842" y="10237"/>
                  <a:pt x="4842" y="10237"/>
                  <a:pt x="4842" y="10237"/>
                </a:cubicBezTo>
                <a:cubicBezTo>
                  <a:pt x="4842" y="10237"/>
                  <a:pt x="4823" y="10237"/>
                  <a:pt x="4823" y="10237"/>
                </a:cubicBezTo>
                <a:cubicBezTo>
                  <a:pt x="4823" y="10237"/>
                  <a:pt x="4823" y="10237"/>
                  <a:pt x="4823" y="10237"/>
                </a:cubicBezTo>
                <a:cubicBezTo>
                  <a:pt x="4823" y="10237"/>
                  <a:pt x="4823" y="10237"/>
                  <a:pt x="4823" y="10237"/>
                </a:cubicBezTo>
                <a:cubicBezTo>
                  <a:pt x="4804" y="10237"/>
                  <a:pt x="4804" y="10237"/>
                  <a:pt x="4785" y="10237"/>
                </a:cubicBezTo>
                <a:cubicBezTo>
                  <a:pt x="4785" y="10237"/>
                  <a:pt x="4785" y="10237"/>
                  <a:pt x="4766" y="10237"/>
                </a:cubicBezTo>
                <a:cubicBezTo>
                  <a:pt x="4766" y="10201"/>
                  <a:pt x="4766" y="10201"/>
                  <a:pt x="4747" y="10201"/>
                </a:cubicBezTo>
                <a:cubicBezTo>
                  <a:pt x="4747" y="10165"/>
                  <a:pt x="4729" y="10165"/>
                  <a:pt x="4729" y="10165"/>
                </a:cubicBezTo>
                <a:cubicBezTo>
                  <a:pt x="4729" y="10165"/>
                  <a:pt x="4710" y="10165"/>
                  <a:pt x="4710" y="10165"/>
                </a:cubicBezTo>
                <a:cubicBezTo>
                  <a:pt x="4710" y="10165"/>
                  <a:pt x="4710" y="10165"/>
                  <a:pt x="4710" y="10165"/>
                </a:cubicBezTo>
                <a:cubicBezTo>
                  <a:pt x="4710" y="10165"/>
                  <a:pt x="4710" y="10165"/>
                  <a:pt x="4729" y="10201"/>
                </a:cubicBezTo>
                <a:cubicBezTo>
                  <a:pt x="4729" y="10201"/>
                  <a:pt x="4729" y="10201"/>
                  <a:pt x="4729" y="10201"/>
                </a:cubicBezTo>
                <a:cubicBezTo>
                  <a:pt x="4710" y="10201"/>
                  <a:pt x="4691" y="10201"/>
                  <a:pt x="4672" y="10201"/>
                </a:cubicBezTo>
                <a:cubicBezTo>
                  <a:pt x="4653" y="10165"/>
                  <a:pt x="4615" y="10165"/>
                  <a:pt x="4596" y="10165"/>
                </a:cubicBezTo>
                <a:cubicBezTo>
                  <a:pt x="4577" y="10165"/>
                  <a:pt x="4577" y="10201"/>
                  <a:pt x="4539" y="10201"/>
                </a:cubicBezTo>
                <a:cubicBezTo>
                  <a:pt x="4539" y="10165"/>
                  <a:pt x="4539" y="10165"/>
                  <a:pt x="4539" y="10165"/>
                </a:cubicBezTo>
                <a:cubicBezTo>
                  <a:pt x="4539" y="10165"/>
                  <a:pt x="4539" y="10165"/>
                  <a:pt x="4539" y="10165"/>
                </a:cubicBezTo>
                <a:cubicBezTo>
                  <a:pt x="4539" y="10201"/>
                  <a:pt x="4539" y="10201"/>
                  <a:pt x="4539" y="10237"/>
                </a:cubicBezTo>
                <a:cubicBezTo>
                  <a:pt x="4520" y="10237"/>
                  <a:pt x="4502" y="10310"/>
                  <a:pt x="4483" y="10310"/>
                </a:cubicBezTo>
                <a:cubicBezTo>
                  <a:pt x="4464" y="10310"/>
                  <a:pt x="4445" y="10310"/>
                  <a:pt x="4426" y="10310"/>
                </a:cubicBezTo>
                <a:cubicBezTo>
                  <a:pt x="4426" y="10310"/>
                  <a:pt x="4445" y="10346"/>
                  <a:pt x="4445" y="10346"/>
                </a:cubicBezTo>
                <a:cubicBezTo>
                  <a:pt x="4426" y="10383"/>
                  <a:pt x="4388" y="10383"/>
                  <a:pt x="4388" y="10419"/>
                </a:cubicBezTo>
                <a:cubicBezTo>
                  <a:pt x="4388" y="10419"/>
                  <a:pt x="4388" y="10419"/>
                  <a:pt x="4388" y="10419"/>
                </a:cubicBezTo>
                <a:cubicBezTo>
                  <a:pt x="4388" y="10419"/>
                  <a:pt x="4388" y="10419"/>
                  <a:pt x="4388" y="10419"/>
                </a:cubicBezTo>
                <a:cubicBezTo>
                  <a:pt x="4388" y="10419"/>
                  <a:pt x="4388" y="10419"/>
                  <a:pt x="4388" y="10455"/>
                </a:cubicBezTo>
                <a:cubicBezTo>
                  <a:pt x="4388" y="10455"/>
                  <a:pt x="4388" y="10455"/>
                  <a:pt x="4369" y="10491"/>
                </a:cubicBezTo>
                <a:cubicBezTo>
                  <a:pt x="4369" y="10564"/>
                  <a:pt x="4388" y="10600"/>
                  <a:pt x="4388" y="10673"/>
                </a:cubicBezTo>
                <a:cubicBezTo>
                  <a:pt x="4369" y="10709"/>
                  <a:pt x="4369" y="10746"/>
                  <a:pt x="4350" y="10782"/>
                </a:cubicBezTo>
                <a:cubicBezTo>
                  <a:pt x="4350" y="10782"/>
                  <a:pt x="4350" y="10818"/>
                  <a:pt x="4350" y="10854"/>
                </a:cubicBezTo>
                <a:cubicBezTo>
                  <a:pt x="4331" y="10963"/>
                  <a:pt x="4350" y="11181"/>
                  <a:pt x="4369" y="11254"/>
                </a:cubicBezTo>
                <a:cubicBezTo>
                  <a:pt x="4388" y="11290"/>
                  <a:pt x="4407" y="11363"/>
                  <a:pt x="4426" y="11399"/>
                </a:cubicBezTo>
                <a:cubicBezTo>
                  <a:pt x="4445" y="11435"/>
                  <a:pt x="4445" y="11508"/>
                  <a:pt x="4464" y="11544"/>
                </a:cubicBezTo>
                <a:cubicBezTo>
                  <a:pt x="4483" y="11544"/>
                  <a:pt x="4502" y="11544"/>
                  <a:pt x="4520" y="11544"/>
                </a:cubicBezTo>
                <a:cubicBezTo>
                  <a:pt x="4539" y="11581"/>
                  <a:pt x="4539" y="11617"/>
                  <a:pt x="4558" y="11617"/>
                </a:cubicBezTo>
                <a:cubicBezTo>
                  <a:pt x="4596" y="11617"/>
                  <a:pt x="4672" y="11544"/>
                  <a:pt x="4710" y="11544"/>
                </a:cubicBezTo>
                <a:cubicBezTo>
                  <a:pt x="4710" y="11544"/>
                  <a:pt x="4710" y="11581"/>
                  <a:pt x="4710" y="11581"/>
                </a:cubicBezTo>
                <a:cubicBezTo>
                  <a:pt x="4710" y="11581"/>
                  <a:pt x="4729" y="11581"/>
                  <a:pt x="4729" y="11581"/>
                </a:cubicBezTo>
                <a:cubicBezTo>
                  <a:pt x="4729" y="11581"/>
                  <a:pt x="4729" y="11581"/>
                  <a:pt x="4747" y="11581"/>
                </a:cubicBezTo>
                <a:cubicBezTo>
                  <a:pt x="4729" y="11544"/>
                  <a:pt x="4729" y="11544"/>
                  <a:pt x="4729" y="11544"/>
                </a:cubicBezTo>
                <a:cubicBezTo>
                  <a:pt x="4729" y="11544"/>
                  <a:pt x="4729" y="11544"/>
                  <a:pt x="4729" y="11544"/>
                </a:cubicBezTo>
                <a:cubicBezTo>
                  <a:pt x="4747" y="11508"/>
                  <a:pt x="4766" y="11508"/>
                  <a:pt x="4766" y="11472"/>
                </a:cubicBezTo>
                <a:cubicBezTo>
                  <a:pt x="4785" y="11472"/>
                  <a:pt x="4785" y="11435"/>
                  <a:pt x="4785" y="11435"/>
                </a:cubicBezTo>
                <a:cubicBezTo>
                  <a:pt x="4785" y="11435"/>
                  <a:pt x="4785" y="11399"/>
                  <a:pt x="4785" y="11399"/>
                </a:cubicBezTo>
                <a:cubicBezTo>
                  <a:pt x="4785" y="11363"/>
                  <a:pt x="4785" y="11363"/>
                  <a:pt x="4785" y="11326"/>
                </a:cubicBezTo>
                <a:cubicBezTo>
                  <a:pt x="4785" y="11326"/>
                  <a:pt x="4804" y="11290"/>
                  <a:pt x="4804" y="11290"/>
                </a:cubicBezTo>
                <a:cubicBezTo>
                  <a:pt x="4861" y="11217"/>
                  <a:pt x="4974" y="11145"/>
                  <a:pt x="5031" y="11254"/>
                </a:cubicBezTo>
                <a:cubicBezTo>
                  <a:pt x="5031" y="11254"/>
                  <a:pt x="5031" y="11254"/>
                  <a:pt x="5012" y="11290"/>
                </a:cubicBezTo>
                <a:cubicBezTo>
                  <a:pt x="5012" y="11326"/>
                  <a:pt x="4993" y="11326"/>
                  <a:pt x="4974" y="11363"/>
                </a:cubicBezTo>
                <a:cubicBezTo>
                  <a:pt x="4974" y="11363"/>
                  <a:pt x="4974" y="11435"/>
                  <a:pt x="4956" y="11435"/>
                </a:cubicBezTo>
                <a:cubicBezTo>
                  <a:pt x="4974" y="11435"/>
                  <a:pt x="4974" y="11472"/>
                  <a:pt x="4974" y="11472"/>
                </a:cubicBezTo>
                <a:cubicBezTo>
                  <a:pt x="4974" y="11472"/>
                  <a:pt x="4974" y="11435"/>
                  <a:pt x="4974" y="11435"/>
                </a:cubicBezTo>
                <a:cubicBezTo>
                  <a:pt x="4974" y="11508"/>
                  <a:pt x="4974" y="11544"/>
                  <a:pt x="4956" y="11581"/>
                </a:cubicBezTo>
                <a:cubicBezTo>
                  <a:pt x="4956" y="11581"/>
                  <a:pt x="4956" y="11581"/>
                  <a:pt x="4956" y="11581"/>
                </a:cubicBezTo>
                <a:cubicBezTo>
                  <a:pt x="4956" y="11581"/>
                  <a:pt x="4956" y="11544"/>
                  <a:pt x="4937" y="11544"/>
                </a:cubicBezTo>
                <a:cubicBezTo>
                  <a:pt x="4937" y="11544"/>
                  <a:pt x="4937" y="11544"/>
                  <a:pt x="4937" y="11544"/>
                </a:cubicBezTo>
                <a:cubicBezTo>
                  <a:pt x="4937" y="11544"/>
                  <a:pt x="4937" y="11544"/>
                  <a:pt x="4937" y="11544"/>
                </a:cubicBezTo>
                <a:cubicBezTo>
                  <a:pt x="4937" y="11581"/>
                  <a:pt x="4937" y="11581"/>
                  <a:pt x="4937" y="11617"/>
                </a:cubicBezTo>
                <a:cubicBezTo>
                  <a:pt x="4937" y="11617"/>
                  <a:pt x="4937" y="11581"/>
                  <a:pt x="4956" y="11581"/>
                </a:cubicBezTo>
                <a:cubicBezTo>
                  <a:pt x="4956" y="11617"/>
                  <a:pt x="4956" y="11617"/>
                  <a:pt x="4956" y="11617"/>
                </a:cubicBezTo>
                <a:cubicBezTo>
                  <a:pt x="4937" y="11689"/>
                  <a:pt x="4956" y="11762"/>
                  <a:pt x="4937" y="11835"/>
                </a:cubicBezTo>
                <a:cubicBezTo>
                  <a:pt x="4918" y="11871"/>
                  <a:pt x="4899" y="11871"/>
                  <a:pt x="4899" y="11907"/>
                </a:cubicBezTo>
                <a:cubicBezTo>
                  <a:pt x="4899" y="11907"/>
                  <a:pt x="4918" y="11907"/>
                  <a:pt x="4918" y="11907"/>
                </a:cubicBezTo>
                <a:cubicBezTo>
                  <a:pt x="4918" y="11907"/>
                  <a:pt x="4918" y="11907"/>
                  <a:pt x="4918" y="11907"/>
                </a:cubicBezTo>
                <a:cubicBezTo>
                  <a:pt x="4918" y="11907"/>
                  <a:pt x="4918" y="11907"/>
                  <a:pt x="4918" y="11871"/>
                </a:cubicBezTo>
                <a:cubicBezTo>
                  <a:pt x="4937" y="11907"/>
                  <a:pt x="4937" y="11907"/>
                  <a:pt x="4956" y="11907"/>
                </a:cubicBezTo>
                <a:cubicBezTo>
                  <a:pt x="4974" y="11871"/>
                  <a:pt x="5012" y="11907"/>
                  <a:pt x="5069" y="11907"/>
                </a:cubicBezTo>
                <a:cubicBezTo>
                  <a:pt x="5069" y="11907"/>
                  <a:pt x="5069" y="11907"/>
                  <a:pt x="5088" y="11871"/>
                </a:cubicBezTo>
                <a:cubicBezTo>
                  <a:pt x="5088" y="11907"/>
                  <a:pt x="5088" y="11907"/>
                  <a:pt x="5107" y="11907"/>
                </a:cubicBezTo>
                <a:cubicBezTo>
                  <a:pt x="5126" y="11907"/>
                  <a:pt x="5145" y="11907"/>
                  <a:pt x="5164" y="11907"/>
                </a:cubicBezTo>
                <a:cubicBezTo>
                  <a:pt x="5182" y="11907"/>
                  <a:pt x="5182" y="11907"/>
                  <a:pt x="5182" y="11907"/>
                </a:cubicBezTo>
                <a:cubicBezTo>
                  <a:pt x="5182" y="11944"/>
                  <a:pt x="5182" y="11944"/>
                  <a:pt x="5201" y="11980"/>
                </a:cubicBezTo>
                <a:cubicBezTo>
                  <a:pt x="5201" y="11980"/>
                  <a:pt x="5220" y="11980"/>
                  <a:pt x="5239" y="11980"/>
                </a:cubicBezTo>
                <a:cubicBezTo>
                  <a:pt x="5239" y="12016"/>
                  <a:pt x="5258" y="12089"/>
                  <a:pt x="5239" y="12125"/>
                </a:cubicBezTo>
                <a:cubicBezTo>
                  <a:pt x="5239" y="12125"/>
                  <a:pt x="5220" y="12161"/>
                  <a:pt x="5220" y="12161"/>
                </a:cubicBezTo>
                <a:cubicBezTo>
                  <a:pt x="5220" y="12198"/>
                  <a:pt x="5220" y="12270"/>
                  <a:pt x="5220" y="12307"/>
                </a:cubicBezTo>
                <a:cubicBezTo>
                  <a:pt x="5201" y="12343"/>
                  <a:pt x="5201" y="12415"/>
                  <a:pt x="5201" y="12452"/>
                </a:cubicBezTo>
                <a:cubicBezTo>
                  <a:pt x="5220" y="12524"/>
                  <a:pt x="5277" y="12633"/>
                  <a:pt x="5296" y="12670"/>
                </a:cubicBezTo>
                <a:cubicBezTo>
                  <a:pt x="5315" y="12670"/>
                  <a:pt x="5315" y="12706"/>
                  <a:pt x="5315" y="12706"/>
                </a:cubicBezTo>
                <a:cubicBezTo>
                  <a:pt x="5334" y="12742"/>
                  <a:pt x="5334" y="12706"/>
                  <a:pt x="5353" y="12742"/>
                </a:cubicBezTo>
                <a:cubicBezTo>
                  <a:pt x="5391" y="12742"/>
                  <a:pt x="5409" y="12706"/>
                  <a:pt x="5428" y="12706"/>
                </a:cubicBezTo>
                <a:cubicBezTo>
                  <a:pt x="5428" y="12706"/>
                  <a:pt x="5447" y="12706"/>
                  <a:pt x="5447" y="12706"/>
                </a:cubicBezTo>
                <a:cubicBezTo>
                  <a:pt x="5466" y="12670"/>
                  <a:pt x="5466" y="12670"/>
                  <a:pt x="5485" y="12670"/>
                </a:cubicBezTo>
                <a:cubicBezTo>
                  <a:pt x="5485" y="12633"/>
                  <a:pt x="5504" y="12670"/>
                  <a:pt x="5504" y="12670"/>
                </a:cubicBezTo>
                <a:cubicBezTo>
                  <a:pt x="5523" y="12670"/>
                  <a:pt x="5542" y="12670"/>
                  <a:pt x="5561" y="12670"/>
                </a:cubicBezTo>
                <a:cubicBezTo>
                  <a:pt x="5599" y="12706"/>
                  <a:pt x="5618" y="12778"/>
                  <a:pt x="5618" y="12851"/>
                </a:cubicBezTo>
                <a:cubicBezTo>
                  <a:pt x="5618" y="12851"/>
                  <a:pt x="5618" y="12887"/>
                  <a:pt x="5599" y="12887"/>
                </a:cubicBezTo>
                <a:cubicBezTo>
                  <a:pt x="5599" y="12887"/>
                  <a:pt x="5599" y="12887"/>
                  <a:pt x="5599" y="12887"/>
                </a:cubicBezTo>
                <a:cubicBezTo>
                  <a:pt x="5599" y="12887"/>
                  <a:pt x="5599" y="12887"/>
                  <a:pt x="5599" y="12887"/>
                </a:cubicBezTo>
                <a:cubicBezTo>
                  <a:pt x="5599" y="12887"/>
                  <a:pt x="5580" y="12887"/>
                  <a:pt x="5580" y="12924"/>
                </a:cubicBezTo>
                <a:cubicBezTo>
                  <a:pt x="5599" y="12924"/>
                  <a:pt x="5599" y="12924"/>
                  <a:pt x="5618" y="12887"/>
                </a:cubicBezTo>
                <a:cubicBezTo>
                  <a:pt x="5618" y="12887"/>
                  <a:pt x="5636" y="12815"/>
                  <a:pt x="5674" y="12815"/>
                </a:cubicBezTo>
                <a:cubicBezTo>
                  <a:pt x="5674" y="12851"/>
                  <a:pt x="5693" y="12851"/>
                  <a:pt x="5693" y="12887"/>
                </a:cubicBezTo>
                <a:cubicBezTo>
                  <a:pt x="5693" y="12887"/>
                  <a:pt x="5693" y="12887"/>
                  <a:pt x="5693" y="12887"/>
                </a:cubicBezTo>
                <a:cubicBezTo>
                  <a:pt x="5655" y="12887"/>
                  <a:pt x="5636" y="12887"/>
                  <a:pt x="5636" y="12924"/>
                </a:cubicBezTo>
                <a:cubicBezTo>
                  <a:pt x="5636" y="12960"/>
                  <a:pt x="5655" y="12996"/>
                  <a:pt x="5655" y="13033"/>
                </a:cubicBezTo>
                <a:cubicBezTo>
                  <a:pt x="5636" y="13069"/>
                  <a:pt x="5636" y="13105"/>
                  <a:pt x="5618" y="13142"/>
                </a:cubicBezTo>
                <a:cubicBezTo>
                  <a:pt x="5636" y="13178"/>
                  <a:pt x="5636" y="13214"/>
                  <a:pt x="5655" y="13214"/>
                </a:cubicBezTo>
                <a:cubicBezTo>
                  <a:pt x="5674" y="13214"/>
                  <a:pt x="5693" y="13214"/>
                  <a:pt x="5693" y="13178"/>
                </a:cubicBezTo>
                <a:cubicBezTo>
                  <a:pt x="5693" y="13142"/>
                  <a:pt x="5674" y="13033"/>
                  <a:pt x="5655" y="13033"/>
                </a:cubicBezTo>
                <a:cubicBezTo>
                  <a:pt x="5655" y="13033"/>
                  <a:pt x="5655" y="13033"/>
                  <a:pt x="5674" y="12996"/>
                </a:cubicBezTo>
                <a:cubicBezTo>
                  <a:pt x="5655" y="12996"/>
                  <a:pt x="5655" y="12996"/>
                  <a:pt x="5655" y="12996"/>
                </a:cubicBezTo>
                <a:cubicBezTo>
                  <a:pt x="5674" y="12996"/>
                  <a:pt x="5769" y="12960"/>
                  <a:pt x="5769" y="12924"/>
                </a:cubicBezTo>
                <a:cubicBezTo>
                  <a:pt x="5769" y="12924"/>
                  <a:pt x="5769" y="12924"/>
                  <a:pt x="5769" y="12924"/>
                </a:cubicBezTo>
                <a:cubicBezTo>
                  <a:pt x="5750" y="12924"/>
                  <a:pt x="5750" y="12924"/>
                  <a:pt x="5750" y="12924"/>
                </a:cubicBezTo>
                <a:cubicBezTo>
                  <a:pt x="5750" y="12887"/>
                  <a:pt x="5731" y="12887"/>
                  <a:pt x="5731" y="12887"/>
                </a:cubicBezTo>
                <a:cubicBezTo>
                  <a:pt x="5731" y="12851"/>
                  <a:pt x="5750" y="12851"/>
                  <a:pt x="5750" y="12851"/>
                </a:cubicBezTo>
                <a:cubicBezTo>
                  <a:pt x="5769" y="12887"/>
                  <a:pt x="5769" y="12924"/>
                  <a:pt x="5769" y="12924"/>
                </a:cubicBezTo>
                <a:cubicBezTo>
                  <a:pt x="5807" y="12924"/>
                  <a:pt x="5844" y="12960"/>
                  <a:pt x="5863" y="12996"/>
                </a:cubicBezTo>
                <a:cubicBezTo>
                  <a:pt x="5863" y="13033"/>
                  <a:pt x="5863" y="13033"/>
                  <a:pt x="5863" y="13033"/>
                </a:cubicBezTo>
                <a:cubicBezTo>
                  <a:pt x="5901" y="13069"/>
                  <a:pt x="5939" y="13033"/>
                  <a:pt x="5977" y="13033"/>
                </a:cubicBezTo>
                <a:cubicBezTo>
                  <a:pt x="6015" y="13033"/>
                  <a:pt x="6015" y="13142"/>
                  <a:pt x="6071" y="13105"/>
                </a:cubicBezTo>
                <a:cubicBezTo>
                  <a:pt x="6090" y="13105"/>
                  <a:pt x="6109" y="13069"/>
                  <a:pt x="6128" y="13033"/>
                </a:cubicBezTo>
                <a:cubicBezTo>
                  <a:pt x="6147" y="13033"/>
                  <a:pt x="6204" y="13033"/>
                  <a:pt x="6242" y="13033"/>
                </a:cubicBezTo>
                <a:cubicBezTo>
                  <a:pt x="6242" y="13033"/>
                  <a:pt x="6242" y="13033"/>
                  <a:pt x="6242" y="13033"/>
                </a:cubicBezTo>
                <a:cubicBezTo>
                  <a:pt x="6242" y="13033"/>
                  <a:pt x="6242" y="13033"/>
                  <a:pt x="6242" y="13033"/>
                </a:cubicBezTo>
                <a:cubicBezTo>
                  <a:pt x="6242" y="13069"/>
                  <a:pt x="6223" y="13069"/>
                  <a:pt x="6223" y="13069"/>
                </a:cubicBezTo>
                <a:cubicBezTo>
                  <a:pt x="6223" y="13069"/>
                  <a:pt x="6204" y="13069"/>
                  <a:pt x="6185" y="13069"/>
                </a:cubicBezTo>
                <a:cubicBezTo>
                  <a:pt x="6185" y="13069"/>
                  <a:pt x="6185" y="13069"/>
                  <a:pt x="6185" y="13069"/>
                </a:cubicBezTo>
                <a:cubicBezTo>
                  <a:pt x="6204" y="13105"/>
                  <a:pt x="6223" y="13105"/>
                  <a:pt x="6223" y="13142"/>
                </a:cubicBezTo>
                <a:cubicBezTo>
                  <a:pt x="6223" y="13142"/>
                  <a:pt x="6242" y="13142"/>
                  <a:pt x="6242" y="13142"/>
                </a:cubicBezTo>
                <a:cubicBezTo>
                  <a:pt x="6242" y="13142"/>
                  <a:pt x="6242" y="13142"/>
                  <a:pt x="6242" y="13105"/>
                </a:cubicBezTo>
                <a:cubicBezTo>
                  <a:pt x="6242" y="13142"/>
                  <a:pt x="6261" y="13105"/>
                  <a:pt x="6280" y="13142"/>
                </a:cubicBezTo>
                <a:cubicBezTo>
                  <a:pt x="6280" y="13142"/>
                  <a:pt x="6280" y="13142"/>
                  <a:pt x="6280" y="13142"/>
                </a:cubicBezTo>
                <a:cubicBezTo>
                  <a:pt x="6298" y="13178"/>
                  <a:pt x="6317" y="13178"/>
                  <a:pt x="6317" y="13178"/>
                </a:cubicBezTo>
                <a:cubicBezTo>
                  <a:pt x="6317" y="13178"/>
                  <a:pt x="6317" y="13178"/>
                  <a:pt x="6317" y="13214"/>
                </a:cubicBezTo>
                <a:cubicBezTo>
                  <a:pt x="6298" y="13214"/>
                  <a:pt x="6298" y="13250"/>
                  <a:pt x="6261" y="13287"/>
                </a:cubicBezTo>
                <a:cubicBezTo>
                  <a:pt x="6261" y="13287"/>
                  <a:pt x="6261" y="13287"/>
                  <a:pt x="6261" y="13287"/>
                </a:cubicBezTo>
                <a:cubicBezTo>
                  <a:pt x="6280" y="13287"/>
                  <a:pt x="6298" y="13287"/>
                  <a:pt x="6298" y="13287"/>
                </a:cubicBezTo>
                <a:cubicBezTo>
                  <a:pt x="6317" y="13287"/>
                  <a:pt x="6336" y="13287"/>
                  <a:pt x="6355" y="13287"/>
                </a:cubicBezTo>
                <a:cubicBezTo>
                  <a:pt x="6393" y="13287"/>
                  <a:pt x="6450" y="13359"/>
                  <a:pt x="6450" y="13432"/>
                </a:cubicBezTo>
                <a:cubicBezTo>
                  <a:pt x="6469" y="13468"/>
                  <a:pt x="6469" y="13505"/>
                  <a:pt x="6469" y="13541"/>
                </a:cubicBezTo>
                <a:cubicBezTo>
                  <a:pt x="6469" y="13541"/>
                  <a:pt x="6469" y="13505"/>
                  <a:pt x="6469" y="13505"/>
                </a:cubicBezTo>
                <a:cubicBezTo>
                  <a:pt x="6469" y="13505"/>
                  <a:pt x="6469" y="13505"/>
                  <a:pt x="6469" y="13505"/>
                </a:cubicBezTo>
                <a:cubicBezTo>
                  <a:pt x="6506" y="13468"/>
                  <a:pt x="6544" y="13577"/>
                  <a:pt x="6563" y="13613"/>
                </a:cubicBezTo>
                <a:cubicBezTo>
                  <a:pt x="6563" y="13613"/>
                  <a:pt x="6563" y="13613"/>
                  <a:pt x="6563" y="13613"/>
                </a:cubicBezTo>
                <a:cubicBezTo>
                  <a:pt x="6563" y="13613"/>
                  <a:pt x="6563" y="13613"/>
                  <a:pt x="6563" y="13613"/>
                </a:cubicBezTo>
                <a:cubicBezTo>
                  <a:pt x="6582" y="13613"/>
                  <a:pt x="6601" y="13613"/>
                  <a:pt x="6620" y="13613"/>
                </a:cubicBezTo>
                <a:cubicBezTo>
                  <a:pt x="6620" y="13613"/>
                  <a:pt x="6620" y="13613"/>
                  <a:pt x="6620" y="13613"/>
                </a:cubicBezTo>
                <a:cubicBezTo>
                  <a:pt x="6658" y="13577"/>
                  <a:pt x="6715" y="13613"/>
                  <a:pt x="6733" y="13613"/>
                </a:cubicBezTo>
                <a:cubicBezTo>
                  <a:pt x="6752" y="13650"/>
                  <a:pt x="6771" y="13650"/>
                  <a:pt x="6809" y="13650"/>
                </a:cubicBezTo>
                <a:cubicBezTo>
                  <a:pt x="6828" y="13686"/>
                  <a:pt x="6885" y="13795"/>
                  <a:pt x="6885" y="13795"/>
                </a:cubicBezTo>
                <a:cubicBezTo>
                  <a:pt x="6885" y="13795"/>
                  <a:pt x="6904" y="13795"/>
                  <a:pt x="6904" y="13795"/>
                </a:cubicBezTo>
                <a:cubicBezTo>
                  <a:pt x="6923" y="13795"/>
                  <a:pt x="6923" y="13831"/>
                  <a:pt x="6923" y="13868"/>
                </a:cubicBezTo>
                <a:cubicBezTo>
                  <a:pt x="6942" y="13940"/>
                  <a:pt x="6942" y="14085"/>
                  <a:pt x="6998" y="14085"/>
                </a:cubicBezTo>
                <a:cubicBezTo>
                  <a:pt x="6998" y="14122"/>
                  <a:pt x="6998" y="14158"/>
                  <a:pt x="6998" y="14158"/>
                </a:cubicBezTo>
                <a:cubicBezTo>
                  <a:pt x="6979" y="14194"/>
                  <a:pt x="6960" y="14231"/>
                  <a:pt x="6960" y="14267"/>
                </a:cubicBezTo>
                <a:cubicBezTo>
                  <a:pt x="6942" y="14303"/>
                  <a:pt x="6904" y="14303"/>
                  <a:pt x="6885" y="14376"/>
                </a:cubicBezTo>
                <a:cubicBezTo>
                  <a:pt x="6885" y="14412"/>
                  <a:pt x="6885" y="14448"/>
                  <a:pt x="6866" y="14485"/>
                </a:cubicBezTo>
                <a:cubicBezTo>
                  <a:pt x="6866" y="14485"/>
                  <a:pt x="6866" y="14485"/>
                  <a:pt x="6866" y="14485"/>
                </a:cubicBezTo>
                <a:cubicBezTo>
                  <a:pt x="6885" y="14521"/>
                  <a:pt x="6904" y="14448"/>
                  <a:pt x="6923" y="14448"/>
                </a:cubicBezTo>
                <a:cubicBezTo>
                  <a:pt x="6942" y="14485"/>
                  <a:pt x="6942" y="14485"/>
                  <a:pt x="6942" y="14521"/>
                </a:cubicBezTo>
                <a:cubicBezTo>
                  <a:pt x="6979" y="14557"/>
                  <a:pt x="7017" y="14521"/>
                  <a:pt x="7036" y="14521"/>
                </a:cubicBezTo>
                <a:cubicBezTo>
                  <a:pt x="7036" y="14521"/>
                  <a:pt x="7017" y="14557"/>
                  <a:pt x="7017" y="14594"/>
                </a:cubicBezTo>
                <a:cubicBezTo>
                  <a:pt x="7036" y="14594"/>
                  <a:pt x="7036" y="14594"/>
                  <a:pt x="7036" y="14594"/>
                </a:cubicBezTo>
                <a:cubicBezTo>
                  <a:pt x="7036" y="14521"/>
                  <a:pt x="7074" y="14521"/>
                  <a:pt x="7093" y="14485"/>
                </a:cubicBezTo>
                <a:cubicBezTo>
                  <a:pt x="7093" y="14448"/>
                  <a:pt x="7093" y="14412"/>
                  <a:pt x="7112" y="14412"/>
                </a:cubicBezTo>
                <a:cubicBezTo>
                  <a:pt x="7131" y="14376"/>
                  <a:pt x="7150" y="14376"/>
                  <a:pt x="7168" y="14376"/>
                </a:cubicBezTo>
                <a:cubicBezTo>
                  <a:pt x="7168" y="14412"/>
                  <a:pt x="7187" y="14412"/>
                  <a:pt x="7187" y="14412"/>
                </a:cubicBezTo>
                <a:cubicBezTo>
                  <a:pt x="7225" y="14448"/>
                  <a:pt x="7263" y="14448"/>
                  <a:pt x="7282" y="14521"/>
                </a:cubicBezTo>
                <a:cubicBezTo>
                  <a:pt x="7282" y="14521"/>
                  <a:pt x="7282" y="14521"/>
                  <a:pt x="7282" y="14521"/>
                </a:cubicBezTo>
                <a:cubicBezTo>
                  <a:pt x="7282" y="14521"/>
                  <a:pt x="7282" y="14485"/>
                  <a:pt x="7301" y="14485"/>
                </a:cubicBezTo>
                <a:cubicBezTo>
                  <a:pt x="7301" y="14485"/>
                  <a:pt x="7339" y="14557"/>
                  <a:pt x="7339" y="14594"/>
                </a:cubicBezTo>
                <a:cubicBezTo>
                  <a:pt x="7320" y="14630"/>
                  <a:pt x="7320" y="14594"/>
                  <a:pt x="7320" y="14666"/>
                </a:cubicBezTo>
                <a:cubicBezTo>
                  <a:pt x="7339" y="14630"/>
                  <a:pt x="7377" y="14594"/>
                  <a:pt x="7395" y="14594"/>
                </a:cubicBezTo>
                <a:cubicBezTo>
                  <a:pt x="7433" y="14594"/>
                  <a:pt x="7452" y="14630"/>
                  <a:pt x="7471" y="14630"/>
                </a:cubicBezTo>
                <a:cubicBezTo>
                  <a:pt x="7490" y="14630"/>
                  <a:pt x="7509" y="14666"/>
                  <a:pt x="7528" y="14666"/>
                </a:cubicBezTo>
                <a:cubicBezTo>
                  <a:pt x="7566" y="14666"/>
                  <a:pt x="7585" y="14630"/>
                  <a:pt x="7622" y="14666"/>
                </a:cubicBezTo>
                <a:cubicBezTo>
                  <a:pt x="7679" y="14703"/>
                  <a:pt x="7717" y="14811"/>
                  <a:pt x="7774" y="14884"/>
                </a:cubicBezTo>
                <a:cubicBezTo>
                  <a:pt x="7812" y="14920"/>
                  <a:pt x="7849" y="14884"/>
                  <a:pt x="7868" y="14920"/>
                </a:cubicBezTo>
                <a:cubicBezTo>
                  <a:pt x="7887" y="14920"/>
                  <a:pt x="7925" y="15174"/>
                  <a:pt x="7925" y="15211"/>
                </a:cubicBezTo>
                <a:cubicBezTo>
                  <a:pt x="7906" y="15392"/>
                  <a:pt x="7868" y="15501"/>
                  <a:pt x="7812" y="15574"/>
                </a:cubicBezTo>
                <a:cubicBezTo>
                  <a:pt x="7793" y="15574"/>
                  <a:pt x="7793" y="15574"/>
                  <a:pt x="7774" y="15610"/>
                </a:cubicBezTo>
                <a:cubicBezTo>
                  <a:pt x="7774" y="15610"/>
                  <a:pt x="7774" y="15646"/>
                  <a:pt x="7774" y="15683"/>
                </a:cubicBezTo>
                <a:cubicBezTo>
                  <a:pt x="7755" y="15719"/>
                  <a:pt x="7736" y="15828"/>
                  <a:pt x="7698" y="15864"/>
                </a:cubicBezTo>
                <a:cubicBezTo>
                  <a:pt x="7698" y="15864"/>
                  <a:pt x="7698" y="15864"/>
                  <a:pt x="7698" y="15864"/>
                </a:cubicBezTo>
                <a:cubicBezTo>
                  <a:pt x="7698" y="15828"/>
                  <a:pt x="7698" y="15828"/>
                  <a:pt x="7698" y="15828"/>
                </a:cubicBezTo>
                <a:cubicBezTo>
                  <a:pt x="7679" y="15792"/>
                  <a:pt x="7679" y="15792"/>
                  <a:pt x="7679" y="15792"/>
                </a:cubicBezTo>
                <a:cubicBezTo>
                  <a:pt x="7679" y="15864"/>
                  <a:pt x="7660" y="15937"/>
                  <a:pt x="7660" y="16009"/>
                </a:cubicBezTo>
                <a:cubicBezTo>
                  <a:pt x="7660" y="16046"/>
                  <a:pt x="7660" y="16118"/>
                  <a:pt x="7679" y="16191"/>
                </a:cubicBezTo>
                <a:cubicBezTo>
                  <a:pt x="7679" y="16264"/>
                  <a:pt x="7660" y="16300"/>
                  <a:pt x="7660" y="16336"/>
                </a:cubicBezTo>
                <a:cubicBezTo>
                  <a:pt x="7660" y="16372"/>
                  <a:pt x="7660" y="16409"/>
                  <a:pt x="7660" y="16445"/>
                </a:cubicBezTo>
                <a:cubicBezTo>
                  <a:pt x="7641" y="16445"/>
                  <a:pt x="7622" y="16518"/>
                  <a:pt x="7622" y="16554"/>
                </a:cubicBezTo>
                <a:cubicBezTo>
                  <a:pt x="7622" y="16590"/>
                  <a:pt x="7622" y="16627"/>
                  <a:pt x="7622" y="16663"/>
                </a:cubicBezTo>
                <a:cubicBezTo>
                  <a:pt x="7622" y="16663"/>
                  <a:pt x="7604" y="16663"/>
                  <a:pt x="7604" y="16699"/>
                </a:cubicBezTo>
                <a:cubicBezTo>
                  <a:pt x="7585" y="16735"/>
                  <a:pt x="7585" y="16772"/>
                  <a:pt x="7585" y="16772"/>
                </a:cubicBezTo>
                <a:cubicBezTo>
                  <a:pt x="7566" y="16808"/>
                  <a:pt x="7547" y="16844"/>
                  <a:pt x="7547" y="16917"/>
                </a:cubicBezTo>
                <a:cubicBezTo>
                  <a:pt x="7547" y="16917"/>
                  <a:pt x="7547" y="16953"/>
                  <a:pt x="7547" y="16953"/>
                </a:cubicBezTo>
                <a:cubicBezTo>
                  <a:pt x="7509" y="16953"/>
                  <a:pt x="7490" y="16990"/>
                  <a:pt x="7490" y="17062"/>
                </a:cubicBezTo>
                <a:cubicBezTo>
                  <a:pt x="7452" y="17062"/>
                  <a:pt x="7414" y="17098"/>
                  <a:pt x="7377" y="17062"/>
                </a:cubicBezTo>
                <a:cubicBezTo>
                  <a:pt x="7358" y="17062"/>
                  <a:pt x="7339" y="17062"/>
                  <a:pt x="7320" y="17062"/>
                </a:cubicBezTo>
                <a:cubicBezTo>
                  <a:pt x="7320" y="17135"/>
                  <a:pt x="7301" y="17098"/>
                  <a:pt x="7282" y="17135"/>
                </a:cubicBezTo>
                <a:cubicBezTo>
                  <a:pt x="7282" y="17135"/>
                  <a:pt x="7282" y="17171"/>
                  <a:pt x="7263" y="17171"/>
                </a:cubicBezTo>
                <a:cubicBezTo>
                  <a:pt x="7263" y="17171"/>
                  <a:pt x="7244" y="17171"/>
                  <a:pt x="7244" y="17171"/>
                </a:cubicBezTo>
                <a:cubicBezTo>
                  <a:pt x="7225" y="17171"/>
                  <a:pt x="7131" y="17280"/>
                  <a:pt x="7112" y="17316"/>
                </a:cubicBezTo>
                <a:cubicBezTo>
                  <a:pt x="7112" y="17353"/>
                  <a:pt x="7093" y="17389"/>
                  <a:pt x="7074" y="17389"/>
                </a:cubicBezTo>
                <a:cubicBezTo>
                  <a:pt x="7074" y="17389"/>
                  <a:pt x="7074" y="17389"/>
                  <a:pt x="7074" y="17389"/>
                </a:cubicBezTo>
                <a:cubicBezTo>
                  <a:pt x="7093" y="17425"/>
                  <a:pt x="7074" y="17462"/>
                  <a:pt x="7074" y="17498"/>
                </a:cubicBezTo>
                <a:cubicBezTo>
                  <a:pt x="7074" y="17534"/>
                  <a:pt x="7074" y="17534"/>
                  <a:pt x="7074" y="17570"/>
                </a:cubicBezTo>
                <a:cubicBezTo>
                  <a:pt x="7093" y="17788"/>
                  <a:pt x="7036" y="17788"/>
                  <a:pt x="6998" y="17897"/>
                </a:cubicBezTo>
                <a:cubicBezTo>
                  <a:pt x="6979" y="17970"/>
                  <a:pt x="6979" y="18006"/>
                  <a:pt x="6960" y="18042"/>
                </a:cubicBezTo>
                <a:cubicBezTo>
                  <a:pt x="6942" y="18115"/>
                  <a:pt x="6923" y="18151"/>
                  <a:pt x="6904" y="18188"/>
                </a:cubicBezTo>
                <a:cubicBezTo>
                  <a:pt x="6904" y="18115"/>
                  <a:pt x="6960" y="18079"/>
                  <a:pt x="6960" y="18006"/>
                </a:cubicBezTo>
                <a:cubicBezTo>
                  <a:pt x="6942" y="18006"/>
                  <a:pt x="6942" y="18006"/>
                  <a:pt x="6942" y="18006"/>
                </a:cubicBezTo>
                <a:cubicBezTo>
                  <a:pt x="6942" y="18006"/>
                  <a:pt x="6923" y="18006"/>
                  <a:pt x="6923" y="18006"/>
                </a:cubicBezTo>
                <a:cubicBezTo>
                  <a:pt x="6923" y="18006"/>
                  <a:pt x="6923" y="18006"/>
                  <a:pt x="6923" y="18006"/>
                </a:cubicBezTo>
                <a:cubicBezTo>
                  <a:pt x="6904" y="18042"/>
                  <a:pt x="6904" y="18079"/>
                  <a:pt x="6904" y="18115"/>
                </a:cubicBezTo>
                <a:cubicBezTo>
                  <a:pt x="6885" y="18115"/>
                  <a:pt x="6866" y="18151"/>
                  <a:pt x="6866" y="18188"/>
                </a:cubicBezTo>
                <a:cubicBezTo>
                  <a:pt x="6847" y="18224"/>
                  <a:pt x="6847" y="18260"/>
                  <a:pt x="6847" y="18296"/>
                </a:cubicBezTo>
                <a:cubicBezTo>
                  <a:pt x="6828" y="18369"/>
                  <a:pt x="6790" y="18405"/>
                  <a:pt x="6771" y="18478"/>
                </a:cubicBezTo>
                <a:cubicBezTo>
                  <a:pt x="6752" y="18514"/>
                  <a:pt x="6733" y="18587"/>
                  <a:pt x="6715" y="18623"/>
                </a:cubicBezTo>
                <a:cubicBezTo>
                  <a:pt x="6677" y="18623"/>
                  <a:pt x="6677" y="18587"/>
                  <a:pt x="6658" y="18587"/>
                </a:cubicBezTo>
                <a:cubicBezTo>
                  <a:pt x="6639" y="18587"/>
                  <a:pt x="6620" y="18623"/>
                  <a:pt x="6601" y="18623"/>
                </a:cubicBezTo>
                <a:cubicBezTo>
                  <a:pt x="6582" y="18551"/>
                  <a:pt x="6544" y="18551"/>
                  <a:pt x="6506" y="18587"/>
                </a:cubicBezTo>
                <a:cubicBezTo>
                  <a:pt x="6488" y="18551"/>
                  <a:pt x="6488" y="18514"/>
                  <a:pt x="6469" y="18514"/>
                </a:cubicBezTo>
                <a:cubicBezTo>
                  <a:pt x="6469" y="18514"/>
                  <a:pt x="6469" y="18551"/>
                  <a:pt x="6469" y="18551"/>
                </a:cubicBezTo>
                <a:cubicBezTo>
                  <a:pt x="6469" y="18551"/>
                  <a:pt x="6469" y="18551"/>
                  <a:pt x="6469" y="18551"/>
                </a:cubicBezTo>
                <a:cubicBezTo>
                  <a:pt x="6488" y="18623"/>
                  <a:pt x="6525" y="18623"/>
                  <a:pt x="6544" y="18696"/>
                </a:cubicBezTo>
                <a:cubicBezTo>
                  <a:pt x="6544" y="18696"/>
                  <a:pt x="6544" y="18696"/>
                  <a:pt x="6525" y="18732"/>
                </a:cubicBezTo>
                <a:cubicBezTo>
                  <a:pt x="6525" y="18805"/>
                  <a:pt x="6563" y="18805"/>
                  <a:pt x="6563" y="18841"/>
                </a:cubicBezTo>
                <a:cubicBezTo>
                  <a:pt x="6582" y="18841"/>
                  <a:pt x="6582" y="18877"/>
                  <a:pt x="6582" y="18877"/>
                </a:cubicBezTo>
                <a:cubicBezTo>
                  <a:pt x="6563" y="18914"/>
                  <a:pt x="6544" y="18950"/>
                  <a:pt x="6544" y="18986"/>
                </a:cubicBezTo>
                <a:cubicBezTo>
                  <a:pt x="6525" y="19023"/>
                  <a:pt x="6525" y="19059"/>
                  <a:pt x="6525" y="19059"/>
                </a:cubicBezTo>
                <a:cubicBezTo>
                  <a:pt x="6506" y="19131"/>
                  <a:pt x="6412" y="19131"/>
                  <a:pt x="6374" y="19168"/>
                </a:cubicBezTo>
                <a:cubicBezTo>
                  <a:pt x="6336" y="19168"/>
                  <a:pt x="6298" y="19168"/>
                  <a:pt x="6261" y="19168"/>
                </a:cubicBezTo>
                <a:cubicBezTo>
                  <a:pt x="6261" y="19168"/>
                  <a:pt x="6242" y="19131"/>
                  <a:pt x="6223" y="19168"/>
                </a:cubicBezTo>
                <a:cubicBezTo>
                  <a:pt x="6223" y="19204"/>
                  <a:pt x="6242" y="19240"/>
                  <a:pt x="6242" y="19240"/>
                </a:cubicBezTo>
                <a:cubicBezTo>
                  <a:pt x="6242" y="19277"/>
                  <a:pt x="6223" y="19313"/>
                  <a:pt x="6223" y="19349"/>
                </a:cubicBezTo>
                <a:cubicBezTo>
                  <a:pt x="6223" y="19386"/>
                  <a:pt x="6242" y="19386"/>
                  <a:pt x="6223" y="19422"/>
                </a:cubicBezTo>
                <a:cubicBezTo>
                  <a:pt x="6223" y="19422"/>
                  <a:pt x="6223" y="19422"/>
                  <a:pt x="6204" y="19458"/>
                </a:cubicBezTo>
                <a:cubicBezTo>
                  <a:pt x="6185" y="19458"/>
                  <a:pt x="6166" y="19494"/>
                  <a:pt x="6128" y="19458"/>
                </a:cubicBezTo>
                <a:cubicBezTo>
                  <a:pt x="6109" y="19458"/>
                  <a:pt x="6090" y="19422"/>
                  <a:pt x="6053" y="19422"/>
                </a:cubicBezTo>
                <a:cubicBezTo>
                  <a:pt x="6053" y="19422"/>
                  <a:pt x="6053" y="19422"/>
                  <a:pt x="6053" y="19458"/>
                </a:cubicBezTo>
                <a:cubicBezTo>
                  <a:pt x="6053" y="19494"/>
                  <a:pt x="6071" y="19494"/>
                  <a:pt x="6071" y="19531"/>
                </a:cubicBezTo>
                <a:cubicBezTo>
                  <a:pt x="6071" y="19567"/>
                  <a:pt x="6071" y="19567"/>
                  <a:pt x="6071" y="19603"/>
                </a:cubicBezTo>
                <a:cubicBezTo>
                  <a:pt x="6071" y="19640"/>
                  <a:pt x="6090" y="19676"/>
                  <a:pt x="6109" y="19640"/>
                </a:cubicBezTo>
                <a:cubicBezTo>
                  <a:pt x="6109" y="19640"/>
                  <a:pt x="6109" y="19640"/>
                  <a:pt x="6109" y="19640"/>
                </a:cubicBezTo>
                <a:cubicBezTo>
                  <a:pt x="6109" y="19640"/>
                  <a:pt x="6109" y="19640"/>
                  <a:pt x="6109" y="19603"/>
                </a:cubicBezTo>
                <a:cubicBezTo>
                  <a:pt x="6128" y="19603"/>
                  <a:pt x="6128" y="19603"/>
                  <a:pt x="6147" y="19603"/>
                </a:cubicBezTo>
                <a:cubicBezTo>
                  <a:pt x="6147" y="19603"/>
                  <a:pt x="6147" y="19603"/>
                  <a:pt x="6147" y="19603"/>
                </a:cubicBezTo>
                <a:cubicBezTo>
                  <a:pt x="6147" y="19640"/>
                  <a:pt x="6147" y="19676"/>
                  <a:pt x="6147" y="19676"/>
                </a:cubicBezTo>
                <a:cubicBezTo>
                  <a:pt x="6147" y="19676"/>
                  <a:pt x="6147" y="19676"/>
                  <a:pt x="6147" y="19712"/>
                </a:cubicBezTo>
                <a:cubicBezTo>
                  <a:pt x="6147" y="19712"/>
                  <a:pt x="6128" y="19712"/>
                  <a:pt x="6128" y="19712"/>
                </a:cubicBezTo>
                <a:cubicBezTo>
                  <a:pt x="6109" y="19712"/>
                  <a:pt x="6109" y="19676"/>
                  <a:pt x="6109" y="19676"/>
                </a:cubicBezTo>
                <a:cubicBezTo>
                  <a:pt x="6090" y="19676"/>
                  <a:pt x="6071" y="19676"/>
                  <a:pt x="6053" y="19712"/>
                </a:cubicBezTo>
                <a:cubicBezTo>
                  <a:pt x="6071" y="19712"/>
                  <a:pt x="6071" y="19712"/>
                  <a:pt x="6071" y="19712"/>
                </a:cubicBezTo>
                <a:cubicBezTo>
                  <a:pt x="6071" y="19712"/>
                  <a:pt x="6090" y="19712"/>
                  <a:pt x="6109" y="19749"/>
                </a:cubicBezTo>
                <a:cubicBezTo>
                  <a:pt x="6109" y="19749"/>
                  <a:pt x="6109" y="19749"/>
                  <a:pt x="6109" y="19749"/>
                </a:cubicBezTo>
                <a:cubicBezTo>
                  <a:pt x="6090" y="19749"/>
                  <a:pt x="6053" y="19785"/>
                  <a:pt x="6053" y="19821"/>
                </a:cubicBezTo>
                <a:cubicBezTo>
                  <a:pt x="6053" y="19894"/>
                  <a:pt x="6053" y="19930"/>
                  <a:pt x="6034" y="19966"/>
                </a:cubicBezTo>
                <a:cubicBezTo>
                  <a:pt x="6034" y="19966"/>
                  <a:pt x="6034" y="20003"/>
                  <a:pt x="6034" y="20003"/>
                </a:cubicBezTo>
                <a:cubicBezTo>
                  <a:pt x="6015" y="20003"/>
                  <a:pt x="5996" y="20003"/>
                  <a:pt x="5977" y="20039"/>
                </a:cubicBezTo>
                <a:cubicBezTo>
                  <a:pt x="5939" y="20039"/>
                  <a:pt x="5901" y="20148"/>
                  <a:pt x="5920" y="20257"/>
                </a:cubicBezTo>
                <a:cubicBezTo>
                  <a:pt x="5920" y="20293"/>
                  <a:pt x="5958" y="20329"/>
                  <a:pt x="5977" y="20329"/>
                </a:cubicBezTo>
                <a:cubicBezTo>
                  <a:pt x="5996" y="20329"/>
                  <a:pt x="6015" y="20329"/>
                  <a:pt x="6015" y="20366"/>
                </a:cubicBezTo>
                <a:cubicBezTo>
                  <a:pt x="6034" y="20511"/>
                  <a:pt x="5958" y="20511"/>
                  <a:pt x="5920" y="20584"/>
                </a:cubicBezTo>
                <a:cubicBezTo>
                  <a:pt x="5920" y="20620"/>
                  <a:pt x="5901" y="20620"/>
                  <a:pt x="5901" y="20656"/>
                </a:cubicBezTo>
                <a:cubicBezTo>
                  <a:pt x="5901" y="20692"/>
                  <a:pt x="5901" y="20729"/>
                  <a:pt x="5882" y="20765"/>
                </a:cubicBezTo>
                <a:cubicBezTo>
                  <a:pt x="5882" y="20801"/>
                  <a:pt x="5844" y="20801"/>
                  <a:pt x="5826" y="20838"/>
                </a:cubicBezTo>
                <a:cubicBezTo>
                  <a:pt x="5769" y="20947"/>
                  <a:pt x="5844" y="21055"/>
                  <a:pt x="5863" y="21164"/>
                </a:cubicBezTo>
                <a:cubicBezTo>
                  <a:pt x="5826" y="21164"/>
                  <a:pt x="5826" y="21164"/>
                  <a:pt x="5807" y="21128"/>
                </a:cubicBezTo>
                <a:cubicBezTo>
                  <a:pt x="5807" y="21128"/>
                  <a:pt x="5788" y="21128"/>
                  <a:pt x="5788" y="21128"/>
                </a:cubicBezTo>
                <a:cubicBezTo>
                  <a:pt x="5788" y="21128"/>
                  <a:pt x="5769" y="21164"/>
                  <a:pt x="5769" y="21164"/>
                </a:cubicBezTo>
                <a:cubicBezTo>
                  <a:pt x="5750" y="21201"/>
                  <a:pt x="5731" y="21164"/>
                  <a:pt x="5712" y="21201"/>
                </a:cubicBezTo>
                <a:cubicBezTo>
                  <a:pt x="5712" y="21201"/>
                  <a:pt x="5712" y="21201"/>
                  <a:pt x="5712" y="21201"/>
                </a:cubicBezTo>
                <a:cubicBezTo>
                  <a:pt x="5693" y="21273"/>
                  <a:pt x="5712" y="21310"/>
                  <a:pt x="5693" y="21382"/>
                </a:cubicBezTo>
                <a:cubicBezTo>
                  <a:pt x="5693" y="21382"/>
                  <a:pt x="5674" y="21382"/>
                  <a:pt x="5674" y="21382"/>
                </a:cubicBezTo>
                <a:cubicBezTo>
                  <a:pt x="5655" y="21382"/>
                  <a:pt x="5655" y="21346"/>
                  <a:pt x="5636" y="21346"/>
                </a:cubicBezTo>
                <a:cubicBezTo>
                  <a:pt x="5655" y="21310"/>
                  <a:pt x="5674" y="21273"/>
                  <a:pt x="5693" y="21237"/>
                </a:cubicBezTo>
                <a:cubicBezTo>
                  <a:pt x="5693" y="21237"/>
                  <a:pt x="5693" y="21237"/>
                  <a:pt x="5693" y="21237"/>
                </a:cubicBezTo>
                <a:cubicBezTo>
                  <a:pt x="5674" y="21237"/>
                  <a:pt x="5674" y="21237"/>
                  <a:pt x="5674" y="21201"/>
                </a:cubicBezTo>
                <a:cubicBezTo>
                  <a:pt x="5636" y="21237"/>
                  <a:pt x="5618" y="21273"/>
                  <a:pt x="5580" y="21273"/>
                </a:cubicBezTo>
                <a:cubicBezTo>
                  <a:pt x="5580" y="21237"/>
                  <a:pt x="5580" y="21237"/>
                  <a:pt x="5580" y="21237"/>
                </a:cubicBezTo>
                <a:cubicBezTo>
                  <a:pt x="5618" y="21201"/>
                  <a:pt x="5618" y="21201"/>
                  <a:pt x="5655" y="21201"/>
                </a:cubicBezTo>
                <a:cubicBezTo>
                  <a:pt x="5636" y="21164"/>
                  <a:pt x="5618" y="21164"/>
                  <a:pt x="5599" y="21164"/>
                </a:cubicBezTo>
                <a:cubicBezTo>
                  <a:pt x="5599" y="21128"/>
                  <a:pt x="5599" y="21128"/>
                  <a:pt x="5599" y="21092"/>
                </a:cubicBezTo>
                <a:cubicBezTo>
                  <a:pt x="5599" y="21092"/>
                  <a:pt x="5580" y="21092"/>
                  <a:pt x="5580" y="21055"/>
                </a:cubicBezTo>
                <a:cubicBezTo>
                  <a:pt x="5580" y="21092"/>
                  <a:pt x="5561" y="21092"/>
                  <a:pt x="5561" y="21092"/>
                </a:cubicBezTo>
                <a:cubicBezTo>
                  <a:pt x="5561" y="21092"/>
                  <a:pt x="5561" y="21092"/>
                  <a:pt x="5542" y="21092"/>
                </a:cubicBezTo>
                <a:cubicBezTo>
                  <a:pt x="5542" y="21055"/>
                  <a:pt x="5561" y="21055"/>
                  <a:pt x="5561" y="21019"/>
                </a:cubicBezTo>
                <a:cubicBezTo>
                  <a:pt x="5561" y="21019"/>
                  <a:pt x="5561" y="21019"/>
                  <a:pt x="5561" y="21019"/>
                </a:cubicBezTo>
                <a:cubicBezTo>
                  <a:pt x="5542" y="21055"/>
                  <a:pt x="5542" y="21055"/>
                  <a:pt x="5542" y="21055"/>
                </a:cubicBezTo>
                <a:cubicBezTo>
                  <a:pt x="5523" y="21019"/>
                  <a:pt x="5523" y="21019"/>
                  <a:pt x="5523" y="21019"/>
                </a:cubicBezTo>
                <a:cubicBezTo>
                  <a:pt x="5523" y="21019"/>
                  <a:pt x="5523" y="21019"/>
                  <a:pt x="5523" y="20983"/>
                </a:cubicBezTo>
                <a:cubicBezTo>
                  <a:pt x="5523" y="20983"/>
                  <a:pt x="5523" y="20983"/>
                  <a:pt x="5523" y="20983"/>
                </a:cubicBezTo>
                <a:cubicBezTo>
                  <a:pt x="5523" y="20983"/>
                  <a:pt x="5523" y="20983"/>
                  <a:pt x="5523" y="20947"/>
                </a:cubicBezTo>
                <a:cubicBezTo>
                  <a:pt x="5523" y="20947"/>
                  <a:pt x="5504" y="20947"/>
                  <a:pt x="5485" y="20910"/>
                </a:cubicBezTo>
                <a:cubicBezTo>
                  <a:pt x="5523" y="20910"/>
                  <a:pt x="5523" y="20874"/>
                  <a:pt x="5542" y="20838"/>
                </a:cubicBezTo>
                <a:cubicBezTo>
                  <a:pt x="5523" y="20838"/>
                  <a:pt x="5504" y="20838"/>
                  <a:pt x="5504" y="20838"/>
                </a:cubicBezTo>
                <a:cubicBezTo>
                  <a:pt x="5504" y="20838"/>
                  <a:pt x="5504" y="20801"/>
                  <a:pt x="5504" y="20801"/>
                </a:cubicBezTo>
                <a:cubicBezTo>
                  <a:pt x="5504" y="20801"/>
                  <a:pt x="5504" y="20765"/>
                  <a:pt x="5504" y="20765"/>
                </a:cubicBezTo>
                <a:cubicBezTo>
                  <a:pt x="5504" y="20765"/>
                  <a:pt x="5504" y="20729"/>
                  <a:pt x="5504" y="20692"/>
                </a:cubicBezTo>
                <a:cubicBezTo>
                  <a:pt x="5504" y="20692"/>
                  <a:pt x="5504" y="20692"/>
                  <a:pt x="5523" y="20692"/>
                </a:cubicBezTo>
                <a:cubicBezTo>
                  <a:pt x="5523" y="20656"/>
                  <a:pt x="5504" y="20656"/>
                  <a:pt x="5504" y="20656"/>
                </a:cubicBezTo>
                <a:cubicBezTo>
                  <a:pt x="5504" y="20656"/>
                  <a:pt x="5504" y="20656"/>
                  <a:pt x="5485" y="20692"/>
                </a:cubicBezTo>
                <a:cubicBezTo>
                  <a:pt x="5485" y="20656"/>
                  <a:pt x="5485" y="20620"/>
                  <a:pt x="5485" y="20584"/>
                </a:cubicBezTo>
                <a:cubicBezTo>
                  <a:pt x="5485" y="20547"/>
                  <a:pt x="5504" y="20547"/>
                  <a:pt x="5504" y="20547"/>
                </a:cubicBezTo>
                <a:cubicBezTo>
                  <a:pt x="5504" y="20511"/>
                  <a:pt x="5504" y="20475"/>
                  <a:pt x="5504" y="20475"/>
                </a:cubicBezTo>
                <a:cubicBezTo>
                  <a:pt x="5523" y="20475"/>
                  <a:pt x="5523" y="20475"/>
                  <a:pt x="5542" y="20475"/>
                </a:cubicBezTo>
                <a:cubicBezTo>
                  <a:pt x="5542" y="20475"/>
                  <a:pt x="5542" y="20475"/>
                  <a:pt x="5542" y="20475"/>
                </a:cubicBezTo>
                <a:cubicBezTo>
                  <a:pt x="5542" y="20475"/>
                  <a:pt x="5542" y="20475"/>
                  <a:pt x="5542" y="20475"/>
                </a:cubicBezTo>
                <a:cubicBezTo>
                  <a:pt x="5542" y="20438"/>
                  <a:pt x="5542" y="20438"/>
                  <a:pt x="5523" y="20438"/>
                </a:cubicBezTo>
                <a:cubicBezTo>
                  <a:pt x="5485" y="20438"/>
                  <a:pt x="5485" y="20438"/>
                  <a:pt x="5485" y="20438"/>
                </a:cubicBezTo>
                <a:cubicBezTo>
                  <a:pt x="5485" y="20438"/>
                  <a:pt x="5485" y="20438"/>
                  <a:pt x="5485" y="20402"/>
                </a:cubicBezTo>
                <a:cubicBezTo>
                  <a:pt x="5485" y="20402"/>
                  <a:pt x="5485" y="20366"/>
                  <a:pt x="5485" y="20366"/>
                </a:cubicBezTo>
                <a:cubicBezTo>
                  <a:pt x="5504" y="20366"/>
                  <a:pt x="5504" y="20366"/>
                  <a:pt x="5504" y="20366"/>
                </a:cubicBezTo>
                <a:cubicBezTo>
                  <a:pt x="5504" y="20329"/>
                  <a:pt x="5504" y="20329"/>
                  <a:pt x="5504" y="20329"/>
                </a:cubicBezTo>
                <a:cubicBezTo>
                  <a:pt x="5485" y="20293"/>
                  <a:pt x="5466" y="20293"/>
                  <a:pt x="5447" y="20293"/>
                </a:cubicBezTo>
                <a:cubicBezTo>
                  <a:pt x="5447" y="20257"/>
                  <a:pt x="5447" y="20257"/>
                  <a:pt x="5447" y="20257"/>
                </a:cubicBezTo>
                <a:cubicBezTo>
                  <a:pt x="5428" y="20257"/>
                  <a:pt x="5428" y="20257"/>
                  <a:pt x="5409" y="20257"/>
                </a:cubicBezTo>
                <a:cubicBezTo>
                  <a:pt x="5409" y="20257"/>
                  <a:pt x="5428" y="20257"/>
                  <a:pt x="5428" y="20220"/>
                </a:cubicBezTo>
                <a:cubicBezTo>
                  <a:pt x="5447" y="20220"/>
                  <a:pt x="5466" y="20184"/>
                  <a:pt x="5466" y="20148"/>
                </a:cubicBezTo>
                <a:cubicBezTo>
                  <a:pt x="5485" y="20148"/>
                  <a:pt x="5504" y="20148"/>
                  <a:pt x="5504" y="20148"/>
                </a:cubicBezTo>
                <a:cubicBezTo>
                  <a:pt x="5504" y="20148"/>
                  <a:pt x="5504" y="20184"/>
                  <a:pt x="5504" y="20184"/>
                </a:cubicBezTo>
                <a:cubicBezTo>
                  <a:pt x="5485" y="20184"/>
                  <a:pt x="5485" y="20184"/>
                  <a:pt x="5485" y="20220"/>
                </a:cubicBezTo>
                <a:cubicBezTo>
                  <a:pt x="5485" y="20220"/>
                  <a:pt x="5485" y="20220"/>
                  <a:pt x="5485" y="20257"/>
                </a:cubicBezTo>
                <a:cubicBezTo>
                  <a:pt x="5485" y="20257"/>
                  <a:pt x="5485" y="20257"/>
                  <a:pt x="5485" y="20257"/>
                </a:cubicBezTo>
                <a:cubicBezTo>
                  <a:pt x="5485" y="20220"/>
                  <a:pt x="5504" y="20220"/>
                  <a:pt x="5504" y="20220"/>
                </a:cubicBezTo>
                <a:cubicBezTo>
                  <a:pt x="5504" y="20220"/>
                  <a:pt x="5504" y="20220"/>
                  <a:pt x="5504" y="20220"/>
                </a:cubicBezTo>
                <a:cubicBezTo>
                  <a:pt x="5504" y="20220"/>
                  <a:pt x="5504" y="20257"/>
                  <a:pt x="5504" y="20257"/>
                </a:cubicBezTo>
                <a:cubicBezTo>
                  <a:pt x="5504" y="20257"/>
                  <a:pt x="5523" y="20257"/>
                  <a:pt x="5523" y="20257"/>
                </a:cubicBezTo>
                <a:cubicBezTo>
                  <a:pt x="5523" y="20257"/>
                  <a:pt x="5523" y="20220"/>
                  <a:pt x="5542" y="20184"/>
                </a:cubicBezTo>
                <a:cubicBezTo>
                  <a:pt x="5561" y="20112"/>
                  <a:pt x="5523" y="20148"/>
                  <a:pt x="5561" y="20075"/>
                </a:cubicBezTo>
                <a:cubicBezTo>
                  <a:pt x="5561" y="20075"/>
                  <a:pt x="5542" y="20075"/>
                  <a:pt x="5561" y="20039"/>
                </a:cubicBezTo>
                <a:cubicBezTo>
                  <a:pt x="5561" y="20039"/>
                  <a:pt x="5561" y="20003"/>
                  <a:pt x="5580" y="20003"/>
                </a:cubicBezTo>
                <a:cubicBezTo>
                  <a:pt x="5580" y="20003"/>
                  <a:pt x="5599" y="19966"/>
                  <a:pt x="5599" y="19966"/>
                </a:cubicBezTo>
                <a:cubicBezTo>
                  <a:pt x="5599" y="19930"/>
                  <a:pt x="5599" y="19930"/>
                  <a:pt x="5599" y="19930"/>
                </a:cubicBezTo>
                <a:cubicBezTo>
                  <a:pt x="5580" y="19930"/>
                  <a:pt x="5580" y="19930"/>
                  <a:pt x="5561" y="19894"/>
                </a:cubicBezTo>
                <a:cubicBezTo>
                  <a:pt x="5561" y="19857"/>
                  <a:pt x="5580" y="19857"/>
                  <a:pt x="5580" y="19821"/>
                </a:cubicBezTo>
                <a:cubicBezTo>
                  <a:pt x="5580" y="19785"/>
                  <a:pt x="5561" y="19749"/>
                  <a:pt x="5599" y="19749"/>
                </a:cubicBezTo>
                <a:cubicBezTo>
                  <a:pt x="5599" y="19712"/>
                  <a:pt x="5580" y="19676"/>
                  <a:pt x="5580" y="19640"/>
                </a:cubicBezTo>
                <a:cubicBezTo>
                  <a:pt x="5599" y="19640"/>
                  <a:pt x="5599" y="19640"/>
                  <a:pt x="5599" y="19640"/>
                </a:cubicBezTo>
                <a:cubicBezTo>
                  <a:pt x="5599" y="19603"/>
                  <a:pt x="5599" y="19603"/>
                  <a:pt x="5599" y="19603"/>
                </a:cubicBezTo>
                <a:cubicBezTo>
                  <a:pt x="5599" y="19603"/>
                  <a:pt x="5599" y="19603"/>
                  <a:pt x="5580" y="19567"/>
                </a:cubicBezTo>
                <a:cubicBezTo>
                  <a:pt x="5599" y="19567"/>
                  <a:pt x="5599" y="19531"/>
                  <a:pt x="5599" y="19531"/>
                </a:cubicBezTo>
                <a:cubicBezTo>
                  <a:pt x="5580" y="19531"/>
                  <a:pt x="5580" y="19531"/>
                  <a:pt x="5580" y="19531"/>
                </a:cubicBezTo>
                <a:cubicBezTo>
                  <a:pt x="5561" y="19567"/>
                  <a:pt x="5542" y="19567"/>
                  <a:pt x="5542" y="19531"/>
                </a:cubicBezTo>
                <a:cubicBezTo>
                  <a:pt x="5523" y="19494"/>
                  <a:pt x="5523" y="19494"/>
                  <a:pt x="5523" y="19458"/>
                </a:cubicBezTo>
                <a:cubicBezTo>
                  <a:pt x="5504" y="19349"/>
                  <a:pt x="5542" y="19313"/>
                  <a:pt x="5561" y="19240"/>
                </a:cubicBezTo>
                <a:cubicBezTo>
                  <a:pt x="5561" y="19240"/>
                  <a:pt x="5561" y="19240"/>
                  <a:pt x="5561" y="19240"/>
                </a:cubicBezTo>
                <a:cubicBezTo>
                  <a:pt x="5561" y="19204"/>
                  <a:pt x="5542" y="19168"/>
                  <a:pt x="5542" y="19131"/>
                </a:cubicBezTo>
                <a:cubicBezTo>
                  <a:pt x="5542" y="19095"/>
                  <a:pt x="5542" y="19059"/>
                  <a:pt x="5542" y="19023"/>
                </a:cubicBezTo>
                <a:cubicBezTo>
                  <a:pt x="5542" y="18986"/>
                  <a:pt x="5542" y="18950"/>
                  <a:pt x="5523" y="18950"/>
                </a:cubicBezTo>
                <a:cubicBezTo>
                  <a:pt x="5523" y="18950"/>
                  <a:pt x="5523" y="18950"/>
                  <a:pt x="5523" y="18950"/>
                </a:cubicBezTo>
                <a:cubicBezTo>
                  <a:pt x="5542" y="18914"/>
                  <a:pt x="5561" y="18950"/>
                  <a:pt x="5561" y="18914"/>
                </a:cubicBezTo>
                <a:cubicBezTo>
                  <a:pt x="5580" y="18768"/>
                  <a:pt x="5618" y="18659"/>
                  <a:pt x="5636" y="18514"/>
                </a:cubicBezTo>
                <a:cubicBezTo>
                  <a:pt x="5636" y="18478"/>
                  <a:pt x="5655" y="18478"/>
                  <a:pt x="5655" y="18442"/>
                </a:cubicBezTo>
                <a:cubicBezTo>
                  <a:pt x="5655" y="18405"/>
                  <a:pt x="5655" y="18405"/>
                  <a:pt x="5655" y="18369"/>
                </a:cubicBezTo>
                <a:cubicBezTo>
                  <a:pt x="5655" y="18369"/>
                  <a:pt x="5655" y="18333"/>
                  <a:pt x="5674" y="18333"/>
                </a:cubicBezTo>
                <a:cubicBezTo>
                  <a:pt x="5674" y="18296"/>
                  <a:pt x="5674" y="18296"/>
                  <a:pt x="5655" y="18260"/>
                </a:cubicBezTo>
                <a:cubicBezTo>
                  <a:pt x="5655" y="18224"/>
                  <a:pt x="5655" y="18079"/>
                  <a:pt x="5655" y="18042"/>
                </a:cubicBezTo>
                <a:cubicBezTo>
                  <a:pt x="5655" y="18006"/>
                  <a:pt x="5674" y="17970"/>
                  <a:pt x="5674" y="17933"/>
                </a:cubicBezTo>
                <a:cubicBezTo>
                  <a:pt x="5693" y="17897"/>
                  <a:pt x="5655" y="17897"/>
                  <a:pt x="5674" y="17825"/>
                </a:cubicBezTo>
                <a:cubicBezTo>
                  <a:pt x="5674" y="17788"/>
                  <a:pt x="5674" y="17752"/>
                  <a:pt x="5693" y="17716"/>
                </a:cubicBezTo>
                <a:cubicBezTo>
                  <a:pt x="5693" y="17679"/>
                  <a:pt x="5693" y="17679"/>
                  <a:pt x="5693" y="17679"/>
                </a:cubicBezTo>
                <a:cubicBezTo>
                  <a:pt x="5712" y="17607"/>
                  <a:pt x="5712" y="17462"/>
                  <a:pt x="5712" y="17425"/>
                </a:cubicBezTo>
                <a:cubicBezTo>
                  <a:pt x="5712" y="17389"/>
                  <a:pt x="5731" y="17389"/>
                  <a:pt x="5731" y="17353"/>
                </a:cubicBezTo>
                <a:cubicBezTo>
                  <a:pt x="5731" y="17353"/>
                  <a:pt x="5731" y="17316"/>
                  <a:pt x="5731" y="17316"/>
                </a:cubicBezTo>
                <a:cubicBezTo>
                  <a:pt x="5712" y="17280"/>
                  <a:pt x="5731" y="17207"/>
                  <a:pt x="5731" y="17171"/>
                </a:cubicBezTo>
                <a:cubicBezTo>
                  <a:pt x="5731" y="17135"/>
                  <a:pt x="5731" y="17135"/>
                  <a:pt x="5712" y="17135"/>
                </a:cubicBezTo>
                <a:cubicBezTo>
                  <a:pt x="5712" y="17135"/>
                  <a:pt x="5712" y="17098"/>
                  <a:pt x="5712" y="17098"/>
                </a:cubicBezTo>
                <a:cubicBezTo>
                  <a:pt x="5731" y="17098"/>
                  <a:pt x="5731" y="17062"/>
                  <a:pt x="5731" y="17062"/>
                </a:cubicBezTo>
                <a:cubicBezTo>
                  <a:pt x="5750" y="16953"/>
                  <a:pt x="5750" y="16590"/>
                  <a:pt x="5731" y="16481"/>
                </a:cubicBezTo>
                <a:cubicBezTo>
                  <a:pt x="5712" y="16445"/>
                  <a:pt x="5693" y="16445"/>
                  <a:pt x="5674" y="16409"/>
                </a:cubicBezTo>
                <a:cubicBezTo>
                  <a:pt x="5674" y="16409"/>
                  <a:pt x="5655" y="16372"/>
                  <a:pt x="5655" y="16372"/>
                </a:cubicBezTo>
                <a:cubicBezTo>
                  <a:pt x="5636" y="16336"/>
                  <a:pt x="5618" y="16336"/>
                  <a:pt x="5599" y="16300"/>
                </a:cubicBezTo>
                <a:cubicBezTo>
                  <a:pt x="5523" y="16227"/>
                  <a:pt x="5447" y="16155"/>
                  <a:pt x="5391" y="16046"/>
                </a:cubicBezTo>
                <a:cubicBezTo>
                  <a:pt x="5391" y="16046"/>
                  <a:pt x="5372" y="16009"/>
                  <a:pt x="5372" y="15973"/>
                </a:cubicBezTo>
                <a:cubicBezTo>
                  <a:pt x="5372" y="15973"/>
                  <a:pt x="5372" y="15937"/>
                  <a:pt x="5372" y="15901"/>
                </a:cubicBezTo>
                <a:cubicBezTo>
                  <a:pt x="5372" y="15864"/>
                  <a:pt x="5353" y="15864"/>
                  <a:pt x="5334" y="15828"/>
                </a:cubicBezTo>
                <a:cubicBezTo>
                  <a:pt x="5315" y="15755"/>
                  <a:pt x="5315" y="15683"/>
                  <a:pt x="5277" y="15646"/>
                </a:cubicBezTo>
                <a:cubicBezTo>
                  <a:pt x="5277" y="15537"/>
                  <a:pt x="5201" y="15320"/>
                  <a:pt x="5164" y="15211"/>
                </a:cubicBezTo>
                <a:cubicBezTo>
                  <a:pt x="5164" y="15174"/>
                  <a:pt x="5145" y="15138"/>
                  <a:pt x="5126" y="15102"/>
                </a:cubicBezTo>
                <a:cubicBezTo>
                  <a:pt x="5107" y="15066"/>
                  <a:pt x="5088" y="15066"/>
                  <a:pt x="5050" y="15029"/>
                </a:cubicBezTo>
                <a:cubicBezTo>
                  <a:pt x="5069" y="15029"/>
                  <a:pt x="5069" y="15029"/>
                  <a:pt x="5069" y="15029"/>
                </a:cubicBezTo>
                <a:cubicBezTo>
                  <a:pt x="5069" y="14993"/>
                  <a:pt x="5069" y="14993"/>
                  <a:pt x="5088" y="14993"/>
                </a:cubicBezTo>
                <a:cubicBezTo>
                  <a:pt x="5088" y="14920"/>
                  <a:pt x="5050" y="14920"/>
                  <a:pt x="5050" y="14848"/>
                </a:cubicBezTo>
                <a:cubicBezTo>
                  <a:pt x="5069" y="14775"/>
                  <a:pt x="5145" y="14739"/>
                  <a:pt x="5145" y="14630"/>
                </a:cubicBezTo>
                <a:cubicBezTo>
                  <a:pt x="5164" y="14630"/>
                  <a:pt x="5145" y="14594"/>
                  <a:pt x="5145" y="14557"/>
                </a:cubicBezTo>
                <a:cubicBezTo>
                  <a:pt x="5126" y="14594"/>
                  <a:pt x="5107" y="14666"/>
                  <a:pt x="5088" y="14594"/>
                </a:cubicBezTo>
                <a:cubicBezTo>
                  <a:pt x="5088" y="14594"/>
                  <a:pt x="5088" y="14594"/>
                  <a:pt x="5088" y="14594"/>
                </a:cubicBezTo>
                <a:cubicBezTo>
                  <a:pt x="5088" y="14557"/>
                  <a:pt x="5088" y="14557"/>
                  <a:pt x="5088" y="14557"/>
                </a:cubicBezTo>
                <a:cubicBezTo>
                  <a:pt x="5088" y="14521"/>
                  <a:pt x="5088" y="14485"/>
                  <a:pt x="5088" y="14412"/>
                </a:cubicBezTo>
                <a:cubicBezTo>
                  <a:pt x="5088" y="14412"/>
                  <a:pt x="5107" y="14412"/>
                  <a:pt x="5126" y="14376"/>
                </a:cubicBezTo>
                <a:cubicBezTo>
                  <a:pt x="5107" y="14376"/>
                  <a:pt x="5107" y="14376"/>
                  <a:pt x="5107" y="14376"/>
                </a:cubicBezTo>
                <a:cubicBezTo>
                  <a:pt x="5107" y="14339"/>
                  <a:pt x="5126" y="14339"/>
                  <a:pt x="5126" y="14303"/>
                </a:cubicBezTo>
                <a:cubicBezTo>
                  <a:pt x="5145" y="14267"/>
                  <a:pt x="5126" y="14231"/>
                  <a:pt x="5145" y="14194"/>
                </a:cubicBezTo>
                <a:cubicBezTo>
                  <a:pt x="5164" y="14194"/>
                  <a:pt x="5182" y="14194"/>
                  <a:pt x="5201" y="14158"/>
                </a:cubicBezTo>
                <a:cubicBezTo>
                  <a:pt x="5201" y="14122"/>
                  <a:pt x="5201" y="14122"/>
                  <a:pt x="5201" y="14122"/>
                </a:cubicBezTo>
                <a:cubicBezTo>
                  <a:pt x="5201" y="14122"/>
                  <a:pt x="5201" y="14085"/>
                  <a:pt x="5201" y="14085"/>
                </a:cubicBezTo>
                <a:cubicBezTo>
                  <a:pt x="5220" y="14085"/>
                  <a:pt x="5220" y="14085"/>
                  <a:pt x="5220" y="14085"/>
                </a:cubicBezTo>
                <a:cubicBezTo>
                  <a:pt x="5239" y="14085"/>
                  <a:pt x="5220" y="14049"/>
                  <a:pt x="5220" y="14013"/>
                </a:cubicBezTo>
                <a:cubicBezTo>
                  <a:pt x="5239" y="14013"/>
                  <a:pt x="5258" y="14013"/>
                  <a:pt x="5277" y="14013"/>
                </a:cubicBezTo>
                <a:cubicBezTo>
                  <a:pt x="5296" y="13940"/>
                  <a:pt x="5296" y="13904"/>
                  <a:pt x="5315" y="13868"/>
                </a:cubicBezTo>
                <a:cubicBezTo>
                  <a:pt x="5315" y="13831"/>
                  <a:pt x="5296" y="13831"/>
                  <a:pt x="5296" y="13831"/>
                </a:cubicBezTo>
                <a:cubicBezTo>
                  <a:pt x="5296" y="13795"/>
                  <a:pt x="5296" y="13759"/>
                  <a:pt x="5315" y="13722"/>
                </a:cubicBezTo>
                <a:cubicBezTo>
                  <a:pt x="5315" y="13686"/>
                  <a:pt x="5296" y="13686"/>
                  <a:pt x="5296" y="13650"/>
                </a:cubicBezTo>
                <a:cubicBezTo>
                  <a:pt x="5296" y="13650"/>
                  <a:pt x="5315" y="13650"/>
                  <a:pt x="5315" y="13613"/>
                </a:cubicBezTo>
                <a:cubicBezTo>
                  <a:pt x="5315" y="13613"/>
                  <a:pt x="5296" y="13613"/>
                  <a:pt x="5296" y="13577"/>
                </a:cubicBezTo>
                <a:cubicBezTo>
                  <a:pt x="5296" y="13541"/>
                  <a:pt x="5296" y="13541"/>
                  <a:pt x="5296" y="13541"/>
                </a:cubicBezTo>
                <a:cubicBezTo>
                  <a:pt x="5296" y="13505"/>
                  <a:pt x="5277" y="13468"/>
                  <a:pt x="5277" y="13468"/>
                </a:cubicBezTo>
                <a:cubicBezTo>
                  <a:pt x="5277" y="13432"/>
                  <a:pt x="5277" y="13396"/>
                  <a:pt x="5277" y="13396"/>
                </a:cubicBezTo>
                <a:cubicBezTo>
                  <a:pt x="5277" y="13396"/>
                  <a:pt x="5296" y="13396"/>
                  <a:pt x="5296" y="13396"/>
                </a:cubicBezTo>
                <a:cubicBezTo>
                  <a:pt x="5296" y="13396"/>
                  <a:pt x="5315" y="13359"/>
                  <a:pt x="5315" y="13359"/>
                </a:cubicBezTo>
                <a:cubicBezTo>
                  <a:pt x="5315" y="13323"/>
                  <a:pt x="5296" y="13323"/>
                  <a:pt x="5296" y="13287"/>
                </a:cubicBezTo>
                <a:cubicBezTo>
                  <a:pt x="5296" y="13287"/>
                  <a:pt x="5296" y="13287"/>
                  <a:pt x="5296" y="13287"/>
                </a:cubicBezTo>
                <a:cubicBezTo>
                  <a:pt x="5315" y="13287"/>
                  <a:pt x="5315" y="13323"/>
                  <a:pt x="5334" y="13359"/>
                </a:cubicBezTo>
                <a:cubicBezTo>
                  <a:pt x="5334" y="13359"/>
                  <a:pt x="5334" y="13359"/>
                  <a:pt x="5334" y="13359"/>
                </a:cubicBezTo>
                <a:cubicBezTo>
                  <a:pt x="5334" y="13359"/>
                  <a:pt x="5334" y="13359"/>
                  <a:pt x="5334" y="13359"/>
                </a:cubicBezTo>
                <a:cubicBezTo>
                  <a:pt x="5334" y="13323"/>
                  <a:pt x="5334" y="13323"/>
                  <a:pt x="5334" y="13287"/>
                </a:cubicBezTo>
                <a:cubicBezTo>
                  <a:pt x="5372" y="13214"/>
                  <a:pt x="5372" y="13214"/>
                  <a:pt x="5372" y="13214"/>
                </a:cubicBezTo>
                <a:cubicBezTo>
                  <a:pt x="5391" y="13178"/>
                  <a:pt x="5391" y="13178"/>
                  <a:pt x="5409" y="13178"/>
                </a:cubicBezTo>
                <a:cubicBezTo>
                  <a:pt x="5428" y="13105"/>
                  <a:pt x="5409" y="13069"/>
                  <a:pt x="5447" y="12996"/>
                </a:cubicBezTo>
                <a:cubicBezTo>
                  <a:pt x="5447" y="12996"/>
                  <a:pt x="5466" y="12996"/>
                  <a:pt x="5466" y="12996"/>
                </a:cubicBezTo>
                <a:cubicBezTo>
                  <a:pt x="5485" y="12996"/>
                  <a:pt x="5485" y="12996"/>
                  <a:pt x="5485" y="13033"/>
                </a:cubicBezTo>
                <a:cubicBezTo>
                  <a:pt x="5485" y="13033"/>
                  <a:pt x="5485" y="13033"/>
                  <a:pt x="5485" y="12996"/>
                </a:cubicBezTo>
                <a:cubicBezTo>
                  <a:pt x="5485" y="12960"/>
                  <a:pt x="5485" y="12960"/>
                  <a:pt x="5504" y="12960"/>
                </a:cubicBezTo>
                <a:cubicBezTo>
                  <a:pt x="5523" y="12960"/>
                  <a:pt x="5561" y="12960"/>
                  <a:pt x="5580" y="12924"/>
                </a:cubicBezTo>
                <a:cubicBezTo>
                  <a:pt x="5561" y="12924"/>
                  <a:pt x="5542" y="12851"/>
                  <a:pt x="5561" y="12851"/>
                </a:cubicBezTo>
                <a:cubicBezTo>
                  <a:pt x="5561" y="12815"/>
                  <a:pt x="5561" y="12815"/>
                  <a:pt x="5580" y="12815"/>
                </a:cubicBezTo>
                <a:cubicBezTo>
                  <a:pt x="5580" y="12815"/>
                  <a:pt x="5580" y="12815"/>
                  <a:pt x="5580" y="12815"/>
                </a:cubicBezTo>
                <a:cubicBezTo>
                  <a:pt x="5580" y="12815"/>
                  <a:pt x="5561" y="12815"/>
                  <a:pt x="5561" y="12778"/>
                </a:cubicBezTo>
                <a:cubicBezTo>
                  <a:pt x="5561" y="12778"/>
                  <a:pt x="5561" y="12815"/>
                  <a:pt x="5542" y="12815"/>
                </a:cubicBezTo>
                <a:cubicBezTo>
                  <a:pt x="5542" y="12742"/>
                  <a:pt x="5504" y="12706"/>
                  <a:pt x="5466" y="12742"/>
                </a:cubicBezTo>
                <a:cubicBezTo>
                  <a:pt x="5466" y="12742"/>
                  <a:pt x="5466" y="12778"/>
                  <a:pt x="5466" y="12778"/>
                </a:cubicBezTo>
                <a:cubicBezTo>
                  <a:pt x="5447" y="12778"/>
                  <a:pt x="5428" y="12815"/>
                  <a:pt x="5428" y="12815"/>
                </a:cubicBezTo>
                <a:cubicBezTo>
                  <a:pt x="5428" y="12851"/>
                  <a:pt x="5447" y="12851"/>
                  <a:pt x="5447" y="12924"/>
                </a:cubicBezTo>
                <a:cubicBezTo>
                  <a:pt x="5428" y="12924"/>
                  <a:pt x="5428" y="12924"/>
                  <a:pt x="5391" y="12924"/>
                </a:cubicBezTo>
                <a:cubicBezTo>
                  <a:pt x="5391" y="12924"/>
                  <a:pt x="5391" y="12924"/>
                  <a:pt x="5391" y="12924"/>
                </a:cubicBezTo>
                <a:cubicBezTo>
                  <a:pt x="5391" y="12887"/>
                  <a:pt x="5391" y="12887"/>
                  <a:pt x="5372" y="12851"/>
                </a:cubicBezTo>
                <a:cubicBezTo>
                  <a:pt x="5372" y="12851"/>
                  <a:pt x="5372" y="12851"/>
                  <a:pt x="5372" y="12851"/>
                </a:cubicBezTo>
                <a:cubicBezTo>
                  <a:pt x="5372" y="12851"/>
                  <a:pt x="5372" y="12887"/>
                  <a:pt x="5372" y="12887"/>
                </a:cubicBezTo>
                <a:cubicBezTo>
                  <a:pt x="5353" y="12887"/>
                  <a:pt x="5353" y="12851"/>
                  <a:pt x="5353" y="12815"/>
                </a:cubicBezTo>
                <a:cubicBezTo>
                  <a:pt x="5315" y="12815"/>
                  <a:pt x="5296" y="12815"/>
                  <a:pt x="5277" y="12815"/>
                </a:cubicBezTo>
                <a:cubicBezTo>
                  <a:pt x="5277" y="12815"/>
                  <a:pt x="5277" y="12815"/>
                  <a:pt x="5258" y="12851"/>
                </a:cubicBezTo>
                <a:cubicBezTo>
                  <a:pt x="5258" y="12815"/>
                  <a:pt x="5258" y="12778"/>
                  <a:pt x="5239" y="12742"/>
                </a:cubicBezTo>
                <a:cubicBezTo>
                  <a:pt x="5239" y="12742"/>
                  <a:pt x="5239" y="12742"/>
                  <a:pt x="5239" y="12742"/>
                </a:cubicBezTo>
                <a:cubicBezTo>
                  <a:pt x="5239" y="12778"/>
                  <a:pt x="5239" y="12778"/>
                  <a:pt x="5258" y="12778"/>
                </a:cubicBezTo>
                <a:cubicBezTo>
                  <a:pt x="5258" y="12778"/>
                  <a:pt x="5258" y="12778"/>
                  <a:pt x="5258" y="12778"/>
                </a:cubicBezTo>
                <a:cubicBezTo>
                  <a:pt x="5239" y="12778"/>
                  <a:pt x="5220" y="12778"/>
                  <a:pt x="5220" y="12778"/>
                </a:cubicBezTo>
                <a:cubicBezTo>
                  <a:pt x="5239" y="12706"/>
                  <a:pt x="5201" y="12706"/>
                  <a:pt x="5164" y="12670"/>
                </a:cubicBezTo>
                <a:cubicBezTo>
                  <a:pt x="5164" y="12670"/>
                  <a:pt x="5164" y="12633"/>
                  <a:pt x="5164" y="12597"/>
                </a:cubicBezTo>
                <a:cubicBezTo>
                  <a:pt x="5145" y="12597"/>
                  <a:pt x="5145" y="12597"/>
                  <a:pt x="5126" y="12561"/>
                </a:cubicBezTo>
                <a:cubicBezTo>
                  <a:pt x="5126" y="12561"/>
                  <a:pt x="5126" y="12561"/>
                  <a:pt x="5126" y="12561"/>
                </a:cubicBezTo>
                <a:cubicBezTo>
                  <a:pt x="5126" y="12597"/>
                  <a:pt x="5126" y="12597"/>
                  <a:pt x="5126" y="12597"/>
                </a:cubicBezTo>
                <a:cubicBezTo>
                  <a:pt x="5145" y="12597"/>
                  <a:pt x="5145" y="12597"/>
                  <a:pt x="5145" y="12633"/>
                </a:cubicBezTo>
                <a:cubicBezTo>
                  <a:pt x="5145" y="12633"/>
                  <a:pt x="5145" y="12633"/>
                  <a:pt x="5145" y="12670"/>
                </a:cubicBezTo>
                <a:cubicBezTo>
                  <a:pt x="5145" y="12670"/>
                  <a:pt x="5126" y="12670"/>
                  <a:pt x="5126" y="12670"/>
                </a:cubicBezTo>
                <a:cubicBezTo>
                  <a:pt x="5126" y="12597"/>
                  <a:pt x="5107" y="12633"/>
                  <a:pt x="5088" y="12561"/>
                </a:cubicBezTo>
                <a:cubicBezTo>
                  <a:pt x="5088" y="12561"/>
                  <a:pt x="5107" y="12524"/>
                  <a:pt x="5107" y="12524"/>
                </a:cubicBezTo>
                <a:cubicBezTo>
                  <a:pt x="5107" y="12524"/>
                  <a:pt x="5107" y="12524"/>
                  <a:pt x="5107" y="12524"/>
                </a:cubicBezTo>
                <a:cubicBezTo>
                  <a:pt x="5088" y="12488"/>
                  <a:pt x="5088" y="12488"/>
                  <a:pt x="5088" y="12488"/>
                </a:cubicBezTo>
                <a:cubicBezTo>
                  <a:pt x="5088" y="12488"/>
                  <a:pt x="5088" y="12488"/>
                  <a:pt x="5107" y="12488"/>
                </a:cubicBezTo>
                <a:cubicBezTo>
                  <a:pt x="5088" y="12488"/>
                  <a:pt x="5088" y="12488"/>
                  <a:pt x="5088" y="12488"/>
                </a:cubicBezTo>
                <a:cubicBezTo>
                  <a:pt x="5088" y="12488"/>
                  <a:pt x="5069" y="12415"/>
                  <a:pt x="5069" y="12415"/>
                </a:cubicBezTo>
                <a:cubicBezTo>
                  <a:pt x="5031" y="12343"/>
                  <a:pt x="4993" y="12307"/>
                  <a:pt x="4974" y="12270"/>
                </a:cubicBezTo>
                <a:cubicBezTo>
                  <a:pt x="4974" y="12234"/>
                  <a:pt x="4974" y="12234"/>
                  <a:pt x="4974" y="12234"/>
                </a:cubicBezTo>
                <a:cubicBezTo>
                  <a:pt x="4974" y="12234"/>
                  <a:pt x="4993" y="12234"/>
                  <a:pt x="4993" y="12234"/>
                </a:cubicBezTo>
                <a:cubicBezTo>
                  <a:pt x="4993" y="12234"/>
                  <a:pt x="4974" y="12198"/>
                  <a:pt x="4974" y="12198"/>
                </a:cubicBezTo>
                <a:cubicBezTo>
                  <a:pt x="4974" y="12198"/>
                  <a:pt x="4956" y="12198"/>
                  <a:pt x="4956" y="12234"/>
                </a:cubicBezTo>
                <a:cubicBezTo>
                  <a:pt x="4899" y="12234"/>
                  <a:pt x="4842" y="12161"/>
                  <a:pt x="4785" y="12125"/>
                </a:cubicBezTo>
                <a:cubicBezTo>
                  <a:pt x="4766" y="12125"/>
                  <a:pt x="4747" y="12125"/>
                  <a:pt x="4729" y="12125"/>
                </a:cubicBezTo>
                <a:cubicBezTo>
                  <a:pt x="4691" y="12052"/>
                  <a:pt x="4615" y="11907"/>
                  <a:pt x="4558" y="11871"/>
                </a:cubicBezTo>
                <a:cubicBezTo>
                  <a:pt x="4502" y="11835"/>
                  <a:pt x="4483" y="11907"/>
                  <a:pt x="4445" y="11907"/>
                </a:cubicBezTo>
                <a:cubicBezTo>
                  <a:pt x="4426" y="11907"/>
                  <a:pt x="4350" y="11871"/>
                  <a:pt x="4331" y="11871"/>
                </a:cubicBezTo>
                <a:cubicBezTo>
                  <a:pt x="4312" y="11835"/>
                  <a:pt x="4294" y="11835"/>
                  <a:pt x="4275" y="11798"/>
                </a:cubicBezTo>
                <a:cubicBezTo>
                  <a:pt x="4256" y="11798"/>
                  <a:pt x="4237" y="11798"/>
                  <a:pt x="4218" y="11762"/>
                </a:cubicBezTo>
                <a:cubicBezTo>
                  <a:pt x="4199" y="11762"/>
                  <a:pt x="4180" y="11726"/>
                  <a:pt x="4142" y="11726"/>
                </a:cubicBezTo>
                <a:cubicBezTo>
                  <a:pt x="4123" y="11689"/>
                  <a:pt x="4104" y="11653"/>
                  <a:pt x="4067" y="11653"/>
                </a:cubicBezTo>
                <a:cubicBezTo>
                  <a:pt x="4048" y="11617"/>
                  <a:pt x="4029" y="11617"/>
                  <a:pt x="3991" y="11617"/>
                </a:cubicBezTo>
                <a:cubicBezTo>
                  <a:pt x="3991" y="11581"/>
                  <a:pt x="3972" y="11544"/>
                  <a:pt x="3953" y="11508"/>
                </a:cubicBezTo>
                <a:cubicBezTo>
                  <a:pt x="3934" y="11508"/>
                  <a:pt x="3934" y="11472"/>
                  <a:pt x="3915" y="11472"/>
                </a:cubicBezTo>
                <a:cubicBezTo>
                  <a:pt x="3896" y="11435"/>
                  <a:pt x="3896" y="11399"/>
                  <a:pt x="3877" y="11399"/>
                </a:cubicBezTo>
                <a:cubicBezTo>
                  <a:pt x="3877" y="11363"/>
                  <a:pt x="3877" y="11363"/>
                  <a:pt x="3858" y="11363"/>
                </a:cubicBezTo>
                <a:cubicBezTo>
                  <a:pt x="3858" y="11326"/>
                  <a:pt x="3877" y="11326"/>
                  <a:pt x="3896" y="11326"/>
                </a:cubicBezTo>
                <a:cubicBezTo>
                  <a:pt x="3877" y="11290"/>
                  <a:pt x="3877" y="11290"/>
                  <a:pt x="3877" y="11290"/>
                </a:cubicBezTo>
                <a:cubicBezTo>
                  <a:pt x="3896" y="11254"/>
                  <a:pt x="3877" y="11181"/>
                  <a:pt x="3877" y="11145"/>
                </a:cubicBezTo>
                <a:cubicBezTo>
                  <a:pt x="3877" y="11145"/>
                  <a:pt x="3877" y="11145"/>
                  <a:pt x="3877" y="11109"/>
                </a:cubicBezTo>
                <a:cubicBezTo>
                  <a:pt x="3840" y="11036"/>
                  <a:pt x="3802" y="10963"/>
                  <a:pt x="3764" y="10854"/>
                </a:cubicBezTo>
                <a:cubicBezTo>
                  <a:pt x="3745" y="10854"/>
                  <a:pt x="3745" y="10854"/>
                  <a:pt x="3726" y="10818"/>
                </a:cubicBezTo>
                <a:cubicBezTo>
                  <a:pt x="3726" y="10818"/>
                  <a:pt x="3726" y="10782"/>
                  <a:pt x="3726" y="10782"/>
                </a:cubicBezTo>
                <a:cubicBezTo>
                  <a:pt x="3707" y="10746"/>
                  <a:pt x="3707" y="10746"/>
                  <a:pt x="3688" y="10746"/>
                </a:cubicBezTo>
                <a:cubicBezTo>
                  <a:pt x="3688" y="10709"/>
                  <a:pt x="3669" y="10709"/>
                  <a:pt x="3669" y="10709"/>
                </a:cubicBezTo>
                <a:cubicBezTo>
                  <a:pt x="3669" y="10673"/>
                  <a:pt x="3650" y="10709"/>
                  <a:pt x="3650" y="10709"/>
                </a:cubicBezTo>
                <a:cubicBezTo>
                  <a:pt x="3650" y="10709"/>
                  <a:pt x="3650" y="10709"/>
                  <a:pt x="3650" y="10673"/>
                </a:cubicBezTo>
                <a:cubicBezTo>
                  <a:pt x="3632" y="10673"/>
                  <a:pt x="3650" y="10637"/>
                  <a:pt x="3650" y="10600"/>
                </a:cubicBezTo>
                <a:cubicBezTo>
                  <a:pt x="3650" y="10564"/>
                  <a:pt x="3632" y="10564"/>
                  <a:pt x="3613" y="10564"/>
                </a:cubicBezTo>
                <a:cubicBezTo>
                  <a:pt x="3594" y="10491"/>
                  <a:pt x="3575" y="10528"/>
                  <a:pt x="3556" y="10455"/>
                </a:cubicBezTo>
                <a:cubicBezTo>
                  <a:pt x="3575" y="10455"/>
                  <a:pt x="3575" y="10419"/>
                  <a:pt x="3556" y="10419"/>
                </a:cubicBezTo>
                <a:cubicBezTo>
                  <a:pt x="3556" y="10419"/>
                  <a:pt x="3537" y="10383"/>
                  <a:pt x="3518" y="10383"/>
                </a:cubicBezTo>
                <a:cubicBezTo>
                  <a:pt x="3480" y="10346"/>
                  <a:pt x="3405" y="10092"/>
                  <a:pt x="3405" y="9983"/>
                </a:cubicBezTo>
                <a:cubicBezTo>
                  <a:pt x="3405" y="9983"/>
                  <a:pt x="3386" y="9983"/>
                  <a:pt x="3367" y="9947"/>
                </a:cubicBezTo>
                <a:cubicBezTo>
                  <a:pt x="3367" y="9947"/>
                  <a:pt x="3367" y="9947"/>
                  <a:pt x="3367" y="9911"/>
                </a:cubicBezTo>
                <a:cubicBezTo>
                  <a:pt x="3367" y="9911"/>
                  <a:pt x="3367" y="9911"/>
                  <a:pt x="3348" y="9911"/>
                </a:cubicBezTo>
                <a:cubicBezTo>
                  <a:pt x="3348" y="9911"/>
                  <a:pt x="3348" y="9947"/>
                  <a:pt x="3348" y="9947"/>
                </a:cubicBezTo>
                <a:cubicBezTo>
                  <a:pt x="3329" y="9947"/>
                  <a:pt x="3310" y="9911"/>
                  <a:pt x="3310" y="9911"/>
                </a:cubicBezTo>
                <a:cubicBezTo>
                  <a:pt x="3291" y="9911"/>
                  <a:pt x="3291" y="9947"/>
                  <a:pt x="3291" y="9983"/>
                </a:cubicBezTo>
                <a:cubicBezTo>
                  <a:pt x="3291" y="9983"/>
                  <a:pt x="3310" y="10019"/>
                  <a:pt x="3310" y="10019"/>
                </a:cubicBezTo>
                <a:cubicBezTo>
                  <a:pt x="3310" y="10056"/>
                  <a:pt x="3310" y="10092"/>
                  <a:pt x="3310" y="10128"/>
                </a:cubicBezTo>
                <a:cubicBezTo>
                  <a:pt x="3329" y="10165"/>
                  <a:pt x="3348" y="10165"/>
                  <a:pt x="3367" y="10201"/>
                </a:cubicBezTo>
                <a:cubicBezTo>
                  <a:pt x="3386" y="10237"/>
                  <a:pt x="3386" y="10310"/>
                  <a:pt x="3386" y="10310"/>
                </a:cubicBezTo>
                <a:cubicBezTo>
                  <a:pt x="3405" y="10346"/>
                  <a:pt x="3405" y="10346"/>
                  <a:pt x="3423" y="10346"/>
                </a:cubicBezTo>
                <a:cubicBezTo>
                  <a:pt x="3423" y="10383"/>
                  <a:pt x="3423" y="10419"/>
                  <a:pt x="3442" y="10455"/>
                </a:cubicBezTo>
                <a:cubicBezTo>
                  <a:pt x="3442" y="10455"/>
                  <a:pt x="3442" y="10455"/>
                  <a:pt x="3461" y="10455"/>
                </a:cubicBezTo>
                <a:cubicBezTo>
                  <a:pt x="3480" y="10528"/>
                  <a:pt x="3461" y="10564"/>
                  <a:pt x="3499" y="10564"/>
                </a:cubicBezTo>
                <a:cubicBezTo>
                  <a:pt x="3499" y="10600"/>
                  <a:pt x="3518" y="10637"/>
                  <a:pt x="3518" y="10673"/>
                </a:cubicBezTo>
                <a:cubicBezTo>
                  <a:pt x="3537" y="10709"/>
                  <a:pt x="3537" y="10746"/>
                  <a:pt x="3556" y="10782"/>
                </a:cubicBezTo>
                <a:cubicBezTo>
                  <a:pt x="3556" y="10854"/>
                  <a:pt x="3556" y="10854"/>
                  <a:pt x="3575" y="10891"/>
                </a:cubicBezTo>
                <a:cubicBezTo>
                  <a:pt x="3575" y="10891"/>
                  <a:pt x="3575" y="10854"/>
                  <a:pt x="3594" y="10854"/>
                </a:cubicBezTo>
                <a:cubicBezTo>
                  <a:pt x="3594" y="10891"/>
                  <a:pt x="3613" y="10927"/>
                  <a:pt x="3613" y="10927"/>
                </a:cubicBezTo>
                <a:cubicBezTo>
                  <a:pt x="3632" y="10963"/>
                  <a:pt x="3632" y="10963"/>
                  <a:pt x="3632" y="10963"/>
                </a:cubicBezTo>
                <a:cubicBezTo>
                  <a:pt x="3632" y="11000"/>
                  <a:pt x="3613" y="11036"/>
                  <a:pt x="3613" y="11036"/>
                </a:cubicBezTo>
                <a:cubicBezTo>
                  <a:pt x="3613" y="11036"/>
                  <a:pt x="3594" y="11036"/>
                  <a:pt x="3594" y="11036"/>
                </a:cubicBezTo>
                <a:cubicBezTo>
                  <a:pt x="3594" y="11036"/>
                  <a:pt x="3594" y="11000"/>
                  <a:pt x="3594" y="10963"/>
                </a:cubicBezTo>
                <a:cubicBezTo>
                  <a:pt x="3575" y="10963"/>
                  <a:pt x="3556" y="10927"/>
                  <a:pt x="3556" y="10927"/>
                </a:cubicBezTo>
                <a:cubicBezTo>
                  <a:pt x="3537" y="10891"/>
                  <a:pt x="3480" y="10818"/>
                  <a:pt x="3461" y="10782"/>
                </a:cubicBezTo>
                <a:cubicBezTo>
                  <a:pt x="3461" y="10746"/>
                  <a:pt x="3480" y="10709"/>
                  <a:pt x="3461" y="10709"/>
                </a:cubicBezTo>
                <a:cubicBezTo>
                  <a:pt x="3461" y="10673"/>
                  <a:pt x="3461" y="10637"/>
                  <a:pt x="3442" y="10600"/>
                </a:cubicBezTo>
                <a:cubicBezTo>
                  <a:pt x="3442" y="10600"/>
                  <a:pt x="3423" y="10600"/>
                  <a:pt x="3423" y="10600"/>
                </a:cubicBezTo>
                <a:cubicBezTo>
                  <a:pt x="3405" y="10564"/>
                  <a:pt x="3405" y="10564"/>
                  <a:pt x="3405" y="10564"/>
                </a:cubicBezTo>
                <a:cubicBezTo>
                  <a:pt x="3367" y="10564"/>
                  <a:pt x="3310" y="10455"/>
                  <a:pt x="3291" y="10419"/>
                </a:cubicBezTo>
                <a:cubicBezTo>
                  <a:pt x="3310" y="10419"/>
                  <a:pt x="3329" y="10419"/>
                  <a:pt x="3348" y="10383"/>
                </a:cubicBezTo>
                <a:cubicBezTo>
                  <a:pt x="3367" y="10346"/>
                  <a:pt x="3329" y="10274"/>
                  <a:pt x="3310" y="10274"/>
                </a:cubicBezTo>
                <a:cubicBezTo>
                  <a:pt x="3310" y="10237"/>
                  <a:pt x="3253" y="10201"/>
                  <a:pt x="3253" y="10165"/>
                </a:cubicBezTo>
                <a:cubicBezTo>
                  <a:pt x="3253" y="10165"/>
                  <a:pt x="3253" y="10128"/>
                  <a:pt x="3234" y="10092"/>
                </a:cubicBezTo>
                <a:cubicBezTo>
                  <a:pt x="3234" y="10092"/>
                  <a:pt x="3234" y="10092"/>
                  <a:pt x="3215" y="10092"/>
                </a:cubicBezTo>
                <a:cubicBezTo>
                  <a:pt x="3215" y="10056"/>
                  <a:pt x="3215" y="10019"/>
                  <a:pt x="3215" y="10019"/>
                </a:cubicBezTo>
                <a:cubicBezTo>
                  <a:pt x="3196" y="9983"/>
                  <a:pt x="3178" y="9947"/>
                  <a:pt x="3196" y="9874"/>
                </a:cubicBezTo>
                <a:cubicBezTo>
                  <a:pt x="3178" y="9874"/>
                  <a:pt x="3178" y="9874"/>
                  <a:pt x="3178" y="9838"/>
                </a:cubicBezTo>
                <a:cubicBezTo>
                  <a:pt x="3178" y="9838"/>
                  <a:pt x="3178" y="9838"/>
                  <a:pt x="3178" y="9802"/>
                </a:cubicBezTo>
                <a:cubicBezTo>
                  <a:pt x="3159" y="9765"/>
                  <a:pt x="3121" y="9584"/>
                  <a:pt x="3102" y="9656"/>
                </a:cubicBezTo>
                <a:cubicBezTo>
                  <a:pt x="3083" y="9620"/>
                  <a:pt x="3083" y="9620"/>
                  <a:pt x="3083" y="9620"/>
                </a:cubicBezTo>
                <a:cubicBezTo>
                  <a:pt x="3083" y="9620"/>
                  <a:pt x="3083" y="9620"/>
                  <a:pt x="3083" y="9584"/>
                </a:cubicBezTo>
                <a:cubicBezTo>
                  <a:pt x="3045" y="9584"/>
                  <a:pt x="3045" y="9548"/>
                  <a:pt x="3026" y="9548"/>
                </a:cubicBezTo>
                <a:cubicBezTo>
                  <a:pt x="3007" y="9548"/>
                  <a:pt x="2988" y="9548"/>
                  <a:pt x="2970" y="9548"/>
                </a:cubicBezTo>
                <a:cubicBezTo>
                  <a:pt x="2951" y="9511"/>
                  <a:pt x="2951" y="9511"/>
                  <a:pt x="2951" y="9511"/>
                </a:cubicBezTo>
                <a:cubicBezTo>
                  <a:pt x="2951" y="9475"/>
                  <a:pt x="2951" y="9475"/>
                  <a:pt x="2951" y="9439"/>
                </a:cubicBezTo>
                <a:cubicBezTo>
                  <a:pt x="2951" y="9439"/>
                  <a:pt x="2951" y="9439"/>
                  <a:pt x="2932" y="9439"/>
                </a:cubicBezTo>
                <a:cubicBezTo>
                  <a:pt x="2951" y="9402"/>
                  <a:pt x="2875" y="9330"/>
                  <a:pt x="2875" y="9257"/>
                </a:cubicBezTo>
                <a:cubicBezTo>
                  <a:pt x="2894" y="9257"/>
                  <a:pt x="2875" y="9221"/>
                  <a:pt x="2875" y="9221"/>
                </a:cubicBezTo>
                <a:cubicBezTo>
                  <a:pt x="2856" y="9185"/>
                  <a:pt x="2856" y="9185"/>
                  <a:pt x="2837" y="9148"/>
                </a:cubicBezTo>
                <a:cubicBezTo>
                  <a:pt x="2837" y="9148"/>
                  <a:pt x="2837" y="9112"/>
                  <a:pt x="2837" y="9112"/>
                </a:cubicBezTo>
                <a:cubicBezTo>
                  <a:pt x="2837" y="9112"/>
                  <a:pt x="2837" y="9076"/>
                  <a:pt x="2837" y="9076"/>
                </a:cubicBezTo>
                <a:cubicBezTo>
                  <a:pt x="2837" y="9076"/>
                  <a:pt x="2837" y="9076"/>
                  <a:pt x="2837" y="9076"/>
                </a:cubicBezTo>
                <a:cubicBezTo>
                  <a:pt x="2856" y="9112"/>
                  <a:pt x="2856" y="9112"/>
                  <a:pt x="2856" y="9148"/>
                </a:cubicBezTo>
                <a:cubicBezTo>
                  <a:pt x="2856" y="9112"/>
                  <a:pt x="2856" y="9112"/>
                  <a:pt x="2856" y="9112"/>
                </a:cubicBezTo>
                <a:cubicBezTo>
                  <a:pt x="2856" y="9112"/>
                  <a:pt x="2837" y="9076"/>
                  <a:pt x="2837" y="9039"/>
                </a:cubicBezTo>
                <a:cubicBezTo>
                  <a:pt x="2837" y="9039"/>
                  <a:pt x="2837" y="9039"/>
                  <a:pt x="2837" y="9039"/>
                </a:cubicBezTo>
                <a:cubicBezTo>
                  <a:pt x="2837" y="9076"/>
                  <a:pt x="2837" y="9076"/>
                  <a:pt x="2837" y="9076"/>
                </a:cubicBezTo>
                <a:cubicBezTo>
                  <a:pt x="2837" y="9076"/>
                  <a:pt x="2837" y="9076"/>
                  <a:pt x="2818" y="9076"/>
                </a:cubicBezTo>
                <a:cubicBezTo>
                  <a:pt x="2761" y="8930"/>
                  <a:pt x="2761" y="8930"/>
                  <a:pt x="2761" y="8930"/>
                </a:cubicBezTo>
                <a:cubicBezTo>
                  <a:pt x="2761" y="8930"/>
                  <a:pt x="2761" y="8930"/>
                  <a:pt x="2761" y="8930"/>
                </a:cubicBezTo>
                <a:cubicBezTo>
                  <a:pt x="2761" y="8930"/>
                  <a:pt x="2761" y="8894"/>
                  <a:pt x="2761" y="8858"/>
                </a:cubicBezTo>
                <a:cubicBezTo>
                  <a:pt x="2761" y="8858"/>
                  <a:pt x="2761" y="8858"/>
                  <a:pt x="2761" y="8858"/>
                </a:cubicBezTo>
                <a:cubicBezTo>
                  <a:pt x="2761" y="8785"/>
                  <a:pt x="2724" y="8785"/>
                  <a:pt x="2724" y="8749"/>
                </a:cubicBezTo>
                <a:cubicBezTo>
                  <a:pt x="2724" y="8676"/>
                  <a:pt x="2743" y="8640"/>
                  <a:pt x="2743" y="8567"/>
                </a:cubicBezTo>
                <a:cubicBezTo>
                  <a:pt x="2743" y="8531"/>
                  <a:pt x="2705" y="8386"/>
                  <a:pt x="2705" y="8350"/>
                </a:cubicBezTo>
                <a:cubicBezTo>
                  <a:pt x="2724" y="8350"/>
                  <a:pt x="2724" y="8313"/>
                  <a:pt x="2724" y="8313"/>
                </a:cubicBezTo>
                <a:cubicBezTo>
                  <a:pt x="2724" y="8313"/>
                  <a:pt x="2743" y="8277"/>
                  <a:pt x="2743" y="8277"/>
                </a:cubicBezTo>
                <a:cubicBezTo>
                  <a:pt x="2743" y="8277"/>
                  <a:pt x="2724" y="8241"/>
                  <a:pt x="2724" y="8241"/>
                </a:cubicBezTo>
                <a:cubicBezTo>
                  <a:pt x="2724" y="8204"/>
                  <a:pt x="2743" y="8132"/>
                  <a:pt x="2743" y="8095"/>
                </a:cubicBezTo>
                <a:cubicBezTo>
                  <a:pt x="2743" y="8023"/>
                  <a:pt x="2743" y="7950"/>
                  <a:pt x="2743" y="7878"/>
                </a:cubicBezTo>
                <a:cubicBezTo>
                  <a:pt x="2743" y="7878"/>
                  <a:pt x="2761" y="7878"/>
                  <a:pt x="2761" y="7878"/>
                </a:cubicBezTo>
                <a:cubicBezTo>
                  <a:pt x="2761" y="7878"/>
                  <a:pt x="2743" y="7878"/>
                  <a:pt x="2743" y="7878"/>
                </a:cubicBezTo>
                <a:cubicBezTo>
                  <a:pt x="2743" y="7841"/>
                  <a:pt x="2743" y="7805"/>
                  <a:pt x="2743" y="7805"/>
                </a:cubicBezTo>
                <a:cubicBezTo>
                  <a:pt x="2743" y="7769"/>
                  <a:pt x="2743" y="7769"/>
                  <a:pt x="2743" y="7769"/>
                </a:cubicBezTo>
                <a:cubicBezTo>
                  <a:pt x="2743" y="7769"/>
                  <a:pt x="2743" y="7769"/>
                  <a:pt x="2743" y="7769"/>
                </a:cubicBezTo>
                <a:cubicBezTo>
                  <a:pt x="2743" y="7769"/>
                  <a:pt x="2743" y="7769"/>
                  <a:pt x="2724" y="7769"/>
                </a:cubicBezTo>
                <a:cubicBezTo>
                  <a:pt x="2724" y="7769"/>
                  <a:pt x="2724" y="7769"/>
                  <a:pt x="2724" y="7769"/>
                </a:cubicBezTo>
                <a:cubicBezTo>
                  <a:pt x="2724" y="7696"/>
                  <a:pt x="2705" y="7660"/>
                  <a:pt x="2705" y="7587"/>
                </a:cubicBezTo>
                <a:cubicBezTo>
                  <a:pt x="2724" y="7551"/>
                  <a:pt x="2743" y="7587"/>
                  <a:pt x="2761" y="7587"/>
                </a:cubicBezTo>
                <a:cubicBezTo>
                  <a:pt x="2799" y="7624"/>
                  <a:pt x="2818" y="7587"/>
                  <a:pt x="2818" y="7660"/>
                </a:cubicBezTo>
                <a:cubicBezTo>
                  <a:pt x="2818" y="7660"/>
                  <a:pt x="2799" y="7696"/>
                  <a:pt x="2799" y="7696"/>
                </a:cubicBezTo>
                <a:cubicBezTo>
                  <a:pt x="2799" y="7696"/>
                  <a:pt x="2799" y="7696"/>
                  <a:pt x="2799" y="7696"/>
                </a:cubicBezTo>
                <a:cubicBezTo>
                  <a:pt x="2818" y="7732"/>
                  <a:pt x="2818" y="7732"/>
                  <a:pt x="2818" y="7732"/>
                </a:cubicBezTo>
                <a:cubicBezTo>
                  <a:pt x="2837" y="7696"/>
                  <a:pt x="2856" y="7660"/>
                  <a:pt x="2856" y="7587"/>
                </a:cubicBezTo>
                <a:cubicBezTo>
                  <a:pt x="2837" y="7551"/>
                  <a:pt x="2837" y="7551"/>
                  <a:pt x="2837" y="7515"/>
                </a:cubicBezTo>
                <a:cubicBezTo>
                  <a:pt x="2818" y="7478"/>
                  <a:pt x="2780" y="7442"/>
                  <a:pt x="2799" y="7406"/>
                </a:cubicBezTo>
                <a:cubicBezTo>
                  <a:pt x="2780" y="7406"/>
                  <a:pt x="2780" y="7406"/>
                  <a:pt x="2761" y="7406"/>
                </a:cubicBezTo>
                <a:cubicBezTo>
                  <a:pt x="2761" y="7369"/>
                  <a:pt x="2761" y="7369"/>
                  <a:pt x="2743" y="7333"/>
                </a:cubicBezTo>
                <a:cubicBezTo>
                  <a:pt x="2743" y="7333"/>
                  <a:pt x="2743" y="7369"/>
                  <a:pt x="2724" y="7369"/>
                </a:cubicBezTo>
                <a:cubicBezTo>
                  <a:pt x="2705" y="7333"/>
                  <a:pt x="2705" y="7297"/>
                  <a:pt x="2686" y="7224"/>
                </a:cubicBezTo>
                <a:cubicBezTo>
                  <a:pt x="2667" y="7261"/>
                  <a:pt x="2629" y="7224"/>
                  <a:pt x="2610" y="7224"/>
                </a:cubicBezTo>
                <a:cubicBezTo>
                  <a:pt x="2610" y="7188"/>
                  <a:pt x="2610" y="7188"/>
                  <a:pt x="2591" y="7152"/>
                </a:cubicBezTo>
                <a:cubicBezTo>
                  <a:pt x="2572" y="7188"/>
                  <a:pt x="2534" y="7188"/>
                  <a:pt x="2516" y="7152"/>
                </a:cubicBezTo>
                <a:cubicBezTo>
                  <a:pt x="2516" y="7115"/>
                  <a:pt x="2534" y="7079"/>
                  <a:pt x="2534" y="7079"/>
                </a:cubicBezTo>
                <a:cubicBezTo>
                  <a:pt x="2534" y="7043"/>
                  <a:pt x="2516" y="7043"/>
                  <a:pt x="2497" y="7043"/>
                </a:cubicBezTo>
                <a:cubicBezTo>
                  <a:pt x="2497" y="7043"/>
                  <a:pt x="2497" y="7043"/>
                  <a:pt x="2497" y="7043"/>
                </a:cubicBezTo>
                <a:cubicBezTo>
                  <a:pt x="2516" y="7006"/>
                  <a:pt x="2516" y="7006"/>
                  <a:pt x="2534" y="6970"/>
                </a:cubicBezTo>
                <a:cubicBezTo>
                  <a:pt x="2553" y="6970"/>
                  <a:pt x="2553" y="6970"/>
                  <a:pt x="2553" y="6934"/>
                </a:cubicBezTo>
                <a:cubicBezTo>
                  <a:pt x="2534" y="6934"/>
                  <a:pt x="2516" y="6970"/>
                  <a:pt x="2497" y="6934"/>
                </a:cubicBezTo>
                <a:cubicBezTo>
                  <a:pt x="2497" y="6897"/>
                  <a:pt x="2497" y="6897"/>
                  <a:pt x="2497" y="6861"/>
                </a:cubicBezTo>
                <a:cubicBezTo>
                  <a:pt x="2497" y="6861"/>
                  <a:pt x="2478" y="6861"/>
                  <a:pt x="2478" y="6861"/>
                </a:cubicBezTo>
                <a:cubicBezTo>
                  <a:pt x="2459" y="6825"/>
                  <a:pt x="2440" y="6789"/>
                  <a:pt x="2459" y="6716"/>
                </a:cubicBezTo>
                <a:cubicBezTo>
                  <a:pt x="2440" y="6752"/>
                  <a:pt x="2421" y="6752"/>
                  <a:pt x="2421" y="6752"/>
                </a:cubicBezTo>
                <a:cubicBezTo>
                  <a:pt x="2383" y="6752"/>
                  <a:pt x="2364" y="6680"/>
                  <a:pt x="2364" y="6607"/>
                </a:cubicBezTo>
                <a:cubicBezTo>
                  <a:pt x="2364" y="6571"/>
                  <a:pt x="2383" y="6571"/>
                  <a:pt x="2383" y="6534"/>
                </a:cubicBezTo>
                <a:cubicBezTo>
                  <a:pt x="2383" y="6534"/>
                  <a:pt x="2383" y="6498"/>
                  <a:pt x="2383" y="6498"/>
                </a:cubicBezTo>
                <a:cubicBezTo>
                  <a:pt x="2383" y="6498"/>
                  <a:pt x="2383" y="6498"/>
                  <a:pt x="2383" y="6498"/>
                </a:cubicBezTo>
                <a:cubicBezTo>
                  <a:pt x="2383" y="6498"/>
                  <a:pt x="2383" y="6498"/>
                  <a:pt x="2383" y="6498"/>
                </a:cubicBezTo>
                <a:cubicBezTo>
                  <a:pt x="2364" y="6534"/>
                  <a:pt x="2345" y="6534"/>
                  <a:pt x="2345" y="6534"/>
                </a:cubicBezTo>
                <a:cubicBezTo>
                  <a:pt x="2345" y="6534"/>
                  <a:pt x="2345" y="6534"/>
                  <a:pt x="2326" y="6534"/>
                </a:cubicBezTo>
                <a:cubicBezTo>
                  <a:pt x="2326" y="6498"/>
                  <a:pt x="2345" y="6462"/>
                  <a:pt x="2326" y="6462"/>
                </a:cubicBezTo>
                <a:cubicBezTo>
                  <a:pt x="2326" y="6426"/>
                  <a:pt x="2308" y="6389"/>
                  <a:pt x="2308" y="6353"/>
                </a:cubicBezTo>
                <a:cubicBezTo>
                  <a:pt x="2270" y="6353"/>
                  <a:pt x="2270" y="6389"/>
                  <a:pt x="2232" y="6389"/>
                </a:cubicBezTo>
                <a:cubicBezTo>
                  <a:pt x="2232" y="6353"/>
                  <a:pt x="2251" y="6317"/>
                  <a:pt x="2251" y="6280"/>
                </a:cubicBezTo>
                <a:cubicBezTo>
                  <a:pt x="2232" y="6244"/>
                  <a:pt x="2194" y="6208"/>
                  <a:pt x="2175" y="6171"/>
                </a:cubicBezTo>
                <a:cubicBezTo>
                  <a:pt x="2175" y="6135"/>
                  <a:pt x="2156" y="6099"/>
                  <a:pt x="2156" y="6063"/>
                </a:cubicBezTo>
                <a:cubicBezTo>
                  <a:pt x="2156" y="6063"/>
                  <a:pt x="2156" y="6063"/>
                  <a:pt x="2156" y="6063"/>
                </a:cubicBezTo>
                <a:cubicBezTo>
                  <a:pt x="2156" y="6063"/>
                  <a:pt x="2156" y="6063"/>
                  <a:pt x="2156" y="6026"/>
                </a:cubicBezTo>
                <a:cubicBezTo>
                  <a:pt x="2137" y="6026"/>
                  <a:pt x="2137" y="6026"/>
                  <a:pt x="2118" y="5990"/>
                </a:cubicBezTo>
                <a:cubicBezTo>
                  <a:pt x="2118" y="5954"/>
                  <a:pt x="2099" y="5954"/>
                  <a:pt x="2081" y="5954"/>
                </a:cubicBezTo>
                <a:cubicBezTo>
                  <a:pt x="2062" y="5917"/>
                  <a:pt x="2062" y="5845"/>
                  <a:pt x="2062" y="5808"/>
                </a:cubicBezTo>
                <a:cubicBezTo>
                  <a:pt x="2043" y="5808"/>
                  <a:pt x="2043" y="5808"/>
                  <a:pt x="2043" y="5808"/>
                </a:cubicBezTo>
                <a:cubicBezTo>
                  <a:pt x="2043" y="5808"/>
                  <a:pt x="2043" y="5808"/>
                  <a:pt x="2043" y="5808"/>
                </a:cubicBezTo>
                <a:cubicBezTo>
                  <a:pt x="2024" y="5881"/>
                  <a:pt x="2062" y="5917"/>
                  <a:pt x="2062" y="5954"/>
                </a:cubicBezTo>
                <a:cubicBezTo>
                  <a:pt x="2043" y="5954"/>
                  <a:pt x="2043" y="5954"/>
                  <a:pt x="2043" y="5954"/>
                </a:cubicBezTo>
                <a:cubicBezTo>
                  <a:pt x="2024" y="5954"/>
                  <a:pt x="2024" y="5917"/>
                  <a:pt x="2005" y="5881"/>
                </a:cubicBezTo>
                <a:cubicBezTo>
                  <a:pt x="1986" y="5881"/>
                  <a:pt x="1967" y="5881"/>
                  <a:pt x="1948" y="5881"/>
                </a:cubicBezTo>
                <a:cubicBezTo>
                  <a:pt x="1948" y="5881"/>
                  <a:pt x="1948" y="5881"/>
                  <a:pt x="1948" y="5881"/>
                </a:cubicBezTo>
                <a:cubicBezTo>
                  <a:pt x="1948" y="5881"/>
                  <a:pt x="1948" y="5881"/>
                  <a:pt x="1948" y="5881"/>
                </a:cubicBezTo>
                <a:cubicBezTo>
                  <a:pt x="1967" y="5881"/>
                  <a:pt x="1986" y="5917"/>
                  <a:pt x="1986" y="5954"/>
                </a:cubicBezTo>
                <a:cubicBezTo>
                  <a:pt x="1967" y="5954"/>
                  <a:pt x="1948" y="5954"/>
                  <a:pt x="1948" y="5954"/>
                </a:cubicBezTo>
                <a:cubicBezTo>
                  <a:pt x="1910" y="5917"/>
                  <a:pt x="1891" y="5845"/>
                  <a:pt x="1854" y="5845"/>
                </a:cubicBezTo>
                <a:cubicBezTo>
                  <a:pt x="1854" y="5845"/>
                  <a:pt x="1835" y="5808"/>
                  <a:pt x="1835" y="5808"/>
                </a:cubicBezTo>
                <a:cubicBezTo>
                  <a:pt x="1816" y="5808"/>
                  <a:pt x="1797" y="5772"/>
                  <a:pt x="1778" y="5772"/>
                </a:cubicBezTo>
                <a:cubicBezTo>
                  <a:pt x="1797" y="5772"/>
                  <a:pt x="1797" y="5736"/>
                  <a:pt x="1797" y="5736"/>
                </a:cubicBezTo>
                <a:cubicBezTo>
                  <a:pt x="1797" y="5699"/>
                  <a:pt x="1797" y="5699"/>
                  <a:pt x="1797" y="5699"/>
                </a:cubicBezTo>
                <a:cubicBezTo>
                  <a:pt x="1778" y="5699"/>
                  <a:pt x="1759" y="5699"/>
                  <a:pt x="1740" y="5736"/>
                </a:cubicBezTo>
                <a:cubicBezTo>
                  <a:pt x="1721" y="5736"/>
                  <a:pt x="1702" y="5699"/>
                  <a:pt x="1683" y="5699"/>
                </a:cubicBezTo>
                <a:cubicBezTo>
                  <a:pt x="1683" y="5699"/>
                  <a:pt x="1683" y="5663"/>
                  <a:pt x="1664" y="5663"/>
                </a:cubicBezTo>
                <a:cubicBezTo>
                  <a:pt x="1646" y="5663"/>
                  <a:pt x="1646" y="5663"/>
                  <a:pt x="1627" y="5663"/>
                </a:cubicBezTo>
                <a:cubicBezTo>
                  <a:pt x="1608" y="5699"/>
                  <a:pt x="1589" y="5663"/>
                  <a:pt x="1570" y="5663"/>
                </a:cubicBezTo>
                <a:cubicBezTo>
                  <a:pt x="1551" y="5663"/>
                  <a:pt x="1513" y="5663"/>
                  <a:pt x="1494" y="5663"/>
                </a:cubicBezTo>
                <a:cubicBezTo>
                  <a:pt x="1475" y="5663"/>
                  <a:pt x="1456" y="5627"/>
                  <a:pt x="1456" y="5591"/>
                </a:cubicBezTo>
                <a:cubicBezTo>
                  <a:pt x="1437" y="5591"/>
                  <a:pt x="1437" y="5591"/>
                  <a:pt x="1419" y="5627"/>
                </a:cubicBezTo>
                <a:cubicBezTo>
                  <a:pt x="1400" y="5591"/>
                  <a:pt x="1381" y="5554"/>
                  <a:pt x="1362" y="5518"/>
                </a:cubicBezTo>
                <a:cubicBezTo>
                  <a:pt x="1324" y="5518"/>
                  <a:pt x="1305" y="5518"/>
                  <a:pt x="1267" y="5482"/>
                </a:cubicBezTo>
                <a:cubicBezTo>
                  <a:pt x="1267" y="5482"/>
                  <a:pt x="1248" y="5482"/>
                  <a:pt x="1248" y="5482"/>
                </a:cubicBezTo>
                <a:cubicBezTo>
                  <a:pt x="1248" y="5518"/>
                  <a:pt x="1248" y="5518"/>
                  <a:pt x="1248" y="5518"/>
                </a:cubicBezTo>
                <a:cubicBezTo>
                  <a:pt x="1229" y="5518"/>
                  <a:pt x="1229" y="5554"/>
                  <a:pt x="1211" y="5591"/>
                </a:cubicBezTo>
                <a:cubicBezTo>
                  <a:pt x="1248" y="5627"/>
                  <a:pt x="1267" y="5591"/>
                  <a:pt x="1248" y="5699"/>
                </a:cubicBezTo>
                <a:cubicBezTo>
                  <a:pt x="1211" y="5699"/>
                  <a:pt x="1211" y="5663"/>
                  <a:pt x="1192" y="5663"/>
                </a:cubicBezTo>
                <a:cubicBezTo>
                  <a:pt x="1173" y="5663"/>
                  <a:pt x="1154" y="5699"/>
                  <a:pt x="1135" y="5736"/>
                </a:cubicBezTo>
                <a:cubicBezTo>
                  <a:pt x="1135" y="5736"/>
                  <a:pt x="1116" y="5736"/>
                  <a:pt x="1116" y="5736"/>
                </a:cubicBezTo>
                <a:cubicBezTo>
                  <a:pt x="1078" y="5772"/>
                  <a:pt x="1078" y="5808"/>
                  <a:pt x="1040" y="5845"/>
                </a:cubicBezTo>
                <a:cubicBezTo>
                  <a:pt x="1040" y="5772"/>
                  <a:pt x="1040" y="5772"/>
                  <a:pt x="1059" y="5772"/>
                </a:cubicBezTo>
                <a:cubicBezTo>
                  <a:pt x="1059" y="5736"/>
                  <a:pt x="1040" y="5699"/>
                  <a:pt x="1040" y="5699"/>
                </a:cubicBezTo>
                <a:cubicBezTo>
                  <a:pt x="1040" y="5663"/>
                  <a:pt x="1059" y="5663"/>
                  <a:pt x="1059" y="5627"/>
                </a:cubicBezTo>
                <a:cubicBezTo>
                  <a:pt x="1078" y="5591"/>
                  <a:pt x="1078" y="5554"/>
                  <a:pt x="1116" y="5518"/>
                </a:cubicBezTo>
                <a:cubicBezTo>
                  <a:pt x="1135" y="5518"/>
                  <a:pt x="1173" y="5518"/>
                  <a:pt x="1192" y="5518"/>
                </a:cubicBezTo>
                <a:cubicBezTo>
                  <a:pt x="1192" y="5518"/>
                  <a:pt x="1192" y="5518"/>
                  <a:pt x="1192" y="5518"/>
                </a:cubicBezTo>
                <a:cubicBezTo>
                  <a:pt x="1192" y="5518"/>
                  <a:pt x="1192" y="5518"/>
                  <a:pt x="1192" y="5518"/>
                </a:cubicBezTo>
                <a:cubicBezTo>
                  <a:pt x="1154" y="5482"/>
                  <a:pt x="1135" y="5409"/>
                  <a:pt x="1097" y="5445"/>
                </a:cubicBezTo>
                <a:cubicBezTo>
                  <a:pt x="1078" y="5482"/>
                  <a:pt x="1059" y="5518"/>
                  <a:pt x="1040" y="5554"/>
                </a:cubicBezTo>
                <a:cubicBezTo>
                  <a:pt x="1040" y="5554"/>
                  <a:pt x="1021" y="5554"/>
                  <a:pt x="1002" y="5554"/>
                </a:cubicBezTo>
                <a:cubicBezTo>
                  <a:pt x="1002" y="5591"/>
                  <a:pt x="1002" y="5591"/>
                  <a:pt x="984" y="5627"/>
                </a:cubicBezTo>
                <a:cubicBezTo>
                  <a:pt x="984" y="5627"/>
                  <a:pt x="984" y="5627"/>
                  <a:pt x="965" y="5627"/>
                </a:cubicBezTo>
                <a:cubicBezTo>
                  <a:pt x="984" y="5772"/>
                  <a:pt x="889" y="5699"/>
                  <a:pt x="889" y="5845"/>
                </a:cubicBezTo>
                <a:cubicBezTo>
                  <a:pt x="889" y="5845"/>
                  <a:pt x="889" y="5845"/>
                  <a:pt x="889" y="5845"/>
                </a:cubicBezTo>
                <a:cubicBezTo>
                  <a:pt x="908" y="5845"/>
                  <a:pt x="927" y="5845"/>
                  <a:pt x="927" y="5881"/>
                </a:cubicBezTo>
                <a:cubicBezTo>
                  <a:pt x="927" y="5917"/>
                  <a:pt x="908" y="5917"/>
                  <a:pt x="889" y="5954"/>
                </a:cubicBezTo>
                <a:cubicBezTo>
                  <a:pt x="889" y="5954"/>
                  <a:pt x="870" y="5990"/>
                  <a:pt x="851" y="6026"/>
                </a:cubicBezTo>
                <a:cubicBezTo>
                  <a:pt x="832" y="6026"/>
                  <a:pt x="813" y="6026"/>
                  <a:pt x="794" y="6026"/>
                </a:cubicBezTo>
                <a:cubicBezTo>
                  <a:pt x="775" y="6063"/>
                  <a:pt x="757" y="6099"/>
                  <a:pt x="738" y="6135"/>
                </a:cubicBezTo>
                <a:cubicBezTo>
                  <a:pt x="738" y="6135"/>
                  <a:pt x="738" y="6171"/>
                  <a:pt x="757" y="6171"/>
                </a:cubicBezTo>
                <a:cubicBezTo>
                  <a:pt x="738" y="6208"/>
                  <a:pt x="700" y="6208"/>
                  <a:pt x="662" y="6244"/>
                </a:cubicBezTo>
                <a:cubicBezTo>
                  <a:pt x="662" y="6244"/>
                  <a:pt x="624" y="6280"/>
                  <a:pt x="624" y="6280"/>
                </a:cubicBezTo>
                <a:cubicBezTo>
                  <a:pt x="624" y="6317"/>
                  <a:pt x="605" y="6317"/>
                  <a:pt x="605" y="6353"/>
                </a:cubicBezTo>
                <a:cubicBezTo>
                  <a:pt x="586" y="6389"/>
                  <a:pt x="511" y="6426"/>
                  <a:pt x="492" y="6353"/>
                </a:cubicBezTo>
                <a:cubicBezTo>
                  <a:pt x="492" y="6353"/>
                  <a:pt x="492" y="6353"/>
                  <a:pt x="492" y="6353"/>
                </a:cubicBezTo>
                <a:cubicBezTo>
                  <a:pt x="511" y="6317"/>
                  <a:pt x="549" y="6244"/>
                  <a:pt x="567" y="6244"/>
                </a:cubicBezTo>
                <a:cubicBezTo>
                  <a:pt x="586" y="6244"/>
                  <a:pt x="605" y="6244"/>
                  <a:pt x="605" y="6244"/>
                </a:cubicBezTo>
                <a:cubicBezTo>
                  <a:pt x="605" y="6244"/>
                  <a:pt x="605" y="6244"/>
                  <a:pt x="605" y="6244"/>
                </a:cubicBezTo>
                <a:cubicBezTo>
                  <a:pt x="605" y="6208"/>
                  <a:pt x="605" y="6171"/>
                  <a:pt x="624" y="6171"/>
                </a:cubicBezTo>
                <a:cubicBezTo>
                  <a:pt x="624" y="6171"/>
                  <a:pt x="662" y="6135"/>
                  <a:pt x="681" y="6099"/>
                </a:cubicBezTo>
                <a:cubicBezTo>
                  <a:pt x="681" y="6063"/>
                  <a:pt x="662" y="6026"/>
                  <a:pt x="681" y="5990"/>
                </a:cubicBezTo>
                <a:cubicBezTo>
                  <a:pt x="681" y="5954"/>
                  <a:pt x="700" y="5954"/>
                  <a:pt x="700" y="5954"/>
                </a:cubicBezTo>
                <a:cubicBezTo>
                  <a:pt x="700" y="5917"/>
                  <a:pt x="700" y="5917"/>
                  <a:pt x="700" y="5881"/>
                </a:cubicBezTo>
                <a:cubicBezTo>
                  <a:pt x="700" y="5881"/>
                  <a:pt x="700" y="5881"/>
                  <a:pt x="700" y="5881"/>
                </a:cubicBezTo>
                <a:cubicBezTo>
                  <a:pt x="681" y="5881"/>
                  <a:pt x="662" y="5917"/>
                  <a:pt x="643" y="5917"/>
                </a:cubicBezTo>
                <a:cubicBezTo>
                  <a:pt x="624" y="5881"/>
                  <a:pt x="624" y="5881"/>
                  <a:pt x="624" y="5845"/>
                </a:cubicBezTo>
                <a:cubicBezTo>
                  <a:pt x="605" y="5845"/>
                  <a:pt x="605" y="5881"/>
                  <a:pt x="605" y="5881"/>
                </a:cubicBezTo>
                <a:cubicBezTo>
                  <a:pt x="586" y="5917"/>
                  <a:pt x="605" y="5917"/>
                  <a:pt x="605" y="5954"/>
                </a:cubicBezTo>
                <a:cubicBezTo>
                  <a:pt x="567" y="5954"/>
                  <a:pt x="549" y="5881"/>
                  <a:pt x="530" y="5881"/>
                </a:cubicBezTo>
                <a:cubicBezTo>
                  <a:pt x="492" y="5845"/>
                  <a:pt x="492" y="5881"/>
                  <a:pt x="454" y="5917"/>
                </a:cubicBezTo>
                <a:cubicBezTo>
                  <a:pt x="454" y="5917"/>
                  <a:pt x="416" y="5917"/>
                  <a:pt x="416" y="5881"/>
                </a:cubicBezTo>
                <a:cubicBezTo>
                  <a:pt x="397" y="5845"/>
                  <a:pt x="397" y="5808"/>
                  <a:pt x="416" y="5772"/>
                </a:cubicBezTo>
                <a:cubicBezTo>
                  <a:pt x="416" y="5736"/>
                  <a:pt x="397" y="5663"/>
                  <a:pt x="378" y="5663"/>
                </a:cubicBezTo>
                <a:cubicBezTo>
                  <a:pt x="359" y="5663"/>
                  <a:pt x="284" y="5736"/>
                  <a:pt x="284" y="5699"/>
                </a:cubicBezTo>
                <a:cubicBezTo>
                  <a:pt x="265" y="5699"/>
                  <a:pt x="227" y="5591"/>
                  <a:pt x="208" y="5591"/>
                </a:cubicBezTo>
                <a:cubicBezTo>
                  <a:pt x="208" y="5591"/>
                  <a:pt x="208" y="5591"/>
                  <a:pt x="208" y="5591"/>
                </a:cubicBezTo>
                <a:cubicBezTo>
                  <a:pt x="227" y="5554"/>
                  <a:pt x="227" y="5554"/>
                  <a:pt x="227" y="5518"/>
                </a:cubicBezTo>
                <a:cubicBezTo>
                  <a:pt x="265" y="5554"/>
                  <a:pt x="284" y="5591"/>
                  <a:pt x="303" y="5554"/>
                </a:cubicBezTo>
                <a:cubicBezTo>
                  <a:pt x="303" y="5554"/>
                  <a:pt x="303" y="5554"/>
                  <a:pt x="303" y="5554"/>
                </a:cubicBezTo>
                <a:cubicBezTo>
                  <a:pt x="303" y="5518"/>
                  <a:pt x="303" y="5518"/>
                  <a:pt x="284" y="5482"/>
                </a:cubicBezTo>
                <a:cubicBezTo>
                  <a:pt x="265" y="5482"/>
                  <a:pt x="265" y="5518"/>
                  <a:pt x="246" y="5518"/>
                </a:cubicBezTo>
                <a:cubicBezTo>
                  <a:pt x="227" y="5482"/>
                  <a:pt x="208" y="5445"/>
                  <a:pt x="170" y="5445"/>
                </a:cubicBezTo>
                <a:cubicBezTo>
                  <a:pt x="151" y="5409"/>
                  <a:pt x="151" y="5409"/>
                  <a:pt x="151" y="5373"/>
                </a:cubicBezTo>
                <a:cubicBezTo>
                  <a:pt x="151" y="5373"/>
                  <a:pt x="170" y="5373"/>
                  <a:pt x="170" y="5336"/>
                </a:cubicBezTo>
                <a:cubicBezTo>
                  <a:pt x="170" y="5336"/>
                  <a:pt x="170" y="5300"/>
                  <a:pt x="170" y="5300"/>
                </a:cubicBezTo>
                <a:cubicBezTo>
                  <a:pt x="170" y="5300"/>
                  <a:pt x="189" y="5300"/>
                  <a:pt x="189" y="5300"/>
                </a:cubicBezTo>
                <a:cubicBezTo>
                  <a:pt x="189" y="5264"/>
                  <a:pt x="189" y="5264"/>
                  <a:pt x="189" y="5228"/>
                </a:cubicBezTo>
                <a:cubicBezTo>
                  <a:pt x="208" y="5228"/>
                  <a:pt x="208" y="5228"/>
                  <a:pt x="227" y="5191"/>
                </a:cubicBezTo>
                <a:cubicBezTo>
                  <a:pt x="227" y="5155"/>
                  <a:pt x="246" y="5119"/>
                  <a:pt x="265" y="5082"/>
                </a:cubicBezTo>
                <a:cubicBezTo>
                  <a:pt x="284" y="5082"/>
                  <a:pt x="322" y="5119"/>
                  <a:pt x="322" y="5119"/>
                </a:cubicBezTo>
                <a:cubicBezTo>
                  <a:pt x="359" y="5119"/>
                  <a:pt x="359" y="5082"/>
                  <a:pt x="378" y="5046"/>
                </a:cubicBezTo>
                <a:cubicBezTo>
                  <a:pt x="397" y="5046"/>
                  <a:pt x="435" y="5046"/>
                  <a:pt x="454" y="5046"/>
                </a:cubicBezTo>
                <a:cubicBezTo>
                  <a:pt x="473" y="5010"/>
                  <a:pt x="473" y="5010"/>
                  <a:pt x="473" y="5010"/>
                </a:cubicBezTo>
                <a:cubicBezTo>
                  <a:pt x="473" y="4937"/>
                  <a:pt x="454" y="4901"/>
                  <a:pt x="454" y="4865"/>
                </a:cubicBezTo>
                <a:cubicBezTo>
                  <a:pt x="454" y="4865"/>
                  <a:pt x="454" y="4865"/>
                  <a:pt x="454" y="4865"/>
                </a:cubicBezTo>
                <a:cubicBezTo>
                  <a:pt x="454" y="4865"/>
                  <a:pt x="473" y="4865"/>
                  <a:pt x="473" y="4828"/>
                </a:cubicBezTo>
                <a:cubicBezTo>
                  <a:pt x="473" y="4828"/>
                  <a:pt x="473" y="4828"/>
                  <a:pt x="473" y="4828"/>
                </a:cubicBezTo>
                <a:cubicBezTo>
                  <a:pt x="473" y="4792"/>
                  <a:pt x="473" y="4792"/>
                  <a:pt x="454" y="4756"/>
                </a:cubicBezTo>
                <a:cubicBezTo>
                  <a:pt x="435" y="4792"/>
                  <a:pt x="416" y="4792"/>
                  <a:pt x="397" y="4792"/>
                </a:cubicBezTo>
                <a:cubicBezTo>
                  <a:pt x="378" y="4828"/>
                  <a:pt x="359" y="4828"/>
                  <a:pt x="359" y="4865"/>
                </a:cubicBezTo>
                <a:cubicBezTo>
                  <a:pt x="340" y="4865"/>
                  <a:pt x="303" y="4828"/>
                  <a:pt x="284" y="4828"/>
                </a:cubicBezTo>
                <a:cubicBezTo>
                  <a:pt x="265" y="4828"/>
                  <a:pt x="227" y="4828"/>
                  <a:pt x="208" y="4828"/>
                </a:cubicBezTo>
                <a:cubicBezTo>
                  <a:pt x="189" y="4865"/>
                  <a:pt x="132" y="4828"/>
                  <a:pt x="113" y="4792"/>
                </a:cubicBezTo>
                <a:cubicBezTo>
                  <a:pt x="113" y="4792"/>
                  <a:pt x="113" y="4756"/>
                  <a:pt x="113" y="4719"/>
                </a:cubicBezTo>
                <a:cubicBezTo>
                  <a:pt x="113" y="4719"/>
                  <a:pt x="113" y="4719"/>
                  <a:pt x="132" y="4719"/>
                </a:cubicBezTo>
                <a:cubicBezTo>
                  <a:pt x="151" y="4719"/>
                  <a:pt x="170" y="4719"/>
                  <a:pt x="170" y="4719"/>
                </a:cubicBezTo>
                <a:cubicBezTo>
                  <a:pt x="132" y="4683"/>
                  <a:pt x="76" y="4647"/>
                  <a:pt x="19" y="4610"/>
                </a:cubicBezTo>
                <a:cubicBezTo>
                  <a:pt x="19" y="4610"/>
                  <a:pt x="38" y="4610"/>
                  <a:pt x="38" y="4610"/>
                </a:cubicBezTo>
                <a:cubicBezTo>
                  <a:pt x="76" y="4574"/>
                  <a:pt x="113" y="4574"/>
                  <a:pt x="151" y="4538"/>
                </a:cubicBezTo>
                <a:cubicBezTo>
                  <a:pt x="189" y="4502"/>
                  <a:pt x="246" y="4429"/>
                  <a:pt x="303" y="4465"/>
                </a:cubicBezTo>
                <a:cubicBezTo>
                  <a:pt x="303" y="4465"/>
                  <a:pt x="284" y="4502"/>
                  <a:pt x="303" y="4538"/>
                </a:cubicBezTo>
                <a:cubicBezTo>
                  <a:pt x="359" y="4538"/>
                  <a:pt x="397" y="4574"/>
                  <a:pt x="454" y="4502"/>
                </a:cubicBezTo>
                <a:cubicBezTo>
                  <a:pt x="473" y="4502"/>
                  <a:pt x="511" y="4538"/>
                  <a:pt x="530" y="4502"/>
                </a:cubicBezTo>
                <a:cubicBezTo>
                  <a:pt x="530" y="4465"/>
                  <a:pt x="530" y="4465"/>
                  <a:pt x="530" y="4465"/>
                </a:cubicBezTo>
                <a:cubicBezTo>
                  <a:pt x="511" y="4465"/>
                  <a:pt x="416" y="4429"/>
                  <a:pt x="416" y="4429"/>
                </a:cubicBezTo>
                <a:cubicBezTo>
                  <a:pt x="416" y="4393"/>
                  <a:pt x="416" y="4356"/>
                  <a:pt x="416" y="4356"/>
                </a:cubicBezTo>
                <a:cubicBezTo>
                  <a:pt x="378" y="4356"/>
                  <a:pt x="340" y="4320"/>
                  <a:pt x="303" y="4320"/>
                </a:cubicBezTo>
                <a:cubicBezTo>
                  <a:pt x="303" y="4211"/>
                  <a:pt x="151" y="4102"/>
                  <a:pt x="113" y="4066"/>
                </a:cubicBezTo>
                <a:cubicBezTo>
                  <a:pt x="113" y="4066"/>
                  <a:pt x="113" y="4066"/>
                  <a:pt x="113" y="4066"/>
                </a:cubicBezTo>
                <a:cubicBezTo>
                  <a:pt x="132" y="4066"/>
                  <a:pt x="132" y="4030"/>
                  <a:pt x="132" y="3993"/>
                </a:cubicBezTo>
                <a:cubicBezTo>
                  <a:pt x="189" y="3993"/>
                  <a:pt x="265" y="3993"/>
                  <a:pt x="303" y="3921"/>
                </a:cubicBezTo>
                <a:cubicBezTo>
                  <a:pt x="303" y="3884"/>
                  <a:pt x="303" y="3884"/>
                  <a:pt x="322" y="3848"/>
                </a:cubicBezTo>
                <a:cubicBezTo>
                  <a:pt x="322" y="3812"/>
                  <a:pt x="359" y="3739"/>
                  <a:pt x="378" y="3703"/>
                </a:cubicBezTo>
                <a:cubicBezTo>
                  <a:pt x="397" y="3703"/>
                  <a:pt x="454" y="3667"/>
                  <a:pt x="473" y="3667"/>
                </a:cubicBezTo>
                <a:cubicBezTo>
                  <a:pt x="492" y="3667"/>
                  <a:pt x="511" y="3667"/>
                  <a:pt x="530" y="3667"/>
                </a:cubicBezTo>
                <a:cubicBezTo>
                  <a:pt x="530" y="3667"/>
                  <a:pt x="530" y="3630"/>
                  <a:pt x="530" y="3630"/>
                </a:cubicBezTo>
                <a:cubicBezTo>
                  <a:pt x="530" y="3630"/>
                  <a:pt x="530" y="3594"/>
                  <a:pt x="511" y="3594"/>
                </a:cubicBezTo>
                <a:cubicBezTo>
                  <a:pt x="511" y="3594"/>
                  <a:pt x="511" y="3558"/>
                  <a:pt x="511" y="3558"/>
                </a:cubicBezTo>
                <a:cubicBezTo>
                  <a:pt x="567" y="3558"/>
                  <a:pt x="624" y="3558"/>
                  <a:pt x="662" y="3558"/>
                </a:cubicBezTo>
                <a:cubicBezTo>
                  <a:pt x="681" y="3521"/>
                  <a:pt x="700" y="3485"/>
                  <a:pt x="719" y="3449"/>
                </a:cubicBezTo>
                <a:cubicBezTo>
                  <a:pt x="757" y="3449"/>
                  <a:pt x="775" y="3485"/>
                  <a:pt x="775" y="3521"/>
                </a:cubicBezTo>
                <a:cubicBezTo>
                  <a:pt x="775" y="3521"/>
                  <a:pt x="775" y="3521"/>
                  <a:pt x="775" y="3558"/>
                </a:cubicBezTo>
                <a:cubicBezTo>
                  <a:pt x="775" y="3558"/>
                  <a:pt x="775" y="3558"/>
                  <a:pt x="775" y="3558"/>
                </a:cubicBezTo>
                <a:cubicBezTo>
                  <a:pt x="775" y="3558"/>
                  <a:pt x="794" y="3558"/>
                  <a:pt x="813" y="3558"/>
                </a:cubicBezTo>
                <a:cubicBezTo>
                  <a:pt x="813" y="3558"/>
                  <a:pt x="832" y="3521"/>
                  <a:pt x="832" y="3521"/>
                </a:cubicBezTo>
                <a:cubicBezTo>
                  <a:pt x="851" y="3521"/>
                  <a:pt x="851" y="3521"/>
                  <a:pt x="870" y="3521"/>
                </a:cubicBezTo>
                <a:cubicBezTo>
                  <a:pt x="908" y="3558"/>
                  <a:pt x="927" y="3558"/>
                  <a:pt x="965" y="3558"/>
                </a:cubicBezTo>
                <a:cubicBezTo>
                  <a:pt x="984" y="3558"/>
                  <a:pt x="1002" y="3630"/>
                  <a:pt x="1021" y="3630"/>
                </a:cubicBezTo>
                <a:cubicBezTo>
                  <a:pt x="1040" y="3630"/>
                  <a:pt x="1040" y="3630"/>
                  <a:pt x="1040" y="3630"/>
                </a:cubicBezTo>
                <a:cubicBezTo>
                  <a:pt x="1059" y="3630"/>
                  <a:pt x="1097" y="3667"/>
                  <a:pt x="1116" y="3630"/>
                </a:cubicBezTo>
                <a:cubicBezTo>
                  <a:pt x="1154" y="3630"/>
                  <a:pt x="1173" y="3630"/>
                  <a:pt x="1192" y="3630"/>
                </a:cubicBezTo>
                <a:cubicBezTo>
                  <a:pt x="1229" y="3630"/>
                  <a:pt x="1248" y="3667"/>
                  <a:pt x="1286" y="3667"/>
                </a:cubicBezTo>
                <a:cubicBezTo>
                  <a:pt x="1324" y="3667"/>
                  <a:pt x="1343" y="3703"/>
                  <a:pt x="1381" y="3703"/>
                </a:cubicBezTo>
                <a:cubicBezTo>
                  <a:pt x="1400" y="3703"/>
                  <a:pt x="1419" y="3703"/>
                  <a:pt x="1437" y="3739"/>
                </a:cubicBezTo>
                <a:cubicBezTo>
                  <a:pt x="1475" y="3703"/>
                  <a:pt x="1513" y="3703"/>
                  <a:pt x="1551" y="3703"/>
                </a:cubicBezTo>
                <a:cubicBezTo>
                  <a:pt x="1608" y="3739"/>
                  <a:pt x="1646" y="3812"/>
                  <a:pt x="1683" y="3848"/>
                </a:cubicBezTo>
                <a:cubicBezTo>
                  <a:pt x="1702" y="3848"/>
                  <a:pt x="1721" y="3812"/>
                  <a:pt x="1740" y="3812"/>
                </a:cubicBezTo>
                <a:cubicBezTo>
                  <a:pt x="1778" y="3848"/>
                  <a:pt x="1797" y="3848"/>
                  <a:pt x="1816" y="3884"/>
                </a:cubicBezTo>
                <a:cubicBezTo>
                  <a:pt x="1854" y="3921"/>
                  <a:pt x="1873" y="3957"/>
                  <a:pt x="1910" y="3957"/>
                </a:cubicBezTo>
                <a:cubicBezTo>
                  <a:pt x="1929" y="3957"/>
                  <a:pt x="1967" y="3957"/>
                  <a:pt x="1986" y="3993"/>
                </a:cubicBezTo>
                <a:cubicBezTo>
                  <a:pt x="2005" y="3993"/>
                  <a:pt x="2024" y="4030"/>
                  <a:pt x="2043" y="4030"/>
                </a:cubicBezTo>
                <a:cubicBezTo>
                  <a:pt x="2043" y="4030"/>
                  <a:pt x="2043" y="4030"/>
                  <a:pt x="2043" y="4030"/>
                </a:cubicBezTo>
                <a:cubicBezTo>
                  <a:pt x="2024" y="3993"/>
                  <a:pt x="2024" y="3957"/>
                  <a:pt x="2005" y="3921"/>
                </a:cubicBezTo>
                <a:cubicBezTo>
                  <a:pt x="2005" y="3921"/>
                  <a:pt x="2005" y="3884"/>
                  <a:pt x="2005" y="3884"/>
                </a:cubicBezTo>
                <a:cubicBezTo>
                  <a:pt x="2024" y="3884"/>
                  <a:pt x="2024" y="3848"/>
                  <a:pt x="2043" y="3848"/>
                </a:cubicBezTo>
                <a:cubicBezTo>
                  <a:pt x="2043" y="3848"/>
                  <a:pt x="2062" y="3848"/>
                  <a:pt x="2062" y="3848"/>
                </a:cubicBezTo>
                <a:cubicBezTo>
                  <a:pt x="2062" y="3848"/>
                  <a:pt x="2081" y="3848"/>
                  <a:pt x="2081" y="3848"/>
                </a:cubicBezTo>
                <a:cubicBezTo>
                  <a:pt x="2099" y="3812"/>
                  <a:pt x="2137" y="3884"/>
                  <a:pt x="2156" y="3848"/>
                </a:cubicBezTo>
                <a:cubicBezTo>
                  <a:pt x="2175" y="3848"/>
                  <a:pt x="2175" y="3812"/>
                  <a:pt x="2194" y="3812"/>
                </a:cubicBezTo>
                <a:cubicBezTo>
                  <a:pt x="2194" y="3812"/>
                  <a:pt x="2194" y="3812"/>
                  <a:pt x="2213" y="3812"/>
                </a:cubicBezTo>
                <a:cubicBezTo>
                  <a:pt x="2213" y="3775"/>
                  <a:pt x="2213" y="3775"/>
                  <a:pt x="2232" y="3775"/>
                </a:cubicBezTo>
                <a:cubicBezTo>
                  <a:pt x="2251" y="3775"/>
                  <a:pt x="2270" y="3775"/>
                  <a:pt x="2289" y="3775"/>
                </a:cubicBezTo>
                <a:cubicBezTo>
                  <a:pt x="2289" y="3739"/>
                  <a:pt x="2308" y="3739"/>
                  <a:pt x="2308" y="3703"/>
                </a:cubicBezTo>
                <a:cubicBezTo>
                  <a:pt x="2326" y="3703"/>
                  <a:pt x="2364" y="3703"/>
                  <a:pt x="2383" y="3703"/>
                </a:cubicBezTo>
                <a:cubicBezTo>
                  <a:pt x="2383" y="3775"/>
                  <a:pt x="2364" y="3775"/>
                  <a:pt x="2326" y="3775"/>
                </a:cubicBezTo>
                <a:cubicBezTo>
                  <a:pt x="2326" y="3775"/>
                  <a:pt x="2308" y="3812"/>
                  <a:pt x="2308" y="3812"/>
                </a:cubicBezTo>
                <a:cubicBezTo>
                  <a:pt x="2289" y="3812"/>
                  <a:pt x="2270" y="3848"/>
                  <a:pt x="2232" y="3848"/>
                </a:cubicBezTo>
                <a:cubicBezTo>
                  <a:pt x="2232" y="3884"/>
                  <a:pt x="2232" y="3884"/>
                  <a:pt x="2213" y="3921"/>
                </a:cubicBezTo>
                <a:cubicBezTo>
                  <a:pt x="2194" y="3957"/>
                  <a:pt x="2175" y="3884"/>
                  <a:pt x="2156" y="3993"/>
                </a:cubicBezTo>
                <a:cubicBezTo>
                  <a:pt x="2156" y="3993"/>
                  <a:pt x="2156" y="3993"/>
                  <a:pt x="2156" y="3993"/>
                </a:cubicBezTo>
                <a:cubicBezTo>
                  <a:pt x="2175" y="3993"/>
                  <a:pt x="2194" y="4030"/>
                  <a:pt x="2213" y="4066"/>
                </a:cubicBezTo>
                <a:cubicBezTo>
                  <a:pt x="2213" y="4030"/>
                  <a:pt x="2213" y="4030"/>
                  <a:pt x="2213" y="3993"/>
                </a:cubicBezTo>
                <a:cubicBezTo>
                  <a:pt x="2251" y="3957"/>
                  <a:pt x="2251" y="3921"/>
                  <a:pt x="2270" y="3884"/>
                </a:cubicBezTo>
                <a:cubicBezTo>
                  <a:pt x="2345" y="3921"/>
                  <a:pt x="2345" y="3848"/>
                  <a:pt x="2383" y="3812"/>
                </a:cubicBezTo>
                <a:cubicBezTo>
                  <a:pt x="2402" y="3812"/>
                  <a:pt x="2421" y="3812"/>
                  <a:pt x="2440" y="3812"/>
                </a:cubicBezTo>
                <a:cubicBezTo>
                  <a:pt x="2440" y="3812"/>
                  <a:pt x="2459" y="3775"/>
                  <a:pt x="2459" y="3775"/>
                </a:cubicBezTo>
                <a:cubicBezTo>
                  <a:pt x="2478" y="3739"/>
                  <a:pt x="2497" y="3739"/>
                  <a:pt x="2516" y="3703"/>
                </a:cubicBezTo>
                <a:cubicBezTo>
                  <a:pt x="2516" y="3667"/>
                  <a:pt x="2497" y="3630"/>
                  <a:pt x="2478" y="3594"/>
                </a:cubicBezTo>
                <a:cubicBezTo>
                  <a:pt x="2553" y="3630"/>
                  <a:pt x="2553" y="3775"/>
                  <a:pt x="2610" y="3848"/>
                </a:cubicBezTo>
                <a:cubicBezTo>
                  <a:pt x="2629" y="3848"/>
                  <a:pt x="2648" y="3921"/>
                  <a:pt x="2667" y="3884"/>
                </a:cubicBezTo>
                <a:close/>
                <a:moveTo>
                  <a:pt x="5712" y="9257"/>
                </a:moveTo>
                <a:cubicBezTo>
                  <a:pt x="5712" y="9257"/>
                  <a:pt x="5712" y="9257"/>
                  <a:pt x="5712" y="9257"/>
                </a:cubicBezTo>
                <a:cubicBezTo>
                  <a:pt x="5712" y="9257"/>
                  <a:pt x="5712" y="9257"/>
                  <a:pt x="5712" y="9257"/>
                </a:cubicBezTo>
                <a:cubicBezTo>
                  <a:pt x="5712" y="9257"/>
                  <a:pt x="5712" y="9257"/>
                  <a:pt x="5712" y="9257"/>
                </a:cubicBezTo>
                <a:close/>
                <a:moveTo>
                  <a:pt x="5712" y="9257"/>
                </a:moveTo>
                <a:cubicBezTo>
                  <a:pt x="5712" y="9257"/>
                  <a:pt x="5712" y="9257"/>
                  <a:pt x="5712" y="9257"/>
                </a:cubicBezTo>
                <a:cubicBezTo>
                  <a:pt x="5712" y="9257"/>
                  <a:pt x="5712" y="9257"/>
                  <a:pt x="5712" y="9257"/>
                </a:cubicBezTo>
                <a:cubicBezTo>
                  <a:pt x="5712" y="9257"/>
                  <a:pt x="5712" y="9257"/>
                  <a:pt x="5712" y="9257"/>
                </a:cubicBezTo>
                <a:close/>
                <a:moveTo>
                  <a:pt x="38" y="6789"/>
                </a:moveTo>
                <a:cubicBezTo>
                  <a:pt x="38" y="6825"/>
                  <a:pt x="19" y="6825"/>
                  <a:pt x="19" y="6825"/>
                </a:cubicBezTo>
                <a:cubicBezTo>
                  <a:pt x="0" y="6825"/>
                  <a:pt x="0" y="6789"/>
                  <a:pt x="0" y="6789"/>
                </a:cubicBezTo>
                <a:cubicBezTo>
                  <a:pt x="0" y="6789"/>
                  <a:pt x="19" y="6789"/>
                  <a:pt x="19" y="6752"/>
                </a:cubicBezTo>
                <a:cubicBezTo>
                  <a:pt x="38" y="6752"/>
                  <a:pt x="38" y="6789"/>
                  <a:pt x="38" y="6789"/>
                </a:cubicBezTo>
                <a:close/>
                <a:moveTo>
                  <a:pt x="113" y="6680"/>
                </a:moveTo>
                <a:cubicBezTo>
                  <a:pt x="113" y="6680"/>
                  <a:pt x="113" y="6680"/>
                  <a:pt x="132" y="6716"/>
                </a:cubicBezTo>
                <a:cubicBezTo>
                  <a:pt x="132" y="6716"/>
                  <a:pt x="132" y="6716"/>
                  <a:pt x="132" y="6716"/>
                </a:cubicBezTo>
                <a:cubicBezTo>
                  <a:pt x="132" y="6752"/>
                  <a:pt x="113" y="6752"/>
                  <a:pt x="95" y="6789"/>
                </a:cubicBezTo>
                <a:cubicBezTo>
                  <a:pt x="95" y="6789"/>
                  <a:pt x="95" y="6789"/>
                  <a:pt x="95" y="6789"/>
                </a:cubicBezTo>
                <a:cubicBezTo>
                  <a:pt x="95" y="6752"/>
                  <a:pt x="95" y="6716"/>
                  <a:pt x="95" y="6716"/>
                </a:cubicBezTo>
                <a:cubicBezTo>
                  <a:pt x="95" y="6716"/>
                  <a:pt x="95" y="6716"/>
                  <a:pt x="95" y="6716"/>
                </a:cubicBezTo>
                <a:cubicBezTo>
                  <a:pt x="95" y="6716"/>
                  <a:pt x="95" y="6680"/>
                  <a:pt x="113" y="6680"/>
                </a:cubicBezTo>
                <a:close/>
                <a:moveTo>
                  <a:pt x="303" y="6534"/>
                </a:moveTo>
                <a:cubicBezTo>
                  <a:pt x="303" y="6534"/>
                  <a:pt x="340" y="6534"/>
                  <a:pt x="322" y="6571"/>
                </a:cubicBezTo>
                <a:cubicBezTo>
                  <a:pt x="322" y="6571"/>
                  <a:pt x="322" y="6571"/>
                  <a:pt x="303" y="6607"/>
                </a:cubicBezTo>
                <a:cubicBezTo>
                  <a:pt x="303" y="6607"/>
                  <a:pt x="284" y="6571"/>
                  <a:pt x="265" y="6607"/>
                </a:cubicBezTo>
                <a:cubicBezTo>
                  <a:pt x="265" y="6607"/>
                  <a:pt x="265" y="6643"/>
                  <a:pt x="246" y="6643"/>
                </a:cubicBezTo>
                <a:cubicBezTo>
                  <a:pt x="227" y="6643"/>
                  <a:pt x="227" y="6643"/>
                  <a:pt x="227" y="6607"/>
                </a:cubicBezTo>
                <a:cubicBezTo>
                  <a:pt x="227" y="6607"/>
                  <a:pt x="246" y="6571"/>
                  <a:pt x="246" y="6571"/>
                </a:cubicBezTo>
                <a:cubicBezTo>
                  <a:pt x="265" y="6534"/>
                  <a:pt x="284" y="6534"/>
                  <a:pt x="303" y="6534"/>
                </a:cubicBezTo>
                <a:close/>
                <a:moveTo>
                  <a:pt x="322" y="6498"/>
                </a:moveTo>
                <a:cubicBezTo>
                  <a:pt x="340" y="6498"/>
                  <a:pt x="340" y="6498"/>
                  <a:pt x="340" y="6498"/>
                </a:cubicBezTo>
                <a:cubicBezTo>
                  <a:pt x="340" y="6498"/>
                  <a:pt x="359" y="6498"/>
                  <a:pt x="359" y="6498"/>
                </a:cubicBezTo>
                <a:cubicBezTo>
                  <a:pt x="359" y="6498"/>
                  <a:pt x="359" y="6498"/>
                  <a:pt x="359" y="6534"/>
                </a:cubicBezTo>
                <a:cubicBezTo>
                  <a:pt x="359" y="6534"/>
                  <a:pt x="359" y="6534"/>
                  <a:pt x="340" y="6534"/>
                </a:cubicBezTo>
                <a:cubicBezTo>
                  <a:pt x="340" y="6534"/>
                  <a:pt x="322" y="6534"/>
                  <a:pt x="322" y="6498"/>
                </a:cubicBezTo>
                <a:cubicBezTo>
                  <a:pt x="322" y="6498"/>
                  <a:pt x="322" y="6498"/>
                  <a:pt x="322" y="6498"/>
                </a:cubicBezTo>
                <a:close/>
                <a:moveTo>
                  <a:pt x="416" y="6389"/>
                </a:moveTo>
                <a:cubicBezTo>
                  <a:pt x="435" y="6389"/>
                  <a:pt x="435" y="6389"/>
                  <a:pt x="454" y="6389"/>
                </a:cubicBezTo>
                <a:cubicBezTo>
                  <a:pt x="473" y="6389"/>
                  <a:pt x="492" y="6389"/>
                  <a:pt x="511" y="6426"/>
                </a:cubicBezTo>
                <a:cubicBezTo>
                  <a:pt x="511" y="6426"/>
                  <a:pt x="511" y="6426"/>
                  <a:pt x="511" y="6426"/>
                </a:cubicBezTo>
                <a:cubicBezTo>
                  <a:pt x="473" y="6426"/>
                  <a:pt x="454" y="6426"/>
                  <a:pt x="435" y="6462"/>
                </a:cubicBezTo>
                <a:cubicBezTo>
                  <a:pt x="416" y="6462"/>
                  <a:pt x="397" y="6534"/>
                  <a:pt x="378" y="6498"/>
                </a:cubicBezTo>
                <a:cubicBezTo>
                  <a:pt x="378" y="6498"/>
                  <a:pt x="378" y="6462"/>
                  <a:pt x="378" y="6462"/>
                </a:cubicBezTo>
                <a:cubicBezTo>
                  <a:pt x="397" y="6462"/>
                  <a:pt x="397" y="6426"/>
                  <a:pt x="416" y="6389"/>
                </a:cubicBezTo>
                <a:close/>
                <a:moveTo>
                  <a:pt x="643" y="11181"/>
                </a:moveTo>
                <a:cubicBezTo>
                  <a:pt x="643" y="11181"/>
                  <a:pt x="662" y="11217"/>
                  <a:pt x="662" y="11217"/>
                </a:cubicBezTo>
                <a:cubicBezTo>
                  <a:pt x="662" y="11254"/>
                  <a:pt x="662" y="11254"/>
                  <a:pt x="662" y="11254"/>
                </a:cubicBezTo>
                <a:cubicBezTo>
                  <a:pt x="662" y="11254"/>
                  <a:pt x="662" y="11254"/>
                  <a:pt x="662" y="11254"/>
                </a:cubicBezTo>
                <a:cubicBezTo>
                  <a:pt x="643" y="11254"/>
                  <a:pt x="643" y="11254"/>
                  <a:pt x="624" y="11254"/>
                </a:cubicBezTo>
                <a:cubicBezTo>
                  <a:pt x="624" y="11217"/>
                  <a:pt x="624" y="11217"/>
                  <a:pt x="624" y="11181"/>
                </a:cubicBezTo>
                <a:cubicBezTo>
                  <a:pt x="624" y="11181"/>
                  <a:pt x="643" y="11181"/>
                  <a:pt x="643" y="11181"/>
                </a:cubicBezTo>
                <a:close/>
                <a:moveTo>
                  <a:pt x="775" y="11290"/>
                </a:moveTo>
                <a:cubicBezTo>
                  <a:pt x="775" y="11290"/>
                  <a:pt x="775" y="11290"/>
                  <a:pt x="775" y="11326"/>
                </a:cubicBezTo>
                <a:cubicBezTo>
                  <a:pt x="757" y="11326"/>
                  <a:pt x="757" y="11326"/>
                  <a:pt x="738" y="11326"/>
                </a:cubicBezTo>
                <a:cubicBezTo>
                  <a:pt x="738" y="11326"/>
                  <a:pt x="738" y="11290"/>
                  <a:pt x="719" y="11290"/>
                </a:cubicBezTo>
                <a:cubicBezTo>
                  <a:pt x="719" y="11290"/>
                  <a:pt x="719" y="11254"/>
                  <a:pt x="738" y="11254"/>
                </a:cubicBezTo>
                <a:cubicBezTo>
                  <a:pt x="738" y="11254"/>
                  <a:pt x="757" y="11290"/>
                  <a:pt x="775" y="11290"/>
                </a:cubicBezTo>
                <a:close/>
                <a:moveTo>
                  <a:pt x="775" y="11363"/>
                </a:moveTo>
                <a:cubicBezTo>
                  <a:pt x="775" y="11363"/>
                  <a:pt x="775" y="11363"/>
                  <a:pt x="775" y="11363"/>
                </a:cubicBezTo>
                <a:cubicBezTo>
                  <a:pt x="794" y="11363"/>
                  <a:pt x="813" y="11399"/>
                  <a:pt x="832" y="11399"/>
                </a:cubicBezTo>
                <a:cubicBezTo>
                  <a:pt x="832" y="11435"/>
                  <a:pt x="832" y="11435"/>
                  <a:pt x="851" y="11435"/>
                </a:cubicBezTo>
                <a:cubicBezTo>
                  <a:pt x="832" y="11508"/>
                  <a:pt x="813" y="11472"/>
                  <a:pt x="794" y="11508"/>
                </a:cubicBezTo>
                <a:cubicBezTo>
                  <a:pt x="794" y="11508"/>
                  <a:pt x="794" y="11508"/>
                  <a:pt x="794" y="11508"/>
                </a:cubicBezTo>
                <a:cubicBezTo>
                  <a:pt x="794" y="11508"/>
                  <a:pt x="794" y="11508"/>
                  <a:pt x="794" y="11508"/>
                </a:cubicBezTo>
                <a:cubicBezTo>
                  <a:pt x="775" y="11508"/>
                  <a:pt x="775" y="11508"/>
                  <a:pt x="775" y="11508"/>
                </a:cubicBezTo>
                <a:cubicBezTo>
                  <a:pt x="775" y="11472"/>
                  <a:pt x="775" y="11435"/>
                  <a:pt x="775" y="11435"/>
                </a:cubicBezTo>
                <a:cubicBezTo>
                  <a:pt x="775" y="11399"/>
                  <a:pt x="775" y="11399"/>
                  <a:pt x="775" y="11399"/>
                </a:cubicBezTo>
                <a:cubicBezTo>
                  <a:pt x="775" y="11363"/>
                  <a:pt x="775" y="11363"/>
                  <a:pt x="775" y="11363"/>
                </a:cubicBezTo>
                <a:close/>
                <a:moveTo>
                  <a:pt x="927" y="6099"/>
                </a:moveTo>
                <a:cubicBezTo>
                  <a:pt x="927" y="6099"/>
                  <a:pt x="927" y="6099"/>
                  <a:pt x="946" y="6063"/>
                </a:cubicBezTo>
                <a:cubicBezTo>
                  <a:pt x="946" y="6063"/>
                  <a:pt x="946" y="6063"/>
                  <a:pt x="946" y="6063"/>
                </a:cubicBezTo>
                <a:cubicBezTo>
                  <a:pt x="965" y="6063"/>
                  <a:pt x="984" y="6063"/>
                  <a:pt x="1002" y="6099"/>
                </a:cubicBezTo>
                <a:cubicBezTo>
                  <a:pt x="1002" y="6099"/>
                  <a:pt x="1002" y="6099"/>
                  <a:pt x="1002" y="6099"/>
                </a:cubicBezTo>
                <a:cubicBezTo>
                  <a:pt x="984" y="6099"/>
                  <a:pt x="965" y="6099"/>
                  <a:pt x="946" y="6135"/>
                </a:cubicBezTo>
                <a:cubicBezTo>
                  <a:pt x="927" y="6135"/>
                  <a:pt x="927" y="6244"/>
                  <a:pt x="889" y="6208"/>
                </a:cubicBezTo>
                <a:cubicBezTo>
                  <a:pt x="870" y="6171"/>
                  <a:pt x="870" y="6171"/>
                  <a:pt x="851" y="6171"/>
                </a:cubicBezTo>
                <a:cubicBezTo>
                  <a:pt x="870" y="6135"/>
                  <a:pt x="870" y="6135"/>
                  <a:pt x="889" y="6099"/>
                </a:cubicBezTo>
                <a:cubicBezTo>
                  <a:pt x="889" y="6099"/>
                  <a:pt x="908" y="6135"/>
                  <a:pt x="927" y="6099"/>
                </a:cubicBezTo>
                <a:close/>
                <a:moveTo>
                  <a:pt x="2005" y="5990"/>
                </a:moveTo>
                <a:cubicBezTo>
                  <a:pt x="2024" y="5990"/>
                  <a:pt x="2024" y="6026"/>
                  <a:pt x="2043" y="6026"/>
                </a:cubicBezTo>
                <a:cubicBezTo>
                  <a:pt x="2062" y="6026"/>
                  <a:pt x="2062" y="6063"/>
                  <a:pt x="2062" y="6099"/>
                </a:cubicBezTo>
                <a:cubicBezTo>
                  <a:pt x="2043" y="6099"/>
                  <a:pt x="2043" y="6063"/>
                  <a:pt x="2024" y="6063"/>
                </a:cubicBezTo>
                <a:cubicBezTo>
                  <a:pt x="2024" y="6099"/>
                  <a:pt x="2024" y="6099"/>
                  <a:pt x="2024" y="6135"/>
                </a:cubicBezTo>
                <a:cubicBezTo>
                  <a:pt x="2024" y="6099"/>
                  <a:pt x="2024" y="6099"/>
                  <a:pt x="2005" y="6099"/>
                </a:cubicBezTo>
                <a:cubicBezTo>
                  <a:pt x="2005" y="6099"/>
                  <a:pt x="1986" y="6063"/>
                  <a:pt x="1967" y="6026"/>
                </a:cubicBezTo>
                <a:cubicBezTo>
                  <a:pt x="1986" y="6026"/>
                  <a:pt x="1986" y="5990"/>
                  <a:pt x="1986" y="5990"/>
                </a:cubicBezTo>
                <a:cubicBezTo>
                  <a:pt x="2005" y="5990"/>
                  <a:pt x="2005" y="5990"/>
                  <a:pt x="2005" y="5990"/>
                </a:cubicBezTo>
                <a:close/>
                <a:moveTo>
                  <a:pt x="2081" y="6135"/>
                </a:moveTo>
                <a:cubicBezTo>
                  <a:pt x="2081" y="6208"/>
                  <a:pt x="2081" y="6208"/>
                  <a:pt x="2081" y="6280"/>
                </a:cubicBezTo>
                <a:cubicBezTo>
                  <a:pt x="2081" y="6280"/>
                  <a:pt x="2081" y="6280"/>
                  <a:pt x="2081" y="6280"/>
                </a:cubicBezTo>
                <a:cubicBezTo>
                  <a:pt x="2081" y="6280"/>
                  <a:pt x="2081" y="6280"/>
                  <a:pt x="2081" y="6280"/>
                </a:cubicBezTo>
                <a:cubicBezTo>
                  <a:pt x="2062" y="6244"/>
                  <a:pt x="2043" y="6171"/>
                  <a:pt x="2043" y="6135"/>
                </a:cubicBezTo>
                <a:cubicBezTo>
                  <a:pt x="2062" y="6135"/>
                  <a:pt x="2062" y="6135"/>
                  <a:pt x="2081" y="6135"/>
                </a:cubicBezTo>
                <a:close/>
                <a:moveTo>
                  <a:pt x="2213" y="6389"/>
                </a:moveTo>
                <a:cubicBezTo>
                  <a:pt x="2213" y="6389"/>
                  <a:pt x="2213" y="6426"/>
                  <a:pt x="2213" y="6426"/>
                </a:cubicBezTo>
                <a:cubicBezTo>
                  <a:pt x="2213" y="6462"/>
                  <a:pt x="2232" y="6462"/>
                  <a:pt x="2251" y="6498"/>
                </a:cubicBezTo>
                <a:cubicBezTo>
                  <a:pt x="2251" y="6498"/>
                  <a:pt x="2251" y="6534"/>
                  <a:pt x="2251" y="6571"/>
                </a:cubicBezTo>
                <a:cubicBezTo>
                  <a:pt x="2232" y="6534"/>
                  <a:pt x="2194" y="6462"/>
                  <a:pt x="2175" y="6426"/>
                </a:cubicBezTo>
                <a:cubicBezTo>
                  <a:pt x="2175" y="6426"/>
                  <a:pt x="2175" y="6389"/>
                  <a:pt x="2175" y="6389"/>
                </a:cubicBezTo>
                <a:cubicBezTo>
                  <a:pt x="2175" y="6353"/>
                  <a:pt x="2156" y="6353"/>
                  <a:pt x="2156" y="6317"/>
                </a:cubicBezTo>
                <a:cubicBezTo>
                  <a:pt x="2175" y="6317"/>
                  <a:pt x="2213" y="6353"/>
                  <a:pt x="2213" y="6389"/>
                </a:cubicBezTo>
                <a:close/>
                <a:moveTo>
                  <a:pt x="2270" y="6716"/>
                </a:moveTo>
                <a:cubicBezTo>
                  <a:pt x="2251" y="6716"/>
                  <a:pt x="2251" y="6752"/>
                  <a:pt x="2251" y="6789"/>
                </a:cubicBezTo>
                <a:cubicBezTo>
                  <a:pt x="2232" y="6789"/>
                  <a:pt x="2232" y="6789"/>
                  <a:pt x="2213" y="6825"/>
                </a:cubicBezTo>
                <a:cubicBezTo>
                  <a:pt x="2213" y="6789"/>
                  <a:pt x="2175" y="6752"/>
                  <a:pt x="2194" y="6680"/>
                </a:cubicBezTo>
                <a:cubicBezTo>
                  <a:pt x="2213" y="6680"/>
                  <a:pt x="2251" y="6680"/>
                  <a:pt x="2270" y="6716"/>
                </a:cubicBezTo>
                <a:close/>
                <a:moveTo>
                  <a:pt x="2497" y="7188"/>
                </a:moveTo>
                <a:cubicBezTo>
                  <a:pt x="2534" y="7188"/>
                  <a:pt x="2553" y="7224"/>
                  <a:pt x="2591" y="7261"/>
                </a:cubicBezTo>
                <a:cubicBezTo>
                  <a:pt x="2610" y="7261"/>
                  <a:pt x="2629" y="7261"/>
                  <a:pt x="2648" y="7261"/>
                </a:cubicBezTo>
                <a:cubicBezTo>
                  <a:pt x="2667" y="7297"/>
                  <a:pt x="2667" y="7369"/>
                  <a:pt x="2705" y="7406"/>
                </a:cubicBezTo>
                <a:cubicBezTo>
                  <a:pt x="2724" y="7442"/>
                  <a:pt x="2761" y="7442"/>
                  <a:pt x="2780" y="7551"/>
                </a:cubicBezTo>
                <a:cubicBezTo>
                  <a:pt x="2761" y="7551"/>
                  <a:pt x="2761" y="7551"/>
                  <a:pt x="2761" y="7551"/>
                </a:cubicBezTo>
                <a:cubicBezTo>
                  <a:pt x="2724" y="7551"/>
                  <a:pt x="2705" y="7551"/>
                  <a:pt x="2667" y="7515"/>
                </a:cubicBezTo>
                <a:cubicBezTo>
                  <a:pt x="2667" y="7515"/>
                  <a:pt x="2667" y="7478"/>
                  <a:pt x="2667" y="7478"/>
                </a:cubicBezTo>
                <a:cubicBezTo>
                  <a:pt x="2686" y="7478"/>
                  <a:pt x="2686" y="7478"/>
                  <a:pt x="2686" y="7442"/>
                </a:cubicBezTo>
                <a:cubicBezTo>
                  <a:pt x="2667" y="7442"/>
                  <a:pt x="2648" y="7442"/>
                  <a:pt x="2648" y="7478"/>
                </a:cubicBezTo>
                <a:cubicBezTo>
                  <a:pt x="2648" y="7478"/>
                  <a:pt x="2629" y="7478"/>
                  <a:pt x="2629" y="7442"/>
                </a:cubicBezTo>
                <a:cubicBezTo>
                  <a:pt x="2629" y="7442"/>
                  <a:pt x="2629" y="7442"/>
                  <a:pt x="2629" y="7406"/>
                </a:cubicBezTo>
                <a:cubicBezTo>
                  <a:pt x="2629" y="7406"/>
                  <a:pt x="2610" y="7406"/>
                  <a:pt x="2591" y="7406"/>
                </a:cubicBezTo>
                <a:cubicBezTo>
                  <a:pt x="2591" y="7406"/>
                  <a:pt x="2591" y="7369"/>
                  <a:pt x="2591" y="7369"/>
                </a:cubicBezTo>
                <a:cubicBezTo>
                  <a:pt x="2591" y="7369"/>
                  <a:pt x="2591" y="7369"/>
                  <a:pt x="2591" y="7369"/>
                </a:cubicBezTo>
                <a:cubicBezTo>
                  <a:pt x="2591" y="7333"/>
                  <a:pt x="2572" y="7333"/>
                  <a:pt x="2572" y="7333"/>
                </a:cubicBezTo>
                <a:cubicBezTo>
                  <a:pt x="2553" y="7333"/>
                  <a:pt x="2553" y="7333"/>
                  <a:pt x="2553" y="7333"/>
                </a:cubicBezTo>
                <a:cubicBezTo>
                  <a:pt x="2534" y="7333"/>
                  <a:pt x="2478" y="7224"/>
                  <a:pt x="2478" y="7188"/>
                </a:cubicBezTo>
                <a:cubicBezTo>
                  <a:pt x="2478" y="7188"/>
                  <a:pt x="2478" y="7188"/>
                  <a:pt x="2478" y="7188"/>
                </a:cubicBezTo>
                <a:cubicBezTo>
                  <a:pt x="2478" y="7188"/>
                  <a:pt x="2497" y="7188"/>
                  <a:pt x="2497" y="7188"/>
                </a:cubicBezTo>
                <a:close/>
                <a:moveTo>
                  <a:pt x="5580" y="21128"/>
                </a:moveTo>
                <a:cubicBezTo>
                  <a:pt x="5580" y="21128"/>
                  <a:pt x="5580" y="21128"/>
                  <a:pt x="5580" y="21128"/>
                </a:cubicBezTo>
                <a:cubicBezTo>
                  <a:pt x="5580" y="21201"/>
                  <a:pt x="5580" y="21201"/>
                  <a:pt x="5561" y="21237"/>
                </a:cubicBezTo>
                <a:cubicBezTo>
                  <a:pt x="5561" y="21237"/>
                  <a:pt x="5561" y="21237"/>
                  <a:pt x="5561" y="21237"/>
                </a:cubicBezTo>
                <a:cubicBezTo>
                  <a:pt x="5561" y="21237"/>
                  <a:pt x="5561" y="21237"/>
                  <a:pt x="5561" y="21237"/>
                </a:cubicBezTo>
                <a:cubicBezTo>
                  <a:pt x="5561" y="21201"/>
                  <a:pt x="5561" y="21201"/>
                  <a:pt x="5561" y="21164"/>
                </a:cubicBezTo>
                <a:cubicBezTo>
                  <a:pt x="5561" y="21164"/>
                  <a:pt x="5561" y="21164"/>
                  <a:pt x="5561" y="21164"/>
                </a:cubicBezTo>
                <a:cubicBezTo>
                  <a:pt x="5542" y="21164"/>
                  <a:pt x="5542" y="21164"/>
                  <a:pt x="5542" y="21164"/>
                </a:cubicBezTo>
                <a:cubicBezTo>
                  <a:pt x="5523" y="21164"/>
                  <a:pt x="5542" y="21128"/>
                  <a:pt x="5542" y="21128"/>
                </a:cubicBezTo>
                <a:cubicBezTo>
                  <a:pt x="5542" y="21128"/>
                  <a:pt x="5561" y="21128"/>
                  <a:pt x="5580" y="21128"/>
                </a:cubicBezTo>
                <a:close/>
                <a:moveTo>
                  <a:pt x="5788" y="21491"/>
                </a:moveTo>
                <a:cubicBezTo>
                  <a:pt x="5807" y="21491"/>
                  <a:pt x="5807" y="21491"/>
                  <a:pt x="5807" y="21491"/>
                </a:cubicBezTo>
                <a:cubicBezTo>
                  <a:pt x="5807" y="21491"/>
                  <a:pt x="5807" y="21455"/>
                  <a:pt x="5788" y="21455"/>
                </a:cubicBezTo>
                <a:cubicBezTo>
                  <a:pt x="5769" y="21418"/>
                  <a:pt x="5769" y="21418"/>
                  <a:pt x="5750" y="21382"/>
                </a:cubicBezTo>
                <a:cubicBezTo>
                  <a:pt x="5750" y="21382"/>
                  <a:pt x="5750" y="21382"/>
                  <a:pt x="5750" y="21382"/>
                </a:cubicBezTo>
                <a:cubicBezTo>
                  <a:pt x="5769" y="21346"/>
                  <a:pt x="5769" y="21346"/>
                  <a:pt x="5788" y="21346"/>
                </a:cubicBezTo>
                <a:cubicBezTo>
                  <a:pt x="5788" y="21310"/>
                  <a:pt x="5788" y="21310"/>
                  <a:pt x="5788" y="21310"/>
                </a:cubicBezTo>
                <a:cubicBezTo>
                  <a:pt x="5788" y="21310"/>
                  <a:pt x="5788" y="21310"/>
                  <a:pt x="5788" y="21310"/>
                </a:cubicBezTo>
                <a:cubicBezTo>
                  <a:pt x="5769" y="21310"/>
                  <a:pt x="5750" y="21310"/>
                  <a:pt x="5731" y="21310"/>
                </a:cubicBezTo>
                <a:cubicBezTo>
                  <a:pt x="5731" y="21310"/>
                  <a:pt x="5731" y="21310"/>
                  <a:pt x="5731" y="21310"/>
                </a:cubicBezTo>
                <a:cubicBezTo>
                  <a:pt x="5731" y="21237"/>
                  <a:pt x="5769" y="21201"/>
                  <a:pt x="5788" y="21164"/>
                </a:cubicBezTo>
                <a:cubicBezTo>
                  <a:pt x="5807" y="21201"/>
                  <a:pt x="5844" y="21201"/>
                  <a:pt x="5863" y="21237"/>
                </a:cubicBezTo>
                <a:cubicBezTo>
                  <a:pt x="5863" y="21237"/>
                  <a:pt x="5863" y="21237"/>
                  <a:pt x="5863" y="21237"/>
                </a:cubicBezTo>
                <a:cubicBezTo>
                  <a:pt x="5844" y="21273"/>
                  <a:pt x="5826" y="21273"/>
                  <a:pt x="5844" y="21310"/>
                </a:cubicBezTo>
                <a:cubicBezTo>
                  <a:pt x="5882" y="21310"/>
                  <a:pt x="5882" y="21346"/>
                  <a:pt x="5901" y="21382"/>
                </a:cubicBezTo>
                <a:cubicBezTo>
                  <a:pt x="5939" y="21455"/>
                  <a:pt x="5977" y="21527"/>
                  <a:pt x="6053" y="21527"/>
                </a:cubicBezTo>
                <a:cubicBezTo>
                  <a:pt x="6053" y="21527"/>
                  <a:pt x="6053" y="21527"/>
                  <a:pt x="6053" y="21527"/>
                </a:cubicBezTo>
                <a:cubicBezTo>
                  <a:pt x="6053" y="21527"/>
                  <a:pt x="6053" y="21564"/>
                  <a:pt x="6034" y="21564"/>
                </a:cubicBezTo>
                <a:cubicBezTo>
                  <a:pt x="6015" y="21564"/>
                  <a:pt x="5977" y="21600"/>
                  <a:pt x="5958" y="21564"/>
                </a:cubicBezTo>
                <a:cubicBezTo>
                  <a:pt x="5958" y="21564"/>
                  <a:pt x="5939" y="21564"/>
                  <a:pt x="5939" y="21564"/>
                </a:cubicBezTo>
                <a:cubicBezTo>
                  <a:pt x="5901" y="21564"/>
                  <a:pt x="5882" y="21527"/>
                  <a:pt x="5863" y="21527"/>
                </a:cubicBezTo>
                <a:cubicBezTo>
                  <a:pt x="5844" y="21564"/>
                  <a:pt x="5826" y="21564"/>
                  <a:pt x="5807" y="21564"/>
                </a:cubicBezTo>
                <a:cubicBezTo>
                  <a:pt x="5788" y="21564"/>
                  <a:pt x="5788" y="21527"/>
                  <a:pt x="5769" y="21527"/>
                </a:cubicBezTo>
                <a:cubicBezTo>
                  <a:pt x="5750" y="21527"/>
                  <a:pt x="5731" y="21564"/>
                  <a:pt x="5712" y="21564"/>
                </a:cubicBezTo>
                <a:cubicBezTo>
                  <a:pt x="5712" y="21564"/>
                  <a:pt x="5712" y="21564"/>
                  <a:pt x="5712" y="21564"/>
                </a:cubicBezTo>
                <a:cubicBezTo>
                  <a:pt x="5712" y="21527"/>
                  <a:pt x="5712" y="21491"/>
                  <a:pt x="5712" y="21491"/>
                </a:cubicBezTo>
                <a:cubicBezTo>
                  <a:pt x="5750" y="21491"/>
                  <a:pt x="5788" y="21455"/>
                  <a:pt x="5788" y="21491"/>
                </a:cubicBezTo>
                <a:close/>
                <a:moveTo>
                  <a:pt x="10403" y="12488"/>
                </a:moveTo>
                <a:cubicBezTo>
                  <a:pt x="10403" y="12488"/>
                  <a:pt x="10403" y="12488"/>
                  <a:pt x="10403" y="12488"/>
                </a:cubicBezTo>
                <a:cubicBezTo>
                  <a:pt x="10403" y="12524"/>
                  <a:pt x="10403" y="12561"/>
                  <a:pt x="10384" y="12561"/>
                </a:cubicBezTo>
                <a:cubicBezTo>
                  <a:pt x="10384" y="12561"/>
                  <a:pt x="10384" y="12561"/>
                  <a:pt x="10384" y="12561"/>
                </a:cubicBezTo>
                <a:cubicBezTo>
                  <a:pt x="10384" y="12524"/>
                  <a:pt x="10384" y="12524"/>
                  <a:pt x="10384" y="12524"/>
                </a:cubicBezTo>
                <a:cubicBezTo>
                  <a:pt x="10384" y="12524"/>
                  <a:pt x="10384" y="12488"/>
                  <a:pt x="10403" y="12488"/>
                </a:cubicBezTo>
                <a:close/>
                <a:moveTo>
                  <a:pt x="12559" y="15465"/>
                </a:moveTo>
                <a:cubicBezTo>
                  <a:pt x="12578" y="15465"/>
                  <a:pt x="12616" y="15283"/>
                  <a:pt x="12616" y="15247"/>
                </a:cubicBezTo>
                <a:cubicBezTo>
                  <a:pt x="12616" y="15247"/>
                  <a:pt x="12597" y="15211"/>
                  <a:pt x="12597" y="15211"/>
                </a:cubicBezTo>
                <a:cubicBezTo>
                  <a:pt x="12597" y="15174"/>
                  <a:pt x="12597" y="15174"/>
                  <a:pt x="12597" y="15174"/>
                </a:cubicBezTo>
                <a:cubicBezTo>
                  <a:pt x="12597" y="15138"/>
                  <a:pt x="12578" y="15066"/>
                  <a:pt x="12578" y="14993"/>
                </a:cubicBezTo>
                <a:cubicBezTo>
                  <a:pt x="12597" y="14957"/>
                  <a:pt x="12616" y="14957"/>
                  <a:pt x="12616" y="14848"/>
                </a:cubicBezTo>
                <a:cubicBezTo>
                  <a:pt x="12616" y="14848"/>
                  <a:pt x="12635" y="14848"/>
                  <a:pt x="12635" y="14848"/>
                </a:cubicBezTo>
                <a:cubicBezTo>
                  <a:pt x="12635" y="14848"/>
                  <a:pt x="12654" y="14848"/>
                  <a:pt x="12654" y="14811"/>
                </a:cubicBezTo>
                <a:cubicBezTo>
                  <a:pt x="12654" y="14811"/>
                  <a:pt x="12673" y="14848"/>
                  <a:pt x="12673" y="14848"/>
                </a:cubicBezTo>
                <a:cubicBezTo>
                  <a:pt x="12673" y="14811"/>
                  <a:pt x="12673" y="14811"/>
                  <a:pt x="12691" y="14811"/>
                </a:cubicBezTo>
                <a:cubicBezTo>
                  <a:pt x="12710" y="14811"/>
                  <a:pt x="12710" y="14811"/>
                  <a:pt x="12729" y="14811"/>
                </a:cubicBezTo>
                <a:cubicBezTo>
                  <a:pt x="12729" y="14811"/>
                  <a:pt x="12729" y="14811"/>
                  <a:pt x="12729" y="14775"/>
                </a:cubicBezTo>
                <a:cubicBezTo>
                  <a:pt x="12729" y="14775"/>
                  <a:pt x="12748" y="14775"/>
                  <a:pt x="12748" y="14739"/>
                </a:cubicBezTo>
                <a:cubicBezTo>
                  <a:pt x="12767" y="14739"/>
                  <a:pt x="12767" y="14775"/>
                  <a:pt x="12767" y="14775"/>
                </a:cubicBezTo>
                <a:cubicBezTo>
                  <a:pt x="12767" y="14739"/>
                  <a:pt x="12767" y="14739"/>
                  <a:pt x="12786" y="14739"/>
                </a:cubicBezTo>
                <a:cubicBezTo>
                  <a:pt x="12767" y="14739"/>
                  <a:pt x="12767" y="14739"/>
                  <a:pt x="12767" y="14703"/>
                </a:cubicBezTo>
                <a:cubicBezTo>
                  <a:pt x="12767" y="14703"/>
                  <a:pt x="12786" y="14703"/>
                  <a:pt x="12786" y="14703"/>
                </a:cubicBezTo>
                <a:cubicBezTo>
                  <a:pt x="12786" y="14703"/>
                  <a:pt x="12786" y="14703"/>
                  <a:pt x="12786" y="14703"/>
                </a:cubicBezTo>
                <a:cubicBezTo>
                  <a:pt x="12786" y="14703"/>
                  <a:pt x="12786" y="14703"/>
                  <a:pt x="12805" y="14703"/>
                </a:cubicBezTo>
                <a:cubicBezTo>
                  <a:pt x="12805" y="14703"/>
                  <a:pt x="12805" y="14666"/>
                  <a:pt x="12824" y="14666"/>
                </a:cubicBezTo>
                <a:cubicBezTo>
                  <a:pt x="12805" y="14666"/>
                  <a:pt x="12805" y="14630"/>
                  <a:pt x="12805" y="14630"/>
                </a:cubicBezTo>
                <a:cubicBezTo>
                  <a:pt x="12805" y="14630"/>
                  <a:pt x="12805" y="14630"/>
                  <a:pt x="12805" y="14630"/>
                </a:cubicBezTo>
                <a:cubicBezTo>
                  <a:pt x="12824" y="14630"/>
                  <a:pt x="12824" y="14630"/>
                  <a:pt x="12824" y="14630"/>
                </a:cubicBezTo>
                <a:cubicBezTo>
                  <a:pt x="12824" y="14594"/>
                  <a:pt x="12824" y="14594"/>
                  <a:pt x="12824" y="14594"/>
                </a:cubicBezTo>
                <a:cubicBezTo>
                  <a:pt x="12824" y="14594"/>
                  <a:pt x="12824" y="14557"/>
                  <a:pt x="12824" y="14521"/>
                </a:cubicBezTo>
                <a:cubicBezTo>
                  <a:pt x="12824" y="14521"/>
                  <a:pt x="12824" y="14521"/>
                  <a:pt x="12824" y="14521"/>
                </a:cubicBezTo>
                <a:cubicBezTo>
                  <a:pt x="12843" y="14557"/>
                  <a:pt x="12843" y="14557"/>
                  <a:pt x="12843" y="14557"/>
                </a:cubicBezTo>
                <a:cubicBezTo>
                  <a:pt x="12843" y="14557"/>
                  <a:pt x="12862" y="14521"/>
                  <a:pt x="12862" y="14521"/>
                </a:cubicBezTo>
                <a:cubicBezTo>
                  <a:pt x="12881" y="14485"/>
                  <a:pt x="12881" y="14448"/>
                  <a:pt x="12881" y="14412"/>
                </a:cubicBezTo>
                <a:cubicBezTo>
                  <a:pt x="12899" y="14376"/>
                  <a:pt x="12899" y="14376"/>
                  <a:pt x="12918" y="14412"/>
                </a:cubicBezTo>
                <a:cubicBezTo>
                  <a:pt x="12918" y="14412"/>
                  <a:pt x="12937" y="14412"/>
                  <a:pt x="12937" y="14448"/>
                </a:cubicBezTo>
                <a:cubicBezTo>
                  <a:pt x="12956" y="14485"/>
                  <a:pt x="12956" y="14630"/>
                  <a:pt x="12956" y="14666"/>
                </a:cubicBezTo>
                <a:cubicBezTo>
                  <a:pt x="12975" y="14703"/>
                  <a:pt x="12975" y="14703"/>
                  <a:pt x="12975" y="14739"/>
                </a:cubicBezTo>
                <a:cubicBezTo>
                  <a:pt x="12975" y="14775"/>
                  <a:pt x="12975" y="14811"/>
                  <a:pt x="12956" y="14811"/>
                </a:cubicBezTo>
                <a:cubicBezTo>
                  <a:pt x="12956" y="14811"/>
                  <a:pt x="12937" y="14775"/>
                  <a:pt x="12937" y="14739"/>
                </a:cubicBezTo>
                <a:cubicBezTo>
                  <a:pt x="12937" y="14739"/>
                  <a:pt x="12937" y="14739"/>
                  <a:pt x="12937" y="14775"/>
                </a:cubicBezTo>
                <a:cubicBezTo>
                  <a:pt x="12937" y="14775"/>
                  <a:pt x="12918" y="14775"/>
                  <a:pt x="12918" y="14775"/>
                </a:cubicBezTo>
                <a:cubicBezTo>
                  <a:pt x="12918" y="14811"/>
                  <a:pt x="12937" y="14848"/>
                  <a:pt x="12937" y="14884"/>
                </a:cubicBezTo>
                <a:cubicBezTo>
                  <a:pt x="12937" y="14920"/>
                  <a:pt x="12918" y="14957"/>
                  <a:pt x="12918" y="14993"/>
                </a:cubicBezTo>
                <a:cubicBezTo>
                  <a:pt x="12899" y="15029"/>
                  <a:pt x="12918" y="15066"/>
                  <a:pt x="12899" y="15102"/>
                </a:cubicBezTo>
                <a:cubicBezTo>
                  <a:pt x="12881" y="15283"/>
                  <a:pt x="12843" y="15501"/>
                  <a:pt x="12805" y="15683"/>
                </a:cubicBezTo>
                <a:cubicBezTo>
                  <a:pt x="12805" y="15755"/>
                  <a:pt x="12786" y="15937"/>
                  <a:pt x="12748" y="15973"/>
                </a:cubicBezTo>
                <a:cubicBezTo>
                  <a:pt x="12748" y="15973"/>
                  <a:pt x="12729" y="15973"/>
                  <a:pt x="12710" y="15973"/>
                </a:cubicBezTo>
                <a:cubicBezTo>
                  <a:pt x="12691" y="15973"/>
                  <a:pt x="12673" y="16009"/>
                  <a:pt x="12654" y="16009"/>
                </a:cubicBezTo>
                <a:cubicBezTo>
                  <a:pt x="12635" y="15973"/>
                  <a:pt x="12597" y="15973"/>
                  <a:pt x="12578" y="15937"/>
                </a:cubicBezTo>
                <a:cubicBezTo>
                  <a:pt x="12578" y="15937"/>
                  <a:pt x="12578" y="15901"/>
                  <a:pt x="12578" y="15901"/>
                </a:cubicBezTo>
                <a:cubicBezTo>
                  <a:pt x="12578" y="15864"/>
                  <a:pt x="12559" y="15864"/>
                  <a:pt x="12559" y="15792"/>
                </a:cubicBezTo>
                <a:cubicBezTo>
                  <a:pt x="12559" y="15755"/>
                  <a:pt x="12559" y="15755"/>
                  <a:pt x="12559" y="15719"/>
                </a:cubicBezTo>
                <a:cubicBezTo>
                  <a:pt x="12559" y="15683"/>
                  <a:pt x="12540" y="15646"/>
                  <a:pt x="12540" y="15610"/>
                </a:cubicBezTo>
                <a:cubicBezTo>
                  <a:pt x="12521" y="15574"/>
                  <a:pt x="12540" y="15501"/>
                  <a:pt x="12559" y="15501"/>
                </a:cubicBezTo>
                <a:cubicBezTo>
                  <a:pt x="12559" y="15501"/>
                  <a:pt x="12559" y="15465"/>
                  <a:pt x="12559" y="15465"/>
                </a:cubicBezTo>
                <a:close/>
                <a:moveTo>
                  <a:pt x="14791" y="11835"/>
                </a:moveTo>
                <a:cubicBezTo>
                  <a:pt x="14791" y="11871"/>
                  <a:pt x="14791" y="11835"/>
                  <a:pt x="14810" y="11835"/>
                </a:cubicBezTo>
                <a:cubicBezTo>
                  <a:pt x="14810" y="11798"/>
                  <a:pt x="14810" y="11798"/>
                  <a:pt x="14810" y="11762"/>
                </a:cubicBezTo>
                <a:cubicBezTo>
                  <a:pt x="14848" y="11798"/>
                  <a:pt x="14867" y="11835"/>
                  <a:pt x="14867" y="11907"/>
                </a:cubicBezTo>
                <a:cubicBezTo>
                  <a:pt x="14885" y="11944"/>
                  <a:pt x="14885" y="11944"/>
                  <a:pt x="14885" y="11980"/>
                </a:cubicBezTo>
                <a:cubicBezTo>
                  <a:pt x="14904" y="12016"/>
                  <a:pt x="14923" y="12016"/>
                  <a:pt x="14923" y="12052"/>
                </a:cubicBezTo>
                <a:cubicBezTo>
                  <a:pt x="14923" y="12161"/>
                  <a:pt x="14867" y="12234"/>
                  <a:pt x="14829" y="12198"/>
                </a:cubicBezTo>
                <a:cubicBezTo>
                  <a:pt x="14810" y="12198"/>
                  <a:pt x="14791" y="12125"/>
                  <a:pt x="14791" y="12089"/>
                </a:cubicBezTo>
                <a:cubicBezTo>
                  <a:pt x="14791" y="12016"/>
                  <a:pt x="14791" y="11980"/>
                  <a:pt x="14791" y="11944"/>
                </a:cubicBezTo>
                <a:cubicBezTo>
                  <a:pt x="14791" y="11907"/>
                  <a:pt x="14791" y="11907"/>
                  <a:pt x="14791" y="11871"/>
                </a:cubicBezTo>
                <a:cubicBezTo>
                  <a:pt x="14791" y="11871"/>
                  <a:pt x="14791" y="11871"/>
                  <a:pt x="14772" y="11871"/>
                </a:cubicBezTo>
                <a:cubicBezTo>
                  <a:pt x="14772" y="11871"/>
                  <a:pt x="14791" y="11871"/>
                  <a:pt x="14791" y="11835"/>
                </a:cubicBezTo>
                <a:close/>
                <a:moveTo>
                  <a:pt x="16512" y="13178"/>
                </a:moveTo>
                <a:cubicBezTo>
                  <a:pt x="16550" y="13178"/>
                  <a:pt x="16569" y="13178"/>
                  <a:pt x="16588" y="13178"/>
                </a:cubicBezTo>
                <a:cubicBezTo>
                  <a:pt x="16607" y="13214"/>
                  <a:pt x="16626" y="13214"/>
                  <a:pt x="16644" y="13250"/>
                </a:cubicBezTo>
                <a:cubicBezTo>
                  <a:pt x="16644" y="13287"/>
                  <a:pt x="16644" y="13287"/>
                  <a:pt x="16644" y="13287"/>
                </a:cubicBezTo>
                <a:cubicBezTo>
                  <a:pt x="16663" y="13323"/>
                  <a:pt x="16663" y="13323"/>
                  <a:pt x="16682" y="13359"/>
                </a:cubicBezTo>
                <a:cubicBezTo>
                  <a:pt x="16701" y="13396"/>
                  <a:pt x="16720" y="13396"/>
                  <a:pt x="16739" y="13432"/>
                </a:cubicBezTo>
                <a:cubicBezTo>
                  <a:pt x="16739" y="13432"/>
                  <a:pt x="16739" y="13468"/>
                  <a:pt x="16739" y="13468"/>
                </a:cubicBezTo>
                <a:cubicBezTo>
                  <a:pt x="16777" y="13468"/>
                  <a:pt x="16777" y="13541"/>
                  <a:pt x="16796" y="13541"/>
                </a:cubicBezTo>
                <a:cubicBezTo>
                  <a:pt x="16796" y="13541"/>
                  <a:pt x="16796" y="13541"/>
                  <a:pt x="16815" y="13541"/>
                </a:cubicBezTo>
                <a:cubicBezTo>
                  <a:pt x="16815" y="13541"/>
                  <a:pt x="16815" y="13541"/>
                  <a:pt x="16815" y="13505"/>
                </a:cubicBezTo>
                <a:cubicBezTo>
                  <a:pt x="16815" y="13505"/>
                  <a:pt x="16815" y="13505"/>
                  <a:pt x="16815" y="13505"/>
                </a:cubicBezTo>
                <a:cubicBezTo>
                  <a:pt x="16834" y="13541"/>
                  <a:pt x="16834" y="13577"/>
                  <a:pt x="16853" y="13577"/>
                </a:cubicBezTo>
                <a:cubicBezTo>
                  <a:pt x="16853" y="13613"/>
                  <a:pt x="16871" y="13613"/>
                  <a:pt x="16871" y="13613"/>
                </a:cubicBezTo>
                <a:cubicBezTo>
                  <a:pt x="16871" y="13613"/>
                  <a:pt x="16871" y="13613"/>
                  <a:pt x="16871" y="13613"/>
                </a:cubicBezTo>
                <a:cubicBezTo>
                  <a:pt x="16871" y="13613"/>
                  <a:pt x="16871" y="13613"/>
                  <a:pt x="16871" y="13613"/>
                </a:cubicBezTo>
                <a:cubicBezTo>
                  <a:pt x="16890" y="13650"/>
                  <a:pt x="16890" y="13650"/>
                  <a:pt x="16890" y="13686"/>
                </a:cubicBezTo>
                <a:cubicBezTo>
                  <a:pt x="16909" y="13722"/>
                  <a:pt x="16928" y="13686"/>
                  <a:pt x="16947" y="13722"/>
                </a:cubicBezTo>
                <a:cubicBezTo>
                  <a:pt x="16966" y="13722"/>
                  <a:pt x="16966" y="13759"/>
                  <a:pt x="16985" y="13759"/>
                </a:cubicBezTo>
                <a:cubicBezTo>
                  <a:pt x="16985" y="13795"/>
                  <a:pt x="16966" y="13831"/>
                  <a:pt x="16947" y="13868"/>
                </a:cubicBezTo>
                <a:cubicBezTo>
                  <a:pt x="16966" y="13868"/>
                  <a:pt x="16966" y="13904"/>
                  <a:pt x="16985" y="13904"/>
                </a:cubicBezTo>
                <a:cubicBezTo>
                  <a:pt x="17004" y="13904"/>
                  <a:pt x="17004" y="13904"/>
                  <a:pt x="17023" y="13904"/>
                </a:cubicBezTo>
                <a:cubicBezTo>
                  <a:pt x="17023" y="13940"/>
                  <a:pt x="17023" y="14013"/>
                  <a:pt x="17042" y="14013"/>
                </a:cubicBezTo>
                <a:cubicBezTo>
                  <a:pt x="17042" y="14013"/>
                  <a:pt x="17042" y="14013"/>
                  <a:pt x="17042" y="14013"/>
                </a:cubicBezTo>
                <a:cubicBezTo>
                  <a:pt x="17042" y="14049"/>
                  <a:pt x="17042" y="14049"/>
                  <a:pt x="17042" y="14085"/>
                </a:cubicBezTo>
                <a:cubicBezTo>
                  <a:pt x="17042" y="14085"/>
                  <a:pt x="17042" y="14085"/>
                  <a:pt x="17042" y="14085"/>
                </a:cubicBezTo>
                <a:cubicBezTo>
                  <a:pt x="17042" y="14085"/>
                  <a:pt x="17061" y="14085"/>
                  <a:pt x="17061" y="14049"/>
                </a:cubicBezTo>
                <a:cubicBezTo>
                  <a:pt x="17079" y="14085"/>
                  <a:pt x="17079" y="14085"/>
                  <a:pt x="17098" y="14085"/>
                </a:cubicBezTo>
                <a:cubicBezTo>
                  <a:pt x="17098" y="14085"/>
                  <a:pt x="17098" y="14122"/>
                  <a:pt x="17117" y="14158"/>
                </a:cubicBezTo>
                <a:cubicBezTo>
                  <a:pt x="17117" y="14194"/>
                  <a:pt x="17117" y="14231"/>
                  <a:pt x="17098" y="14267"/>
                </a:cubicBezTo>
                <a:cubicBezTo>
                  <a:pt x="17098" y="14303"/>
                  <a:pt x="17136" y="14448"/>
                  <a:pt x="17098" y="14485"/>
                </a:cubicBezTo>
                <a:cubicBezTo>
                  <a:pt x="17098" y="14448"/>
                  <a:pt x="17079" y="14448"/>
                  <a:pt x="17079" y="14412"/>
                </a:cubicBezTo>
                <a:cubicBezTo>
                  <a:pt x="17079" y="14448"/>
                  <a:pt x="17079" y="14448"/>
                  <a:pt x="17079" y="14448"/>
                </a:cubicBezTo>
                <a:cubicBezTo>
                  <a:pt x="17079" y="14448"/>
                  <a:pt x="17061" y="14448"/>
                  <a:pt x="17061" y="14485"/>
                </a:cubicBezTo>
                <a:cubicBezTo>
                  <a:pt x="17061" y="14448"/>
                  <a:pt x="17042" y="14448"/>
                  <a:pt x="17023" y="14448"/>
                </a:cubicBezTo>
                <a:cubicBezTo>
                  <a:pt x="17042" y="14448"/>
                  <a:pt x="17042" y="14448"/>
                  <a:pt x="17042" y="14485"/>
                </a:cubicBezTo>
                <a:cubicBezTo>
                  <a:pt x="17042" y="14485"/>
                  <a:pt x="16947" y="14339"/>
                  <a:pt x="16928" y="14303"/>
                </a:cubicBezTo>
                <a:cubicBezTo>
                  <a:pt x="16909" y="14267"/>
                  <a:pt x="16909" y="14267"/>
                  <a:pt x="16890" y="14231"/>
                </a:cubicBezTo>
                <a:cubicBezTo>
                  <a:pt x="16890" y="14231"/>
                  <a:pt x="16890" y="14194"/>
                  <a:pt x="16890" y="14194"/>
                </a:cubicBezTo>
                <a:cubicBezTo>
                  <a:pt x="16853" y="14158"/>
                  <a:pt x="16815" y="14122"/>
                  <a:pt x="16796" y="14049"/>
                </a:cubicBezTo>
                <a:cubicBezTo>
                  <a:pt x="16796" y="14013"/>
                  <a:pt x="16796" y="13976"/>
                  <a:pt x="16796" y="13976"/>
                </a:cubicBezTo>
                <a:cubicBezTo>
                  <a:pt x="16777" y="13904"/>
                  <a:pt x="16758" y="13831"/>
                  <a:pt x="16739" y="13795"/>
                </a:cubicBezTo>
                <a:cubicBezTo>
                  <a:pt x="16720" y="13759"/>
                  <a:pt x="16701" y="13759"/>
                  <a:pt x="16701" y="13759"/>
                </a:cubicBezTo>
                <a:cubicBezTo>
                  <a:pt x="16701" y="13722"/>
                  <a:pt x="16701" y="13722"/>
                  <a:pt x="16682" y="13686"/>
                </a:cubicBezTo>
                <a:cubicBezTo>
                  <a:pt x="16663" y="13577"/>
                  <a:pt x="16663" y="13541"/>
                  <a:pt x="16607" y="13505"/>
                </a:cubicBezTo>
                <a:cubicBezTo>
                  <a:pt x="16588" y="13432"/>
                  <a:pt x="16588" y="13359"/>
                  <a:pt x="16550" y="13323"/>
                </a:cubicBezTo>
                <a:cubicBezTo>
                  <a:pt x="16531" y="13359"/>
                  <a:pt x="16531" y="13323"/>
                  <a:pt x="16512" y="13287"/>
                </a:cubicBezTo>
                <a:cubicBezTo>
                  <a:pt x="16493" y="13250"/>
                  <a:pt x="16436" y="13178"/>
                  <a:pt x="16455" y="13105"/>
                </a:cubicBezTo>
                <a:cubicBezTo>
                  <a:pt x="16493" y="13105"/>
                  <a:pt x="16493" y="13142"/>
                  <a:pt x="16512" y="13178"/>
                </a:cubicBezTo>
                <a:close/>
                <a:moveTo>
                  <a:pt x="17117" y="14085"/>
                </a:moveTo>
                <a:cubicBezTo>
                  <a:pt x="17117" y="14085"/>
                  <a:pt x="17117" y="14049"/>
                  <a:pt x="17117" y="14049"/>
                </a:cubicBezTo>
                <a:cubicBezTo>
                  <a:pt x="17098" y="14049"/>
                  <a:pt x="17079" y="14049"/>
                  <a:pt x="17079" y="14013"/>
                </a:cubicBezTo>
                <a:cubicBezTo>
                  <a:pt x="17079" y="14013"/>
                  <a:pt x="17079" y="13976"/>
                  <a:pt x="17098" y="13976"/>
                </a:cubicBezTo>
                <a:cubicBezTo>
                  <a:pt x="17098" y="13976"/>
                  <a:pt x="17098" y="13976"/>
                  <a:pt x="17098" y="14013"/>
                </a:cubicBezTo>
                <a:cubicBezTo>
                  <a:pt x="17098" y="13976"/>
                  <a:pt x="17117" y="13976"/>
                  <a:pt x="17117" y="13976"/>
                </a:cubicBezTo>
                <a:cubicBezTo>
                  <a:pt x="17136" y="14013"/>
                  <a:pt x="17136" y="14085"/>
                  <a:pt x="17174" y="14085"/>
                </a:cubicBezTo>
                <a:cubicBezTo>
                  <a:pt x="17155" y="14085"/>
                  <a:pt x="17155" y="14085"/>
                  <a:pt x="17155" y="14085"/>
                </a:cubicBezTo>
                <a:cubicBezTo>
                  <a:pt x="17155" y="14085"/>
                  <a:pt x="17155" y="14122"/>
                  <a:pt x="17155" y="14122"/>
                </a:cubicBezTo>
                <a:cubicBezTo>
                  <a:pt x="17155" y="14122"/>
                  <a:pt x="17155" y="14122"/>
                  <a:pt x="17155" y="14158"/>
                </a:cubicBezTo>
                <a:cubicBezTo>
                  <a:pt x="17155" y="14122"/>
                  <a:pt x="17117" y="14122"/>
                  <a:pt x="17117" y="14085"/>
                </a:cubicBezTo>
                <a:close/>
                <a:moveTo>
                  <a:pt x="16663" y="10673"/>
                </a:moveTo>
                <a:cubicBezTo>
                  <a:pt x="16663" y="10673"/>
                  <a:pt x="16644" y="10709"/>
                  <a:pt x="16626" y="10709"/>
                </a:cubicBezTo>
                <a:cubicBezTo>
                  <a:pt x="16626" y="10709"/>
                  <a:pt x="16626" y="10746"/>
                  <a:pt x="16607" y="10746"/>
                </a:cubicBezTo>
                <a:cubicBezTo>
                  <a:pt x="16607" y="10746"/>
                  <a:pt x="16588" y="10709"/>
                  <a:pt x="16569" y="10709"/>
                </a:cubicBezTo>
                <a:cubicBezTo>
                  <a:pt x="16569" y="10673"/>
                  <a:pt x="16550" y="10637"/>
                  <a:pt x="16569" y="10600"/>
                </a:cubicBezTo>
                <a:cubicBezTo>
                  <a:pt x="16588" y="10600"/>
                  <a:pt x="16588" y="10564"/>
                  <a:pt x="16607" y="10564"/>
                </a:cubicBezTo>
                <a:cubicBezTo>
                  <a:pt x="16626" y="10528"/>
                  <a:pt x="16626" y="10528"/>
                  <a:pt x="16626" y="10528"/>
                </a:cubicBezTo>
                <a:cubicBezTo>
                  <a:pt x="16644" y="10528"/>
                  <a:pt x="16644" y="10528"/>
                  <a:pt x="16644" y="10528"/>
                </a:cubicBezTo>
                <a:cubicBezTo>
                  <a:pt x="16663" y="10528"/>
                  <a:pt x="16663" y="10528"/>
                  <a:pt x="16682" y="10528"/>
                </a:cubicBezTo>
                <a:cubicBezTo>
                  <a:pt x="16682" y="10528"/>
                  <a:pt x="16682" y="10528"/>
                  <a:pt x="16682" y="10528"/>
                </a:cubicBezTo>
                <a:cubicBezTo>
                  <a:pt x="16701" y="10528"/>
                  <a:pt x="16701" y="10528"/>
                  <a:pt x="16701" y="10564"/>
                </a:cubicBezTo>
                <a:cubicBezTo>
                  <a:pt x="16701" y="10564"/>
                  <a:pt x="16701" y="10564"/>
                  <a:pt x="16701" y="10564"/>
                </a:cubicBezTo>
                <a:cubicBezTo>
                  <a:pt x="16682" y="10564"/>
                  <a:pt x="16682" y="10600"/>
                  <a:pt x="16663" y="10637"/>
                </a:cubicBezTo>
                <a:cubicBezTo>
                  <a:pt x="16663" y="10673"/>
                  <a:pt x="16682" y="10673"/>
                  <a:pt x="16663" y="10673"/>
                </a:cubicBezTo>
                <a:close/>
                <a:moveTo>
                  <a:pt x="17155" y="11835"/>
                </a:moveTo>
                <a:cubicBezTo>
                  <a:pt x="17136" y="11835"/>
                  <a:pt x="17136" y="11835"/>
                  <a:pt x="17136" y="11871"/>
                </a:cubicBezTo>
                <a:cubicBezTo>
                  <a:pt x="17136" y="11871"/>
                  <a:pt x="17098" y="11907"/>
                  <a:pt x="17098" y="11907"/>
                </a:cubicBezTo>
                <a:cubicBezTo>
                  <a:pt x="17098" y="11907"/>
                  <a:pt x="17098" y="11907"/>
                  <a:pt x="17098" y="11907"/>
                </a:cubicBezTo>
                <a:cubicBezTo>
                  <a:pt x="17117" y="11835"/>
                  <a:pt x="17155" y="11798"/>
                  <a:pt x="17174" y="11726"/>
                </a:cubicBezTo>
                <a:cubicBezTo>
                  <a:pt x="17174" y="11726"/>
                  <a:pt x="17174" y="11762"/>
                  <a:pt x="17174" y="11798"/>
                </a:cubicBezTo>
                <a:cubicBezTo>
                  <a:pt x="17174" y="11798"/>
                  <a:pt x="17155" y="11798"/>
                  <a:pt x="17155" y="11835"/>
                </a:cubicBezTo>
                <a:close/>
                <a:moveTo>
                  <a:pt x="17212" y="12307"/>
                </a:moveTo>
                <a:cubicBezTo>
                  <a:pt x="17212" y="12307"/>
                  <a:pt x="17212" y="12307"/>
                  <a:pt x="17212" y="12307"/>
                </a:cubicBezTo>
                <a:cubicBezTo>
                  <a:pt x="17193" y="12307"/>
                  <a:pt x="17136" y="12343"/>
                  <a:pt x="17136" y="12343"/>
                </a:cubicBezTo>
                <a:cubicBezTo>
                  <a:pt x="17136" y="12343"/>
                  <a:pt x="17136" y="12343"/>
                  <a:pt x="17136" y="12343"/>
                </a:cubicBezTo>
                <a:cubicBezTo>
                  <a:pt x="17155" y="12379"/>
                  <a:pt x="17155" y="12379"/>
                  <a:pt x="17174" y="12379"/>
                </a:cubicBezTo>
                <a:cubicBezTo>
                  <a:pt x="17174" y="12379"/>
                  <a:pt x="17174" y="12379"/>
                  <a:pt x="17174" y="12415"/>
                </a:cubicBezTo>
                <a:cubicBezTo>
                  <a:pt x="17155" y="12452"/>
                  <a:pt x="17117" y="12415"/>
                  <a:pt x="17117" y="12452"/>
                </a:cubicBezTo>
                <a:cubicBezTo>
                  <a:pt x="17098" y="12415"/>
                  <a:pt x="17023" y="12379"/>
                  <a:pt x="17004" y="12415"/>
                </a:cubicBezTo>
                <a:cubicBezTo>
                  <a:pt x="16985" y="12452"/>
                  <a:pt x="17004" y="12488"/>
                  <a:pt x="16985" y="12524"/>
                </a:cubicBezTo>
                <a:cubicBezTo>
                  <a:pt x="16985" y="12561"/>
                  <a:pt x="16966" y="12561"/>
                  <a:pt x="16966" y="12561"/>
                </a:cubicBezTo>
                <a:cubicBezTo>
                  <a:pt x="16966" y="12597"/>
                  <a:pt x="16966" y="12597"/>
                  <a:pt x="16966" y="12633"/>
                </a:cubicBezTo>
                <a:cubicBezTo>
                  <a:pt x="16966" y="12670"/>
                  <a:pt x="16947" y="12706"/>
                  <a:pt x="16928" y="12742"/>
                </a:cubicBezTo>
                <a:cubicBezTo>
                  <a:pt x="16928" y="12742"/>
                  <a:pt x="16871" y="12778"/>
                  <a:pt x="16871" y="12778"/>
                </a:cubicBezTo>
                <a:cubicBezTo>
                  <a:pt x="16853" y="12778"/>
                  <a:pt x="16815" y="12706"/>
                  <a:pt x="16796" y="12742"/>
                </a:cubicBezTo>
                <a:cubicBezTo>
                  <a:pt x="16777" y="12778"/>
                  <a:pt x="16758" y="12815"/>
                  <a:pt x="16739" y="12815"/>
                </a:cubicBezTo>
                <a:cubicBezTo>
                  <a:pt x="16739" y="12815"/>
                  <a:pt x="16720" y="12815"/>
                  <a:pt x="16701" y="12815"/>
                </a:cubicBezTo>
                <a:cubicBezTo>
                  <a:pt x="16701" y="12815"/>
                  <a:pt x="16682" y="12815"/>
                  <a:pt x="16682" y="12815"/>
                </a:cubicBezTo>
                <a:cubicBezTo>
                  <a:pt x="16663" y="12778"/>
                  <a:pt x="16626" y="12778"/>
                  <a:pt x="16626" y="12706"/>
                </a:cubicBezTo>
                <a:cubicBezTo>
                  <a:pt x="16626" y="12706"/>
                  <a:pt x="16626" y="12706"/>
                  <a:pt x="16644" y="12706"/>
                </a:cubicBezTo>
                <a:cubicBezTo>
                  <a:pt x="16644" y="12742"/>
                  <a:pt x="16663" y="12742"/>
                  <a:pt x="16663" y="12742"/>
                </a:cubicBezTo>
                <a:cubicBezTo>
                  <a:pt x="16682" y="12742"/>
                  <a:pt x="16701" y="12778"/>
                  <a:pt x="16720" y="12778"/>
                </a:cubicBezTo>
                <a:cubicBezTo>
                  <a:pt x="16720" y="12778"/>
                  <a:pt x="16720" y="12742"/>
                  <a:pt x="16720" y="12742"/>
                </a:cubicBezTo>
                <a:cubicBezTo>
                  <a:pt x="16720" y="12742"/>
                  <a:pt x="16720" y="12742"/>
                  <a:pt x="16720" y="12742"/>
                </a:cubicBezTo>
                <a:cubicBezTo>
                  <a:pt x="16701" y="12742"/>
                  <a:pt x="16701" y="12742"/>
                  <a:pt x="16701" y="12742"/>
                </a:cubicBezTo>
                <a:cubicBezTo>
                  <a:pt x="16701" y="12706"/>
                  <a:pt x="16739" y="12597"/>
                  <a:pt x="16739" y="12597"/>
                </a:cubicBezTo>
                <a:cubicBezTo>
                  <a:pt x="16758" y="12597"/>
                  <a:pt x="16777" y="12597"/>
                  <a:pt x="16777" y="12561"/>
                </a:cubicBezTo>
                <a:cubicBezTo>
                  <a:pt x="16796" y="12561"/>
                  <a:pt x="16815" y="12561"/>
                  <a:pt x="16815" y="12561"/>
                </a:cubicBezTo>
                <a:cubicBezTo>
                  <a:pt x="16834" y="12524"/>
                  <a:pt x="16834" y="12488"/>
                  <a:pt x="16853" y="12488"/>
                </a:cubicBezTo>
                <a:cubicBezTo>
                  <a:pt x="16853" y="12488"/>
                  <a:pt x="16853" y="12452"/>
                  <a:pt x="16871" y="12452"/>
                </a:cubicBezTo>
                <a:cubicBezTo>
                  <a:pt x="16871" y="12452"/>
                  <a:pt x="16890" y="12415"/>
                  <a:pt x="16890" y="12379"/>
                </a:cubicBezTo>
                <a:cubicBezTo>
                  <a:pt x="16909" y="12379"/>
                  <a:pt x="16909" y="12379"/>
                  <a:pt x="16928" y="12379"/>
                </a:cubicBezTo>
                <a:cubicBezTo>
                  <a:pt x="16928" y="12343"/>
                  <a:pt x="16928" y="12343"/>
                  <a:pt x="16947" y="12307"/>
                </a:cubicBezTo>
                <a:cubicBezTo>
                  <a:pt x="16947" y="12307"/>
                  <a:pt x="16947" y="12307"/>
                  <a:pt x="16947" y="12307"/>
                </a:cubicBezTo>
                <a:cubicBezTo>
                  <a:pt x="16947" y="12307"/>
                  <a:pt x="16947" y="12343"/>
                  <a:pt x="16947" y="12343"/>
                </a:cubicBezTo>
                <a:cubicBezTo>
                  <a:pt x="16947" y="12343"/>
                  <a:pt x="16947" y="12343"/>
                  <a:pt x="16947" y="12343"/>
                </a:cubicBezTo>
                <a:cubicBezTo>
                  <a:pt x="16966" y="12343"/>
                  <a:pt x="16985" y="12343"/>
                  <a:pt x="16985" y="12343"/>
                </a:cubicBezTo>
                <a:cubicBezTo>
                  <a:pt x="16985" y="12307"/>
                  <a:pt x="16985" y="12307"/>
                  <a:pt x="16966" y="12270"/>
                </a:cubicBezTo>
                <a:cubicBezTo>
                  <a:pt x="16966" y="12270"/>
                  <a:pt x="16966" y="12270"/>
                  <a:pt x="16966" y="12270"/>
                </a:cubicBezTo>
                <a:cubicBezTo>
                  <a:pt x="16966" y="12270"/>
                  <a:pt x="16966" y="12270"/>
                  <a:pt x="16985" y="12270"/>
                </a:cubicBezTo>
                <a:cubicBezTo>
                  <a:pt x="16985" y="12270"/>
                  <a:pt x="16985" y="12270"/>
                  <a:pt x="17004" y="12270"/>
                </a:cubicBezTo>
                <a:cubicBezTo>
                  <a:pt x="17004" y="12198"/>
                  <a:pt x="17023" y="12198"/>
                  <a:pt x="17042" y="12161"/>
                </a:cubicBezTo>
                <a:cubicBezTo>
                  <a:pt x="17042" y="12125"/>
                  <a:pt x="17061" y="12125"/>
                  <a:pt x="17061" y="12089"/>
                </a:cubicBezTo>
                <a:cubicBezTo>
                  <a:pt x="17061" y="12089"/>
                  <a:pt x="17061" y="12125"/>
                  <a:pt x="17061" y="12125"/>
                </a:cubicBezTo>
                <a:cubicBezTo>
                  <a:pt x="17061" y="12125"/>
                  <a:pt x="17079" y="12125"/>
                  <a:pt x="17079" y="12125"/>
                </a:cubicBezTo>
                <a:cubicBezTo>
                  <a:pt x="17079" y="12125"/>
                  <a:pt x="17079" y="12125"/>
                  <a:pt x="17079" y="12089"/>
                </a:cubicBezTo>
                <a:cubicBezTo>
                  <a:pt x="17098" y="12125"/>
                  <a:pt x="17098" y="12125"/>
                  <a:pt x="17117" y="12161"/>
                </a:cubicBezTo>
                <a:cubicBezTo>
                  <a:pt x="17117" y="12198"/>
                  <a:pt x="17098" y="12198"/>
                  <a:pt x="17098" y="12234"/>
                </a:cubicBezTo>
                <a:cubicBezTo>
                  <a:pt x="17117" y="12234"/>
                  <a:pt x="17117" y="12198"/>
                  <a:pt x="17136" y="12198"/>
                </a:cubicBezTo>
                <a:cubicBezTo>
                  <a:pt x="17136" y="12234"/>
                  <a:pt x="17136" y="12234"/>
                  <a:pt x="17136" y="12234"/>
                </a:cubicBezTo>
                <a:cubicBezTo>
                  <a:pt x="17136" y="12234"/>
                  <a:pt x="17136" y="12234"/>
                  <a:pt x="17136" y="12234"/>
                </a:cubicBezTo>
                <a:cubicBezTo>
                  <a:pt x="17136" y="12234"/>
                  <a:pt x="17136" y="12234"/>
                  <a:pt x="17136" y="12234"/>
                </a:cubicBezTo>
                <a:cubicBezTo>
                  <a:pt x="17155" y="12234"/>
                  <a:pt x="17193" y="12270"/>
                  <a:pt x="17212" y="12307"/>
                </a:cubicBezTo>
                <a:close/>
                <a:moveTo>
                  <a:pt x="17193" y="11726"/>
                </a:moveTo>
                <a:cubicBezTo>
                  <a:pt x="17193" y="11726"/>
                  <a:pt x="17193" y="11726"/>
                  <a:pt x="17193" y="11726"/>
                </a:cubicBezTo>
                <a:cubicBezTo>
                  <a:pt x="17193" y="11726"/>
                  <a:pt x="17193" y="11726"/>
                  <a:pt x="17193" y="11726"/>
                </a:cubicBezTo>
                <a:cubicBezTo>
                  <a:pt x="17193" y="11689"/>
                  <a:pt x="17212" y="11689"/>
                  <a:pt x="17212" y="11653"/>
                </a:cubicBezTo>
                <a:cubicBezTo>
                  <a:pt x="17212" y="11617"/>
                  <a:pt x="17212" y="11617"/>
                  <a:pt x="17212" y="11581"/>
                </a:cubicBezTo>
                <a:cubicBezTo>
                  <a:pt x="17231" y="11581"/>
                  <a:pt x="17231" y="11581"/>
                  <a:pt x="17231" y="11581"/>
                </a:cubicBezTo>
                <a:cubicBezTo>
                  <a:pt x="17231" y="11581"/>
                  <a:pt x="17231" y="11581"/>
                  <a:pt x="17231" y="11581"/>
                </a:cubicBezTo>
                <a:cubicBezTo>
                  <a:pt x="17231" y="11581"/>
                  <a:pt x="17231" y="11617"/>
                  <a:pt x="17231" y="11617"/>
                </a:cubicBezTo>
                <a:cubicBezTo>
                  <a:pt x="17231" y="11617"/>
                  <a:pt x="17231" y="11653"/>
                  <a:pt x="17250" y="11653"/>
                </a:cubicBezTo>
                <a:cubicBezTo>
                  <a:pt x="17231" y="11689"/>
                  <a:pt x="17212" y="11689"/>
                  <a:pt x="17193" y="11726"/>
                </a:cubicBezTo>
                <a:close/>
                <a:moveTo>
                  <a:pt x="17098" y="14557"/>
                </a:moveTo>
                <a:cubicBezTo>
                  <a:pt x="17098" y="14557"/>
                  <a:pt x="17098" y="14557"/>
                  <a:pt x="17098" y="14521"/>
                </a:cubicBezTo>
                <a:cubicBezTo>
                  <a:pt x="17098" y="14521"/>
                  <a:pt x="17117" y="14557"/>
                  <a:pt x="17117" y="14557"/>
                </a:cubicBezTo>
                <a:cubicBezTo>
                  <a:pt x="17117" y="14521"/>
                  <a:pt x="17117" y="14521"/>
                  <a:pt x="17117" y="14485"/>
                </a:cubicBezTo>
                <a:cubicBezTo>
                  <a:pt x="17136" y="14485"/>
                  <a:pt x="17155" y="14485"/>
                  <a:pt x="17155" y="14485"/>
                </a:cubicBezTo>
                <a:cubicBezTo>
                  <a:pt x="17155" y="14521"/>
                  <a:pt x="17155" y="14521"/>
                  <a:pt x="17174" y="14521"/>
                </a:cubicBezTo>
                <a:cubicBezTo>
                  <a:pt x="17174" y="14521"/>
                  <a:pt x="17174" y="14521"/>
                  <a:pt x="17174" y="14521"/>
                </a:cubicBezTo>
                <a:cubicBezTo>
                  <a:pt x="17174" y="14521"/>
                  <a:pt x="17174" y="14485"/>
                  <a:pt x="17193" y="14485"/>
                </a:cubicBezTo>
                <a:cubicBezTo>
                  <a:pt x="17212" y="14521"/>
                  <a:pt x="17212" y="14521"/>
                  <a:pt x="17231" y="14521"/>
                </a:cubicBezTo>
                <a:cubicBezTo>
                  <a:pt x="17250" y="14557"/>
                  <a:pt x="17250" y="14521"/>
                  <a:pt x="17269" y="14521"/>
                </a:cubicBezTo>
                <a:cubicBezTo>
                  <a:pt x="17269" y="14521"/>
                  <a:pt x="17288" y="14557"/>
                  <a:pt x="17288" y="14594"/>
                </a:cubicBezTo>
                <a:cubicBezTo>
                  <a:pt x="17306" y="14594"/>
                  <a:pt x="17382" y="14630"/>
                  <a:pt x="17401" y="14594"/>
                </a:cubicBezTo>
                <a:cubicBezTo>
                  <a:pt x="17401" y="14594"/>
                  <a:pt x="17401" y="14557"/>
                  <a:pt x="17401" y="14557"/>
                </a:cubicBezTo>
                <a:cubicBezTo>
                  <a:pt x="17420" y="14557"/>
                  <a:pt x="17420" y="14557"/>
                  <a:pt x="17420" y="14557"/>
                </a:cubicBezTo>
                <a:cubicBezTo>
                  <a:pt x="17420" y="14557"/>
                  <a:pt x="17439" y="14557"/>
                  <a:pt x="17439" y="14594"/>
                </a:cubicBezTo>
                <a:cubicBezTo>
                  <a:pt x="17439" y="14594"/>
                  <a:pt x="17458" y="14594"/>
                  <a:pt x="17477" y="14594"/>
                </a:cubicBezTo>
                <a:cubicBezTo>
                  <a:pt x="17496" y="14594"/>
                  <a:pt x="17515" y="14594"/>
                  <a:pt x="17533" y="14630"/>
                </a:cubicBezTo>
                <a:cubicBezTo>
                  <a:pt x="17533" y="14630"/>
                  <a:pt x="17533" y="14666"/>
                  <a:pt x="17533" y="14666"/>
                </a:cubicBezTo>
                <a:cubicBezTo>
                  <a:pt x="17552" y="14739"/>
                  <a:pt x="17590" y="14703"/>
                  <a:pt x="17628" y="14703"/>
                </a:cubicBezTo>
                <a:cubicBezTo>
                  <a:pt x="17628" y="14739"/>
                  <a:pt x="17609" y="14775"/>
                  <a:pt x="17628" y="14775"/>
                </a:cubicBezTo>
                <a:cubicBezTo>
                  <a:pt x="17628" y="14811"/>
                  <a:pt x="17628" y="14811"/>
                  <a:pt x="17628" y="14811"/>
                </a:cubicBezTo>
                <a:cubicBezTo>
                  <a:pt x="17609" y="14811"/>
                  <a:pt x="17590" y="14775"/>
                  <a:pt x="17552" y="14775"/>
                </a:cubicBezTo>
                <a:cubicBezTo>
                  <a:pt x="17552" y="14739"/>
                  <a:pt x="17533" y="14775"/>
                  <a:pt x="17533" y="14775"/>
                </a:cubicBezTo>
                <a:cubicBezTo>
                  <a:pt x="17496" y="14775"/>
                  <a:pt x="17458" y="14775"/>
                  <a:pt x="17420" y="14775"/>
                </a:cubicBezTo>
                <a:cubicBezTo>
                  <a:pt x="17382" y="14739"/>
                  <a:pt x="17344" y="14703"/>
                  <a:pt x="17306" y="14703"/>
                </a:cubicBezTo>
                <a:cubicBezTo>
                  <a:pt x="17288" y="14666"/>
                  <a:pt x="17269" y="14703"/>
                  <a:pt x="17250" y="14703"/>
                </a:cubicBezTo>
                <a:cubicBezTo>
                  <a:pt x="17231" y="14703"/>
                  <a:pt x="17231" y="14666"/>
                  <a:pt x="17212" y="14666"/>
                </a:cubicBezTo>
                <a:cubicBezTo>
                  <a:pt x="17193" y="14666"/>
                  <a:pt x="17155" y="14666"/>
                  <a:pt x="17136" y="14666"/>
                </a:cubicBezTo>
                <a:cubicBezTo>
                  <a:pt x="17155" y="14630"/>
                  <a:pt x="17155" y="14630"/>
                  <a:pt x="17155" y="14630"/>
                </a:cubicBezTo>
                <a:cubicBezTo>
                  <a:pt x="17155" y="14630"/>
                  <a:pt x="17155" y="14630"/>
                  <a:pt x="17155" y="14630"/>
                </a:cubicBezTo>
                <a:cubicBezTo>
                  <a:pt x="17136" y="14594"/>
                  <a:pt x="17079" y="14594"/>
                  <a:pt x="17079" y="14594"/>
                </a:cubicBezTo>
                <a:cubicBezTo>
                  <a:pt x="17079" y="14594"/>
                  <a:pt x="17098" y="14594"/>
                  <a:pt x="17098" y="14557"/>
                </a:cubicBezTo>
                <a:close/>
                <a:moveTo>
                  <a:pt x="17571" y="17062"/>
                </a:moveTo>
                <a:cubicBezTo>
                  <a:pt x="17571" y="17062"/>
                  <a:pt x="17571" y="17062"/>
                  <a:pt x="17571" y="17062"/>
                </a:cubicBezTo>
                <a:cubicBezTo>
                  <a:pt x="17571" y="17062"/>
                  <a:pt x="17571" y="17026"/>
                  <a:pt x="17552" y="17026"/>
                </a:cubicBezTo>
                <a:cubicBezTo>
                  <a:pt x="17552" y="17026"/>
                  <a:pt x="17552" y="17026"/>
                  <a:pt x="17552" y="17026"/>
                </a:cubicBezTo>
                <a:cubicBezTo>
                  <a:pt x="17552" y="17026"/>
                  <a:pt x="17552" y="17026"/>
                  <a:pt x="17552" y="17026"/>
                </a:cubicBezTo>
                <a:cubicBezTo>
                  <a:pt x="17571" y="17026"/>
                  <a:pt x="17590" y="17026"/>
                  <a:pt x="17571" y="17062"/>
                </a:cubicBezTo>
                <a:close/>
                <a:moveTo>
                  <a:pt x="19009" y="15465"/>
                </a:moveTo>
                <a:cubicBezTo>
                  <a:pt x="19009" y="15465"/>
                  <a:pt x="19009" y="15465"/>
                  <a:pt x="18990" y="15465"/>
                </a:cubicBezTo>
                <a:cubicBezTo>
                  <a:pt x="18990" y="15465"/>
                  <a:pt x="18990" y="15465"/>
                  <a:pt x="18990" y="15465"/>
                </a:cubicBezTo>
                <a:cubicBezTo>
                  <a:pt x="19009" y="15429"/>
                  <a:pt x="18990" y="15429"/>
                  <a:pt x="19009" y="15429"/>
                </a:cubicBezTo>
                <a:cubicBezTo>
                  <a:pt x="19009" y="15429"/>
                  <a:pt x="19009" y="15429"/>
                  <a:pt x="19028" y="15429"/>
                </a:cubicBezTo>
                <a:cubicBezTo>
                  <a:pt x="19009" y="15429"/>
                  <a:pt x="19028" y="15465"/>
                  <a:pt x="19009" y="15465"/>
                </a:cubicBezTo>
                <a:close/>
                <a:moveTo>
                  <a:pt x="19198" y="15719"/>
                </a:moveTo>
                <a:cubicBezTo>
                  <a:pt x="19198" y="15719"/>
                  <a:pt x="19198" y="15719"/>
                  <a:pt x="19198" y="15719"/>
                </a:cubicBezTo>
                <a:cubicBezTo>
                  <a:pt x="19198" y="15755"/>
                  <a:pt x="19179" y="15755"/>
                  <a:pt x="19179" y="15755"/>
                </a:cubicBezTo>
                <a:cubicBezTo>
                  <a:pt x="19179" y="15755"/>
                  <a:pt x="19198" y="15719"/>
                  <a:pt x="19198" y="15719"/>
                </a:cubicBezTo>
                <a:cubicBezTo>
                  <a:pt x="19198" y="15719"/>
                  <a:pt x="19198" y="15719"/>
                  <a:pt x="19198" y="15719"/>
                </a:cubicBezTo>
                <a:cubicBezTo>
                  <a:pt x="19198" y="15719"/>
                  <a:pt x="19198" y="15719"/>
                  <a:pt x="19198" y="15719"/>
                </a:cubicBezTo>
                <a:close/>
                <a:moveTo>
                  <a:pt x="19141" y="14666"/>
                </a:moveTo>
                <a:cubicBezTo>
                  <a:pt x="19141" y="14666"/>
                  <a:pt x="19141" y="14703"/>
                  <a:pt x="19160" y="14703"/>
                </a:cubicBezTo>
                <a:cubicBezTo>
                  <a:pt x="19141" y="14739"/>
                  <a:pt x="19122" y="14775"/>
                  <a:pt x="19103" y="14775"/>
                </a:cubicBezTo>
                <a:cubicBezTo>
                  <a:pt x="19103" y="14775"/>
                  <a:pt x="19084" y="14775"/>
                  <a:pt x="19084" y="14775"/>
                </a:cubicBezTo>
                <a:cubicBezTo>
                  <a:pt x="19084" y="14775"/>
                  <a:pt x="19084" y="14775"/>
                  <a:pt x="19084" y="14775"/>
                </a:cubicBezTo>
                <a:cubicBezTo>
                  <a:pt x="19084" y="14739"/>
                  <a:pt x="19103" y="14703"/>
                  <a:pt x="19122" y="14666"/>
                </a:cubicBezTo>
                <a:cubicBezTo>
                  <a:pt x="19122" y="14666"/>
                  <a:pt x="19141" y="14666"/>
                  <a:pt x="19141" y="14666"/>
                </a:cubicBezTo>
                <a:close/>
                <a:moveTo>
                  <a:pt x="18649" y="15138"/>
                </a:moveTo>
                <a:cubicBezTo>
                  <a:pt x="18649" y="15138"/>
                  <a:pt x="18668" y="15138"/>
                  <a:pt x="18668" y="15138"/>
                </a:cubicBezTo>
                <a:cubicBezTo>
                  <a:pt x="18668" y="15174"/>
                  <a:pt x="18668" y="15174"/>
                  <a:pt x="18649" y="15211"/>
                </a:cubicBezTo>
                <a:cubicBezTo>
                  <a:pt x="18649" y="15211"/>
                  <a:pt x="18649" y="15211"/>
                  <a:pt x="18649" y="15211"/>
                </a:cubicBezTo>
                <a:cubicBezTo>
                  <a:pt x="18630" y="15211"/>
                  <a:pt x="18630" y="15211"/>
                  <a:pt x="18612" y="15211"/>
                </a:cubicBezTo>
                <a:cubicBezTo>
                  <a:pt x="18612" y="15174"/>
                  <a:pt x="18612" y="15174"/>
                  <a:pt x="18593" y="15138"/>
                </a:cubicBezTo>
                <a:cubicBezTo>
                  <a:pt x="18612" y="15138"/>
                  <a:pt x="18612" y="15138"/>
                  <a:pt x="18612" y="15138"/>
                </a:cubicBezTo>
                <a:cubicBezTo>
                  <a:pt x="18612" y="15138"/>
                  <a:pt x="18630" y="15174"/>
                  <a:pt x="18649" y="15138"/>
                </a:cubicBezTo>
                <a:close/>
                <a:moveTo>
                  <a:pt x="18612" y="15211"/>
                </a:moveTo>
                <a:cubicBezTo>
                  <a:pt x="18593" y="15211"/>
                  <a:pt x="18593" y="15211"/>
                  <a:pt x="18593" y="15211"/>
                </a:cubicBezTo>
                <a:cubicBezTo>
                  <a:pt x="18593" y="15211"/>
                  <a:pt x="18593" y="15211"/>
                  <a:pt x="18593" y="15211"/>
                </a:cubicBezTo>
                <a:cubicBezTo>
                  <a:pt x="18593" y="15174"/>
                  <a:pt x="18593" y="15174"/>
                  <a:pt x="18593" y="15138"/>
                </a:cubicBezTo>
                <a:cubicBezTo>
                  <a:pt x="18593" y="15138"/>
                  <a:pt x="18593" y="15138"/>
                  <a:pt x="18593" y="15138"/>
                </a:cubicBezTo>
                <a:cubicBezTo>
                  <a:pt x="18593" y="15138"/>
                  <a:pt x="18593" y="15138"/>
                  <a:pt x="18593" y="15138"/>
                </a:cubicBezTo>
                <a:cubicBezTo>
                  <a:pt x="18612" y="15174"/>
                  <a:pt x="18612" y="15174"/>
                  <a:pt x="18612" y="15211"/>
                </a:cubicBezTo>
                <a:cubicBezTo>
                  <a:pt x="18612" y="15211"/>
                  <a:pt x="18612" y="15211"/>
                  <a:pt x="18612" y="15211"/>
                </a:cubicBezTo>
                <a:cubicBezTo>
                  <a:pt x="18612" y="15211"/>
                  <a:pt x="18612" y="15211"/>
                  <a:pt x="18612" y="15211"/>
                </a:cubicBezTo>
                <a:close/>
                <a:moveTo>
                  <a:pt x="18536" y="14158"/>
                </a:moveTo>
                <a:cubicBezTo>
                  <a:pt x="18517" y="14158"/>
                  <a:pt x="18517" y="14194"/>
                  <a:pt x="18498" y="14194"/>
                </a:cubicBezTo>
                <a:cubicBezTo>
                  <a:pt x="18498" y="14158"/>
                  <a:pt x="18498" y="14158"/>
                  <a:pt x="18479" y="14122"/>
                </a:cubicBezTo>
                <a:cubicBezTo>
                  <a:pt x="18517" y="14122"/>
                  <a:pt x="18536" y="14122"/>
                  <a:pt x="18555" y="14158"/>
                </a:cubicBezTo>
                <a:cubicBezTo>
                  <a:pt x="18555" y="14158"/>
                  <a:pt x="18574" y="14122"/>
                  <a:pt x="18574" y="14122"/>
                </a:cubicBezTo>
                <a:cubicBezTo>
                  <a:pt x="18612" y="14122"/>
                  <a:pt x="18649" y="14158"/>
                  <a:pt x="18649" y="14231"/>
                </a:cubicBezTo>
                <a:cubicBezTo>
                  <a:pt x="18649" y="14231"/>
                  <a:pt x="18649" y="14231"/>
                  <a:pt x="18649" y="14231"/>
                </a:cubicBezTo>
                <a:cubicBezTo>
                  <a:pt x="18630" y="14231"/>
                  <a:pt x="18612" y="14194"/>
                  <a:pt x="18593" y="14158"/>
                </a:cubicBezTo>
                <a:cubicBezTo>
                  <a:pt x="18593" y="14158"/>
                  <a:pt x="18574" y="14158"/>
                  <a:pt x="18574" y="14158"/>
                </a:cubicBezTo>
                <a:cubicBezTo>
                  <a:pt x="18574" y="14194"/>
                  <a:pt x="18574" y="14194"/>
                  <a:pt x="18574" y="14194"/>
                </a:cubicBezTo>
                <a:cubicBezTo>
                  <a:pt x="18555" y="14194"/>
                  <a:pt x="18555" y="14158"/>
                  <a:pt x="18536" y="14158"/>
                </a:cubicBezTo>
                <a:close/>
                <a:moveTo>
                  <a:pt x="18441" y="13650"/>
                </a:moveTo>
                <a:cubicBezTo>
                  <a:pt x="18441" y="13613"/>
                  <a:pt x="18460" y="13577"/>
                  <a:pt x="18460" y="13541"/>
                </a:cubicBezTo>
                <a:cubicBezTo>
                  <a:pt x="18479" y="13577"/>
                  <a:pt x="18479" y="13577"/>
                  <a:pt x="18479" y="13577"/>
                </a:cubicBezTo>
                <a:cubicBezTo>
                  <a:pt x="18479" y="13613"/>
                  <a:pt x="18460" y="13650"/>
                  <a:pt x="18460" y="13686"/>
                </a:cubicBezTo>
                <a:cubicBezTo>
                  <a:pt x="18460" y="13686"/>
                  <a:pt x="18460" y="13686"/>
                  <a:pt x="18460" y="13686"/>
                </a:cubicBezTo>
                <a:cubicBezTo>
                  <a:pt x="18460" y="13686"/>
                  <a:pt x="18479" y="13686"/>
                  <a:pt x="18479" y="13686"/>
                </a:cubicBezTo>
                <a:cubicBezTo>
                  <a:pt x="18479" y="13650"/>
                  <a:pt x="18498" y="13577"/>
                  <a:pt x="18517" y="13613"/>
                </a:cubicBezTo>
                <a:cubicBezTo>
                  <a:pt x="18517" y="13613"/>
                  <a:pt x="18517" y="13650"/>
                  <a:pt x="18517" y="13650"/>
                </a:cubicBezTo>
                <a:cubicBezTo>
                  <a:pt x="18498" y="13650"/>
                  <a:pt x="18498" y="13686"/>
                  <a:pt x="18498" y="13686"/>
                </a:cubicBezTo>
                <a:cubicBezTo>
                  <a:pt x="18498" y="13722"/>
                  <a:pt x="18517" y="13722"/>
                  <a:pt x="18517" y="13722"/>
                </a:cubicBezTo>
                <a:cubicBezTo>
                  <a:pt x="18517" y="13722"/>
                  <a:pt x="18517" y="13722"/>
                  <a:pt x="18517" y="13759"/>
                </a:cubicBezTo>
                <a:cubicBezTo>
                  <a:pt x="18517" y="13759"/>
                  <a:pt x="18498" y="13722"/>
                  <a:pt x="18479" y="13722"/>
                </a:cubicBezTo>
                <a:cubicBezTo>
                  <a:pt x="18479" y="13722"/>
                  <a:pt x="18479" y="13722"/>
                  <a:pt x="18479" y="13722"/>
                </a:cubicBezTo>
                <a:cubicBezTo>
                  <a:pt x="18479" y="13795"/>
                  <a:pt x="18479" y="13831"/>
                  <a:pt x="18498" y="13868"/>
                </a:cubicBezTo>
                <a:cubicBezTo>
                  <a:pt x="18498" y="13868"/>
                  <a:pt x="18498" y="13904"/>
                  <a:pt x="18498" y="13904"/>
                </a:cubicBezTo>
                <a:cubicBezTo>
                  <a:pt x="18479" y="13868"/>
                  <a:pt x="18460" y="13831"/>
                  <a:pt x="18460" y="13795"/>
                </a:cubicBezTo>
                <a:cubicBezTo>
                  <a:pt x="18460" y="13795"/>
                  <a:pt x="18460" y="13759"/>
                  <a:pt x="18460" y="13759"/>
                </a:cubicBezTo>
                <a:cubicBezTo>
                  <a:pt x="18460" y="13759"/>
                  <a:pt x="18441" y="13722"/>
                  <a:pt x="18441" y="13722"/>
                </a:cubicBezTo>
                <a:cubicBezTo>
                  <a:pt x="18441" y="13686"/>
                  <a:pt x="18441" y="13686"/>
                  <a:pt x="18441" y="13686"/>
                </a:cubicBezTo>
                <a:cubicBezTo>
                  <a:pt x="18441" y="13686"/>
                  <a:pt x="18441" y="13650"/>
                  <a:pt x="18441" y="13650"/>
                </a:cubicBezTo>
                <a:close/>
                <a:moveTo>
                  <a:pt x="17893" y="8822"/>
                </a:moveTo>
                <a:cubicBezTo>
                  <a:pt x="17893" y="8785"/>
                  <a:pt x="17912" y="8785"/>
                  <a:pt x="17912" y="8785"/>
                </a:cubicBezTo>
                <a:cubicBezTo>
                  <a:pt x="17912" y="8785"/>
                  <a:pt x="17912" y="8749"/>
                  <a:pt x="17912" y="8749"/>
                </a:cubicBezTo>
                <a:cubicBezTo>
                  <a:pt x="17931" y="8749"/>
                  <a:pt x="17931" y="8785"/>
                  <a:pt x="17931" y="8785"/>
                </a:cubicBezTo>
                <a:cubicBezTo>
                  <a:pt x="17950" y="8822"/>
                  <a:pt x="17968" y="8785"/>
                  <a:pt x="17987" y="8785"/>
                </a:cubicBezTo>
                <a:cubicBezTo>
                  <a:pt x="17987" y="8822"/>
                  <a:pt x="17987" y="8822"/>
                  <a:pt x="17987" y="8822"/>
                </a:cubicBezTo>
                <a:cubicBezTo>
                  <a:pt x="17987" y="8822"/>
                  <a:pt x="17968" y="8822"/>
                  <a:pt x="17968" y="8858"/>
                </a:cubicBezTo>
                <a:cubicBezTo>
                  <a:pt x="17987" y="8858"/>
                  <a:pt x="17987" y="8894"/>
                  <a:pt x="17987" y="8894"/>
                </a:cubicBezTo>
                <a:cubicBezTo>
                  <a:pt x="17968" y="8930"/>
                  <a:pt x="17968" y="9003"/>
                  <a:pt x="17968" y="9039"/>
                </a:cubicBezTo>
                <a:cubicBezTo>
                  <a:pt x="17968" y="9039"/>
                  <a:pt x="17931" y="9148"/>
                  <a:pt x="17931" y="9148"/>
                </a:cubicBezTo>
                <a:cubicBezTo>
                  <a:pt x="17931" y="9148"/>
                  <a:pt x="17931" y="9148"/>
                  <a:pt x="17912" y="9148"/>
                </a:cubicBezTo>
                <a:cubicBezTo>
                  <a:pt x="17931" y="9112"/>
                  <a:pt x="17931" y="9076"/>
                  <a:pt x="17931" y="9076"/>
                </a:cubicBezTo>
                <a:cubicBezTo>
                  <a:pt x="17931" y="9076"/>
                  <a:pt x="17931" y="9039"/>
                  <a:pt x="17931" y="9039"/>
                </a:cubicBezTo>
                <a:cubicBezTo>
                  <a:pt x="17912" y="9039"/>
                  <a:pt x="17912" y="9076"/>
                  <a:pt x="17912" y="9076"/>
                </a:cubicBezTo>
                <a:cubicBezTo>
                  <a:pt x="17912" y="9076"/>
                  <a:pt x="17912" y="9112"/>
                  <a:pt x="17893" y="9112"/>
                </a:cubicBezTo>
                <a:cubicBezTo>
                  <a:pt x="17893" y="9112"/>
                  <a:pt x="17893" y="9112"/>
                  <a:pt x="17893" y="9112"/>
                </a:cubicBezTo>
                <a:cubicBezTo>
                  <a:pt x="17893" y="9112"/>
                  <a:pt x="17893" y="9112"/>
                  <a:pt x="17893" y="9112"/>
                </a:cubicBezTo>
                <a:cubicBezTo>
                  <a:pt x="17893" y="9076"/>
                  <a:pt x="17893" y="9076"/>
                  <a:pt x="17893" y="9039"/>
                </a:cubicBezTo>
                <a:cubicBezTo>
                  <a:pt x="17893" y="9039"/>
                  <a:pt x="17893" y="9003"/>
                  <a:pt x="17893" y="9003"/>
                </a:cubicBezTo>
                <a:cubicBezTo>
                  <a:pt x="17893" y="8967"/>
                  <a:pt x="17912" y="8967"/>
                  <a:pt x="17912" y="8930"/>
                </a:cubicBezTo>
                <a:cubicBezTo>
                  <a:pt x="17912" y="8894"/>
                  <a:pt x="17912" y="8894"/>
                  <a:pt x="17893" y="8858"/>
                </a:cubicBezTo>
                <a:cubicBezTo>
                  <a:pt x="17893" y="8858"/>
                  <a:pt x="17893" y="8858"/>
                  <a:pt x="17893" y="8858"/>
                </a:cubicBezTo>
                <a:cubicBezTo>
                  <a:pt x="17893" y="8894"/>
                  <a:pt x="17874" y="8894"/>
                  <a:pt x="17874" y="8930"/>
                </a:cubicBezTo>
                <a:cubicBezTo>
                  <a:pt x="17855" y="8894"/>
                  <a:pt x="17855" y="8858"/>
                  <a:pt x="17836" y="8858"/>
                </a:cubicBezTo>
                <a:cubicBezTo>
                  <a:pt x="17855" y="8822"/>
                  <a:pt x="17874" y="8822"/>
                  <a:pt x="17893" y="8822"/>
                </a:cubicBezTo>
                <a:close/>
                <a:moveTo>
                  <a:pt x="17912" y="14920"/>
                </a:moveTo>
                <a:cubicBezTo>
                  <a:pt x="17912" y="14920"/>
                  <a:pt x="17912" y="14920"/>
                  <a:pt x="17931" y="14920"/>
                </a:cubicBezTo>
                <a:cubicBezTo>
                  <a:pt x="17931" y="14884"/>
                  <a:pt x="17968" y="14920"/>
                  <a:pt x="17968" y="14884"/>
                </a:cubicBezTo>
                <a:cubicBezTo>
                  <a:pt x="17987" y="14920"/>
                  <a:pt x="18006" y="14957"/>
                  <a:pt x="18025" y="14957"/>
                </a:cubicBezTo>
                <a:cubicBezTo>
                  <a:pt x="18025" y="14993"/>
                  <a:pt x="18025" y="14993"/>
                  <a:pt x="18006" y="14993"/>
                </a:cubicBezTo>
                <a:cubicBezTo>
                  <a:pt x="18006" y="14993"/>
                  <a:pt x="17931" y="14920"/>
                  <a:pt x="17912" y="14920"/>
                </a:cubicBezTo>
                <a:close/>
                <a:moveTo>
                  <a:pt x="18158" y="14811"/>
                </a:moveTo>
                <a:cubicBezTo>
                  <a:pt x="18139" y="14811"/>
                  <a:pt x="18120" y="14811"/>
                  <a:pt x="18101" y="14811"/>
                </a:cubicBezTo>
                <a:cubicBezTo>
                  <a:pt x="18101" y="14848"/>
                  <a:pt x="18101" y="14848"/>
                  <a:pt x="18101" y="14848"/>
                </a:cubicBezTo>
                <a:cubicBezTo>
                  <a:pt x="18082" y="14848"/>
                  <a:pt x="18082" y="14848"/>
                  <a:pt x="18063" y="14848"/>
                </a:cubicBezTo>
                <a:cubicBezTo>
                  <a:pt x="18063" y="14848"/>
                  <a:pt x="18063" y="14848"/>
                  <a:pt x="18044" y="14848"/>
                </a:cubicBezTo>
                <a:cubicBezTo>
                  <a:pt x="18025" y="14848"/>
                  <a:pt x="18006" y="14811"/>
                  <a:pt x="17987" y="14848"/>
                </a:cubicBezTo>
                <a:cubicBezTo>
                  <a:pt x="17987" y="14811"/>
                  <a:pt x="17987" y="14811"/>
                  <a:pt x="17968" y="14811"/>
                </a:cubicBezTo>
                <a:cubicBezTo>
                  <a:pt x="17968" y="14811"/>
                  <a:pt x="17987" y="14775"/>
                  <a:pt x="17987" y="14775"/>
                </a:cubicBezTo>
                <a:cubicBezTo>
                  <a:pt x="18006" y="14775"/>
                  <a:pt x="18025" y="14775"/>
                  <a:pt x="18044" y="14775"/>
                </a:cubicBezTo>
                <a:cubicBezTo>
                  <a:pt x="18063" y="14775"/>
                  <a:pt x="18063" y="14811"/>
                  <a:pt x="18082" y="14811"/>
                </a:cubicBezTo>
                <a:cubicBezTo>
                  <a:pt x="18101" y="14775"/>
                  <a:pt x="18120" y="14811"/>
                  <a:pt x="18139" y="14775"/>
                </a:cubicBezTo>
                <a:cubicBezTo>
                  <a:pt x="18139" y="14775"/>
                  <a:pt x="18139" y="14775"/>
                  <a:pt x="18139" y="14775"/>
                </a:cubicBezTo>
                <a:cubicBezTo>
                  <a:pt x="18139" y="14775"/>
                  <a:pt x="18158" y="14775"/>
                  <a:pt x="18158" y="14739"/>
                </a:cubicBezTo>
                <a:cubicBezTo>
                  <a:pt x="18158" y="14739"/>
                  <a:pt x="18158" y="14739"/>
                  <a:pt x="18158" y="14739"/>
                </a:cubicBezTo>
                <a:cubicBezTo>
                  <a:pt x="18158" y="14739"/>
                  <a:pt x="18158" y="14739"/>
                  <a:pt x="18158" y="14739"/>
                </a:cubicBezTo>
                <a:cubicBezTo>
                  <a:pt x="18158" y="14739"/>
                  <a:pt x="18177" y="14739"/>
                  <a:pt x="18177" y="14739"/>
                </a:cubicBezTo>
                <a:cubicBezTo>
                  <a:pt x="18177" y="14775"/>
                  <a:pt x="18177" y="14775"/>
                  <a:pt x="18177" y="14775"/>
                </a:cubicBezTo>
                <a:cubicBezTo>
                  <a:pt x="18158" y="14775"/>
                  <a:pt x="18158" y="14775"/>
                  <a:pt x="18158" y="14811"/>
                </a:cubicBezTo>
                <a:close/>
                <a:moveTo>
                  <a:pt x="18101" y="8822"/>
                </a:moveTo>
                <a:cubicBezTo>
                  <a:pt x="18063" y="8822"/>
                  <a:pt x="18082" y="8894"/>
                  <a:pt x="18044" y="8930"/>
                </a:cubicBezTo>
                <a:cubicBezTo>
                  <a:pt x="18025" y="8894"/>
                  <a:pt x="18025" y="8858"/>
                  <a:pt x="18006" y="8822"/>
                </a:cubicBezTo>
                <a:cubicBezTo>
                  <a:pt x="18006" y="8822"/>
                  <a:pt x="18006" y="8822"/>
                  <a:pt x="18025" y="8822"/>
                </a:cubicBezTo>
                <a:cubicBezTo>
                  <a:pt x="18044" y="8785"/>
                  <a:pt x="18044" y="8785"/>
                  <a:pt x="18063" y="8749"/>
                </a:cubicBezTo>
                <a:cubicBezTo>
                  <a:pt x="18082" y="8749"/>
                  <a:pt x="18101" y="8749"/>
                  <a:pt x="18120" y="8713"/>
                </a:cubicBezTo>
                <a:cubicBezTo>
                  <a:pt x="18139" y="8713"/>
                  <a:pt x="18158" y="8713"/>
                  <a:pt x="18158" y="8749"/>
                </a:cubicBezTo>
                <a:cubicBezTo>
                  <a:pt x="18158" y="8749"/>
                  <a:pt x="18158" y="8749"/>
                  <a:pt x="18177" y="8749"/>
                </a:cubicBezTo>
                <a:cubicBezTo>
                  <a:pt x="18158" y="8785"/>
                  <a:pt x="18139" y="8822"/>
                  <a:pt x="18120" y="8858"/>
                </a:cubicBezTo>
                <a:cubicBezTo>
                  <a:pt x="18120" y="8822"/>
                  <a:pt x="18120" y="8822"/>
                  <a:pt x="18101" y="8822"/>
                </a:cubicBezTo>
                <a:close/>
                <a:moveTo>
                  <a:pt x="18366" y="14194"/>
                </a:moveTo>
                <a:cubicBezTo>
                  <a:pt x="18366" y="14158"/>
                  <a:pt x="18366" y="14158"/>
                  <a:pt x="18366" y="14158"/>
                </a:cubicBezTo>
                <a:cubicBezTo>
                  <a:pt x="18366" y="14158"/>
                  <a:pt x="18385" y="14158"/>
                  <a:pt x="18385" y="14158"/>
                </a:cubicBezTo>
                <a:cubicBezTo>
                  <a:pt x="18403" y="14158"/>
                  <a:pt x="18403" y="14158"/>
                  <a:pt x="18403" y="14158"/>
                </a:cubicBezTo>
                <a:cubicBezTo>
                  <a:pt x="18403" y="14158"/>
                  <a:pt x="18422" y="14194"/>
                  <a:pt x="18422" y="14194"/>
                </a:cubicBezTo>
                <a:cubicBezTo>
                  <a:pt x="18422" y="14194"/>
                  <a:pt x="18422" y="14194"/>
                  <a:pt x="18422" y="14194"/>
                </a:cubicBezTo>
                <a:cubicBezTo>
                  <a:pt x="18403" y="14267"/>
                  <a:pt x="18366" y="14231"/>
                  <a:pt x="18366" y="14194"/>
                </a:cubicBezTo>
                <a:close/>
                <a:moveTo>
                  <a:pt x="18422" y="14811"/>
                </a:moveTo>
                <a:cubicBezTo>
                  <a:pt x="18385" y="14848"/>
                  <a:pt x="18328" y="14848"/>
                  <a:pt x="18290" y="14884"/>
                </a:cubicBezTo>
                <a:cubicBezTo>
                  <a:pt x="18271" y="14920"/>
                  <a:pt x="18252" y="14993"/>
                  <a:pt x="18195" y="14993"/>
                </a:cubicBezTo>
                <a:cubicBezTo>
                  <a:pt x="18214" y="14993"/>
                  <a:pt x="18214" y="14920"/>
                  <a:pt x="18214" y="14920"/>
                </a:cubicBezTo>
                <a:cubicBezTo>
                  <a:pt x="18233" y="14884"/>
                  <a:pt x="18252" y="14884"/>
                  <a:pt x="18271" y="14848"/>
                </a:cubicBezTo>
                <a:cubicBezTo>
                  <a:pt x="18290" y="14848"/>
                  <a:pt x="18290" y="14811"/>
                  <a:pt x="18309" y="14811"/>
                </a:cubicBezTo>
                <a:cubicBezTo>
                  <a:pt x="18347" y="14775"/>
                  <a:pt x="18385" y="14811"/>
                  <a:pt x="18422" y="14775"/>
                </a:cubicBezTo>
                <a:cubicBezTo>
                  <a:pt x="18422" y="14775"/>
                  <a:pt x="18422" y="14775"/>
                  <a:pt x="18422" y="14775"/>
                </a:cubicBezTo>
                <a:cubicBezTo>
                  <a:pt x="18422" y="14775"/>
                  <a:pt x="18422" y="14775"/>
                  <a:pt x="18422" y="14811"/>
                </a:cubicBezTo>
                <a:close/>
                <a:moveTo>
                  <a:pt x="18006" y="13904"/>
                </a:moveTo>
                <a:cubicBezTo>
                  <a:pt x="18025" y="13940"/>
                  <a:pt x="18025" y="13940"/>
                  <a:pt x="18025" y="13940"/>
                </a:cubicBezTo>
                <a:cubicBezTo>
                  <a:pt x="18025" y="13940"/>
                  <a:pt x="18044" y="13940"/>
                  <a:pt x="18044" y="13940"/>
                </a:cubicBezTo>
                <a:cubicBezTo>
                  <a:pt x="18063" y="13940"/>
                  <a:pt x="18063" y="13904"/>
                  <a:pt x="18082" y="13904"/>
                </a:cubicBezTo>
                <a:cubicBezTo>
                  <a:pt x="18082" y="13904"/>
                  <a:pt x="18101" y="13904"/>
                  <a:pt x="18101" y="13904"/>
                </a:cubicBezTo>
                <a:cubicBezTo>
                  <a:pt x="18101" y="13904"/>
                  <a:pt x="18158" y="13868"/>
                  <a:pt x="18158" y="13868"/>
                </a:cubicBezTo>
                <a:cubicBezTo>
                  <a:pt x="18158" y="13868"/>
                  <a:pt x="18158" y="13868"/>
                  <a:pt x="18177" y="13868"/>
                </a:cubicBezTo>
                <a:cubicBezTo>
                  <a:pt x="18177" y="13868"/>
                  <a:pt x="18177" y="13868"/>
                  <a:pt x="18195" y="13868"/>
                </a:cubicBezTo>
                <a:cubicBezTo>
                  <a:pt x="18195" y="13904"/>
                  <a:pt x="18195" y="13904"/>
                  <a:pt x="18195" y="13904"/>
                </a:cubicBezTo>
                <a:cubicBezTo>
                  <a:pt x="18177" y="13904"/>
                  <a:pt x="18177" y="13904"/>
                  <a:pt x="18177" y="13904"/>
                </a:cubicBezTo>
                <a:cubicBezTo>
                  <a:pt x="18177" y="13904"/>
                  <a:pt x="18177" y="13904"/>
                  <a:pt x="18158" y="13904"/>
                </a:cubicBezTo>
                <a:cubicBezTo>
                  <a:pt x="18139" y="13940"/>
                  <a:pt x="18139" y="13940"/>
                  <a:pt x="18120" y="13976"/>
                </a:cubicBezTo>
                <a:cubicBezTo>
                  <a:pt x="18120" y="13976"/>
                  <a:pt x="18101" y="13976"/>
                  <a:pt x="18082" y="14013"/>
                </a:cubicBezTo>
                <a:cubicBezTo>
                  <a:pt x="18082" y="14013"/>
                  <a:pt x="18063" y="14013"/>
                  <a:pt x="18063" y="14013"/>
                </a:cubicBezTo>
                <a:cubicBezTo>
                  <a:pt x="18063" y="14013"/>
                  <a:pt x="18063" y="14013"/>
                  <a:pt x="18063" y="14013"/>
                </a:cubicBezTo>
                <a:cubicBezTo>
                  <a:pt x="18063" y="14013"/>
                  <a:pt x="18063" y="14013"/>
                  <a:pt x="18063" y="14013"/>
                </a:cubicBezTo>
                <a:cubicBezTo>
                  <a:pt x="18082" y="14049"/>
                  <a:pt x="18120" y="14122"/>
                  <a:pt x="18120" y="14158"/>
                </a:cubicBezTo>
                <a:cubicBezTo>
                  <a:pt x="18120" y="14231"/>
                  <a:pt x="18120" y="14267"/>
                  <a:pt x="18158" y="14267"/>
                </a:cubicBezTo>
                <a:cubicBezTo>
                  <a:pt x="18158" y="14303"/>
                  <a:pt x="18158" y="14303"/>
                  <a:pt x="18158" y="14303"/>
                </a:cubicBezTo>
                <a:cubicBezTo>
                  <a:pt x="18120" y="14303"/>
                  <a:pt x="18101" y="14303"/>
                  <a:pt x="18101" y="14376"/>
                </a:cubicBezTo>
                <a:cubicBezTo>
                  <a:pt x="18082" y="14376"/>
                  <a:pt x="18082" y="14339"/>
                  <a:pt x="18082" y="14339"/>
                </a:cubicBezTo>
                <a:cubicBezTo>
                  <a:pt x="18082" y="14303"/>
                  <a:pt x="18082" y="14303"/>
                  <a:pt x="18082" y="14267"/>
                </a:cubicBezTo>
                <a:cubicBezTo>
                  <a:pt x="18063" y="14231"/>
                  <a:pt x="18044" y="14231"/>
                  <a:pt x="18044" y="14194"/>
                </a:cubicBezTo>
                <a:cubicBezTo>
                  <a:pt x="18025" y="14158"/>
                  <a:pt x="18063" y="14158"/>
                  <a:pt x="18044" y="14122"/>
                </a:cubicBezTo>
                <a:cubicBezTo>
                  <a:pt x="18025" y="14122"/>
                  <a:pt x="18006" y="14122"/>
                  <a:pt x="18006" y="14122"/>
                </a:cubicBezTo>
                <a:cubicBezTo>
                  <a:pt x="18006" y="14158"/>
                  <a:pt x="18006" y="14194"/>
                  <a:pt x="18006" y="14231"/>
                </a:cubicBezTo>
                <a:cubicBezTo>
                  <a:pt x="18006" y="14231"/>
                  <a:pt x="18006" y="14267"/>
                  <a:pt x="18006" y="14303"/>
                </a:cubicBezTo>
                <a:cubicBezTo>
                  <a:pt x="18006" y="14303"/>
                  <a:pt x="18006" y="14339"/>
                  <a:pt x="18006" y="14339"/>
                </a:cubicBezTo>
                <a:cubicBezTo>
                  <a:pt x="18006" y="14376"/>
                  <a:pt x="18006" y="14376"/>
                  <a:pt x="17987" y="14412"/>
                </a:cubicBezTo>
                <a:cubicBezTo>
                  <a:pt x="18006" y="14412"/>
                  <a:pt x="18006" y="14412"/>
                  <a:pt x="18006" y="14448"/>
                </a:cubicBezTo>
                <a:cubicBezTo>
                  <a:pt x="17987" y="14448"/>
                  <a:pt x="17968" y="14448"/>
                  <a:pt x="17950" y="14448"/>
                </a:cubicBezTo>
                <a:cubicBezTo>
                  <a:pt x="17931" y="14448"/>
                  <a:pt x="17968" y="14267"/>
                  <a:pt x="17950" y="14194"/>
                </a:cubicBezTo>
                <a:cubicBezTo>
                  <a:pt x="17931" y="14194"/>
                  <a:pt x="17931" y="14194"/>
                  <a:pt x="17912" y="14194"/>
                </a:cubicBezTo>
                <a:cubicBezTo>
                  <a:pt x="17912" y="14158"/>
                  <a:pt x="17912" y="14158"/>
                  <a:pt x="17912" y="14122"/>
                </a:cubicBezTo>
                <a:cubicBezTo>
                  <a:pt x="17912" y="14085"/>
                  <a:pt x="17931" y="14049"/>
                  <a:pt x="17950" y="14013"/>
                </a:cubicBezTo>
                <a:cubicBezTo>
                  <a:pt x="17931" y="13976"/>
                  <a:pt x="17931" y="13976"/>
                  <a:pt x="17931" y="13940"/>
                </a:cubicBezTo>
                <a:cubicBezTo>
                  <a:pt x="17950" y="13904"/>
                  <a:pt x="17950" y="13904"/>
                  <a:pt x="17950" y="13868"/>
                </a:cubicBezTo>
                <a:cubicBezTo>
                  <a:pt x="17950" y="13868"/>
                  <a:pt x="17950" y="13868"/>
                  <a:pt x="17968" y="13868"/>
                </a:cubicBezTo>
                <a:cubicBezTo>
                  <a:pt x="17968" y="13795"/>
                  <a:pt x="17968" y="13722"/>
                  <a:pt x="18006" y="13686"/>
                </a:cubicBezTo>
                <a:cubicBezTo>
                  <a:pt x="18006" y="13686"/>
                  <a:pt x="18006" y="13686"/>
                  <a:pt x="18006" y="13686"/>
                </a:cubicBezTo>
                <a:cubicBezTo>
                  <a:pt x="18025" y="13686"/>
                  <a:pt x="18025" y="13650"/>
                  <a:pt x="18044" y="13650"/>
                </a:cubicBezTo>
                <a:cubicBezTo>
                  <a:pt x="18063" y="13613"/>
                  <a:pt x="18063" y="13650"/>
                  <a:pt x="18082" y="13686"/>
                </a:cubicBezTo>
                <a:cubicBezTo>
                  <a:pt x="18101" y="13686"/>
                  <a:pt x="18101" y="13686"/>
                  <a:pt x="18120" y="13686"/>
                </a:cubicBezTo>
                <a:cubicBezTo>
                  <a:pt x="18139" y="13686"/>
                  <a:pt x="18139" y="13686"/>
                  <a:pt x="18158" y="13686"/>
                </a:cubicBezTo>
                <a:cubicBezTo>
                  <a:pt x="18158" y="13686"/>
                  <a:pt x="18158" y="13686"/>
                  <a:pt x="18177" y="13686"/>
                </a:cubicBezTo>
                <a:cubicBezTo>
                  <a:pt x="18214" y="13650"/>
                  <a:pt x="18233" y="13722"/>
                  <a:pt x="18271" y="13650"/>
                </a:cubicBezTo>
                <a:cubicBezTo>
                  <a:pt x="18271" y="13650"/>
                  <a:pt x="18271" y="13650"/>
                  <a:pt x="18271" y="13613"/>
                </a:cubicBezTo>
                <a:cubicBezTo>
                  <a:pt x="18271" y="13613"/>
                  <a:pt x="18290" y="13577"/>
                  <a:pt x="18290" y="13577"/>
                </a:cubicBezTo>
                <a:cubicBezTo>
                  <a:pt x="18290" y="13613"/>
                  <a:pt x="18290" y="13650"/>
                  <a:pt x="18271" y="13686"/>
                </a:cubicBezTo>
                <a:cubicBezTo>
                  <a:pt x="18233" y="13795"/>
                  <a:pt x="18195" y="13722"/>
                  <a:pt x="18120" y="13722"/>
                </a:cubicBezTo>
                <a:cubicBezTo>
                  <a:pt x="18044" y="13722"/>
                  <a:pt x="18006" y="13686"/>
                  <a:pt x="17987" y="13795"/>
                </a:cubicBezTo>
                <a:cubicBezTo>
                  <a:pt x="17987" y="13795"/>
                  <a:pt x="17968" y="13831"/>
                  <a:pt x="17987" y="13868"/>
                </a:cubicBezTo>
                <a:cubicBezTo>
                  <a:pt x="17987" y="13904"/>
                  <a:pt x="18006" y="13904"/>
                  <a:pt x="18006" y="13904"/>
                </a:cubicBezTo>
                <a:close/>
                <a:moveTo>
                  <a:pt x="17855" y="14848"/>
                </a:moveTo>
                <a:cubicBezTo>
                  <a:pt x="17836" y="14848"/>
                  <a:pt x="17817" y="14884"/>
                  <a:pt x="17779" y="14848"/>
                </a:cubicBezTo>
                <a:cubicBezTo>
                  <a:pt x="17779" y="14811"/>
                  <a:pt x="17779" y="14811"/>
                  <a:pt x="17779" y="14811"/>
                </a:cubicBezTo>
                <a:cubicBezTo>
                  <a:pt x="17798" y="14811"/>
                  <a:pt x="17798" y="14775"/>
                  <a:pt x="17798" y="14775"/>
                </a:cubicBezTo>
                <a:cubicBezTo>
                  <a:pt x="17817" y="14775"/>
                  <a:pt x="17817" y="14775"/>
                  <a:pt x="17817" y="14775"/>
                </a:cubicBezTo>
                <a:cubicBezTo>
                  <a:pt x="17836" y="14811"/>
                  <a:pt x="17836" y="14848"/>
                  <a:pt x="17874" y="14811"/>
                </a:cubicBezTo>
                <a:cubicBezTo>
                  <a:pt x="17874" y="14811"/>
                  <a:pt x="17874" y="14775"/>
                  <a:pt x="17874" y="14775"/>
                </a:cubicBezTo>
                <a:cubicBezTo>
                  <a:pt x="17855" y="14775"/>
                  <a:pt x="17855" y="14775"/>
                  <a:pt x="17855" y="14775"/>
                </a:cubicBezTo>
                <a:cubicBezTo>
                  <a:pt x="17855" y="14775"/>
                  <a:pt x="17836" y="14775"/>
                  <a:pt x="17836" y="14739"/>
                </a:cubicBezTo>
                <a:cubicBezTo>
                  <a:pt x="17855" y="14739"/>
                  <a:pt x="17855" y="14739"/>
                  <a:pt x="17855" y="14739"/>
                </a:cubicBezTo>
                <a:cubicBezTo>
                  <a:pt x="17874" y="14739"/>
                  <a:pt x="17874" y="14739"/>
                  <a:pt x="17874" y="14775"/>
                </a:cubicBezTo>
                <a:cubicBezTo>
                  <a:pt x="17874" y="14739"/>
                  <a:pt x="17893" y="14739"/>
                  <a:pt x="17893" y="14775"/>
                </a:cubicBezTo>
                <a:cubicBezTo>
                  <a:pt x="17893" y="14775"/>
                  <a:pt x="17893" y="14775"/>
                  <a:pt x="17893" y="14775"/>
                </a:cubicBezTo>
                <a:cubicBezTo>
                  <a:pt x="17893" y="14775"/>
                  <a:pt x="17893" y="14775"/>
                  <a:pt x="17912" y="14775"/>
                </a:cubicBezTo>
                <a:cubicBezTo>
                  <a:pt x="17912" y="14775"/>
                  <a:pt x="17912" y="14775"/>
                  <a:pt x="17912" y="14775"/>
                </a:cubicBezTo>
                <a:cubicBezTo>
                  <a:pt x="17912" y="14775"/>
                  <a:pt x="17912" y="14775"/>
                  <a:pt x="17912" y="14811"/>
                </a:cubicBezTo>
                <a:cubicBezTo>
                  <a:pt x="17931" y="14811"/>
                  <a:pt x="17931" y="14811"/>
                  <a:pt x="17931" y="14811"/>
                </a:cubicBezTo>
                <a:cubicBezTo>
                  <a:pt x="17931" y="14811"/>
                  <a:pt x="17931" y="14811"/>
                  <a:pt x="17931" y="14811"/>
                </a:cubicBezTo>
                <a:cubicBezTo>
                  <a:pt x="17912" y="14811"/>
                  <a:pt x="17912" y="14811"/>
                  <a:pt x="17912" y="14811"/>
                </a:cubicBezTo>
                <a:cubicBezTo>
                  <a:pt x="17893" y="14811"/>
                  <a:pt x="17893" y="14848"/>
                  <a:pt x="17874" y="14811"/>
                </a:cubicBezTo>
                <a:cubicBezTo>
                  <a:pt x="17874" y="14811"/>
                  <a:pt x="17874" y="14811"/>
                  <a:pt x="17874" y="14811"/>
                </a:cubicBezTo>
                <a:cubicBezTo>
                  <a:pt x="17874" y="14811"/>
                  <a:pt x="17874" y="14811"/>
                  <a:pt x="17874" y="14811"/>
                </a:cubicBezTo>
                <a:cubicBezTo>
                  <a:pt x="17874" y="14811"/>
                  <a:pt x="17874" y="14811"/>
                  <a:pt x="17874" y="14811"/>
                </a:cubicBezTo>
                <a:cubicBezTo>
                  <a:pt x="17874" y="14811"/>
                  <a:pt x="17874" y="14811"/>
                  <a:pt x="17855" y="14848"/>
                </a:cubicBezTo>
                <a:close/>
                <a:moveTo>
                  <a:pt x="17685" y="14739"/>
                </a:moveTo>
                <a:cubicBezTo>
                  <a:pt x="17685" y="14775"/>
                  <a:pt x="17704" y="14775"/>
                  <a:pt x="17704" y="14775"/>
                </a:cubicBezTo>
                <a:cubicBezTo>
                  <a:pt x="17704" y="14775"/>
                  <a:pt x="17704" y="14775"/>
                  <a:pt x="17704" y="14775"/>
                </a:cubicBezTo>
                <a:cubicBezTo>
                  <a:pt x="17704" y="14775"/>
                  <a:pt x="17685" y="14775"/>
                  <a:pt x="17685" y="14811"/>
                </a:cubicBezTo>
                <a:cubicBezTo>
                  <a:pt x="17666" y="14811"/>
                  <a:pt x="17647" y="14775"/>
                  <a:pt x="17647" y="14775"/>
                </a:cubicBezTo>
                <a:cubicBezTo>
                  <a:pt x="17647" y="14775"/>
                  <a:pt x="17647" y="14775"/>
                  <a:pt x="17647" y="14775"/>
                </a:cubicBezTo>
                <a:cubicBezTo>
                  <a:pt x="17666" y="14775"/>
                  <a:pt x="17666" y="14739"/>
                  <a:pt x="17685" y="14739"/>
                </a:cubicBezTo>
                <a:close/>
                <a:moveTo>
                  <a:pt x="17666" y="13214"/>
                </a:moveTo>
                <a:cubicBezTo>
                  <a:pt x="17685" y="13214"/>
                  <a:pt x="17685" y="13214"/>
                  <a:pt x="17685" y="13214"/>
                </a:cubicBezTo>
                <a:cubicBezTo>
                  <a:pt x="17685" y="13214"/>
                  <a:pt x="17685" y="13250"/>
                  <a:pt x="17685" y="13250"/>
                </a:cubicBezTo>
                <a:cubicBezTo>
                  <a:pt x="17666" y="13287"/>
                  <a:pt x="17666" y="13287"/>
                  <a:pt x="17647" y="13287"/>
                </a:cubicBezTo>
                <a:cubicBezTo>
                  <a:pt x="17647" y="13287"/>
                  <a:pt x="17628" y="13287"/>
                  <a:pt x="17628" y="13287"/>
                </a:cubicBezTo>
                <a:cubicBezTo>
                  <a:pt x="17628" y="13250"/>
                  <a:pt x="17628" y="13250"/>
                  <a:pt x="17628" y="13250"/>
                </a:cubicBezTo>
                <a:cubicBezTo>
                  <a:pt x="17647" y="13214"/>
                  <a:pt x="17647" y="13214"/>
                  <a:pt x="17666" y="13178"/>
                </a:cubicBezTo>
                <a:cubicBezTo>
                  <a:pt x="17666" y="13178"/>
                  <a:pt x="17666" y="13178"/>
                  <a:pt x="17666" y="13214"/>
                </a:cubicBezTo>
                <a:close/>
                <a:moveTo>
                  <a:pt x="17382" y="11508"/>
                </a:moveTo>
                <a:cubicBezTo>
                  <a:pt x="17401" y="11544"/>
                  <a:pt x="17420" y="11544"/>
                  <a:pt x="17439" y="11544"/>
                </a:cubicBezTo>
                <a:cubicBezTo>
                  <a:pt x="17439" y="11544"/>
                  <a:pt x="17439" y="11544"/>
                  <a:pt x="17439" y="11581"/>
                </a:cubicBezTo>
                <a:cubicBezTo>
                  <a:pt x="17439" y="11617"/>
                  <a:pt x="17401" y="11653"/>
                  <a:pt x="17382" y="11653"/>
                </a:cubicBezTo>
                <a:cubicBezTo>
                  <a:pt x="17382" y="11617"/>
                  <a:pt x="17382" y="11581"/>
                  <a:pt x="17382" y="11508"/>
                </a:cubicBezTo>
                <a:close/>
                <a:moveTo>
                  <a:pt x="17439" y="11835"/>
                </a:moveTo>
                <a:cubicBezTo>
                  <a:pt x="17439" y="11835"/>
                  <a:pt x="17420" y="11798"/>
                  <a:pt x="17401" y="11762"/>
                </a:cubicBezTo>
                <a:cubicBezTo>
                  <a:pt x="17401" y="11762"/>
                  <a:pt x="17420" y="11762"/>
                  <a:pt x="17420" y="11762"/>
                </a:cubicBezTo>
                <a:cubicBezTo>
                  <a:pt x="17439" y="11726"/>
                  <a:pt x="17439" y="11689"/>
                  <a:pt x="17439" y="11617"/>
                </a:cubicBezTo>
                <a:cubicBezTo>
                  <a:pt x="17458" y="11617"/>
                  <a:pt x="17458" y="11617"/>
                  <a:pt x="17458" y="11617"/>
                </a:cubicBezTo>
                <a:cubicBezTo>
                  <a:pt x="17458" y="11617"/>
                  <a:pt x="17458" y="11617"/>
                  <a:pt x="17477" y="11617"/>
                </a:cubicBezTo>
                <a:cubicBezTo>
                  <a:pt x="17477" y="11689"/>
                  <a:pt x="17439" y="11726"/>
                  <a:pt x="17458" y="11798"/>
                </a:cubicBezTo>
                <a:cubicBezTo>
                  <a:pt x="17458" y="11835"/>
                  <a:pt x="17458" y="11835"/>
                  <a:pt x="17439" y="11835"/>
                </a:cubicBezTo>
                <a:close/>
                <a:moveTo>
                  <a:pt x="17344" y="11326"/>
                </a:moveTo>
                <a:cubicBezTo>
                  <a:pt x="17363" y="11363"/>
                  <a:pt x="17344" y="11435"/>
                  <a:pt x="17325" y="11472"/>
                </a:cubicBezTo>
                <a:cubicBezTo>
                  <a:pt x="17306" y="11435"/>
                  <a:pt x="17306" y="11363"/>
                  <a:pt x="17288" y="11326"/>
                </a:cubicBezTo>
                <a:cubicBezTo>
                  <a:pt x="17288" y="11326"/>
                  <a:pt x="17288" y="11326"/>
                  <a:pt x="17288" y="11326"/>
                </a:cubicBezTo>
                <a:cubicBezTo>
                  <a:pt x="17288" y="11326"/>
                  <a:pt x="17306" y="11326"/>
                  <a:pt x="17306" y="11326"/>
                </a:cubicBezTo>
                <a:cubicBezTo>
                  <a:pt x="17325" y="11326"/>
                  <a:pt x="17344" y="11326"/>
                  <a:pt x="17344" y="11326"/>
                </a:cubicBezTo>
                <a:close/>
                <a:moveTo>
                  <a:pt x="17325" y="10165"/>
                </a:moveTo>
                <a:cubicBezTo>
                  <a:pt x="17325" y="10201"/>
                  <a:pt x="17325" y="10274"/>
                  <a:pt x="17306" y="10274"/>
                </a:cubicBezTo>
                <a:cubicBezTo>
                  <a:pt x="17288" y="10237"/>
                  <a:pt x="17269" y="10201"/>
                  <a:pt x="17269" y="10128"/>
                </a:cubicBezTo>
                <a:cubicBezTo>
                  <a:pt x="17250" y="10092"/>
                  <a:pt x="17306" y="9911"/>
                  <a:pt x="17325" y="9911"/>
                </a:cubicBezTo>
                <a:cubicBezTo>
                  <a:pt x="17344" y="9874"/>
                  <a:pt x="17344" y="9874"/>
                  <a:pt x="17363" y="9874"/>
                </a:cubicBezTo>
                <a:cubicBezTo>
                  <a:pt x="17363" y="9874"/>
                  <a:pt x="17363" y="9874"/>
                  <a:pt x="17382" y="9911"/>
                </a:cubicBezTo>
                <a:cubicBezTo>
                  <a:pt x="17363" y="9947"/>
                  <a:pt x="17363" y="10019"/>
                  <a:pt x="17344" y="10092"/>
                </a:cubicBezTo>
                <a:cubicBezTo>
                  <a:pt x="17344" y="10128"/>
                  <a:pt x="17325" y="10165"/>
                  <a:pt x="17325" y="10165"/>
                </a:cubicBezTo>
                <a:close/>
                <a:moveTo>
                  <a:pt x="17496" y="11363"/>
                </a:moveTo>
                <a:cubicBezTo>
                  <a:pt x="17477" y="11363"/>
                  <a:pt x="17477" y="11363"/>
                  <a:pt x="17458" y="11363"/>
                </a:cubicBezTo>
                <a:cubicBezTo>
                  <a:pt x="17458" y="11326"/>
                  <a:pt x="17439" y="11254"/>
                  <a:pt x="17420" y="11254"/>
                </a:cubicBezTo>
                <a:cubicBezTo>
                  <a:pt x="17420" y="11254"/>
                  <a:pt x="17420" y="11254"/>
                  <a:pt x="17401" y="11254"/>
                </a:cubicBezTo>
                <a:cubicBezTo>
                  <a:pt x="17420" y="11290"/>
                  <a:pt x="17420" y="11290"/>
                  <a:pt x="17420" y="11326"/>
                </a:cubicBezTo>
                <a:cubicBezTo>
                  <a:pt x="17420" y="11326"/>
                  <a:pt x="17420" y="11326"/>
                  <a:pt x="17420" y="11326"/>
                </a:cubicBezTo>
                <a:cubicBezTo>
                  <a:pt x="17420" y="11326"/>
                  <a:pt x="17420" y="11326"/>
                  <a:pt x="17420" y="11326"/>
                </a:cubicBezTo>
                <a:cubicBezTo>
                  <a:pt x="17401" y="11290"/>
                  <a:pt x="17382" y="11254"/>
                  <a:pt x="17363" y="11254"/>
                </a:cubicBezTo>
                <a:cubicBezTo>
                  <a:pt x="17344" y="11254"/>
                  <a:pt x="17344" y="11290"/>
                  <a:pt x="17325" y="11290"/>
                </a:cubicBezTo>
                <a:cubicBezTo>
                  <a:pt x="17325" y="11254"/>
                  <a:pt x="17306" y="11254"/>
                  <a:pt x="17306" y="11217"/>
                </a:cubicBezTo>
                <a:cubicBezTo>
                  <a:pt x="17306" y="11217"/>
                  <a:pt x="17306" y="11217"/>
                  <a:pt x="17306" y="11181"/>
                </a:cubicBezTo>
                <a:cubicBezTo>
                  <a:pt x="17325" y="11217"/>
                  <a:pt x="17325" y="11217"/>
                  <a:pt x="17344" y="11217"/>
                </a:cubicBezTo>
                <a:cubicBezTo>
                  <a:pt x="17344" y="11217"/>
                  <a:pt x="17344" y="11217"/>
                  <a:pt x="17344" y="11217"/>
                </a:cubicBezTo>
                <a:cubicBezTo>
                  <a:pt x="17344" y="11217"/>
                  <a:pt x="17344" y="11181"/>
                  <a:pt x="17344" y="11181"/>
                </a:cubicBezTo>
                <a:cubicBezTo>
                  <a:pt x="17325" y="11181"/>
                  <a:pt x="17306" y="11145"/>
                  <a:pt x="17288" y="11145"/>
                </a:cubicBezTo>
                <a:cubicBezTo>
                  <a:pt x="17288" y="11145"/>
                  <a:pt x="17288" y="11181"/>
                  <a:pt x="17288" y="11181"/>
                </a:cubicBezTo>
                <a:cubicBezTo>
                  <a:pt x="17231" y="11109"/>
                  <a:pt x="17269" y="11036"/>
                  <a:pt x="17250" y="10963"/>
                </a:cubicBezTo>
                <a:cubicBezTo>
                  <a:pt x="17250" y="10963"/>
                  <a:pt x="17250" y="10963"/>
                  <a:pt x="17250" y="10963"/>
                </a:cubicBezTo>
                <a:cubicBezTo>
                  <a:pt x="17250" y="10963"/>
                  <a:pt x="17250" y="10963"/>
                  <a:pt x="17250" y="10963"/>
                </a:cubicBezTo>
                <a:cubicBezTo>
                  <a:pt x="17269" y="10963"/>
                  <a:pt x="17269" y="11000"/>
                  <a:pt x="17288" y="11000"/>
                </a:cubicBezTo>
                <a:cubicBezTo>
                  <a:pt x="17288" y="10891"/>
                  <a:pt x="17269" y="10746"/>
                  <a:pt x="17306" y="10673"/>
                </a:cubicBezTo>
                <a:cubicBezTo>
                  <a:pt x="17344" y="10709"/>
                  <a:pt x="17344" y="10709"/>
                  <a:pt x="17363" y="10709"/>
                </a:cubicBezTo>
                <a:cubicBezTo>
                  <a:pt x="17382" y="10746"/>
                  <a:pt x="17382" y="10709"/>
                  <a:pt x="17401" y="10709"/>
                </a:cubicBezTo>
                <a:cubicBezTo>
                  <a:pt x="17401" y="10709"/>
                  <a:pt x="17401" y="10709"/>
                  <a:pt x="17401" y="10746"/>
                </a:cubicBezTo>
                <a:cubicBezTo>
                  <a:pt x="17382" y="10818"/>
                  <a:pt x="17401" y="10818"/>
                  <a:pt x="17420" y="10854"/>
                </a:cubicBezTo>
                <a:cubicBezTo>
                  <a:pt x="17401" y="10963"/>
                  <a:pt x="17382" y="10963"/>
                  <a:pt x="17344" y="11000"/>
                </a:cubicBezTo>
                <a:cubicBezTo>
                  <a:pt x="17344" y="11036"/>
                  <a:pt x="17344" y="11072"/>
                  <a:pt x="17344" y="11109"/>
                </a:cubicBezTo>
                <a:cubicBezTo>
                  <a:pt x="17363" y="11145"/>
                  <a:pt x="17363" y="11254"/>
                  <a:pt x="17401" y="11254"/>
                </a:cubicBezTo>
                <a:cubicBezTo>
                  <a:pt x="17401" y="11217"/>
                  <a:pt x="17401" y="11217"/>
                  <a:pt x="17420" y="11217"/>
                </a:cubicBezTo>
                <a:cubicBezTo>
                  <a:pt x="17420" y="11217"/>
                  <a:pt x="17420" y="11217"/>
                  <a:pt x="17439" y="11217"/>
                </a:cubicBezTo>
                <a:cubicBezTo>
                  <a:pt x="17439" y="11217"/>
                  <a:pt x="17439" y="11254"/>
                  <a:pt x="17458" y="11290"/>
                </a:cubicBezTo>
                <a:cubicBezTo>
                  <a:pt x="17458" y="11290"/>
                  <a:pt x="17458" y="11290"/>
                  <a:pt x="17458" y="11290"/>
                </a:cubicBezTo>
                <a:cubicBezTo>
                  <a:pt x="17458" y="11254"/>
                  <a:pt x="17477" y="11254"/>
                  <a:pt x="17477" y="11254"/>
                </a:cubicBezTo>
                <a:cubicBezTo>
                  <a:pt x="17477" y="11254"/>
                  <a:pt x="17496" y="11254"/>
                  <a:pt x="17496" y="11254"/>
                </a:cubicBezTo>
                <a:cubicBezTo>
                  <a:pt x="17496" y="11254"/>
                  <a:pt x="17496" y="11254"/>
                  <a:pt x="17496" y="11254"/>
                </a:cubicBezTo>
                <a:cubicBezTo>
                  <a:pt x="17496" y="11254"/>
                  <a:pt x="17496" y="11290"/>
                  <a:pt x="17496" y="11290"/>
                </a:cubicBezTo>
                <a:cubicBezTo>
                  <a:pt x="17496" y="11290"/>
                  <a:pt x="17477" y="11290"/>
                  <a:pt x="17477" y="11290"/>
                </a:cubicBezTo>
                <a:cubicBezTo>
                  <a:pt x="17477" y="11326"/>
                  <a:pt x="17496" y="11363"/>
                  <a:pt x="17496" y="11363"/>
                </a:cubicBezTo>
                <a:cubicBezTo>
                  <a:pt x="17496" y="11363"/>
                  <a:pt x="17496" y="11363"/>
                  <a:pt x="17496" y="11363"/>
                </a:cubicBezTo>
                <a:close/>
                <a:moveTo>
                  <a:pt x="17533" y="11435"/>
                </a:moveTo>
                <a:cubicBezTo>
                  <a:pt x="17533" y="11435"/>
                  <a:pt x="17552" y="11435"/>
                  <a:pt x="17571" y="11435"/>
                </a:cubicBezTo>
                <a:cubicBezTo>
                  <a:pt x="17571" y="11435"/>
                  <a:pt x="17571" y="11435"/>
                  <a:pt x="17590" y="11435"/>
                </a:cubicBezTo>
                <a:cubicBezTo>
                  <a:pt x="17590" y="11472"/>
                  <a:pt x="17590" y="11544"/>
                  <a:pt x="17609" y="11581"/>
                </a:cubicBezTo>
                <a:cubicBezTo>
                  <a:pt x="17609" y="11581"/>
                  <a:pt x="17609" y="11581"/>
                  <a:pt x="17590" y="11581"/>
                </a:cubicBezTo>
                <a:cubicBezTo>
                  <a:pt x="17590" y="11581"/>
                  <a:pt x="17590" y="11581"/>
                  <a:pt x="17590" y="11581"/>
                </a:cubicBezTo>
                <a:cubicBezTo>
                  <a:pt x="17590" y="11581"/>
                  <a:pt x="17571" y="11581"/>
                  <a:pt x="17571" y="11544"/>
                </a:cubicBezTo>
                <a:cubicBezTo>
                  <a:pt x="17571" y="11544"/>
                  <a:pt x="17571" y="11508"/>
                  <a:pt x="17571" y="11508"/>
                </a:cubicBezTo>
                <a:cubicBezTo>
                  <a:pt x="17552" y="11508"/>
                  <a:pt x="17533" y="11472"/>
                  <a:pt x="17533" y="11435"/>
                </a:cubicBezTo>
                <a:close/>
                <a:moveTo>
                  <a:pt x="17666" y="12052"/>
                </a:moveTo>
                <a:cubicBezTo>
                  <a:pt x="17647" y="12089"/>
                  <a:pt x="17647" y="12089"/>
                  <a:pt x="17647" y="12125"/>
                </a:cubicBezTo>
                <a:cubicBezTo>
                  <a:pt x="17647" y="12125"/>
                  <a:pt x="17628" y="12125"/>
                  <a:pt x="17628" y="12125"/>
                </a:cubicBezTo>
                <a:cubicBezTo>
                  <a:pt x="17628" y="12089"/>
                  <a:pt x="17628" y="12052"/>
                  <a:pt x="17609" y="12052"/>
                </a:cubicBezTo>
                <a:cubicBezTo>
                  <a:pt x="17609" y="12089"/>
                  <a:pt x="17609" y="12089"/>
                  <a:pt x="17590" y="12125"/>
                </a:cubicBezTo>
                <a:cubicBezTo>
                  <a:pt x="17590" y="12161"/>
                  <a:pt x="17628" y="12198"/>
                  <a:pt x="17590" y="12270"/>
                </a:cubicBezTo>
                <a:cubicBezTo>
                  <a:pt x="17590" y="12270"/>
                  <a:pt x="17590" y="12270"/>
                  <a:pt x="17590" y="12270"/>
                </a:cubicBezTo>
                <a:cubicBezTo>
                  <a:pt x="17590" y="12234"/>
                  <a:pt x="17590" y="12234"/>
                  <a:pt x="17571" y="12234"/>
                </a:cubicBezTo>
                <a:cubicBezTo>
                  <a:pt x="17590" y="12234"/>
                  <a:pt x="17590" y="12198"/>
                  <a:pt x="17590" y="12198"/>
                </a:cubicBezTo>
                <a:cubicBezTo>
                  <a:pt x="17571" y="12198"/>
                  <a:pt x="17571" y="12198"/>
                  <a:pt x="17571" y="12198"/>
                </a:cubicBezTo>
                <a:cubicBezTo>
                  <a:pt x="17571" y="12198"/>
                  <a:pt x="17571" y="12198"/>
                  <a:pt x="17571" y="12234"/>
                </a:cubicBezTo>
                <a:cubicBezTo>
                  <a:pt x="17533" y="12234"/>
                  <a:pt x="17515" y="12161"/>
                  <a:pt x="17515" y="12125"/>
                </a:cubicBezTo>
                <a:cubicBezTo>
                  <a:pt x="17496" y="12089"/>
                  <a:pt x="17533" y="12052"/>
                  <a:pt x="17496" y="12016"/>
                </a:cubicBezTo>
                <a:cubicBezTo>
                  <a:pt x="17496" y="11980"/>
                  <a:pt x="17477" y="11980"/>
                  <a:pt x="17477" y="11980"/>
                </a:cubicBezTo>
                <a:cubicBezTo>
                  <a:pt x="17458" y="12016"/>
                  <a:pt x="17458" y="12016"/>
                  <a:pt x="17439" y="12016"/>
                </a:cubicBezTo>
                <a:cubicBezTo>
                  <a:pt x="17439" y="12016"/>
                  <a:pt x="17439" y="12016"/>
                  <a:pt x="17439" y="12016"/>
                </a:cubicBezTo>
                <a:cubicBezTo>
                  <a:pt x="17439" y="11980"/>
                  <a:pt x="17439" y="11980"/>
                  <a:pt x="17439" y="11980"/>
                </a:cubicBezTo>
                <a:cubicBezTo>
                  <a:pt x="17420" y="11980"/>
                  <a:pt x="17401" y="12052"/>
                  <a:pt x="17401" y="12089"/>
                </a:cubicBezTo>
                <a:cubicBezTo>
                  <a:pt x="17382" y="12089"/>
                  <a:pt x="17382" y="12089"/>
                  <a:pt x="17382" y="12089"/>
                </a:cubicBezTo>
                <a:cubicBezTo>
                  <a:pt x="17382" y="12089"/>
                  <a:pt x="17382" y="12089"/>
                  <a:pt x="17382" y="12089"/>
                </a:cubicBezTo>
                <a:cubicBezTo>
                  <a:pt x="17382" y="12052"/>
                  <a:pt x="17382" y="11980"/>
                  <a:pt x="17401" y="11980"/>
                </a:cubicBezTo>
                <a:cubicBezTo>
                  <a:pt x="17420" y="11980"/>
                  <a:pt x="17420" y="11980"/>
                  <a:pt x="17439" y="11944"/>
                </a:cubicBezTo>
                <a:cubicBezTo>
                  <a:pt x="17439" y="11907"/>
                  <a:pt x="17458" y="11907"/>
                  <a:pt x="17477" y="11907"/>
                </a:cubicBezTo>
                <a:cubicBezTo>
                  <a:pt x="17496" y="11907"/>
                  <a:pt x="17496" y="11944"/>
                  <a:pt x="17496" y="11944"/>
                </a:cubicBezTo>
                <a:cubicBezTo>
                  <a:pt x="17496" y="11944"/>
                  <a:pt x="17515" y="11944"/>
                  <a:pt x="17515" y="11944"/>
                </a:cubicBezTo>
                <a:cubicBezTo>
                  <a:pt x="17515" y="11907"/>
                  <a:pt x="17533" y="11907"/>
                  <a:pt x="17533" y="11907"/>
                </a:cubicBezTo>
                <a:cubicBezTo>
                  <a:pt x="17552" y="11907"/>
                  <a:pt x="17552" y="11907"/>
                  <a:pt x="17552" y="11907"/>
                </a:cubicBezTo>
                <a:cubicBezTo>
                  <a:pt x="17552" y="11871"/>
                  <a:pt x="17552" y="11871"/>
                  <a:pt x="17571" y="11835"/>
                </a:cubicBezTo>
                <a:cubicBezTo>
                  <a:pt x="17571" y="11871"/>
                  <a:pt x="17571" y="11871"/>
                  <a:pt x="17571" y="11871"/>
                </a:cubicBezTo>
                <a:cubicBezTo>
                  <a:pt x="17571" y="11871"/>
                  <a:pt x="17571" y="11871"/>
                  <a:pt x="17571" y="11871"/>
                </a:cubicBezTo>
                <a:cubicBezTo>
                  <a:pt x="17590" y="11835"/>
                  <a:pt x="17590" y="11871"/>
                  <a:pt x="17609" y="11835"/>
                </a:cubicBezTo>
                <a:cubicBezTo>
                  <a:pt x="17609" y="11835"/>
                  <a:pt x="17590" y="11798"/>
                  <a:pt x="17590" y="11762"/>
                </a:cubicBezTo>
                <a:cubicBezTo>
                  <a:pt x="17590" y="11762"/>
                  <a:pt x="17609" y="11762"/>
                  <a:pt x="17609" y="11762"/>
                </a:cubicBezTo>
                <a:cubicBezTo>
                  <a:pt x="17628" y="11798"/>
                  <a:pt x="17647" y="11835"/>
                  <a:pt x="17628" y="11907"/>
                </a:cubicBezTo>
                <a:cubicBezTo>
                  <a:pt x="17628" y="11907"/>
                  <a:pt x="17628" y="11907"/>
                  <a:pt x="17628" y="11907"/>
                </a:cubicBezTo>
                <a:cubicBezTo>
                  <a:pt x="17647" y="11907"/>
                  <a:pt x="17647" y="11907"/>
                  <a:pt x="17647" y="11907"/>
                </a:cubicBezTo>
                <a:cubicBezTo>
                  <a:pt x="17647" y="11907"/>
                  <a:pt x="17647" y="11907"/>
                  <a:pt x="17666" y="11944"/>
                </a:cubicBezTo>
                <a:cubicBezTo>
                  <a:pt x="17647" y="11980"/>
                  <a:pt x="17666" y="12016"/>
                  <a:pt x="17666" y="12052"/>
                </a:cubicBezTo>
                <a:close/>
                <a:moveTo>
                  <a:pt x="17723" y="13287"/>
                </a:moveTo>
                <a:cubicBezTo>
                  <a:pt x="17760" y="13287"/>
                  <a:pt x="17817" y="13287"/>
                  <a:pt x="17836" y="13287"/>
                </a:cubicBezTo>
                <a:cubicBezTo>
                  <a:pt x="17836" y="13323"/>
                  <a:pt x="17836" y="13323"/>
                  <a:pt x="17836" y="13359"/>
                </a:cubicBezTo>
                <a:cubicBezTo>
                  <a:pt x="17836" y="13359"/>
                  <a:pt x="17836" y="13359"/>
                  <a:pt x="17836" y="13359"/>
                </a:cubicBezTo>
                <a:cubicBezTo>
                  <a:pt x="17836" y="13359"/>
                  <a:pt x="17817" y="13359"/>
                  <a:pt x="17817" y="13359"/>
                </a:cubicBezTo>
                <a:cubicBezTo>
                  <a:pt x="17817" y="13359"/>
                  <a:pt x="17817" y="13396"/>
                  <a:pt x="17817" y="13396"/>
                </a:cubicBezTo>
                <a:cubicBezTo>
                  <a:pt x="17836" y="13432"/>
                  <a:pt x="17855" y="13468"/>
                  <a:pt x="17855" y="13505"/>
                </a:cubicBezTo>
                <a:cubicBezTo>
                  <a:pt x="17855" y="13505"/>
                  <a:pt x="17836" y="13541"/>
                  <a:pt x="17855" y="13541"/>
                </a:cubicBezTo>
                <a:cubicBezTo>
                  <a:pt x="17855" y="13541"/>
                  <a:pt x="17912" y="13650"/>
                  <a:pt x="17912" y="13686"/>
                </a:cubicBezTo>
                <a:cubicBezTo>
                  <a:pt x="17912" y="13686"/>
                  <a:pt x="17912" y="13686"/>
                  <a:pt x="17912" y="13686"/>
                </a:cubicBezTo>
                <a:cubicBezTo>
                  <a:pt x="17893" y="13686"/>
                  <a:pt x="17874" y="13686"/>
                  <a:pt x="17855" y="13686"/>
                </a:cubicBezTo>
                <a:cubicBezTo>
                  <a:pt x="17817" y="13722"/>
                  <a:pt x="17836" y="13795"/>
                  <a:pt x="17817" y="13904"/>
                </a:cubicBezTo>
                <a:cubicBezTo>
                  <a:pt x="17817" y="13904"/>
                  <a:pt x="17817" y="13904"/>
                  <a:pt x="17798" y="13868"/>
                </a:cubicBezTo>
                <a:cubicBezTo>
                  <a:pt x="17779" y="13940"/>
                  <a:pt x="17760" y="13976"/>
                  <a:pt x="17741" y="14013"/>
                </a:cubicBezTo>
                <a:cubicBezTo>
                  <a:pt x="17741" y="14013"/>
                  <a:pt x="17760" y="14013"/>
                  <a:pt x="17760" y="14013"/>
                </a:cubicBezTo>
                <a:cubicBezTo>
                  <a:pt x="17760" y="14049"/>
                  <a:pt x="17760" y="14049"/>
                  <a:pt x="17760" y="14049"/>
                </a:cubicBezTo>
                <a:cubicBezTo>
                  <a:pt x="17760" y="14049"/>
                  <a:pt x="17741" y="14049"/>
                  <a:pt x="17741" y="14049"/>
                </a:cubicBezTo>
                <a:cubicBezTo>
                  <a:pt x="17741" y="14085"/>
                  <a:pt x="17760" y="14085"/>
                  <a:pt x="17760" y="14122"/>
                </a:cubicBezTo>
                <a:cubicBezTo>
                  <a:pt x="17741" y="14158"/>
                  <a:pt x="17723" y="14231"/>
                  <a:pt x="17704" y="14231"/>
                </a:cubicBezTo>
                <a:cubicBezTo>
                  <a:pt x="17685" y="14267"/>
                  <a:pt x="17647" y="14267"/>
                  <a:pt x="17647" y="14267"/>
                </a:cubicBezTo>
                <a:cubicBezTo>
                  <a:pt x="17647" y="14267"/>
                  <a:pt x="17647" y="14194"/>
                  <a:pt x="17628" y="14158"/>
                </a:cubicBezTo>
                <a:cubicBezTo>
                  <a:pt x="17609" y="14158"/>
                  <a:pt x="17609" y="14194"/>
                  <a:pt x="17590" y="14194"/>
                </a:cubicBezTo>
                <a:cubicBezTo>
                  <a:pt x="17590" y="14194"/>
                  <a:pt x="17590" y="14194"/>
                  <a:pt x="17590" y="14194"/>
                </a:cubicBezTo>
                <a:cubicBezTo>
                  <a:pt x="17590" y="14158"/>
                  <a:pt x="17552" y="14158"/>
                  <a:pt x="17552" y="14122"/>
                </a:cubicBezTo>
                <a:cubicBezTo>
                  <a:pt x="17552" y="14122"/>
                  <a:pt x="17552" y="14122"/>
                  <a:pt x="17533" y="14122"/>
                </a:cubicBezTo>
                <a:cubicBezTo>
                  <a:pt x="17533" y="14158"/>
                  <a:pt x="17533" y="14158"/>
                  <a:pt x="17533" y="14194"/>
                </a:cubicBezTo>
                <a:cubicBezTo>
                  <a:pt x="17496" y="14194"/>
                  <a:pt x="17496" y="14194"/>
                  <a:pt x="17477" y="14194"/>
                </a:cubicBezTo>
                <a:cubicBezTo>
                  <a:pt x="17477" y="14158"/>
                  <a:pt x="17477" y="14122"/>
                  <a:pt x="17477" y="14122"/>
                </a:cubicBezTo>
                <a:cubicBezTo>
                  <a:pt x="17458" y="14122"/>
                  <a:pt x="17439" y="14158"/>
                  <a:pt x="17420" y="14158"/>
                </a:cubicBezTo>
                <a:cubicBezTo>
                  <a:pt x="17420" y="14158"/>
                  <a:pt x="17420" y="14122"/>
                  <a:pt x="17401" y="14122"/>
                </a:cubicBezTo>
                <a:cubicBezTo>
                  <a:pt x="17401" y="14122"/>
                  <a:pt x="17382" y="14122"/>
                  <a:pt x="17382" y="14122"/>
                </a:cubicBezTo>
                <a:cubicBezTo>
                  <a:pt x="17382" y="14085"/>
                  <a:pt x="17382" y="13976"/>
                  <a:pt x="17363" y="13940"/>
                </a:cubicBezTo>
                <a:cubicBezTo>
                  <a:pt x="17344" y="13904"/>
                  <a:pt x="17325" y="13904"/>
                  <a:pt x="17325" y="13868"/>
                </a:cubicBezTo>
                <a:cubicBezTo>
                  <a:pt x="17325" y="13868"/>
                  <a:pt x="17325" y="13868"/>
                  <a:pt x="17325" y="13868"/>
                </a:cubicBezTo>
                <a:cubicBezTo>
                  <a:pt x="17325" y="13868"/>
                  <a:pt x="17325" y="13868"/>
                  <a:pt x="17344" y="13868"/>
                </a:cubicBezTo>
                <a:cubicBezTo>
                  <a:pt x="17325" y="13831"/>
                  <a:pt x="17325" y="13831"/>
                  <a:pt x="17306" y="13831"/>
                </a:cubicBezTo>
                <a:cubicBezTo>
                  <a:pt x="17325" y="13795"/>
                  <a:pt x="17325" y="13759"/>
                  <a:pt x="17306" y="13759"/>
                </a:cubicBezTo>
                <a:cubicBezTo>
                  <a:pt x="17306" y="13759"/>
                  <a:pt x="17306" y="13722"/>
                  <a:pt x="17306" y="13722"/>
                </a:cubicBezTo>
                <a:cubicBezTo>
                  <a:pt x="17288" y="13686"/>
                  <a:pt x="17306" y="13613"/>
                  <a:pt x="17325" y="13577"/>
                </a:cubicBezTo>
                <a:cubicBezTo>
                  <a:pt x="17325" y="13577"/>
                  <a:pt x="17325" y="13541"/>
                  <a:pt x="17344" y="13541"/>
                </a:cubicBezTo>
                <a:cubicBezTo>
                  <a:pt x="17344" y="13541"/>
                  <a:pt x="17344" y="13541"/>
                  <a:pt x="17344" y="13541"/>
                </a:cubicBezTo>
                <a:cubicBezTo>
                  <a:pt x="17344" y="13577"/>
                  <a:pt x="17344" y="13577"/>
                  <a:pt x="17344" y="13613"/>
                </a:cubicBezTo>
                <a:cubicBezTo>
                  <a:pt x="17363" y="13650"/>
                  <a:pt x="17382" y="13650"/>
                  <a:pt x="17401" y="13686"/>
                </a:cubicBezTo>
                <a:cubicBezTo>
                  <a:pt x="17420" y="13686"/>
                  <a:pt x="17420" y="13650"/>
                  <a:pt x="17439" y="13650"/>
                </a:cubicBezTo>
                <a:cubicBezTo>
                  <a:pt x="17439" y="13650"/>
                  <a:pt x="17458" y="13686"/>
                  <a:pt x="17477" y="13686"/>
                </a:cubicBezTo>
                <a:cubicBezTo>
                  <a:pt x="17496" y="13686"/>
                  <a:pt x="17496" y="13613"/>
                  <a:pt x="17515" y="13613"/>
                </a:cubicBezTo>
                <a:cubicBezTo>
                  <a:pt x="17552" y="13577"/>
                  <a:pt x="17571" y="13650"/>
                  <a:pt x="17590" y="13650"/>
                </a:cubicBezTo>
                <a:cubicBezTo>
                  <a:pt x="17590" y="13650"/>
                  <a:pt x="17609" y="13613"/>
                  <a:pt x="17609" y="13613"/>
                </a:cubicBezTo>
                <a:cubicBezTo>
                  <a:pt x="17628" y="13613"/>
                  <a:pt x="17628" y="13613"/>
                  <a:pt x="17647" y="13613"/>
                </a:cubicBezTo>
                <a:cubicBezTo>
                  <a:pt x="17666" y="13577"/>
                  <a:pt x="17685" y="13505"/>
                  <a:pt x="17685" y="13505"/>
                </a:cubicBezTo>
                <a:cubicBezTo>
                  <a:pt x="17685" y="13468"/>
                  <a:pt x="17685" y="13468"/>
                  <a:pt x="17685" y="13432"/>
                </a:cubicBezTo>
                <a:cubicBezTo>
                  <a:pt x="17685" y="13432"/>
                  <a:pt x="17704" y="13396"/>
                  <a:pt x="17704" y="13396"/>
                </a:cubicBezTo>
                <a:cubicBezTo>
                  <a:pt x="17704" y="13323"/>
                  <a:pt x="17723" y="13323"/>
                  <a:pt x="17723" y="13287"/>
                </a:cubicBezTo>
                <a:close/>
                <a:moveTo>
                  <a:pt x="18328" y="8386"/>
                </a:moveTo>
                <a:cubicBezTo>
                  <a:pt x="18347" y="8350"/>
                  <a:pt x="18385" y="8313"/>
                  <a:pt x="18403" y="8277"/>
                </a:cubicBezTo>
                <a:cubicBezTo>
                  <a:pt x="18422" y="8277"/>
                  <a:pt x="18422" y="8241"/>
                  <a:pt x="18422" y="8241"/>
                </a:cubicBezTo>
                <a:cubicBezTo>
                  <a:pt x="18441" y="8204"/>
                  <a:pt x="18441" y="8204"/>
                  <a:pt x="18460" y="8204"/>
                </a:cubicBezTo>
                <a:cubicBezTo>
                  <a:pt x="18479" y="8168"/>
                  <a:pt x="18498" y="8023"/>
                  <a:pt x="18498" y="7950"/>
                </a:cubicBezTo>
                <a:cubicBezTo>
                  <a:pt x="18498" y="7950"/>
                  <a:pt x="18498" y="7950"/>
                  <a:pt x="18479" y="7914"/>
                </a:cubicBezTo>
                <a:cubicBezTo>
                  <a:pt x="18479" y="7914"/>
                  <a:pt x="18498" y="7914"/>
                  <a:pt x="18498" y="7914"/>
                </a:cubicBezTo>
                <a:cubicBezTo>
                  <a:pt x="18498" y="7914"/>
                  <a:pt x="18498" y="7914"/>
                  <a:pt x="18498" y="7878"/>
                </a:cubicBezTo>
                <a:cubicBezTo>
                  <a:pt x="18498" y="7878"/>
                  <a:pt x="18498" y="7841"/>
                  <a:pt x="18498" y="7841"/>
                </a:cubicBezTo>
                <a:cubicBezTo>
                  <a:pt x="18517" y="7805"/>
                  <a:pt x="18517" y="7805"/>
                  <a:pt x="18517" y="7769"/>
                </a:cubicBezTo>
                <a:cubicBezTo>
                  <a:pt x="18517" y="7769"/>
                  <a:pt x="18536" y="7769"/>
                  <a:pt x="18536" y="7769"/>
                </a:cubicBezTo>
                <a:cubicBezTo>
                  <a:pt x="18536" y="7769"/>
                  <a:pt x="18536" y="7805"/>
                  <a:pt x="18536" y="7805"/>
                </a:cubicBezTo>
                <a:cubicBezTo>
                  <a:pt x="18555" y="7805"/>
                  <a:pt x="18574" y="7805"/>
                  <a:pt x="18574" y="7805"/>
                </a:cubicBezTo>
                <a:cubicBezTo>
                  <a:pt x="18574" y="7769"/>
                  <a:pt x="18574" y="7769"/>
                  <a:pt x="18574" y="7769"/>
                </a:cubicBezTo>
                <a:cubicBezTo>
                  <a:pt x="18555" y="7769"/>
                  <a:pt x="18555" y="7732"/>
                  <a:pt x="18555" y="7732"/>
                </a:cubicBezTo>
                <a:cubicBezTo>
                  <a:pt x="18555" y="7732"/>
                  <a:pt x="18555" y="7732"/>
                  <a:pt x="18555" y="7732"/>
                </a:cubicBezTo>
                <a:cubicBezTo>
                  <a:pt x="18555" y="7732"/>
                  <a:pt x="18555" y="7696"/>
                  <a:pt x="18574" y="7696"/>
                </a:cubicBezTo>
                <a:cubicBezTo>
                  <a:pt x="18574" y="7696"/>
                  <a:pt x="18593" y="7732"/>
                  <a:pt x="18593" y="7732"/>
                </a:cubicBezTo>
                <a:cubicBezTo>
                  <a:pt x="18593" y="7769"/>
                  <a:pt x="18593" y="7805"/>
                  <a:pt x="18593" y="7841"/>
                </a:cubicBezTo>
                <a:cubicBezTo>
                  <a:pt x="18593" y="7841"/>
                  <a:pt x="18593" y="7841"/>
                  <a:pt x="18612" y="7878"/>
                </a:cubicBezTo>
                <a:cubicBezTo>
                  <a:pt x="18612" y="7878"/>
                  <a:pt x="18630" y="7950"/>
                  <a:pt x="18630" y="7987"/>
                </a:cubicBezTo>
                <a:cubicBezTo>
                  <a:pt x="18612" y="8023"/>
                  <a:pt x="18593" y="8059"/>
                  <a:pt x="18593" y="8095"/>
                </a:cubicBezTo>
                <a:cubicBezTo>
                  <a:pt x="18593" y="8095"/>
                  <a:pt x="18593" y="8132"/>
                  <a:pt x="18593" y="8132"/>
                </a:cubicBezTo>
                <a:cubicBezTo>
                  <a:pt x="18517" y="8168"/>
                  <a:pt x="18574" y="8241"/>
                  <a:pt x="18555" y="8313"/>
                </a:cubicBezTo>
                <a:cubicBezTo>
                  <a:pt x="18555" y="8386"/>
                  <a:pt x="18498" y="8422"/>
                  <a:pt x="18555" y="8495"/>
                </a:cubicBezTo>
                <a:cubicBezTo>
                  <a:pt x="18555" y="8495"/>
                  <a:pt x="18555" y="8495"/>
                  <a:pt x="18555" y="8495"/>
                </a:cubicBezTo>
                <a:cubicBezTo>
                  <a:pt x="18517" y="8531"/>
                  <a:pt x="18517" y="8531"/>
                  <a:pt x="18517" y="8604"/>
                </a:cubicBezTo>
                <a:cubicBezTo>
                  <a:pt x="18517" y="8604"/>
                  <a:pt x="18498" y="8604"/>
                  <a:pt x="18498" y="8604"/>
                </a:cubicBezTo>
                <a:cubicBezTo>
                  <a:pt x="18498" y="8604"/>
                  <a:pt x="18479" y="8604"/>
                  <a:pt x="18479" y="8604"/>
                </a:cubicBezTo>
                <a:cubicBezTo>
                  <a:pt x="18479" y="8567"/>
                  <a:pt x="18498" y="8567"/>
                  <a:pt x="18498" y="8531"/>
                </a:cubicBezTo>
                <a:cubicBezTo>
                  <a:pt x="18498" y="8531"/>
                  <a:pt x="18498" y="8531"/>
                  <a:pt x="18498" y="8531"/>
                </a:cubicBezTo>
                <a:cubicBezTo>
                  <a:pt x="18479" y="8531"/>
                  <a:pt x="18460" y="8567"/>
                  <a:pt x="18441" y="8604"/>
                </a:cubicBezTo>
                <a:cubicBezTo>
                  <a:pt x="18441" y="8640"/>
                  <a:pt x="18441" y="8640"/>
                  <a:pt x="18422" y="8640"/>
                </a:cubicBezTo>
                <a:cubicBezTo>
                  <a:pt x="18422" y="8640"/>
                  <a:pt x="18422" y="8640"/>
                  <a:pt x="18422" y="8640"/>
                </a:cubicBezTo>
                <a:cubicBezTo>
                  <a:pt x="18422" y="8640"/>
                  <a:pt x="18422" y="8604"/>
                  <a:pt x="18422" y="8604"/>
                </a:cubicBezTo>
                <a:cubicBezTo>
                  <a:pt x="18422" y="8604"/>
                  <a:pt x="18422" y="8604"/>
                  <a:pt x="18422" y="8604"/>
                </a:cubicBezTo>
                <a:cubicBezTo>
                  <a:pt x="18403" y="8604"/>
                  <a:pt x="18403" y="8640"/>
                  <a:pt x="18385" y="8640"/>
                </a:cubicBezTo>
                <a:cubicBezTo>
                  <a:pt x="18366" y="8640"/>
                  <a:pt x="18347" y="8676"/>
                  <a:pt x="18328" y="8676"/>
                </a:cubicBezTo>
                <a:cubicBezTo>
                  <a:pt x="18328" y="8640"/>
                  <a:pt x="18309" y="8604"/>
                  <a:pt x="18290" y="8604"/>
                </a:cubicBezTo>
                <a:cubicBezTo>
                  <a:pt x="18290" y="8640"/>
                  <a:pt x="18290" y="8640"/>
                  <a:pt x="18290" y="8676"/>
                </a:cubicBezTo>
                <a:cubicBezTo>
                  <a:pt x="18290" y="8676"/>
                  <a:pt x="18309" y="8676"/>
                  <a:pt x="18309" y="8676"/>
                </a:cubicBezTo>
                <a:cubicBezTo>
                  <a:pt x="18309" y="8713"/>
                  <a:pt x="18309" y="8713"/>
                  <a:pt x="18309" y="8713"/>
                </a:cubicBezTo>
                <a:cubicBezTo>
                  <a:pt x="18271" y="8713"/>
                  <a:pt x="18252" y="8749"/>
                  <a:pt x="18233" y="8822"/>
                </a:cubicBezTo>
                <a:cubicBezTo>
                  <a:pt x="18233" y="8785"/>
                  <a:pt x="18214" y="8785"/>
                  <a:pt x="18195" y="8785"/>
                </a:cubicBezTo>
                <a:cubicBezTo>
                  <a:pt x="18195" y="8749"/>
                  <a:pt x="18195" y="8713"/>
                  <a:pt x="18195" y="8713"/>
                </a:cubicBezTo>
                <a:cubicBezTo>
                  <a:pt x="18195" y="8676"/>
                  <a:pt x="18214" y="8676"/>
                  <a:pt x="18214" y="8640"/>
                </a:cubicBezTo>
                <a:cubicBezTo>
                  <a:pt x="18214" y="8640"/>
                  <a:pt x="18214" y="8640"/>
                  <a:pt x="18214" y="8640"/>
                </a:cubicBezTo>
                <a:cubicBezTo>
                  <a:pt x="18195" y="8640"/>
                  <a:pt x="18177" y="8640"/>
                  <a:pt x="18158" y="8640"/>
                </a:cubicBezTo>
                <a:cubicBezTo>
                  <a:pt x="18139" y="8640"/>
                  <a:pt x="18139" y="8676"/>
                  <a:pt x="18120" y="8676"/>
                </a:cubicBezTo>
                <a:cubicBezTo>
                  <a:pt x="18120" y="8676"/>
                  <a:pt x="18101" y="8676"/>
                  <a:pt x="18101" y="8676"/>
                </a:cubicBezTo>
                <a:cubicBezTo>
                  <a:pt x="18082" y="8676"/>
                  <a:pt x="18063" y="8713"/>
                  <a:pt x="18044" y="8713"/>
                </a:cubicBezTo>
                <a:cubicBezTo>
                  <a:pt x="18025" y="8713"/>
                  <a:pt x="18025" y="8713"/>
                  <a:pt x="18025" y="8676"/>
                </a:cubicBezTo>
                <a:cubicBezTo>
                  <a:pt x="18006" y="8676"/>
                  <a:pt x="18006" y="8713"/>
                  <a:pt x="18006" y="8749"/>
                </a:cubicBezTo>
                <a:cubicBezTo>
                  <a:pt x="17987" y="8749"/>
                  <a:pt x="17968" y="8713"/>
                  <a:pt x="17931" y="8749"/>
                </a:cubicBezTo>
                <a:cubicBezTo>
                  <a:pt x="17931" y="8749"/>
                  <a:pt x="17931" y="8749"/>
                  <a:pt x="17931" y="8713"/>
                </a:cubicBezTo>
                <a:cubicBezTo>
                  <a:pt x="17931" y="8713"/>
                  <a:pt x="17931" y="8713"/>
                  <a:pt x="17931" y="8676"/>
                </a:cubicBezTo>
                <a:cubicBezTo>
                  <a:pt x="18006" y="8676"/>
                  <a:pt x="18006" y="8567"/>
                  <a:pt x="18044" y="8531"/>
                </a:cubicBezTo>
                <a:cubicBezTo>
                  <a:pt x="18063" y="8531"/>
                  <a:pt x="18063" y="8531"/>
                  <a:pt x="18063" y="8567"/>
                </a:cubicBezTo>
                <a:cubicBezTo>
                  <a:pt x="18120" y="8531"/>
                  <a:pt x="18158" y="8531"/>
                  <a:pt x="18195" y="8495"/>
                </a:cubicBezTo>
                <a:cubicBezTo>
                  <a:pt x="18195" y="8531"/>
                  <a:pt x="18195" y="8531"/>
                  <a:pt x="18214" y="8567"/>
                </a:cubicBezTo>
                <a:cubicBezTo>
                  <a:pt x="18233" y="8531"/>
                  <a:pt x="18233" y="8531"/>
                  <a:pt x="18252" y="8531"/>
                </a:cubicBezTo>
                <a:cubicBezTo>
                  <a:pt x="18252" y="8422"/>
                  <a:pt x="18271" y="8422"/>
                  <a:pt x="18290" y="8386"/>
                </a:cubicBezTo>
                <a:cubicBezTo>
                  <a:pt x="18290" y="8350"/>
                  <a:pt x="18290" y="8313"/>
                  <a:pt x="18290" y="8277"/>
                </a:cubicBezTo>
                <a:cubicBezTo>
                  <a:pt x="18309" y="8277"/>
                  <a:pt x="18309" y="8277"/>
                  <a:pt x="18328" y="8277"/>
                </a:cubicBezTo>
                <a:cubicBezTo>
                  <a:pt x="18328" y="8277"/>
                  <a:pt x="18328" y="8277"/>
                  <a:pt x="18328" y="8277"/>
                </a:cubicBezTo>
                <a:cubicBezTo>
                  <a:pt x="18328" y="8313"/>
                  <a:pt x="18328" y="8313"/>
                  <a:pt x="18309" y="8313"/>
                </a:cubicBezTo>
                <a:cubicBezTo>
                  <a:pt x="18309" y="8350"/>
                  <a:pt x="18309" y="8350"/>
                  <a:pt x="18309" y="8386"/>
                </a:cubicBezTo>
                <a:cubicBezTo>
                  <a:pt x="18328" y="8386"/>
                  <a:pt x="18328" y="8386"/>
                  <a:pt x="18328" y="8386"/>
                </a:cubicBezTo>
                <a:close/>
                <a:moveTo>
                  <a:pt x="18706" y="6317"/>
                </a:moveTo>
                <a:cubicBezTo>
                  <a:pt x="18725" y="6389"/>
                  <a:pt x="18725" y="6462"/>
                  <a:pt x="18744" y="6498"/>
                </a:cubicBezTo>
                <a:cubicBezTo>
                  <a:pt x="18763" y="6571"/>
                  <a:pt x="18763" y="6607"/>
                  <a:pt x="18782" y="6643"/>
                </a:cubicBezTo>
                <a:cubicBezTo>
                  <a:pt x="18744" y="6607"/>
                  <a:pt x="18706" y="6534"/>
                  <a:pt x="18668" y="6571"/>
                </a:cubicBezTo>
                <a:cubicBezTo>
                  <a:pt x="18668" y="6643"/>
                  <a:pt x="18630" y="6752"/>
                  <a:pt x="18649" y="6825"/>
                </a:cubicBezTo>
                <a:cubicBezTo>
                  <a:pt x="18668" y="6897"/>
                  <a:pt x="18725" y="6934"/>
                  <a:pt x="18706" y="7043"/>
                </a:cubicBezTo>
                <a:cubicBezTo>
                  <a:pt x="18706" y="7043"/>
                  <a:pt x="18706" y="7043"/>
                  <a:pt x="18706" y="7043"/>
                </a:cubicBezTo>
                <a:cubicBezTo>
                  <a:pt x="18687" y="7006"/>
                  <a:pt x="18687" y="6934"/>
                  <a:pt x="18649" y="6934"/>
                </a:cubicBezTo>
                <a:cubicBezTo>
                  <a:pt x="18630" y="6970"/>
                  <a:pt x="18630" y="7006"/>
                  <a:pt x="18612" y="7043"/>
                </a:cubicBezTo>
                <a:cubicBezTo>
                  <a:pt x="18612" y="7043"/>
                  <a:pt x="18612" y="7043"/>
                  <a:pt x="18612" y="7043"/>
                </a:cubicBezTo>
                <a:cubicBezTo>
                  <a:pt x="18612" y="7043"/>
                  <a:pt x="18593" y="7006"/>
                  <a:pt x="18593" y="6970"/>
                </a:cubicBezTo>
                <a:cubicBezTo>
                  <a:pt x="18593" y="6934"/>
                  <a:pt x="18612" y="6897"/>
                  <a:pt x="18612" y="6897"/>
                </a:cubicBezTo>
                <a:cubicBezTo>
                  <a:pt x="18612" y="6861"/>
                  <a:pt x="18612" y="6825"/>
                  <a:pt x="18612" y="6825"/>
                </a:cubicBezTo>
                <a:cubicBezTo>
                  <a:pt x="18612" y="6789"/>
                  <a:pt x="18612" y="6789"/>
                  <a:pt x="18630" y="6752"/>
                </a:cubicBezTo>
                <a:cubicBezTo>
                  <a:pt x="18630" y="6716"/>
                  <a:pt x="18612" y="6643"/>
                  <a:pt x="18612" y="6607"/>
                </a:cubicBezTo>
                <a:cubicBezTo>
                  <a:pt x="18630" y="6607"/>
                  <a:pt x="18630" y="6317"/>
                  <a:pt x="18630" y="6244"/>
                </a:cubicBezTo>
                <a:cubicBezTo>
                  <a:pt x="18612" y="6208"/>
                  <a:pt x="18593" y="6171"/>
                  <a:pt x="18593" y="6135"/>
                </a:cubicBezTo>
                <a:cubicBezTo>
                  <a:pt x="18593" y="6063"/>
                  <a:pt x="18612" y="6026"/>
                  <a:pt x="18593" y="5954"/>
                </a:cubicBezTo>
                <a:cubicBezTo>
                  <a:pt x="18612" y="5917"/>
                  <a:pt x="18649" y="5917"/>
                  <a:pt x="18649" y="5881"/>
                </a:cubicBezTo>
                <a:cubicBezTo>
                  <a:pt x="18668" y="5881"/>
                  <a:pt x="18668" y="5917"/>
                  <a:pt x="18668" y="5917"/>
                </a:cubicBezTo>
                <a:cubicBezTo>
                  <a:pt x="18706" y="6026"/>
                  <a:pt x="18668" y="6099"/>
                  <a:pt x="18687" y="6208"/>
                </a:cubicBezTo>
                <a:cubicBezTo>
                  <a:pt x="18687" y="6244"/>
                  <a:pt x="18687" y="6280"/>
                  <a:pt x="18706" y="6317"/>
                </a:cubicBezTo>
                <a:close/>
                <a:moveTo>
                  <a:pt x="18839" y="7478"/>
                </a:moveTo>
                <a:cubicBezTo>
                  <a:pt x="18820" y="7478"/>
                  <a:pt x="18801" y="7478"/>
                  <a:pt x="18782" y="7515"/>
                </a:cubicBezTo>
                <a:cubicBezTo>
                  <a:pt x="18782" y="7515"/>
                  <a:pt x="18763" y="7478"/>
                  <a:pt x="18763" y="7515"/>
                </a:cubicBezTo>
                <a:cubicBezTo>
                  <a:pt x="18725" y="7515"/>
                  <a:pt x="18706" y="7587"/>
                  <a:pt x="18706" y="7624"/>
                </a:cubicBezTo>
                <a:cubicBezTo>
                  <a:pt x="18668" y="7624"/>
                  <a:pt x="18612" y="7515"/>
                  <a:pt x="18593" y="7551"/>
                </a:cubicBezTo>
                <a:cubicBezTo>
                  <a:pt x="18574" y="7551"/>
                  <a:pt x="18574" y="7587"/>
                  <a:pt x="18555" y="7587"/>
                </a:cubicBezTo>
                <a:cubicBezTo>
                  <a:pt x="18555" y="7587"/>
                  <a:pt x="18555" y="7551"/>
                  <a:pt x="18536" y="7551"/>
                </a:cubicBezTo>
                <a:cubicBezTo>
                  <a:pt x="18536" y="7551"/>
                  <a:pt x="18517" y="7551"/>
                  <a:pt x="18517" y="7587"/>
                </a:cubicBezTo>
                <a:cubicBezTo>
                  <a:pt x="18517" y="7587"/>
                  <a:pt x="18517" y="7587"/>
                  <a:pt x="18517" y="7587"/>
                </a:cubicBezTo>
                <a:cubicBezTo>
                  <a:pt x="18536" y="7624"/>
                  <a:pt x="18555" y="7624"/>
                  <a:pt x="18574" y="7660"/>
                </a:cubicBezTo>
                <a:cubicBezTo>
                  <a:pt x="18574" y="7660"/>
                  <a:pt x="18574" y="7660"/>
                  <a:pt x="18574" y="7660"/>
                </a:cubicBezTo>
                <a:cubicBezTo>
                  <a:pt x="18555" y="7696"/>
                  <a:pt x="18555" y="7660"/>
                  <a:pt x="18536" y="7660"/>
                </a:cubicBezTo>
                <a:cubicBezTo>
                  <a:pt x="18536" y="7696"/>
                  <a:pt x="18517" y="7732"/>
                  <a:pt x="18498" y="7732"/>
                </a:cubicBezTo>
                <a:cubicBezTo>
                  <a:pt x="18498" y="7732"/>
                  <a:pt x="18498" y="7732"/>
                  <a:pt x="18498" y="7732"/>
                </a:cubicBezTo>
                <a:cubicBezTo>
                  <a:pt x="18498" y="7696"/>
                  <a:pt x="18517" y="7660"/>
                  <a:pt x="18498" y="7624"/>
                </a:cubicBezTo>
                <a:cubicBezTo>
                  <a:pt x="18498" y="7624"/>
                  <a:pt x="18498" y="7624"/>
                  <a:pt x="18479" y="7624"/>
                </a:cubicBezTo>
                <a:cubicBezTo>
                  <a:pt x="18479" y="7587"/>
                  <a:pt x="18479" y="7587"/>
                  <a:pt x="18479" y="7551"/>
                </a:cubicBezTo>
                <a:cubicBezTo>
                  <a:pt x="18498" y="7551"/>
                  <a:pt x="18517" y="7515"/>
                  <a:pt x="18536" y="7515"/>
                </a:cubicBezTo>
                <a:cubicBezTo>
                  <a:pt x="18536" y="7478"/>
                  <a:pt x="18536" y="7478"/>
                  <a:pt x="18536" y="7478"/>
                </a:cubicBezTo>
                <a:cubicBezTo>
                  <a:pt x="18536" y="7478"/>
                  <a:pt x="18517" y="7478"/>
                  <a:pt x="18517" y="7442"/>
                </a:cubicBezTo>
                <a:cubicBezTo>
                  <a:pt x="18536" y="7442"/>
                  <a:pt x="18536" y="7442"/>
                  <a:pt x="18536" y="7442"/>
                </a:cubicBezTo>
                <a:cubicBezTo>
                  <a:pt x="18555" y="7442"/>
                  <a:pt x="18555" y="7478"/>
                  <a:pt x="18574" y="7478"/>
                </a:cubicBezTo>
                <a:cubicBezTo>
                  <a:pt x="18574" y="7442"/>
                  <a:pt x="18574" y="7406"/>
                  <a:pt x="18574" y="7369"/>
                </a:cubicBezTo>
                <a:cubicBezTo>
                  <a:pt x="18593" y="7369"/>
                  <a:pt x="18593" y="7369"/>
                  <a:pt x="18612" y="7369"/>
                </a:cubicBezTo>
                <a:cubicBezTo>
                  <a:pt x="18612" y="7333"/>
                  <a:pt x="18612" y="7297"/>
                  <a:pt x="18612" y="7261"/>
                </a:cubicBezTo>
                <a:cubicBezTo>
                  <a:pt x="18593" y="7188"/>
                  <a:pt x="18574" y="7188"/>
                  <a:pt x="18612" y="7115"/>
                </a:cubicBezTo>
                <a:cubicBezTo>
                  <a:pt x="18649" y="7188"/>
                  <a:pt x="18725" y="7406"/>
                  <a:pt x="18801" y="7369"/>
                </a:cubicBezTo>
                <a:cubicBezTo>
                  <a:pt x="18801" y="7333"/>
                  <a:pt x="18801" y="7333"/>
                  <a:pt x="18839" y="7297"/>
                </a:cubicBezTo>
                <a:cubicBezTo>
                  <a:pt x="18839" y="7297"/>
                  <a:pt x="18839" y="7297"/>
                  <a:pt x="18839" y="7333"/>
                </a:cubicBezTo>
                <a:cubicBezTo>
                  <a:pt x="18820" y="7333"/>
                  <a:pt x="18820" y="7369"/>
                  <a:pt x="18820" y="7369"/>
                </a:cubicBezTo>
                <a:cubicBezTo>
                  <a:pt x="18820" y="7406"/>
                  <a:pt x="18839" y="7442"/>
                  <a:pt x="18839" y="7478"/>
                </a:cubicBezTo>
                <a:close/>
                <a:moveTo>
                  <a:pt x="19709" y="14739"/>
                </a:moveTo>
                <a:cubicBezTo>
                  <a:pt x="19727" y="14775"/>
                  <a:pt x="19727" y="14848"/>
                  <a:pt x="19746" y="14848"/>
                </a:cubicBezTo>
                <a:cubicBezTo>
                  <a:pt x="19765" y="14848"/>
                  <a:pt x="19765" y="14848"/>
                  <a:pt x="19784" y="14848"/>
                </a:cubicBezTo>
                <a:cubicBezTo>
                  <a:pt x="19784" y="14848"/>
                  <a:pt x="19784" y="14848"/>
                  <a:pt x="19784" y="14848"/>
                </a:cubicBezTo>
                <a:cubicBezTo>
                  <a:pt x="19784" y="14884"/>
                  <a:pt x="19784" y="14884"/>
                  <a:pt x="19784" y="14884"/>
                </a:cubicBezTo>
                <a:cubicBezTo>
                  <a:pt x="19784" y="14920"/>
                  <a:pt x="19822" y="14920"/>
                  <a:pt x="19822" y="14920"/>
                </a:cubicBezTo>
                <a:cubicBezTo>
                  <a:pt x="19822" y="14920"/>
                  <a:pt x="19822" y="14920"/>
                  <a:pt x="19822" y="14920"/>
                </a:cubicBezTo>
                <a:cubicBezTo>
                  <a:pt x="19822" y="14957"/>
                  <a:pt x="19822" y="14957"/>
                  <a:pt x="19803" y="14957"/>
                </a:cubicBezTo>
                <a:cubicBezTo>
                  <a:pt x="19803" y="14957"/>
                  <a:pt x="19803" y="14957"/>
                  <a:pt x="19803" y="14957"/>
                </a:cubicBezTo>
                <a:cubicBezTo>
                  <a:pt x="19822" y="14957"/>
                  <a:pt x="19841" y="14993"/>
                  <a:pt x="19860" y="14993"/>
                </a:cubicBezTo>
                <a:cubicBezTo>
                  <a:pt x="19860" y="15029"/>
                  <a:pt x="19879" y="15029"/>
                  <a:pt x="19860" y="15066"/>
                </a:cubicBezTo>
                <a:cubicBezTo>
                  <a:pt x="19860" y="15066"/>
                  <a:pt x="19841" y="15066"/>
                  <a:pt x="19822" y="15029"/>
                </a:cubicBezTo>
                <a:cubicBezTo>
                  <a:pt x="19822" y="15029"/>
                  <a:pt x="19822" y="15029"/>
                  <a:pt x="19822" y="15029"/>
                </a:cubicBezTo>
                <a:cubicBezTo>
                  <a:pt x="19803" y="14993"/>
                  <a:pt x="19784" y="14993"/>
                  <a:pt x="19746" y="14993"/>
                </a:cubicBezTo>
                <a:cubicBezTo>
                  <a:pt x="19727" y="14957"/>
                  <a:pt x="19709" y="14993"/>
                  <a:pt x="19690" y="14957"/>
                </a:cubicBezTo>
                <a:cubicBezTo>
                  <a:pt x="19671" y="14957"/>
                  <a:pt x="19671" y="14957"/>
                  <a:pt x="19671" y="14920"/>
                </a:cubicBezTo>
                <a:cubicBezTo>
                  <a:pt x="19652" y="14920"/>
                  <a:pt x="19652" y="14884"/>
                  <a:pt x="19633" y="14884"/>
                </a:cubicBezTo>
                <a:cubicBezTo>
                  <a:pt x="19614" y="14811"/>
                  <a:pt x="19595" y="14775"/>
                  <a:pt x="19576" y="14739"/>
                </a:cubicBezTo>
                <a:cubicBezTo>
                  <a:pt x="19557" y="14739"/>
                  <a:pt x="19538" y="14703"/>
                  <a:pt x="19519" y="14703"/>
                </a:cubicBezTo>
                <a:cubicBezTo>
                  <a:pt x="19519" y="14703"/>
                  <a:pt x="19501" y="14703"/>
                  <a:pt x="19501" y="14703"/>
                </a:cubicBezTo>
                <a:cubicBezTo>
                  <a:pt x="19482" y="14703"/>
                  <a:pt x="19482" y="14703"/>
                  <a:pt x="19463" y="14703"/>
                </a:cubicBezTo>
                <a:cubicBezTo>
                  <a:pt x="19463" y="14703"/>
                  <a:pt x="19444" y="14703"/>
                  <a:pt x="19444" y="14666"/>
                </a:cubicBezTo>
                <a:cubicBezTo>
                  <a:pt x="19444" y="14703"/>
                  <a:pt x="19444" y="14703"/>
                  <a:pt x="19463" y="14739"/>
                </a:cubicBezTo>
                <a:cubicBezTo>
                  <a:pt x="19463" y="14739"/>
                  <a:pt x="19444" y="14739"/>
                  <a:pt x="19444" y="14739"/>
                </a:cubicBezTo>
                <a:cubicBezTo>
                  <a:pt x="19444" y="14739"/>
                  <a:pt x="19444" y="14739"/>
                  <a:pt x="19425" y="14739"/>
                </a:cubicBezTo>
                <a:cubicBezTo>
                  <a:pt x="19425" y="14739"/>
                  <a:pt x="19425" y="14739"/>
                  <a:pt x="19425" y="14739"/>
                </a:cubicBezTo>
                <a:cubicBezTo>
                  <a:pt x="19425" y="14739"/>
                  <a:pt x="19425" y="14739"/>
                  <a:pt x="19444" y="14775"/>
                </a:cubicBezTo>
                <a:cubicBezTo>
                  <a:pt x="19425" y="14775"/>
                  <a:pt x="19368" y="14739"/>
                  <a:pt x="19368" y="14775"/>
                </a:cubicBezTo>
                <a:cubicBezTo>
                  <a:pt x="19368" y="14775"/>
                  <a:pt x="19368" y="14775"/>
                  <a:pt x="19368" y="14775"/>
                </a:cubicBezTo>
                <a:cubicBezTo>
                  <a:pt x="19387" y="14811"/>
                  <a:pt x="19406" y="14775"/>
                  <a:pt x="19425" y="14848"/>
                </a:cubicBezTo>
                <a:cubicBezTo>
                  <a:pt x="19406" y="14848"/>
                  <a:pt x="19406" y="14884"/>
                  <a:pt x="19387" y="14884"/>
                </a:cubicBezTo>
                <a:cubicBezTo>
                  <a:pt x="19349" y="14884"/>
                  <a:pt x="19311" y="14884"/>
                  <a:pt x="19274" y="14884"/>
                </a:cubicBezTo>
                <a:cubicBezTo>
                  <a:pt x="19255" y="14848"/>
                  <a:pt x="19236" y="14775"/>
                  <a:pt x="19217" y="14739"/>
                </a:cubicBezTo>
                <a:cubicBezTo>
                  <a:pt x="19198" y="14739"/>
                  <a:pt x="19179" y="14775"/>
                  <a:pt x="19160" y="14775"/>
                </a:cubicBezTo>
                <a:cubicBezTo>
                  <a:pt x="19160" y="14739"/>
                  <a:pt x="19160" y="14739"/>
                  <a:pt x="19160" y="14703"/>
                </a:cubicBezTo>
                <a:cubicBezTo>
                  <a:pt x="19160" y="14666"/>
                  <a:pt x="19141" y="14630"/>
                  <a:pt x="19141" y="14630"/>
                </a:cubicBezTo>
                <a:cubicBezTo>
                  <a:pt x="19141" y="14594"/>
                  <a:pt x="19141" y="14630"/>
                  <a:pt x="19160" y="14594"/>
                </a:cubicBezTo>
                <a:cubicBezTo>
                  <a:pt x="19160" y="14594"/>
                  <a:pt x="19160" y="14594"/>
                  <a:pt x="19160" y="14594"/>
                </a:cubicBezTo>
                <a:cubicBezTo>
                  <a:pt x="19122" y="14557"/>
                  <a:pt x="19122" y="14448"/>
                  <a:pt x="19084" y="14412"/>
                </a:cubicBezTo>
                <a:cubicBezTo>
                  <a:pt x="19028" y="14339"/>
                  <a:pt x="18952" y="14339"/>
                  <a:pt x="18895" y="14267"/>
                </a:cubicBezTo>
                <a:cubicBezTo>
                  <a:pt x="18895" y="14267"/>
                  <a:pt x="18895" y="14267"/>
                  <a:pt x="18895" y="14231"/>
                </a:cubicBezTo>
                <a:cubicBezTo>
                  <a:pt x="18839" y="14303"/>
                  <a:pt x="18839" y="14158"/>
                  <a:pt x="18839" y="14158"/>
                </a:cubicBezTo>
                <a:cubicBezTo>
                  <a:pt x="18801" y="14194"/>
                  <a:pt x="18820" y="14267"/>
                  <a:pt x="18782" y="14267"/>
                </a:cubicBezTo>
                <a:cubicBezTo>
                  <a:pt x="18782" y="14267"/>
                  <a:pt x="18782" y="14231"/>
                  <a:pt x="18763" y="14231"/>
                </a:cubicBezTo>
                <a:cubicBezTo>
                  <a:pt x="18782" y="14231"/>
                  <a:pt x="18782" y="14231"/>
                  <a:pt x="18782" y="14231"/>
                </a:cubicBezTo>
                <a:cubicBezTo>
                  <a:pt x="18782" y="14158"/>
                  <a:pt x="18744" y="14158"/>
                  <a:pt x="18725" y="14122"/>
                </a:cubicBezTo>
                <a:cubicBezTo>
                  <a:pt x="18725" y="14122"/>
                  <a:pt x="18725" y="14122"/>
                  <a:pt x="18725" y="14122"/>
                </a:cubicBezTo>
                <a:cubicBezTo>
                  <a:pt x="18744" y="14122"/>
                  <a:pt x="18763" y="14122"/>
                  <a:pt x="18763" y="14122"/>
                </a:cubicBezTo>
                <a:cubicBezTo>
                  <a:pt x="18782" y="14122"/>
                  <a:pt x="18782" y="14085"/>
                  <a:pt x="18801" y="14085"/>
                </a:cubicBezTo>
                <a:cubicBezTo>
                  <a:pt x="18801" y="14085"/>
                  <a:pt x="18820" y="14085"/>
                  <a:pt x="18839" y="14085"/>
                </a:cubicBezTo>
                <a:cubicBezTo>
                  <a:pt x="18839" y="14085"/>
                  <a:pt x="18839" y="14049"/>
                  <a:pt x="18839" y="14049"/>
                </a:cubicBezTo>
                <a:cubicBezTo>
                  <a:pt x="18820" y="14049"/>
                  <a:pt x="18763" y="14085"/>
                  <a:pt x="18744" y="14049"/>
                </a:cubicBezTo>
                <a:cubicBezTo>
                  <a:pt x="18725" y="14049"/>
                  <a:pt x="18725" y="13976"/>
                  <a:pt x="18706" y="13976"/>
                </a:cubicBezTo>
                <a:cubicBezTo>
                  <a:pt x="18706" y="13940"/>
                  <a:pt x="18687" y="13940"/>
                  <a:pt x="18668" y="13940"/>
                </a:cubicBezTo>
                <a:cubicBezTo>
                  <a:pt x="18668" y="13940"/>
                  <a:pt x="18668" y="13940"/>
                  <a:pt x="18668" y="13940"/>
                </a:cubicBezTo>
                <a:cubicBezTo>
                  <a:pt x="18668" y="13940"/>
                  <a:pt x="18668" y="13940"/>
                  <a:pt x="18668" y="13940"/>
                </a:cubicBezTo>
                <a:cubicBezTo>
                  <a:pt x="18668" y="13940"/>
                  <a:pt x="18687" y="13904"/>
                  <a:pt x="18687" y="13904"/>
                </a:cubicBezTo>
                <a:cubicBezTo>
                  <a:pt x="18706" y="13904"/>
                  <a:pt x="18725" y="13831"/>
                  <a:pt x="18744" y="13831"/>
                </a:cubicBezTo>
                <a:cubicBezTo>
                  <a:pt x="18763" y="13831"/>
                  <a:pt x="18839" y="13868"/>
                  <a:pt x="18839" y="13904"/>
                </a:cubicBezTo>
                <a:cubicBezTo>
                  <a:pt x="18857" y="13904"/>
                  <a:pt x="18857" y="13940"/>
                  <a:pt x="18857" y="13940"/>
                </a:cubicBezTo>
                <a:cubicBezTo>
                  <a:pt x="18857" y="13976"/>
                  <a:pt x="18857" y="13976"/>
                  <a:pt x="18857" y="14013"/>
                </a:cubicBezTo>
                <a:cubicBezTo>
                  <a:pt x="18839" y="14049"/>
                  <a:pt x="18876" y="14122"/>
                  <a:pt x="18876" y="14122"/>
                </a:cubicBezTo>
                <a:cubicBezTo>
                  <a:pt x="18876" y="14122"/>
                  <a:pt x="18876" y="14122"/>
                  <a:pt x="18876" y="14085"/>
                </a:cubicBezTo>
                <a:cubicBezTo>
                  <a:pt x="18895" y="14085"/>
                  <a:pt x="18895" y="14085"/>
                  <a:pt x="18895" y="14085"/>
                </a:cubicBezTo>
                <a:cubicBezTo>
                  <a:pt x="18895" y="14122"/>
                  <a:pt x="18895" y="14194"/>
                  <a:pt x="18933" y="14194"/>
                </a:cubicBezTo>
                <a:cubicBezTo>
                  <a:pt x="18952" y="14158"/>
                  <a:pt x="18971" y="14122"/>
                  <a:pt x="18990" y="14049"/>
                </a:cubicBezTo>
                <a:cubicBezTo>
                  <a:pt x="19009" y="14049"/>
                  <a:pt x="19028" y="14049"/>
                  <a:pt x="19047" y="14049"/>
                </a:cubicBezTo>
                <a:cubicBezTo>
                  <a:pt x="19047" y="14013"/>
                  <a:pt x="19047" y="14013"/>
                  <a:pt x="19047" y="14013"/>
                </a:cubicBezTo>
                <a:cubicBezTo>
                  <a:pt x="19065" y="13976"/>
                  <a:pt x="19065" y="13976"/>
                  <a:pt x="19084" y="13976"/>
                </a:cubicBezTo>
                <a:cubicBezTo>
                  <a:pt x="19103" y="13940"/>
                  <a:pt x="19179" y="14049"/>
                  <a:pt x="19198" y="14049"/>
                </a:cubicBezTo>
                <a:cubicBezTo>
                  <a:pt x="19255" y="14085"/>
                  <a:pt x="19330" y="14122"/>
                  <a:pt x="19406" y="14194"/>
                </a:cubicBezTo>
                <a:cubicBezTo>
                  <a:pt x="19444" y="14194"/>
                  <a:pt x="19463" y="14231"/>
                  <a:pt x="19501" y="14231"/>
                </a:cubicBezTo>
                <a:cubicBezTo>
                  <a:pt x="19519" y="14303"/>
                  <a:pt x="19557" y="14303"/>
                  <a:pt x="19576" y="14376"/>
                </a:cubicBezTo>
                <a:cubicBezTo>
                  <a:pt x="19576" y="14376"/>
                  <a:pt x="19557" y="14412"/>
                  <a:pt x="19576" y="14448"/>
                </a:cubicBezTo>
                <a:cubicBezTo>
                  <a:pt x="19595" y="14448"/>
                  <a:pt x="19614" y="14485"/>
                  <a:pt x="19652" y="14485"/>
                </a:cubicBezTo>
                <a:cubicBezTo>
                  <a:pt x="19652" y="14485"/>
                  <a:pt x="19671" y="14485"/>
                  <a:pt x="19671" y="14485"/>
                </a:cubicBezTo>
                <a:cubicBezTo>
                  <a:pt x="19690" y="14521"/>
                  <a:pt x="19690" y="14557"/>
                  <a:pt x="19690" y="14557"/>
                </a:cubicBezTo>
                <a:cubicBezTo>
                  <a:pt x="19690" y="14557"/>
                  <a:pt x="19690" y="14557"/>
                  <a:pt x="19690" y="14557"/>
                </a:cubicBezTo>
                <a:cubicBezTo>
                  <a:pt x="19671" y="14594"/>
                  <a:pt x="19652" y="14557"/>
                  <a:pt x="19652" y="14594"/>
                </a:cubicBezTo>
                <a:cubicBezTo>
                  <a:pt x="19652" y="14666"/>
                  <a:pt x="19671" y="14703"/>
                  <a:pt x="19690" y="14739"/>
                </a:cubicBezTo>
                <a:cubicBezTo>
                  <a:pt x="19709" y="14739"/>
                  <a:pt x="19709" y="14739"/>
                  <a:pt x="19709" y="14739"/>
                </a:cubicBezTo>
                <a:close/>
                <a:moveTo>
                  <a:pt x="19954" y="14303"/>
                </a:moveTo>
                <a:cubicBezTo>
                  <a:pt x="19954" y="14303"/>
                  <a:pt x="19954" y="14303"/>
                  <a:pt x="19973" y="14303"/>
                </a:cubicBezTo>
                <a:cubicBezTo>
                  <a:pt x="19973" y="14303"/>
                  <a:pt x="19973" y="14339"/>
                  <a:pt x="19973" y="14339"/>
                </a:cubicBezTo>
                <a:cubicBezTo>
                  <a:pt x="19973" y="14339"/>
                  <a:pt x="19973" y="14376"/>
                  <a:pt x="19973" y="14376"/>
                </a:cubicBezTo>
                <a:cubicBezTo>
                  <a:pt x="19954" y="14376"/>
                  <a:pt x="19954" y="14376"/>
                  <a:pt x="19954" y="14376"/>
                </a:cubicBezTo>
                <a:cubicBezTo>
                  <a:pt x="19954" y="14412"/>
                  <a:pt x="19954" y="14412"/>
                  <a:pt x="19973" y="14412"/>
                </a:cubicBezTo>
                <a:cubicBezTo>
                  <a:pt x="19954" y="14448"/>
                  <a:pt x="19954" y="14448"/>
                  <a:pt x="19954" y="14448"/>
                </a:cubicBezTo>
                <a:cubicBezTo>
                  <a:pt x="19936" y="14448"/>
                  <a:pt x="19936" y="14448"/>
                  <a:pt x="19917" y="14448"/>
                </a:cubicBezTo>
                <a:cubicBezTo>
                  <a:pt x="19917" y="14521"/>
                  <a:pt x="19841" y="14521"/>
                  <a:pt x="19803" y="14521"/>
                </a:cubicBezTo>
                <a:cubicBezTo>
                  <a:pt x="19803" y="14521"/>
                  <a:pt x="19803" y="14521"/>
                  <a:pt x="19784" y="14485"/>
                </a:cubicBezTo>
                <a:cubicBezTo>
                  <a:pt x="19784" y="14521"/>
                  <a:pt x="19784" y="14521"/>
                  <a:pt x="19784" y="14521"/>
                </a:cubicBezTo>
                <a:cubicBezTo>
                  <a:pt x="19765" y="14485"/>
                  <a:pt x="19746" y="14485"/>
                  <a:pt x="19727" y="14448"/>
                </a:cubicBezTo>
                <a:cubicBezTo>
                  <a:pt x="19727" y="14448"/>
                  <a:pt x="19727" y="14448"/>
                  <a:pt x="19727" y="14448"/>
                </a:cubicBezTo>
                <a:cubicBezTo>
                  <a:pt x="19765" y="14448"/>
                  <a:pt x="19803" y="14448"/>
                  <a:pt x="19822" y="14448"/>
                </a:cubicBezTo>
                <a:cubicBezTo>
                  <a:pt x="19822" y="14412"/>
                  <a:pt x="19822" y="14412"/>
                  <a:pt x="19822" y="14412"/>
                </a:cubicBezTo>
                <a:cubicBezTo>
                  <a:pt x="19822" y="14412"/>
                  <a:pt x="19822" y="14412"/>
                  <a:pt x="19822" y="14412"/>
                </a:cubicBezTo>
                <a:cubicBezTo>
                  <a:pt x="19841" y="14448"/>
                  <a:pt x="19879" y="14448"/>
                  <a:pt x="19898" y="14412"/>
                </a:cubicBezTo>
                <a:cubicBezTo>
                  <a:pt x="19898" y="14412"/>
                  <a:pt x="19898" y="14376"/>
                  <a:pt x="19917" y="14376"/>
                </a:cubicBezTo>
                <a:cubicBezTo>
                  <a:pt x="19917" y="14376"/>
                  <a:pt x="19936" y="14376"/>
                  <a:pt x="19936" y="14376"/>
                </a:cubicBezTo>
                <a:cubicBezTo>
                  <a:pt x="19936" y="14376"/>
                  <a:pt x="19936" y="14376"/>
                  <a:pt x="19936" y="14376"/>
                </a:cubicBezTo>
                <a:cubicBezTo>
                  <a:pt x="19936" y="14339"/>
                  <a:pt x="19936" y="14303"/>
                  <a:pt x="19936" y="14303"/>
                </a:cubicBezTo>
                <a:cubicBezTo>
                  <a:pt x="19936" y="14303"/>
                  <a:pt x="19954" y="14303"/>
                  <a:pt x="19954" y="14303"/>
                </a:cubicBezTo>
                <a:close/>
                <a:moveTo>
                  <a:pt x="20049" y="16953"/>
                </a:moveTo>
                <a:cubicBezTo>
                  <a:pt x="20049" y="16917"/>
                  <a:pt x="20049" y="16917"/>
                  <a:pt x="20049" y="16881"/>
                </a:cubicBezTo>
                <a:cubicBezTo>
                  <a:pt x="20049" y="16881"/>
                  <a:pt x="20049" y="16881"/>
                  <a:pt x="20049" y="16881"/>
                </a:cubicBezTo>
                <a:cubicBezTo>
                  <a:pt x="20049" y="16881"/>
                  <a:pt x="20049" y="16881"/>
                  <a:pt x="20049" y="16881"/>
                </a:cubicBezTo>
                <a:cubicBezTo>
                  <a:pt x="20087" y="16881"/>
                  <a:pt x="20049" y="16917"/>
                  <a:pt x="20049" y="16953"/>
                </a:cubicBezTo>
                <a:cubicBezTo>
                  <a:pt x="20049" y="16953"/>
                  <a:pt x="20049" y="16953"/>
                  <a:pt x="20049" y="16953"/>
                </a:cubicBezTo>
                <a:close/>
                <a:moveTo>
                  <a:pt x="17533" y="17026"/>
                </a:moveTo>
                <a:cubicBezTo>
                  <a:pt x="17533" y="17026"/>
                  <a:pt x="17533" y="17062"/>
                  <a:pt x="17552" y="17062"/>
                </a:cubicBezTo>
                <a:cubicBezTo>
                  <a:pt x="17552" y="17098"/>
                  <a:pt x="17552" y="17098"/>
                  <a:pt x="17571" y="17098"/>
                </a:cubicBezTo>
                <a:cubicBezTo>
                  <a:pt x="17571" y="17098"/>
                  <a:pt x="17571" y="17098"/>
                  <a:pt x="17571" y="17135"/>
                </a:cubicBezTo>
                <a:cubicBezTo>
                  <a:pt x="17571" y="17135"/>
                  <a:pt x="17571" y="17135"/>
                  <a:pt x="17571" y="17135"/>
                </a:cubicBezTo>
                <a:cubicBezTo>
                  <a:pt x="17590" y="17098"/>
                  <a:pt x="17590" y="17098"/>
                  <a:pt x="17590" y="17098"/>
                </a:cubicBezTo>
                <a:cubicBezTo>
                  <a:pt x="17590" y="17098"/>
                  <a:pt x="17590" y="17098"/>
                  <a:pt x="17590" y="17062"/>
                </a:cubicBezTo>
                <a:cubicBezTo>
                  <a:pt x="17590" y="17062"/>
                  <a:pt x="17590" y="17062"/>
                  <a:pt x="17590" y="17062"/>
                </a:cubicBezTo>
                <a:cubicBezTo>
                  <a:pt x="17590" y="17062"/>
                  <a:pt x="17590" y="17098"/>
                  <a:pt x="17590" y="17098"/>
                </a:cubicBezTo>
                <a:cubicBezTo>
                  <a:pt x="17609" y="17098"/>
                  <a:pt x="17609" y="17098"/>
                  <a:pt x="17609" y="17098"/>
                </a:cubicBezTo>
                <a:cubicBezTo>
                  <a:pt x="17609" y="17062"/>
                  <a:pt x="17609" y="17026"/>
                  <a:pt x="17609" y="17026"/>
                </a:cubicBezTo>
                <a:cubicBezTo>
                  <a:pt x="17590" y="16990"/>
                  <a:pt x="17571" y="16953"/>
                  <a:pt x="17552" y="16881"/>
                </a:cubicBezTo>
                <a:cubicBezTo>
                  <a:pt x="17552" y="16881"/>
                  <a:pt x="17552" y="16881"/>
                  <a:pt x="17552" y="16844"/>
                </a:cubicBezTo>
                <a:cubicBezTo>
                  <a:pt x="17533" y="16808"/>
                  <a:pt x="17571" y="16772"/>
                  <a:pt x="17571" y="16735"/>
                </a:cubicBezTo>
                <a:cubicBezTo>
                  <a:pt x="17571" y="16699"/>
                  <a:pt x="17571" y="16699"/>
                  <a:pt x="17571" y="16699"/>
                </a:cubicBezTo>
                <a:cubicBezTo>
                  <a:pt x="17571" y="16663"/>
                  <a:pt x="17571" y="16663"/>
                  <a:pt x="17571" y="16663"/>
                </a:cubicBezTo>
                <a:cubicBezTo>
                  <a:pt x="17552" y="16627"/>
                  <a:pt x="17552" y="16627"/>
                  <a:pt x="17552" y="16627"/>
                </a:cubicBezTo>
                <a:cubicBezTo>
                  <a:pt x="17571" y="16590"/>
                  <a:pt x="17571" y="16554"/>
                  <a:pt x="17571" y="16518"/>
                </a:cubicBezTo>
                <a:cubicBezTo>
                  <a:pt x="17571" y="16518"/>
                  <a:pt x="17571" y="16518"/>
                  <a:pt x="17590" y="16518"/>
                </a:cubicBezTo>
                <a:cubicBezTo>
                  <a:pt x="17571" y="16554"/>
                  <a:pt x="17590" y="16590"/>
                  <a:pt x="17590" y="16590"/>
                </a:cubicBezTo>
                <a:cubicBezTo>
                  <a:pt x="17609" y="16590"/>
                  <a:pt x="17609" y="16554"/>
                  <a:pt x="17609" y="16554"/>
                </a:cubicBezTo>
                <a:cubicBezTo>
                  <a:pt x="17609" y="16518"/>
                  <a:pt x="17628" y="16518"/>
                  <a:pt x="17628" y="16481"/>
                </a:cubicBezTo>
                <a:cubicBezTo>
                  <a:pt x="17647" y="16481"/>
                  <a:pt x="17647" y="16481"/>
                  <a:pt x="17666" y="16481"/>
                </a:cubicBezTo>
                <a:cubicBezTo>
                  <a:pt x="17666" y="16445"/>
                  <a:pt x="17666" y="16445"/>
                  <a:pt x="17685" y="16445"/>
                </a:cubicBezTo>
                <a:cubicBezTo>
                  <a:pt x="17704" y="16409"/>
                  <a:pt x="17704" y="16372"/>
                  <a:pt x="17741" y="16336"/>
                </a:cubicBezTo>
                <a:cubicBezTo>
                  <a:pt x="17741" y="16336"/>
                  <a:pt x="17779" y="16336"/>
                  <a:pt x="17798" y="16336"/>
                </a:cubicBezTo>
                <a:cubicBezTo>
                  <a:pt x="17798" y="16336"/>
                  <a:pt x="17817" y="16336"/>
                  <a:pt x="17817" y="16300"/>
                </a:cubicBezTo>
                <a:cubicBezTo>
                  <a:pt x="17817" y="16300"/>
                  <a:pt x="17836" y="16300"/>
                  <a:pt x="17836" y="16300"/>
                </a:cubicBezTo>
                <a:cubicBezTo>
                  <a:pt x="17855" y="16264"/>
                  <a:pt x="17874" y="16264"/>
                  <a:pt x="17874" y="16264"/>
                </a:cubicBezTo>
                <a:cubicBezTo>
                  <a:pt x="17893" y="16264"/>
                  <a:pt x="17893" y="16264"/>
                  <a:pt x="17893" y="16227"/>
                </a:cubicBezTo>
                <a:cubicBezTo>
                  <a:pt x="17893" y="16227"/>
                  <a:pt x="17893" y="16227"/>
                  <a:pt x="17893" y="16227"/>
                </a:cubicBezTo>
                <a:cubicBezTo>
                  <a:pt x="17912" y="16227"/>
                  <a:pt x="17931" y="16227"/>
                  <a:pt x="17931" y="16227"/>
                </a:cubicBezTo>
                <a:cubicBezTo>
                  <a:pt x="17950" y="16227"/>
                  <a:pt x="17968" y="16191"/>
                  <a:pt x="17987" y="16191"/>
                </a:cubicBezTo>
                <a:cubicBezTo>
                  <a:pt x="18006" y="16155"/>
                  <a:pt x="18025" y="16155"/>
                  <a:pt x="18025" y="16155"/>
                </a:cubicBezTo>
                <a:cubicBezTo>
                  <a:pt x="18044" y="16118"/>
                  <a:pt x="18044" y="16082"/>
                  <a:pt x="18044" y="16046"/>
                </a:cubicBezTo>
                <a:cubicBezTo>
                  <a:pt x="18063" y="16046"/>
                  <a:pt x="18063" y="16046"/>
                  <a:pt x="18063" y="16009"/>
                </a:cubicBezTo>
                <a:cubicBezTo>
                  <a:pt x="18063" y="16009"/>
                  <a:pt x="18063" y="16009"/>
                  <a:pt x="18063" y="16009"/>
                </a:cubicBezTo>
                <a:cubicBezTo>
                  <a:pt x="18082" y="16009"/>
                  <a:pt x="18082" y="16009"/>
                  <a:pt x="18082" y="15973"/>
                </a:cubicBezTo>
                <a:cubicBezTo>
                  <a:pt x="18082" y="15973"/>
                  <a:pt x="18101" y="15973"/>
                  <a:pt x="18101" y="15973"/>
                </a:cubicBezTo>
                <a:cubicBezTo>
                  <a:pt x="18101" y="15973"/>
                  <a:pt x="18082" y="15937"/>
                  <a:pt x="18082" y="15937"/>
                </a:cubicBezTo>
                <a:cubicBezTo>
                  <a:pt x="18082" y="15937"/>
                  <a:pt x="18082" y="15937"/>
                  <a:pt x="18082" y="15937"/>
                </a:cubicBezTo>
                <a:cubicBezTo>
                  <a:pt x="18082" y="15901"/>
                  <a:pt x="18082" y="15901"/>
                  <a:pt x="18082" y="15864"/>
                </a:cubicBezTo>
                <a:cubicBezTo>
                  <a:pt x="18082" y="15864"/>
                  <a:pt x="18082" y="15864"/>
                  <a:pt x="18082" y="15828"/>
                </a:cubicBezTo>
                <a:cubicBezTo>
                  <a:pt x="18101" y="15828"/>
                  <a:pt x="18120" y="15828"/>
                  <a:pt x="18120" y="15792"/>
                </a:cubicBezTo>
                <a:cubicBezTo>
                  <a:pt x="18120" y="15792"/>
                  <a:pt x="18120" y="15792"/>
                  <a:pt x="18120" y="15792"/>
                </a:cubicBezTo>
                <a:cubicBezTo>
                  <a:pt x="18139" y="15792"/>
                  <a:pt x="18139" y="15792"/>
                  <a:pt x="18139" y="15792"/>
                </a:cubicBezTo>
                <a:cubicBezTo>
                  <a:pt x="18139" y="15792"/>
                  <a:pt x="18139" y="15828"/>
                  <a:pt x="18139" y="15828"/>
                </a:cubicBezTo>
                <a:cubicBezTo>
                  <a:pt x="18158" y="15828"/>
                  <a:pt x="18158" y="15864"/>
                  <a:pt x="18158" y="15864"/>
                </a:cubicBezTo>
                <a:cubicBezTo>
                  <a:pt x="18158" y="15864"/>
                  <a:pt x="18177" y="15901"/>
                  <a:pt x="18177" y="15864"/>
                </a:cubicBezTo>
                <a:cubicBezTo>
                  <a:pt x="18177" y="15864"/>
                  <a:pt x="18177" y="15864"/>
                  <a:pt x="18177" y="15828"/>
                </a:cubicBezTo>
                <a:cubicBezTo>
                  <a:pt x="18177" y="15828"/>
                  <a:pt x="18195" y="15864"/>
                  <a:pt x="18195" y="15828"/>
                </a:cubicBezTo>
                <a:cubicBezTo>
                  <a:pt x="18195" y="15828"/>
                  <a:pt x="18195" y="15828"/>
                  <a:pt x="18195" y="15828"/>
                </a:cubicBezTo>
                <a:cubicBezTo>
                  <a:pt x="18195" y="15792"/>
                  <a:pt x="18177" y="15828"/>
                  <a:pt x="18177" y="15792"/>
                </a:cubicBezTo>
                <a:cubicBezTo>
                  <a:pt x="18177" y="15755"/>
                  <a:pt x="18195" y="15755"/>
                  <a:pt x="18177" y="15755"/>
                </a:cubicBezTo>
                <a:cubicBezTo>
                  <a:pt x="18177" y="15755"/>
                  <a:pt x="18177" y="15755"/>
                  <a:pt x="18177" y="15755"/>
                </a:cubicBezTo>
                <a:cubicBezTo>
                  <a:pt x="18177" y="15719"/>
                  <a:pt x="18195" y="15719"/>
                  <a:pt x="18195" y="15719"/>
                </a:cubicBezTo>
                <a:cubicBezTo>
                  <a:pt x="18195" y="15755"/>
                  <a:pt x="18195" y="15755"/>
                  <a:pt x="18214" y="15755"/>
                </a:cubicBezTo>
                <a:cubicBezTo>
                  <a:pt x="18214" y="15755"/>
                  <a:pt x="18214" y="15755"/>
                  <a:pt x="18233" y="15755"/>
                </a:cubicBezTo>
                <a:cubicBezTo>
                  <a:pt x="18233" y="15755"/>
                  <a:pt x="18214" y="15755"/>
                  <a:pt x="18214" y="15719"/>
                </a:cubicBezTo>
                <a:cubicBezTo>
                  <a:pt x="18233" y="15719"/>
                  <a:pt x="18233" y="15683"/>
                  <a:pt x="18233" y="15683"/>
                </a:cubicBezTo>
                <a:cubicBezTo>
                  <a:pt x="18233" y="15683"/>
                  <a:pt x="18233" y="15683"/>
                  <a:pt x="18233" y="15683"/>
                </a:cubicBezTo>
                <a:cubicBezTo>
                  <a:pt x="18233" y="15683"/>
                  <a:pt x="18233" y="15683"/>
                  <a:pt x="18233" y="15683"/>
                </a:cubicBezTo>
                <a:cubicBezTo>
                  <a:pt x="18214" y="15683"/>
                  <a:pt x="18214" y="15683"/>
                  <a:pt x="18214" y="15683"/>
                </a:cubicBezTo>
                <a:cubicBezTo>
                  <a:pt x="18214" y="15646"/>
                  <a:pt x="18233" y="15646"/>
                  <a:pt x="18252" y="15610"/>
                </a:cubicBezTo>
                <a:cubicBezTo>
                  <a:pt x="18252" y="15610"/>
                  <a:pt x="18252" y="15610"/>
                  <a:pt x="18252" y="15610"/>
                </a:cubicBezTo>
                <a:cubicBezTo>
                  <a:pt x="18252" y="15610"/>
                  <a:pt x="18252" y="15610"/>
                  <a:pt x="18252" y="15610"/>
                </a:cubicBezTo>
                <a:cubicBezTo>
                  <a:pt x="18252" y="15610"/>
                  <a:pt x="18252" y="15610"/>
                  <a:pt x="18252" y="15610"/>
                </a:cubicBezTo>
                <a:cubicBezTo>
                  <a:pt x="18252" y="15610"/>
                  <a:pt x="18252" y="15610"/>
                  <a:pt x="18271" y="15610"/>
                </a:cubicBezTo>
                <a:cubicBezTo>
                  <a:pt x="18271" y="15574"/>
                  <a:pt x="18290" y="15610"/>
                  <a:pt x="18290" y="15574"/>
                </a:cubicBezTo>
                <a:cubicBezTo>
                  <a:pt x="18290" y="15574"/>
                  <a:pt x="18271" y="15574"/>
                  <a:pt x="18271" y="15574"/>
                </a:cubicBezTo>
                <a:cubicBezTo>
                  <a:pt x="18271" y="15537"/>
                  <a:pt x="18290" y="15537"/>
                  <a:pt x="18290" y="15537"/>
                </a:cubicBezTo>
                <a:cubicBezTo>
                  <a:pt x="18309" y="15537"/>
                  <a:pt x="18309" y="15537"/>
                  <a:pt x="18309" y="15537"/>
                </a:cubicBezTo>
                <a:cubicBezTo>
                  <a:pt x="18309" y="15537"/>
                  <a:pt x="18309" y="15537"/>
                  <a:pt x="18309" y="15537"/>
                </a:cubicBezTo>
                <a:cubicBezTo>
                  <a:pt x="18309" y="15537"/>
                  <a:pt x="18309" y="15537"/>
                  <a:pt x="18328" y="15537"/>
                </a:cubicBezTo>
                <a:cubicBezTo>
                  <a:pt x="18328" y="15501"/>
                  <a:pt x="18328" y="15501"/>
                  <a:pt x="18328" y="15501"/>
                </a:cubicBezTo>
                <a:cubicBezTo>
                  <a:pt x="18328" y="15501"/>
                  <a:pt x="18328" y="15465"/>
                  <a:pt x="18328" y="15465"/>
                </a:cubicBezTo>
                <a:cubicBezTo>
                  <a:pt x="18328" y="15465"/>
                  <a:pt x="18328" y="15465"/>
                  <a:pt x="18328" y="15465"/>
                </a:cubicBezTo>
                <a:cubicBezTo>
                  <a:pt x="18328" y="15465"/>
                  <a:pt x="18328" y="15465"/>
                  <a:pt x="18347" y="15465"/>
                </a:cubicBezTo>
                <a:cubicBezTo>
                  <a:pt x="18347" y="15465"/>
                  <a:pt x="18347" y="15465"/>
                  <a:pt x="18347" y="15465"/>
                </a:cubicBezTo>
                <a:cubicBezTo>
                  <a:pt x="18347" y="15465"/>
                  <a:pt x="18347" y="15465"/>
                  <a:pt x="18366" y="15465"/>
                </a:cubicBezTo>
                <a:cubicBezTo>
                  <a:pt x="18366" y="15465"/>
                  <a:pt x="18366" y="15465"/>
                  <a:pt x="18366" y="15465"/>
                </a:cubicBezTo>
                <a:cubicBezTo>
                  <a:pt x="18366" y="15465"/>
                  <a:pt x="18366" y="15429"/>
                  <a:pt x="18385" y="15429"/>
                </a:cubicBezTo>
                <a:cubicBezTo>
                  <a:pt x="18385" y="15429"/>
                  <a:pt x="18385" y="15429"/>
                  <a:pt x="18403" y="15429"/>
                </a:cubicBezTo>
                <a:cubicBezTo>
                  <a:pt x="18422" y="15465"/>
                  <a:pt x="18422" y="15501"/>
                  <a:pt x="18441" y="15501"/>
                </a:cubicBezTo>
                <a:cubicBezTo>
                  <a:pt x="18441" y="15501"/>
                  <a:pt x="18441" y="15501"/>
                  <a:pt x="18460" y="15537"/>
                </a:cubicBezTo>
                <a:cubicBezTo>
                  <a:pt x="18460" y="15537"/>
                  <a:pt x="18460" y="15537"/>
                  <a:pt x="18460" y="15537"/>
                </a:cubicBezTo>
                <a:cubicBezTo>
                  <a:pt x="18460" y="15537"/>
                  <a:pt x="18460" y="15537"/>
                  <a:pt x="18460" y="15574"/>
                </a:cubicBezTo>
                <a:cubicBezTo>
                  <a:pt x="18460" y="15574"/>
                  <a:pt x="18460" y="15574"/>
                  <a:pt x="18460" y="15574"/>
                </a:cubicBezTo>
                <a:cubicBezTo>
                  <a:pt x="18460" y="15574"/>
                  <a:pt x="18460" y="15610"/>
                  <a:pt x="18460" y="15610"/>
                </a:cubicBezTo>
                <a:cubicBezTo>
                  <a:pt x="18479" y="15610"/>
                  <a:pt x="18460" y="15574"/>
                  <a:pt x="18479" y="15574"/>
                </a:cubicBezTo>
                <a:cubicBezTo>
                  <a:pt x="18479" y="15574"/>
                  <a:pt x="18479" y="15574"/>
                  <a:pt x="18479" y="15537"/>
                </a:cubicBezTo>
                <a:cubicBezTo>
                  <a:pt x="18498" y="15537"/>
                  <a:pt x="18498" y="15537"/>
                  <a:pt x="18517" y="15574"/>
                </a:cubicBezTo>
                <a:cubicBezTo>
                  <a:pt x="18517" y="15574"/>
                  <a:pt x="18517" y="15574"/>
                  <a:pt x="18517" y="15574"/>
                </a:cubicBezTo>
                <a:cubicBezTo>
                  <a:pt x="18517" y="15574"/>
                  <a:pt x="18536" y="15574"/>
                  <a:pt x="18536" y="15574"/>
                </a:cubicBezTo>
                <a:cubicBezTo>
                  <a:pt x="18536" y="15574"/>
                  <a:pt x="18536" y="15574"/>
                  <a:pt x="18536" y="15574"/>
                </a:cubicBezTo>
                <a:cubicBezTo>
                  <a:pt x="18536" y="15574"/>
                  <a:pt x="18536" y="15537"/>
                  <a:pt x="18555" y="15574"/>
                </a:cubicBezTo>
                <a:cubicBezTo>
                  <a:pt x="18555" y="15574"/>
                  <a:pt x="18555" y="15574"/>
                  <a:pt x="18555" y="15574"/>
                </a:cubicBezTo>
                <a:cubicBezTo>
                  <a:pt x="18574" y="15574"/>
                  <a:pt x="18555" y="15574"/>
                  <a:pt x="18555" y="15537"/>
                </a:cubicBezTo>
                <a:cubicBezTo>
                  <a:pt x="18574" y="15537"/>
                  <a:pt x="18574" y="15501"/>
                  <a:pt x="18574" y="15501"/>
                </a:cubicBezTo>
                <a:cubicBezTo>
                  <a:pt x="18555" y="15501"/>
                  <a:pt x="18555" y="15501"/>
                  <a:pt x="18536" y="15501"/>
                </a:cubicBezTo>
                <a:cubicBezTo>
                  <a:pt x="18536" y="15465"/>
                  <a:pt x="18555" y="15429"/>
                  <a:pt x="18574" y="15429"/>
                </a:cubicBezTo>
                <a:cubicBezTo>
                  <a:pt x="18574" y="15429"/>
                  <a:pt x="18574" y="15392"/>
                  <a:pt x="18574" y="15392"/>
                </a:cubicBezTo>
                <a:cubicBezTo>
                  <a:pt x="18574" y="15392"/>
                  <a:pt x="18593" y="15392"/>
                  <a:pt x="18593" y="15356"/>
                </a:cubicBezTo>
                <a:cubicBezTo>
                  <a:pt x="18593" y="15356"/>
                  <a:pt x="18593" y="15356"/>
                  <a:pt x="18593" y="15356"/>
                </a:cubicBezTo>
                <a:cubicBezTo>
                  <a:pt x="18593" y="15356"/>
                  <a:pt x="18593" y="15356"/>
                  <a:pt x="18593" y="15320"/>
                </a:cubicBezTo>
                <a:cubicBezTo>
                  <a:pt x="18593" y="15320"/>
                  <a:pt x="18612" y="15320"/>
                  <a:pt x="18612" y="15320"/>
                </a:cubicBezTo>
                <a:cubicBezTo>
                  <a:pt x="18612" y="15283"/>
                  <a:pt x="18630" y="15283"/>
                  <a:pt x="18612" y="15283"/>
                </a:cubicBezTo>
                <a:cubicBezTo>
                  <a:pt x="18630" y="15283"/>
                  <a:pt x="18630" y="15283"/>
                  <a:pt x="18630" y="15283"/>
                </a:cubicBezTo>
                <a:cubicBezTo>
                  <a:pt x="18630" y="15283"/>
                  <a:pt x="18630" y="15283"/>
                  <a:pt x="18630" y="15283"/>
                </a:cubicBezTo>
                <a:cubicBezTo>
                  <a:pt x="18649" y="15283"/>
                  <a:pt x="18649" y="15247"/>
                  <a:pt x="18649" y="15247"/>
                </a:cubicBezTo>
                <a:cubicBezTo>
                  <a:pt x="18668" y="15247"/>
                  <a:pt x="18687" y="15247"/>
                  <a:pt x="18706" y="15247"/>
                </a:cubicBezTo>
                <a:cubicBezTo>
                  <a:pt x="18706" y="15247"/>
                  <a:pt x="18725" y="15247"/>
                  <a:pt x="18725" y="15247"/>
                </a:cubicBezTo>
                <a:cubicBezTo>
                  <a:pt x="18725" y="15247"/>
                  <a:pt x="18725" y="15247"/>
                  <a:pt x="18744" y="15247"/>
                </a:cubicBezTo>
                <a:cubicBezTo>
                  <a:pt x="18744" y="15247"/>
                  <a:pt x="18744" y="15247"/>
                  <a:pt x="18763" y="15211"/>
                </a:cubicBezTo>
                <a:cubicBezTo>
                  <a:pt x="18763" y="15211"/>
                  <a:pt x="18744" y="15211"/>
                  <a:pt x="18744" y="15211"/>
                </a:cubicBezTo>
                <a:cubicBezTo>
                  <a:pt x="18744" y="15174"/>
                  <a:pt x="18744" y="15174"/>
                  <a:pt x="18725" y="15174"/>
                </a:cubicBezTo>
                <a:cubicBezTo>
                  <a:pt x="18725" y="15174"/>
                  <a:pt x="18706" y="15174"/>
                  <a:pt x="18706" y="15174"/>
                </a:cubicBezTo>
                <a:cubicBezTo>
                  <a:pt x="18706" y="15138"/>
                  <a:pt x="18706" y="15138"/>
                  <a:pt x="18706" y="15138"/>
                </a:cubicBezTo>
                <a:cubicBezTo>
                  <a:pt x="18706" y="15138"/>
                  <a:pt x="18706" y="15138"/>
                  <a:pt x="18706" y="15138"/>
                </a:cubicBezTo>
                <a:cubicBezTo>
                  <a:pt x="18725" y="15138"/>
                  <a:pt x="18725" y="15138"/>
                  <a:pt x="18725" y="15138"/>
                </a:cubicBezTo>
                <a:cubicBezTo>
                  <a:pt x="18744" y="15138"/>
                  <a:pt x="18744" y="15138"/>
                  <a:pt x="18744" y="15174"/>
                </a:cubicBezTo>
                <a:cubicBezTo>
                  <a:pt x="18744" y="15174"/>
                  <a:pt x="18744" y="15174"/>
                  <a:pt x="18744" y="15174"/>
                </a:cubicBezTo>
                <a:cubicBezTo>
                  <a:pt x="18744" y="15174"/>
                  <a:pt x="18763" y="15138"/>
                  <a:pt x="18763" y="15138"/>
                </a:cubicBezTo>
                <a:cubicBezTo>
                  <a:pt x="18763" y="15138"/>
                  <a:pt x="18763" y="15174"/>
                  <a:pt x="18763" y="15174"/>
                </a:cubicBezTo>
                <a:cubicBezTo>
                  <a:pt x="18782" y="15174"/>
                  <a:pt x="18782" y="15174"/>
                  <a:pt x="18801" y="15211"/>
                </a:cubicBezTo>
                <a:cubicBezTo>
                  <a:pt x="18801" y="15211"/>
                  <a:pt x="18820" y="15174"/>
                  <a:pt x="18820" y="15174"/>
                </a:cubicBezTo>
                <a:cubicBezTo>
                  <a:pt x="18839" y="15174"/>
                  <a:pt x="18839" y="15211"/>
                  <a:pt x="18839" y="15211"/>
                </a:cubicBezTo>
                <a:cubicBezTo>
                  <a:pt x="18839" y="15211"/>
                  <a:pt x="18857" y="15211"/>
                  <a:pt x="18857" y="15211"/>
                </a:cubicBezTo>
                <a:cubicBezTo>
                  <a:pt x="18876" y="15174"/>
                  <a:pt x="18895" y="15247"/>
                  <a:pt x="18914" y="15247"/>
                </a:cubicBezTo>
                <a:cubicBezTo>
                  <a:pt x="18933" y="15247"/>
                  <a:pt x="18933" y="15211"/>
                  <a:pt x="18952" y="15211"/>
                </a:cubicBezTo>
                <a:cubicBezTo>
                  <a:pt x="18952" y="15211"/>
                  <a:pt x="18952" y="15211"/>
                  <a:pt x="18952" y="15211"/>
                </a:cubicBezTo>
                <a:cubicBezTo>
                  <a:pt x="18952" y="15211"/>
                  <a:pt x="18952" y="15247"/>
                  <a:pt x="18952" y="15247"/>
                </a:cubicBezTo>
                <a:cubicBezTo>
                  <a:pt x="18952" y="15247"/>
                  <a:pt x="18971" y="15247"/>
                  <a:pt x="18971" y="15247"/>
                </a:cubicBezTo>
                <a:cubicBezTo>
                  <a:pt x="18971" y="15247"/>
                  <a:pt x="18971" y="15283"/>
                  <a:pt x="18971" y="15283"/>
                </a:cubicBezTo>
                <a:cubicBezTo>
                  <a:pt x="18990" y="15283"/>
                  <a:pt x="18990" y="15247"/>
                  <a:pt x="18990" y="15247"/>
                </a:cubicBezTo>
                <a:cubicBezTo>
                  <a:pt x="18990" y="15247"/>
                  <a:pt x="18971" y="15211"/>
                  <a:pt x="18990" y="15211"/>
                </a:cubicBezTo>
                <a:cubicBezTo>
                  <a:pt x="19009" y="15211"/>
                  <a:pt x="19009" y="15247"/>
                  <a:pt x="19009" y="15247"/>
                </a:cubicBezTo>
                <a:cubicBezTo>
                  <a:pt x="19009" y="15247"/>
                  <a:pt x="19009" y="15247"/>
                  <a:pt x="19009" y="15247"/>
                </a:cubicBezTo>
                <a:cubicBezTo>
                  <a:pt x="19009" y="15247"/>
                  <a:pt x="19009" y="15247"/>
                  <a:pt x="19009" y="15247"/>
                </a:cubicBezTo>
                <a:cubicBezTo>
                  <a:pt x="19028" y="15247"/>
                  <a:pt x="19028" y="15247"/>
                  <a:pt x="19028" y="15247"/>
                </a:cubicBezTo>
                <a:cubicBezTo>
                  <a:pt x="19028" y="15283"/>
                  <a:pt x="19028" y="15283"/>
                  <a:pt x="19009" y="15320"/>
                </a:cubicBezTo>
                <a:cubicBezTo>
                  <a:pt x="19009" y="15320"/>
                  <a:pt x="19009" y="15320"/>
                  <a:pt x="19009" y="15320"/>
                </a:cubicBezTo>
                <a:cubicBezTo>
                  <a:pt x="19009" y="15320"/>
                  <a:pt x="19009" y="15320"/>
                  <a:pt x="19009" y="15320"/>
                </a:cubicBezTo>
                <a:cubicBezTo>
                  <a:pt x="19009" y="15320"/>
                  <a:pt x="19009" y="15320"/>
                  <a:pt x="19009" y="15320"/>
                </a:cubicBezTo>
                <a:cubicBezTo>
                  <a:pt x="19009" y="15356"/>
                  <a:pt x="19009" y="15356"/>
                  <a:pt x="19009" y="15356"/>
                </a:cubicBezTo>
                <a:cubicBezTo>
                  <a:pt x="18990" y="15320"/>
                  <a:pt x="18971" y="15356"/>
                  <a:pt x="18971" y="15356"/>
                </a:cubicBezTo>
                <a:cubicBezTo>
                  <a:pt x="18971" y="15392"/>
                  <a:pt x="18952" y="15392"/>
                  <a:pt x="18971" y="15429"/>
                </a:cubicBezTo>
                <a:cubicBezTo>
                  <a:pt x="18971" y="15429"/>
                  <a:pt x="18971" y="15429"/>
                  <a:pt x="18971" y="15429"/>
                </a:cubicBezTo>
                <a:cubicBezTo>
                  <a:pt x="18952" y="15465"/>
                  <a:pt x="18952" y="15501"/>
                  <a:pt x="18933" y="15537"/>
                </a:cubicBezTo>
                <a:cubicBezTo>
                  <a:pt x="18933" y="15537"/>
                  <a:pt x="18933" y="15537"/>
                  <a:pt x="18933" y="15537"/>
                </a:cubicBezTo>
                <a:cubicBezTo>
                  <a:pt x="18952" y="15574"/>
                  <a:pt x="18952" y="15574"/>
                  <a:pt x="18952" y="15574"/>
                </a:cubicBezTo>
                <a:cubicBezTo>
                  <a:pt x="18971" y="15574"/>
                  <a:pt x="18971" y="15610"/>
                  <a:pt x="18990" y="15610"/>
                </a:cubicBezTo>
                <a:cubicBezTo>
                  <a:pt x="18990" y="15610"/>
                  <a:pt x="18990" y="15610"/>
                  <a:pt x="18990" y="15610"/>
                </a:cubicBezTo>
                <a:cubicBezTo>
                  <a:pt x="18990" y="15610"/>
                  <a:pt x="18990" y="15610"/>
                  <a:pt x="18990" y="15646"/>
                </a:cubicBezTo>
                <a:cubicBezTo>
                  <a:pt x="19009" y="15646"/>
                  <a:pt x="19009" y="15646"/>
                  <a:pt x="19028" y="15683"/>
                </a:cubicBezTo>
                <a:cubicBezTo>
                  <a:pt x="19028" y="15646"/>
                  <a:pt x="19047" y="15683"/>
                  <a:pt x="19065" y="15683"/>
                </a:cubicBezTo>
                <a:cubicBezTo>
                  <a:pt x="19065" y="15683"/>
                  <a:pt x="19065" y="15719"/>
                  <a:pt x="19065" y="15719"/>
                </a:cubicBezTo>
                <a:cubicBezTo>
                  <a:pt x="19084" y="15719"/>
                  <a:pt x="19084" y="15719"/>
                  <a:pt x="19084" y="15719"/>
                </a:cubicBezTo>
                <a:cubicBezTo>
                  <a:pt x="19084" y="15719"/>
                  <a:pt x="19103" y="15755"/>
                  <a:pt x="19103" y="15755"/>
                </a:cubicBezTo>
                <a:cubicBezTo>
                  <a:pt x="19103" y="15755"/>
                  <a:pt x="19122" y="15755"/>
                  <a:pt x="19122" y="15755"/>
                </a:cubicBezTo>
                <a:cubicBezTo>
                  <a:pt x="19141" y="15755"/>
                  <a:pt x="19160" y="15792"/>
                  <a:pt x="19179" y="15792"/>
                </a:cubicBezTo>
                <a:cubicBezTo>
                  <a:pt x="19179" y="15792"/>
                  <a:pt x="19179" y="15828"/>
                  <a:pt x="19179" y="15864"/>
                </a:cubicBezTo>
                <a:cubicBezTo>
                  <a:pt x="19198" y="15864"/>
                  <a:pt x="19198" y="15864"/>
                  <a:pt x="19198" y="15864"/>
                </a:cubicBezTo>
                <a:cubicBezTo>
                  <a:pt x="19217" y="15864"/>
                  <a:pt x="19217" y="15864"/>
                  <a:pt x="19236" y="15864"/>
                </a:cubicBezTo>
                <a:cubicBezTo>
                  <a:pt x="19255" y="15864"/>
                  <a:pt x="19274" y="15864"/>
                  <a:pt x="19274" y="15864"/>
                </a:cubicBezTo>
                <a:cubicBezTo>
                  <a:pt x="19292" y="15828"/>
                  <a:pt x="19292" y="15828"/>
                  <a:pt x="19292" y="15792"/>
                </a:cubicBezTo>
                <a:cubicBezTo>
                  <a:pt x="19311" y="15755"/>
                  <a:pt x="19311" y="15719"/>
                  <a:pt x="19311" y="15683"/>
                </a:cubicBezTo>
                <a:cubicBezTo>
                  <a:pt x="19311" y="15683"/>
                  <a:pt x="19311" y="15683"/>
                  <a:pt x="19311" y="15646"/>
                </a:cubicBezTo>
                <a:cubicBezTo>
                  <a:pt x="19330" y="15646"/>
                  <a:pt x="19330" y="15610"/>
                  <a:pt x="19330" y="15610"/>
                </a:cubicBezTo>
                <a:cubicBezTo>
                  <a:pt x="19330" y="15574"/>
                  <a:pt x="19330" y="15537"/>
                  <a:pt x="19330" y="15537"/>
                </a:cubicBezTo>
                <a:cubicBezTo>
                  <a:pt x="19330" y="15501"/>
                  <a:pt x="19330" y="15501"/>
                  <a:pt x="19330" y="15465"/>
                </a:cubicBezTo>
                <a:cubicBezTo>
                  <a:pt x="19330" y="15465"/>
                  <a:pt x="19330" y="15429"/>
                  <a:pt x="19330" y="15429"/>
                </a:cubicBezTo>
                <a:cubicBezTo>
                  <a:pt x="19330" y="15429"/>
                  <a:pt x="19349" y="15392"/>
                  <a:pt x="19349" y="15392"/>
                </a:cubicBezTo>
                <a:cubicBezTo>
                  <a:pt x="19330" y="15356"/>
                  <a:pt x="19330" y="15356"/>
                  <a:pt x="19330" y="15356"/>
                </a:cubicBezTo>
                <a:cubicBezTo>
                  <a:pt x="19349" y="15320"/>
                  <a:pt x="19349" y="15320"/>
                  <a:pt x="19368" y="15320"/>
                </a:cubicBezTo>
                <a:cubicBezTo>
                  <a:pt x="19349" y="15283"/>
                  <a:pt x="19349" y="15320"/>
                  <a:pt x="19330" y="15283"/>
                </a:cubicBezTo>
                <a:cubicBezTo>
                  <a:pt x="19330" y="15283"/>
                  <a:pt x="19349" y="15283"/>
                  <a:pt x="19349" y="15283"/>
                </a:cubicBezTo>
                <a:cubicBezTo>
                  <a:pt x="19349" y="15247"/>
                  <a:pt x="19349" y="15247"/>
                  <a:pt x="19349" y="15247"/>
                </a:cubicBezTo>
                <a:cubicBezTo>
                  <a:pt x="19349" y="15247"/>
                  <a:pt x="19368" y="15211"/>
                  <a:pt x="19368" y="15211"/>
                </a:cubicBezTo>
                <a:cubicBezTo>
                  <a:pt x="19368" y="15174"/>
                  <a:pt x="19368" y="15138"/>
                  <a:pt x="19387" y="15102"/>
                </a:cubicBezTo>
                <a:cubicBezTo>
                  <a:pt x="19387" y="15102"/>
                  <a:pt x="19387" y="15102"/>
                  <a:pt x="19387" y="15102"/>
                </a:cubicBezTo>
                <a:cubicBezTo>
                  <a:pt x="19387" y="15102"/>
                  <a:pt x="19406" y="15138"/>
                  <a:pt x="19406" y="15138"/>
                </a:cubicBezTo>
                <a:cubicBezTo>
                  <a:pt x="19406" y="15138"/>
                  <a:pt x="19406" y="15138"/>
                  <a:pt x="19406" y="15138"/>
                </a:cubicBezTo>
                <a:cubicBezTo>
                  <a:pt x="19406" y="15138"/>
                  <a:pt x="19406" y="15174"/>
                  <a:pt x="19425" y="15174"/>
                </a:cubicBezTo>
                <a:cubicBezTo>
                  <a:pt x="19425" y="15211"/>
                  <a:pt x="19425" y="15247"/>
                  <a:pt x="19444" y="15247"/>
                </a:cubicBezTo>
                <a:cubicBezTo>
                  <a:pt x="19444" y="15247"/>
                  <a:pt x="19425" y="15247"/>
                  <a:pt x="19425" y="15283"/>
                </a:cubicBezTo>
                <a:cubicBezTo>
                  <a:pt x="19444" y="15283"/>
                  <a:pt x="19463" y="15320"/>
                  <a:pt x="19463" y="15356"/>
                </a:cubicBezTo>
                <a:cubicBezTo>
                  <a:pt x="19463" y="15392"/>
                  <a:pt x="19463" y="15429"/>
                  <a:pt x="19463" y="15465"/>
                </a:cubicBezTo>
                <a:cubicBezTo>
                  <a:pt x="19463" y="15465"/>
                  <a:pt x="19463" y="15465"/>
                  <a:pt x="19463" y="15465"/>
                </a:cubicBezTo>
                <a:cubicBezTo>
                  <a:pt x="19463" y="15465"/>
                  <a:pt x="19463" y="15501"/>
                  <a:pt x="19463" y="15501"/>
                </a:cubicBezTo>
                <a:cubicBezTo>
                  <a:pt x="19482" y="15501"/>
                  <a:pt x="19482" y="15537"/>
                  <a:pt x="19501" y="15537"/>
                </a:cubicBezTo>
                <a:cubicBezTo>
                  <a:pt x="19501" y="15501"/>
                  <a:pt x="19501" y="15501"/>
                  <a:pt x="19519" y="15501"/>
                </a:cubicBezTo>
                <a:cubicBezTo>
                  <a:pt x="19519" y="15501"/>
                  <a:pt x="19519" y="15501"/>
                  <a:pt x="19519" y="15501"/>
                </a:cubicBezTo>
                <a:cubicBezTo>
                  <a:pt x="19538" y="15501"/>
                  <a:pt x="19538" y="15537"/>
                  <a:pt x="19538" y="15537"/>
                </a:cubicBezTo>
                <a:cubicBezTo>
                  <a:pt x="19557" y="15537"/>
                  <a:pt x="19557" y="15574"/>
                  <a:pt x="19576" y="15610"/>
                </a:cubicBezTo>
                <a:cubicBezTo>
                  <a:pt x="19557" y="15610"/>
                  <a:pt x="19576" y="15610"/>
                  <a:pt x="19576" y="15646"/>
                </a:cubicBezTo>
                <a:cubicBezTo>
                  <a:pt x="19576" y="15646"/>
                  <a:pt x="19576" y="15646"/>
                  <a:pt x="19576" y="15646"/>
                </a:cubicBezTo>
                <a:cubicBezTo>
                  <a:pt x="19576" y="15646"/>
                  <a:pt x="19576" y="15683"/>
                  <a:pt x="19576" y="15719"/>
                </a:cubicBezTo>
                <a:cubicBezTo>
                  <a:pt x="19576" y="15719"/>
                  <a:pt x="19576" y="15755"/>
                  <a:pt x="19576" y="15755"/>
                </a:cubicBezTo>
                <a:cubicBezTo>
                  <a:pt x="19595" y="15792"/>
                  <a:pt x="19595" y="15828"/>
                  <a:pt x="19614" y="15828"/>
                </a:cubicBezTo>
                <a:cubicBezTo>
                  <a:pt x="19614" y="15864"/>
                  <a:pt x="19614" y="15864"/>
                  <a:pt x="19614" y="15864"/>
                </a:cubicBezTo>
                <a:cubicBezTo>
                  <a:pt x="19614" y="15901"/>
                  <a:pt x="19614" y="15901"/>
                  <a:pt x="19633" y="15937"/>
                </a:cubicBezTo>
                <a:cubicBezTo>
                  <a:pt x="19614" y="15937"/>
                  <a:pt x="19614" y="15937"/>
                  <a:pt x="19614" y="15937"/>
                </a:cubicBezTo>
                <a:cubicBezTo>
                  <a:pt x="19614" y="15973"/>
                  <a:pt x="19614" y="16009"/>
                  <a:pt x="19633" y="16009"/>
                </a:cubicBezTo>
                <a:cubicBezTo>
                  <a:pt x="19633" y="16046"/>
                  <a:pt x="19633" y="16082"/>
                  <a:pt x="19652" y="16118"/>
                </a:cubicBezTo>
                <a:cubicBezTo>
                  <a:pt x="19671" y="16118"/>
                  <a:pt x="19671" y="16118"/>
                  <a:pt x="19671" y="16118"/>
                </a:cubicBezTo>
                <a:cubicBezTo>
                  <a:pt x="19690" y="16118"/>
                  <a:pt x="19690" y="16118"/>
                  <a:pt x="19709" y="16118"/>
                </a:cubicBezTo>
                <a:cubicBezTo>
                  <a:pt x="19709" y="16155"/>
                  <a:pt x="19709" y="16155"/>
                  <a:pt x="19709" y="16155"/>
                </a:cubicBezTo>
                <a:cubicBezTo>
                  <a:pt x="19709" y="16155"/>
                  <a:pt x="19709" y="16155"/>
                  <a:pt x="19709" y="16155"/>
                </a:cubicBezTo>
                <a:cubicBezTo>
                  <a:pt x="19709" y="16155"/>
                  <a:pt x="19709" y="16191"/>
                  <a:pt x="19727" y="16191"/>
                </a:cubicBezTo>
                <a:cubicBezTo>
                  <a:pt x="19727" y="16191"/>
                  <a:pt x="19727" y="16191"/>
                  <a:pt x="19727" y="16191"/>
                </a:cubicBezTo>
                <a:cubicBezTo>
                  <a:pt x="19727" y="16191"/>
                  <a:pt x="19727" y="16191"/>
                  <a:pt x="19727" y="16191"/>
                </a:cubicBezTo>
                <a:cubicBezTo>
                  <a:pt x="19746" y="16191"/>
                  <a:pt x="19746" y="16227"/>
                  <a:pt x="19765" y="16227"/>
                </a:cubicBezTo>
                <a:cubicBezTo>
                  <a:pt x="19765" y="16227"/>
                  <a:pt x="19765" y="16227"/>
                  <a:pt x="19784" y="16227"/>
                </a:cubicBezTo>
                <a:cubicBezTo>
                  <a:pt x="19784" y="16227"/>
                  <a:pt x="19803" y="16227"/>
                  <a:pt x="19784" y="16264"/>
                </a:cubicBezTo>
                <a:cubicBezTo>
                  <a:pt x="19784" y="16264"/>
                  <a:pt x="19784" y="16264"/>
                  <a:pt x="19784" y="16264"/>
                </a:cubicBezTo>
                <a:cubicBezTo>
                  <a:pt x="19784" y="16300"/>
                  <a:pt x="19784" y="16300"/>
                  <a:pt x="19784" y="16336"/>
                </a:cubicBezTo>
                <a:cubicBezTo>
                  <a:pt x="19784" y="16336"/>
                  <a:pt x="19784" y="16336"/>
                  <a:pt x="19803" y="16336"/>
                </a:cubicBezTo>
                <a:cubicBezTo>
                  <a:pt x="19803" y="16336"/>
                  <a:pt x="19803" y="16336"/>
                  <a:pt x="19803" y="16336"/>
                </a:cubicBezTo>
                <a:cubicBezTo>
                  <a:pt x="19803" y="16372"/>
                  <a:pt x="19803" y="16372"/>
                  <a:pt x="19803" y="16372"/>
                </a:cubicBezTo>
                <a:cubicBezTo>
                  <a:pt x="19822" y="16372"/>
                  <a:pt x="19822" y="16409"/>
                  <a:pt x="19822" y="16445"/>
                </a:cubicBezTo>
                <a:cubicBezTo>
                  <a:pt x="19822" y="16445"/>
                  <a:pt x="19822" y="16445"/>
                  <a:pt x="19822" y="16445"/>
                </a:cubicBezTo>
                <a:cubicBezTo>
                  <a:pt x="19841" y="16481"/>
                  <a:pt x="19822" y="16518"/>
                  <a:pt x="19841" y="16518"/>
                </a:cubicBezTo>
                <a:cubicBezTo>
                  <a:pt x="19841" y="16518"/>
                  <a:pt x="19841" y="16554"/>
                  <a:pt x="19860" y="16518"/>
                </a:cubicBezTo>
                <a:cubicBezTo>
                  <a:pt x="19860" y="16518"/>
                  <a:pt x="19860" y="16518"/>
                  <a:pt x="19860" y="16481"/>
                </a:cubicBezTo>
                <a:cubicBezTo>
                  <a:pt x="19860" y="16481"/>
                  <a:pt x="19860" y="16481"/>
                  <a:pt x="19860" y="16481"/>
                </a:cubicBezTo>
                <a:cubicBezTo>
                  <a:pt x="19879" y="16518"/>
                  <a:pt x="19879" y="16518"/>
                  <a:pt x="19879" y="16554"/>
                </a:cubicBezTo>
                <a:cubicBezTo>
                  <a:pt x="19879" y="16554"/>
                  <a:pt x="19898" y="16554"/>
                  <a:pt x="19898" y="16554"/>
                </a:cubicBezTo>
                <a:cubicBezTo>
                  <a:pt x="19898" y="16554"/>
                  <a:pt x="19898" y="16554"/>
                  <a:pt x="19898" y="16518"/>
                </a:cubicBezTo>
                <a:cubicBezTo>
                  <a:pt x="19898" y="16518"/>
                  <a:pt x="19898" y="16518"/>
                  <a:pt x="19898" y="16518"/>
                </a:cubicBezTo>
                <a:cubicBezTo>
                  <a:pt x="19898" y="16554"/>
                  <a:pt x="19917" y="16554"/>
                  <a:pt x="19917" y="16554"/>
                </a:cubicBezTo>
                <a:cubicBezTo>
                  <a:pt x="19917" y="16554"/>
                  <a:pt x="19917" y="16554"/>
                  <a:pt x="19917" y="16590"/>
                </a:cubicBezTo>
                <a:cubicBezTo>
                  <a:pt x="19898" y="16590"/>
                  <a:pt x="19898" y="16663"/>
                  <a:pt x="19917" y="16663"/>
                </a:cubicBezTo>
                <a:cubicBezTo>
                  <a:pt x="19917" y="16699"/>
                  <a:pt x="19936" y="16663"/>
                  <a:pt x="19936" y="16663"/>
                </a:cubicBezTo>
                <a:cubicBezTo>
                  <a:pt x="19917" y="16735"/>
                  <a:pt x="19954" y="16735"/>
                  <a:pt x="19973" y="16772"/>
                </a:cubicBezTo>
                <a:cubicBezTo>
                  <a:pt x="19973" y="16772"/>
                  <a:pt x="19973" y="16772"/>
                  <a:pt x="19973" y="16808"/>
                </a:cubicBezTo>
                <a:cubicBezTo>
                  <a:pt x="19973" y="16808"/>
                  <a:pt x="19992" y="16808"/>
                  <a:pt x="19992" y="16844"/>
                </a:cubicBezTo>
                <a:cubicBezTo>
                  <a:pt x="20011" y="16844"/>
                  <a:pt x="20011" y="16881"/>
                  <a:pt x="20011" y="16881"/>
                </a:cubicBezTo>
                <a:cubicBezTo>
                  <a:pt x="20030" y="16917"/>
                  <a:pt x="20030" y="16917"/>
                  <a:pt x="20030" y="16953"/>
                </a:cubicBezTo>
                <a:cubicBezTo>
                  <a:pt x="20030" y="16990"/>
                  <a:pt x="20030" y="16990"/>
                  <a:pt x="20030" y="16990"/>
                </a:cubicBezTo>
                <a:cubicBezTo>
                  <a:pt x="20049" y="16990"/>
                  <a:pt x="20049" y="17026"/>
                  <a:pt x="20049" y="17026"/>
                </a:cubicBezTo>
                <a:cubicBezTo>
                  <a:pt x="20049" y="17026"/>
                  <a:pt x="20049" y="17026"/>
                  <a:pt x="20049" y="17062"/>
                </a:cubicBezTo>
                <a:cubicBezTo>
                  <a:pt x="20049" y="17062"/>
                  <a:pt x="20049" y="17062"/>
                  <a:pt x="20049" y="17098"/>
                </a:cubicBezTo>
                <a:cubicBezTo>
                  <a:pt x="20049" y="17098"/>
                  <a:pt x="20049" y="17135"/>
                  <a:pt x="20049" y="17135"/>
                </a:cubicBezTo>
                <a:cubicBezTo>
                  <a:pt x="20049" y="17171"/>
                  <a:pt x="20030" y="17171"/>
                  <a:pt x="20030" y="17171"/>
                </a:cubicBezTo>
                <a:cubicBezTo>
                  <a:pt x="20049" y="17171"/>
                  <a:pt x="20049" y="17207"/>
                  <a:pt x="20049" y="17207"/>
                </a:cubicBezTo>
                <a:cubicBezTo>
                  <a:pt x="20049" y="17244"/>
                  <a:pt x="20068" y="17244"/>
                  <a:pt x="20068" y="17280"/>
                </a:cubicBezTo>
                <a:cubicBezTo>
                  <a:pt x="20068" y="17280"/>
                  <a:pt x="20068" y="17316"/>
                  <a:pt x="20068" y="17316"/>
                </a:cubicBezTo>
                <a:cubicBezTo>
                  <a:pt x="20068" y="17316"/>
                  <a:pt x="20068" y="17316"/>
                  <a:pt x="20068" y="17353"/>
                </a:cubicBezTo>
                <a:cubicBezTo>
                  <a:pt x="20068" y="17353"/>
                  <a:pt x="20068" y="17389"/>
                  <a:pt x="20068" y="17389"/>
                </a:cubicBezTo>
                <a:cubicBezTo>
                  <a:pt x="20068" y="17425"/>
                  <a:pt x="20049" y="17425"/>
                  <a:pt x="20049" y="17425"/>
                </a:cubicBezTo>
                <a:cubicBezTo>
                  <a:pt x="20049" y="17462"/>
                  <a:pt x="20049" y="17498"/>
                  <a:pt x="20049" y="17534"/>
                </a:cubicBezTo>
                <a:cubicBezTo>
                  <a:pt x="20030" y="17570"/>
                  <a:pt x="20030" y="17570"/>
                  <a:pt x="20030" y="17570"/>
                </a:cubicBezTo>
                <a:cubicBezTo>
                  <a:pt x="20030" y="17570"/>
                  <a:pt x="20030" y="17570"/>
                  <a:pt x="20030" y="17607"/>
                </a:cubicBezTo>
                <a:cubicBezTo>
                  <a:pt x="20030" y="17643"/>
                  <a:pt x="20030" y="17679"/>
                  <a:pt x="20011" y="17716"/>
                </a:cubicBezTo>
                <a:cubicBezTo>
                  <a:pt x="20011" y="17716"/>
                  <a:pt x="20011" y="17752"/>
                  <a:pt x="20011" y="17752"/>
                </a:cubicBezTo>
                <a:cubicBezTo>
                  <a:pt x="20011" y="17752"/>
                  <a:pt x="20011" y="17752"/>
                  <a:pt x="20011" y="17752"/>
                </a:cubicBezTo>
                <a:cubicBezTo>
                  <a:pt x="19992" y="17788"/>
                  <a:pt x="19992" y="17788"/>
                  <a:pt x="19992" y="17788"/>
                </a:cubicBezTo>
                <a:cubicBezTo>
                  <a:pt x="19992" y="17825"/>
                  <a:pt x="19992" y="17897"/>
                  <a:pt x="19954" y="17897"/>
                </a:cubicBezTo>
                <a:cubicBezTo>
                  <a:pt x="19954" y="17897"/>
                  <a:pt x="19936" y="17897"/>
                  <a:pt x="19936" y="17933"/>
                </a:cubicBezTo>
                <a:cubicBezTo>
                  <a:pt x="19917" y="17970"/>
                  <a:pt x="19917" y="18006"/>
                  <a:pt x="19898" y="18042"/>
                </a:cubicBezTo>
                <a:cubicBezTo>
                  <a:pt x="19898" y="18079"/>
                  <a:pt x="19879" y="18079"/>
                  <a:pt x="19879" y="18115"/>
                </a:cubicBezTo>
                <a:cubicBezTo>
                  <a:pt x="19879" y="18115"/>
                  <a:pt x="19879" y="18115"/>
                  <a:pt x="19879" y="18115"/>
                </a:cubicBezTo>
                <a:cubicBezTo>
                  <a:pt x="19879" y="18151"/>
                  <a:pt x="19879" y="18151"/>
                  <a:pt x="19879" y="18151"/>
                </a:cubicBezTo>
                <a:cubicBezTo>
                  <a:pt x="19879" y="18151"/>
                  <a:pt x="19879" y="18151"/>
                  <a:pt x="19879" y="18151"/>
                </a:cubicBezTo>
                <a:cubicBezTo>
                  <a:pt x="19860" y="18188"/>
                  <a:pt x="19860" y="18188"/>
                  <a:pt x="19860" y="18188"/>
                </a:cubicBezTo>
                <a:cubicBezTo>
                  <a:pt x="19841" y="18224"/>
                  <a:pt x="19841" y="18260"/>
                  <a:pt x="19841" y="18296"/>
                </a:cubicBezTo>
                <a:cubicBezTo>
                  <a:pt x="19822" y="18333"/>
                  <a:pt x="19822" y="18369"/>
                  <a:pt x="19822" y="18405"/>
                </a:cubicBezTo>
                <a:cubicBezTo>
                  <a:pt x="19822" y="18442"/>
                  <a:pt x="19822" y="18442"/>
                  <a:pt x="19822" y="18442"/>
                </a:cubicBezTo>
                <a:cubicBezTo>
                  <a:pt x="19822" y="18442"/>
                  <a:pt x="19822" y="18442"/>
                  <a:pt x="19822" y="18478"/>
                </a:cubicBezTo>
                <a:cubicBezTo>
                  <a:pt x="19822" y="18478"/>
                  <a:pt x="19822" y="18514"/>
                  <a:pt x="19822" y="18514"/>
                </a:cubicBezTo>
                <a:cubicBezTo>
                  <a:pt x="19803" y="18514"/>
                  <a:pt x="19803" y="18514"/>
                  <a:pt x="19803" y="18514"/>
                </a:cubicBezTo>
                <a:cubicBezTo>
                  <a:pt x="19803" y="18551"/>
                  <a:pt x="19784" y="18551"/>
                  <a:pt x="19784" y="18551"/>
                </a:cubicBezTo>
                <a:cubicBezTo>
                  <a:pt x="19746" y="18551"/>
                  <a:pt x="19709" y="18551"/>
                  <a:pt x="19690" y="18551"/>
                </a:cubicBezTo>
                <a:cubicBezTo>
                  <a:pt x="19652" y="18587"/>
                  <a:pt x="19652" y="18623"/>
                  <a:pt x="19633" y="18659"/>
                </a:cubicBezTo>
                <a:cubicBezTo>
                  <a:pt x="19633" y="18659"/>
                  <a:pt x="19614" y="18659"/>
                  <a:pt x="19595" y="18659"/>
                </a:cubicBezTo>
                <a:cubicBezTo>
                  <a:pt x="19595" y="18659"/>
                  <a:pt x="19595" y="18659"/>
                  <a:pt x="19595" y="18659"/>
                </a:cubicBezTo>
                <a:cubicBezTo>
                  <a:pt x="19576" y="18696"/>
                  <a:pt x="19595" y="18696"/>
                  <a:pt x="19595" y="18696"/>
                </a:cubicBezTo>
                <a:cubicBezTo>
                  <a:pt x="19595" y="18696"/>
                  <a:pt x="19595" y="18732"/>
                  <a:pt x="19595" y="18732"/>
                </a:cubicBezTo>
                <a:cubicBezTo>
                  <a:pt x="19595" y="18696"/>
                  <a:pt x="19576" y="18696"/>
                  <a:pt x="19576" y="18696"/>
                </a:cubicBezTo>
                <a:cubicBezTo>
                  <a:pt x="19576" y="18696"/>
                  <a:pt x="19576" y="18696"/>
                  <a:pt x="19576" y="18696"/>
                </a:cubicBezTo>
                <a:cubicBezTo>
                  <a:pt x="19557" y="18659"/>
                  <a:pt x="19557" y="18659"/>
                  <a:pt x="19538" y="18623"/>
                </a:cubicBezTo>
                <a:cubicBezTo>
                  <a:pt x="19538" y="18623"/>
                  <a:pt x="19538" y="18623"/>
                  <a:pt x="19538" y="18587"/>
                </a:cubicBezTo>
                <a:cubicBezTo>
                  <a:pt x="19538" y="18587"/>
                  <a:pt x="19538" y="18587"/>
                  <a:pt x="19538" y="18587"/>
                </a:cubicBezTo>
                <a:cubicBezTo>
                  <a:pt x="19519" y="18587"/>
                  <a:pt x="19519" y="18623"/>
                  <a:pt x="19501" y="18587"/>
                </a:cubicBezTo>
                <a:cubicBezTo>
                  <a:pt x="19519" y="18587"/>
                  <a:pt x="19519" y="18551"/>
                  <a:pt x="19519" y="18551"/>
                </a:cubicBezTo>
                <a:cubicBezTo>
                  <a:pt x="19519" y="18551"/>
                  <a:pt x="19519" y="18514"/>
                  <a:pt x="19519" y="18514"/>
                </a:cubicBezTo>
                <a:cubicBezTo>
                  <a:pt x="19501" y="18514"/>
                  <a:pt x="19501" y="18551"/>
                  <a:pt x="19482" y="18551"/>
                </a:cubicBezTo>
                <a:cubicBezTo>
                  <a:pt x="19501" y="18587"/>
                  <a:pt x="19482" y="18587"/>
                  <a:pt x="19482" y="18587"/>
                </a:cubicBezTo>
                <a:cubicBezTo>
                  <a:pt x="19463" y="18587"/>
                  <a:pt x="19463" y="18587"/>
                  <a:pt x="19463" y="18587"/>
                </a:cubicBezTo>
                <a:cubicBezTo>
                  <a:pt x="19463" y="18623"/>
                  <a:pt x="19444" y="18659"/>
                  <a:pt x="19444" y="18659"/>
                </a:cubicBezTo>
                <a:cubicBezTo>
                  <a:pt x="19425" y="18659"/>
                  <a:pt x="19425" y="18659"/>
                  <a:pt x="19425" y="18659"/>
                </a:cubicBezTo>
                <a:cubicBezTo>
                  <a:pt x="19406" y="18623"/>
                  <a:pt x="19387" y="18623"/>
                  <a:pt x="19368" y="18587"/>
                </a:cubicBezTo>
                <a:cubicBezTo>
                  <a:pt x="19368" y="18587"/>
                  <a:pt x="19349" y="18587"/>
                  <a:pt x="19349" y="18587"/>
                </a:cubicBezTo>
                <a:cubicBezTo>
                  <a:pt x="19349" y="18587"/>
                  <a:pt x="19349" y="18587"/>
                  <a:pt x="19349" y="18587"/>
                </a:cubicBezTo>
                <a:cubicBezTo>
                  <a:pt x="19330" y="18551"/>
                  <a:pt x="19311" y="18587"/>
                  <a:pt x="19311" y="18587"/>
                </a:cubicBezTo>
                <a:cubicBezTo>
                  <a:pt x="19292" y="18587"/>
                  <a:pt x="19292" y="18551"/>
                  <a:pt x="19292" y="18551"/>
                </a:cubicBezTo>
                <a:cubicBezTo>
                  <a:pt x="19292" y="18551"/>
                  <a:pt x="19292" y="18551"/>
                  <a:pt x="19292" y="18514"/>
                </a:cubicBezTo>
                <a:cubicBezTo>
                  <a:pt x="19274" y="18514"/>
                  <a:pt x="19274" y="18514"/>
                  <a:pt x="19274" y="18514"/>
                </a:cubicBezTo>
                <a:cubicBezTo>
                  <a:pt x="19274" y="18514"/>
                  <a:pt x="19255" y="18514"/>
                  <a:pt x="19255" y="18514"/>
                </a:cubicBezTo>
                <a:cubicBezTo>
                  <a:pt x="19236" y="18514"/>
                  <a:pt x="19236" y="18478"/>
                  <a:pt x="19236" y="18442"/>
                </a:cubicBezTo>
                <a:cubicBezTo>
                  <a:pt x="19217" y="18442"/>
                  <a:pt x="19198" y="18405"/>
                  <a:pt x="19198" y="18369"/>
                </a:cubicBezTo>
                <a:cubicBezTo>
                  <a:pt x="19217" y="18333"/>
                  <a:pt x="19217" y="18296"/>
                  <a:pt x="19198" y="18260"/>
                </a:cubicBezTo>
                <a:cubicBezTo>
                  <a:pt x="19198" y="18260"/>
                  <a:pt x="19198" y="18260"/>
                  <a:pt x="19198" y="18224"/>
                </a:cubicBezTo>
                <a:cubicBezTo>
                  <a:pt x="19198" y="18224"/>
                  <a:pt x="19198" y="18224"/>
                  <a:pt x="19179" y="18224"/>
                </a:cubicBezTo>
                <a:cubicBezTo>
                  <a:pt x="19179" y="18224"/>
                  <a:pt x="19179" y="18224"/>
                  <a:pt x="19179" y="18188"/>
                </a:cubicBezTo>
                <a:cubicBezTo>
                  <a:pt x="19160" y="18188"/>
                  <a:pt x="19160" y="18151"/>
                  <a:pt x="19160" y="18151"/>
                </a:cubicBezTo>
                <a:cubicBezTo>
                  <a:pt x="19141" y="18151"/>
                  <a:pt x="19141" y="18151"/>
                  <a:pt x="19141" y="18151"/>
                </a:cubicBezTo>
                <a:cubicBezTo>
                  <a:pt x="19122" y="18151"/>
                  <a:pt x="19122" y="18151"/>
                  <a:pt x="19122" y="18151"/>
                </a:cubicBezTo>
                <a:cubicBezTo>
                  <a:pt x="19122" y="18151"/>
                  <a:pt x="19122" y="18151"/>
                  <a:pt x="19122" y="18151"/>
                </a:cubicBezTo>
                <a:cubicBezTo>
                  <a:pt x="19103" y="18151"/>
                  <a:pt x="19122" y="18115"/>
                  <a:pt x="19122" y="18115"/>
                </a:cubicBezTo>
                <a:cubicBezTo>
                  <a:pt x="19122" y="18079"/>
                  <a:pt x="19122" y="18079"/>
                  <a:pt x="19141" y="18042"/>
                </a:cubicBezTo>
                <a:cubicBezTo>
                  <a:pt x="19122" y="18042"/>
                  <a:pt x="19122" y="18006"/>
                  <a:pt x="19122" y="18006"/>
                </a:cubicBezTo>
                <a:cubicBezTo>
                  <a:pt x="19103" y="18006"/>
                  <a:pt x="19103" y="17970"/>
                  <a:pt x="19103" y="17970"/>
                </a:cubicBezTo>
                <a:cubicBezTo>
                  <a:pt x="19103" y="18006"/>
                  <a:pt x="19084" y="18042"/>
                  <a:pt x="19084" y="18079"/>
                </a:cubicBezTo>
                <a:cubicBezTo>
                  <a:pt x="19084" y="18079"/>
                  <a:pt x="19084" y="18079"/>
                  <a:pt x="19084" y="18079"/>
                </a:cubicBezTo>
                <a:cubicBezTo>
                  <a:pt x="19065" y="18115"/>
                  <a:pt x="19065" y="18079"/>
                  <a:pt x="19065" y="18079"/>
                </a:cubicBezTo>
                <a:cubicBezTo>
                  <a:pt x="19047" y="18115"/>
                  <a:pt x="19047" y="18115"/>
                  <a:pt x="19028" y="18115"/>
                </a:cubicBezTo>
                <a:cubicBezTo>
                  <a:pt x="19028" y="18115"/>
                  <a:pt x="19028" y="18115"/>
                  <a:pt x="19028" y="18115"/>
                </a:cubicBezTo>
                <a:cubicBezTo>
                  <a:pt x="19028" y="18079"/>
                  <a:pt x="19028" y="18079"/>
                  <a:pt x="19028" y="18079"/>
                </a:cubicBezTo>
                <a:cubicBezTo>
                  <a:pt x="19047" y="18079"/>
                  <a:pt x="19047" y="18079"/>
                  <a:pt x="19047" y="18079"/>
                </a:cubicBezTo>
                <a:cubicBezTo>
                  <a:pt x="19065" y="18042"/>
                  <a:pt x="19065" y="18042"/>
                  <a:pt x="19065" y="18006"/>
                </a:cubicBezTo>
                <a:cubicBezTo>
                  <a:pt x="19065" y="17970"/>
                  <a:pt x="19065" y="17970"/>
                  <a:pt x="19065" y="17970"/>
                </a:cubicBezTo>
                <a:cubicBezTo>
                  <a:pt x="19065" y="17933"/>
                  <a:pt x="19065" y="17933"/>
                  <a:pt x="19065" y="17933"/>
                </a:cubicBezTo>
                <a:cubicBezTo>
                  <a:pt x="19065" y="17897"/>
                  <a:pt x="19084" y="17897"/>
                  <a:pt x="19103" y="17861"/>
                </a:cubicBezTo>
                <a:cubicBezTo>
                  <a:pt x="19103" y="17861"/>
                  <a:pt x="19084" y="17861"/>
                  <a:pt x="19084" y="17825"/>
                </a:cubicBezTo>
                <a:cubicBezTo>
                  <a:pt x="19084" y="17825"/>
                  <a:pt x="19103" y="17825"/>
                  <a:pt x="19103" y="17788"/>
                </a:cubicBezTo>
                <a:cubicBezTo>
                  <a:pt x="19103" y="17788"/>
                  <a:pt x="19103" y="17788"/>
                  <a:pt x="19103" y="17788"/>
                </a:cubicBezTo>
                <a:cubicBezTo>
                  <a:pt x="19103" y="17788"/>
                  <a:pt x="19084" y="17788"/>
                  <a:pt x="19084" y="17752"/>
                </a:cubicBezTo>
                <a:cubicBezTo>
                  <a:pt x="19084" y="17752"/>
                  <a:pt x="19084" y="17752"/>
                  <a:pt x="19084" y="17752"/>
                </a:cubicBezTo>
                <a:cubicBezTo>
                  <a:pt x="19084" y="17752"/>
                  <a:pt x="19084" y="17752"/>
                  <a:pt x="19084" y="17752"/>
                </a:cubicBezTo>
                <a:cubicBezTo>
                  <a:pt x="19084" y="17788"/>
                  <a:pt x="19065" y="17788"/>
                  <a:pt x="19065" y="17825"/>
                </a:cubicBezTo>
                <a:cubicBezTo>
                  <a:pt x="19065" y="17825"/>
                  <a:pt x="19065" y="17825"/>
                  <a:pt x="19047" y="17861"/>
                </a:cubicBezTo>
                <a:cubicBezTo>
                  <a:pt x="19047" y="17861"/>
                  <a:pt x="19047" y="17861"/>
                  <a:pt x="19047" y="17897"/>
                </a:cubicBezTo>
                <a:cubicBezTo>
                  <a:pt x="19047" y="17897"/>
                  <a:pt x="19028" y="17897"/>
                  <a:pt x="19028" y="17897"/>
                </a:cubicBezTo>
                <a:cubicBezTo>
                  <a:pt x="19009" y="17897"/>
                  <a:pt x="19009" y="17933"/>
                  <a:pt x="18990" y="17970"/>
                </a:cubicBezTo>
                <a:cubicBezTo>
                  <a:pt x="18990" y="17970"/>
                  <a:pt x="18990" y="18006"/>
                  <a:pt x="18971" y="18006"/>
                </a:cubicBezTo>
                <a:cubicBezTo>
                  <a:pt x="18971" y="18006"/>
                  <a:pt x="18971" y="18042"/>
                  <a:pt x="18971" y="18042"/>
                </a:cubicBezTo>
                <a:cubicBezTo>
                  <a:pt x="18971" y="18042"/>
                  <a:pt x="18971" y="18042"/>
                  <a:pt x="18971" y="18042"/>
                </a:cubicBezTo>
                <a:cubicBezTo>
                  <a:pt x="18971" y="18079"/>
                  <a:pt x="18971" y="18079"/>
                  <a:pt x="18952" y="18079"/>
                </a:cubicBezTo>
                <a:cubicBezTo>
                  <a:pt x="18952" y="18042"/>
                  <a:pt x="18933" y="18042"/>
                  <a:pt x="18933" y="18006"/>
                </a:cubicBezTo>
                <a:cubicBezTo>
                  <a:pt x="18933" y="18006"/>
                  <a:pt x="18933" y="18006"/>
                  <a:pt x="18933" y="18006"/>
                </a:cubicBezTo>
                <a:cubicBezTo>
                  <a:pt x="18933" y="18006"/>
                  <a:pt x="18933" y="18006"/>
                  <a:pt x="18933" y="18006"/>
                </a:cubicBezTo>
                <a:cubicBezTo>
                  <a:pt x="18933" y="18006"/>
                  <a:pt x="18933" y="18006"/>
                  <a:pt x="18933" y="17970"/>
                </a:cubicBezTo>
                <a:cubicBezTo>
                  <a:pt x="18933" y="17970"/>
                  <a:pt x="18933" y="17970"/>
                  <a:pt x="18933" y="17970"/>
                </a:cubicBezTo>
                <a:cubicBezTo>
                  <a:pt x="18933" y="17933"/>
                  <a:pt x="18933" y="17933"/>
                  <a:pt x="18914" y="17897"/>
                </a:cubicBezTo>
                <a:cubicBezTo>
                  <a:pt x="18914" y="17897"/>
                  <a:pt x="18914" y="17897"/>
                  <a:pt x="18914" y="17897"/>
                </a:cubicBezTo>
                <a:cubicBezTo>
                  <a:pt x="18914" y="17897"/>
                  <a:pt x="18914" y="17897"/>
                  <a:pt x="18895" y="17897"/>
                </a:cubicBezTo>
                <a:cubicBezTo>
                  <a:pt x="18895" y="17861"/>
                  <a:pt x="18895" y="17825"/>
                  <a:pt x="18895" y="17825"/>
                </a:cubicBezTo>
                <a:cubicBezTo>
                  <a:pt x="18876" y="17825"/>
                  <a:pt x="18857" y="17825"/>
                  <a:pt x="18857" y="17788"/>
                </a:cubicBezTo>
                <a:cubicBezTo>
                  <a:pt x="18857" y="17752"/>
                  <a:pt x="18876" y="17752"/>
                  <a:pt x="18857" y="17716"/>
                </a:cubicBezTo>
                <a:cubicBezTo>
                  <a:pt x="18857" y="17716"/>
                  <a:pt x="18839" y="17716"/>
                  <a:pt x="18839" y="17716"/>
                </a:cubicBezTo>
                <a:cubicBezTo>
                  <a:pt x="18839" y="17716"/>
                  <a:pt x="18839" y="17716"/>
                  <a:pt x="18839" y="17679"/>
                </a:cubicBezTo>
                <a:cubicBezTo>
                  <a:pt x="18839" y="17679"/>
                  <a:pt x="18820" y="17679"/>
                  <a:pt x="18820" y="17679"/>
                </a:cubicBezTo>
                <a:cubicBezTo>
                  <a:pt x="18820" y="17679"/>
                  <a:pt x="18801" y="17679"/>
                  <a:pt x="18801" y="17679"/>
                </a:cubicBezTo>
                <a:cubicBezTo>
                  <a:pt x="18782" y="17679"/>
                  <a:pt x="18782" y="17643"/>
                  <a:pt x="18763" y="17643"/>
                </a:cubicBezTo>
                <a:cubicBezTo>
                  <a:pt x="18744" y="17643"/>
                  <a:pt x="18744" y="17643"/>
                  <a:pt x="18744" y="17643"/>
                </a:cubicBezTo>
                <a:cubicBezTo>
                  <a:pt x="18725" y="17643"/>
                  <a:pt x="18706" y="17607"/>
                  <a:pt x="18706" y="17607"/>
                </a:cubicBezTo>
                <a:cubicBezTo>
                  <a:pt x="18687" y="17607"/>
                  <a:pt x="18668" y="17607"/>
                  <a:pt x="18649" y="17607"/>
                </a:cubicBezTo>
                <a:cubicBezTo>
                  <a:pt x="18630" y="17607"/>
                  <a:pt x="18630" y="17607"/>
                  <a:pt x="18630" y="17607"/>
                </a:cubicBezTo>
                <a:cubicBezTo>
                  <a:pt x="18612" y="17607"/>
                  <a:pt x="18593" y="17607"/>
                  <a:pt x="18574" y="17607"/>
                </a:cubicBezTo>
                <a:cubicBezTo>
                  <a:pt x="18555" y="17643"/>
                  <a:pt x="18536" y="17643"/>
                  <a:pt x="18536" y="17643"/>
                </a:cubicBezTo>
                <a:cubicBezTo>
                  <a:pt x="18517" y="17643"/>
                  <a:pt x="18517" y="17679"/>
                  <a:pt x="18517" y="17679"/>
                </a:cubicBezTo>
                <a:cubicBezTo>
                  <a:pt x="18517" y="17679"/>
                  <a:pt x="18517" y="17679"/>
                  <a:pt x="18498" y="17679"/>
                </a:cubicBezTo>
                <a:cubicBezTo>
                  <a:pt x="18479" y="17679"/>
                  <a:pt x="18441" y="17716"/>
                  <a:pt x="18422" y="17752"/>
                </a:cubicBezTo>
                <a:cubicBezTo>
                  <a:pt x="18403" y="17752"/>
                  <a:pt x="18385" y="17752"/>
                  <a:pt x="18366" y="17752"/>
                </a:cubicBezTo>
                <a:cubicBezTo>
                  <a:pt x="18328" y="17752"/>
                  <a:pt x="18309" y="17788"/>
                  <a:pt x="18271" y="17825"/>
                </a:cubicBezTo>
                <a:cubicBezTo>
                  <a:pt x="18271" y="17825"/>
                  <a:pt x="18271" y="17825"/>
                  <a:pt x="18252" y="17825"/>
                </a:cubicBezTo>
                <a:cubicBezTo>
                  <a:pt x="18233" y="17825"/>
                  <a:pt x="18252" y="17897"/>
                  <a:pt x="18233" y="17933"/>
                </a:cubicBezTo>
                <a:cubicBezTo>
                  <a:pt x="18233" y="17933"/>
                  <a:pt x="18233" y="17933"/>
                  <a:pt x="18233" y="17933"/>
                </a:cubicBezTo>
                <a:cubicBezTo>
                  <a:pt x="18233" y="17933"/>
                  <a:pt x="18233" y="17933"/>
                  <a:pt x="18233" y="17933"/>
                </a:cubicBezTo>
                <a:cubicBezTo>
                  <a:pt x="18214" y="17970"/>
                  <a:pt x="18214" y="17970"/>
                  <a:pt x="18214" y="17970"/>
                </a:cubicBezTo>
                <a:cubicBezTo>
                  <a:pt x="18214" y="17970"/>
                  <a:pt x="18195" y="18006"/>
                  <a:pt x="18195" y="18006"/>
                </a:cubicBezTo>
                <a:cubicBezTo>
                  <a:pt x="18195" y="17970"/>
                  <a:pt x="18177" y="17970"/>
                  <a:pt x="18177" y="17970"/>
                </a:cubicBezTo>
                <a:cubicBezTo>
                  <a:pt x="18177" y="17970"/>
                  <a:pt x="18158" y="17970"/>
                  <a:pt x="18158" y="18006"/>
                </a:cubicBezTo>
                <a:cubicBezTo>
                  <a:pt x="18158" y="18006"/>
                  <a:pt x="18139" y="18006"/>
                  <a:pt x="18139" y="18006"/>
                </a:cubicBezTo>
                <a:cubicBezTo>
                  <a:pt x="18139" y="18006"/>
                  <a:pt x="18120" y="17970"/>
                  <a:pt x="18120" y="17970"/>
                </a:cubicBezTo>
                <a:cubicBezTo>
                  <a:pt x="18101" y="17970"/>
                  <a:pt x="18082" y="17970"/>
                  <a:pt x="18063" y="18006"/>
                </a:cubicBezTo>
                <a:cubicBezTo>
                  <a:pt x="18063" y="18006"/>
                  <a:pt x="18063" y="18006"/>
                  <a:pt x="18044" y="18006"/>
                </a:cubicBezTo>
                <a:cubicBezTo>
                  <a:pt x="18044" y="18006"/>
                  <a:pt x="18044" y="18006"/>
                  <a:pt x="18044" y="18006"/>
                </a:cubicBezTo>
                <a:cubicBezTo>
                  <a:pt x="18025" y="18006"/>
                  <a:pt x="18025" y="18006"/>
                  <a:pt x="18025" y="18006"/>
                </a:cubicBezTo>
                <a:cubicBezTo>
                  <a:pt x="18006" y="18006"/>
                  <a:pt x="17987" y="18006"/>
                  <a:pt x="17987" y="18042"/>
                </a:cubicBezTo>
                <a:cubicBezTo>
                  <a:pt x="17968" y="18042"/>
                  <a:pt x="17968" y="18079"/>
                  <a:pt x="17968" y="18079"/>
                </a:cubicBezTo>
                <a:cubicBezTo>
                  <a:pt x="17968" y="18079"/>
                  <a:pt x="17968" y="18079"/>
                  <a:pt x="17950" y="18115"/>
                </a:cubicBezTo>
                <a:cubicBezTo>
                  <a:pt x="17950" y="18115"/>
                  <a:pt x="17931" y="18115"/>
                  <a:pt x="17912" y="18115"/>
                </a:cubicBezTo>
                <a:cubicBezTo>
                  <a:pt x="17912" y="18115"/>
                  <a:pt x="17912" y="18151"/>
                  <a:pt x="17912" y="18151"/>
                </a:cubicBezTo>
                <a:cubicBezTo>
                  <a:pt x="17912" y="18151"/>
                  <a:pt x="17912" y="18151"/>
                  <a:pt x="17912" y="18151"/>
                </a:cubicBezTo>
                <a:cubicBezTo>
                  <a:pt x="17912" y="18151"/>
                  <a:pt x="17912" y="18188"/>
                  <a:pt x="17893" y="18188"/>
                </a:cubicBezTo>
                <a:cubicBezTo>
                  <a:pt x="17893" y="18188"/>
                  <a:pt x="17893" y="18188"/>
                  <a:pt x="17893" y="18188"/>
                </a:cubicBezTo>
                <a:cubicBezTo>
                  <a:pt x="17874" y="18188"/>
                  <a:pt x="17874" y="18224"/>
                  <a:pt x="17855" y="18188"/>
                </a:cubicBezTo>
                <a:cubicBezTo>
                  <a:pt x="17855" y="18188"/>
                  <a:pt x="17855" y="18188"/>
                  <a:pt x="17855" y="18188"/>
                </a:cubicBezTo>
                <a:cubicBezTo>
                  <a:pt x="17855" y="18224"/>
                  <a:pt x="17855" y="18188"/>
                  <a:pt x="17836" y="18188"/>
                </a:cubicBezTo>
                <a:cubicBezTo>
                  <a:pt x="17836" y="18188"/>
                  <a:pt x="17836" y="18224"/>
                  <a:pt x="17836" y="18224"/>
                </a:cubicBezTo>
                <a:cubicBezTo>
                  <a:pt x="17798" y="18188"/>
                  <a:pt x="17779" y="18188"/>
                  <a:pt x="17760" y="18188"/>
                </a:cubicBezTo>
                <a:cubicBezTo>
                  <a:pt x="17760" y="18188"/>
                  <a:pt x="17760" y="18188"/>
                  <a:pt x="17741" y="18151"/>
                </a:cubicBezTo>
                <a:cubicBezTo>
                  <a:pt x="17741" y="18151"/>
                  <a:pt x="17741" y="18151"/>
                  <a:pt x="17723" y="18151"/>
                </a:cubicBezTo>
                <a:cubicBezTo>
                  <a:pt x="17723" y="18115"/>
                  <a:pt x="17723" y="18115"/>
                  <a:pt x="17704" y="18115"/>
                </a:cubicBezTo>
                <a:cubicBezTo>
                  <a:pt x="17704" y="18115"/>
                  <a:pt x="17704" y="18115"/>
                  <a:pt x="17704" y="18115"/>
                </a:cubicBezTo>
                <a:cubicBezTo>
                  <a:pt x="17704" y="18115"/>
                  <a:pt x="17704" y="18115"/>
                  <a:pt x="17704" y="18115"/>
                </a:cubicBezTo>
                <a:cubicBezTo>
                  <a:pt x="17685" y="18079"/>
                  <a:pt x="17685" y="18079"/>
                  <a:pt x="17685" y="18079"/>
                </a:cubicBezTo>
                <a:cubicBezTo>
                  <a:pt x="17685" y="18042"/>
                  <a:pt x="17685" y="18042"/>
                  <a:pt x="17685" y="18042"/>
                </a:cubicBezTo>
                <a:cubicBezTo>
                  <a:pt x="17704" y="18042"/>
                  <a:pt x="17704" y="18042"/>
                  <a:pt x="17723" y="18042"/>
                </a:cubicBezTo>
                <a:cubicBezTo>
                  <a:pt x="17723" y="18006"/>
                  <a:pt x="17723" y="18006"/>
                  <a:pt x="17741" y="17970"/>
                </a:cubicBezTo>
                <a:cubicBezTo>
                  <a:pt x="17741" y="17970"/>
                  <a:pt x="17723" y="17933"/>
                  <a:pt x="17723" y="17933"/>
                </a:cubicBezTo>
                <a:cubicBezTo>
                  <a:pt x="17723" y="17897"/>
                  <a:pt x="17723" y="17897"/>
                  <a:pt x="17723" y="17897"/>
                </a:cubicBezTo>
                <a:cubicBezTo>
                  <a:pt x="17723" y="17861"/>
                  <a:pt x="17723" y="17788"/>
                  <a:pt x="17723" y="17752"/>
                </a:cubicBezTo>
                <a:cubicBezTo>
                  <a:pt x="17704" y="17716"/>
                  <a:pt x="17685" y="17643"/>
                  <a:pt x="17666" y="17570"/>
                </a:cubicBezTo>
                <a:cubicBezTo>
                  <a:pt x="17666" y="17534"/>
                  <a:pt x="17666" y="17498"/>
                  <a:pt x="17666" y="17425"/>
                </a:cubicBezTo>
                <a:cubicBezTo>
                  <a:pt x="17647" y="17425"/>
                  <a:pt x="17647" y="17389"/>
                  <a:pt x="17628" y="17353"/>
                </a:cubicBezTo>
                <a:cubicBezTo>
                  <a:pt x="17628" y="17353"/>
                  <a:pt x="17628" y="17353"/>
                  <a:pt x="17628" y="17353"/>
                </a:cubicBezTo>
                <a:cubicBezTo>
                  <a:pt x="17609" y="17353"/>
                  <a:pt x="17609" y="17316"/>
                  <a:pt x="17609" y="17316"/>
                </a:cubicBezTo>
                <a:cubicBezTo>
                  <a:pt x="17609" y="17280"/>
                  <a:pt x="17609" y="17207"/>
                  <a:pt x="17590" y="17171"/>
                </a:cubicBezTo>
                <a:cubicBezTo>
                  <a:pt x="17590" y="17171"/>
                  <a:pt x="17590" y="17171"/>
                  <a:pt x="17571" y="17171"/>
                </a:cubicBezTo>
                <a:cubicBezTo>
                  <a:pt x="17571" y="17135"/>
                  <a:pt x="17533" y="17098"/>
                  <a:pt x="17533" y="17062"/>
                </a:cubicBezTo>
                <a:cubicBezTo>
                  <a:pt x="17515" y="17062"/>
                  <a:pt x="17515" y="17026"/>
                  <a:pt x="17515" y="17026"/>
                </a:cubicBezTo>
                <a:cubicBezTo>
                  <a:pt x="17515" y="17026"/>
                  <a:pt x="17515" y="17026"/>
                  <a:pt x="17533" y="17026"/>
                </a:cubicBezTo>
                <a:close/>
                <a:moveTo>
                  <a:pt x="19065" y="18151"/>
                </a:moveTo>
                <a:cubicBezTo>
                  <a:pt x="19065" y="18151"/>
                  <a:pt x="19065" y="18151"/>
                  <a:pt x="19065" y="18151"/>
                </a:cubicBezTo>
                <a:cubicBezTo>
                  <a:pt x="19065" y="18188"/>
                  <a:pt x="19084" y="18151"/>
                  <a:pt x="19103" y="18188"/>
                </a:cubicBezTo>
                <a:cubicBezTo>
                  <a:pt x="19103" y="18188"/>
                  <a:pt x="19084" y="18224"/>
                  <a:pt x="19084" y="18224"/>
                </a:cubicBezTo>
                <a:cubicBezTo>
                  <a:pt x="19065" y="18224"/>
                  <a:pt x="19065" y="18224"/>
                  <a:pt x="19065" y="18224"/>
                </a:cubicBezTo>
                <a:cubicBezTo>
                  <a:pt x="19065" y="18224"/>
                  <a:pt x="19047" y="18224"/>
                  <a:pt x="19047" y="18224"/>
                </a:cubicBezTo>
                <a:cubicBezTo>
                  <a:pt x="19047" y="18224"/>
                  <a:pt x="19047" y="18224"/>
                  <a:pt x="19047" y="18224"/>
                </a:cubicBezTo>
                <a:cubicBezTo>
                  <a:pt x="19028" y="18224"/>
                  <a:pt x="19028" y="18224"/>
                  <a:pt x="19028" y="18224"/>
                </a:cubicBezTo>
                <a:cubicBezTo>
                  <a:pt x="19009" y="18224"/>
                  <a:pt x="19009" y="18224"/>
                  <a:pt x="19009" y="18224"/>
                </a:cubicBezTo>
                <a:cubicBezTo>
                  <a:pt x="19009" y="18188"/>
                  <a:pt x="19009" y="18188"/>
                  <a:pt x="19009" y="18188"/>
                </a:cubicBezTo>
                <a:cubicBezTo>
                  <a:pt x="19028" y="18188"/>
                  <a:pt x="19047" y="18151"/>
                  <a:pt x="19065" y="18151"/>
                </a:cubicBezTo>
                <a:close/>
                <a:moveTo>
                  <a:pt x="19482" y="18732"/>
                </a:moveTo>
                <a:cubicBezTo>
                  <a:pt x="19482" y="18768"/>
                  <a:pt x="19482" y="18805"/>
                  <a:pt x="19482" y="18805"/>
                </a:cubicBezTo>
                <a:cubicBezTo>
                  <a:pt x="19463" y="18768"/>
                  <a:pt x="19463" y="18768"/>
                  <a:pt x="19482" y="18732"/>
                </a:cubicBezTo>
                <a:cubicBezTo>
                  <a:pt x="19482" y="18732"/>
                  <a:pt x="19482" y="18732"/>
                  <a:pt x="19482" y="18732"/>
                </a:cubicBezTo>
                <a:close/>
                <a:moveTo>
                  <a:pt x="19727" y="18841"/>
                </a:moveTo>
                <a:cubicBezTo>
                  <a:pt x="19727" y="18841"/>
                  <a:pt x="19727" y="18841"/>
                  <a:pt x="19709" y="18841"/>
                </a:cubicBezTo>
                <a:cubicBezTo>
                  <a:pt x="19709" y="18805"/>
                  <a:pt x="19709" y="18805"/>
                  <a:pt x="19709" y="18768"/>
                </a:cubicBezTo>
                <a:cubicBezTo>
                  <a:pt x="19709" y="18768"/>
                  <a:pt x="19727" y="18805"/>
                  <a:pt x="19727" y="18805"/>
                </a:cubicBezTo>
                <a:cubicBezTo>
                  <a:pt x="19727" y="18841"/>
                  <a:pt x="19727" y="18841"/>
                  <a:pt x="19727" y="18841"/>
                </a:cubicBezTo>
                <a:close/>
                <a:moveTo>
                  <a:pt x="19519" y="18986"/>
                </a:moveTo>
                <a:cubicBezTo>
                  <a:pt x="19519" y="18986"/>
                  <a:pt x="19519" y="18950"/>
                  <a:pt x="19519" y="18914"/>
                </a:cubicBezTo>
                <a:cubicBezTo>
                  <a:pt x="19519" y="18914"/>
                  <a:pt x="19519" y="18914"/>
                  <a:pt x="19519" y="18877"/>
                </a:cubicBezTo>
                <a:cubicBezTo>
                  <a:pt x="19538" y="18877"/>
                  <a:pt x="19538" y="18914"/>
                  <a:pt x="19538" y="18877"/>
                </a:cubicBezTo>
                <a:cubicBezTo>
                  <a:pt x="19557" y="18914"/>
                  <a:pt x="19557" y="18914"/>
                  <a:pt x="19576" y="18914"/>
                </a:cubicBezTo>
                <a:cubicBezTo>
                  <a:pt x="19595" y="18950"/>
                  <a:pt x="19614" y="18950"/>
                  <a:pt x="19633" y="18986"/>
                </a:cubicBezTo>
                <a:cubicBezTo>
                  <a:pt x="19633" y="18950"/>
                  <a:pt x="19652" y="18950"/>
                  <a:pt x="19652" y="18950"/>
                </a:cubicBezTo>
                <a:cubicBezTo>
                  <a:pt x="19671" y="18950"/>
                  <a:pt x="19671" y="18950"/>
                  <a:pt x="19671" y="18950"/>
                </a:cubicBezTo>
                <a:cubicBezTo>
                  <a:pt x="19671" y="18950"/>
                  <a:pt x="19690" y="18950"/>
                  <a:pt x="19690" y="18950"/>
                </a:cubicBezTo>
                <a:cubicBezTo>
                  <a:pt x="19690" y="18950"/>
                  <a:pt x="19690" y="18950"/>
                  <a:pt x="19690" y="18950"/>
                </a:cubicBezTo>
                <a:cubicBezTo>
                  <a:pt x="19690" y="18950"/>
                  <a:pt x="19709" y="18950"/>
                  <a:pt x="19709" y="18950"/>
                </a:cubicBezTo>
                <a:cubicBezTo>
                  <a:pt x="19709" y="18950"/>
                  <a:pt x="19709" y="18914"/>
                  <a:pt x="19709" y="18914"/>
                </a:cubicBezTo>
                <a:cubicBezTo>
                  <a:pt x="19727" y="18950"/>
                  <a:pt x="19727" y="18950"/>
                  <a:pt x="19727" y="18986"/>
                </a:cubicBezTo>
                <a:cubicBezTo>
                  <a:pt x="19727" y="18986"/>
                  <a:pt x="19727" y="18986"/>
                  <a:pt x="19727" y="19023"/>
                </a:cubicBezTo>
                <a:cubicBezTo>
                  <a:pt x="19727" y="19023"/>
                  <a:pt x="19727" y="19023"/>
                  <a:pt x="19727" y="19023"/>
                </a:cubicBezTo>
                <a:cubicBezTo>
                  <a:pt x="19727" y="19059"/>
                  <a:pt x="19727" y="19059"/>
                  <a:pt x="19727" y="19059"/>
                </a:cubicBezTo>
                <a:cubicBezTo>
                  <a:pt x="19727" y="19095"/>
                  <a:pt x="19727" y="19131"/>
                  <a:pt x="19709" y="19131"/>
                </a:cubicBezTo>
                <a:cubicBezTo>
                  <a:pt x="19709" y="19168"/>
                  <a:pt x="19709" y="19168"/>
                  <a:pt x="19690" y="19204"/>
                </a:cubicBezTo>
                <a:cubicBezTo>
                  <a:pt x="19690" y="19240"/>
                  <a:pt x="19690" y="19240"/>
                  <a:pt x="19690" y="19277"/>
                </a:cubicBezTo>
                <a:cubicBezTo>
                  <a:pt x="19690" y="19277"/>
                  <a:pt x="19690" y="19277"/>
                  <a:pt x="19690" y="19277"/>
                </a:cubicBezTo>
                <a:cubicBezTo>
                  <a:pt x="19690" y="19277"/>
                  <a:pt x="19690" y="19277"/>
                  <a:pt x="19690" y="19240"/>
                </a:cubicBezTo>
                <a:cubicBezTo>
                  <a:pt x="19652" y="19240"/>
                  <a:pt x="19652" y="19313"/>
                  <a:pt x="19633" y="19349"/>
                </a:cubicBezTo>
                <a:cubicBezTo>
                  <a:pt x="19614" y="19313"/>
                  <a:pt x="19595" y="19349"/>
                  <a:pt x="19576" y="19313"/>
                </a:cubicBezTo>
                <a:cubicBezTo>
                  <a:pt x="19576" y="19313"/>
                  <a:pt x="19576" y="19313"/>
                  <a:pt x="19576" y="19313"/>
                </a:cubicBezTo>
                <a:cubicBezTo>
                  <a:pt x="19595" y="19313"/>
                  <a:pt x="19595" y="19313"/>
                  <a:pt x="19595" y="19277"/>
                </a:cubicBezTo>
                <a:cubicBezTo>
                  <a:pt x="19595" y="19240"/>
                  <a:pt x="19557" y="19277"/>
                  <a:pt x="19557" y="19240"/>
                </a:cubicBezTo>
                <a:cubicBezTo>
                  <a:pt x="19557" y="19240"/>
                  <a:pt x="19557" y="19204"/>
                  <a:pt x="19538" y="19168"/>
                </a:cubicBezTo>
                <a:cubicBezTo>
                  <a:pt x="19538" y="19168"/>
                  <a:pt x="19538" y="19168"/>
                  <a:pt x="19538" y="19131"/>
                </a:cubicBezTo>
                <a:cubicBezTo>
                  <a:pt x="19538" y="19131"/>
                  <a:pt x="19538" y="19131"/>
                  <a:pt x="19538" y="19095"/>
                </a:cubicBezTo>
                <a:cubicBezTo>
                  <a:pt x="19538" y="19059"/>
                  <a:pt x="19519" y="19023"/>
                  <a:pt x="19519" y="18986"/>
                </a:cubicBezTo>
                <a:close/>
              </a:path>
            </a:pathLst>
          </a:custGeom>
          <a:solidFill>
            <a:srgbClr val="494949">
              <a:alpha val="49000"/>
            </a:srgbClr>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1605" name="Rectangular Callout 44"/>
          <p:cNvSpPr/>
          <p:nvPr/>
        </p:nvSpPr>
        <p:spPr>
          <a:xfrm>
            <a:off x="4519440" y="4219560"/>
            <a:ext cx="509760" cy="279360"/>
          </a:xfrm>
          <a:prstGeom prst="wedgeRectCallout">
            <a:avLst>
              <a:gd name="adj1" fmla="val -8750"/>
              <a:gd name="adj2" fmla="val 82032"/>
            </a:avLst>
          </a:prstGeom>
          <a:solidFill>
            <a:srgbClr val="00a0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06" name="Rectangular Callout 45"/>
          <p:cNvSpPr/>
          <p:nvPr/>
        </p:nvSpPr>
        <p:spPr>
          <a:xfrm>
            <a:off x="5254560" y="2365200"/>
            <a:ext cx="509760" cy="279720"/>
          </a:xfrm>
          <a:prstGeom prst="wedgeRectCallout">
            <a:avLst>
              <a:gd name="adj1" fmla="val -8750"/>
              <a:gd name="adj2" fmla="val 82032"/>
            </a:avLst>
          </a:prstGeom>
          <a:solidFill>
            <a:srgbClr val="00a0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07" name="Rectangular Callout 46"/>
          <p:cNvSpPr/>
          <p:nvPr/>
        </p:nvSpPr>
        <p:spPr>
          <a:xfrm>
            <a:off x="5778360" y="3941640"/>
            <a:ext cx="511200" cy="277920"/>
          </a:xfrm>
          <a:prstGeom prst="wedgeRectCallout">
            <a:avLst>
              <a:gd name="adj1" fmla="val -8750"/>
              <a:gd name="adj2" fmla="val 82032"/>
            </a:avLst>
          </a:prstGeom>
          <a:solidFill>
            <a:srgbClr val="00a0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08" name="Rectangular Callout 47"/>
          <p:cNvSpPr/>
          <p:nvPr/>
        </p:nvSpPr>
        <p:spPr>
          <a:xfrm>
            <a:off x="7858080" y="4219560"/>
            <a:ext cx="509760" cy="279360"/>
          </a:xfrm>
          <a:prstGeom prst="wedgeRectCallout">
            <a:avLst>
              <a:gd name="adj1" fmla="val -8750"/>
              <a:gd name="adj2" fmla="val 82032"/>
            </a:avLst>
          </a:prstGeom>
          <a:solidFill>
            <a:srgbClr val="00a0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09" name="Rectangular Callout 48"/>
          <p:cNvSpPr/>
          <p:nvPr/>
        </p:nvSpPr>
        <p:spPr>
          <a:xfrm>
            <a:off x="6745320" y="2922480"/>
            <a:ext cx="509400" cy="277920"/>
          </a:xfrm>
          <a:prstGeom prst="wedgeRectCallout">
            <a:avLst>
              <a:gd name="adj1" fmla="val -8750"/>
              <a:gd name="adj2" fmla="val 82032"/>
            </a:avLst>
          </a:prstGeom>
          <a:solidFill>
            <a:srgbClr val="00a0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10" name="Oval 50"/>
          <p:cNvSpPr/>
          <p:nvPr/>
        </p:nvSpPr>
        <p:spPr>
          <a:xfrm>
            <a:off x="1066680" y="2505240"/>
            <a:ext cx="1808280" cy="180792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611" name="Picture 57" descr=""/>
          <p:cNvPicPr/>
          <p:nvPr/>
        </p:nvPicPr>
        <p:blipFill>
          <a:blip r:embed="rId1"/>
          <a:stretch/>
        </p:blipFill>
        <p:spPr>
          <a:xfrm>
            <a:off x="1828800" y="2751120"/>
            <a:ext cx="284040" cy="555480"/>
          </a:xfrm>
          <a:prstGeom prst="rect">
            <a:avLst/>
          </a:prstGeom>
          <a:ln w="0">
            <a:noFill/>
          </a:ln>
        </p:spPr>
      </p:pic>
      <p:sp>
        <p:nvSpPr>
          <p:cNvPr id="1612" name="Oval 59"/>
          <p:cNvSpPr/>
          <p:nvPr/>
        </p:nvSpPr>
        <p:spPr>
          <a:xfrm>
            <a:off x="9317160" y="2505240"/>
            <a:ext cx="1807920" cy="180792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pic>
        <p:nvPicPr>
          <p:cNvPr id="1613" name="Picture 60" descr=""/>
          <p:cNvPicPr/>
          <p:nvPr/>
        </p:nvPicPr>
        <p:blipFill>
          <a:blip r:embed="rId2"/>
          <a:stretch/>
        </p:blipFill>
        <p:spPr>
          <a:xfrm>
            <a:off x="10078920" y="2751120"/>
            <a:ext cx="284400" cy="555480"/>
          </a:xfrm>
          <a:prstGeom prst="rect">
            <a:avLst/>
          </a:prstGeom>
          <a:ln w="0">
            <a:noFill/>
          </a:ln>
        </p:spPr>
      </p:pic>
      <p:sp>
        <p:nvSpPr>
          <p:cNvPr id="1614" name="PlaceHolder 1"/>
          <p:cNvSpPr>
            <a:spLocks noGrp="1"/>
          </p:cNvSpPr>
          <p:nvPr>
            <p:ph/>
          </p:nvPr>
        </p:nvSpPr>
        <p:spPr>
          <a:xfrm>
            <a:off x="5254560" y="2364840"/>
            <a:ext cx="509760" cy="27972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Source Sans Pro Light"/>
              </a:rPr>
              <a:t>12C</a:t>
            </a:r>
            <a:endParaRPr b="0" lang="en-US" sz="1200" spc="-1" strike="noStrike">
              <a:solidFill>
                <a:srgbClr val="494949"/>
              </a:solidFill>
              <a:latin typeface="Open Sans Light"/>
            </a:endParaRPr>
          </a:p>
        </p:txBody>
      </p:sp>
      <p:sp>
        <p:nvSpPr>
          <p:cNvPr id="1615" name="PlaceHolder 2"/>
          <p:cNvSpPr>
            <a:spLocks noGrp="1"/>
          </p:cNvSpPr>
          <p:nvPr>
            <p:ph/>
          </p:nvPr>
        </p:nvSpPr>
        <p:spPr>
          <a:xfrm>
            <a:off x="6744960" y="2922480"/>
            <a:ext cx="509400" cy="27792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Source Sans Pro Light"/>
              </a:rPr>
              <a:t>24C</a:t>
            </a:r>
            <a:endParaRPr b="0" lang="en-US" sz="1200" spc="-1" strike="noStrike">
              <a:solidFill>
                <a:srgbClr val="494949"/>
              </a:solidFill>
              <a:latin typeface="Open Sans Light"/>
            </a:endParaRPr>
          </a:p>
        </p:txBody>
      </p:sp>
      <p:sp>
        <p:nvSpPr>
          <p:cNvPr id="1616" name="PlaceHolder 3"/>
          <p:cNvSpPr>
            <a:spLocks noGrp="1"/>
          </p:cNvSpPr>
          <p:nvPr>
            <p:ph/>
          </p:nvPr>
        </p:nvSpPr>
        <p:spPr>
          <a:xfrm>
            <a:off x="7853400" y="4219560"/>
            <a:ext cx="511200" cy="27936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Source Sans Pro Light"/>
              </a:rPr>
              <a:t>25C</a:t>
            </a:r>
            <a:endParaRPr b="0" lang="en-US" sz="1200" spc="-1" strike="noStrike">
              <a:solidFill>
                <a:srgbClr val="494949"/>
              </a:solidFill>
              <a:latin typeface="Open Sans Light"/>
            </a:endParaRPr>
          </a:p>
        </p:txBody>
      </p:sp>
      <p:sp>
        <p:nvSpPr>
          <p:cNvPr id="1617" name="PlaceHolder 4"/>
          <p:cNvSpPr>
            <a:spLocks noGrp="1"/>
          </p:cNvSpPr>
          <p:nvPr>
            <p:ph/>
          </p:nvPr>
        </p:nvSpPr>
        <p:spPr>
          <a:xfrm>
            <a:off x="5775480" y="3941640"/>
            <a:ext cx="511200" cy="27792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Source Sans Pro Light"/>
              </a:rPr>
              <a:t>19C</a:t>
            </a:r>
            <a:endParaRPr b="0" lang="en-US" sz="1200" spc="-1" strike="noStrike">
              <a:solidFill>
                <a:srgbClr val="494949"/>
              </a:solidFill>
              <a:latin typeface="Open Sans Light"/>
            </a:endParaRPr>
          </a:p>
        </p:txBody>
      </p:sp>
      <p:sp>
        <p:nvSpPr>
          <p:cNvPr id="1618" name="PlaceHolder 5"/>
          <p:cNvSpPr>
            <a:spLocks noGrp="1"/>
          </p:cNvSpPr>
          <p:nvPr>
            <p:ph/>
          </p:nvPr>
        </p:nvSpPr>
        <p:spPr>
          <a:xfrm>
            <a:off x="4519440" y="4219560"/>
            <a:ext cx="509760" cy="27936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Source Sans Pro Light"/>
              </a:rPr>
              <a:t>20C</a:t>
            </a:r>
            <a:endParaRPr b="0" lang="en-US" sz="1200" spc="-1" strike="noStrike">
              <a:solidFill>
                <a:srgbClr val="494949"/>
              </a:solidFill>
              <a:latin typeface="Open Sans Light"/>
            </a:endParaRPr>
          </a:p>
        </p:txBody>
      </p:sp>
      <p:sp>
        <p:nvSpPr>
          <p:cNvPr id="1619" name="PlaceHolder 6"/>
          <p:cNvSpPr>
            <a:spLocks noGrp="1"/>
          </p:cNvSpPr>
          <p:nvPr>
            <p:ph/>
          </p:nvPr>
        </p:nvSpPr>
        <p:spPr>
          <a:xfrm>
            <a:off x="1066320" y="3400560"/>
            <a:ext cx="1808280" cy="434880"/>
          </a:xfrm>
          <a:prstGeom prst="rect">
            <a:avLst/>
          </a:prstGeom>
          <a:noFill/>
          <a:ln w="0">
            <a:noFill/>
          </a:ln>
        </p:spPr>
        <p:txBody>
          <a:bodyPr lIns="0" rIns="0" tIns="0" b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ffffff"/>
                </a:solidFill>
                <a:latin typeface="Lato Heavy"/>
              </a:rPr>
              <a:t>70%</a:t>
            </a:r>
            <a:endParaRPr b="0" lang="en-US" sz="2800" spc="-1" strike="noStrike">
              <a:solidFill>
                <a:srgbClr val="494949"/>
              </a:solidFill>
              <a:latin typeface="Open Sans Light"/>
            </a:endParaRPr>
          </a:p>
        </p:txBody>
      </p:sp>
      <p:sp>
        <p:nvSpPr>
          <p:cNvPr id="1620" name="PlaceHolder 7"/>
          <p:cNvSpPr>
            <a:spLocks noGrp="1"/>
          </p:cNvSpPr>
          <p:nvPr>
            <p:ph/>
          </p:nvPr>
        </p:nvSpPr>
        <p:spPr>
          <a:xfrm>
            <a:off x="1066320" y="3755880"/>
            <a:ext cx="1808280" cy="27792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Male Users</a:t>
            </a:r>
            <a:endParaRPr b="0" lang="en-US" sz="1200" spc="-1" strike="noStrike">
              <a:solidFill>
                <a:srgbClr val="494949"/>
              </a:solidFill>
              <a:latin typeface="Open Sans Light"/>
            </a:endParaRPr>
          </a:p>
        </p:txBody>
      </p:sp>
      <p:sp>
        <p:nvSpPr>
          <p:cNvPr id="1621" name="PlaceHolder 8"/>
          <p:cNvSpPr>
            <a:spLocks noGrp="1"/>
          </p:cNvSpPr>
          <p:nvPr>
            <p:ph/>
          </p:nvPr>
        </p:nvSpPr>
        <p:spPr>
          <a:xfrm>
            <a:off x="9313560" y="3400560"/>
            <a:ext cx="1808280" cy="434880"/>
          </a:xfrm>
          <a:prstGeom prst="rect">
            <a:avLst/>
          </a:prstGeom>
          <a:noFill/>
          <a:ln w="0">
            <a:noFill/>
          </a:ln>
        </p:spPr>
        <p:txBody>
          <a:bodyPr lIns="0" rIns="0" tIns="0" bIns="0" anchor="ctr">
            <a:norm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ffffff"/>
                </a:solidFill>
                <a:latin typeface="Lato Heavy"/>
              </a:rPr>
              <a:t>30%</a:t>
            </a:r>
            <a:endParaRPr b="0" lang="en-US" sz="2800" spc="-1" strike="noStrike">
              <a:solidFill>
                <a:srgbClr val="494949"/>
              </a:solidFill>
              <a:latin typeface="Open Sans Light"/>
            </a:endParaRPr>
          </a:p>
        </p:txBody>
      </p:sp>
      <p:sp>
        <p:nvSpPr>
          <p:cNvPr id="1622" name="PlaceHolder 9"/>
          <p:cNvSpPr>
            <a:spLocks noGrp="1"/>
          </p:cNvSpPr>
          <p:nvPr>
            <p:ph/>
          </p:nvPr>
        </p:nvSpPr>
        <p:spPr>
          <a:xfrm>
            <a:off x="9313560" y="3755880"/>
            <a:ext cx="1808280" cy="277920"/>
          </a:xfrm>
          <a:prstGeom prst="rect">
            <a:avLst/>
          </a:prstGeom>
          <a:noFill/>
          <a:ln w="0">
            <a:noFill/>
          </a:ln>
        </p:spPr>
        <p:txBody>
          <a:bodyPr lIns="0" rIns="0" tIns="0" bIns="0" anchor="ctr">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Lato Heavy"/>
              </a:rPr>
              <a:t>Female Users</a:t>
            </a:r>
            <a:endParaRPr b="0" lang="en-US" sz="1200" spc="-1" strike="noStrike">
              <a:solidFill>
                <a:srgbClr val="494949"/>
              </a:solidFill>
              <a:latin typeface="Open Sans Light"/>
            </a:endParaRPr>
          </a:p>
        </p:txBody>
      </p:sp>
      <p:sp>
        <p:nvSpPr>
          <p:cNvPr id="1623" name="PlaceHolder 10"/>
          <p:cNvSpPr>
            <a:spLocks noGrp="1"/>
          </p:cNvSpPr>
          <p:nvPr>
            <p:ph/>
          </p:nvPr>
        </p:nvSpPr>
        <p:spPr>
          <a:xfrm>
            <a:off x="9313920" y="4547880"/>
            <a:ext cx="1768320" cy="942840"/>
          </a:xfrm>
          <a:prstGeom prst="rect">
            <a:avLst/>
          </a:prstGeom>
          <a:noFill/>
          <a:ln w="0">
            <a:noFill/>
          </a:ln>
        </p:spPr>
        <p:txBody>
          <a:bodyPr lIns="0" rIns="0" anchor="t">
            <a:normAutofit fontScale="9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hana nunok doloramet,lorem consectetur lon tes cara peget meno iles sige menye Body text here or lorem ipsum</a:t>
            </a:r>
            <a:endParaRPr b="0" lang="en-US" sz="1000" spc="-1" strike="noStrike">
              <a:solidFill>
                <a:srgbClr val="494949"/>
              </a:solidFill>
              <a:latin typeface="Open Sans Light"/>
            </a:endParaRPr>
          </a:p>
        </p:txBody>
      </p:sp>
      <p:sp>
        <p:nvSpPr>
          <p:cNvPr id="1624" name="PlaceHolder 11"/>
          <p:cNvSpPr>
            <a:spLocks noGrp="1"/>
          </p:cNvSpPr>
          <p:nvPr>
            <p:ph/>
          </p:nvPr>
        </p:nvSpPr>
        <p:spPr>
          <a:xfrm>
            <a:off x="1087560" y="4547880"/>
            <a:ext cx="1766880" cy="942840"/>
          </a:xfrm>
          <a:prstGeom prst="rect">
            <a:avLst/>
          </a:prstGeom>
          <a:noFill/>
          <a:ln w="0">
            <a:noFill/>
          </a:ln>
        </p:spPr>
        <p:txBody>
          <a:bodyPr lIns="0" rIns="0" anchor="t">
            <a:normAutofit fontScale="96000"/>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a6a6a6"/>
                </a:solidFill>
                <a:latin typeface="Open Sans Light"/>
              </a:rPr>
              <a:t>Body text here or lorem ipsum hana nunok doloramet,lorem consectetur lon tes cara peget meno iles sige menye Body text here or lorem ipsum</a:t>
            </a:r>
            <a:endParaRPr b="0" lang="en-US" sz="1000" spc="-1" strike="noStrike">
              <a:solidFill>
                <a:srgbClr val="494949"/>
              </a:solidFill>
              <a:latin typeface="Open Sans Light"/>
            </a:endParaRPr>
          </a:p>
        </p:txBody>
      </p:sp>
      <p:sp>
        <p:nvSpPr>
          <p:cNvPr id="1625" name="PlaceHolder 12"/>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OUR GLOBAL MARKET</a:t>
            </a:r>
            <a:endParaRPr b="0" lang="en-US" sz="3600" spc="-1" strike="noStrike">
              <a:solidFill>
                <a:srgbClr val="494949"/>
              </a:solidFill>
              <a:latin typeface="Lato Heavy"/>
            </a:endParaRPr>
          </a:p>
        </p:txBody>
      </p:sp>
      <p:sp>
        <p:nvSpPr>
          <p:cNvPr id="1626"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676" dur="indefinite" restart="never" nodeType="tmRoot">
          <p:childTnLst>
            <p:seq>
              <p:cTn id="1677" dur="indefinite" nodeType="mainSeq">
                <p:childTnLst>
                  <p:par>
                    <p:cTn id="1678" fill="hold">
                      <p:stCondLst>
                        <p:cond delay="0"/>
                      </p:stCondLst>
                      <p:childTnLst>
                        <p:par>
                          <p:cTn id="1679" fill="hold">
                            <p:stCondLst>
                              <p:cond delay="0"/>
                            </p:stCondLst>
                            <p:childTnLst>
                              <p:par>
                                <p:cTn id="1680" nodeType="afterEffect" fill="hold" presetClass="entr" presetID="10">
                                  <p:stCondLst>
                                    <p:cond delay="0"/>
                                  </p:stCondLst>
                                  <p:childTnLst>
                                    <p:set>
                                      <p:cBhvr>
                                        <p:cTn id="1681" dur="1" fill="hold">
                                          <p:stCondLst>
                                            <p:cond delay="0"/>
                                          </p:stCondLst>
                                        </p:cTn>
                                        <p:tgtEl>
                                          <p:spTgt spid="1604"/>
                                        </p:tgtEl>
                                        <p:attrNameLst>
                                          <p:attrName>style.visibility</p:attrName>
                                        </p:attrNameLst>
                                      </p:cBhvr>
                                      <p:to>
                                        <p:strVal val="visible"/>
                                      </p:to>
                                    </p:set>
                                    <p:animEffect filter="fade" transition="in">
                                      <p:cBhvr additive="repl">
                                        <p:cTn id="1682" dur="500"/>
                                        <p:tgtEl>
                                          <p:spTgt spid="1604"/>
                                        </p:tgtEl>
                                      </p:cBhvr>
                                    </p:animEffect>
                                  </p:childTnLst>
                                </p:cTn>
                              </p:par>
                            </p:childTnLst>
                          </p:cTn>
                        </p:par>
                        <p:par>
                          <p:cTn id="1683" fill="hold">
                            <p:stCondLst>
                              <p:cond delay="500"/>
                            </p:stCondLst>
                            <p:childTnLst>
                              <p:par>
                                <p:cTn id="1684" nodeType="afterEffect" fill="hold" presetClass="entr" presetID="10">
                                  <p:stCondLst>
                                    <p:cond delay="0"/>
                                  </p:stCondLst>
                                  <p:childTnLst>
                                    <p:set>
                                      <p:cBhvr>
                                        <p:cTn id="1685" dur="1" fill="hold">
                                          <p:stCondLst>
                                            <p:cond delay="0"/>
                                          </p:stCondLst>
                                        </p:cTn>
                                        <p:tgtEl>
                                          <p:spTgt spid="1606"/>
                                        </p:tgtEl>
                                        <p:attrNameLst>
                                          <p:attrName>style.visibility</p:attrName>
                                        </p:attrNameLst>
                                      </p:cBhvr>
                                      <p:to>
                                        <p:strVal val="visible"/>
                                      </p:to>
                                    </p:set>
                                    <p:animEffect filter="fade" transition="in">
                                      <p:cBhvr additive="repl">
                                        <p:cTn id="1686" dur="500"/>
                                        <p:tgtEl>
                                          <p:spTgt spid="1606"/>
                                        </p:tgtEl>
                                      </p:cBhvr>
                                    </p:animEffect>
                                  </p:childTnLst>
                                </p:cTn>
                              </p:par>
                              <p:par>
                                <p:cTn id="1687" nodeType="withEffect" fill="hold" presetClass="entr" presetID="10">
                                  <p:stCondLst>
                                    <p:cond delay="0"/>
                                  </p:stCondLst>
                                  <p:childTnLst>
                                    <p:set>
                                      <p:cBhvr>
                                        <p:cTn id="1688" dur="1" fill="hold">
                                          <p:stCondLst>
                                            <p:cond delay="0"/>
                                          </p:stCondLst>
                                        </p:cTn>
                                        <p:tgtEl>
                                          <p:spTgt spid="1614">
                                            <p:txEl>
                                              <p:pRg st="0" end="0"/>
                                            </p:txEl>
                                          </p:spTgt>
                                        </p:tgtEl>
                                        <p:attrNameLst>
                                          <p:attrName>style.visibility</p:attrName>
                                        </p:attrNameLst>
                                      </p:cBhvr>
                                      <p:to>
                                        <p:strVal val="visible"/>
                                      </p:to>
                                    </p:set>
                                    <p:animEffect filter="fade" transition="in">
                                      <p:cBhvr additive="repl">
                                        <p:cTn id="1689" dur="500"/>
                                        <p:tgtEl>
                                          <p:spTgt spid="1614">
                                            <p:txEl>
                                              <p:pRg st="0" end="0"/>
                                            </p:txEl>
                                          </p:spTgt>
                                        </p:tgtEl>
                                      </p:cBhvr>
                                    </p:animEffect>
                                  </p:childTnLst>
                                </p:cTn>
                              </p:par>
                            </p:childTnLst>
                          </p:cTn>
                        </p:par>
                        <p:par>
                          <p:cTn id="1690" fill="hold">
                            <p:stCondLst>
                              <p:cond delay="1000"/>
                            </p:stCondLst>
                            <p:childTnLst>
                              <p:par>
                                <p:cTn id="1691" nodeType="afterEffect" fill="hold" presetClass="entr" presetID="10">
                                  <p:stCondLst>
                                    <p:cond delay="0"/>
                                  </p:stCondLst>
                                  <p:childTnLst>
                                    <p:set>
                                      <p:cBhvr>
                                        <p:cTn id="1692" dur="1" fill="hold">
                                          <p:stCondLst>
                                            <p:cond delay="0"/>
                                          </p:stCondLst>
                                        </p:cTn>
                                        <p:tgtEl>
                                          <p:spTgt spid="1608"/>
                                        </p:tgtEl>
                                        <p:attrNameLst>
                                          <p:attrName>style.visibility</p:attrName>
                                        </p:attrNameLst>
                                      </p:cBhvr>
                                      <p:to>
                                        <p:strVal val="visible"/>
                                      </p:to>
                                    </p:set>
                                    <p:animEffect filter="fade" transition="in">
                                      <p:cBhvr additive="repl">
                                        <p:cTn id="1693" dur="500"/>
                                        <p:tgtEl>
                                          <p:spTgt spid="1608"/>
                                        </p:tgtEl>
                                      </p:cBhvr>
                                    </p:animEffect>
                                  </p:childTnLst>
                                </p:cTn>
                              </p:par>
                              <p:par>
                                <p:cTn id="1694" nodeType="withEffect" fill="hold" presetClass="entr" presetID="10">
                                  <p:stCondLst>
                                    <p:cond delay="0"/>
                                  </p:stCondLst>
                                  <p:childTnLst>
                                    <p:set>
                                      <p:cBhvr>
                                        <p:cTn id="1695" dur="1" fill="hold">
                                          <p:stCondLst>
                                            <p:cond delay="0"/>
                                          </p:stCondLst>
                                        </p:cTn>
                                        <p:tgtEl>
                                          <p:spTgt spid="1616">
                                            <p:txEl>
                                              <p:pRg st="0" end="0"/>
                                            </p:txEl>
                                          </p:spTgt>
                                        </p:tgtEl>
                                        <p:attrNameLst>
                                          <p:attrName>style.visibility</p:attrName>
                                        </p:attrNameLst>
                                      </p:cBhvr>
                                      <p:to>
                                        <p:strVal val="visible"/>
                                      </p:to>
                                    </p:set>
                                    <p:animEffect filter="fade" transition="in">
                                      <p:cBhvr additive="repl">
                                        <p:cTn id="1696" dur="500"/>
                                        <p:tgtEl>
                                          <p:spTgt spid="1616">
                                            <p:txEl>
                                              <p:pRg st="0" end="0"/>
                                            </p:txEl>
                                          </p:spTgt>
                                        </p:tgtEl>
                                      </p:cBhvr>
                                    </p:animEffect>
                                  </p:childTnLst>
                                </p:cTn>
                              </p:par>
                            </p:childTnLst>
                          </p:cTn>
                        </p:par>
                        <p:par>
                          <p:cTn id="1697" fill="hold">
                            <p:stCondLst>
                              <p:cond delay="1500"/>
                            </p:stCondLst>
                            <p:childTnLst>
                              <p:par>
                                <p:cTn id="1698" nodeType="afterEffect" fill="hold" presetClass="entr" presetID="10">
                                  <p:stCondLst>
                                    <p:cond delay="0"/>
                                  </p:stCondLst>
                                  <p:childTnLst>
                                    <p:set>
                                      <p:cBhvr>
                                        <p:cTn id="1699" dur="1" fill="hold">
                                          <p:stCondLst>
                                            <p:cond delay="0"/>
                                          </p:stCondLst>
                                        </p:cTn>
                                        <p:tgtEl>
                                          <p:spTgt spid="1609"/>
                                        </p:tgtEl>
                                        <p:attrNameLst>
                                          <p:attrName>style.visibility</p:attrName>
                                        </p:attrNameLst>
                                      </p:cBhvr>
                                      <p:to>
                                        <p:strVal val="visible"/>
                                      </p:to>
                                    </p:set>
                                    <p:animEffect filter="fade" transition="in">
                                      <p:cBhvr additive="repl">
                                        <p:cTn id="1700" dur="500"/>
                                        <p:tgtEl>
                                          <p:spTgt spid="1609"/>
                                        </p:tgtEl>
                                      </p:cBhvr>
                                    </p:animEffect>
                                  </p:childTnLst>
                                </p:cTn>
                              </p:par>
                              <p:par>
                                <p:cTn id="1701" nodeType="withEffect" fill="hold" presetClass="entr" presetID="10">
                                  <p:stCondLst>
                                    <p:cond delay="0"/>
                                  </p:stCondLst>
                                  <p:childTnLst>
                                    <p:set>
                                      <p:cBhvr>
                                        <p:cTn id="1702" dur="1" fill="hold">
                                          <p:stCondLst>
                                            <p:cond delay="0"/>
                                          </p:stCondLst>
                                        </p:cTn>
                                        <p:tgtEl>
                                          <p:spTgt spid="1615">
                                            <p:txEl>
                                              <p:pRg st="0" end="0"/>
                                            </p:txEl>
                                          </p:spTgt>
                                        </p:tgtEl>
                                        <p:attrNameLst>
                                          <p:attrName>style.visibility</p:attrName>
                                        </p:attrNameLst>
                                      </p:cBhvr>
                                      <p:to>
                                        <p:strVal val="visible"/>
                                      </p:to>
                                    </p:set>
                                    <p:animEffect filter="fade" transition="in">
                                      <p:cBhvr additive="repl">
                                        <p:cTn id="1703" dur="500"/>
                                        <p:tgtEl>
                                          <p:spTgt spid="1615">
                                            <p:txEl>
                                              <p:pRg st="0" end="0"/>
                                            </p:txEl>
                                          </p:spTgt>
                                        </p:tgtEl>
                                      </p:cBhvr>
                                    </p:animEffect>
                                  </p:childTnLst>
                                </p:cTn>
                              </p:par>
                            </p:childTnLst>
                          </p:cTn>
                        </p:par>
                        <p:par>
                          <p:cTn id="1704" fill="hold">
                            <p:stCondLst>
                              <p:cond delay="2000"/>
                            </p:stCondLst>
                            <p:childTnLst>
                              <p:par>
                                <p:cTn id="1705" nodeType="afterEffect" fill="hold" presetClass="entr" presetID="10">
                                  <p:stCondLst>
                                    <p:cond delay="0"/>
                                  </p:stCondLst>
                                  <p:childTnLst>
                                    <p:set>
                                      <p:cBhvr>
                                        <p:cTn id="1706" dur="1" fill="hold">
                                          <p:stCondLst>
                                            <p:cond delay="0"/>
                                          </p:stCondLst>
                                        </p:cTn>
                                        <p:tgtEl>
                                          <p:spTgt spid="1607"/>
                                        </p:tgtEl>
                                        <p:attrNameLst>
                                          <p:attrName>style.visibility</p:attrName>
                                        </p:attrNameLst>
                                      </p:cBhvr>
                                      <p:to>
                                        <p:strVal val="visible"/>
                                      </p:to>
                                    </p:set>
                                    <p:animEffect filter="fade" transition="in">
                                      <p:cBhvr additive="repl">
                                        <p:cTn id="1707" dur="500"/>
                                        <p:tgtEl>
                                          <p:spTgt spid="1607"/>
                                        </p:tgtEl>
                                      </p:cBhvr>
                                    </p:animEffect>
                                  </p:childTnLst>
                                </p:cTn>
                              </p:par>
                              <p:par>
                                <p:cTn id="1708" nodeType="withEffect" fill="hold" presetClass="entr" presetID="10">
                                  <p:stCondLst>
                                    <p:cond delay="0"/>
                                  </p:stCondLst>
                                  <p:childTnLst>
                                    <p:set>
                                      <p:cBhvr>
                                        <p:cTn id="1709" dur="1" fill="hold">
                                          <p:stCondLst>
                                            <p:cond delay="0"/>
                                          </p:stCondLst>
                                        </p:cTn>
                                        <p:tgtEl>
                                          <p:spTgt spid="1617">
                                            <p:txEl>
                                              <p:pRg st="0" end="0"/>
                                            </p:txEl>
                                          </p:spTgt>
                                        </p:tgtEl>
                                        <p:attrNameLst>
                                          <p:attrName>style.visibility</p:attrName>
                                        </p:attrNameLst>
                                      </p:cBhvr>
                                      <p:to>
                                        <p:strVal val="visible"/>
                                      </p:to>
                                    </p:set>
                                    <p:animEffect filter="fade" transition="in">
                                      <p:cBhvr additive="repl">
                                        <p:cTn id="1710" dur="500"/>
                                        <p:tgtEl>
                                          <p:spTgt spid="1617">
                                            <p:txEl>
                                              <p:pRg st="0" end="0"/>
                                            </p:txEl>
                                          </p:spTgt>
                                        </p:tgtEl>
                                      </p:cBhvr>
                                    </p:animEffect>
                                  </p:childTnLst>
                                </p:cTn>
                              </p:par>
                            </p:childTnLst>
                          </p:cTn>
                        </p:par>
                        <p:par>
                          <p:cTn id="1711" fill="hold">
                            <p:stCondLst>
                              <p:cond delay="2500"/>
                            </p:stCondLst>
                            <p:childTnLst>
                              <p:par>
                                <p:cTn id="1712" nodeType="afterEffect" fill="hold" presetClass="entr" presetID="10">
                                  <p:stCondLst>
                                    <p:cond delay="0"/>
                                  </p:stCondLst>
                                  <p:childTnLst>
                                    <p:set>
                                      <p:cBhvr>
                                        <p:cTn id="1713" dur="1" fill="hold">
                                          <p:stCondLst>
                                            <p:cond delay="0"/>
                                          </p:stCondLst>
                                        </p:cTn>
                                        <p:tgtEl>
                                          <p:spTgt spid="1605"/>
                                        </p:tgtEl>
                                        <p:attrNameLst>
                                          <p:attrName>style.visibility</p:attrName>
                                        </p:attrNameLst>
                                      </p:cBhvr>
                                      <p:to>
                                        <p:strVal val="visible"/>
                                      </p:to>
                                    </p:set>
                                    <p:animEffect filter="fade" transition="in">
                                      <p:cBhvr additive="repl">
                                        <p:cTn id="1714" dur="500"/>
                                        <p:tgtEl>
                                          <p:spTgt spid="1605"/>
                                        </p:tgtEl>
                                      </p:cBhvr>
                                    </p:animEffect>
                                  </p:childTnLst>
                                </p:cTn>
                              </p:par>
                              <p:par>
                                <p:cTn id="1715" nodeType="withEffect" fill="hold" presetClass="entr" presetID="10">
                                  <p:stCondLst>
                                    <p:cond delay="0"/>
                                  </p:stCondLst>
                                  <p:childTnLst>
                                    <p:set>
                                      <p:cBhvr>
                                        <p:cTn id="1716" dur="1" fill="hold">
                                          <p:stCondLst>
                                            <p:cond delay="0"/>
                                          </p:stCondLst>
                                        </p:cTn>
                                        <p:tgtEl>
                                          <p:spTgt spid="1618">
                                            <p:txEl>
                                              <p:pRg st="0" end="0"/>
                                            </p:txEl>
                                          </p:spTgt>
                                        </p:tgtEl>
                                        <p:attrNameLst>
                                          <p:attrName>style.visibility</p:attrName>
                                        </p:attrNameLst>
                                      </p:cBhvr>
                                      <p:to>
                                        <p:strVal val="visible"/>
                                      </p:to>
                                    </p:set>
                                    <p:animEffect filter="fade" transition="in">
                                      <p:cBhvr additive="repl">
                                        <p:cTn id="1717" dur="500"/>
                                        <p:tgtEl>
                                          <p:spTgt spid="1618">
                                            <p:txEl>
                                              <p:pRg st="0" end="0"/>
                                            </p:txEl>
                                          </p:spTgt>
                                        </p:tgtEl>
                                      </p:cBhvr>
                                    </p:animEffect>
                                  </p:childTnLst>
                                </p:cTn>
                              </p:par>
                            </p:childTnLst>
                          </p:cTn>
                        </p:par>
                        <p:par>
                          <p:cTn id="1718" fill="hold">
                            <p:stCondLst>
                              <p:cond delay="3000"/>
                            </p:stCondLst>
                            <p:childTnLst>
                              <p:par>
                                <p:cTn id="1719" nodeType="afterEffect" fill="hold" presetClass="entr" presetID="10">
                                  <p:stCondLst>
                                    <p:cond delay="0"/>
                                  </p:stCondLst>
                                  <p:childTnLst>
                                    <p:set>
                                      <p:cBhvr>
                                        <p:cTn id="1720" dur="1" fill="hold">
                                          <p:stCondLst>
                                            <p:cond delay="0"/>
                                          </p:stCondLst>
                                        </p:cTn>
                                        <p:tgtEl>
                                          <p:spTgt spid="1610"/>
                                        </p:tgtEl>
                                        <p:attrNameLst>
                                          <p:attrName>style.visibility</p:attrName>
                                        </p:attrNameLst>
                                      </p:cBhvr>
                                      <p:to>
                                        <p:strVal val="visible"/>
                                      </p:to>
                                    </p:set>
                                    <p:animEffect filter="fade" transition="in">
                                      <p:cBhvr additive="repl">
                                        <p:cTn id="1721" dur="500"/>
                                        <p:tgtEl>
                                          <p:spTgt spid="1610"/>
                                        </p:tgtEl>
                                      </p:cBhvr>
                                    </p:animEffect>
                                  </p:childTnLst>
                                </p:cTn>
                              </p:par>
                            </p:childTnLst>
                          </p:cTn>
                        </p:par>
                        <p:par>
                          <p:cTn id="1722" fill="hold">
                            <p:stCondLst>
                              <p:cond delay="3500"/>
                            </p:stCondLst>
                            <p:childTnLst>
                              <p:par>
                                <p:cTn id="1723" nodeType="afterEffect" fill="hold" presetClass="entr" presetID="10">
                                  <p:stCondLst>
                                    <p:cond delay="0"/>
                                  </p:stCondLst>
                                  <p:childTnLst>
                                    <p:set>
                                      <p:cBhvr>
                                        <p:cTn id="1724" dur="1" fill="hold">
                                          <p:stCondLst>
                                            <p:cond delay="0"/>
                                          </p:stCondLst>
                                        </p:cTn>
                                        <p:tgtEl>
                                          <p:spTgt spid="1611"/>
                                        </p:tgtEl>
                                        <p:attrNameLst>
                                          <p:attrName>style.visibility</p:attrName>
                                        </p:attrNameLst>
                                      </p:cBhvr>
                                      <p:to>
                                        <p:strVal val="visible"/>
                                      </p:to>
                                    </p:set>
                                    <p:animEffect filter="fade" transition="in">
                                      <p:cBhvr additive="repl">
                                        <p:cTn id="1725" dur="500"/>
                                        <p:tgtEl>
                                          <p:spTgt spid="1611"/>
                                        </p:tgtEl>
                                      </p:cBhvr>
                                    </p:animEffect>
                                  </p:childTnLst>
                                </p:cTn>
                              </p:par>
                            </p:childTnLst>
                          </p:cTn>
                        </p:par>
                        <p:par>
                          <p:cTn id="1726" fill="hold">
                            <p:stCondLst>
                              <p:cond delay="4000"/>
                            </p:stCondLst>
                            <p:childTnLst>
                              <p:par>
                                <p:cTn id="1727" nodeType="afterEffect" fill="hold" presetClass="entr" presetID="10">
                                  <p:stCondLst>
                                    <p:cond delay="0"/>
                                  </p:stCondLst>
                                  <p:childTnLst>
                                    <p:set>
                                      <p:cBhvr>
                                        <p:cTn id="1728" dur="1" fill="hold">
                                          <p:stCondLst>
                                            <p:cond delay="0"/>
                                          </p:stCondLst>
                                        </p:cTn>
                                        <p:tgtEl>
                                          <p:spTgt spid="1619">
                                            <p:txEl>
                                              <p:pRg st="0" end="0"/>
                                            </p:txEl>
                                          </p:spTgt>
                                        </p:tgtEl>
                                        <p:attrNameLst>
                                          <p:attrName>style.visibility</p:attrName>
                                        </p:attrNameLst>
                                      </p:cBhvr>
                                      <p:to>
                                        <p:strVal val="visible"/>
                                      </p:to>
                                    </p:set>
                                    <p:animEffect filter="fade" transition="in">
                                      <p:cBhvr additive="repl">
                                        <p:cTn id="1729" dur="500"/>
                                        <p:tgtEl>
                                          <p:spTgt spid="1619">
                                            <p:txEl>
                                              <p:pRg st="0" end="0"/>
                                            </p:txEl>
                                          </p:spTgt>
                                        </p:tgtEl>
                                      </p:cBhvr>
                                    </p:animEffect>
                                  </p:childTnLst>
                                </p:cTn>
                              </p:par>
                            </p:childTnLst>
                          </p:cTn>
                        </p:par>
                        <p:par>
                          <p:cTn id="1730" fill="hold">
                            <p:stCondLst>
                              <p:cond delay="4500"/>
                            </p:stCondLst>
                            <p:childTnLst>
                              <p:par>
                                <p:cTn id="1731" nodeType="afterEffect" fill="hold" presetClass="entr" presetID="10">
                                  <p:stCondLst>
                                    <p:cond delay="0"/>
                                  </p:stCondLst>
                                  <p:childTnLst>
                                    <p:set>
                                      <p:cBhvr>
                                        <p:cTn id="1732" dur="1" fill="hold">
                                          <p:stCondLst>
                                            <p:cond delay="0"/>
                                          </p:stCondLst>
                                        </p:cTn>
                                        <p:tgtEl>
                                          <p:spTgt spid="1620">
                                            <p:txEl>
                                              <p:pRg st="0" end="0"/>
                                            </p:txEl>
                                          </p:spTgt>
                                        </p:tgtEl>
                                        <p:attrNameLst>
                                          <p:attrName>style.visibility</p:attrName>
                                        </p:attrNameLst>
                                      </p:cBhvr>
                                      <p:to>
                                        <p:strVal val="visible"/>
                                      </p:to>
                                    </p:set>
                                    <p:animEffect filter="fade" transition="in">
                                      <p:cBhvr additive="repl">
                                        <p:cTn id="1733" dur="500"/>
                                        <p:tgtEl>
                                          <p:spTgt spid="1620">
                                            <p:txEl>
                                              <p:pRg st="0" end="0"/>
                                            </p:txEl>
                                          </p:spTgt>
                                        </p:tgtEl>
                                      </p:cBhvr>
                                    </p:animEffect>
                                  </p:childTnLst>
                                </p:cTn>
                              </p:par>
                            </p:childTnLst>
                          </p:cTn>
                        </p:par>
                        <p:par>
                          <p:cTn id="1734" fill="hold">
                            <p:stCondLst>
                              <p:cond delay="5000"/>
                            </p:stCondLst>
                            <p:childTnLst>
                              <p:par>
                                <p:cTn id="1735" nodeType="afterEffect" fill="hold" presetClass="entr" presetID="18" presetSubtype="6">
                                  <p:stCondLst>
                                    <p:cond delay="0"/>
                                  </p:stCondLst>
                                  <p:childTnLst>
                                    <p:set>
                                      <p:cBhvr>
                                        <p:cTn id="1736" dur="1" fill="hold">
                                          <p:stCondLst>
                                            <p:cond delay="0"/>
                                          </p:stCondLst>
                                        </p:cTn>
                                        <p:tgtEl>
                                          <p:spTgt spid="1624">
                                            <p:txEl>
                                              <p:pRg st="0" end="0"/>
                                            </p:txEl>
                                          </p:spTgt>
                                        </p:tgtEl>
                                        <p:attrNameLst>
                                          <p:attrName>style.visibility</p:attrName>
                                        </p:attrNameLst>
                                      </p:cBhvr>
                                      <p:to>
                                        <p:strVal val="visible"/>
                                      </p:to>
                                    </p:set>
                                    <p:animEffect filter="strips(downRight)" transition="in">
                                      <p:cBhvr additive="repl">
                                        <p:cTn id="1737" dur="500"/>
                                        <p:tgtEl>
                                          <p:spTgt spid="1624">
                                            <p:txEl>
                                              <p:pRg st="0" end="0"/>
                                            </p:txEl>
                                          </p:spTgt>
                                        </p:tgtEl>
                                      </p:cBhvr>
                                    </p:animEffect>
                                  </p:childTnLst>
                                </p:cTn>
                              </p:par>
                            </p:childTnLst>
                          </p:cTn>
                        </p:par>
                        <p:par>
                          <p:cTn id="1738" fill="hold">
                            <p:stCondLst>
                              <p:cond delay="5500"/>
                            </p:stCondLst>
                            <p:childTnLst>
                              <p:par>
                                <p:cTn id="1739" nodeType="afterEffect" fill="hold" presetClass="entr" presetID="10">
                                  <p:stCondLst>
                                    <p:cond delay="0"/>
                                  </p:stCondLst>
                                  <p:childTnLst>
                                    <p:set>
                                      <p:cBhvr>
                                        <p:cTn id="1740" dur="1" fill="hold">
                                          <p:stCondLst>
                                            <p:cond delay="0"/>
                                          </p:stCondLst>
                                        </p:cTn>
                                        <p:tgtEl>
                                          <p:spTgt spid="1612"/>
                                        </p:tgtEl>
                                        <p:attrNameLst>
                                          <p:attrName>style.visibility</p:attrName>
                                        </p:attrNameLst>
                                      </p:cBhvr>
                                      <p:to>
                                        <p:strVal val="visible"/>
                                      </p:to>
                                    </p:set>
                                    <p:animEffect filter="fade" transition="in">
                                      <p:cBhvr additive="repl">
                                        <p:cTn id="1741" dur="500"/>
                                        <p:tgtEl>
                                          <p:spTgt spid="1612"/>
                                        </p:tgtEl>
                                      </p:cBhvr>
                                    </p:animEffect>
                                  </p:childTnLst>
                                </p:cTn>
                              </p:par>
                            </p:childTnLst>
                          </p:cTn>
                        </p:par>
                        <p:par>
                          <p:cTn id="1742" fill="hold">
                            <p:stCondLst>
                              <p:cond delay="6000"/>
                            </p:stCondLst>
                            <p:childTnLst>
                              <p:par>
                                <p:cTn id="1743" nodeType="afterEffect" fill="hold" presetClass="entr" presetID="10">
                                  <p:stCondLst>
                                    <p:cond delay="0"/>
                                  </p:stCondLst>
                                  <p:childTnLst>
                                    <p:set>
                                      <p:cBhvr>
                                        <p:cTn id="1744" dur="1" fill="hold">
                                          <p:stCondLst>
                                            <p:cond delay="0"/>
                                          </p:stCondLst>
                                        </p:cTn>
                                        <p:tgtEl>
                                          <p:spTgt spid="1613"/>
                                        </p:tgtEl>
                                        <p:attrNameLst>
                                          <p:attrName>style.visibility</p:attrName>
                                        </p:attrNameLst>
                                      </p:cBhvr>
                                      <p:to>
                                        <p:strVal val="visible"/>
                                      </p:to>
                                    </p:set>
                                    <p:animEffect filter="fade" transition="in">
                                      <p:cBhvr additive="repl">
                                        <p:cTn id="1745" dur="500"/>
                                        <p:tgtEl>
                                          <p:spTgt spid="1613"/>
                                        </p:tgtEl>
                                      </p:cBhvr>
                                    </p:animEffect>
                                  </p:childTnLst>
                                </p:cTn>
                              </p:par>
                            </p:childTnLst>
                          </p:cTn>
                        </p:par>
                        <p:par>
                          <p:cTn id="1746" fill="hold">
                            <p:stCondLst>
                              <p:cond delay="6500"/>
                            </p:stCondLst>
                            <p:childTnLst>
                              <p:par>
                                <p:cTn id="1747" nodeType="afterEffect" fill="hold" presetClass="entr" presetID="10">
                                  <p:stCondLst>
                                    <p:cond delay="0"/>
                                  </p:stCondLst>
                                  <p:childTnLst>
                                    <p:set>
                                      <p:cBhvr>
                                        <p:cTn id="1748" dur="1" fill="hold">
                                          <p:stCondLst>
                                            <p:cond delay="0"/>
                                          </p:stCondLst>
                                        </p:cTn>
                                        <p:tgtEl>
                                          <p:spTgt spid="1621">
                                            <p:txEl>
                                              <p:pRg st="0" end="0"/>
                                            </p:txEl>
                                          </p:spTgt>
                                        </p:tgtEl>
                                        <p:attrNameLst>
                                          <p:attrName>style.visibility</p:attrName>
                                        </p:attrNameLst>
                                      </p:cBhvr>
                                      <p:to>
                                        <p:strVal val="visible"/>
                                      </p:to>
                                    </p:set>
                                    <p:animEffect filter="fade" transition="in">
                                      <p:cBhvr additive="repl">
                                        <p:cTn id="1749" dur="500"/>
                                        <p:tgtEl>
                                          <p:spTgt spid="1621">
                                            <p:txEl>
                                              <p:pRg st="0" end="0"/>
                                            </p:txEl>
                                          </p:spTgt>
                                        </p:tgtEl>
                                      </p:cBhvr>
                                    </p:animEffect>
                                  </p:childTnLst>
                                </p:cTn>
                              </p:par>
                            </p:childTnLst>
                          </p:cTn>
                        </p:par>
                        <p:par>
                          <p:cTn id="1750" fill="hold">
                            <p:stCondLst>
                              <p:cond delay="7000"/>
                            </p:stCondLst>
                            <p:childTnLst>
                              <p:par>
                                <p:cTn id="1751" nodeType="afterEffect" fill="hold" presetClass="entr" presetID="10">
                                  <p:stCondLst>
                                    <p:cond delay="0"/>
                                  </p:stCondLst>
                                  <p:childTnLst>
                                    <p:set>
                                      <p:cBhvr>
                                        <p:cTn id="1752" dur="1" fill="hold">
                                          <p:stCondLst>
                                            <p:cond delay="0"/>
                                          </p:stCondLst>
                                        </p:cTn>
                                        <p:tgtEl>
                                          <p:spTgt spid="1622">
                                            <p:txEl>
                                              <p:pRg st="0" end="0"/>
                                            </p:txEl>
                                          </p:spTgt>
                                        </p:tgtEl>
                                        <p:attrNameLst>
                                          <p:attrName>style.visibility</p:attrName>
                                        </p:attrNameLst>
                                      </p:cBhvr>
                                      <p:to>
                                        <p:strVal val="visible"/>
                                      </p:to>
                                    </p:set>
                                    <p:animEffect filter="fade" transition="in">
                                      <p:cBhvr additive="repl">
                                        <p:cTn id="1753" dur="500"/>
                                        <p:tgtEl>
                                          <p:spTgt spid="1622">
                                            <p:txEl>
                                              <p:pRg st="0" end="0"/>
                                            </p:txEl>
                                          </p:spTgt>
                                        </p:tgtEl>
                                      </p:cBhvr>
                                    </p:animEffect>
                                  </p:childTnLst>
                                </p:cTn>
                              </p:par>
                            </p:childTnLst>
                          </p:cTn>
                        </p:par>
                        <p:par>
                          <p:cTn id="1754" fill="hold">
                            <p:stCondLst>
                              <p:cond delay="7500"/>
                            </p:stCondLst>
                            <p:childTnLst>
                              <p:par>
                                <p:cTn id="1755" nodeType="afterEffect" fill="hold" presetClass="entr" presetID="18" presetSubtype="6">
                                  <p:stCondLst>
                                    <p:cond delay="0"/>
                                  </p:stCondLst>
                                  <p:childTnLst>
                                    <p:set>
                                      <p:cBhvr>
                                        <p:cTn id="1756" dur="1" fill="hold">
                                          <p:stCondLst>
                                            <p:cond delay="0"/>
                                          </p:stCondLst>
                                        </p:cTn>
                                        <p:tgtEl>
                                          <p:spTgt spid="1623">
                                            <p:txEl>
                                              <p:pRg st="0" end="0"/>
                                            </p:txEl>
                                          </p:spTgt>
                                        </p:tgtEl>
                                        <p:attrNameLst>
                                          <p:attrName>style.visibility</p:attrName>
                                        </p:attrNameLst>
                                      </p:cBhvr>
                                      <p:to>
                                        <p:strVal val="visible"/>
                                      </p:to>
                                    </p:set>
                                    <p:animEffect filter="strips(downRight)" transition="in">
                                      <p:cBhvr additive="repl">
                                        <p:cTn id="1757" dur="500"/>
                                        <p:tgtEl>
                                          <p:spTgt spid="1623">
                                            <p:txEl>
                                              <p:pRg st="0" end="0"/>
                                            </p:txEl>
                                          </p:spTgt>
                                        </p:tgtEl>
                                      </p:cBhvr>
                                    </p:animEffect>
                                  </p:childTnLst>
                                </p:cTn>
                              </p:par>
                            </p:childTnLst>
                          </p:cTn>
                        </p:par>
                        <p:par>
                          <p:cTn id="1758" fill="hold">
                            <p:stCondLst>
                              <p:cond delay="8000"/>
                            </p:stCondLst>
                            <p:childTnLst>
                              <p:par>
                                <p:cTn id="1759" nodeType="afterEffect" fill="hold" presetClass="entr" presetID="22" presetSubtype="8">
                                  <p:stCondLst>
                                    <p:cond delay="0"/>
                                  </p:stCondLst>
                                  <p:childTnLst>
                                    <p:set>
                                      <p:cBhvr>
                                        <p:cTn id="1760" dur="1" fill="hold">
                                          <p:stCondLst>
                                            <p:cond delay="0"/>
                                          </p:stCondLst>
                                        </p:cTn>
                                        <p:tgtEl>
                                          <p:spTgt spid="1626">
                                            <p:txEl>
                                              <p:pRg st="0" end="0"/>
                                            </p:txEl>
                                          </p:spTgt>
                                        </p:tgtEl>
                                        <p:attrNameLst>
                                          <p:attrName>style.visibility</p:attrName>
                                        </p:attrNameLst>
                                      </p:cBhvr>
                                      <p:to>
                                        <p:strVal val="visible"/>
                                      </p:to>
                                    </p:set>
                                    <p:animEffect filter="wipe(left)" transition="in">
                                      <p:cBhvr additive="repl">
                                        <p:cTn id="1761" dur="500"/>
                                        <p:tgtEl>
                                          <p:spTgt spid="1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p:nvPr>
        </p:nvSpPr>
        <p:spPr>
          <a:xfrm>
            <a:off x="2526840" y="2665440"/>
            <a:ext cx="7164360" cy="479520"/>
          </a:xfrm>
          <a:prstGeom prst="rect">
            <a:avLst/>
          </a:prstGeom>
          <a:noFill/>
          <a:ln w="0">
            <a:noFill/>
          </a:ln>
        </p:spPr>
        <p:txBody>
          <a:bodyPr lIns="0" rIns="0" tIns="0" bIns="0" anchor="t">
            <a:normAutofit/>
          </a:bodyPr>
          <a:p>
            <a:pPr indent="0" algn="ct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because we have been experienced in our sector more than 10 years, and along the last 7 years, this year we always get appreciation in graphic design, web,, and etc.</a:t>
            </a:r>
            <a:endParaRPr b="0" lang="en-US" sz="1200" spc="-1" strike="noStrike">
              <a:solidFill>
                <a:srgbClr val="494949"/>
              </a:solidFill>
              <a:latin typeface="Open Sans Light"/>
            </a:endParaRPr>
          </a:p>
        </p:txBody>
      </p:sp>
      <p:sp>
        <p:nvSpPr>
          <p:cNvPr id="1628" name="Shape 2733"/>
          <p:cNvSpPr/>
          <p:nvPr/>
        </p:nvSpPr>
        <p:spPr>
          <a:xfrm>
            <a:off x="1949400" y="2046240"/>
            <a:ext cx="8325000" cy="42408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29" name="Shape 2736"/>
          <p:cNvSpPr/>
          <p:nvPr/>
        </p:nvSpPr>
        <p:spPr>
          <a:xfrm>
            <a:off x="1949400" y="3532320"/>
            <a:ext cx="8325000" cy="42372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30" name="Shape 2739"/>
          <p:cNvSpPr/>
          <p:nvPr/>
        </p:nvSpPr>
        <p:spPr>
          <a:xfrm>
            <a:off x="1949400" y="4925880"/>
            <a:ext cx="8325000" cy="422280"/>
          </a:xfrm>
          <a:prstGeom prst="rect">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1631" name="Group 4"/>
          <p:cNvGrpSpPr/>
          <p:nvPr/>
        </p:nvGrpSpPr>
        <p:grpSpPr>
          <a:xfrm>
            <a:off x="5975280" y="1770120"/>
            <a:ext cx="287280" cy="285840"/>
            <a:chOff x="5975280" y="1770120"/>
            <a:chExt cx="287280" cy="285840"/>
          </a:xfrm>
        </p:grpSpPr>
        <p:sp>
          <p:nvSpPr>
            <p:cNvPr id="1632" name="Shape 2742"/>
            <p:cNvSpPr/>
            <p:nvPr/>
          </p:nvSpPr>
          <p:spPr>
            <a:xfrm>
              <a:off x="5975280" y="1770120"/>
              <a:ext cx="287280" cy="285840"/>
            </a:xfrm>
            <a:prstGeom prst="ellipse">
              <a:avLst/>
            </a:prstGeom>
            <a:solidFill>
              <a:srgbClr val="00a09c"/>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33" name="Shape 2743"/>
            <p:cNvSpPr/>
            <p:nvPr/>
          </p:nvSpPr>
          <p:spPr>
            <a:xfrm>
              <a:off x="6077520" y="1858320"/>
              <a:ext cx="70200" cy="109080"/>
            </a:xfrm>
            <a:custGeom>
              <a:avLst/>
              <a:gdLst/>
              <a:ahLst/>
              <a:rect l="l" t="t" r="r" b="b"/>
              <a:pathLst>
                <a:path w="21600" h="21560">
                  <a:moveTo>
                    <a:pt x="10317" y="16676"/>
                  </a:moveTo>
                  <a:cubicBezTo>
                    <a:pt x="8196" y="16636"/>
                    <a:pt x="6444" y="17581"/>
                    <a:pt x="6377" y="19060"/>
                  </a:cubicBezTo>
                  <a:cubicBezTo>
                    <a:pt x="6312" y="20540"/>
                    <a:pt x="7978" y="21518"/>
                    <a:pt x="10099" y="21558"/>
                  </a:cubicBezTo>
                  <a:cubicBezTo>
                    <a:pt x="12315" y="21600"/>
                    <a:pt x="14019" y="20687"/>
                    <a:pt x="14084" y="19207"/>
                  </a:cubicBezTo>
                  <a:cubicBezTo>
                    <a:pt x="14151" y="17726"/>
                    <a:pt x="12534" y="16718"/>
                    <a:pt x="10317" y="16676"/>
                  </a:cubicBezTo>
                  <a:close/>
                  <a:moveTo>
                    <a:pt x="18416" y="1478"/>
                  </a:moveTo>
                  <a:cubicBezTo>
                    <a:pt x="16292" y="493"/>
                    <a:pt x="13626" y="0"/>
                    <a:pt x="10418" y="0"/>
                  </a:cubicBezTo>
                  <a:cubicBezTo>
                    <a:pt x="7974" y="0"/>
                    <a:pt x="5915" y="348"/>
                    <a:pt x="4238" y="1040"/>
                  </a:cubicBezTo>
                  <a:cubicBezTo>
                    <a:pt x="1583" y="2126"/>
                    <a:pt x="170" y="3968"/>
                    <a:pt x="0" y="6566"/>
                  </a:cubicBezTo>
                  <a:lnTo>
                    <a:pt x="6157" y="6566"/>
                  </a:lnTo>
                  <a:cubicBezTo>
                    <a:pt x="6157" y="5811"/>
                    <a:pt x="6500" y="5081"/>
                    <a:pt x="7187" y="4379"/>
                  </a:cubicBezTo>
                  <a:cubicBezTo>
                    <a:pt x="7873" y="3676"/>
                    <a:pt x="9039" y="3326"/>
                    <a:pt x="10682" y="3326"/>
                  </a:cubicBezTo>
                  <a:cubicBezTo>
                    <a:pt x="12355" y="3326"/>
                    <a:pt x="13505" y="3610"/>
                    <a:pt x="14135" y="4180"/>
                  </a:cubicBezTo>
                  <a:cubicBezTo>
                    <a:pt x="14768" y="4751"/>
                    <a:pt x="15082" y="5382"/>
                    <a:pt x="15082" y="6075"/>
                  </a:cubicBezTo>
                  <a:cubicBezTo>
                    <a:pt x="15082" y="6676"/>
                    <a:pt x="14611" y="7228"/>
                    <a:pt x="14046" y="7730"/>
                  </a:cubicBezTo>
                  <a:cubicBezTo>
                    <a:pt x="13734" y="8022"/>
                    <a:pt x="13324" y="8291"/>
                    <a:pt x="12815" y="8536"/>
                  </a:cubicBezTo>
                  <a:cubicBezTo>
                    <a:pt x="12815" y="8536"/>
                    <a:pt x="9476" y="9914"/>
                    <a:pt x="8009" y="11020"/>
                  </a:cubicBezTo>
                  <a:cubicBezTo>
                    <a:pt x="7160" y="11663"/>
                    <a:pt x="7083" y="12624"/>
                    <a:pt x="7007" y="14002"/>
                  </a:cubicBezTo>
                  <a:cubicBezTo>
                    <a:pt x="7003" y="14101"/>
                    <a:pt x="7061" y="14304"/>
                    <a:pt x="7595" y="14304"/>
                  </a:cubicBezTo>
                  <a:cubicBezTo>
                    <a:pt x="8128" y="14304"/>
                    <a:pt x="11909" y="14304"/>
                    <a:pt x="12384" y="14304"/>
                  </a:cubicBezTo>
                  <a:cubicBezTo>
                    <a:pt x="12860" y="14304"/>
                    <a:pt x="12958" y="14076"/>
                    <a:pt x="12965" y="13976"/>
                  </a:cubicBezTo>
                  <a:cubicBezTo>
                    <a:pt x="12996" y="13475"/>
                    <a:pt x="13086" y="13218"/>
                    <a:pt x="13227" y="12928"/>
                  </a:cubicBezTo>
                  <a:cubicBezTo>
                    <a:pt x="13496" y="12381"/>
                    <a:pt x="14227" y="11903"/>
                    <a:pt x="15050" y="11492"/>
                  </a:cubicBezTo>
                  <a:lnTo>
                    <a:pt x="16745" y="10740"/>
                  </a:lnTo>
                  <a:cubicBezTo>
                    <a:pt x="18275" y="9973"/>
                    <a:pt x="19494" y="9344"/>
                    <a:pt x="20033" y="8851"/>
                  </a:cubicBezTo>
                  <a:cubicBezTo>
                    <a:pt x="20954" y="8040"/>
                    <a:pt x="21600" y="7041"/>
                    <a:pt x="21600" y="5855"/>
                  </a:cubicBezTo>
                  <a:cubicBezTo>
                    <a:pt x="21600" y="3923"/>
                    <a:pt x="20539" y="2463"/>
                    <a:pt x="18416" y="147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634" name="Group 11"/>
          <p:cNvGrpSpPr/>
          <p:nvPr/>
        </p:nvGrpSpPr>
        <p:grpSpPr>
          <a:xfrm>
            <a:off x="1960560" y="2606760"/>
            <a:ext cx="309600" cy="309600"/>
            <a:chOff x="1960560" y="2606760"/>
            <a:chExt cx="309600" cy="309600"/>
          </a:xfrm>
        </p:grpSpPr>
        <p:sp>
          <p:nvSpPr>
            <p:cNvPr id="1635" name="Shape 2745"/>
            <p:cNvSpPr/>
            <p:nvPr/>
          </p:nvSpPr>
          <p:spPr>
            <a:xfrm>
              <a:off x="1960560" y="2606760"/>
              <a:ext cx="309600" cy="309600"/>
            </a:xfrm>
            <a:prstGeom prst="rect">
              <a:avLst/>
            </a:prstGeom>
            <a:solidFill>
              <a:srgbClr val="dcdee0"/>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36" name="Shape 2746"/>
            <p:cNvSpPr/>
            <p:nvPr/>
          </p:nvSpPr>
          <p:spPr>
            <a:xfrm>
              <a:off x="2085120" y="2707920"/>
              <a:ext cx="48960" cy="106920"/>
            </a:xfrm>
            <a:custGeom>
              <a:avLst/>
              <a:gdLst/>
              <a:ahLst/>
              <a:rect l="l" t="t" r="r" b="b"/>
              <a:pathLst>
                <a:path w="21600" h="21600">
                  <a:moveTo>
                    <a:pt x="6830" y="21600"/>
                  </a:moveTo>
                  <a:cubicBezTo>
                    <a:pt x="4348" y="21600"/>
                    <a:pt x="2527" y="20895"/>
                    <a:pt x="4266" y="17795"/>
                  </a:cubicBezTo>
                  <a:lnTo>
                    <a:pt x="7115" y="12296"/>
                  </a:lnTo>
                  <a:cubicBezTo>
                    <a:pt x="7610" y="11416"/>
                    <a:pt x="7692" y="11063"/>
                    <a:pt x="7115" y="11063"/>
                  </a:cubicBezTo>
                  <a:cubicBezTo>
                    <a:pt x="6369" y="11063"/>
                    <a:pt x="3146" y="11672"/>
                    <a:pt x="1241" y="12272"/>
                  </a:cubicBezTo>
                  <a:lnTo>
                    <a:pt x="0" y="11320"/>
                  </a:lnTo>
                  <a:cubicBezTo>
                    <a:pt x="6041" y="8959"/>
                    <a:pt x="12989" y="7575"/>
                    <a:pt x="15966" y="7575"/>
                  </a:cubicBezTo>
                  <a:cubicBezTo>
                    <a:pt x="18448" y="7575"/>
                    <a:pt x="18864" y="8950"/>
                    <a:pt x="17623" y="11063"/>
                  </a:cubicBezTo>
                  <a:lnTo>
                    <a:pt x="14360" y="16844"/>
                  </a:lnTo>
                  <a:cubicBezTo>
                    <a:pt x="13781" y="17865"/>
                    <a:pt x="14030" y="18217"/>
                    <a:pt x="14606" y="18217"/>
                  </a:cubicBezTo>
                  <a:cubicBezTo>
                    <a:pt x="15353" y="18217"/>
                    <a:pt x="17792" y="17793"/>
                    <a:pt x="20192" y="16913"/>
                  </a:cubicBezTo>
                  <a:lnTo>
                    <a:pt x="21600" y="17793"/>
                  </a:lnTo>
                  <a:cubicBezTo>
                    <a:pt x="15726" y="20541"/>
                    <a:pt x="9312" y="21600"/>
                    <a:pt x="6830" y="21600"/>
                  </a:cubicBezTo>
                  <a:close/>
                  <a:moveTo>
                    <a:pt x="16512" y="0"/>
                  </a:moveTo>
                  <a:cubicBezTo>
                    <a:pt x="19655" y="0"/>
                    <a:pt x="21227" y="986"/>
                    <a:pt x="21227" y="2115"/>
                  </a:cubicBezTo>
                  <a:cubicBezTo>
                    <a:pt x="21227" y="3523"/>
                    <a:pt x="18496" y="4826"/>
                    <a:pt x="14940" y="4826"/>
                  </a:cubicBezTo>
                  <a:cubicBezTo>
                    <a:pt x="11960" y="4826"/>
                    <a:pt x="10222" y="4016"/>
                    <a:pt x="10304" y="2678"/>
                  </a:cubicBezTo>
                  <a:cubicBezTo>
                    <a:pt x="10304" y="1550"/>
                    <a:pt x="12373" y="0"/>
                    <a:pt x="16512" y="0"/>
                  </a:cubicBezTo>
                  <a:close/>
                </a:path>
              </a:pathLst>
            </a:custGeom>
            <a:solidFill>
              <a:srgbClr val="00a09c"/>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637" name="Group 5"/>
          <p:cNvGrpSpPr/>
          <p:nvPr/>
        </p:nvGrpSpPr>
        <p:grpSpPr>
          <a:xfrm>
            <a:off x="5975280" y="3251160"/>
            <a:ext cx="287280" cy="287280"/>
            <a:chOff x="5975280" y="3251160"/>
            <a:chExt cx="287280" cy="287280"/>
          </a:xfrm>
        </p:grpSpPr>
        <p:sp>
          <p:nvSpPr>
            <p:cNvPr id="1638" name="Shape 2748"/>
            <p:cNvSpPr/>
            <p:nvPr/>
          </p:nvSpPr>
          <p:spPr>
            <a:xfrm>
              <a:off x="5975280" y="3251160"/>
              <a:ext cx="287280" cy="287280"/>
            </a:xfrm>
            <a:prstGeom prst="ellipse">
              <a:avLst/>
            </a:prstGeom>
            <a:solidFill>
              <a:srgbClr val="1991ab"/>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39" name="Shape 2749"/>
            <p:cNvSpPr/>
            <p:nvPr/>
          </p:nvSpPr>
          <p:spPr>
            <a:xfrm>
              <a:off x="6077520" y="3340080"/>
              <a:ext cx="70200" cy="109440"/>
            </a:xfrm>
            <a:custGeom>
              <a:avLst/>
              <a:gdLst/>
              <a:ahLst/>
              <a:rect l="l" t="t" r="r" b="b"/>
              <a:pathLst>
                <a:path w="21600" h="21560">
                  <a:moveTo>
                    <a:pt x="10317" y="16676"/>
                  </a:moveTo>
                  <a:cubicBezTo>
                    <a:pt x="8196" y="16636"/>
                    <a:pt x="6444" y="17581"/>
                    <a:pt x="6377" y="19060"/>
                  </a:cubicBezTo>
                  <a:cubicBezTo>
                    <a:pt x="6312" y="20540"/>
                    <a:pt x="7978" y="21518"/>
                    <a:pt x="10099" y="21558"/>
                  </a:cubicBezTo>
                  <a:cubicBezTo>
                    <a:pt x="12315" y="21600"/>
                    <a:pt x="14019" y="20687"/>
                    <a:pt x="14084" y="19207"/>
                  </a:cubicBezTo>
                  <a:cubicBezTo>
                    <a:pt x="14151" y="17726"/>
                    <a:pt x="12534" y="16718"/>
                    <a:pt x="10317" y="16676"/>
                  </a:cubicBezTo>
                  <a:close/>
                  <a:moveTo>
                    <a:pt x="18416" y="1478"/>
                  </a:moveTo>
                  <a:cubicBezTo>
                    <a:pt x="16292" y="493"/>
                    <a:pt x="13626" y="0"/>
                    <a:pt x="10418" y="0"/>
                  </a:cubicBezTo>
                  <a:cubicBezTo>
                    <a:pt x="7974" y="0"/>
                    <a:pt x="5915" y="348"/>
                    <a:pt x="4238" y="1040"/>
                  </a:cubicBezTo>
                  <a:cubicBezTo>
                    <a:pt x="1583" y="2126"/>
                    <a:pt x="170" y="3968"/>
                    <a:pt x="0" y="6566"/>
                  </a:cubicBezTo>
                  <a:lnTo>
                    <a:pt x="6157" y="6566"/>
                  </a:lnTo>
                  <a:cubicBezTo>
                    <a:pt x="6157" y="5811"/>
                    <a:pt x="6500" y="5081"/>
                    <a:pt x="7187" y="4379"/>
                  </a:cubicBezTo>
                  <a:cubicBezTo>
                    <a:pt x="7873" y="3676"/>
                    <a:pt x="9039" y="3326"/>
                    <a:pt x="10682" y="3326"/>
                  </a:cubicBezTo>
                  <a:cubicBezTo>
                    <a:pt x="12355" y="3326"/>
                    <a:pt x="13505" y="3610"/>
                    <a:pt x="14135" y="4180"/>
                  </a:cubicBezTo>
                  <a:cubicBezTo>
                    <a:pt x="14768" y="4751"/>
                    <a:pt x="15082" y="5382"/>
                    <a:pt x="15082" y="6075"/>
                  </a:cubicBezTo>
                  <a:cubicBezTo>
                    <a:pt x="15082" y="6676"/>
                    <a:pt x="14611" y="7228"/>
                    <a:pt x="14046" y="7730"/>
                  </a:cubicBezTo>
                  <a:cubicBezTo>
                    <a:pt x="13734" y="8022"/>
                    <a:pt x="13324" y="8291"/>
                    <a:pt x="12815" y="8536"/>
                  </a:cubicBezTo>
                  <a:cubicBezTo>
                    <a:pt x="12815" y="8536"/>
                    <a:pt x="9476" y="9914"/>
                    <a:pt x="8009" y="11020"/>
                  </a:cubicBezTo>
                  <a:cubicBezTo>
                    <a:pt x="7160" y="11663"/>
                    <a:pt x="7083" y="12624"/>
                    <a:pt x="7007" y="14002"/>
                  </a:cubicBezTo>
                  <a:cubicBezTo>
                    <a:pt x="7003" y="14101"/>
                    <a:pt x="7061" y="14304"/>
                    <a:pt x="7595" y="14304"/>
                  </a:cubicBezTo>
                  <a:cubicBezTo>
                    <a:pt x="8128" y="14304"/>
                    <a:pt x="11909" y="14304"/>
                    <a:pt x="12384" y="14304"/>
                  </a:cubicBezTo>
                  <a:cubicBezTo>
                    <a:pt x="12860" y="14304"/>
                    <a:pt x="12958" y="14076"/>
                    <a:pt x="12965" y="13976"/>
                  </a:cubicBezTo>
                  <a:cubicBezTo>
                    <a:pt x="12996" y="13475"/>
                    <a:pt x="13086" y="13218"/>
                    <a:pt x="13227" y="12928"/>
                  </a:cubicBezTo>
                  <a:cubicBezTo>
                    <a:pt x="13496" y="12381"/>
                    <a:pt x="14227" y="11903"/>
                    <a:pt x="15050" y="11492"/>
                  </a:cubicBezTo>
                  <a:lnTo>
                    <a:pt x="16745" y="10740"/>
                  </a:lnTo>
                  <a:cubicBezTo>
                    <a:pt x="18275" y="9973"/>
                    <a:pt x="19494" y="9344"/>
                    <a:pt x="20033" y="8851"/>
                  </a:cubicBezTo>
                  <a:cubicBezTo>
                    <a:pt x="20954" y="8040"/>
                    <a:pt x="21600" y="7041"/>
                    <a:pt x="21600" y="5855"/>
                  </a:cubicBezTo>
                  <a:cubicBezTo>
                    <a:pt x="21600" y="3923"/>
                    <a:pt x="20539" y="2463"/>
                    <a:pt x="18416" y="147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640" name="Group 12"/>
          <p:cNvGrpSpPr/>
          <p:nvPr/>
        </p:nvGrpSpPr>
        <p:grpSpPr>
          <a:xfrm>
            <a:off x="1960560" y="4111560"/>
            <a:ext cx="309600" cy="309600"/>
            <a:chOff x="1960560" y="4111560"/>
            <a:chExt cx="309600" cy="309600"/>
          </a:xfrm>
        </p:grpSpPr>
        <p:sp>
          <p:nvSpPr>
            <p:cNvPr id="1641" name="Shape 2751"/>
            <p:cNvSpPr/>
            <p:nvPr/>
          </p:nvSpPr>
          <p:spPr>
            <a:xfrm>
              <a:off x="1960560" y="4111560"/>
              <a:ext cx="309600" cy="309600"/>
            </a:xfrm>
            <a:prstGeom prst="rect">
              <a:avLst/>
            </a:prstGeom>
            <a:solidFill>
              <a:srgbClr val="dcdee0"/>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42" name="Shape 2752"/>
            <p:cNvSpPr/>
            <p:nvPr/>
          </p:nvSpPr>
          <p:spPr>
            <a:xfrm>
              <a:off x="2085120" y="4212720"/>
              <a:ext cx="48960" cy="106920"/>
            </a:xfrm>
            <a:custGeom>
              <a:avLst/>
              <a:gdLst/>
              <a:ahLst/>
              <a:rect l="l" t="t" r="r" b="b"/>
              <a:pathLst>
                <a:path w="21600" h="21600">
                  <a:moveTo>
                    <a:pt x="6830" y="21600"/>
                  </a:moveTo>
                  <a:cubicBezTo>
                    <a:pt x="4348" y="21600"/>
                    <a:pt x="2527" y="20895"/>
                    <a:pt x="4266" y="17795"/>
                  </a:cubicBezTo>
                  <a:lnTo>
                    <a:pt x="7115" y="12296"/>
                  </a:lnTo>
                  <a:cubicBezTo>
                    <a:pt x="7610" y="11416"/>
                    <a:pt x="7692" y="11063"/>
                    <a:pt x="7115" y="11063"/>
                  </a:cubicBezTo>
                  <a:cubicBezTo>
                    <a:pt x="6369" y="11063"/>
                    <a:pt x="3146" y="11672"/>
                    <a:pt x="1241" y="12272"/>
                  </a:cubicBezTo>
                  <a:lnTo>
                    <a:pt x="0" y="11320"/>
                  </a:lnTo>
                  <a:cubicBezTo>
                    <a:pt x="6041" y="8959"/>
                    <a:pt x="12989" y="7575"/>
                    <a:pt x="15966" y="7575"/>
                  </a:cubicBezTo>
                  <a:cubicBezTo>
                    <a:pt x="18448" y="7575"/>
                    <a:pt x="18864" y="8950"/>
                    <a:pt x="17623" y="11063"/>
                  </a:cubicBezTo>
                  <a:lnTo>
                    <a:pt x="14360" y="16844"/>
                  </a:lnTo>
                  <a:cubicBezTo>
                    <a:pt x="13781" y="17865"/>
                    <a:pt x="14030" y="18217"/>
                    <a:pt x="14606" y="18217"/>
                  </a:cubicBezTo>
                  <a:cubicBezTo>
                    <a:pt x="15353" y="18217"/>
                    <a:pt x="17792" y="17793"/>
                    <a:pt x="20192" y="16913"/>
                  </a:cubicBezTo>
                  <a:lnTo>
                    <a:pt x="21600" y="17793"/>
                  </a:lnTo>
                  <a:cubicBezTo>
                    <a:pt x="15726" y="20541"/>
                    <a:pt x="9312" y="21600"/>
                    <a:pt x="6830" y="21600"/>
                  </a:cubicBezTo>
                  <a:close/>
                  <a:moveTo>
                    <a:pt x="16512" y="0"/>
                  </a:moveTo>
                  <a:cubicBezTo>
                    <a:pt x="19655" y="0"/>
                    <a:pt x="21227" y="986"/>
                    <a:pt x="21227" y="2115"/>
                  </a:cubicBezTo>
                  <a:cubicBezTo>
                    <a:pt x="21227" y="3523"/>
                    <a:pt x="18496" y="4826"/>
                    <a:pt x="14940" y="4826"/>
                  </a:cubicBezTo>
                  <a:cubicBezTo>
                    <a:pt x="11960" y="4826"/>
                    <a:pt x="10222" y="4016"/>
                    <a:pt x="10304" y="2678"/>
                  </a:cubicBezTo>
                  <a:cubicBezTo>
                    <a:pt x="10304" y="1550"/>
                    <a:pt x="12373" y="0"/>
                    <a:pt x="16512" y="0"/>
                  </a:cubicBezTo>
                  <a:close/>
                </a:path>
              </a:pathLst>
            </a:custGeom>
            <a:solidFill>
              <a:srgbClr val="1991ab"/>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643" name="Group 6"/>
          <p:cNvGrpSpPr/>
          <p:nvPr/>
        </p:nvGrpSpPr>
        <p:grpSpPr>
          <a:xfrm>
            <a:off x="5975280" y="4648320"/>
            <a:ext cx="287280" cy="285480"/>
            <a:chOff x="5975280" y="4648320"/>
            <a:chExt cx="287280" cy="285480"/>
          </a:xfrm>
        </p:grpSpPr>
        <p:sp>
          <p:nvSpPr>
            <p:cNvPr id="1644" name="Shape 2754"/>
            <p:cNvSpPr/>
            <p:nvPr/>
          </p:nvSpPr>
          <p:spPr>
            <a:xfrm>
              <a:off x="5975280" y="4648320"/>
              <a:ext cx="287280" cy="285480"/>
            </a:xfrm>
            <a:prstGeom prst="ellipse">
              <a:avLst/>
            </a:prstGeom>
            <a:solidFill>
              <a:srgbClr val="4175a9"/>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45" name="Shape 2755"/>
            <p:cNvSpPr/>
            <p:nvPr/>
          </p:nvSpPr>
          <p:spPr>
            <a:xfrm>
              <a:off x="6077520" y="4736520"/>
              <a:ext cx="70200" cy="108720"/>
            </a:xfrm>
            <a:custGeom>
              <a:avLst/>
              <a:gdLst/>
              <a:ahLst/>
              <a:rect l="l" t="t" r="r" b="b"/>
              <a:pathLst>
                <a:path w="21600" h="21560">
                  <a:moveTo>
                    <a:pt x="10317" y="16676"/>
                  </a:moveTo>
                  <a:cubicBezTo>
                    <a:pt x="8196" y="16636"/>
                    <a:pt x="6444" y="17581"/>
                    <a:pt x="6377" y="19060"/>
                  </a:cubicBezTo>
                  <a:cubicBezTo>
                    <a:pt x="6312" y="20540"/>
                    <a:pt x="7978" y="21518"/>
                    <a:pt x="10099" y="21558"/>
                  </a:cubicBezTo>
                  <a:cubicBezTo>
                    <a:pt x="12315" y="21600"/>
                    <a:pt x="14019" y="20687"/>
                    <a:pt x="14084" y="19207"/>
                  </a:cubicBezTo>
                  <a:cubicBezTo>
                    <a:pt x="14151" y="17726"/>
                    <a:pt x="12534" y="16718"/>
                    <a:pt x="10317" y="16676"/>
                  </a:cubicBezTo>
                  <a:close/>
                  <a:moveTo>
                    <a:pt x="18416" y="1478"/>
                  </a:moveTo>
                  <a:cubicBezTo>
                    <a:pt x="16292" y="493"/>
                    <a:pt x="13626" y="0"/>
                    <a:pt x="10418" y="0"/>
                  </a:cubicBezTo>
                  <a:cubicBezTo>
                    <a:pt x="7974" y="0"/>
                    <a:pt x="5915" y="348"/>
                    <a:pt x="4238" y="1040"/>
                  </a:cubicBezTo>
                  <a:cubicBezTo>
                    <a:pt x="1583" y="2126"/>
                    <a:pt x="170" y="3968"/>
                    <a:pt x="0" y="6566"/>
                  </a:cubicBezTo>
                  <a:lnTo>
                    <a:pt x="6157" y="6566"/>
                  </a:lnTo>
                  <a:cubicBezTo>
                    <a:pt x="6157" y="5811"/>
                    <a:pt x="6500" y="5081"/>
                    <a:pt x="7187" y="4379"/>
                  </a:cubicBezTo>
                  <a:cubicBezTo>
                    <a:pt x="7873" y="3676"/>
                    <a:pt x="9039" y="3326"/>
                    <a:pt x="10682" y="3326"/>
                  </a:cubicBezTo>
                  <a:cubicBezTo>
                    <a:pt x="12355" y="3326"/>
                    <a:pt x="13505" y="3610"/>
                    <a:pt x="14135" y="4180"/>
                  </a:cubicBezTo>
                  <a:cubicBezTo>
                    <a:pt x="14768" y="4751"/>
                    <a:pt x="15082" y="5382"/>
                    <a:pt x="15082" y="6075"/>
                  </a:cubicBezTo>
                  <a:cubicBezTo>
                    <a:pt x="15082" y="6676"/>
                    <a:pt x="14611" y="7228"/>
                    <a:pt x="14046" y="7730"/>
                  </a:cubicBezTo>
                  <a:cubicBezTo>
                    <a:pt x="13734" y="8022"/>
                    <a:pt x="13324" y="8291"/>
                    <a:pt x="12815" y="8536"/>
                  </a:cubicBezTo>
                  <a:cubicBezTo>
                    <a:pt x="12815" y="8536"/>
                    <a:pt x="9476" y="9914"/>
                    <a:pt x="8009" y="11020"/>
                  </a:cubicBezTo>
                  <a:cubicBezTo>
                    <a:pt x="7160" y="11663"/>
                    <a:pt x="7083" y="12624"/>
                    <a:pt x="7007" y="14002"/>
                  </a:cubicBezTo>
                  <a:cubicBezTo>
                    <a:pt x="7003" y="14101"/>
                    <a:pt x="7061" y="14304"/>
                    <a:pt x="7595" y="14304"/>
                  </a:cubicBezTo>
                  <a:cubicBezTo>
                    <a:pt x="8128" y="14304"/>
                    <a:pt x="11909" y="14304"/>
                    <a:pt x="12384" y="14304"/>
                  </a:cubicBezTo>
                  <a:cubicBezTo>
                    <a:pt x="12860" y="14304"/>
                    <a:pt x="12958" y="14076"/>
                    <a:pt x="12965" y="13976"/>
                  </a:cubicBezTo>
                  <a:cubicBezTo>
                    <a:pt x="12996" y="13475"/>
                    <a:pt x="13086" y="13218"/>
                    <a:pt x="13227" y="12928"/>
                  </a:cubicBezTo>
                  <a:cubicBezTo>
                    <a:pt x="13496" y="12381"/>
                    <a:pt x="14227" y="11903"/>
                    <a:pt x="15050" y="11492"/>
                  </a:cubicBezTo>
                  <a:lnTo>
                    <a:pt x="16745" y="10740"/>
                  </a:lnTo>
                  <a:cubicBezTo>
                    <a:pt x="18275" y="9973"/>
                    <a:pt x="19494" y="9344"/>
                    <a:pt x="20033" y="8851"/>
                  </a:cubicBezTo>
                  <a:cubicBezTo>
                    <a:pt x="20954" y="8040"/>
                    <a:pt x="21600" y="7041"/>
                    <a:pt x="21600" y="5855"/>
                  </a:cubicBezTo>
                  <a:cubicBezTo>
                    <a:pt x="21600" y="3923"/>
                    <a:pt x="20539" y="2463"/>
                    <a:pt x="18416" y="147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grpSp>
        <p:nvGrpSpPr>
          <p:cNvPr id="1646" name="Group 13"/>
          <p:cNvGrpSpPr/>
          <p:nvPr/>
        </p:nvGrpSpPr>
        <p:grpSpPr>
          <a:xfrm>
            <a:off x="1960560" y="5495760"/>
            <a:ext cx="309600" cy="309600"/>
            <a:chOff x="1960560" y="5495760"/>
            <a:chExt cx="309600" cy="309600"/>
          </a:xfrm>
        </p:grpSpPr>
        <p:sp>
          <p:nvSpPr>
            <p:cNvPr id="1647" name="Shape 2757"/>
            <p:cNvSpPr/>
            <p:nvPr/>
          </p:nvSpPr>
          <p:spPr>
            <a:xfrm>
              <a:off x="1960560" y="5495760"/>
              <a:ext cx="309600" cy="309600"/>
            </a:xfrm>
            <a:prstGeom prst="rect">
              <a:avLst/>
            </a:prstGeom>
            <a:solidFill>
              <a:srgbClr val="dcdee0"/>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48" name="Shape 2758"/>
            <p:cNvSpPr/>
            <p:nvPr/>
          </p:nvSpPr>
          <p:spPr>
            <a:xfrm>
              <a:off x="2085120" y="5596920"/>
              <a:ext cx="48960" cy="106920"/>
            </a:xfrm>
            <a:custGeom>
              <a:avLst/>
              <a:gdLst/>
              <a:ahLst/>
              <a:rect l="l" t="t" r="r" b="b"/>
              <a:pathLst>
                <a:path w="21600" h="21600">
                  <a:moveTo>
                    <a:pt x="6830" y="21600"/>
                  </a:moveTo>
                  <a:cubicBezTo>
                    <a:pt x="4348" y="21600"/>
                    <a:pt x="2527" y="20895"/>
                    <a:pt x="4266" y="17795"/>
                  </a:cubicBezTo>
                  <a:lnTo>
                    <a:pt x="7115" y="12296"/>
                  </a:lnTo>
                  <a:cubicBezTo>
                    <a:pt x="7610" y="11416"/>
                    <a:pt x="7692" y="11063"/>
                    <a:pt x="7115" y="11063"/>
                  </a:cubicBezTo>
                  <a:cubicBezTo>
                    <a:pt x="6369" y="11063"/>
                    <a:pt x="3146" y="11672"/>
                    <a:pt x="1241" y="12272"/>
                  </a:cubicBezTo>
                  <a:lnTo>
                    <a:pt x="0" y="11320"/>
                  </a:lnTo>
                  <a:cubicBezTo>
                    <a:pt x="6041" y="8959"/>
                    <a:pt x="12989" y="7575"/>
                    <a:pt x="15966" y="7575"/>
                  </a:cubicBezTo>
                  <a:cubicBezTo>
                    <a:pt x="18448" y="7575"/>
                    <a:pt x="18864" y="8950"/>
                    <a:pt x="17623" y="11063"/>
                  </a:cubicBezTo>
                  <a:lnTo>
                    <a:pt x="14360" y="16844"/>
                  </a:lnTo>
                  <a:cubicBezTo>
                    <a:pt x="13781" y="17865"/>
                    <a:pt x="14030" y="18217"/>
                    <a:pt x="14606" y="18217"/>
                  </a:cubicBezTo>
                  <a:cubicBezTo>
                    <a:pt x="15353" y="18217"/>
                    <a:pt x="17792" y="17793"/>
                    <a:pt x="20192" y="16913"/>
                  </a:cubicBezTo>
                  <a:lnTo>
                    <a:pt x="21600" y="17793"/>
                  </a:lnTo>
                  <a:cubicBezTo>
                    <a:pt x="15726" y="20541"/>
                    <a:pt x="9312" y="21600"/>
                    <a:pt x="6830" y="21600"/>
                  </a:cubicBezTo>
                  <a:close/>
                  <a:moveTo>
                    <a:pt x="16512" y="0"/>
                  </a:moveTo>
                  <a:cubicBezTo>
                    <a:pt x="19655" y="0"/>
                    <a:pt x="21227" y="986"/>
                    <a:pt x="21227" y="2115"/>
                  </a:cubicBezTo>
                  <a:cubicBezTo>
                    <a:pt x="21227" y="3523"/>
                    <a:pt x="18496" y="4826"/>
                    <a:pt x="14940" y="4826"/>
                  </a:cubicBezTo>
                  <a:cubicBezTo>
                    <a:pt x="11960" y="4826"/>
                    <a:pt x="10222" y="4016"/>
                    <a:pt x="10304" y="2678"/>
                  </a:cubicBezTo>
                  <a:cubicBezTo>
                    <a:pt x="10304" y="1550"/>
                    <a:pt x="12373" y="0"/>
                    <a:pt x="16512" y="0"/>
                  </a:cubicBezTo>
                  <a:close/>
                </a:path>
              </a:pathLst>
            </a:custGeom>
            <a:solidFill>
              <a:srgbClr val="4175a9"/>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grpSp>
      <p:sp>
        <p:nvSpPr>
          <p:cNvPr id="1649" name=""/>
          <p:cNvSpPr txBox="1"/>
          <p:nvPr/>
        </p:nvSpPr>
        <p:spPr>
          <a:xfrm>
            <a:off x="2209680" y="2099880"/>
            <a:ext cx="7810560" cy="291960"/>
          </a:xfrm>
          <a:prstGeom prst="rect">
            <a:avLst/>
          </a:prstGeom>
          <a:noFill/>
          <a:ln w="0">
            <a:noFill/>
          </a:ln>
        </p:spPr>
        <p:txBody>
          <a:bodyPr lIns="0" rIns="0" tIns="0" bIns="0" anchor="ctr">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Lato Heavy"/>
              </a:rPr>
              <a:t>WHY MUST TRUST YOUR COMPANY ?</a:t>
            </a:r>
            <a:endParaRPr b="0" lang="en-US" sz="1600" spc="-1" strike="noStrike">
              <a:solidFill>
                <a:srgbClr val="494949"/>
              </a:solidFill>
              <a:latin typeface="Open Sans Light"/>
            </a:endParaRPr>
          </a:p>
        </p:txBody>
      </p:sp>
      <p:sp>
        <p:nvSpPr>
          <p:cNvPr id="1650" name=""/>
          <p:cNvSpPr txBox="1"/>
          <p:nvPr/>
        </p:nvSpPr>
        <p:spPr>
          <a:xfrm>
            <a:off x="2209680" y="3593880"/>
            <a:ext cx="7810560" cy="291960"/>
          </a:xfrm>
          <a:prstGeom prst="rect">
            <a:avLst/>
          </a:prstGeom>
          <a:noFill/>
          <a:ln w="0">
            <a:noFill/>
          </a:ln>
        </p:spPr>
        <p:txBody>
          <a:bodyPr lIns="0" rIns="0" tIns="0" bIns="0" anchor="ctr">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Lato Heavy"/>
              </a:rPr>
              <a:t>WHAT WILL WE GET?</a:t>
            </a:r>
            <a:endParaRPr b="0" lang="en-US" sz="1600" spc="-1" strike="noStrike">
              <a:solidFill>
                <a:srgbClr val="494949"/>
              </a:solidFill>
              <a:latin typeface="Open Sans Light"/>
            </a:endParaRPr>
          </a:p>
        </p:txBody>
      </p:sp>
      <p:sp>
        <p:nvSpPr>
          <p:cNvPr id="1651" name=""/>
          <p:cNvSpPr txBox="1"/>
          <p:nvPr/>
        </p:nvSpPr>
        <p:spPr>
          <a:xfrm>
            <a:off x="2235240" y="4992480"/>
            <a:ext cx="7810560" cy="291960"/>
          </a:xfrm>
          <a:prstGeom prst="rect">
            <a:avLst/>
          </a:prstGeom>
          <a:noFill/>
          <a:ln w="0">
            <a:noFill/>
          </a:ln>
        </p:spPr>
        <p:txBody>
          <a:bodyPr lIns="0" rIns="0" tIns="0" bIns="0" anchor="ctr">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Lato Heavy"/>
              </a:rPr>
              <a:t>HOW ABOUT GUARANTY?</a:t>
            </a:r>
            <a:endParaRPr b="0" lang="en-US" sz="1600" spc="-1" strike="noStrike">
              <a:solidFill>
                <a:srgbClr val="494949"/>
              </a:solidFill>
              <a:latin typeface="Open Sans Light"/>
            </a:endParaRPr>
          </a:p>
        </p:txBody>
      </p:sp>
      <p:sp>
        <p:nvSpPr>
          <p:cNvPr id="1652" name="PlaceHolder 2"/>
          <p:cNvSpPr>
            <a:spLocks noGrp="1"/>
          </p:cNvSpPr>
          <p:nvPr>
            <p:ph/>
          </p:nvPr>
        </p:nvSpPr>
        <p:spPr>
          <a:xfrm>
            <a:off x="2526840" y="4128840"/>
            <a:ext cx="7164360" cy="479160"/>
          </a:xfrm>
          <a:prstGeom prst="rect">
            <a:avLst/>
          </a:prstGeom>
          <a:noFill/>
          <a:ln w="0">
            <a:noFill/>
          </a:ln>
        </p:spPr>
        <p:txBody>
          <a:bodyPr lIns="0" rIns="0" tIns="0" bIns="0" anchor="t">
            <a:normAutofit/>
          </a:bodyPr>
          <a:p>
            <a:pPr indent="0" algn="ct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you will get special bargaining and price, professional service by expert team, 24 hour in a day, 7 days .</a:t>
            </a:r>
            <a:endParaRPr b="0" lang="en-US" sz="1200" spc="-1" strike="noStrike">
              <a:solidFill>
                <a:srgbClr val="494949"/>
              </a:solidFill>
              <a:latin typeface="Open Sans Light"/>
            </a:endParaRPr>
          </a:p>
        </p:txBody>
      </p:sp>
      <p:sp>
        <p:nvSpPr>
          <p:cNvPr id="1653" name="PlaceHolder 3"/>
          <p:cNvSpPr>
            <a:spLocks noGrp="1"/>
          </p:cNvSpPr>
          <p:nvPr>
            <p:ph/>
          </p:nvPr>
        </p:nvSpPr>
        <p:spPr>
          <a:xfrm>
            <a:off x="2526840" y="5567400"/>
            <a:ext cx="7164360" cy="480960"/>
          </a:xfrm>
          <a:prstGeom prst="rect">
            <a:avLst/>
          </a:prstGeom>
          <a:noFill/>
          <a:ln w="0">
            <a:noFill/>
          </a:ln>
        </p:spPr>
        <p:txBody>
          <a:bodyPr lIns="0" rIns="0" tIns="0" bIns="0" anchor="t">
            <a:normAutofit/>
          </a:bodyPr>
          <a:p>
            <a:pPr indent="0" algn="ctr">
              <a:lnSpc>
                <a:spcPts val="1698"/>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373737"/>
                </a:solidFill>
                <a:latin typeface="Open Sans Light"/>
              </a:rPr>
              <a:t>we provide each product with different guaranty, surely, this guaranty will be better than other company. Read our costumer testimonials on our official</a:t>
            </a:r>
            <a:endParaRPr b="0" lang="en-US" sz="1200" spc="-1" strike="noStrike">
              <a:solidFill>
                <a:srgbClr val="494949"/>
              </a:solidFill>
              <a:latin typeface="Open Sans Light"/>
            </a:endParaRPr>
          </a:p>
        </p:txBody>
      </p:sp>
      <p:sp>
        <p:nvSpPr>
          <p:cNvPr id="1654" name="PlaceHolder 4"/>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QUESTION &amp; ANSWER</a:t>
            </a:r>
            <a:endParaRPr b="0" lang="en-US" sz="3600" spc="-1" strike="noStrike">
              <a:solidFill>
                <a:srgbClr val="494949"/>
              </a:solidFill>
              <a:latin typeface="Lato Heavy"/>
            </a:endParaRPr>
          </a:p>
        </p:txBody>
      </p:sp>
      <p:sp>
        <p:nvSpPr>
          <p:cNvPr id="1655" name="Text Placeholder 8"/>
          <p:cNvSpPr/>
          <p:nvPr/>
        </p:nvSpPr>
        <p:spPr>
          <a:xfrm>
            <a:off x="1523880" y="1285920"/>
            <a:ext cx="9144000" cy="247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49494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762" dur="indefinite" restart="never" nodeType="tmRoot">
          <p:childTnLst>
            <p:seq>
              <p:cTn id="1763" dur="indefinite" nodeType="mainSeq">
                <p:childTnLst>
                  <p:par>
                    <p:cTn id="1764" fill="hold">
                      <p:stCondLst>
                        <p:cond delay="0"/>
                      </p:stCondLst>
                      <p:childTnLst>
                        <p:par>
                          <p:cTn id="1765" fill="hold">
                            <p:stCondLst>
                              <p:cond delay="0"/>
                            </p:stCondLst>
                            <p:childTnLst>
                              <p:par>
                                <p:cTn id="1766" nodeType="afterEffect" fill="hold" presetClass="entr" presetID="10">
                                  <p:stCondLst>
                                    <p:cond delay="0"/>
                                  </p:stCondLst>
                                  <p:childTnLst>
                                    <p:set>
                                      <p:cBhvr>
                                        <p:cTn id="1767" dur="1" fill="hold">
                                          <p:stCondLst>
                                            <p:cond delay="0"/>
                                          </p:stCondLst>
                                        </p:cTn>
                                        <p:tgtEl>
                                          <p:spTgt spid="1631"/>
                                        </p:tgtEl>
                                        <p:attrNameLst>
                                          <p:attrName>style.visibility</p:attrName>
                                        </p:attrNameLst>
                                      </p:cBhvr>
                                      <p:to>
                                        <p:strVal val="visible"/>
                                      </p:to>
                                    </p:set>
                                    <p:animEffect filter="fade" transition="in">
                                      <p:cBhvr additive="repl">
                                        <p:cTn id="1768" dur="500"/>
                                        <p:tgtEl>
                                          <p:spTgt spid="1631"/>
                                        </p:tgtEl>
                                      </p:cBhvr>
                                    </p:animEffect>
                                  </p:childTnLst>
                                </p:cTn>
                              </p:par>
                            </p:childTnLst>
                          </p:cTn>
                        </p:par>
                        <p:par>
                          <p:cTn id="1769" fill="hold">
                            <p:stCondLst>
                              <p:cond delay="500"/>
                            </p:stCondLst>
                            <p:childTnLst>
                              <p:par>
                                <p:cTn id="1770" nodeType="afterEffect" fill="hold" presetClass="entr" presetID="22" presetSubtype="8">
                                  <p:stCondLst>
                                    <p:cond delay="0"/>
                                  </p:stCondLst>
                                  <p:childTnLst>
                                    <p:set>
                                      <p:cBhvr>
                                        <p:cTn id="1771" dur="1" fill="hold">
                                          <p:stCondLst>
                                            <p:cond delay="0"/>
                                          </p:stCondLst>
                                        </p:cTn>
                                        <p:tgtEl>
                                          <p:spTgt spid="1628"/>
                                        </p:tgtEl>
                                        <p:attrNameLst>
                                          <p:attrName>style.visibility</p:attrName>
                                        </p:attrNameLst>
                                      </p:cBhvr>
                                      <p:to>
                                        <p:strVal val="visible"/>
                                      </p:to>
                                    </p:set>
                                    <p:animEffect filter="wipe(left)" transition="in">
                                      <p:cBhvr additive="repl">
                                        <p:cTn id="1772" dur="500"/>
                                        <p:tgtEl>
                                          <p:spTgt spid="1628"/>
                                        </p:tgtEl>
                                      </p:cBhvr>
                                    </p:animEffect>
                                  </p:childTnLst>
                                </p:cTn>
                              </p:par>
                            </p:childTnLst>
                          </p:cTn>
                        </p:par>
                        <p:par>
                          <p:cTn id="1773" fill="hold">
                            <p:stCondLst>
                              <p:cond delay="1000"/>
                            </p:stCondLst>
                            <p:childTnLst>
                              <p:par>
                                <p:cTn id="1774" nodeType="afterEffect" fill="hold" presetClass="entr" presetID="22" presetSubtype="8">
                                  <p:stCondLst>
                                    <p:cond delay="0"/>
                                  </p:stCondLst>
                                  <p:childTnLst>
                                    <p:set>
                                      <p:cBhvr>
                                        <p:cTn id="1775" dur="1" fill="hold">
                                          <p:stCondLst>
                                            <p:cond delay="0"/>
                                          </p:stCondLst>
                                        </p:cTn>
                                        <p:tgtEl>
                                          <p:spTgt spid="1649">
                                            <p:txEl>
                                              <p:pRg st="0" end="0"/>
                                            </p:txEl>
                                          </p:spTgt>
                                        </p:tgtEl>
                                        <p:attrNameLst>
                                          <p:attrName>style.visibility</p:attrName>
                                        </p:attrNameLst>
                                      </p:cBhvr>
                                      <p:to>
                                        <p:strVal val="visible"/>
                                      </p:to>
                                    </p:set>
                                    <p:animEffect filter="wipe(left)" transition="in">
                                      <p:cBhvr additive="repl">
                                        <p:cTn id="1776" dur="500"/>
                                        <p:tgtEl>
                                          <p:spTgt spid="1649">
                                            <p:txEl>
                                              <p:pRg st="0" end="0"/>
                                            </p:txEl>
                                          </p:spTgt>
                                        </p:tgtEl>
                                      </p:cBhvr>
                                    </p:animEffect>
                                  </p:childTnLst>
                                </p:cTn>
                              </p:par>
                            </p:childTnLst>
                          </p:cTn>
                        </p:par>
                        <p:par>
                          <p:cTn id="1777" fill="hold">
                            <p:stCondLst>
                              <p:cond delay="1500"/>
                            </p:stCondLst>
                            <p:childTnLst>
                              <p:par>
                                <p:cTn id="1778" nodeType="afterEffect" fill="hold" presetClass="entr" presetID="53" presetSubtype="16">
                                  <p:stCondLst>
                                    <p:cond delay="0"/>
                                  </p:stCondLst>
                                  <p:childTnLst>
                                    <p:set>
                                      <p:cBhvr>
                                        <p:cTn id="1779" dur="1" fill="hold">
                                          <p:stCondLst>
                                            <p:cond delay="0"/>
                                          </p:stCondLst>
                                        </p:cTn>
                                        <p:tgtEl>
                                          <p:spTgt spid="1634"/>
                                        </p:tgtEl>
                                        <p:attrNameLst>
                                          <p:attrName>style.visibility</p:attrName>
                                        </p:attrNameLst>
                                      </p:cBhvr>
                                      <p:to>
                                        <p:strVal val="visible"/>
                                      </p:to>
                                    </p:set>
                                    <p:anim calcmode="lin" valueType="num">
                                      <p:cBhvr additive="repl">
                                        <p:cTn id="1780" dur="500" fill="hold"/>
                                        <p:tgtEl>
                                          <p:spTgt spid="1634"/>
                                        </p:tgtEl>
                                        <p:attrNameLst>
                                          <p:attrName>ppt_w</p:attrName>
                                        </p:attrNameLst>
                                      </p:cBhvr>
                                      <p:tavLst>
                                        <p:tav tm="0">
                                          <p:val>
                                            <p:fltVal val="0"/>
                                          </p:val>
                                        </p:tav>
                                        <p:tav tm="100000">
                                          <p:val>
                                            <p:strVal val="#ppt_w"/>
                                          </p:val>
                                        </p:tav>
                                      </p:tavLst>
                                    </p:anim>
                                    <p:anim calcmode="lin" valueType="num">
                                      <p:cBhvr additive="repl">
                                        <p:cTn id="1781" dur="500" fill="hold"/>
                                        <p:tgtEl>
                                          <p:spTgt spid="1634"/>
                                        </p:tgtEl>
                                        <p:attrNameLst>
                                          <p:attrName>ppt_h</p:attrName>
                                        </p:attrNameLst>
                                      </p:cBhvr>
                                      <p:tavLst>
                                        <p:tav tm="0">
                                          <p:val>
                                            <p:fltVal val="0"/>
                                          </p:val>
                                        </p:tav>
                                        <p:tav tm="100000">
                                          <p:val>
                                            <p:strVal val="#ppt_h"/>
                                          </p:val>
                                        </p:tav>
                                      </p:tavLst>
                                    </p:anim>
                                    <p:animEffect filter="fade" transition="in">
                                      <p:cBhvr additive="repl">
                                        <p:cTn id="1782" dur="500"/>
                                        <p:tgtEl>
                                          <p:spTgt spid="1634"/>
                                        </p:tgtEl>
                                      </p:cBhvr>
                                    </p:animEffect>
                                  </p:childTnLst>
                                </p:cTn>
                              </p:par>
                            </p:childTnLst>
                          </p:cTn>
                        </p:par>
                        <p:par>
                          <p:cTn id="1783" fill="hold">
                            <p:stCondLst>
                              <p:cond delay="2000"/>
                            </p:stCondLst>
                            <p:childTnLst>
                              <p:par>
                                <p:cTn id="1784" nodeType="afterEffect" fill="hold" presetClass="entr" presetID="18" presetSubtype="6">
                                  <p:stCondLst>
                                    <p:cond delay="0"/>
                                  </p:stCondLst>
                                  <p:childTnLst>
                                    <p:set>
                                      <p:cBhvr>
                                        <p:cTn id="1785" dur="1" fill="hold">
                                          <p:stCondLst>
                                            <p:cond delay="0"/>
                                          </p:stCondLst>
                                        </p:cTn>
                                        <p:tgtEl>
                                          <p:spTgt spid="1627">
                                            <p:txEl>
                                              <p:pRg st="0" end="0"/>
                                            </p:txEl>
                                          </p:spTgt>
                                        </p:tgtEl>
                                        <p:attrNameLst>
                                          <p:attrName>style.visibility</p:attrName>
                                        </p:attrNameLst>
                                      </p:cBhvr>
                                      <p:to>
                                        <p:strVal val="visible"/>
                                      </p:to>
                                    </p:set>
                                    <p:animEffect filter="strips(downRight)" transition="in">
                                      <p:cBhvr additive="repl">
                                        <p:cTn id="1786" dur="500"/>
                                        <p:tgtEl>
                                          <p:spTgt spid="1627">
                                            <p:txEl>
                                              <p:pRg st="0" end="0"/>
                                            </p:txEl>
                                          </p:spTgt>
                                        </p:tgtEl>
                                      </p:cBhvr>
                                    </p:animEffect>
                                  </p:childTnLst>
                                </p:cTn>
                              </p:par>
                            </p:childTnLst>
                          </p:cTn>
                        </p:par>
                        <p:par>
                          <p:cTn id="1787" fill="hold">
                            <p:stCondLst>
                              <p:cond delay="2500"/>
                            </p:stCondLst>
                            <p:childTnLst>
                              <p:par>
                                <p:cTn id="1788" nodeType="afterEffect" fill="hold" presetClass="entr" presetID="10">
                                  <p:stCondLst>
                                    <p:cond delay="0"/>
                                  </p:stCondLst>
                                  <p:childTnLst>
                                    <p:set>
                                      <p:cBhvr>
                                        <p:cTn id="1789" dur="1" fill="hold">
                                          <p:stCondLst>
                                            <p:cond delay="0"/>
                                          </p:stCondLst>
                                        </p:cTn>
                                        <p:tgtEl>
                                          <p:spTgt spid="1637"/>
                                        </p:tgtEl>
                                        <p:attrNameLst>
                                          <p:attrName>style.visibility</p:attrName>
                                        </p:attrNameLst>
                                      </p:cBhvr>
                                      <p:to>
                                        <p:strVal val="visible"/>
                                      </p:to>
                                    </p:set>
                                    <p:animEffect filter="fade" transition="in">
                                      <p:cBhvr additive="repl">
                                        <p:cTn id="1790" dur="500"/>
                                        <p:tgtEl>
                                          <p:spTgt spid="1637"/>
                                        </p:tgtEl>
                                      </p:cBhvr>
                                    </p:animEffect>
                                  </p:childTnLst>
                                </p:cTn>
                              </p:par>
                            </p:childTnLst>
                          </p:cTn>
                        </p:par>
                        <p:par>
                          <p:cTn id="1791" fill="hold">
                            <p:stCondLst>
                              <p:cond delay="3000"/>
                            </p:stCondLst>
                            <p:childTnLst>
                              <p:par>
                                <p:cTn id="1792" nodeType="afterEffect" fill="hold" presetClass="entr" presetID="22" presetSubtype="8">
                                  <p:stCondLst>
                                    <p:cond delay="0"/>
                                  </p:stCondLst>
                                  <p:childTnLst>
                                    <p:set>
                                      <p:cBhvr>
                                        <p:cTn id="1793" dur="1" fill="hold">
                                          <p:stCondLst>
                                            <p:cond delay="0"/>
                                          </p:stCondLst>
                                        </p:cTn>
                                        <p:tgtEl>
                                          <p:spTgt spid="1629"/>
                                        </p:tgtEl>
                                        <p:attrNameLst>
                                          <p:attrName>style.visibility</p:attrName>
                                        </p:attrNameLst>
                                      </p:cBhvr>
                                      <p:to>
                                        <p:strVal val="visible"/>
                                      </p:to>
                                    </p:set>
                                    <p:animEffect filter="wipe(left)" transition="in">
                                      <p:cBhvr additive="repl">
                                        <p:cTn id="1794" dur="500"/>
                                        <p:tgtEl>
                                          <p:spTgt spid="1629"/>
                                        </p:tgtEl>
                                      </p:cBhvr>
                                    </p:animEffect>
                                  </p:childTnLst>
                                </p:cTn>
                              </p:par>
                            </p:childTnLst>
                          </p:cTn>
                        </p:par>
                        <p:par>
                          <p:cTn id="1795" fill="hold">
                            <p:stCondLst>
                              <p:cond delay="3500"/>
                            </p:stCondLst>
                            <p:childTnLst>
                              <p:par>
                                <p:cTn id="1796" nodeType="afterEffect" fill="hold" presetClass="entr" presetID="22" presetSubtype="8">
                                  <p:stCondLst>
                                    <p:cond delay="0"/>
                                  </p:stCondLst>
                                  <p:childTnLst>
                                    <p:set>
                                      <p:cBhvr>
                                        <p:cTn id="1797" dur="1" fill="hold">
                                          <p:stCondLst>
                                            <p:cond delay="0"/>
                                          </p:stCondLst>
                                        </p:cTn>
                                        <p:tgtEl>
                                          <p:spTgt spid="1650">
                                            <p:txEl>
                                              <p:pRg st="0" end="0"/>
                                            </p:txEl>
                                          </p:spTgt>
                                        </p:tgtEl>
                                        <p:attrNameLst>
                                          <p:attrName>style.visibility</p:attrName>
                                        </p:attrNameLst>
                                      </p:cBhvr>
                                      <p:to>
                                        <p:strVal val="visible"/>
                                      </p:to>
                                    </p:set>
                                    <p:animEffect filter="wipe(left)" transition="in">
                                      <p:cBhvr additive="repl">
                                        <p:cTn id="1798" dur="500"/>
                                        <p:tgtEl>
                                          <p:spTgt spid="1650">
                                            <p:txEl>
                                              <p:pRg st="0" end="0"/>
                                            </p:txEl>
                                          </p:spTgt>
                                        </p:tgtEl>
                                      </p:cBhvr>
                                    </p:animEffect>
                                  </p:childTnLst>
                                </p:cTn>
                              </p:par>
                            </p:childTnLst>
                          </p:cTn>
                        </p:par>
                        <p:par>
                          <p:cTn id="1799" fill="hold">
                            <p:stCondLst>
                              <p:cond delay="4000"/>
                            </p:stCondLst>
                            <p:childTnLst>
                              <p:par>
                                <p:cTn id="1800" nodeType="afterEffect" fill="hold" presetClass="entr" presetID="53" presetSubtype="16">
                                  <p:stCondLst>
                                    <p:cond delay="0"/>
                                  </p:stCondLst>
                                  <p:childTnLst>
                                    <p:set>
                                      <p:cBhvr>
                                        <p:cTn id="1801" dur="1" fill="hold">
                                          <p:stCondLst>
                                            <p:cond delay="0"/>
                                          </p:stCondLst>
                                        </p:cTn>
                                        <p:tgtEl>
                                          <p:spTgt spid="1640"/>
                                        </p:tgtEl>
                                        <p:attrNameLst>
                                          <p:attrName>style.visibility</p:attrName>
                                        </p:attrNameLst>
                                      </p:cBhvr>
                                      <p:to>
                                        <p:strVal val="visible"/>
                                      </p:to>
                                    </p:set>
                                    <p:anim calcmode="lin" valueType="num">
                                      <p:cBhvr additive="repl">
                                        <p:cTn id="1802" dur="500" fill="hold"/>
                                        <p:tgtEl>
                                          <p:spTgt spid="1640"/>
                                        </p:tgtEl>
                                        <p:attrNameLst>
                                          <p:attrName>ppt_w</p:attrName>
                                        </p:attrNameLst>
                                      </p:cBhvr>
                                      <p:tavLst>
                                        <p:tav tm="0">
                                          <p:val>
                                            <p:fltVal val="0"/>
                                          </p:val>
                                        </p:tav>
                                        <p:tav tm="100000">
                                          <p:val>
                                            <p:strVal val="#ppt_w"/>
                                          </p:val>
                                        </p:tav>
                                      </p:tavLst>
                                    </p:anim>
                                    <p:anim calcmode="lin" valueType="num">
                                      <p:cBhvr additive="repl">
                                        <p:cTn id="1803" dur="500" fill="hold"/>
                                        <p:tgtEl>
                                          <p:spTgt spid="1640"/>
                                        </p:tgtEl>
                                        <p:attrNameLst>
                                          <p:attrName>ppt_h</p:attrName>
                                        </p:attrNameLst>
                                      </p:cBhvr>
                                      <p:tavLst>
                                        <p:tav tm="0">
                                          <p:val>
                                            <p:fltVal val="0"/>
                                          </p:val>
                                        </p:tav>
                                        <p:tav tm="100000">
                                          <p:val>
                                            <p:strVal val="#ppt_h"/>
                                          </p:val>
                                        </p:tav>
                                      </p:tavLst>
                                    </p:anim>
                                    <p:animEffect filter="fade" transition="in">
                                      <p:cBhvr additive="repl">
                                        <p:cTn id="1804" dur="500"/>
                                        <p:tgtEl>
                                          <p:spTgt spid="1640"/>
                                        </p:tgtEl>
                                      </p:cBhvr>
                                    </p:animEffect>
                                  </p:childTnLst>
                                </p:cTn>
                              </p:par>
                            </p:childTnLst>
                          </p:cTn>
                        </p:par>
                        <p:par>
                          <p:cTn id="1805" fill="hold">
                            <p:stCondLst>
                              <p:cond delay="4500"/>
                            </p:stCondLst>
                            <p:childTnLst>
                              <p:par>
                                <p:cTn id="1806" nodeType="afterEffect" fill="hold" presetClass="entr" presetID="18" presetSubtype="6">
                                  <p:stCondLst>
                                    <p:cond delay="0"/>
                                  </p:stCondLst>
                                  <p:childTnLst>
                                    <p:set>
                                      <p:cBhvr>
                                        <p:cTn id="1807" dur="1" fill="hold">
                                          <p:stCondLst>
                                            <p:cond delay="0"/>
                                          </p:stCondLst>
                                        </p:cTn>
                                        <p:tgtEl>
                                          <p:spTgt spid="1652">
                                            <p:txEl>
                                              <p:pRg st="0" end="0"/>
                                            </p:txEl>
                                          </p:spTgt>
                                        </p:tgtEl>
                                        <p:attrNameLst>
                                          <p:attrName>style.visibility</p:attrName>
                                        </p:attrNameLst>
                                      </p:cBhvr>
                                      <p:to>
                                        <p:strVal val="visible"/>
                                      </p:to>
                                    </p:set>
                                    <p:animEffect filter="strips(downRight)" transition="in">
                                      <p:cBhvr additive="repl">
                                        <p:cTn id="1808" dur="500"/>
                                        <p:tgtEl>
                                          <p:spTgt spid="1652">
                                            <p:txEl>
                                              <p:pRg st="0" end="0"/>
                                            </p:txEl>
                                          </p:spTgt>
                                        </p:tgtEl>
                                      </p:cBhvr>
                                    </p:animEffect>
                                  </p:childTnLst>
                                </p:cTn>
                              </p:par>
                            </p:childTnLst>
                          </p:cTn>
                        </p:par>
                        <p:par>
                          <p:cTn id="1809" fill="hold">
                            <p:stCondLst>
                              <p:cond delay="5000"/>
                            </p:stCondLst>
                            <p:childTnLst>
                              <p:par>
                                <p:cTn id="1810" nodeType="afterEffect" fill="hold" presetClass="entr" presetID="10">
                                  <p:stCondLst>
                                    <p:cond delay="0"/>
                                  </p:stCondLst>
                                  <p:childTnLst>
                                    <p:set>
                                      <p:cBhvr>
                                        <p:cTn id="1811" dur="1" fill="hold">
                                          <p:stCondLst>
                                            <p:cond delay="0"/>
                                          </p:stCondLst>
                                        </p:cTn>
                                        <p:tgtEl>
                                          <p:spTgt spid="1643"/>
                                        </p:tgtEl>
                                        <p:attrNameLst>
                                          <p:attrName>style.visibility</p:attrName>
                                        </p:attrNameLst>
                                      </p:cBhvr>
                                      <p:to>
                                        <p:strVal val="visible"/>
                                      </p:to>
                                    </p:set>
                                    <p:animEffect filter="fade" transition="in">
                                      <p:cBhvr additive="repl">
                                        <p:cTn id="1812" dur="500"/>
                                        <p:tgtEl>
                                          <p:spTgt spid="1643"/>
                                        </p:tgtEl>
                                      </p:cBhvr>
                                    </p:animEffect>
                                  </p:childTnLst>
                                </p:cTn>
                              </p:par>
                            </p:childTnLst>
                          </p:cTn>
                        </p:par>
                        <p:par>
                          <p:cTn id="1813" fill="hold">
                            <p:stCondLst>
                              <p:cond delay="5500"/>
                            </p:stCondLst>
                            <p:childTnLst>
                              <p:par>
                                <p:cTn id="1814" nodeType="afterEffect" fill="hold" presetClass="entr" presetID="22" presetSubtype="8">
                                  <p:stCondLst>
                                    <p:cond delay="0"/>
                                  </p:stCondLst>
                                  <p:childTnLst>
                                    <p:set>
                                      <p:cBhvr>
                                        <p:cTn id="1815" dur="1" fill="hold">
                                          <p:stCondLst>
                                            <p:cond delay="0"/>
                                          </p:stCondLst>
                                        </p:cTn>
                                        <p:tgtEl>
                                          <p:spTgt spid="1630"/>
                                        </p:tgtEl>
                                        <p:attrNameLst>
                                          <p:attrName>style.visibility</p:attrName>
                                        </p:attrNameLst>
                                      </p:cBhvr>
                                      <p:to>
                                        <p:strVal val="visible"/>
                                      </p:to>
                                    </p:set>
                                    <p:animEffect filter="wipe(left)" transition="in">
                                      <p:cBhvr additive="repl">
                                        <p:cTn id="1816" dur="500"/>
                                        <p:tgtEl>
                                          <p:spTgt spid="1630"/>
                                        </p:tgtEl>
                                      </p:cBhvr>
                                    </p:animEffect>
                                  </p:childTnLst>
                                </p:cTn>
                              </p:par>
                            </p:childTnLst>
                          </p:cTn>
                        </p:par>
                        <p:par>
                          <p:cTn id="1817" fill="hold">
                            <p:stCondLst>
                              <p:cond delay="6000"/>
                            </p:stCondLst>
                            <p:childTnLst>
                              <p:par>
                                <p:cTn id="1818" nodeType="afterEffect" fill="hold" presetClass="entr" presetID="22" presetSubtype="8">
                                  <p:stCondLst>
                                    <p:cond delay="0"/>
                                  </p:stCondLst>
                                  <p:childTnLst>
                                    <p:set>
                                      <p:cBhvr>
                                        <p:cTn id="1819" dur="1" fill="hold">
                                          <p:stCondLst>
                                            <p:cond delay="0"/>
                                          </p:stCondLst>
                                        </p:cTn>
                                        <p:tgtEl>
                                          <p:spTgt spid="1651">
                                            <p:txEl>
                                              <p:pRg st="0" end="0"/>
                                            </p:txEl>
                                          </p:spTgt>
                                        </p:tgtEl>
                                        <p:attrNameLst>
                                          <p:attrName>style.visibility</p:attrName>
                                        </p:attrNameLst>
                                      </p:cBhvr>
                                      <p:to>
                                        <p:strVal val="visible"/>
                                      </p:to>
                                    </p:set>
                                    <p:animEffect filter="wipe(left)" transition="in">
                                      <p:cBhvr additive="repl">
                                        <p:cTn id="1820" dur="500"/>
                                        <p:tgtEl>
                                          <p:spTgt spid="1651">
                                            <p:txEl>
                                              <p:pRg st="0" end="0"/>
                                            </p:txEl>
                                          </p:spTgt>
                                        </p:tgtEl>
                                      </p:cBhvr>
                                    </p:animEffect>
                                  </p:childTnLst>
                                </p:cTn>
                              </p:par>
                            </p:childTnLst>
                          </p:cTn>
                        </p:par>
                        <p:par>
                          <p:cTn id="1821" fill="hold">
                            <p:stCondLst>
                              <p:cond delay="6500"/>
                            </p:stCondLst>
                            <p:childTnLst>
                              <p:par>
                                <p:cTn id="1822" nodeType="afterEffect" fill="hold" presetClass="entr" presetID="53" presetSubtype="16">
                                  <p:stCondLst>
                                    <p:cond delay="0"/>
                                  </p:stCondLst>
                                  <p:childTnLst>
                                    <p:set>
                                      <p:cBhvr>
                                        <p:cTn id="1823" dur="1" fill="hold">
                                          <p:stCondLst>
                                            <p:cond delay="0"/>
                                          </p:stCondLst>
                                        </p:cTn>
                                        <p:tgtEl>
                                          <p:spTgt spid="1646"/>
                                        </p:tgtEl>
                                        <p:attrNameLst>
                                          <p:attrName>style.visibility</p:attrName>
                                        </p:attrNameLst>
                                      </p:cBhvr>
                                      <p:to>
                                        <p:strVal val="visible"/>
                                      </p:to>
                                    </p:set>
                                    <p:anim calcmode="lin" valueType="num">
                                      <p:cBhvr additive="repl">
                                        <p:cTn id="1824" dur="500" fill="hold"/>
                                        <p:tgtEl>
                                          <p:spTgt spid="1646"/>
                                        </p:tgtEl>
                                        <p:attrNameLst>
                                          <p:attrName>ppt_w</p:attrName>
                                        </p:attrNameLst>
                                      </p:cBhvr>
                                      <p:tavLst>
                                        <p:tav tm="0">
                                          <p:val>
                                            <p:fltVal val="0"/>
                                          </p:val>
                                        </p:tav>
                                        <p:tav tm="100000">
                                          <p:val>
                                            <p:strVal val="#ppt_w"/>
                                          </p:val>
                                        </p:tav>
                                      </p:tavLst>
                                    </p:anim>
                                    <p:anim calcmode="lin" valueType="num">
                                      <p:cBhvr additive="repl">
                                        <p:cTn id="1825" dur="500" fill="hold"/>
                                        <p:tgtEl>
                                          <p:spTgt spid="1646"/>
                                        </p:tgtEl>
                                        <p:attrNameLst>
                                          <p:attrName>ppt_h</p:attrName>
                                        </p:attrNameLst>
                                      </p:cBhvr>
                                      <p:tavLst>
                                        <p:tav tm="0">
                                          <p:val>
                                            <p:fltVal val="0"/>
                                          </p:val>
                                        </p:tav>
                                        <p:tav tm="100000">
                                          <p:val>
                                            <p:strVal val="#ppt_h"/>
                                          </p:val>
                                        </p:tav>
                                      </p:tavLst>
                                    </p:anim>
                                    <p:animEffect filter="fade" transition="in">
                                      <p:cBhvr additive="repl">
                                        <p:cTn id="1826" dur="500"/>
                                        <p:tgtEl>
                                          <p:spTgt spid="1646"/>
                                        </p:tgtEl>
                                      </p:cBhvr>
                                    </p:animEffect>
                                  </p:childTnLst>
                                </p:cTn>
                              </p:par>
                            </p:childTnLst>
                          </p:cTn>
                        </p:par>
                        <p:par>
                          <p:cTn id="1827" fill="hold">
                            <p:stCondLst>
                              <p:cond delay="7000"/>
                            </p:stCondLst>
                            <p:childTnLst>
                              <p:par>
                                <p:cTn id="1828" nodeType="afterEffect" fill="hold" presetClass="entr" presetID="18" presetSubtype="6">
                                  <p:stCondLst>
                                    <p:cond delay="0"/>
                                  </p:stCondLst>
                                  <p:childTnLst>
                                    <p:set>
                                      <p:cBhvr>
                                        <p:cTn id="1829" dur="1" fill="hold">
                                          <p:stCondLst>
                                            <p:cond delay="0"/>
                                          </p:stCondLst>
                                        </p:cTn>
                                        <p:tgtEl>
                                          <p:spTgt spid="1653">
                                            <p:txEl>
                                              <p:pRg st="0" end="0"/>
                                            </p:txEl>
                                          </p:spTgt>
                                        </p:tgtEl>
                                        <p:attrNameLst>
                                          <p:attrName>style.visibility</p:attrName>
                                        </p:attrNameLst>
                                      </p:cBhvr>
                                      <p:to>
                                        <p:strVal val="visible"/>
                                      </p:to>
                                    </p:set>
                                    <p:animEffect filter="strips(downRight)" transition="in">
                                      <p:cBhvr additive="repl">
                                        <p:cTn id="1830" dur="500"/>
                                        <p:tgtEl>
                                          <p:spTgt spid="1653">
                                            <p:txEl>
                                              <p:pRg st="0" end="0"/>
                                            </p:txEl>
                                          </p:spTgt>
                                        </p:tgtEl>
                                      </p:cBhvr>
                                    </p:animEffect>
                                  </p:childTnLst>
                                </p:cTn>
                              </p:par>
                            </p:childTnLst>
                          </p:cTn>
                        </p:par>
                        <p:par>
                          <p:cTn id="1831" fill="hold">
                            <p:stCondLst>
                              <p:cond delay="7500"/>
                            </p:stCondLst>
                            <p:childTnLst>
                              <p:par>
                                <p:cTn id="1832" nodeType="afterEffect" fill="hold" presetClass="entr" presetID="22" presetSubtype="8">
                                  <p:stCondLst>
                                    <p:cond delay="0"/>
                                  </p:stCondLst>
                                  <p:childTnLst>
                                    <p:set>
                                      <p:cBhvr>
                                        <p:cTn id="1833" dur="1" fill="hold">
                                          <p:stCondLst>
                                            <p:cond delay="0"/>
                                          </p:stCondLst>
                                        </p:cTn>
                                        <p:tgtEl>
                                          <p:spTgt spid="1655">
                                            <p:txEl>
                                              <p:pRg st="0" end="0"/>
                                            </p:txEl>
                                          </p:spTgt>
                                        </p:tgtEl>
                                        <p:attrNameLst>
                                          <p:attrName>style.visibility</p:attrName>
                                        </p:attrNameLst>
                                      </p:cBhvr>
                                      <p:to>
                                        <p:strVal val="visible"/>
                                      </p:to>
                                    </p:set>
                                    <p:animEffect filter="wipe(left)" transition="in">
                                      <p:cBhvr additive="repl">
                                        <p:cTn id="1834" dur="500"/>
                                        <p:tgtEl>
                                          <p:spTgt spid="16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p:nvPr>
        </p:nvSpPr>
        <p:spPr>
          <a:xfrm>
            <a:off x="3686040" y="4933440"/>
            <a:ext cx="1812960" cy="366840"/>
          </a:xfrm>
          <a:prstGeom prst="rect">
            <a:avLst/>
          </a:prstGeom>
          <a:noFill/>
          <a:ln w="0">
            <a:noFill/>
          </a:ln>
        </p:spPr>
        <p:txBody>
          <a:bodyPr lIns="0" rIns="0" anchor="b">
            <a:normAutofit/>
          </a:bodyPr>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0000 Sample Avenue Test Road</a:t>
            </a:r>
            <a:endParaRPr b="0" lang="en-US" sz="900" spc="-1" strike="noStrike">
              <a:solidFill>
                <a:srgbClr val="494949"/>
              </a:solidFill>
              <a:latin typeface="Open Sans Light"/>
            </a:endParaRPr>
          </a:p>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Some Country 000000</a:t>
            </a:r>
            <a:endParaRPr b="0" lang="en-US" sz="900" spc="-1" strike="noStrike">
              <a:solidFill>
                <a:srgbClr val="494949"/>
              </a:solidFill>
              <a:latin typeface="Open Sans Light"/>
            </a:endParaRPr>
          </a:p>
        </p:txBody>
      </p:sp>
      <p:sp>
        <p:nvSpPr>
          <p:cNvPr id="1657" name="Shape 3174"/>
          <p:cNvSpPr/>
          <p:nvPr/>
        </p:nvSpPr>
        <p:spPr>
          <a:xfrm>
            <a:off x="7880400" y="4633920"/>
            <a:ext cx="272880" cy="219240"/>
          </a:xfrm>
          <a:custGeom>
            <a:avLst/>
            <a:gdLst/>
            <a:ahLst/>
            <a:rect l="l" t="t" r="r" b="b"/>
            <a:pathLst>
              <a:path w="19314" h="19315">
                <a:moveTo>
                  <a:pt x="11140" y="11141"/>
                </a:moveTo>
                <a:cubicBezTo>
                  <a:pt x="9229" y="13052"/>
                  <a:pt x="7015" y="14879"/>
                  <a:pt x="6140" y="14004"/>
                </a:cubicBezTo>
                <a:cubicBezTo>
                  <a:pt x="4888" y="12751"/>
                  <a:pt x="4115" y="11660"/>
                  <a:pt x="1355" y="13880"/>
                </a:cubicBezTo>
                <a:cubicBezTo>
                  <a:pt x="-1407" y="16100"/>
                  <a:pt x="714" y="17579"/>
                  <a:pt x="1927" y="18793"/>
                </a:cubicBezTo>
                <a:cubicBezTo>
                  <a:pt x="3327" y="20193"/>
                  <a:pt x="8547" y="18867"/>
                  <a:pt x="13707" y="13708"/>
                </a:cubicBezTo>
                <a:cubicBezTo>
                  <a:pt x="18866" y="8548"/>
                  <a:pt x="20193" y="3327"/>
                  <a:pt x="18792" y="1927"/>
                </a:cubicBezTo>
                <a:cubicBezTo>
                  <a:pt x="17578" y="713"/>
                  <a:pt x="16098" y="-1407"/>
                  <a:pt x="13880" y="1355"/>
                </a:cubicBezTo>
                <a:cubicBezTo>
                  <a:pt x="11661" y="4115"/>
                  <a:pt x="12751" y="4888"/>
                  <a:pt x="14004" y="6141"/>
                </a:cubicBezTo>
                <a:cubicBezTo>
                  <a:pt x="14879" y="7015"/>
                  <a:pt x="13052" y="9228"/>
                  <a:pt x="11140" y="11141"/>
                </a:cubicBezTo>
                <a:close/>
              </a:path>
            </a:pathLst>
          </a:custGeom>
          <a:solidFill>
            <a:srgbClr val="00a09c"/>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1658" name="Shape 3177"/>
          <p:cNvSpPr/>
          <p:nvPr/>
        </p:nvSpPr>
        <p:spPr>
          <a:xfrm>
            <a:off x="5838840" y="4738680"/>
            <a:ext cx="272880" cy="176400"/>
          </a:xfrm>
          <a:custGeom>
            <a:avLst/>
            <a:gdLst/>
            <a:ahLst/>
            <a:rect l="l" t="t" r="r" b="b"/>
            <a:pathLst>
              <a:path w="20779" h="21600">
                <a:moveTo>
                  <a:pt x="20331" y="5746"/>
                </a:moveTo>
                <a:cubicBezTo>
                  <a:pt x="19692" y="6285"/>
                  <a:pt x="11827" y="12917"/>
                  <a:pt x="11435" y="13248"/>
                </a:cubicBezTo>
                <a:cubicBezTo>
                  <a:pt x="11043" y="13577"/>
                  <a:pt x="10769" y="13620"/>
                  <a:pt x="10390" y="13620"/>
                </a:cubicBezTo>
                <a:cubicBezTo>
                  <a:pt x="10011" y="13620"/>
                  <a:pt x="9735" y="13577"/>
                  <a:pt x="9343" y="13248"/>
                </a:cubicBezTo>
                <a:cubicBezTo>
                  <a:pt x="8951" y="12917"/>
                  <a:pt x="1088" y="6285"/>
                  <a:pt x="448" y="5746"/>
                </a:cubicBezTo>
                <a:cubicBezTo>
                  <a:pt x="-3" y="5367"/>
                  <a:pt x="0" y="5811"/>
                  <a:pt x="0" y="6155"/>
                </a:cubicBezTo>
                <a:cubicBezTo>
                  <a:pt x="0" y="6498"/>
                  <a:pt x="0" y="19814"/>
                  <a:pt x="0" y="19814"/>
                </a:cubicBezTo>
                <a:cubicBezTo>
                  <a:pt x="0" y="20594"/>
                  <a:pt x="645" y="21600"/>
                  <a:pt x="1145" y="21600"/>
                </a:cubicBezTo>
                <a:lnTo>
                  <a:pt x="19633" y="21600"/>
                </a:lnTo>
                <a:cubicBezTo>
                  <a:pt x="20134" y="21600"/>
                  <a:pt x="20779" y="20594"/>
                  <a:pt x="20779" y="19814"/>
                </a:cubicBezTo>
                <a:cubicBezTo>
                  <a:pt x="20779" y="19814"/>
                  <a:pt x="20779" y="6498"/>
                  <a:pt x="20779" y="6155"/>
                </a:cubicBezTo>
                <a:cubicBezTo>
                  <a:pt x="20779" y="5811"/>
                  <a:pt x="20783" y="5367"/>
                  <a:pt x="20331" y="5746"/>
                </a:cubicBezTo>
                <a:close/>
                <a:moveTo>
                  <a:pt x="687" y="2021"/>
                </a:moveTo>
                <a:cubicBezTo>
                  <a:pt x="1250" y="2510"/>
                  <a:pt x="9053" y="9271"/>
                  <a:pt x="9343" y="9524"/>
                </a:cubicBezTo>
                <a:cubicBezTo>
                  <a:pt x="9634" y="9775"/>
                  <a:pt x="10011" y="9897"/>
                  <a:pt x="10390" y="9897"/>
                </a:cubicBezTo>
                <a:cubicBezTo>
                  <a:pt x="10769" y="9897"/>
                  <a:pt x="11145" y="9775"/>
                  <a:pt x="11435" y="9524"/>
                </a:cubicBezTo>
                <a:cubicBezTo>
                  <a:pt x="11726" y="9271"/>
                  <a:pt x="19529" y="2510"/>
                  <a:pt x="20093" y="2021"/>
                </a:cubicBezTo>
                <a:cubicBezTo>
                  <a:pt x="20656" y="1534"/>
                  <a:pt x="21190" y="0"/>
                  <a:pt x="20154" y="0"/>
                </a:cubicBezTo>
                <a:lnTo>
                  <a:pt x="624" y="0"/>
                </a:lnTo>
                <a:cubicBezTo>
                  <a:pt x="-410" y="0"/>
                  <a:pt x="122" y="1534"/>
                  <a:pt x="687" y="2021"/>
                </a:cubicBezTo>
                <a:close/>
              </a:path>
            </a:pathLst>
          </a:custGeom>
          <a:solidFill>
            <a:srgbClr val="00a09c"/>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1659" name="Shape 3180"/>
          <p:cNvSpPr/>
          <p:nvPr/>
        </p:nvSpPr>
        <p:spPr>
          <a:xfrm>
            <a:off x="3686040" y="4597560"/>
            <a:ext cx="273240" cy="244440"/>
          </a:xfrm>
          <a:custGeom>
            <a:avLst/>
            <a:gdLst/>
            <a:ahLst/>
            <a:rect l="l" t="t" r="r" b="b"/>
            <a:pathLst>
              <a:path w="21177" h="21458">
                <a:moveTo>
                  <a:pt x="20906" y="11130"/>
                </a:moveTo>
                <a:lnTo>
                  <a:pt x="11466" y="425"/>
                </a:lnTo>
                <a:cubicBezTo>
                  <a:pt x="10983" y="-142"/>
                  <a:pt x="10193" y="-142"/>
                  <a:pt x="9710" y="425"/>
                </a:cubicBezTo>
                <a:lnTo>
                  <a:pt x="271" y="11130"/>
                </a:lnTo>
                <a:cubicBezTo>
                  <a:pt x="-212" y="11696"/>
                  <a:pt x="-32" y="12160"/>
                  <a:pt x="671" y="12160"/>
                </a:cubicBezTo>
                <a:lnTo>
                  <a:pt x="2638" y="12160"/>
                </a:lnTo>
                <a:lnTo>
                  <a:pt x="2638" y="20381"/>
                </a:lnTo>
                <a:cubicBezTo>
                  <a:pt x="2638" y="20976"/>
                  <a:pt x="2661" y="21458"/>
                  <a:pt x="3609" y="21458"/>
                </a:cubicBezTo>
                <a:lnTo>
                  <a:pt x="8190" y="21458"/>
                </a:lnTo>
                <a:lnTo>
                  <a:pt x="8190" y="13214"/>
                </a:lnTo>
                <a:lnTo>
                  <a:pt x="12986" y="13214"/>
                </a:lnTo>
                <a:lnTo>
                  <a:pt x="12986" y="21458"/>
                </a:lnTo>
                <a:lnTo>
                  <a:pt x="17795" y="21458"/>
                </a:lnTo>
                <a:cubicBezTo>
                  <a:pt x="18518" y="21458"/>
                  <a:pt x="18538" y="20976"/>
                  <a:pt x="18538" y="20381"/>
                </a:cubicBezTo>
                <a:lnTo>
                  <a:pt x="18538" y="12160"/>
                </a:lnTo>
                <a:lnTo>
                  <a:pt x="20505" y="12160"/>
                </a:lnTo>
                <a:cubicBezTo>
                  <a:pt x="21208" y="12160"/>
                  <a:pt x="21388" y="11696"/>
                  <a:pt x="20906" y="11130"/>
                </a:cubicBezTo>
                <a:close/>
              </a:path>
            </a:pathLst>
          </a:custGeom>
          <a:solidFill>
            <a:srgbClr val="00a09c"/>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1660" name="PlaceHolder 2"/>
          <p:cNvSpPr>
            <a:spLocks noGrp="1"/>
          </p:cNvSpPr>
          <p:nvPr>
            <p:ph/>
          </p:nvPr>
        </p:nvSpPr>
        <p:spPr>
          <a:xfrm>
            <a:off x="7880400" y="4906800"/>
            <a:ext cx="1488960" cy="393840"/>
          </a:xfrm>
          <a:prstGeom prst="rect">
            <a:avLst/>
          </a:prstGeom>
          <a:noFill/>
          <a:ln w="0">
            <a:noFill/>
          </a:ln>
        </p:spPr>
        <p:txBody>
          <a:bodyPr lIns="0" rIns="0" anchor="b">
            <a:normAutofit/>
          </a:bodyPr>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012-3456789</a:t>
            </a:r>
            <a:endParaRPr b="0" lang="en-US" sz="900" spc="-1" strike="noStrike">
              <a:solidFill>
                <a:srgbClr val="494949"/>
              </a:solidFill>
              <a:latin typeface="Open Sans Light"/>
            </a:endParaRPr>
          </a:p>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0987-654321-23456</a:t>
            </a:r>
            <a:endParaRPr b="0" lang="en-US" sz="900" spc="-1" strike="noStrike">
              <a:solidFill>
                <a:srgbClr val="494949"/>
              </a:solidFill>
              <a:latin typeface="Open Sans Light"/>
            </a:endParaRPr>
          </a:p>
        </p:txBody>
      </p:sp>
      <p:sp>
        <p:nvSpPr>
          <p:cNvPr id="1661" name="PlaceHolder 3"/>
          <p:cNvSpPr>
            <a:spLocks noGrp="1"/>
          </p:cNvSpPr>
          <p:nvPr>
            <p:ph/>
          </p:nvPr>
        </p:nvSpPr>
        <p:spPr>
          <a:xfrm>
            <a:off x="5838840" y="4933440"/>
            <a:ext cx="1727280" cy="366840"/>
          </a:xfrm>
          <a:prstGeom prst="rect">
            <a:avLst/>
          </a:prstGeom>
          <a:noFill/>
          <a:ln w="0">
            <a:noFill/>
          </a:ln>
        </p:spPr>
        <p:txBody>
          <a:bodyPr lIns="0" rIns="0" anchor="b">
            <a:normAutofit/>
          </a:bodyPr>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someone@yahoomail.com</a:t>
            </a:r>
            <a:endParaRPr b="0" lang="en-US" sz="900" spc="-1" strike="noStrike">
              <a:solidFill>
                <a:srgbClr val="494949"/>
              </a:solidFill>
              <a:latin typeface="Open Sans Light"/>
            </a:endParaRPr>
          </a:p>
          <a:p>
            <a:pPr indent="0">
              <a:lnSpc>
                <a:spcPts val="99"/>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900" spc="-1" strike="noStrike">
                <a:solidFill>
                  <a:srgbClr val="a6a6a6"/>
                </a:solidFill>
                <a:latin typeface="Open Sans Light"/>
              </a:rPr>
              <a:t>testemailgoeshere@gmail.com</a:t>
            </a:r>
            <a:endParaRPr b="0" lang="en-US" sz="900" spc="-1" strike="noStrike">
              <a:solidFill>
                <a:srgbClr val="494949"/>
              </a:solidFill>
              <a:latin typeface="Open Sans Light"/>
            </a:endParaRPr>
          </a:p>
        </p:txBody>
      </p:sp>
      <p:sp>
        <p:nvSpPr>
          <p:cNvPr id="1662" name="PlaceHolder 4"/>
          <p:cNvSpPr>
            <a:spLocks noGrp="1"/>
          </p:cNvSpPr>
          <p:nvPr>
            <p:ph type="title"/>
          </p:nvPr>
        </p:nvSpPr>
        <p:spPr>
          <a:xfrm>
            <a:off x="1066680" y="2199960"/>
            <a:ext cx="10058400" cy="51732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THANKS FOR YOUR TIME</a:t>
            </a:r>
            <a:endParaRPr b="0" lang="en-US" sz="3600" spc="-1" strike="noStrike">
              <a:solidFill>
                <a:srgbClr val="494949"/>
              </a:solidFill>
              <a:latin typeface="Lato Heavy"/>
            </a:endParaRPr>
          </a:p>
        </p:txBody>
      </p:sp>
      <p:sp>
        <p:nvSpPr>
          <p:cNvPr id="1663" name="PlaceHolder 5"/>
          <p:cNvSpPr>
            <a:spLocks noGrp="1"/>
          </p:cNvSpPr>
          <p:nvPr>
            <p:ph type="subTitle"/>
          </p:nvPr>
        </p:nvSpPr>
        <p:spPr>
          <a:xfrm>
            <a:off x="1066680" y="2741400"/>
            <a:ext cx="10058400" cy="261720"/>
          </a:xfrm>
          <a:prstGeom prst="rect">
            <a:avLst/>
          </a:prstGeom>
          <a:noFill/>
          <a:ln w="0">
            <a:noFill/>
          </a:ln>
        </p:spPr>
        <p:txBody>
          <a:bodyPr anchor="t">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494949"/>
                </a:solidFill>
                <a:latin typeface="Open Sans Light"/>
              </a:rPr>
              <a:t>Your success start beyond this point.</a:t>
            </a:r>
            <a:endParaRPr b="0" lang="en-US" sz="1000" spc="-1" strike="noStrike">
              <a:solidFill>
                <a:srgbClr val="494949"/>
              </a:solidFill>
              <a:latin typeface="Open Sans Light"/>
            </a:endParaRPr>
          </a:p>
        </p:txBody>
      </p:sp>
      <p:sp>
        <p:nvSpPr>
          <p:cNvPr id="1664" name="Rectangle 1"/>
          <p:cNvSpPr/>
          <p:nvPr/>
        </p:nvSpPr>
        <p:spPr>
          <a:xfrm>
            <a:off x="5688000" y="1116000"/>
            <a:ext cx="800280" cy="184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1665" name="Text Placeholder 1"/>
          <p:cNvSpPr/>
          <p:nvPr/>
        </p:nvSpPr>
        <p:spPr>
          <a:xfrm>
            <a:off x="3262320" y="3444840"/>
            <a:ext cx="5649840" cy="7318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a6a6a6"/>
                </a:solidFill>
                <a:latin typeface="Open Sans Light"/>
              </a:rPr>
              <a:t>conseSed ut perspiciatis unde omnis iste natus error sit voluptatem accusantium doloremque laudantium, totam rem aperiam, eaque ipsa quae ab illoconseSed ut perspiciatis </a:t>
            </a:r>
            <a:br>
              <a:rPr sz="1000"/>
            </a:br>
            <a:r>
              <a:rPr b="0" lang="id-ID" sz="1000" spc="-1" strike="noStrike">
                <a:solidFill>
                  <a:srgbClr val="a6a6a6"/>
                </a:solidFill>
                <a:latin typeface="Open Sans Light"/>
              </a:rPr>
              <a:t>unde omnis iste natus error sit voluptatem accusantium doloremque</a:t>
            </a:r>
            <a:br>
              <a:rPr sz="1000"/>
            </a:br>
            <a:r>
              <a:rPr b="0" lang="id-ID" sz="1000" spc="-1" strike="noStrike">
                <a:solidFill>
                  <a:srgbClr val="a6a6a6"/>
                </a:solidFill>
                <a:latin typeface="Open Sans Light"/>
              </a:rPr>
              <a:t>laudantium, totam rem aperiam, eaque ipsa quae</a:t>
            </a:r>
            <a:r>
              <a:rPr b="0" lang="en-US" sz="1000" spc="-1" strike="noStrike">
                <a:solidFill>
                  <a:srgbClr val="a6a6a6"/>
                </a:solidFill>
                <a:latin typeface="Open Sans Light"/>
              </a:rPr>
              <a:t>.</a:t>
            </a:r>
            <a:endParaRPr b="0" lang="en-US" sz="1000" spc="-1" strike="noStrike">
              <a:solidFill>
                <a:srgbClr val="494949"/>
              </a:solidFill>
              <a:latin typeface="Open Sans Light"/>
            </a:endParaRPr>
          </a:p>
        </p:txBody>
      </p:sp>
      <p:sp>
        <p:nvSpPr>
          <p:cNvPr id="1666" name="PlaceHolder 6"/>
          <p:cNvSpPr>
            <a:spLocks noGrp="1"/>
          </p:cNvSpPr>
          <p:nvPr>
            <p:ph/>
          </p:nvPr>
        </p:nvSpPr>
        <p:spPr>
          <a:xfrm>
            <a:off x="5436720" y="1192320"/>
            <a:ext cx="1078200" cy="776160"/>
          </a:xfrm>
          <a:prstGeom prst="rect">
            <a:avLst/>
          </a:prstGeom>
          <a:noFill/>
          <a:ln w="0">
            <a:noFill/>
          </a:ln>
        </p:spPr>
        <p:txBody>
          <a:bodyPr lIns="0" rIns="0" anchor="t">
            <a:normAutofit/>
          </a:bodyPr>
          <a:p>
            <a:pPr indent="0" algn="ctr">
              <a:lnSpc>
                <a:spcPct val="8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494949"/>
                </a:solidFill>
                <a:latin typeface="FontAwesome"/>
                <a:ea typeface="FontAwesome"/>
              </a:rPr>
              <a:t> </a:t>
            </a:r>
            <a:endParaRPr b="0" lang="en-US" sz="5400" spc="-1" strike="noStrike">
              <a:solidFill>
                <a:srgbClr val="494949"/>
              </a:solidFill>
              <a:latin typeface="Open Sans Light"/>
            </a:endParaRPr>
          </a:p>
        </p:txBody>
      </p:sp>
    </p:spTree>
  </p:cSld>
  <p:transition spd="med">
    <p:fade/>
  </p:transition>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afterEffect" fill="hold" presetClass="entr" presetID="22" presetSubtype="8">
                                  <p:stCondLst>
                                    <p:cond delay="0"/>
                                  </p:stCondLst>
                                  <p:childTnLst>
                                    <p:set>
                                      <p:cBhvr>
                                        <p:cTn id="1840" dur="1" fill="hold">
                                          <p:stCondLst>
                                            <p:cond delay="0"/>
                                          </p:stCondLst>
                                        </p:cTn>
                                        <p:tgtEl>
                                          <p:spTgt spid="1662"/>
                                        </p:tgtEl>
                                        <p:attrNameLst>
                                          <p:attrName>style.visibility</p:attrName>
                                        </p:attrNameLst>
                                      </p:cBhvr>
                                      <p:to>
                                        <p:strVal val="visible"/>
                                      </p:to>
                                    </p:set>
                                    <p:animEffect filter="wipe(left)" transition="in">
                                      <p:cBhvr additive="repl">
                                        <p:cTn id="1841" dur="500"/>
                                        <p:tgtEl>
                                          <p:spTgt spid="1662"/>
                                        </p:tgtEl>
                                      </p:cBhvr>
                                    </p:animEffect>
                                  </p:childTnLst>
                                </p:cTn>
                              </p:par>
                            </p:childTnLst>
                          </p:cTn>
                        </p:par>
                        <p:par>
                          <p:cTn id="1842" fill="hold">
                            <p:stCondLst>
                              <p:cond delay="500"/>
                            </p:stCondLst>
                            <p:childTnLst>
                              <p:par>
                                <p:cTn id="1843" nodeType="afterEffect" fill="hold" presetClass="entr" presetID="10">
                                  <p:stCondLst>
                                    <p:cond delay="0"/>
                                  </p:stCondLst>
                                  <p:childTnLst>
                                    <p:set>
                                      <p:cBhvr>
                                        <p:cTn id="1844" dur="1" fill="hold">
                                          <p:stCondLst>
                                            <p:cond delay="0"/>
                                          </p:stCondLst>
                                        </p:cTn>
                                        <p:tgtEl>
                                          <p:spTgt spid="1663">
                                            <p:txEl>
                                              <p:pRg st="0" end="0"/>
                                            </p:txEl>
                                          </p:spTgt>
                                        </p:tgtEl>
                                        <p:attrNameLst>
                                          <p:attrName>style.visibility</p:attrName>
                                        </p:attrNameLst>
                                      </p:cBhvr>
                                      <p:to>
                                        <p:strVal val="visible"/>
                                      </p:to>
                                    </p:set>
                                    <p:animEffect filter="fade" transition="in">
                                      <p:cBhvr additive="repl">
                                        <p:cTn id="1845" dur="500"/>
                                        <p:tgtEl>
                                          <p:spTgt spid="1663">
                                            <p:txEl>
                                              <p:pRg st="0" end="0"/>
                                            </p:txEl>
                                          </p:spTgt>
                                        </p:tgtEl>
                                      </p:cBhvr>
                                    </p:animEffect>
                                  </p:childTnLst>
                                </p:cTn>
                              </p:par>
                            </p:childTnLst>
                          </p:cTn>
                        </p:par>
                        <p:par>
                          <p:cTn id="1846" fill="hold">
                            <p:stCondLst>
                              <p:cond delay="1000"/>
                            </p:stCondLst>
                            <p:childTnLst>
                              <p:par>
                                <p:cTn id="1847" nodeType="afterEffect" fill="hold" presetClass="entr" presetID="10">
                                  <p:stCondLst>
                                    <p:cond delay="0"/>
                                  </p:stCondLst>
                                  <p:childTnLst>
                                    <p:set>
                                      <p:cBhvr>
                                        <p:cTn id="1848" dur="1" fill="hold">
                                          <p:stCondLst>
                                            <p:cond delay="0"/>
                                          </p:stCondLst>
                                        </p:cTn>
                                        <p:tgtEl>
                                          <p:spTgt spid="1659"/>
                                        </p:tgtEl>
                                        <p:attrNameLst>
                                          <p:attrName>style.visibility</p:attrName>
                                        </p:attrNameLst>
                                      </p:cBhvr>
                                      <p:to>
                                        <p:strVal val="visible"/>
                                      </p:to>
                                    </p:set>
                                    <p:animEffect filter="fade" transition="in">
                                      <p:cBhvr additive="repl">
                                        <p:cTn id="1849" dur="500"/>
                                        <p:tgtEl>
                                          <p:spTgt spid="1659"/>
                                        </p:tgtEl>
                                      </p:cBhvr>
                                    </p:animEffect>
                                  </p:childTnLst>
                                </p:cTn>
                              </p:par>
                              <p:par>
                                <p:cTn id="1850" nodeType="withEffect" fill="hold" presetClass="entr" presetID="10">
                                  <p:stCondLst>
                                    <p:cond delay="0"/>
                                  </p:stCondLst>
                                  <p:childTnLst>
                                    <p:set>
                                      <p:cBhvr>
                                        <p:cTn id="1851" dur="1" fill="hold">
                                          <p:stCondLst>
                                            <p:cond delay="0"/>
                                          </p:stCondLst>
                                        </p:cTn>
                                        <p:tgtEl>
                                          <p:spTgt spid="1656">
                                            <p:txEl>
                                              <p:pRg st="0" end="0"/>
                                            </p:txEl>
                                          </p:spTgt>
                                        </p:tgtEl>
                                        <p:attrNameLst>
                                          <p:attrName>style.visibility</p:attrName>
                                        </p:attrNameLst>
                                      </p:cBhvr>
                                      <p:to>
                                        <p:strVal val="visible"/>
                                      </p:to>
                                    </p:set>
                                    <p:animEffect filter="fade" transition="in">
                                      <p:cBhvr additive="repl">
                                        <p:cTn id="1852" dur="500"/>
                                        <p:tgtEl>
                                          <p:spTgt spid="1656">
                                            <p:txEl>
                                              <p:pRg st="0" end="0"/>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0">
                                  <p:stCondLst>
                                    <p:cond delay="0"/>
                                  </p:stCondLst>
                                  <p:childTnLst>
                                    <p:set>
                                      <p:cBhvr>
                                        <p:cTn id="1856" dur="1" fill="hold">
                                          <p:stCondLst>
                                            <p:cond delay="0"/>
                                          </p:stCondLst>
                                        </p:cTn>
                                        <p:tgtEl>
                                          <p:spTgt spid="1656">
                                            <p:txEl>
                                              <p:pRg st="1" end="1"/>
                                            </p:txEl>
                                          </p:spTgt>
                                        </p:tgtEl>
                                        <p:attrNameLst>
                                          <p:attrName>style.visibility</p:attrName>
                                        </p:attrNameLst>
                                      </p:cBhvr>
                                      <p:to>
                                        <p:strVal val="visible"/>
                                      </p:to>
                                    </p:set>
                                    <p:animEffect filter="fade" transition="in">
                                      <p:cBhvr additive="repl">
                                        <p:cTn id="1857" dur="500"/>
                                        <p:tgtEl>
                                          <p:spTgt spid="1656">
                                            <p:txEl>
                                              <p:pRg st="1" end="1"/>
                                            </p:txEl>
                                          </p:spTgt>
                                        </p:tgtEl>
                                      </p:cBhvr>
                                    </p:animEffect>
                                  </p:childTnLst>
                                </p:cTn>
                              </p:par>
                            </p:childTnLst>
                          </p:cTn>
                        </p:par>
                        <p:par>
                          <p:cTn id="1858" fill="hold">
                            <p:stCondLst>
                              <p:cond delay="500"/>
                            </p:stCondLst>
                            <p:childTnLst>
                              <p:par>
                                <p:cTn id="1859" nodeType="afterEffect" fill="hold" presetClass="entr" presetID="10">
                                  <p:stCondLst>
                                    <p:cond delay="0"/>
                                  </p:stCondLst>
                                  <p:childTnLst>
                                    <p:set>
                                      <p:cBhvr>
                                        <p:cTn id="1860" dur="1" fill="hold">
                                          <p:stCondLst>
                                            <p:cond delay="0"/>
                                          </p:stCondLst>
                                        </p:cTn>
                                        <p:tgtEl>
                                          <p:spTgt spid="1658"/>
                                        </p:tgtEl>
                                        <p:attrNameLst>
                                          <p:attrName>style.visibility</p:attrName>
                                        </p:attrNameLst>
                                      </p:cBhvr>
                                      <p:to>
                                        <p:strVal val="visible"/>
                                      </p:to>
                                    </p:set>
                                    <p:animEffect filter="fade" transition="in">
                                      <p:cBhvr additive="repl">
                                        <p:cTn id="1861" dur="500"/>
                                        <p:tgtEl>
                                          <p:spTgt spid="1658"/>
                                        </p:tgtEl>
                                      </p:cBhvr>
                                    </p:animEffect>
                                  </p:childTnLst>
                                </p:cTn>
                              </p:par>
                              <p:par>
                                <p:cTn id="1862" nodeType="withEffect" fill="hold" presetClass="entr" presetID="10">
                                  <p:stCondLst>
                                    <p:cond delay="0"/>
                                  </p:stCondLst>
                                  <p:childTnLst>
                                    <p:set>
                                      <p:cBhvr>
                                        <p:cTn id="1863" dur="1" fill="hold">
                                          <p:stCondLst>
                                            <p:cond delay="0"/>
                                          </p:stCondLst>
                                        </p:cTn>
                                        <p:tgtEl>
                                          <p:spTgt spid="1661">
                                            <p:txEl>
                                              <p:pRg st="0" end="0"/>
                                            </p:txEl>
                                          </p:spTgt>
                                        </p:tgtEl>
                                        <p:attrNameLst>
                                          <p:attrName>style.visibility</p:attrName>
                                        </p:attrNameLst>
                                      </p:cBhvr>
                                      <p:to>
                                        <p:strVal val="visible"/>
                                      </p:to>
                                    </p:set>
                                    <p:animEffect filter="fade" transition="in">
                                      <p:cBhvr additive="repl">
                                        <p:cTn id="1864" dur="500"/>
                                        <p:tgtEl>
                                          <p:spTgt spid="1661">
                                            <p:txEl>
                                              <p:pRg st="0" end="0"/>
                                            </p:txEl>
                                          </p:spTgt>
                                        </p:tgtEl>
                                      </p:cBhvr>
                                    </p:animEffect>
                                  </p:childTnLst>
                                </p:cTn>
                              </p:par>
                              <p:par>
                                <p:cTn id="1865" nodeType="withEffect" fill="hold" presetClass="entr" presetID="10">
                                  <p:stCondLst>
                                    <p:cond delay="0"/>
                                  </p:stCondLst>
                                  <p:childTnLst>
                                    <p:set>
                                      <p:cBhvr>
                                        <p:cTn id="1866" dur="1" fill="hold">
                                          <p:stCondLst>
                                            <p:cond delay="0"/>
                                          </p:stCondLst>
                                        </p:cTn>
                                        <p:tgtEl>
                                          <p:spTgt spid="1661">
                                            <p:txEl>
                                              <p:pRg st="1" end="1"/>
                                            </p:txEl>
                                          </p:spTgt>
                                        </p:tgtEl>
                                        <p:attrNameLst>
                                          <p:attrName>style.visibility</p:attrName>
                                        </p:attrNameLst>
                                      </p:cBhvr>
                                      <p:to>
                                        <p:strVal val="visible"/>
                                      </p:to>
                                    </p:set>
                                    <p:animEffect filter="fade" transition="in">
                                      <p:cBhvr additive="repl">
                                        <p:cTn id="1867" dur="500"/>
                                        <p:tgtEl>
                                          <p:spTgt spid="1661">
                                            <p:txEl>
                                              <p:pRg st="1" end="1"/>
                                            </p:txEl>
                                          </p:spTgt>
                                        </p:tgtEl>
                                      </p:cBhvr>
                                    </p:animEffect>
                                  </p:childTnLst>
                                </p:cTn>
                              </p:par>
                            </p:childTnLst>
                          </p:cTn>
                        </p:par>
                        <p:par>
                          <p:cTn id="1868" fill="hold">
                            <p:stCondLst>
                              <p:cond delay="1000"/>
                            </p:stCondLst>
                            <p:childTnLst>
                              <p:par>
                                <p:cTn id="1869" nodeType="afterEffect" fill="hold" presetClass="entr" presetID="10">
                                  <p:stCondLst>
                                    <p:cond delay="0"/>
                                  </p:stCondLst>
                                  <p:childTnLst>
                                    <p:set>
                                      <p:cBhvr>
                                        <p:cTn id="1870" dur="1" fill="hold">
                                          <p:stCondLst>
                                            <p:cond delay="0"/>
                                          </p:stCondLst>
                                        </p:cTn>
                                        <p:tgtEl>
                                          <p:spTgt spid="1657"/>
                                        </p:tgtEl>
                                        <p:attrNameLst>
                                          <p:attrName>style.visibility</p:attrName>
                                        </p:attrNameLst>
                                      </p:cBhvr>
                                      <p:to>
                                        <p:strVal val="visible"/>
                                      </p:to>
                                    </p:set>
                                    <p:animEffect filter="fade" transition="in">
                                      <p:cBhvr additive="repl">
                                        <p:cTn id="1871" dur="500"/>
                                        <p:tgtEl>
                                          <p:spTgt spid="1657"/>
                                        </p:tgtEl>
                                      </p:cBhvr>
                                    </p:animEffect>
                                  </p:childTnLst>
                                </p:cTn>
                              </p:par>
                              <p:par>
                                <p:cTn id="1872" nodeType="withEffect" fill="hold" presetClass="entr" presetID="10">
                                  <p:stCondLst>
                                    <p:cond delay="0"/>
                                  </p:stCondLst>
                                  <p:childTnLst>
                                    <p:set>
                                      <p:cBhvr>
                                        <p:cTn id="1873" dur="1" fill="hold">
                                          <p:stCondLst>
                                            <p:cond delay="0"/>
                                          </p:stCondLst>
                                        </p:cTn>
                                        <p:tgtEl>
                                          <p:spTgt spid="1660">
                                            <p:txEl>
                                              <p:pRg st="0" end="0"/>
                                            </p:txEl>
                                          </p:spTgt>
                                        </p:tgtEl>
                                        <p:attrNameLst>
                                          <p:attrName>style.visibility</p:attrName>
                                        </p:attrNameLst>
                                      </p:cBhvr>
                                      <p:to>
                                        <p:strVal val="visible"/>
                                      </p:to>
                                    </p:set>
                                    <p:animEffect filter="fade" transition="in">
                                      <p:cBhvr additive="repl">
                                        <p:cTn id="1874" dur="500"/>
                                        <p:tgtEl>
                                          <p:spTgt spid="1660">
                                            <p:txEl>
                                              <p:pRg st="0" end="0"/>
                                            </p:txEl>
                                          </p:spTgt>
                                        </p:tgtEl>
                                      </p:cBhvr>
                                    </p:animEffect>
                                  </p:childTnLst>
                                </p:cTn>
                              </p:par>
                              <p:par>
                                <p:cTn id="1875" nodeType="withEffect" fill="hold" presetClass="entr" presetID="10">
                                  <p:stCondLst>
                                    <p:cond delay="0"/>
                                  </p:stCondLst>
                                  <p:childTnLst>
                                    <p:set>
                                      <p:cBhvr>
                                        <p:cTn id="1876" dur="1" fill="hold">
                                          <p:stCondLst>
                                            <p:cond delay="0"/>
                                          </p:stCondLst>
                                        </p:cTn>
                                        <p:tgtEl>
                                          <p:spTgt spid="1660">
                                            <p:txEl>
                                              <p:pRg st="1" end="1"/>
                                            </p:txEl>
                                          </p:spTgt>
                                        </p:tgtEl>
                                        <p:attrNameLst>
                                          <p:attrName>style.visibility</p:attrName>
                                        </p:attrNameLst>
                                      </p:cBhvr>
                                      <p:to>
                                        <p:strVal val="visible"/>
                                      </p:to>
                                    </p:set>
                                    <p:animEffect filter="fade" transition="in">
                                      <p:cBhvr additive="repl">
                                        <p:cTn id="1877" dur="500"/>
                                        <p:tgtEl>
                                          <p:spTgt spid="1660">
                                            <p:txEl>
                                              <p:pRg st="1" end="1"/>
                                            </p:txEl>
                                          </p:spTgt>
                                        </p:tgtEl>
                                      </p:cBhvr>
                                    </p:animEffect>
                                  </p:childTnLst>
                                </p:cTn>
                              </p:par>
                            </p:childTnLst>
                          </p:cTn>
                        </p:par>
                        <p:par>
                          <p:cTn id="1878" fill="hold">
                            <p:stCondLst>
                              <p:cond delay="1500"/>
                            </p:stCondLst>
                            <p:childTnLst>
                              <p:par>
                                <p:cTn id="1879" nodeType="afterEffect" fill="hold" presetClass="entr" presetID="18" presetSubtype="6">
                                  <p:stCondLst>
                                    <p:cond delay="0"/>
                                  </p:stCondLst>
                                  <p:childTnLst>
                                    <p:set>
                                      <p:cBhvr>
                                        <p:cTn id="1880" dur="1" fill="hold">
                                          <p:stCondLst>
                                            <p:cond delay="0"/>
                                          </p:stCondLst>
                                        </p:cTn>
                                        <p:tgtEl>
                                          <p:spTgt spid="1665">
                                            <p:txEl>
                                              <p:pRg st="0" end="0"/>
                                            </p:txEl>
                                          </p:spTgt>
                                        </p:tgtEl>
                                        <p:attrNameLst>
                                          <p:attrName>style.visibility</p:attrName>
                                        </p:attrNameLst>
                                      </p:cBhvr>
                                      <p:to>
                                        <p:strVal val="visible"/>
                                      </p:to>
                                    </p:set>
                                    <p:animEffect filter="strips(downRight)" transition="in">
                                      <p:cBhvr additive="repl">
                                        <p:cTn id="1881" dur="500"/>
                                        <p:tgtEl>
                                          <p:spTgt spid="1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traight Connector 31"/>
          <p:cNvSpPr/>
          <p:nvPr/>
        </p:nvSpPr>
        <p:spPr>
          <a:xfrm>
            <a:off x="6383160" y="2770200"/>
            <a:ext cx="3286440" cy="15840"/>
          </a:xfrm>
          <a:prstGeom prst="line">
            <a:avLst/>
          </a:prstGeom>
          <a:ln w="38160">
            <a:solidFill>
              <a:srgbClr val="00a09c"/>
            </a:solidFill>
            <a:prstDash val="sysDot"/>
            <a:miter/>
          </a:ln>
        </p:spPr>
        <p:style>
          <a:lnRef idx="0"/>
          <a:fillRef idx="0"/>
          <a:effectRef idx="0"/>
          <a:fontRef idx="minor"/>
        </p:style>
        <p:txBody>
          <a:bodyPr lIns="90000" rIns="90000" tIns="-30960" bIns="-30960" anchor="t">
            <a:noAutofit/>
          </a:bodyPr>
          <a:p>
            <a:endParaRPr b="0" lang="en-US" sz="1800" spc="-1" strike="noStrike">
              <a:solidFill>
                <a:srgbClr val="494949"/>
              </a:solidFill>
              <a:latin typeface="Open Sans Light"/>
            </a:endParaRPr>
          </a:p>
        </p:txBody>
      </p:sp>
      <p:sp>
        <p:nvSpPr>
          <p:cNvPr id="830" name="Straight Connector 33"/>
          <p:cNvSpPr/>
          <p:nvPr/>
        </p:nvSpPr>
        <p:spPr>
          <a:xfrm>
            <a:off x="2522520" y="4890960"/>
            <a:ext cx="3286080" cy="15840"/>
          </a:xfrm>
          <a:prstGeom prst="line">
            <a:avLst/>
          </a:prstGeom>
          <a:ln w="38160">
            <a:solidFill>
              <a:srgbClr val="0098a5"/>
            </a:solidFill>
            <a:prstDash val="sysDot"/>
            <a:miter/>
          </a:ln>
        </p:spPr>
        <p:style>
          <a:lnRef idx="0"/>
          <a:fillRef idx="0"/>
          <a:effectRef idx="0"/>
          <a:fontRef idx="minor"/>
        </p:style>
        <p:txBody>
          <a:bodyPr lIns="90000" rIns="90000" tIns="-30960" bIns="-30960" anchor="t">
            <a:noAutofit/>
          </a:bodyPr>
          <a:p>
            <a:endParaRPr b="0" lang="en-US" sz="1800" spc="-1" strike="noStrike">
              <a:solidFill>
                <a:srgbClr val="494949"/>
              </a:solidFill>
              <a:latin typeface="Open Sans Light"/>
            </a:endParaRPr>
          </a:p>
        </p:txBody>
      </p:sp>
      <p:sp>
        <p:nvSpPr>
          <p:cNvPr id="831" name="Straight Connector 7"/>
          <p:cNvSpPr/>
          <p:nvPr/>
        </p:nvSpPr>
        <p:spPr>
          <a:xfrm flipH="1">
            <a:off x="6094080" y="2968560"/>
            <a:ext cx="3240" cy="1727280"/>
          </a:xfrm>
          <a:prstGeom prst="line">
            <a:avLst/>
          </a:prstGeom>
          <a:ln w="57240">
            <a:solidFill>
              <a:srgbClr val="00a09c"/>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sp>
        <p:nvSpPr>
          <p:cNvPr id="832" name="Straight Connector 10"/>
          <p:cNvSpPr/>
          <p:nvPr/>
        </p:nvSpPr>
        <p:spPr>
          <a:xfrm flipH="1">
            <a:off x="6094080" y="5102280"/>
            <a:ext cx="3240" cy="1727280"/>
          </a:xfrm>
          <a:prstGeom prst="line">
            <a:avLst/>
          </a:prstGeom>
          <a:ln w="57240">
            <a:solidFill>
              <a:srgbClr val="0098a5"/>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pic>
        <p:nvPicPr>
          <p:cNvPr id="833" name="Group 22" descr=""/>
          <p:cNvPicPr/>
          <p:nvPr/>
        </p:nvPicPr>
        <p:blipFill>
          <a:blip r:embed="rId1"/>
          <a:stretch/>
        </p:blipFill>
        <p:spPr>
          <a:xfrm>
            <a:off x="5992920" y="2004840"/>
            <a:ext cx="212760" cy="665280"/>
          </a:xfrm>
          <a:prstGeom prst="rect">
            <a:avLst/>
          </a:prstGeom>
          <a:ln w="0">
            <a:noFill/>
          </a:ln>
        </p:spPr>
      </p:pic>
      <p:grpSp>
        <p:nvGrpSpPr>
          <p:cNvPr id="834" name="Group 21"/>
          <p:cNvGrpSpPr/>
          <p:nvPr/>
        </p:nvGrpSpPr>
        <p:grpSpPr>
          <a:xfrm>
            <a:off x="5791320" y="2473200"/>
            <a:ext cx="609480" cy="609840"/>
            <a:chOff x="5791320" y="2473200"/>
            <a:chExt cx="609480" cy="609840"/>
          </a:xfrm>
        </p:grpSpPr>
        <p:sp>
          <p:nvSpPr>
            <p:cNvPr id="835" name="Oval 5"/>
            <p:cNvSpPr/>
            <p:nvPr/>
          </p:nvSpPr>
          <p:spPr>
            <a:xfrm>
              <a:off x="5791320" y="2473200"/>
              <a:ext cx="609480" cy="609840"/>
            </a:xfrm>
            <a:prstGeom prst="ellipse">
              <a:avLst/>
            </a:prstGeom>
            <a:solidFill>
              <a:srgbClr val="ffffff"/>
            </a:solidFill>
            <a:ln w="6480">
              <a:solidFill>
                <a:srgbClr val="00a09c"/>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36" name="Oval 15"/>
            <p:cNvSpPr/>
            <p:nvPr/>
          </p:nvSpPr>
          <p:spPr>
            <a:xfrm>
              <a:off x="5877360" y="2559240"/>
              <a:ext cx="437400" cy="437400"/>
            </a:xfrm>
            <a:prstGeom prst="ellipse">
              <a:avLst/>
            </a:prstGeom>
            <a:solidFill>
              <a:srgbClr val="00a09c"/>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837" name="Group 20"/>
          <p:cNvGrpSpPr/>
          <p:nvPr/>
        </p:nvGrpSpPr>
        <p:grpSpPr>
          <a:xfrm>
            <a:off x="5791320" y="4594320"/>
            <a:ext cx="609480" cy="609480"/>
            <a:chOff x="5791320" y="4594320"/>
            <a:chExt cx="609480" cy="609480"/>
          </a:xfrm>
        </p:grpSpPr>
        <p:sp>
          <p:nvSpPr>
            <p:cNvPr id="838" name="Oval 9"/>
            <p:cNvSpPr/>
            <p:nvPr/>
          </p:nvSpPr>
          <p:spPr>
            <a:xfrm>
              <a:off x="5791320" y="4594320"/>
              <a:ext cx="609480" cy="609480"/>
            </a:xfrm>
            <a:prstGeom prst="ellipse">
              <a:avLst/>
            </a:prstGeom>
            <a:solidFill>
              <a:srgbClr val="ffffff"/>
            </a:solidFill>
            <a:ln w="6480">
              <a:solidFill>
                <a:srgbClr val="0098a5"/>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39" name="Oval 16"/>
            <p:cNvSpPr/>
            <p:nvPr/>
          </p:nvSpPr>
          <p:spPr>
            <a:xfrm>
              <a:off x="5877360" y="4680360"/>
              <a:ext cx="437400" cy="437400"/>
            </a:xfrm>
            <a:prstGeom prst="ellipse">
              <a:avLst/>
            </a:prstGeom>
            <a:solidFill>
              <a:srgbClr val="0098a5"/>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840" name="TextBox 36"/>
          <p:cNvSpPr/>
          <p:nvPr/>
        </p:nvSpPr>
        <p:spPr>
          <a:xfrm>
            <a:off x="6400800" y="3324240"/>
            <a:ext cx="3510000" cy="837360"/>
          </a:xfrm>
          <a:prstGeom prst="rect">
            <a:avLst/>
          </a:prstGeom>
          <a:noFill/>
          <a:ln w="0">
            <a:noFill/>
          </a:ln>
        </p:spPr>
        <p:style>
          <a:lnRef idx="0"/>
          <a:fillRef idx="0"/>
          <a:effectRef idx="0"/>
          <a:fontRef idx="minor"/>
        </p:style>
        <p:txBody>
          <a:bodyPr lIns="0" rIns="0" tIns="0" bIns="0" anchor="t">
            <a:spAutoFit/>
          </a:bodyPr>
          <a:p>
            <a:pP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41" name="Rectangle 37"/>
          <p:cNvSpPr/>
          <p:nvPr/>
        </p:nvSpPr>
        <p:spPr>
          <a:xfrm>
            <a:off x="6369120" y="2941560"/>
            <a:ext cx="1875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a09c"/>
                </a:solidFill>
                <a:latin typeface="Lato"/>
              </a:rPr>
              <a:t>TITLE GOSE HERE</a:t>
            </a:r>
            <a:endParaRPr b="0" lang="en-US" sz="1600" spc="-1" strike="noStrike">
              <a:solidFill>
                <a:srgbClr val="494949"/>
              </a:solidFill>
              <a:latin typeface="Open Sans Light"/>
            </a:endParaRPr>
          </a:p>
        </p:txBody>
      </p:sp>
      <p:sp>
        <p:nvSpPr>
          <p:cNvPr id="842" name="TextBox 39"/>
          <p:cNvSpPr/>
          <p:nvPr/>
        </p:nvSpPr>
        <p:spPr>
          <a:xfrm>
            <a:off x="2281320" y="5435640"/>
            <a:ext cx="3510000" cy="837360"/>
          </a:xfrm>
          <a:prstGeom prst="rect">
            <a:avLst/>
          </a:prstGeom>
          <a:noFill/>
          <a:ln w="0">
            <a:noFill/>
          </a:ln>
        </p:spPr>
        <p:style>
          <a:lnRef idx="0"/>
          <a:fillRef idx="0"/>
          <a:effectRef idx="0"/>
          <a:fontRef idx="minor"/>
        </p:style>
        <p:txBody>
          <a:bodyPr lIns="0" rIns="0" tIns="0" bIns="0" anchor="t">
            <a:spAutoFit/>
          </a:bodyPr>
          <a:p>
            <a:pPr algn="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43" name="Rectangle 40"/>
          <p:cNvSpPr/>
          <p:nvPr/>
        </p:nvSpPr>
        <p:spPr>
          <a:xfrm>
            <a:off x="3923280" y="5054760"/>
            <a:ext cx="1875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98a5"/>
                </a:solidFill>
                <a:latin typeface="Lato"/>
              </a:rPr>
              <a:t>TITLE GOSE HERE</a:t>
            </a:r>
            <a:endParaRPr b="0" lang="en-US" sz="1600" spc="-1" strike="noStrike">
              <a:solidFill>
                <a:srgbClr val="494949"/>
              </a:solidFill>
              <a:latin typeface="Open Sans Light"/>
            </a:endParaRPr>
          </a:p>
        </p:txBody>
      </p:sp>
      <p:sp>
        <p:nvSpPr>
          <p:cNvPr id="844" name="Freeform 36"/>
          <p:cNvSpPr/>
          <p:nvPr/>
        </p:nvSpPr>
        <p:spPr>
          <a:xfrm>
            <a:off x="9004320" y="1928880"/>
            <a:ext cx="708120" cy="770040"/>
          </a:xfrm>
          <a:custGeom>
            <a:avLst/>
            <a:gdLst/>
            <a:ahLst/>
            <a:rect l="l" t="t" r="r" b="b"/>
            <a:pathLst>
              <a:path w="59" h="64">
                <a:moveTo>
                  <a:pt x="59" y="59"/>
                </a:moveTo>
                <a:cubicBezTo>
                  <a:pt x="59" y="62"/>
                  <a:pt x="57" y="64"/>
                  <a:pt x="55" y="64"/>
                </a:cubicBezTo>
                <a:cubicBezTo>
                  <a:pt x="4" y="64"/>
                  <a:pt x="4" y="64"/>
                  <a:pt x="4" y="64"/>
                </a:cubicBezTo>
                <a:cubicBezTo>
                  <a:pt x="2" y="64"/>
                  <a:pt x="0" y="62"/>
                  <a:pt x="0" y="59"/>
                </a:cubicBezTo>
                <a:cubicBezTo>
                  <a:pt x="0" y="13"/>
                  <a:pt x="0" y="13"/>
                  <a:pt x="0" y="13"/>
                </a:cubicBezTo>
                <a:cubicBezTo>
                  <a:pt x="0" y="11"/>
                  <a:pt x="2" y="9"/>
                  <a:pt x="4" y="9"/>
                </a:cubicBezTo>
                <a:cubicBezTo>
                  <a:pt x="9" y="9"/>
                  <a:pt x="9" y="9"/>
                  <a:pt x="9" y="9"/>
                </a:cubicBezTo>
                <a:cubicBezTo>
                  <a:pt x="9" y="5"/>
                  <a:pt x="9" y="5"/>
                  <a:pt x="9" y="5"/>
                </a:cubicBezTo>
                <a:cubicBezTo>
                  <a:pt x="9" y="2"/>
                  <a:pt x="11" y="0"/>
                  <a:pt x="15" y="0"/>
                </a:cubicBezTo>
                <a:cubicBezTo>
                  <a:pt x="17" y="0"/>
                  <a:pt x="17" y="0"/>
                  <a:pt x="17" y="0"/>
                </a:cubicBezTo>
                <a:cubicBezTo>
                  <a:pt x="20" y="0"/>
                  <a:pt x="23" y="2"/>
                  <a:pt x="23" y="5"/>
                </a:cubicBezTo>
                <a:cubicBezTo>
                  <a:pt x="23" y="9"/>
                  <a:pt x="23" y="9"/>
                  <a:pt x="23" y="9"/>
                </a:cubicBezTo>
                <a:cubicBezTo>
                  <a:pt x="36" y="9"/>
                  <a:pt x="36" y="9"/>
                  <a:pt x="36" y="9"/>
                </a:cubicBezTo>
                <a:cubicBezTo>
                  <a:pt x="36" y="5"/>
                  <a:pt x="36" y="5"/>
                  <a:pt x="36" y="5"/>
                </a:cubicBezTo>
                <a:cubicBezTo>
                  <a:pt x="36" y="2"/>
                  <a:pt x="39" y="0"/>
                  <a:pt x="42" y="0"/>
                </a:cubicBezTo>
                <a:cubicBezTo>
                  <a:pt x="44" y="0"/>
                  <a:pt x="44" y="0"/>
                  <a:pt x="44" y="0"/>
                </a:cubicBezTo>
                <a:cubicBezTo>
                  <a:pt x="47" y="0"/>
                  <a:pt x="50" y="2"/>
                  <a:pt x="50" y="5"/>
                </a:cubicBezTo>
                <a:cubicBezTo>
                  <a:pt x="50" y="9"/>
                  <a:pt x="50" y="9"/>
                  <a:pt x="50" y="9"/>
                </a:cubicBezTo>
                <a:cubicBezTo>
                  <a:pt x="55" y="9"/>
                  <a:pt x="55" y="9"/>
                  <a:pt x="55" y="9"/>
                </a:cubicBezTo>
                <a:cubicBezTo>
                  <a:pt x="57" y="9"/>
                  <a:pt x="59" y="11"/>
                  <a:pt x="59" y="13"/>
                </a:cubicBezTo>
                <a:lnTo>
                  <a:pt x="59" y="59"/>
                </a:lnTo>
                <a:close/>
                <a:moveTo>
                  <a:pt x="15" y="33"/>
                </a:moveTo>
                <a:cubicBezTo>
                  <a:pt x="15" y="23"/>
                  <a:pt x="15" y="23"/>
                  <a:pt x="15" y="23"/>
                </a:cubicBezTo>
                <a:cubicBezTo>
                  <a:pt x="4" y="23"/>
                  <a:pt x="4" y="23"/>
                  <a:pt x="4" y="23"/>
                </a:cubicBezTo>
                <a:cubicBezTo>
                  <a:pt x="4" y="33"/>
                  <a:pt x="4" y="33"/>
                  <a:pt x="4" y="33"/>
                </a:cubicBezTo>
                <a:lnTo>
                  <a:pt x="15" y="33"/>
                </a:lnTo>
                <a:close/>
                <a:moveTo>
                  <a:pt x="15" y="47"/>
                </a:moveTo>
                <a:cubicBezTo>
                  <a:pt x="15" y="35"/>
                  <a:pt x="15" y="35"/>
                  <a:pt x="15" y="35"/>
                </a:cubicBezTo>
                <a:cubicBezTo>
                  <a:pt x="4" y="35"/>
                  <a:pt x="4" y="35"/>
                  <a:pt x="4" y="35"/>
                </a:cubicBezTo>
                <a:cubicBezTo>
                  <a:pt x="4" y="47"/>
                  <a:pt x="4" y="47"/>
                  <a:pt x="4" y="47"/>
                </a:cubicBezTo>
                <a:lnTo>
                  <a:pt x="15" y="47"/>
                </a:lnTo>
                <a:close/>
                <a:moveTo>
                  <a:pt x="15" y="59"/>
                </a:moveTo>
                <a:cubicBezTo>
                  <a:pt x="15" y="49"/>
                  <a:pt x="15" y="49"/>
                  <a:pt x="15" y="49"/>
                </a:cubicBezTo>
                <a:cubicBezTo>
                  <a:pt x="4" y="49"/>
                  <a:pt x="4" y="49"/>
                  <a:pt x="4" y="49"/>
                </a:cubicBezTo>
                <a:cubicBezTo>
                  <a:pt x="4" y="59"/>
                  <a:pt x="4" y="59"/>
                  <a:pt x="4" y="59"/>
                </a:cubicBezTo>
                <a:lnTo>
                  <a:pt x="15" y="59"/>
                </a:lnTo>
                <a:close/>
                <a:moveTo>
                  <a:pt x="18" y="5"/>
                </a:moveTo>
                <a:cubicBezTo>
                  <a:pt x="18" y="5"/>
                  <a:pt x="18" y="4"/>
                  <a:pt x="17" y="4"/>
                </a:cubicBezTo>
                <a:cubicBezTo>
                  <a:pt x="15" y="4"/>
                  <a:pt x="15" y="4"/>
                  <a:pt x="15" y="4"/>
                </a:cubicBezTo>
                <a:cubicBezTo>
                  <a:pt x="14" y="4"/>
                  <a:pt x="13" y="5"/>
                  <a:pt x="13" y="5"/>
                </a:cubicBezTo>
                <a:cubicBezTo>
                  <a:pt x="13" y="16"/>
                  <a:pt x="13" y="16"/>
                  <a:pt x="13" y="16"/>
                </a:cubicBezTo>
                <a:cubicBezTo>
                  <a:pt x="13" y="16"/>
                  <a:pt x="14" y="17"/>
                  <a:pt x="15" y="17"/>
                </a:cubicBezTo>
                <a:cubicBezTo>
                  <a:pt x="17" y="17"/>
                  <a:pt x="17" y="17"/>
                  <a:pt x="17" y="17"/>
                </a:cubicBezTo>
                <a:cubicBezTo>
                  <a:pt x="18" y="17"/>
                  <a:pt x="18" y="16"/>
                  <a:pt x="18" y="16"/>
                </a:cubicBezTo>
                <a:lnTo>
                  <a:pt x="18" y="5"/>
                </a:lnTo>
                <a:close/>
                <a:moveTo>
                  <a:pt x="28" y="33"/>
                </a:moveTo>
                <a:cubicBezTo>
                  <a:pt x="28" y="23"/>
                  <a:pt x="28" y="23"/>
                  <a:pt x="28" y="23"/>
                </a:cubicBezTo>
                <a:cubicBezTo>
                  <a:pt x="17" y="23"/>
                  <a:pt x="17" y="23"/>
                  <a:pt x="17" y="23"/>
                </a:cubicBezTo>
                <a:cubicBezTo>
                  <a:pt x="17" y="33"/>
                  <a:pt x="17" y="33"/>
                  <a:pt x="17" y="33"/>
                </a:cubicBezTo>
                <a:lnTo>
                  <a:pt x="28" y="33"/>
                </a:lnTo>
                <a:close/>
                <a:moveTo>
                  <a:pt x="28" y="47"/>
                </a:moveTo>
                <a:cubicBezTo>
                  <a:pt x="28" y="35"/>
                  <a:pt x="28" y="35"/>
                  <a:pt x="28" y="35"/>
                </a:cubicBezTo>
                <a:cubicBezTo>
                  <a:pt x="17" y="35"/>
                  <a:pt x="17" y="35"/>
                  <a:pt x="17" y="35"/>
                </a:cubicBezTo>
                <a:cubicBezTo>
                  <a:pt x="17" y="47"/>
                  <a:pt x="17" y="47"/>
                  <a:pt x="17" y="47"/>
                </a:cubicBezTo>
                <a:lnTo>
                  <a:pt x="28" y="47"/>
                </a:lnTo>
                <a:close/>
                <a:moveTo>
                  <a:pt x="28" y="59"/>
                </a:moveTo>
                <a:cubicBezTo>
                  <a:pt x="28" y="49"/>
                  <a:pt x="28" y="49"/>
                  <a:pt x="28" y="49"/>
                </a:cubicBezTo>
                <a:cubicBezTo>
                  <a:pt x="17" y="49"/>
                  <a:pt x="17" y="49"/>
                  <a:pt x="17" y="49"/>
                </a:cubicBezTo>
                <a:cubicBezTo>
                  <a:pt x="17" y="59"/>
                  <a:pt x="17" y="59"/>
                  <a:pt x="17" y="59"/>
                </a:cubicBezTo>
                <a:lnTo>
                  <a:pt x="28" y="59"/>
                </a:lnTo>
                <a:close/>
                <a:moveTo>
                  <a:pt x="42" y="33"/>
                </a:moveTo>
                <a:cubicBezTo>
                  <a:pt x="42" y="23"/>
                  <a:pt x="42" y="23"/>
                  <a:pt x="42" y="23"/>
                </a:cubicBezTo>
                <a:cubicBezTo>
                  <a:pt x="31" y="23"/>
                  <a:pt x="31" y="23"/>
                  <a:pt x="31" y="23"/>
                </a:cubicBezTo>
                <a:cubicBezTo>
                  <a:pt x="31" y="33"/>
                  <a:pt x="31" y="33"/>
                  <a:pt x="31" y="33"/>
                </a:cubicBezTo>
                <a:lnTo>
                  <a:pt x="42" y="33"/>
                </a:lnTo>
                <a:close/>
                <a:moveTo>
                  <a:pt x="42" y="47"/>
                </a:moveTo>
                <a:cubicBezTo>
                  <a:pt x="42" y="35"/>
                  <a:pt x="42" y="35"/>
                  <a:pt x="42" y="35"/>
                </a:cubicBezTo>
                <a:cubicBezTo>
                  <a:pt x="31" y="35"/>
                  <a:pt x="31" y="35"/>
                  <a:pt x="31" y="35"/>
                </a:cubicBezTo>
                <a:cubicBezTo>
                  <a:pt x="31" y="47"/>
                  <a:pt x="31" y="47"/>
                  <a:pt x="31" y="47"/>
                </a:cubicBezTo>
                <a:lnTo>
                  <a:pt x="42" y="47"/>
                </a:lnTo>
                <a:close/>
                <a:moveTo>
                  <a:pt x="42" y="59"/>
                </a:moveTo>
                <a:cubicBezTo>
                  <a:pt x="42" y="49"/>
                  <a:pt x="42" y="49"/>
                  <a:pt x="42" y="49"/>
                </a:cubicBezTo>
                <a:cubicBezTo>
                  <a:pt x="31" y="49"/>
                  <a:pt x="31" y="49"/>
                  <a:pt x="31" y="49"/>
                </a:cubicBezTo>
                <a:cubicBezTo>
                  <a:pt x="31" y="59"/>
                  <a:pt x="31" y="59"/>
                  <a:pt x="31" y="59"/>
                </a:cubicBezTo>
                <a:lnTo>
                  <a:pt x="42" y="59"/>
                </a:lnTo>
                <a:close/>
                <a:moveTo>
                  <a:pt x="45" y="5"/>
                </a:moveTo>
                <a:cubicBezTo>
                  <a:pt x="45" y="5"/>
                  <a:pt x="45" y="4"/>
                  <a:pt x="44" y="4"/>
                </a:cubicBezTo>
                <a:cubicBezTo>
                  <a:pt x="42" y="4"/>
                  <a:pt x="42" y="4"/>
                  <a:pt x="42" y="4"/>
                </a:cubicBezTo>
                <a:cubicBezTo>
                  <a:pt x="41" y="4"/>
                  <a:pt x="41" y="5"/>
                  <a:pt x="41" y="5"/>
                </a:cubicBezTo>
                <a:cubicBezTo>
                  <a:pt x="41" y="16"/>
                  <a:pt x="41" y="16"/>
                  <a:pt x="41" y="16"/>
                </a:cubicBezTo>
                <a:cubicBezTo>
                  <a:pt x="41" y="16"/>
                  <a:pt x="41" y="17"/>
                  <a:pt x="42" y="17"/>
                </a:cubicBezTo>
                <a:cubicBezTo>
                  <a:pt x="44" y="17"/>
                  <a:pt x="44" y="17"/>
                  <a:pt x="44" y="17"/>
                </a:cubicBezTo>
                <a:cubicBezTo>
                  <a:pt x="45" y="17"/>
                  <a:pt x="45" y="16"/>
                  <a:pt x="45" y="16"/>
                </a:cubicBezTo>
                <a:lnTo>
                  <a:pt x="45" y="5"/>
                </a:lnTo>
                <a:close/>
                <a:moveTo>
                  <a:pt x="55" y="33"/>
                </a:moveTo>
                <a:cubicBezTo>
                  <a:pt x="55" y="23"/>
                  <a:pt x="55" y="23"/>
                  <a:pt x="55" y="23"/>
                </a:cubicBezTo>
                <a:cubicBezTo>
                  <a:pt x="44" y="23"/>
                  <a:pt x="44" y="23"/>
                  <a:pt x="44" y="23"/>
                </a:cubicBezTo>
                <a:cubicBezTo>
                  <a:pt x="44" y="33"/>
                  <a:pt x="44" y="33"/>
                  <a:pt x="44" y="33"/>
                </a:cubicBezTo>
                <a:lnTo>
                  <a:pt x="55" y="33"/>
                </a:lnTo>
                <a:close/>
                <a:moveTo>
                  <a:pt x="55" y="47"/>
                </a:moveTo>
                <a:cubicBezTo>
                  <a:pt x="55" y="35"/>
                  <a:pt x="55" y="35"/>
                  <a:pt x="55" y="35"/>
                </a:cubicBezTo>
                <a:cubicBezTo>
                  <a:pt x="44" y="35"/>
                  <a:pt x="44" y="35"/>
                  <a:pt x="44" y="35"/>
                </a:cubicBezTo>
                <a:cubicBezTo>
                  <a:pt x="44" y="47"/>
                  <a:pt x="44" y="47"/>
                  <a:pt x="44" y="47"/>
                </a:cubicBezTo>
                <a:lnTo>
                  <a:pt x="55" y="47"/>
                </a:lnTo>
                <a:close/>
                <a:moveTo>
                  <a:pt x="55" y="59"/>
                </a:moveTo>
                <a:cubicBezTo>
                  <a:pt x="55" y="49"/>
                  <a:pt x="55" y="49"/>
                  <a:pt x="55" y="49"/>
                </a:cubicBezTo>
                <a:cubicBezTo>
                  <a:pt x="44" y="49"/>
                  <a:pt x="44" y="49"/>
                  <a:pt x="44" y="49"/>
                </a:cubicBezTo>
                <a:cubicBezTo>
                  <a:pt x="44" y="59"/>
                  <a:pt x="44" y="59"/>
                  <a:pt x="44" y="59"/>
                </a:cubicBezTo>
                <a:lnTo>
                  <a:pt x="55" y="59"/>
                </a:lnTo>
                <a:close/>
              </a:path>
            </a:pathLst>
          </a:custGeom>
          <a:solidFill>
            <a:srgbClr val="00a09c"/>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
        <p:nvSpPr>
          <p:cNvPr id="845" name="Freeform 158"/>
          <p:cNvSpPr/>
          <p:nvPr/>
        </p:nvSpPr>
        <p:spPr>
          <a:xfrm>
            <a:off x="2540160" y="4222800"/>
            <a:ext cx="763560" cy="603360"/>
          </a:xfrm>
          <a:custGeom>
            <a:avLst/>
            <a:gdLst/>
            <a:ahLst/>
            <a:rect l="l" t="t" r="r" b="b"/>
            <a:pathLst>
              <a:path w="64" h="50">
                <a:moveTo>
                  <a:pt x="64" y="11"/>
                </a:moveTo>
                <a:cubicBezTo>
                  <a:pt x="64" y="12"/>
                  <a:pt x="63" y="13"/>
                  <a:pt x="61" y="13"/>
                </a:cubicBezTo>
                <a:cubicBezTo>
                  <a:pt x="2" y="13"/>
                  <a:pt x="2" y="13"/>
                  <a:pt x="2" y="13"/>
                </a:cubicBezTo>
                <a:cubicBezTo>
                  <a:pt x="1" y="13"/>
                  <a:pt x="0" y="12"/>
                  <a:pt x="0" y="11"/>
                </a:cubicBezTo>
                <a:cubicBezTo>
                  <a:pt x="0" y="2"/>
                  <a:pt x="0" y="2"/>
                  <a:pt x="0" y="2"/>
                </a:cubicBezTo>
                <a:cubicBezTo>
                  <a:pt x="0" y="1"/>
                  <a:pt x="1" y="0"/>
                  <a:pt x="2" y="0"/>
                </a:cubicBezTo>
                <a:cubicBezTo>
                  <a:pt x="61" y="0"/>
                  <a:pt x="61" y="0"/>
                  <a:pt x="61" y="0"/>
                </a:cubicBezTo>
                <a:cubicBezTo>
                  <a:pt x="63" y="0"/>
                  <a:pt x="64" y="1"/>
                  <a:pt x="64" y="2"/>
                </a:cubicBezTo>
                <a:lnTo>
                  <a:pt x="64" y="11"/>
                </a:lnTo>
                <a:close/>
                <a:moveTo>
                  <a:pt x="64" y="29"/>
                </a:moveTo>
                <a:cubicBezTo>
                  <a:pt x="64" y="30"/>
                  <a:pt x="63" y="32"/>
                  <a:pt x="61" y="32"/>
                </a:cubicBezTo>
                <a:cubicBezTo>
                  <a:pt x="2" y="32"/>
                  <a:pt x="2" y="32"/>
                  <a:pt x="2" y="32"/>
                </a:cubicBezTo>
                <a:cubicBezTo>
                  <a:pt x="1" y="32"/>
                  <a:pt x="0" y="30"/>
                  <a:pt x="0" y="29"/>
                </a:cubicBezTo>
                <a:cubicBezTo>
                  <a:pt x="0" y="20"/>
                  <a:pt x="0" y="20"/>
                  <a:pt x="0" y="20"/>
                </a:cubicBezTo>
                <a:cubicBezTo>
                  <a:pt x="0" y="19"/>
                  <a:pt x="1" y="18"/>
                  <a:pt x="2" y="18"/>
                </a:cubicBezTo>
                <a:cubicBezTo>
                  <a:pt x="61" y="18"/>
                  <a:pt x="61" y="18"/>
                  <a:pt x="61" y="18"/>
                </a:cubicBezTo>
                <a:cubicBezTo>
                  <a:pt x="63" y="18"/>
                  <a:pt x="64" y="19"/>
                  <a:pt x="64" y="20"/>
                </a:cubicBezTo>
                <a:lnTo>
                  <a:pt x="64" y="29"/>
                </a:lnTo>
                <a:close/>
                <a:moveTo>
                  <a:pt x="64" y="48"/>
                </a:moveTo>
                <a:cubicBezTo>
                  <a:pt x="64" y="49"/>
                  <a:pt x="63" y="50"/>
                  <a:pt x="61" y="50"/>
                </a:cubicBezTo>
                <a:cubicBezTo>
                  <a:pt x="2" y="50"/>
                  <a:pt x="2" y="50"/>
                  <a:pt x="2" y="50"/>
                </a:cubicBezTo>
                <a:cubicBezTo>
                  <a:pt x="1" y="50"/>
                  <a:pt x="0" y="49"/>
                  <a:pt x="0" y="48"/>
                </a:cubicBezTo>
                <a:cubicBezTo>
                  <a:pt x="0" y="38"/>
                  <a:pt x="0" y="38"/>
                  <a:pt x="0" y="38"/>
                </a:cubicBezTo>
                <a:cubicBezTo>
                  <a:pt x="0" y="37"/>
                  <a:pt x="1" y="36"/>
                  <a:pt x="2" y="36"/>
                </a:cubicBezTo>
                <a:cubicBezTo>
                  <a:pt x="61" y="36"/>
                  <a:pt x="61" y="36"/>
                  <a:pt x="61" y="36"/>
                </a:cubicBezTo>
                <a:cubicBezTo>
                  <a:pt x="63" y="36"/>
                  <a:pt x="64" y="37"/>
                  <a:pt x="64" y="38"/>
                </a:cubicBezTo>
                <a:lnTo>
                  <a:pt x="64" y="48"/>
                </a:lnTo>
                <a:close/>
                <a:moveTo>
                  <a:pt x="59" y="27"/>
                </a:moveTo>
                <a:cubicBezTo>
                  <a:pt x="59" y="22"/>
                  <a:pt x="59" y="22"/>
                  <a:pt x="59" y="22"/>
                </a:cubicBezTo>
                <a:cubicBezTo>
                  <a:pt x="23" y="22"/>
                  <a:pt x="23" y="22"/>
                  <a:pt x="23" y="22"/>
                </a:cubicBezTo>
                <a:cubicBezTo>
                  <a:pt x="23" y="27"/>
                  <a:pt x="23" y="27"/>
                  <a:pt x="23" y="27"/>
                </a:cubicBezTo>
                <a:lnTo>
                  <a:pt x="59" y="27"/>
                </a:lnTo>
                <a:close/>
                <a:moveTo>
                  <a:pt x="59" y="45"/>
                </a:moveTo>
                <a:cubicBezTo>
                  <a:pt x="59" y="41"/>
                  <a:pt x="59" y="41"/>
                  <a:pt x="59" y="41"/>
                </a:cubicBezTo>
                <a:cubicBezTo>
                  <a:pt x="36" y="41"/>
                  <a:pt x="36" y="41"/>
                  <a:pt x="36" y="41"/>
                </a:cubicBezTo>
                <a:cubicBezTo>
                  <a:pt x="36" y="45"/>
                  <a:pt x="36" y="45"/>
                  <a:pt x="36" y="45"/>
                </a:cubicBezTo>
                <a:lnTo>
                  <a:pt x="59" y="45"/>
                </a:lnTo>
                <a:close/>
                <a:moveTo>
                  <a:pt x="59" y="9"/>
                </a:moveTo>
                <a:cubicBezTo>
                  <a:pt x="59" y="4"/>
                  <a:pt x="59" y="4"/>
                  <a:pt x="59" y="4"/>
                </a:cubicBezTo>
                <a:cubicBezTo>
                  <a:pt x="45" y="4"/>
                  <a:pt x="45" y="4"/>
                  <a:pt x="45" y="4"/>
                </a:cubicBezTo>
                <a:cubicBezTo>
                  <a:pt x="45" y="9"/>
                  <a:pt x="45" y="9"/>
                  <a:pt x="45" y="9"/>
                </a:cubicBezTo>
                <a:lnTo>
                  <a:pt x="59" y="9"/>
                </a:lnTo>
                <a:close/>
              </a:path>
            </a:pathLst>
          </a:custGeom>
          <a:solidFill>
            <a:srgbClr val="0098a5"/>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
        <p:nvSpPr>
          <p:cNvPr id="846"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COMPANY TIMELINE</a:t>
            </a:r>
            <a:endParaRPr b="0" lang="en-US" sz="3600" spc="-1" strike="noStrike">
              <a:solidFill>
                <a:srgbClr val="494949"/>
              </a:solidFill>
              <a:latin typeface="Lato Heavy"/>
            </a:endParaRPr>
          </a:p>
        </p:txBody>
      </p:sp>
      <p:sp>
        <p:nvSpPr>
          <p:cNvPr id="847"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373737"/>
                </a:solidFill>
                <a:latin typeface="Open Sans Light"/>
              </a:rPr>
              <a:t>write your relevant text here</a:t>
            </a:r>
            <a:endParaRPr b="0" lang="en-US" sz="1000" spc="-1" strike="noStrike">
              <a:solidFill>
                <a:srgbClr val="494949"/>
              </a:solidFill>
              <a:latin typeface="Open Sans Light"/>
            </a:endParaRPr>
          </a:p>
        </p:txBody>
      </p:sp>
    </p:spTree>
  </p:cSld>
  <p:transition advTm="2000">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1">
                                  <p:stCondLst>
                                    <p:cond delay="0"/>
                                  </p:stCondLst>
                                  <p:childTnLst>
                                    <p:set>
                                      <p:cBhvr>
                                        <p:cTn id="30" dur="1" fill="hold">
                                          <p:stCondLst>
                                            <p:cond delay="0"/>
                                          </p:stCondLst>
                                        </p:cTn>
                                        <p:tgtEl>
                                          <p:spTgt spid="833"/>
                                        </p:tgtEl>
                                        <p:attrNameLst>
                                          <p:attrName>style.visibility</p:attrName>
                                        </p:attrNameLst>
                                      </p:cBhvr>
                                      <p:to>
                                        <p:strVal val="visible"/>
                                      </p:to>
                                    </p:set>
                                    <p:animEffect filter="wipe(up)" transition="in">
                                      <p:cBhvr additive="repl">
                                        <p:cTn id="31" dur="500"/>
                                        <p:tgtEl>
                                          <p:spTgt spid="833"/>
                                        </p:tgtEl>
                                      </p:cBhvr>
                                    </p:animEffect>
                                  </p:childTnLst>
                                </p:cTn>
                              </p:par>
                            </p:childTnLst>
                          </p:cTn>
                        </p:par>
                        <p:par>
                          <p:cTn id="32" fill="hold">
                            <p:stCondLst>
                              <p:cond delay="500"/>
                            </p:stCondLst>
                            <p:childTnLst>
                              <p:par>
                                <p:cTn id="33" nodeType="afterEffect" fill="hold" presetClass="entr" presetID="23" presetSubtype="16">
                                  <p:stCondLst>
                                    <p:cond delay="0"/>
                                  </p:stCondLst>
                                  <p:childTnLst>
                                    <p:set>
                                      <p:cBhvr>
                                        <p:cTn id="34" dur="1" fill="hold">
                                          <p:stCondLst>
                                            <p:cond delay="0"/>
                                          </p:stCondLst>
                                        </p:cTn>
                                        <p:tgtEl>
                                          <p:spTgt spid="834"/>
                                        </p:tgtEl>
                                        <p:attrNameLst>
                                          <p:attrName>style.visibility</p:attrName>
                                        </p:attrNameLst>
                                      </p:cBhvr>
                                      <p:to>
                                        <p:strVal val="visible"/>
                                      </p:to>
                                    </p:set>
                                    <p:anim calcmode="lin" valueType="num">
                                      <p:cBhvr additive="repl">
                                        <p:cTn id="35" dur="500" fill="hold"/>
                                        <p:tgtEl>
                                          <p:spTgt spid="834"/>
                                        </p:tgtEl>
                                        <p:attrNameLst>
                                          <p:attrName>ppt_w</p:attrName>
                                        </p:attrNameLst>
                                      </p:cBhvr>
                                      <p:tavLst>
                                        <p:tav tm="0">
                                          <p:val>
                                            <p:fltVal val="0"/>
                                          </p:val>
                                        </p:tav>
                                        <p:tav tm="100000">
                                          <p:val>
                                            <p:strVal val="#ppt_w"/>
                                          </p:val>
                                        </p:tav>
                                      </p:tavLst>
                                    </p:anim>
                                    <p:anim calcmode="lin" valueType="num">
                                      <p:cBhvr additive="repl">
                                        <p:cTn id="36" dur="500" fill="hold"/>
                                        <p:tgtEl>
                                          <p:spTgt spid="834"/>
                                        </p:tgtEl>
                                        <p:attrNameLst>
                                          <p:attrName>ppt_h</p:attrName>
                                        </p:attrNameLst>
                                      </p:cBhvr>
                                      <p:tavLst>
                                        <p:tav tm="0">
                                          <p:val>
                                            <p:fltVal val="0"/>
                                          </p:val>
                                        </p:tav>
                                        <p:tav tm="100000">
                                          <p:val>
                                            <p:strVal val="#ppt_h"/>
                                          </p:val>
                                        </p:tav>
                                      </p:tavLst>
                                    </p:anim>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829"/>
                                        </p:tgtEl>
                                        <p:attrNameLst>
                                          <p:attrName>style.visibility</p:attrName>
                                        </p:attrNameLst>
                                      </p:cBhvr>
                                      <p:to>
                                        <p:strVal val="visible"/>
                                      </p:to>
                                    </p:set>
                                    <p:animEffect filter="wipe(left)" transition="in">
                                      <p:cBhvr additive="repl">
                                        <p:cTn id="40" dur="500"/>
                                        <p:tgtEl>
                                          <p:spTgt spid="829"/>
                                        </p:tgtEl>
                                      </p:cBhvr>
                                    </p:animEffect>
                                  </p:childTnLst>
                                </p:cTn>
                              </p:par>
                            </p:childTnLst>
                          </p:cTn>
                        </p:par>
                        <p:par>
                          <p:cTn id="41" fill="hold">
                            <p:stCondLst>
                              <p:cond delay="1500"/>
                            </p:stCondLst>
                            <p:childTnLst>
                              <p:par>
                                <p:cTn id="42" nodeType="afterEffect" fill="hold" presetClass="entr" presetID="23" presetSubtype="16">
                                  <p:stCondLst>
                                    <p:cond delay="0"/>
                                  </p:stCondLst>
                                  <p:childTnLst>
                                    <p:set>
                                      <p:cBhvr>
                                        <p:cTn id="43" dur="1" fill="hold">
                                          <p:stCondLst>
                                            <p:cond delay="0"/>
                                          </p:stCondLst>
                                        </p:cTn>
                                        <p:tgtEl>
                                          <p:spTgt spid="844"/>
                                        </p:tgtEl>
                                        <p:attrNameLst>
                                          <p:attrName>style.visibility</p:attrName>
                                        </p:attrNameLst>
                                      </p:cBhvr>
                                      <p:to>
                                        <p:strVal val="visible"/>
                                      </p:to>
                                    </p:set>
                                    <p:anim calcmode="lin" valueType="num">
                                      <p:cBhvr additive="repl">
                                        <p:cTn id="44" dur="500" fill="hold"/>
                                        <p:tgtEl>
                                          <p:spTgt spid="844"/>
                                        </p:tgtEl>
                                        <p:attrNameLst>
                                          <p:attrName>ppt_w</p:attrName>
                                        </p:attrNameLst>
                                      </p:cBhvr>
                                      <p:tavLst>
                                        <p:tav tm="0">
                                          <p:val>
                                            <p:fltVal val="0"/>
                                          </p:val>
                                        </p:tav>
                                        <p:tav tm="100000">
                                          <p:val>
                                            <p:strVal val="#ppt_w"/>
                                          </p:val>
                                        </p:tav>
                                      </p:tavLst>
                                    </p:anim>
                                    <p:anim calcmode="lin" valueType="num">
                                      <p:cBhvr additive="repl">
                                        <p:cTn id="45" dur="500" fill="hold"/>
                                        <p:tgtEl>
                                          <p:spTgt spid="844"/>
                                        </p:tgtEl>
                                        <p:attrNameLst>
                                          <p:attrName>ppt_h</p:attrName>
                                        </p:attrNameLst>
                                      </p:cBhvr>
                                      <p:tavLst>
                                        <p:tav tm="0">
                                          <p:val>
                                            <p:fltVal val="0"/>
                                          </p:val>
                                        </p:tav>
                                        <p:tav tm="100000">
                                          <p:val>
                                            <p:strVal val="#ppt_h"/>
                                          </p:val>
                                        </p:tav>
                                      </p:tavLst>
                                    </p:anim>
                                  </p:childTnLst>
                                </p:cTn>
                              </p:par>
                            </p:childTnLst>
                          </p:cTn>
                        </p:par>
                        <p:par>
                          <p:cTn id="46"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831"/>
                                        </p:tgtEl>
                                        <p:attrNameLst>
                                          <p:attrName>style.visibility</p:attrName>
                                        </p:attrNameLst>
                                      </p:cBhvr>
                                      <p:to>
                                        <p:strVal val="visible"/>
                                      </p:to>
                                    </p:set>
                                    <p:animEffect filter="wipe(up)" transition="in">
                                      <p:cBhvr additive="repl">
                                        <p:cTn id="49" dur="500"/>
                                        <p:tgtEl>
                                          <p:spTgt spid="831"/>
                                        </p:tgtEl>
                                      </p:cBhvr>
                                    </p:animEffect>
                                  </p:childTnLst>
                                </p:cTn>
                              </p:par>
                            </p:childTnLst>
                          </p:cTn>
                        </p:par>
                        <p:par>
                          <p:cTn id="50" fill="hold">
                            <p:stCondLst>
                              <p:cond delay="2500"/>
                            </p:stCondLst>
                            <p:childTnLst>
                              <p:par>
                                <p:cTn id="51" nodeType="afterEffect" fill="hold" presetClass="entr" presetID="23" presetSubtype="16">
                                  <p:stCondLst>
                                    <p:cond delay="0"/>
                                  </p:stCondLst>
                                  <p:childTnLst>
                                    <p:set>
                                      <p:cBhvr>
                                        <p:cTn id="52" dur="1" fill="hold">
                                          <p:stCondLst>
                                            <p:cond delay="0"/>
                                          </p:stCondLst>
                                        </p:cTn>
                                        <p:tgtEl>
                                          <p:spTgt spid="837"/>
                                        </p:tgtEl>
                                        <p:attrNameLst>
                                          <p:attrName>style.visibility</p:attrName>
                                        </p:attrNameLst>
                                      </p:cBhvr>
                                      <p:to>
                                        <p:strVal val="visible"/>
                                      </p:to>
                                    </p:set>
                                    <p:anim calcmode="lin" valueType="num">
                                      <p:cBhvr additive="repl">
                                        <p:cTn id="53" dur="500" fill="hold"/>
                                        <p:tgtEl>
                                          <p:spTgt spid="837"/>
                                        </p:tgtEl>
                                        <p:attrNameLst>
                                          <p:attrName>ppt_w</p:attrName>
                                        </p:attrNameLst>
                                      </p:cBhvr>
                                      <p:tavLst>
                                        <p:tav tm="0">
                                          <p:val>
                                            <p:fltVal val="0"/>
                                          </p:val>
                                        </p:tav>
                                        <p:tav tm="100000">
                                          <p:val>
                                            <p:strVal val="#ppt_w"/>
                                          </p:val>
                                        </p:tav>
                                      </p:tavLst>
                                    </p:anim>
                                    <p:anim calcmode="lin" valueType="num">
                                      <p:cBhvr additive="repl">
                                        <p:cTn id="54" dur="500" fill="hold"/>
                                        <p:tgtEl>
                                          <p:spTgt spid="837"/>
                                        </p:tgtEl>
                                        <p:attrNameLst>
                                          <p:attrName>ppt_h</p:attrName>
                                        </p:attrNameLst>
                                      </p:cBhvr>
                                      <p:tavLst>
                                        <p:tav tm="0">
                                          <p:val>
                                            <p:fltVal val="0"/>
                                          </p:val>
                                        </p:tav>
                                        <p:tav tm="100000">
                                          <p:val>
                                            <p:strVal val="#ppt_h"/>
                                          </p:val>
                                        </p:tav>
                                      </p:tavLst>
                                    </p:anim>
                                  </p:childTnLst>
                                </p:cTn>
                              </p:par>
                            </p:childTnLst>
                          </p:cTn>
                        </p:par>
                        <p:par>
                          <p:cTn id="55" fill="hold">
                            <p:stCondLst>
                              <p:cond delay="3000"/>
                            </p:stCondLst>
                            <p:childTnLst>
                              <p:par>
                                <p:cTn id="56" nodeType="afterEffect" fill="hold" presetClass="entr" presetID="22" presetSubtype="2">
                                  <p:stCondLst>
                                    <p:cond delay="0"/>
                                  </p:stCondLst>
                                  <p:childTnLst>
                                    <p:set>
                                      <p:cBhvr>
                                        <p:cTn id="57" dur="1" fill="hold">
                                          <p:stCondLst>
                                            <p:cond delay="0"/>
                                          </p:stCondLst>
                                        </p:cTn>
                                        <p:tgtEl>
                                          <p:spTgt spid="830"/>
                                        </p:tgtEl>
                                        <p:attrNameLst>
                                          <p:attrName>style.visibility</p:attrName>
                                        </p:attrNameLst>
                                      </p:cBhvr>
                                      <p:to>
                                        <p:strVal val="visible"/>
                                      </p:to>
                                    </p:set>
                                    <p:animEffect filter="wipe(right)" transition="in">
                                      <p:cBhvr additive="repl">
                                        <p:cTn id="58" dur="500"/>
                                        <p:tgtEl>
                                          <p:spTgt spid="830"/>
                                        </p:tgtEl>
                                      </p:cBhvr>
                                    </p:animEffect>
                                  </p:childTnLst>
                                </p:cTn>
                              </p:par>
                            </p:childTnLst>
                          </p:cTn>
                        </p:par>
                        <p:par>
                          <p:cTn id="59" fill="hold">
                            <p:stCondLst>
                              <p:cond delay="3500"/>
                            </p:stCondLst>
                            <p:childTnLst>
                              <p:par>
                                <p:cTn id="60" nodeType="afterEffect" fill="hold" presetClass="entr" presetID="23" presetSubtype="16">
                                  <p:stCondLst>
                                    <p:cond delay="0"/>
                                  </p:stCondLst>
                                  <p:childTnLst>
                                    <p:set>
                                      <p:cBhvr>
                                        <p:cTn id="61" dur="1" fill="hold">
                                          <p:stCondLst>
                                            <p:cond delay="0"/>
                                          </p:stCondLst>
                                        </p:cTn>
                                        <p:tgtEl>
                                          <p:spTgt spid="845"/>
                                        </p:tgtEl>
                                        <p:attrNameLst>
                                          <p:attrName>style.visibility</p:attrName>
                                        </p:attrNameLst>
                                      </p:cBhvr>
                                      <p:to>
                                        <p:strVal val="visible"/>
                                      </p:to>
                                    </p:set>
                                    <p:anim calcmode="lin" valueType="num">
                                      <p:cBhvr additive="repl">
                                        <p:cTn id="62" dur="500" fill="hold"/>
                                        <p:tgtEl>
                                          <p:spTgt spid="845"/>
                                        </p:tgtEl>
                                        <p:attrNameLst>
                                          <p:attrName>ppt_w</p:attrName>
                                        </p:attrNameLst>
                                      </p:cBhvr>
                                      <p:tavLst>
                                        <p:tav tm="0">
                                          <p:val>
                                            <p:fltVal val="0"/>
                                          </p:val>
                                        </p:tav>
                                        <p:tav tm="100000">
                                          <p:val>
                                            <p:strVal val="#ppt_w"/>
                                          </p:val>
                                        </p:tav>
                                      </p:tavLst>
                                    </p:anim>
                                    <p:anim calcmode="lin" valueType="num">
                                      <p:cBhvr additive="repl">
                                        <p:cTn id="63" dur="500" fill="hold"/>
                                        <p:tgtEl>
                                          <p:spTgt spid="845"/>
                                        </p:tgtEl>
                                        <p:attrNameLst>
                                          <p:attrName>ppt_h</p:attrName>
                                        </p:attrNameLst>
                                      </p:cBhvr>
                                      <p:tavLst>
                                        <p:tav tm="0">
                                          <p:val>
                                            <p:fltVal val="0"/>
                                          </p:val>
                                        </p:tav>
                                        <p:tav tm="100000">
                                          <p:val>
                                            <p:strVal val="#ppt_h"/>
                                          </p:val>
                                        </p:tav>
                                      </p:tavLst>
                                    </p:anim>
                                  </p:childTnLst>
                                </p:cTn>
                              </p:par>
                            </p:childTnLst>
                          </p:cTn>
                        </p:par>
                        <p:par>
                          <p:cTn id="64" fill="hold">
                            <p:stCondLst>
                              <p:cond delay="4000"/>
                            </p:stCondLst>
                            <p:childTnLst>
                              <p:par>
                                <p:cTn id="65" nodeType="afterEffect" fill="hold" presetClass="entr" presetID="22" presetSubtype="1">
                                  <p:stCondLst>
                                    <p:cond delay="0"/>
                                  </p:stCondLst>
                                  <p:childTnLst>
                                    <p:set>
                                      <p:cBhvr>
                                        <p:cTn id="66" dur="1" fill="hold">
                                          <p:stCondLst>
                                            <p:cond delay="0"/>
                                          </p:stCondLst>
                                        </p:cTn>
                                        <p:tgtEl>
                                          <p:spTgt spid="832"/>
                                        </p:tgtEl>
                                        <p:attrNameLst>
                                          <p:attrName>style.visibility</p:attrName>
                                        </p:attrNameLst>
                                      </p:cBhvr>
                                      <p:to>
                                        <p:strVal val="visible"/>
                                      </p:to>
                                    </p:set>
                                    <p:animEffect filter="wipe(up)" transition="in">
                                      <p:cBhvr additive="repl">
                                        <p:cTn id="67"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traight Connector 32"/>
          <p:cNvSpPr/>
          <p:nvPr/>
        </p:nvSpPr>
        <p:spPr>
          <a:xfrm flipH="1">
            <a:off x="6094080" y="1440"/>
            <a:ext cx="3240" cy="2514600"/>
          </a:xfrm>
          <a:prstGeom prst="line">
            <a:avLst/>
          </a:prstGeom>
          <a:ln w="57240">
            <a:solidFill>
              <a:srgbClr val="0098a5"/>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sp>
        <p:nvSpPr>
          <p:cNvPr id="849" name="Freeform 116"/>
          <p:cNvSpPr/>
          <p:nvPr/>
        </p:nvSpPr>
        <p:spPr>
          <a:xfrm>
            <a:off x="9042480" y="1720800"/>
            <a:ext cx="685800" cy="554040"/>
          </a:xfrm>
          <a:custGeom>
            <a:avLst/>
            <a:gdLst/>
            <a:ahLst/>
            <a:rect l="l" t="t" r="r" b="b"/>
            <a:pathLst>
              <a:path w="57" h="46">
                <a:moveTo>
                  <a:pt x="55" y="27"/>
                </a:moveTo>
                <a:cubicBezTo>
                  <a:pt x="55" y="27"/>
                  <a:pt x="54" y="27"/>
                  <a:pt x="54" y="27"/>
                </a:cubicBezTo>
                <a:cubicBezTo>
                  <a:pt x="54" y="27"/>
                  <a:pt x="54" y="27"/>
                  <a:pt x="54" y="27"/>
                </a:cubicBezTo>
                <a:cubicBezTo>
                  <a:pt x="54" y="27"/>
                  <a:pt x="53" y="27"/>
                  <a:pt x="53" y="27"/>
                </a:cubicBezTo>
                <a:cubicBezTo>
                  <a:pt x="28" y="6"/>
                  <a:pt x="28" y="6"/>
                  <a:pt x="28" y="6"/>
                </a:cubicBezTo>
                <a:cubicBezTo>
                  <a:pt x="4" y="27"/>
                  <a:pt x="4" y="27"/>
                  <a:pt x="4" y="27"/>
                </a:cubicBezTo>
                <a:cubicBezTo>
                  <a:pt x="4" y="27"/>
                  <a:pt x="3" y="27"/>
                  <a:pt x="3" y="27"/>
                </a:cubicBezTo>
                <a:cubicBezTo>
                  <a:pt x="3" y="27"/>
                  <a:pt x="2" y="27"/>
                  <a:pt x="2" y="27"/>
                </a:cubicBezTo>
                <a:cubicBezTo>
                  <a:pt x="0" y="24"/>
                  <a:pt x="0" y="24"/>
                  <a:pt x="0" y="24"/>
                </a:cubicBezTo>
                <a:cubicBezTo>
                  <a:pt x="0" y="24"/>
                  <a:pt x="0" y="23"/>
                  <a:pt x="0" y="23"/>
                </a:cubicBezTo>
                <a:cubicBezTo>
                  <a:pt x="26" y="1"/>
                  <a:pt x="26" y="1"/>
                  <a:pt x="26" y="1"/>
                </a:cubicBezTo>
                <a:cubicBezTo>
                  <a:pt x="27" y="0"/>
                  <a:pt x="30" y="0"/>
                  <a:pt x="31" y="1"/>
                </a:cubicBezTo>
                <a:cubicBezTo>
                  <a:pt x="40" y="8"/>
                  <a:pt x="40" y="8"/>
                  <a:pt x="40" y="8"/>
                </a:cubicBezTo>
                <a:cubicBezTo>
                  <a:pt x="40" y="1"/>
                  <a:pt x="40" y="1"/>
                  <a:pt x="40" y="1"/>
                </a:cubicBezTo>
                <a:cubicBezTo>
                  <a:pt x="40" y="1"/>
                  <a:pt x="40" y="0"/>
                  <a:pt x="41" y="0"/>
                </a:cubicBezTo>
                <a:cubicBezTo>
                  <a:pt x="48" y="0"/>
                  <a:pt x="48" y="0"/>
                  <a:pt x="48" y="0"/>
                </a:cubicBezTo>
                <a:cubicBezTo>
                  <a:pt x="49" y="0"/>
                  <a:pt x="49" y="1"/>
                  <a:pt x="49" y="1"/>
                </a:cubicBezTo>
                <a:cubicBezTo>
                  <a:pt x="49" y="16"/>
                  <a:pt x="49" y="16"/>
                  <a:pt x="49" y="16"/>
                </a:cubicBezTo>
                <a:cubicBezTo>
                  <a:pt x="57" y="23"/>
                  <a:pt x="57" y="23"/>
                  <a:pt x="57" y="23"/>
                </a:cubicBezTo>
                <a:cubicBezTo>
                  <a:pt x="57" y="23"/>
                  <a:pt x="57" y="24"/>
                  <a:pt x="57" y="24"/>
                </a:cubicBezTo>
                <a:lnTo>
                  <a:pt x="55" y="27"/>
                </a:lnTo>
                <a:close/>
                <a:moveTo>
                  <a:pt x="49" y="44"/>
                </a:moveTo>
                <a:cubicBezTo>
                  <a:pt x="49" y="45"/>
                  <a:pt x="48" y="46"/>
                  <a:pt x="47" y="46"/>
                </a:cubicBezTo>
                <a:cubicBezTo>
                  <a:pt x="33" y="46"/>
                  <a:pt x="33" y="46"/>
                  <a:pt x="33" y="46"/>
                </a:cubicBezTo>
                <a:cubicBezTo>
                  <a:pt x="33" y="32"/>
                  <a:pt x="33" y="32"/>
                  <a:pt x="33" y="32"/>
                </a:cubicBezTo>
                <a:cubicBezTo>
                  <a:pt x="24" y="32"/>
                  <a:pt x="24" y="32"/>
                  <a:pt x="24" y="32"/>
                </a:cubicBezTo>
                <a:cubicBezTo>
                  <a:pt x="24" y="46"/>
                  <a:pt x="24" y="46"/>
                  <a:pt x="24" y="46"/>
                </a:cubicBezTo>
                <a:cubicBezTo>
                  <a:pt x="10" y="46"/>
                  <a:pt x="10" y="46"/>
                  <a:pt x="10" y="46"/>
                </a:cubicBezTo>
                <a:cubicBezTo>
                  <a:pt x="9" y="46"/>
                  <a:pt x="8" y="45"/>
                  <a:pt x="8" y="44"/>
                </a:cubicBezTo>
                <a:cubicBezTo>
                  <a:pt x="8" y="27"/>
                  <a:pt x="8" y="27"/>
                  <a:pt x="8" y="27"/>
                </a:cubicBezTo>
                <a:cubicBezTo>
                  <a:pt x="8" y="27"/>
                  <a:pt x="8" y="26"/>
                  <a:pt x="8" y="26"/>
                </a:cubicBezTo>
                <a:cubicBezTo>
                  <a:pt x="28" y="9"/>
                  <a:pt x="28" y="9"/>
                  <a:pt x="28" y="9"/>
                </a:cubicBezTo>
                <a:cubicBezTo>
                  <a:pt x="49" y="26"/>
                  <a:pt x="49" y="26"/>
                  <a:pt x="49" y="26"/>
                </a:cubicBezTo>
                <a:cubicBezTo>
                  <a:pt x="49" y="26"/>
                  <a:pt x="49" y="27"/>
                  <a:pt x="49" y="27"/>
                </a:cubicBezTo>
                <a:lnTo>
                  <a:pt x="49" y="44"/>
                </a:lnTo>
                <a:close/>
              </a:path>
            </a:pathLst>
          </a:custGeom>
          <a:solidFill>
            <a:srgbClr val="1991ab"/>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
        <p:nvSpPr>
          <p:cNvPr id="850" name="Straight Connector 13"/>
          <p:cNvSpPr/>
          <p:nvPr/>
        </p:nvSpPr>
        <p:spPr>
          <a:xfrm>
            <a:off x="6383160" y="2324160"/>
            <a:ext cx="3286440" cy="17280"/>
          </a:xfrm>
          <a:prstGeom prst="line">
            <a:avLst/>
          </a:prstGeom>
          <a:ln w="38160">
            <a:solidFill>
              <a:srgbClr val="1991ab"/>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494949"/>
              </a:solidFill>
              <a:latin typeface="Open Sans Light"/>
            </a:endParaRPr>
          </a:p>
        </p:txBody>
      </p:sp>
      <p:sp>
        <p:nvSpPr>
          <p:cNvPr id="851" name="Straight Connector 14"/>
          <p:cNvSpPr/>
          <p:nvPr/>
        </p:nvSpPr>
        <p:spPr>
          <a:xfrm>
            <a:off x="2522520" y="4444920"/>
            <a:ext cx="3286080" cy="15840"/>
          </a:xfrm>
          <a:prstGeom prst="line">
            <a:avLst/>
          </a:prstGeom>
          <a:ln w="38160">
            <a:solidFill>
              <a:srgbClr val="2b85ae"/>
            </a:solidFill>
            <a:prstDash val="sysDot"/>
            <a:miter/>
          </a:ln>
        </p:spPr>
        <p:style>
          <a:lnRef idx="0"/>
          <a:fillRef idx="0"/>
          <a:effectRef idx="0"/>
          <a:fontRef idx="minor"/>
        </p:style>
        <p:txBody>
          <a:bodyPr lIns="90000" rIns="90000" tIns="-30960" bIns="-30960" anchor="t">
            <a:noAutofit/>
          </a:bodyPr>
          <a:p>
            <a:endParaRPr b="0" lang="en-US" sz="1800" spc="-1" strike="noStrike">
              <a:solidFill>
                <a:srgbClr val="494949"/>
              </a:solidFill>
              <a:latin typeface="Open Sans Light"/>
            </a:endParaRPr>
          </a:p>
        </p:txBody>
      </p:sp>
      <p:sp>
        <p:nvSpPr>
          <p:cNvPr id="852" name="Straight Connector 15"/>
          <p:cNvSpPr/>
          <p:nvPr/>
        </p:nvSpPr>
        <p:spPr>
          <a:xfrm flipH="1">
            <a:off x="6094440" y="2638440"/>
            <a:ext cx="1440" cy="2019240"/>
          </a:xfrm>
          <a:prstGeom prst="line">
            <a:avLst/>
          </a:prstGeom>
          <a:ln w="57240">
            <a:solidFill>
              <a:srgbClr val="1991ab"/>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sp>
        <p:nvSpPr>
          <p:cNvPr id="853" name="Straight Connector 16"/>
          <p:cNvSpPr/>
          <p:nvPr/>
        </p:nvSpPr>
        <p:spPr>
          <a:xfrm flipH="1">
            <a:off x="6094440" y="4757760"/>
            <a:ext cx="1440" cy="2066760"/>
          </a:xfrm>
          <a:prstGeom prst="line">
            <a:avLst/>
          </a:prstGeom>
          <a:ln w="57240">
            <a:solidFill>
              <a:srgbClr val="2b85ae"/>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grpSp>
        <p:nvGrpSpPr>
          <p:cNvPr id="854" name="Group 20"/>
          <p:cNvGrpSpPr/>
          <p:nvPr/>
        </p:nvGrpSpPr>
        <p:grpSpPr>
          <a:xfrm>
            <a:off x="5791320" y="2028960"/>
            <a:ext cx="609480" cy="609480"/>
            <a:chOff x="5791320" y="2028960"/>
            <a:chExt cx="609480" cy="609480"/>
          </a:xfrm>
        </p:grpSpPr>
        <p:sp>
          <p:nvSpPr>
            <p:cNvPr id="855" name="Oval 21"/>
            <p:cNvSpPr/>
            <p:nvPr/>
          </p:nvSpPr>
          <p:spPr>
            <a:xfrm>
              <a:off x="5791320" y="2028960"/>
              <a:ext cx="609480" cy="609480"/>
            </a:xfrm>
            <a:prstGeom prst="ellipse">
              <a:avLst/>
            </a:prstGeom>
            <a:solidFill>
              <a:srgbClr val="ffffff"/>
            </a:solidFill>
            <a:ln w="6480">
              <a:solidFill>
                <a:srgbClr val="1991ab"/>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56" name="Oval 22"/>
            <p:cNvSpPr/>
            <p:nvPr/>
          </p:nvSpPr>
          <p:spPr>
            <a:xfrm>
              <a:off x="5877360" y="2115000"/>
              <a:ext cx="437400" cy="437400"/>
            </a:xfrm>
            <a:prstGeom prst="ellipse">
              <a:avLst/>
            </a:prstGeom>
            <a:solidFill>
              <a:srgbClr val="1991ab"/>
            </a:solidFill>
            <a:ln w="6480">
              <a:solidFill>
                <a:srgbClr val="1991ab"/>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857" name="Group 23"/>
          <p:cNvGrpSpPr/>
          <p:nvPr/>
        </p:nvGrpSpPr>
        <p:grpSpPr>
          <a:xfrm>
            <a:off x="5791320" y="4148280"/>
            <a:ext cx="609480" cy="609480"/>
            <a:chOff x="5791320" y="4148280"/>
            <a:chExt cx="609480" cy="609480"/>
          </a:xfrm>
        </p:grpSpPr>
        <p:sp>
          <p:nvSpPr>
            <p:cNvPr id="858" name="Oval 24"/>
            <p:cNvSpPr/>
            <p:nvPr/>
          </p:nvSpPr>
          <p:spPr>
            <a:xfrm>
              <a:off x="5791320" y="4148280"/>
              <a:ext cx="609480" cy="609480"/>
            </a:xfrm>
            <a:prstGeom prst="ellipse">
              <a:avLst/>
            </a:prstGeom>
            <a:solidFill>
              <a:srgbClr val="ffffff"/>
            </a:solidFill>
            <a:ln w="6480">
              <a:solidFill>
                <a:srgbClr val="2b85ae"/>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59" name="Oval 25"/>
            <p:cNvSpPr/>
            <p:nvPr/>
          </p:nvSpPr>
          <p:spPr>
            <a:xfrm>
              <a:off x="5877360" y="4234320"/>
              <a:ext cx="437400" cy="437400"/>
            </a:xfrm>
            <a:prstGeom prst="ellipse">
              <a:avLst/>
            </a:prstGeom>
            <a:solidFill>
              <a:srgbClr val="2b85ae"/>
            </a:solidFill>
            <a:ln w="6480">
              <a:solidFill>
                <a:srgbClr val="2b85ae"/>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860" name="TextBox 27"/>
          <p:cNvSpPr/>
          <p:nvPr/>
        </p:nvSpPr>
        <p:spPr>
          <a:xfrm>
            <a:off x="6399360" y="2876400"/>
            <a:ext cx="3509640" cy="837360"/>
          </a:xfrm>
          <a:prstGeom prst="rect">
            <a:avLst/>
          </a:prstGeom>
          <a:noFill/>
          <a:ln w="0">
            <a:noFill/>
          </a:ln>
        </p:spPr>
        <p:style>
          <a:lnRef idx="0"/>
          <a:fillRef idx="0"/>
          <a:effectRef idx="0"/>
          <a:fontRef idx="minor"/>
        </p:style>
        <p:txBody>
          <a:bodyPr lIns="0" rIns="0" tIns="0" bIns="0" anchor="t">
            <a:spAutoFit/>
          </a:bodyPr>
          <a:p>
            <a:pP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61" name="Rectangle 28"/>
          <p:cNvSpPr/>
          <p:nvPr/>
        </p:nvSpPr>
        <p:spPr>
          <a:xfrm>
            <a:off x="6367320" y="249552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1991ab"/>
                </a:solidFill>
                <a:latin typeface="Lato"/>
              </a:rPr>
              <a:t>TITLE GOSE HERE</a:t>
            </a:r>
            <a:endParaRPr b="0" lang="en-US" sz="1600" spc="-1" strike="noStrike">
              <a:solidFill>
                <a:srgbClr val="494949"/>
              </a:solidFill>
              <a:latin typeface="Open Sans Light"/>
            </a:endParaRPr>
          </a:p>
        </p:txBody>
      </p:sp>
      <p:sp>
        <p:nvSpPr>
          <p:cNvPr id="862" name="TextBox 30"/>
          <p:cNvSpPr/>
          <p:nvPr/>
        </p:nvSpPr>
        <p:spPr>
          <a:xfrm>
            <a:off x="2279520" y="4991040"/>
            <a:ext cx="3510000" cy="837360"/>
          </a:xfrm>
          <a:prstGeom prst="rect">
            <a:avLst/>
          </a:prstGeom>
          <a:noFill/>
          <a:ln w="0">
            <a:noFill/>
          </a:ln>
        </p:spPr>
        <p:style>
          <a:lnRef idx="0"/>
          <a:fillRef idx="0"/>
          <a:effectRef idx="0"/>
          <a:fontRef idx="minor"/>
        </p:style>
        <p:txBody>
          <a:bodyPr lIns="0" rIns="0" tIns="0" bIns="0" anchor="t">
            <a:spAutoFit/>
          </a:bodyPr>
          <a:p>
            <a:pPr algn="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63" name="Rectangle 31"/>
          <p:cNvSpPr/>
          <p:nvPr/>
        </p:nvSpPr>
        <p:spPr>
          <a:xfrm>
            <a:off x="3922560" y="4610160"/>
            <a:ext cx="1875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267a5"/>
                </a:solidFill>
                <a:latin typeface="Lato"/>
              </a:rPr>
              <a:t>TITLE GOSE HERE</a:t>
            </a:r>
            <a:endParaRPr b="0" lang="en-US" sz="1600" spc="-1" strike="noStrike">
              <a:solidFill>
                <a:srgbClr val="494949"/>
              </a:solidFill>
              <a:latin typeface="Open Sans Light"/>
            </a:endParaRPr>
          </a:p>
        </p:txBody>
      </p:sp>
      <p:sp>
        <p:nvSpPr>
          <p:cNvPr id="864" name="Freeform 166"/>
          <p:cNvSpPr/>
          <p:nvPr/>
        </p:nvSpPr>
        <p:spPr>
          <a:xfrm>
            <a:off x="2577960" y="3776760"/>
            <a:ext cx="770040" cy="603000"/>
          </a:xfrm>
          <a:custGeom>
            <a:avLst/>
            <a:gdLst/>
            <a:ahLst/>
            <a:rect l="l" t="t" r="r" b="b"/>
            <a:pathLst>
              <a:path w="64" h="50">
                <a:moveTo>
                  <a:pt x="64" y="14"/>
                </a:moveTo>
                <a:cubicBezTo>
                  <a:pt x="45" y="14"/>
                  <a:pt x="45" y="14"/>
                  <a:pt x="45" y="14"/>
                </a:cubicBezTo>
                <a:cubicBezTo>
                  <a:pt x="45" y="14"/>
                  <a:pt x="45" y="14"/>
                  <a:pt x="45" y="14"/>
                </a:cubicBezTo>
                <a:cubicBezTo>
                  <a:pt x="45" y="12"/>
                  <a:pt x="44" y="10"/>
                  <a:pt x="32" y="10"/>
                </a:cubicBezTo>
                <a:cubicBezTo>
                  <a:pt x="19" y="10"/>
                  <a:pt x="18" y="12"/>
                  <a:pt x="18" y="14"/>
                </a:cubicBezTo>
                <a:cubicBezTo>
                  <a:pt x="18" y="14"/>
                  <a:pt x="18" y="14"/>
                  <a:pt x="18" y="14"/>
                </a:cubicBezTo>
                <a:cubicBezTo>
                  <a:pt x="0" y="14"/>
                  <a:pt x="0" y="14"/>
                  <a:pt x="0" y="14"/>
                </a:cubicBezTo>
                <a:cubicBezTo>
                  <a:pt x="0" y="14"/>
                  <a:pt x="0" y="14"/>
                  <a:pt x="0" y="14"/>
                </a:cubicBezTo>
                <a:cubicBezTo>
                  <a:pt x="0" y="11"/>
                  <a:pt x="4" y="0"/>
                  <a:pt x="32" y="0"/>
                </a:cubicBezTo>
                <a:cubicBezTo>
                  <a:pt x="59" y="0"/>
                  <a:pt x="64" y="11"/>
                  <a:pt x="64" y="14"/>
                </a:cubicBezTo>
                <a:close/>
                <a:moveTo>
                  <a:pt x="0" y="20"/>
                </a:moveTo>
                <a:cubicBezTo>
                  <a:pt x="0" y="15"/>
                  <a:pt x="0" y="15"/>
                  <a:pt x="0" y="15"/>
                </a:cubicBezTo>
                <a:cubicBezTo>
                  <a:pt x="18" y="15"/>
                  <a:pt x="18" y="15"/>
                  <a:pt x="18" y="15"/>
                </a:cubicBezTo>
                <a:cubicBezTo>
                  <a:pt x="18" y="20"/>
                  <a:pt x="18" y="20"/>
                  <a:pt x="18" y="20"/>
                </a:cubicBezTo>
                <a:cubicBezTo>
                  <a:pt x="18" y="21"/>
                  <a:pt x="17" y="22"/>
                  <a:pt x="16" y="22"/>
                </a:cubicBezTo>
                <a:cubicBezTo>
                  <a:pt x="2" y="22"/>
                  <a:pt x="2" y="22"/>
                  <a:pt x="2" y="22"/>
                </a:cubicBezTo>
                <a:cubicBezTo>
                  <a:pt x="1" y="22"/>
                  <a:pt x="0" y="21"/>
                  <a:pt x="0" y="20"/>
                </a:cubicBezTo>
                <a:close/>
                <a:moveTo>
                  <a:pt x="9" y="35"/>
                </a:moveTo>
                <a:cubicBezTo>
                  <a:pt x="9" y="36"/>
                  <a:pt x="8" y="36"/>
                  <a:pt x="8" y="36"/>
                </a:cubicBezTo>
                <a:cubicBezTo>
                  <a:pt x="1" y="36"/>
                  <a:pt x="1" y="36"/>
                  <a:pt x="1" y="36"/>
                </a:cubicBezTo>
                <a:cubicBezTo>
                  <a:pt x="0" y="36"/>
                  <a:pt x="0" y="36"/>
                  <a:pt x="0" y="35"/>
                </a:cubicBezTo>
                <a:cubicBezTo>
                  <a:pt x="0" y="28"/>
                  <a:pt x="0" y="28"/>
                  <a:pt x="0" y="28"/>
                </a:cubicBezTo>
                <a:cubicBezTo>
                  <a:pt x="0" y="27"/>
                  <a:pt x="0" y="27"/>
                  <a:pt x="1" y="27"/>
                </a:cubicBezTo>
                <a:cubicBezTo>
                  <a:pt x="8" y="27"/>
                  <a:pt x="8" y="27"/>
                  <a:pt x="8" y="27"/>
                </a:cubicBezTo>
                <a:cubicBezTo>
                  <a:pt x="8" y="27"/>
                  <a:pt x="9" y="27"/>
                  <a:pt x="9" y="28"/>
                </a:cubicBezTo>
                <a:lnTo>
                  <a:pt x="9" y="35"/>
                </a:lnTo>
                <a:close/>
                <a:moveTo>
                  <a:pt x="16" y="49"/>
                </a:moveTo>
                <a:cubicBezTo>
                  <a:pt x="16" y="49"/>
                  <a:pt x="15" y="50"/>
                  <a:pt x="15" y="50"/>
                </a:cubicBezTo>
                <a:cubicBezTo>
                  <a:pt x="8" y="50"/>
                  <a:pt x="8" y="50"/>
                  <a:pt x="8" y="50"/>
                </a:cubicBezTo>
                <a:cubicBezTo>
                  <a:pt x="7" y="50"/>
                  <a:pt x="7" y="49"/>
                  <a:pt x="7" y="49"/>
                </a:cubicBezTo>
                <a:cubicBezTo>
                  <a:pt x="7" y="42"/>
                  <a:pt x="7" y="42"/>
                  <a:pt x="7" y="42"/>
                </a:cubicBezTo>
                <a:cubicBezTo>
                  <a:pt x="7" y="41"/>
                  <a:pt x="7" y="41"/>
                  <a:pt x="8" y="41"/>
                </a:cubicBezTo>
                <a:cubicBezTo>
                  <a:pt x="15" y="41"/>
                  <a:pt x="15" y="41"/>
                  <a:pt x="15" y="41"/>
                </a:cubicBezTo>
                <a:cubicBezTo>
                  <a:pt x="15" y="41"/>
                  <a:pt x="16" y="41"/>
                  <a:pt x="16" y="42"/>
                </a:cubicBezTo>
                <a:lnTo>
                  <a:pt x="16" y="49"/>
                </a:lnTo>
                <a:close/>
                <a:moveTo>
                  <a:pt x="23" y="35"/>
                </a:moveTo>
                <a:cubicBezTo>
                  <a:pt x="23" y="36"/>
                  <a:pt x="22" y="36"/>
                  <a:pt x="21" y="36"/>
                </a:cubicBezTo>
                <a:cubicBezTo>
                  <a:pt x="15" y="36"/>
                  <a:pt x="15" y="36"/>
                  <a:pt x="15" y="36"/>
                </a:cubicBezTo>
                <a:cubicBezTo>
                  <a:pt x="14" y="36"/>
                  <a:pt x="13" y="36"/>
                  <a:pt x="13" y="35"/>
                </a:cubicBezTo>
                <a:cubicBezTo>
                  <a:pt x="13" y="28"/>
                  <a:pt x="13" y="28"/>
                  <a:pt x="13" y="28"/>
                </a:cubicBezTo>
                <a:cubicBezTo>
                  <a:pt x="13" y="27"/>
                  <a:pt x="14" y="27"/>
                  <a:pt x="15" y="27"/>
                </a:cubicBezTo>
                <a:cubicBezTo>
                  <a:pt x="21" y="27"/>
                  <a:pt x="21" y="27"/>
                  <a:pt x="21" y="27"/>
                </a:cubicBezTo>
                <a:cubicBezTo>
                  <a:pt x="22" y="27"/>
                  <a:pt x="23" y="27"/>
                  <a:pt x="23" y="28"/>
                </a:cubicBezTo>
                <a:lnTo>
                  <a:pt x="23" y="35"/>
                </a:lnTo>
                <a:close/>
                <a:moveTo>
                  <a:pt x="29" y="49"/>
                </a:moveTo>
                <a:cubicBezTo>
                  <a:pt x="29" y="49"/>
                  <a:pt x="29" y="50"/>
                  <a:pt x="28" y="50"/>
                </a:cubicBezTo>
                <a:cubicBezTo>
                  <a:pt x="21" y="50"/>
                  <a:pt x="21" y="50"/>
                  <a:pt x="21" y="50"/>
                </a:cubicBezTo>
                <a:cubicBezTo>
                  <a:pt x="21" y="50"/>
                  <a:pt x="20" y="49"/>
                  <a:pt x="20" y="49"/>
                </a:cubicBezTo>
                <a:cubicBezTo>
                  <a:pt x="20" y="42"/>
                  <a:pt x="20" y="42"/>
                  <a:pt x="20" y="42"/>
                </a:cubicBezTo>
                <a:cubicBezTo>
                  <a:pt x="20" y="41"/>
                  <a:pt x="21" y="41"/>
                  <a:pt x="21" y="41"/>
                </a:cubicBezTo>
                <a:cubicBezTo>
                  <a:pt x="28" y="41"/>
                  <a:pt x="28" y="41"/>
                  <a:pt x="28" y="41"/>
                </a:cubicBezTo>
                <a:cubicBezTo>
                  <a:pt x="29" y="41"/>
                  <a:pt x="29" y="41"/>
                  <a:pt x="29" y="42"/>
                </a:cubicBezTo>
                <a:lnTo>
                  <a:pt x="29" y="49"/>
                </a:lnTo>
                <a:close/>
                <a:moveTo>
                  <a:pt x="36" y="35"/>
                </a:moveTo>
                <a:cubicBezTo>
                  <a:pt x="36" y="36"/>
                  <a:pt x="36" y="36"/>
                  <a:pt x="35" y="36"/>
                </a:cubicBezTo>
                <a:cubicBezTo>
                  <a:pt x="28" y="36"/>
                  <a:pt x="28" y="36"/>
                  <a:pt x="28" y="36"/>
                </a:cubicBezTo>
                <a:cubicBezTo>
                  <a:pt x="28" y="36"/>
                  <a:pt x="27" y="36"/>
                  <a:pt x="27" y="35"/>
                </a:cubicBezTo>
                <a:cubicBezTo>
                  <a:pt x="27" y="28"/>
                  <a:pt x="27" y="28"/>
                  <a:pt x="27" y="28"/>
                </a:cubicBezTo>
                <a:cubicBezTo>
                  <a:pt x="27" y="27"/>
                  <a:pt x="28" y="27"/>
                  <a:pt x="28" y="27"/>
                </a:cubicBezTo>
                <a:cubicBezTo>
                  <a:pt x="35" y="27"/>
                  <a:pt x="35" y="27"/>
                  <a:pt x="35" y="27"/>
                </a:cubicBezTo>
                <a:cubicBezTo>
                  <a:pt x="36" y="27"/>
                  <a:pt x="36" y="27"/>
                  <a:pt x="36" y="28"/>
                </a:cubicBezTo>
                <a:lnTo>
                  <a:pt x="36" y="35"/>
                </a:lnTo>
                <a:close/>
                <a:moveTo>
                  <a:pt x="43" y="49"/>
                </a:moveTo>
                <a:cubicBezTo>
                  <a:pt x="43" y="49"/>
                  <a:pt x="43" y="50"/>
                  <a:pt x="42" y="50"/>
                </a:cubicBezTo>
                <a:cubicBezTo>
                  <a:pt x="35" y="50"/>
                  <a:pt x="35" y="50"/>
                  <a:pt x="35" y="50"/>
                </a:cubicBezTo>
                <a:cubicBezTo>
                  <a:pt x="35" y="50"/>
                  <a:pt x="34" y="49"/>
                  <a:pt x="34" y="49"/>
                </a:cubicBezTo>
                <a:cubicBezTo>
                  <a:pt x="34" y="42"/>
                  <a:pt x="34" y="42"/>
                  <a:pt x="34" y="42"/>
                </a:cubicBezTo>
                <a:cubicBezTo>
                  <a:pt x="34" y="41"/>
                  <a:pt x="35" y="41"/>
                  <a:pt x="35" y="41"/>
                </a:cubicBezTo>
                <a:cubicBezTo>
                  <a:pt x="42" y="41"/>
                  <a:pt x="42" y="41"/>
                  <a:pt x="42" y="41"/>
                </a:cubicBezTo>
                <a:cubicBezTo>
                  <a:pt x="43" y="41"/>
                  <a:pt x="43" y="41"/>
                  <a:pt x="43" y="42"/>
                </a:cubicBezTo>
                <a:lnTo>
                  <a:pt x="43" y="49"/>
                </a:lnTo>
                <a:close/>
                <a:moveTo>
                  <a:pt x="50" y="35"/>
                </a:moveTo>
                <a:cubicBezTo>
                  <a:pt x="50" y="36"/>
                  <a:pt x="50" y="36"/>
                  <a:pt x="49" y="36"/>
                </a:cubicBezTo>
                <a:cubicBezTo>
                  <a:pt x="42" y="36"/>
                  <a:pt x="42" y="36"/>
                  <a:pt x="42" y="36"/>
                </a:cubicBezTo>
                <a:cubicBezTo>
                  <a:pt x="41" y="36"/>
                  <a:pt x="41" y="36"/>
                  <a:pt x="41" y="35"/>
                </a:cubicBezTo>
                <a:cubicBezTo>
                  <a:pt x="41" y="28"/>
                  <a:pt x="41" y="28"/>
                  <a:pt x="41" y="28"/>
                </a:cubicBezTo>
                <a:cubicBezTo>
                  <a:pt x="41" y="27"/>
                  <a:pt x="41" y="27"/>
                  <a:pt x="42" y="27"/>
                </a:cubicBezTo>
                <a:cubicBezTo>
                  <a:pt x="49" y="27"/>
                  <a:pt x="49" y="27"/>
                  <a:pt x="49" y="27"/>
                </a:cubicBezTo>
                <a:cubicBezTo>
                  <a:pt x="50" y="27"/>
                  <a:pt x="50" y="27"/>
                  <a:pt x="50" y="28"/>
                </a:cubicBezTo>
                <a:lnTo>
                  <a:pt x="50" y="35"/>
                </a:lnTo>
                <a:close/>
                <a:moveTo>
                  <a:pt x="64" y="20"/>
                </a:moveTo>
                <a:cubicBezTo>
                  <a:pt x="64" y="21"/>
                  <a:pt x="63" y="22"/>
                  <a:pt x="61" y="22"/>
                </a:cubicBezTo>
                <a:cubicBezTo>
                  <a:pt x="48" y="22"/>
                  <a:pt x="48" y="22"/>
                  <a:pt x="48" y="22"/>
                </a:cubicBezTo>
                <a:cubicBezTo>
                  <a:pt x="46" y="22"/>
                  <a:pt x="45" y="21"/>
                  <a:pt x="45" y="20"/>
                </a:cubicBezTo>
                <a:cubicBezTo>
                  <a:pt x="45" y="15"/>
                  <a:pt x="45" y="15"/>
                  <a:pt x="45" y="15"/>
                </a:cubicBezTo>
                <a:cubicBezTo>
                  <a:pt x="64" y="15"/>
                  <a:pt x="64" y="15"/>
                  <a:pt x="64" y="15"/>
                </a:cubicBezTo>
                <a:lnTo>
                  <a:pt x="64" y="20"/>
                </a:lnTo>
                <a:close/>
                <a:moveTo>
                  <a:pt x="57" y="49"/>
                </a:moveTo>
                <a:cubicBezTo>
                  <a:pt x="57" y="49"/>
                  <a:pt x="56" y="50"/>
                  <a:pt x="56" y="50"/>
                </a:cubicBezTo>
                <a:cubicBezTo>
                  <a:pt x="49" y="50"/>
                  <a:pt x="49" y="50"/>
                  <a:pt x="49" y="50"/>
                </a:cubicBezTo>
                <a:cubicBezTo>
                  <a:pt x="48" y="50"/>
                  <a:pt x="48" y="49"/>
                  <a:pt x="48" y="49"/>
                </a:cubicBezTo>
                <a:cubicBezTo>
                  <a:pt x="48" y="42"/>
                  <a:pt x="48" y="42"/>
                  <a:pt x="48" y="42"/>
                </a:cubicBezTo>
                <a:cubicBezTo>
                  <a:pt x="48" y="41"/>
                  <a:pt x="48" y="41"/>
                  <a:pt x="49" y="41"/>
                </a:cubicBezTo>
                <a:cubicBezTo>
                  <a:pt x="56" y="41"/>
                  <a:pt x="56" y="41"/>
                  <a:pt x="56" y="41"/>
                </a:cubicBezTo>
                <a:cubicBezTo>
                  <a:pt x="56" y="41"/>
                  <a:pt x="57" y="41"/>
                  <a:pt x="57" y="42"/>
                </a:cubicBezTo>
                <a:lnTo>
                  <a:pt x="57" y="49"/>
                </a:lnTo>
                <a:close/>
                <a:moveTo>
                  <a:pt x="64" y="35"/>
                </a:moveTo>
                <a:cubicBezTo>
                  <a:pt x="64" y="36"/>
                  <a:pt x="63" y="36"/>
                  <a:pt x="63" y="36"/>
                </a:cubicBezTo>
                <a:cubicBezTo>
                  <a:pt x="56" y="36"/>
                  <a:pt x="56" y="36"/>
                  <a:pt x="56" y="36"/>
                </a:cubicBezTo>
                <a:cubicBezTo>
                  <a:pt x="55" y="36"/>
                  <a:pt x="55" y="36"/>
                  <a:pt x="55" y="35"/>
                </a:cubicBezTo>
                <a:cubicBezTo>
                  <a:pt x="55" y="28"/>
                  <a:pt x="55" y="28"/>
                  <a:pt x="55" y="28"/>
                </a:cubicBezTo>
                <a:cubicBezTo>
                  <a:pt x="55" y="27"/>
                  <a:pt x="55" y="27"/>
                  <a:pt x="56" y="27"/>
                </a:cubicBezTo>
                <a:cubicBezTo>
                  <a:pt x="63" y="27"/>
                  <a:pt x="63" y="27"/>
                  <a:pt x="63" y="27"/>
                </a:cubicBezTo>
                <a:cubicBezTo>
                  <a:pt x="63" y="27"/>
                  <a:pt x="64" y="27"/>
                  <a:pt x="64" y="28"/>
                </a:cubicBezTo>
                <a:lnTo>
                  <a:pt x="64" y="35"/>
                </a:lnTo>
                <a:close/>
              </a:path>
            </a:pathLst>
          </a:custGeom>
          <a:solidFill>
            <a:srgbClr val="2b85ae"/>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Tree>
  </p:cSld>
  <p:transition advTm="2000">
    <p:wipe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48"/>
                                        </p:tgtEl>
                                        <p:attrNameLst>
                                          <p:attrName>style.visibility</p:attrName>
                                        </p:attrNameLst>
                                      </p:cBhvr>
                                      <p:to>
                                        <p:strVal val="visible"/>
                                      </p:to>
                                    </p:set>
                                    <p:animEffect filter="wipe(up)" transition="in">
                                      <p:cBhvr additive="repl">
                                        <p:cTn id="74" dur="500"/>
                                        <p:tgtEl>
                                          <p:spTgt spid="848"/>
                                        </p:tgtEl>
                                      </p:cBhvr>
                                    </p:animEffect>
                                  </p:childTnLst>
                                </p:cTn>
                              </p:par>
                            </p:childTnLst>
                          </p:cTn>
                        </p:par>
                        <p:par>
                          <p:cTn id="75" fill="hold">
                            <p:stCondLst>
                              <p:cond delay="500"/>
                            </p:stCondLst>
                            <p:childTnLst>
                              <p:par>
                                <p:cTn id="76" nodeType="afterEffect" fill="hold" presetClass="entr" presetID="23" presetSubtype="16">
                                  <p:stCondLst>
                                    <p:cond delay="0"/>
                                  </p:stCondLst>
                                  <p:childTnLst>
                                    <p:set>
                                      <p:cBhvr>
                                        <p:cTn id="77" dur="1" fill="hold">
                                          <p:stCondLst>
                                            <p:cond delay="0"/>
                                          </p:stCondLst>
                                        </p:cTn>
                                        <p:tgtEl>
                                          <p:spTgt spid="854"/>
                                        </p:tgtEl>
                                        <p:attrNameLst>
                                          <p:attrName>style.visibility</p:attrName>
                                        </p:attrNameLst>
                                      </p:cBhvr>
                                      <p:to>
                                        <p:strVal val="visible"/>
                                      </p:to>
                                    </p:set>
                                    <p:anim calcmode="lin" valueType="num">
                                      <p:cBhvr additive="repl">
                                        <p:cTn id="78" dur="500" fill="hold"/>
                                        <p:tgtEl>
                                          <p:spTgt spid="854"/>
                                        </p:tgtEl>
                                        <p:attrNameLst>
                                          <p:attrName>ppt_w</p:attrName>
                                        </p:attrNameLst>
                                      </p:cBhvr>
                                      <p:tavLst>
                                        <p:tav tm="0">
                                          <p:val>
                                            <p:fltVal val="0"/>
                                          </p:val>
                                        </p:tav>
                                        <p:tav tm="100000">
                                          <p:val>
                                            <p:strVal val="#ppt_w"/>
                                          </p:val>
                                        </p:tav>
                                      </p:tavLst>
                                    </p:anim>
                                    <p:anim calcmode="lin" valueType="num">
                                      <p:cBhvr additive="repl">
                                        <p:cTn id="79" dur="500" fill="hold"/>
                                        <p:tgtEl>
                                          <p:spTgt spid="854"/>
                                        </p:tgtEl>
                                        <p:attrNameLst>
                                          <p:attrName>ppt_h</p:attrName>
                                        </p:attrNameLst>
                                      </p:cBhvr>
                                      <p:tavLst>
                                        <p:tav tm="0">
                                          <p:val>
                                            <p:fltVal val="0"/>
                                          </p:val>
                                        </p:tav>
                                        <p:tav tm="100000">
                                          <p:val>
                                            <p:strVal val="#ppt_h"/>
                                          </p:val>
                                        </p:tav>
                                      </p:tavLst>
                                    </p:anim>
                                  </p:childTnLst>
                                </p:cTn>
                              </p:par>
                            </p:childTnLst>
                          </p:cTn>
                        </p:par>
                        <p:par>
                          <p:cTn id="80"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850"/>
                                        </p:tgtEl>
                                        <p:attrNameLst>
                                          <p:attrName>style.visibility</p:attrName>
                                        </p:attrNameLst>
                                      </p:cBhvr>
                                      <p:to>
                                        <p:strVal val="visible"/>
                                      </p:to>
                                    </p:set>
                                    <p:animEffect filter="wipe(left)" transition="in">
                                      <p:cBhvr additive="repl">
                                        <p:cTn id="83" dur="500"/>
                                        <p:tgtEl>
                                          <p:spTgt spid="850"/>
                                        </p:tgtEl>
                                      </p:cBhvr>
                                    </p:animEffect>
                                  </p:childTnLst>
                                </p:cTn>
                              </p:par>
                            </p:childTnLst>
                          </p:cTn>
                        </p:par>
                        <p:par>
                          <p:cTn id="84" fill="hold">
                            <p:stCondLst>
                              <p:cond delay="1500"/>
                            </p:stCondLst>
                            <p:childTnLst>
                              <p:par>
                                <p:cTn id="85" nodeType="afterEffect" fill="hold" presetClass="entr" presetID="23" presetSubtype="16">
                                  <p:stCondLst>
                                    <p:cond delay="0"/>
                                  </p:stCondLst>
                                  <p:childTnLst>
                                    <p:set>
                                      <p:cBhvr>
                                        <p:cTn id="86" dur="1" fill="hold">
                                          <p:stCondLst>
                                            <p:cond delay="0"/>
                                          </p:stCondLst>
                                        </p:cTn>
                                        <p:tgtEl>
                                          <p:spTgt spid="849"/>
                                        </p:tgtEl>
                                        <p:attrNameLst>
                                          <p:attrName>style.visibility</p:attrName>
                                        </p:attrNameLst>
                                      </p:cBhvr>
                                      <p:to>
                                        <p:strVal val="visible"/>
                                      </p:to>
                                    </p:set>
                                    <p:anim calcmode="lin" valueType="num">
                                      <p:cBhvr additive="repl">
                                        <p:cTn id="87" dur="500" fill="hold"/>
                                        <p:tgtEl>
                                          <p:spTgt spid="849"/>
                                        </p:tgtEl>
                                        <p:attrNameLst>
                                          <p:attrName>ppt_w</p:attrName>
                                        </p:attrNameLst>
                                      </p:cBhvr>
                                      <p:tavLst>
                                        <p:tav tm="0">
                                          <p:val>
                                            <p:fltVal val="0"/>
                                          </p:val>
                                        </p:tav>
                                        <p:tav tm="100000">
                                          <p:val>
                                            <p:strVal val="#ppt_w"/>
                                          </p:val>
                                        </p:tav>
                                      </p:tavLst>
                                    </p:anim>
                                    <p:anim calcmode="lin" valueType="num">
                                      <p:cBhvr additive="repl">
                                        <p:cTn id="88" dur="500" fill="hold"/>
                                        <p:tgtEl>
                                          <p:spTgt spid="849"/>
                                        </p:tgtEl>
                                        <p:attrNameLst>
                                          <p:attrName>ppt_h</p:attrName>
                                        </p:attrNameLst>
                                      </p:cBhvr>
                                      <p:tavLst>
                                        <p:tav tm="0">
                                          <p:val>
                                            <p:fltVal val="0"/>
                                          </p:val>
                                        </p:tav>
                                        <p:tav tm="100000">
                                          <p:val>
                                            <p:strVal val="#ppt_h"/>
                                          </p:val>
                                        </p:tav>
                                      </p:tavLst>
                                    </p:anim>
                                  </p:childTnLst>
                                </p:cTn>
                              </p:par>
                            </p:childTnLst>
                          </p:cTn>
                        </p:par>
                        <p:par>
                          <p:cTn id="89" fill="hold">
                            <p:stCondLst>
                              <p:cond delay="2000"/>
                            </p:stCondLst>
                            <p:childTnLst>
                              <p:par>
                                <p:cTn id="90" nodeType="afterEffect" fill="hold" presetClass="entr" presetID="22" presetSubtype="1">
                                  <p:stCondLst>
                                    <p:cond delay="0"/>
                                  </p:stCondLst>
                                  <p:childTnLst>
                                    <p:set>
                                      <p:cBhvr>
                                        <p:cTn id="91" dur="1" fill="hold">
                                          <p:stCondLst>
                                            <p:cond delay="0"/>
                                          </p:stCondLst>
                                        </p:cTn>
                                        <p:tgtEl>
                                          <p:spTgt spid="852"/>
                                        </p:tgtEl>
                                        <p:attrNameLst>
                                          <p:attrName>style.visibility</p:attrName>
                                        </p:attrNameLst>
                                      </p:cBhvr>
                                      <p:to>
                                        <p:strVal val="visible"/>
                                      </p:to>
                                    </p:set>
                                    <p:animEffect filter="wipe(up)" transition="in">
                                      <p:cBhvr additive="repl">
                                        <p:cTn id="92" dur="500"/>
                                        <p:tgtEl>
                                          <p:spTgt spid="852"/>
                                        </p:tgtEl>
                                      </p:cBhvr>
                                    </p:animEffect>
                                  </p:childTnLst>
                                </p:cTn>
                              </p:par>
                            </p:childTnLst>
                          </p:cTn>
                        </p:par>
                        <p:par>
                          <p:cTn id="93" fill="hold">
                            <p:stCondLst>
                              <p:cond delay="2500"/>
                            </p:stCondLst>
                            <p:childTnLst>
                              <p:par>
                                <p:cTn id="94" nodeType="afterEffect" fill="hold" presetClass="entr" presetID="23" presetSubtype="16">
                                  <p:stCondLst>
                                    <p:cond delay="0"/>
                                  </p:stCondLst>
                                  <p:childTnLst>
                                    <p:set>
                                      <p:cBhvr>
                                        <p:cTn id="95" dur="1" fill="hold">
                                          <p:stCondLst>
                                            <p:cond delay="0"/>
                                          </p:stCondLst>
                                        </p:cTn>
                                        <p:tgtEl>
                                          <p:spTgt spid="857"/>
                                        </p:tgtEl>
                                        <p:attrNameLst>
                                          <p:attrName>style.visibility</p:attrName>
                                        </p:attrNameLst>
                                      </p:cBhvr>
                                      <p:to>
                                        <p:strVal val="visible"/>
                                      </p:to>
                                    </p:set>
                                    <p:anim calcmode="lin" valueType="num">
                                      <p:cBhvr additive="repl">
                                        <p:cTn id="96" dur="500" fill="hold"/>
                                        <p:tgtEl>
                                          <p:spTgt spid="857"/>
                                        </p:tgtEl>
                                        <p:attrNameLst>
                                          <p:attrName>ppt_w</p:attrName>
                                        </p:attrNameLst>
                                      </p:cBhvr>
                                      <p:tavLst>
                                        <p:tav tm="0">
                                          <p:val>
                                            <p:fltVal val="0"/>
                                          </p:val>
                                        </p:tav>
                                        <p:tav tm="100000">
                                          <p:val>
                                            <p:strVal val="#ppt_w"/>
                                          </p:val>
                                        </p:tav>
                                      </p:tavLst>
                                    </p:anim>
                                    <p:anim calcmode="lin" valueType="num">
                                      <p:cBhvr additive="repl">
                                        <p:cTn id="97" dur="500" fill="hold"/>
                                        <p:tgtEl>
                                          <p:spTgt spid="857"/>
                                        </p:tgtEl>
                                        <p:attrNameLst>
                                          <p:attrName>ppt_h</p:attrName>
                                        </p:attrNameLst>
                                      </p:cBhvr>
                                      <p:tavLst>
                                        <p:tav tm="0">
                                          <p:val>
                                            <p:fltVal val="0"/>
                                          </p:val>
                                        </p:tav>
                                        <p:tav tm="100000">
                                          <p:val>
                                            <p:strVal val="#ppt_h"/>
                                          </p:val>
                                        </p:tav>
                                      </p:tavLst>
                                    </p:anim>
                                  </p:childTnLst>
                                </p:cTn>
                              </p:par>
                            </p:childTnLst>
                          </p:cTn>
                        </p:par>
                        <p:par>
                          <p:cTn id="98" fill="hold">
                            <p:stCondLst>
                              <p:cond delay="3000"/>
                            </p:stCondLst>
                            <p:childTnLst>
                              <p:par>
                                <p:cTn id="99" nodeType="afterEffect" fill="hold" presetClass="entr" presetID="22" presetSubtype="2">
                                  <p:stCondLst>
                                    <p:cond delay="0"/>
                                  </p:stCondLst>
                                  <p:childTnLst>
                                    <p:set>
                                      <p:cBhvr>
                                        <p:cTn id="100" dur="1" fill="hold">
                                          <p:stCondLst>
                                            <p:cond delay="0"/>
                                          </p:stCondLst>
                                        </p:cTn>
                                        <p:tgtEl>
                                          <p:spTgt spid="851"/>
                                        </p:tgtEl>
                                        <p:attrNameLst>
                                          <p:attrName>style.visibility</p:attrName>
                                        </p:attrNameLst>
                                      </p:cBhvr>
                                      <p:to>
                                        <p:strVal val="visible"/>
                                      </p:to>
                                    </p:set>
                                    <p:animEffect filter="wipe(right)" transition="in">
                                      <p:cBhvr additive="repl">
                                        <p:cTn id="101" dur="500"/>
                                        <p:tgtEl>
                                          <p:spTgt spid="851"/>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864"/>
                                        </p:tgtEl>
                                        <p:attrNameLst>
                                          <p:attrName>style.visibility</p:attrName>
                                        </p:attrNameLst>
                                      </p:cBhvr>
                                      <p:to>
                                        <p:strVal val="visible"/>
                                      </p:to>
                                    </p:set>
                                    <p:anim calcmode="lin" valueType="num">
                                      <p:cBhvr additive="repl">
                                        <p:cTn id="105" dur="500" fill="hold"/>
                                        <p:tgtEl>
                                          <p:spTgt spid="864"/>
                                        </p:tgtEl>
                                        <p:attrNameLst>
                                          <p:attrName>ppt_w</p:attrName>
                                        </p:attrNameLst>
                                      </p:cBhvr>
                                      <p:tavLst>
                                        <p:tav tm="0">
                                          <p:val>
                                            <p:fltVal val="0"/>
                                          </p:val>
                                        </p:tav>
                                        <p:tav tm="100000">
                                          <p:val>
                                            <p:strVal val="#ppt_w"/>
                                          </p:val>
                                        </p:tav>
                                      </p:tavLst>
                                    </p:anim>
                                    <p:anim calcmode="lin" valueType="num">
                                      <p:cBhvr additive="repl">
                                        <p:cTn id="106" dur="500" fill="hold"/>
                                        <p:tgtEl>
                                          <p:spTgt spid="864"/>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2" presetSubtype="1">
                                  <p:stCondLst>
                                    <p:cond delay="0"/>
                                  </p:stCondLst>
                                  <p:childTnLst>
                                    <p:set>
                                      <p:cBhvr>
                                        <p:cTn id="109" dur="1" fill="hold">
                                          <p:stCondLst>
                                            <p:cond delay="0"/>
                                          </p:stCondLst>
                                        </p:cTn>
                                        <p:tgtEl>
                                          <p:spTgt spid="853"/>
                                        </p:tgtEl>
                                        <p:attrNameLst>
                                          <p:attrName>style.visibility</p:attrName>
                                        </p:attrNameLst>
                                      </p:cBhvr>
                                      <p:to>
                                        <p:strVal val="visible"/>
                                      </p:to>
                                    </p:set>
                                    <p:animEffect filter="wipe(up)" transition="in">
                                      <p:cBhvr additive="repl">
                                        <p:cTn id="110"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5" name="Group 45"/>
          <p:cNvGrpSpPr/>
          <p:nvPr/>
        </p:nvGrpSpPr>
        <p:grpSpPr>
          <a:xfrm>
            <a:off x="5994360" y="4699080"/>
            <a:ext cx="203400" cy="1439640"/>
            <a:chOff x="5994360" y="4699080"/>
            <a:chExt cx="203400" cy="1439640"/>
          </a:xfrm>
        </p:grpSpPr>
        <p:sp>
          <p:nvSpPr>
            <p:cNvPr id="866" name="Straight Connector 42"/>
            <p:cNvSpPr/>
            <p:nvPr/>
          </p:nvSpPr>
          <p:spPr>
            <a:xfrm flipH="1">
              <a:off x="6095520" y="4699080"/>
              <a:ext cx="720" cy="1270440"/>
            </a:xfrm>
            <a:prstGeom prst="line">
              <a:avLst/>
            </a:prstGeom>
            <a:ln w="57240">
              <a:solidFill>
                <a:srgbClr val="5267a5"/>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sp>
          <p:nvSpPr>
            <p:cNvPr id="867" name="Oval 44"/>
            <p:cNvSpPr/>
            <p:nvPr/>
          </p:nvSpPr>
          <p:spPr>
            <a:xfrm>
              <a:off x="5994360" y="5935680"/>
              <a:ext cx="203400" cy="203040"/>
            </a:xfrm>
            <a:prstGeom prst="ellipse">
              <a:avLst/>
            </a:prstGeom>
            <a:solidFill>
              <a:srgbClr val="5267a5"/>
            </a:solidFill>
            <a:ln w="6480">
              <a:solidFill>
                <a:srgbClr val="5267a5"/>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868" name="Freeform 64"/>
          <p:cNvSpPr/>
          <p:nvPr/>
        </p:nvSpPr>
        <p:spPr>
          <a:xfrm>
            <a:off x="8653320" y="1531800"/>
            <a:ext cx="924120" cy="770040"/>
          </a:xfrm>
          <a:custGeom>
            <a:avLst/>
            <a:gdLst/>
            <a:ahLst/>
            <a:rect l="l" t="t" r="r" b="b"/>
            <a:pathLst>
              <a:path w="77" h="64">
                <a:moveTo>
                  <a:pt x="77" y="51"/>
                </a:moveTo>
                <a:cubicBezTo>
                  <a:pt x="77" y="53"/>
                  <a:pt x="76" y="55"/>
                  <a:pt x="75" y="55"/>
                </a:cubicBezTo>
                <a:cubicBezTo>
                  <a:pt x="59" y="63"/>
                  <a:pt x="59" y="63"/>
                  <a:pt x="59" y="63"/>
                </a:cubicBezTo>
                <a:cubicBezTo>
                  <a:pt x="58" y="64"/>
                  <a:pt x="58" y="64"/>
                  <a:pt x="57" y="64"/>
                </a:cubicBezTo>
                <a:cubicBezTo>
                  <a:pt x="56" y="64"/>
                  <a:pt x="55" y="64"/>
                  <a:pt x="55" y="63"/>
                </a:cubicBezTo>
                <a:cubicBezTo>
                  <a:pt x="39" y="55"/>
                  <a:pt x="39" y="55"/>
                  <a:pt x="39" y="55"/>
                </a:cubicBezTo>
                <a:cubicBezTo>
                  <a:pt x="39" y="55"/>
                  <a:pt x="39" y="55"/>
                  <a:pt x="39" y="55"/>
                </a:cubicBezTo>
                <a:cubicBezTo>
                  <a:pt x="39" y="55"/>
                  <a:pt x="38" y="55"/>
                  <a:pt x="38" y="55"/>
                </a:cubicBezTo>
                <a:cubicBezTo>
                  <a:pt x="22" y="63"/>
                  <a:pt x="22" y="63"/>
                  <a:pt x="22" y="63"/>
                </a:cubicBezTo>
                <a:cubicBezTo>
                  <a:pt x="22" y="64"/>
                  <a:pt x="21" y="64"/>
                  <a:pt x="20" y="64"/>
                </a:cubicBezTo>
                <a:cubicBezTo>
                  <a:pt x="20" y="64"/>
                  <a:pt x="19" y="64"/>
                  <a:pt x="18" y="63"/>
                </a:cubicBezTo>
                <a:cubicBezTo>
                  <a:pt x="2" y="55"/>
                  <a:pt x="2" y="55"/>
                  <a:pt x="2" y="55"/>
                </a:cubicBezTo>
                <a:cubicBezTo>
                  <a:pt x="1" y="55"/>
                  <a:pt x="0" y="53"/>
                  <a:pt x="0" y="51"/>
                </a:cubicBezTo>
                <a:cubicBezTo>
                  <a:pt x="0" y="37"/>
                  <a:pt x="0" y="37"/>
                  <a:pt x="0" y="37"/>
                </a:cubicBezTo>
                <a:cubicBezTo>
                  <a:pt x="0" y="35"/>
                  <a:pt x="1" y="33"/>
                  <a:pt x="3" y="32"/>
                </a:cubicBezTo>
                <a:cubicBezTo>
                  <a:pt x="18" y="26"/>
                  <a:pt x="18" y="26"/>
                  <a:pt x="18" y="26"/>
                </a:cubicBezTo>
                <a:cubicBezTo>
                  <a:pt x="18" y="11"/>
                  <a:pt x="18" y="11"/>
                  <a:pt x="18" y="11"/>
                </a:cubicBezTo>
                <a:cubicBezTo>
                  <a:pt x="18" y="10"/>
                  <a:pt x="19" y="8"/>
                  <a:pt x="21" y="7"/>
                </a:cubicBezTo>
                <a:cubicBezTo>
                  <a:pt x="37" y="0"/>
                  <a:pt x="37" y="0"/>
                  <a:pt x="37" y="0"/>
                </a:cubicBezTo>
                <a:cubicBezTo>
                  <a:pt x="37" y="0"/>
                  <a:pt x="38" y="0"/>
                  <a:pt x="39" y="0"/>
                </a:cubicBezTo>
                <a:cubicBezTo>
                  <a:pt x="39" y="0"/>
                  <a:pt x="40" y="0"/>
                  <a:pt x="40" y="0"/>
                </a:cubicBezTo>
                <a:cubicBezTo>
                  <a:pt x="56" y="7"/>
                  <a:pt x="56" y="7"/>
                  <a:pt x="56" y="7"/>
                </a:cubicBezTo>
                <a:cubicBezTo>
                  <a:pt x="58" y="8"/>
                  <a:pt x="59" y="10"/>
                  <a:pt x="59" y="11"/>
                </a:cubicBezTo>
                <a:cubicBezTo>
                  <a:pt x="59" y="26"/>
                  <a:pt x="59" y="26"/>
                  <a:pt x="59" y="26"/>
                </a:cubicBezTo>
                <a:cubicBezTo>
                  <a:pt x="75" y="32"/>
                  <a:pt x="75" y="32"/>
                  <a:pt x="75" y="32"/>
                </a:cubicBezTo>
                <a:cubicBezTo>
                  <a:pt x="76" y="33"/>
                  <a:pt x="77" y="35"/>
                  <a:pt x="77" y="37"/>
                </a:cubicBezTo>
                <a:lnTo>
                  <a:pt x="77" y="51"/>
                </a:lnTo>
                <a:close/>
                <a:moveTo>
                  <a:pt x="35" y="36"/>
                </a:moveTo>
                <a:cubicBezTo>
                  <a:pt x="20" y="30"/>
                  <a:pt x="20" y="30"/>
                  <a:pt x="20" y="30"/>
                </a:cubicBezTo>
                <a:cubicBezTo>
                  <a:pt x="6" y="36"/>
                  <a:pt x="6" y="36"/>
                  <a:pt x="6" y="36"/>
                </a:cubicBezTo>
                <a:cubicBezTo>
                  <a:pt x="20" y="42"/>
                  <a:pt x="20" y="42"/>
                  <a:pt x="20" y="42"/>
                </a:cubicBezTo>
                <a:lnTo>
                  <a:pt x="35" y="36"/>
                </a:lnTo>
                <a:close/>
                <a:moveTo>
                  <a:pt x="36" y="51"/>
                </a:moveTo>
                <a:cubicBezTo>
                  <a:pt x="36" y="40"/>
                  <a:pt x="36" y="40"/>
                  <a:pt x="36" y="40"/>
                </a:cubicBezTo>
                <a:cubicBezTo>
                  <a:pt x="23" y="46"/>
                  <a:pt x="23" y="46"/>
                  <a:pt x="23" y="46"/>
                </a:cubicBezTo>
                <a:cubicBezTo>
                  <a:pt x="23" y="58"/>
                  <a:pt x="23" y="58"/>
                  <a:pt x="23" y="58"/>
                </a:cubicBezTo>
                <a:lnTo>
                  <a:pt x="36" y="51"/>
                </a:lnTo>
                <a:close/>
                <a:moveTo>
                  <a:pt x="54" y="11"/>
                </a:moveTo>
                <a:cubicBezTo>
                  <a:pt x="39" y="5"/>
                  <a:pt x="39" y="5"/>
                  <a:pt x="39" y="5"/>
                </a:cubicBezTo>
                <a:cubicBezTo>
                  <a:pt x="23" y="11"/>
                  <a:pt x="23" y="11"/>
                  <a:pt x="23" y="11"/>
                </a:cubicBezTo>
                <a:cubicBezTo>
                  <a:pt x="39" y="18"/>
                  <a:pt x="39" y="18"/>
                  <a:pt x="39" y="18"/>
                </a:cubicBezTo>
                <a:lnTo>
                  <a:pt x="54" y="11"/>
                </a:lnTo>
                <a:close/>
                <a:moveTo>
                  <a:pt x="55" y="26"/>
                </a:moveTo>
                <a:cubicBezTo>
                  <a:pt x="55" y="16"/>
                  <a:pt x="55" y="16"/>
                  <a:pt x="55" y="16"/>
                </a:cubicBezTo>
                <a:cubicBezTo>
                  <a:pt x="41" y="22"/>
                  <a:pt x="41" y="22"/>
                  <a:pt x="41" y="22"/>
                </a:cubicBezTo>
                <a:cubicBezTo>
                  <a:pt x="41" y="32"/>
                  <a:pt x="41" y="32"/>
                  <a:pt x="41" y="32"/>
                </a:cubicBezTo>
                <a:lnTo>
                  <a:pt x="55" y="26"/>
                </a:lnTo>
                <a:close/>
                <a:moveTo>
                  <a:pt x="71" y="36"/>
                </a:moveTo>
                <a:cubicBezTo>
                  <a:pt x="57" y="30"/>
                  <a:pt x="57" y="30"/>
                  <a:pt x="57" y="30"/>
                </a:cubicBezTo>
                <a:cubicBezTo>
                  <a:pt x="42" y="36"/>
                  <a:pt x="42" y="36"/>
                  <a:pt x="42" y="36"/>
                </a:cubicBezTo>
                <a:cubicBezTo>
                  <a:pt x="57" y="42"/>
                  <a:pt x="57" y="42"/>
                  <a:pt x="57" y="42"/>
                </a:cubicBezTo>
                <a:lnTo>
                  <a:pt x="71" y="36"/>
                </a:lnTo>
                <a:close/>
                <a:moveTo>
                  <a:pt x="73" y="51"/>
                </a:moveTo>
                <a:cubicBezTo>
                  <a:pt x="73" y="40"/>
                  <a:pt x="73" y="40"/>
                  <a:pt x="73" y="40"/>
                </a:cubicBezTo>
                <a:cubicBezTo>
                  <a:pt x="59" y="46"/>
                  <a:pt x="59" y="46"/>
                  <a:pt x="59" y="46"/>
                </a:cubicBezTo>
                <a:cubicBezTo>
                  <a:pt x="59" y="58"/>
                  <a:pt x="59" y="58"/>
                  <a:pt x="59" y="58"/>
                </a:cubicBezTo>
                <a:lnTo>
                  <a:pt x="73" y="51"/>
                </a:lnTo>
                <a:close/>
              </a:path>
            </a:pathLst>
          </a:custGeom>
          <a:solidFill>
            <a:srgbClr val="4175a9"/>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
        <p:nvSpPr>
          <p:cNvPr id="869" name="Freeform 101"/>
          <p:cNvSpPr/>
          <p:nvPr/>
        </p:nvSpPr>
        <p:spPr>
          <a:xfrm>
            <a:off x="2556000" y="3635280"/>
            <a:ext cx="814320" cy="7524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5267a5"/>
          </a:solidFill>
          <a:ln w="0">
            <a:noFill/>
          </a:ln>
        </p:spPr>
        <p:style>
          <a:lnRef idx="0"/>
          <a:fillRef idx="0"/>
          <a:effectRef idx="0"/>
          <a:fontRef idx="minor"/>
        </p:style>
        <p:txBody>
          <a:bodyPr lIns="121680" rIns="121680" tIns="60840" bIns="60840" anchor="t">
            <a:noAutofit/>
          </a:bodyPr>
          <a:p>
            <a:endParaRPr b="0" lang="en-US" sz="1800" spc="-1" strike="noStrike">
              <a:solidFill>
                <a:srgbClr val="494949"/>
              </a:solidFill>
              <a:latin typeface="Open Sans Light"/>
            </a:endParaRPr>
          </a:p>
        </p:txBody>
      </p:sp>
      <p:sp>
        <p:nvSpPr>
          <p:cNvPr id="870" name="Straight Connector 6"/>
          <p:cNvSpPr/>
          <p:nvPr/>
        </p:nvSpPr>
        <p:spPr>
          <a:xfrm flipH="1">
            <a:off x="6094080" y="1440"/>
            <a:ext cx="3240" cy="2514600"/>
          </a:xfrm>
          <a:prstGeom prst="line">
            <a:avLst/>
          </a:prstGeom>
          <a:ln w="57240">
            <a:solidFill>
              <a:srgbClr val="2b85ae"/>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sp>
        <p:nvSpPr>
          <p:cNvPr id="871" name="Straight Connector 8"/>
          <p:cNvSpPr/>
          <p:nvPr/>
        </p:nvSpPr>
        <p:spPr>
          <a:xfrm>
            <a:off x="6383160" y="2324160"/>
            <a:ext cx="3286440" cy="17280"/>
          </a:xfrm>
          <a:prstGeom prst="line">
            <a:avLst/>
          </a:prstGeom>
          <a:ln w="38160">
            <a:solidFill>
              <a:srgbClr val="4175a9"/>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494949"/>
              </a:solidFill>
              <a:latin typeface="Open Sans Light"/>
            </a:endParaRPr>
          </a:p>
        </p:txBody>
      </p:sp>
      <p:sp>
        <p:nvSpPr>
          <p:cNvPr id="872" name="Straight Connector 9"/>
          <p:cNvSpPr/>
          <p:nvPr/>
        </p:nvSpPr>
        <p:spPr>
          <a:xfrm>
            <a:off x="2522520" y="4444920"/>
            <a:ext cx="3286080" cy="15840"/>
          </a:xfrm>
          <a:prstGeom prst="line">
            <a:avLst/>
          </a:prstGeom>
          <a:ln w="38160">
            <a:solidFill>
              <a:srgbClr val="5267a5"/>
            </a:solidFill>
            <a:prstDash val="sysDot"/>
            <a:miter/>
          </a:ln>
        </p:spPr>
        <p:style>
          <a:lnRef idx="0"/>
          <a:fillRef idx="0"/>
          <a:effectRef idx="0"/>
          <a:fontRef idx="minor"/>
        </p:style>
        <p:txBody>
          <a:bodyPr lIns="90000" rIns="90000" tIns="-30960" bIns="-30960" anchor="t">
            <a:noAutofit/>
          </a:bodyPr>
          <a:p>
            <a:endParaRPr b="0" lang="en-US" sz="1800" spc="-1" strike="noStrike">
              <a:solidFill>
                <a:srgbClr val="494949"/>
              </a:solidFill>
              <a:latin typeface="Open Sans Light"/>
            </a:endParaRPr>
          </a:p>
        </p:txBody>
      </p:sp>
      <p:sp>
        <p:nvSpPr>
          <p:cNvPr id="873" name="Straight Connector 10"/>
          <p:cNvSpPr/>
          <p:nvPr/>
        </p:nvSpPr>
        <p:spPr>
          <a:xfrm>
            <a:off x="6095880" y="2638440"/>
            <a:ext cx="0" cy="2019240"/>
          </a:xfrm>
          <a:prstGeom prst="line">
            <a:avLst/>
          </a:prstGeom>
          <a:ln w="57240">
            <a:solidFill>
              <a:srgbClr val="4175a9"/>
            </a:solidFill>
            <a:miter/>
          </a:ln>
        </p:spPr>
        <p:style>
          <a:lnRef idx="0"/>
          <a:fillRef idx="0"/>
          <a:effectRef idx="0"/>
          <a:fontRef idx="minor"/>
        </p:style>
        <p:txBody>
          <a:bodyPr lIns="90000" rIns="90000" tIns="46800" bIns="46800" anchor="t">
            <a:noAutofit/>
          </a:bodyPr>
          <a:p>
            <a:endParaRPr b="0" lang="en-US" sz="1800" spc="-1" strike="noStrike">
              <a:solidFill>
                <a:srgbClr val="494949"/>
              </a:solidFill>
              <a:latin typeface="Open Sans Light"/>
            </a:endParaRPr>
          </a:p>
        </p:txBody>
      </p:sp>
      <p:grpSp>
        <p:nvGrpSpPr>
          <p:cNvPr id="874" name="Group 11"/>
          <p:cNvGrpSpPr/>
          <p:nvPr/>
        </p:nvGrpSpPr>
        <p:grpSpPr>
          <a:xfrm>
            <a:off x="5791320" y="2028960"/>
            <a:ext cx="609480" cy="609480"/>
            <a:chOff x="5791320" y="2028960"/>
            <a:chExt cx="609480" cy="609480"/>
          </a:xfrm>
        </p:grpSpPr>
        <p:sp>
          <p:nvSpPr>
            <p:cNvPr id="875" name="Oval 12"/>
            <p:cNvSpPr/>
            <p:nvPr/>
          </p:nvSpPr>
          <p:spPr>
            <a:xfrm>
              <a:off x="5791320" y="2028960"/>
              <a:ext cx="609480" cy="609480"/>
            </a:xfrm>
            <a:prstGeom prst="ellipse">
              <a:avLst/>
            </a:prstGeom>
            <a:solidFill>
              <a:srgbClr val="ffffff"/>
            </a:solidFill>
            <a:ln w="6480">
              <a:solidFill>
                <a:srgbClr val="4175a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76" name="Oval 13"/>
            <p:cNvSpPr/>
            <p:nvPr/>
          </p:nvSpPr>
          <p:spPr>
            <a:xfrm>
              <a:off x="5877360" y="2115000"/>
              <a:ext cx="437400" cy="437400"/>
            </a:xfrm>
            <a:prstGeom prst="ellipse">
              <a:avLst/>
            </a:prstGeom>
            <a:solidFill>
              <a:srgbClr val="4175a9"/>
            </a:solidFill>
            <a:ln w="6480">
              <a:solidFill>
                <a:srgbClr val="4175a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grpSp>
        <p:nvGrpSpPr>
          <p:cNvPr id="877" name="Group 14"/>
          <p:cNvGrpSpPr/>
          <p:nvPr/>
        </p:nvGrpSpPr>
        <p:grpSpPr>
          <a:xfrm>
            <a:off x="5791320" y="4148280"/>
            <a:ext cx="609480" cy="609480"/>
            <a:chOff x="5791320" y="4148280"/>
            <a:chExt cx="609480" cy="609480"/>
          </a:xfrm>
        </p:grpSpPr>
        <p:sp>
          <p:nvSpPr>
            <p:cNvPr id="878" name="Oval 15"/>
            <p:cNvSpPr/>
            <p:nvPr/>
          </p:nvSpPr>
          <p:spPr>
            <a:xfrm>
              <a:off x="5791320" y="4148280"/>
              <a:ext cx="609480" cy="609480"/>
            </a:xfrm>
            <a:prstGeom prst="ellipse">
              <a:avLst/>
            </a:prstGeom>
            <a:solidFill>
              <a:srgbClr val="ffffff"/>
            </a:solidFill>
            <a:ln w="6480">
              <a:solidFill>
                <a:srgbClr val="5267a5"/>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79" name="Oval 16"/>
            <p:cNvSpPr/>
            <p:nvPr/>
          </p:nvSpPr>
          <p:spPr>
            <a:xfrm>
              <a:off x="5877360" y="4234320"/>
              <a:ext cx="437400" cy="437400"/>
            </a:xfrm>
            <a:prstGeom prst="ellipse">
              <a:avLst/>
            </a:prstGeom>
            <a:solidFill>
              <a:srgbClr val="5267a5"/>
            </a:solidFill>
            <a:ln w="6480">
              <a:solidFill>
                <a:srgbClr val="5267a5"/>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880" name="TextBox 18"/>
          <p:cNvSpPr/>
          <p:nvPr/>
        </p:nvSpPr>
        <p:spPr>
          <a:xfrm>
            <a:off x="6400800" y="2876400"/>
            <a:ext cx="3510000" cy="837360"/>
          </a:xfrm>
          <a:prstGeom prst="rect">
            <a:avLst/>
          </a:prstGeom>
          <a:noFill/>
          <a:ln w="0">
            <a:noFill/>
          </a:ln>
        </p:spPr>
        <p:style>
          <a:lnRef idx="0"/>
          <a:fillRef idx="0"/>
          <a:effectRef idx="0"/>
          <a:fontRef idx="minor"/>
        </p:style>
        <p:txBody>
          <a:bodyPr lIns="0" rIns="0" tIns="0" bIns="0" anchor="t">
            <a:spAutoFit/>
          </a:bodyPr>
          <a:p>
            <a:pP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81" name="Rectangle 19"/>
          <p:cNvSpPr/>
          <p:nvPr/>
        </p:nvSpPr>
        <p:spPr>
          <a:xfrm>
            <a:off x="6394320" y="249552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175a9"/>
                </a:solidFill>
                <a:latin typeface="Lato"/>
              </a:rPr>
              <a:t>TITLE GOSE HERE</a:t>
            </a:r>
            <a:endParaRPr b="0" lang="en-US" sz="1600" spc="-1" strike="noStrike">
              <a:solidFill>
                <a:srgbClr val="494949"/>
              </a:solidFill>
              <a:latin typeface="Open Sans Light"/>
            </a:endParaRPr>
          </a:p>
        </p:txBody>
      </p:sp>
      <p:sp>
        <p:nvSpPr>
          <p:cNvPr id="882" name="TextBox 21"/>
          <p:cNvSpPr/>
          <p:nvPr/>
        </p:nvSpPr>
        <p:spPr>
          <a:xfrm>
            <a:off x="2281320" y="5005440"/>
            <a:ext cx="3510000" cy="837360"/>
          </a:xfrm>
          <a:prstGeom prst="rect">
            <a:avLst/>
          </a:prstGeom>
          <a:noFill/>
          <a:ln w="0">
            <a:noFill/>
          </a:ln>
        </p:spPr>
        <p:style>
          <a:lnRef idx="0"/>
          <a:fillRef idx="0"/>
          <a:effectRef idx="0"/>
          <a:fontRef idx="minor"/>
        </p:style>
        <p:txBody>
          <a:bodyPr lIns="0" rIns="0" tIns="0" bIns="0" anchor="t">
            <a:spAutoFit/>
          </a:bodyPr>
          <a:p>
            <a:pPr algn="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a4a4a4"/>
                </a:solidFill>
                <a:latin typeface="Open Sans Light"/>
              </a:rPr>
              <a:t>If you are going to use a passage of Lorem Ipsum embarrassing hidden in the middle of text. All the Lorem Ipsum generators on the Internet tend to repeat predefined chunks as necessary, making this the first tru generator on the Internet tend to</a:t>
            </a:r>
            <a:endParaRPr b="0" lang="en-US" sz="1100" spc="-1" strike="noStrike">
              <a:solidFill>
                <a:srgbClr val="494949"/>
              </a:solidFill>
              <a:latin typeface="Open Sans Light"/>
            </a:endParaRPr>
          </a:p>
        </p:txBody>
      </p:sp>
      <p:sp>
        <p:nvSpPr>
          <p:cNvPr id="883" name="Rectangle 22"/>
          <p:cNvSpPr/>
          <p:nvPr/>
        </p:nvSpPr>
        <p:spPr>
          <a:xfrm>
            <a:off x="3922560" y="4624560"/>
            <a:ext cx="1875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267a5"/>
                </a:solidFill>
                <a:latin typeface="Lato"/>
              </a:rPr>
              <a:t>TITLE GOSE HERE</a:t>
            </a:r>
            <a:endParaRPr b="0" lang="en-US" sz="1600" spc="-1" strike="noStrike">
              <a:solidFill>
                <a:srgbClr val="494949"/>
              </a:solidFill>
              <a:latin typeface="Open Sans Light"/>
            </a:endParaRPr>
          </a:p>
        </p:txBody>
      </p:sp>
    </p:spTree>
  </p:cSld>
  <p:transition advTm="2000">
    <p:wipe di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2" presetSubtype="1">
                                  <p:stCondLst>
                                    <p:cond delay="0"/>
                                  </p:stCondLst>
                                  <p:childTnLst>
                                    <p:set>
                                      <p:cBhvr>
                                        <p:cTn id="116" dur="1" fill="hold">
                                          <p:stCondLst>
                                            <p:cond delay="0"/>
                                          </p:stCondLst>
                                        </p:cTn>
                                        <p:tgtEl>
                                          <p:spTgt spid="870"/>
                                        </p:tgtEl>
                                        <p:attrNameLst>
                                          <p:attrName>style.visibility</p:attrName>
                                        </p:attrNameLst>
                                      </p:cBhvr>
                                      <p:to>
                                        <p:strVal val="visible"/>
                                      </p:to>
                                    </p:set>
                                    <p:animEffect filter="wipe(up)" transition="in">
                                      <p:cBhvr additive="repl">
                                        <p:cTn id="117" dur="500"/>
                                        <p:tgtEl>
                                          <p:spTgt spid="870"/>
                                        </p:tgtEl>
                                      </p:cBhvr>
                                    </p:animEffect>
                                  </p:childTnLst>
                                </p:cTn>
                              </p:par>
                            </p:childTnLst>
                          </p:cTn>
                        </p:par>
                        <p:par>
                          <p:cTn id="118" fill="hold">
                            <p:stCondLst>
                              <p:cond delay="500"/>
                            </p:stCondLst>
                            <p:childTnLst>
                              <p:par>
                                <p:cTn id="119" nodeType="afterEffect" fill="hold" presetClass="entr" presetID="23" presetSubtype="16">
                                  <p:stCondLst>
                                    <p:cond delay="0"/>
                                  </p:stCondLst>
                                  <p:childTnLst>
                                    <p:set>
                                      <p:cBhvr>
                                        <p:cTn id="120" dur="1" fill="hold">
                                          <p:stCondLst>
                                            <p:cond delay="0"/>
                                          </p:stCondLst>
                                        </p:cTn>
                                        <p:tgtEl>
                                          <p:spTgt spid="874"/>
                                        </p:tgtEl>
                                        <p:attrNameLst>
                                          <p:attrName>style.visibility</p:attrName>
                                        </p:attrNameLst>
                                      </p:cBhvr>
                                      <p:to>
                                        <p:strVal val="visible"/>
                                      </p:to>
                                    </p:set>
                                    <p:anim calcmode="lin" valueType="num">
                                      <p:cBhvr additive="repl">
                                        <p:cTn id="121" dur="500" fill="hold"/>
                                        <p:tgtEl>
                                          <p:spTgt spid="874"/>
                                        </p:tgtEl>
                                        <p:attrNameLst>
                                          <p:attrName>ppt_w</p:attrName>
                                        </p:attrNameLst>
                                      </p:cBhvr>
                                      <p:tavLst>
                                        <p:tav tm="0">
                                          <p:val>
                                            <p:fltVal val="0"/>
                                          </p:val>
                                        </p:tav>
                                        <p:tav tm="100000">
                                          <p:val>
                                            <p:strVal val="#ppt_w"/>
                                          </p:val>
                                        </p:tav>
                                      </p:tavLst>
                                    </p:anim>
                                    <p:anim calcmode="lin" valueType="num">
                                      <p:cBhvr additive="repl">
                                        <p:cTn id="122" dur="500" fill="hold"/>
                                        <p:tgtEl>
                                          <p:spTgt spid="874"/>
                                        </p:tgtEl>
                                        <p:attrNameLst>
                                          <p:attrName>ppt_h</p:attrName>
                                        </p:attrNameLst>
                                      </p:cBhvr>
                                      <p:tavLst>
                                        <p:tav tm="0">
                                          <p:val>
                                            <p:fltVal val="0"/>
                                          </p:val>
                                        </p:tav>
                                        <p:tav tm="100000">
                                          <p:val>
                                            <p:strVal val="#ppt_h"/>
                                          </p:val>
                                        </p:tav>
                                      </p:tavLst>
                                    </p:anim>
                                  </p:childTnLst>
                                </p:cTn>
                              </p:par>
                            </p:childTnLst>
                          </p:cTn>
                        </p:par>
                        <p:par>
                          <p:cTn id="123" fill="hold">
                            <p:stCondLst>
                              <p:cond delay="1000"/>
                            </p:stCondLst>
                            <p:childTnLst>
                              <p:par>
                                <p:cTn id="124" nodeType="afterEffect" fill="hold" presetClass="entr" presetID="22" presetSubtype="8">
                                  <p:stCondLst>
                                    <p:cond delay="0"/>
                                  </p:stCondLst>
                                  <p:childTnLst>
                                    <p:set>
                                      <p:cBhvr>
                                        <p:cTn id="125" dur="1" fill="hold">
                                          <p:stCondLst>
                                            <p:cond delay="0"/>
                                          </p:stCondLst>
                                        </p:cTn>
                                        <p:tgtEl>
                                          <p:spTgt spid="871"/>
                                        </p:tgtEl>
                                        <p:attrNameLst>
                                          <p:attrName>style.visibility</p:attrName>
                                        </p:attrNameLst>
                                      </p:cBhvr>
                                      <p:to>
                                        <p:strVal val="visible"/>
                                      </p:to>
                                    </p:set>
                                    <p:animEffect filter="wipe(left)" transition="in">
                                      <p:cBhvr additive="repl">
                                        <p:cTn id="126" dur="500"/>
                                        <p:tgtEl>
                                          <p:spTgt spid="871"/>
                                        </p:tgtEl>
                                      </p:cBhvr>
                                    </p:animEffect>
                                  </p:childTnLst>
                                </p:cTn>
                              </p:par>
                            </p:childTnLst>
                          </p:cTn>
                        </p:par>
                        <p:par>
                          <p:cTn id="127" fill="hold">
                            <p:stCondLst>
                              <p:cond delay="1500"/>
                            </p:stCondLst>
                            <p:childTnLst>
                              <p:par>
                                <p:cTn id="128" nodeType="afterEffect" fill="hold" presetClass="entr" presetID="23" presetSubtype="16">
                                  <p:stCondLst>
                                    <p:cond delay="0"/>
                                  </p:stCondLst>
                                  <p:childTnLst>
                                    <p:set>
                                      <p:cBhvr>
                                        <p:cTn id="129" dur="1" fill="hold">
                                          <p:stCondLst>
                                            <p:cond delay="0"/>
                                          </p:stCondLst>
                                        </p:cTn>
                                        <p:tgtEl>
                                          <p:spTgt spid="868"/>
                                        </p:tgtEl>
                                        <p:attrNameLst>
                                          <p:attrName>style.visibility</p:attrName>
                                        </p:attrNameLst>
                                      </p:cBhvr>
                                      <p:to>
                                        <p:strVal val="visible"/>
                                      </p:to>
                                    </p:set>
                                    <p:anim calcmode="lin" valueType="num">
                                      <p:cBhvr additive="repl">
                                        <p:cTn id="130" dur="500" fill="hold"/>
                                        <p:tgtEl>
                                          <p:spTgt spid="868"/>
                                        </p:tgtEl>
                                        <p:attrNameLst>
                                          <p:attrName>ppt_w</p:attrName>
                                        </p:attrNameLst>
                                      </p:cBhvr>
                                      <p:tavLst>
                                        <p:tav tm="0">
                                          <p:val>
                                            <p:fltVal val="0"/>
                                          </p:val>
                                        </p:tav>
                                        <p:tav tm="100000">
                                          <p:val>
                                            <p:strVal val="#ppt_w"/>
                                          </p:val>
                                        </p:tav>
                                      </p:tavLst>
                                    </p:anim>
                                    <p:anim calcmode="lin" valueType="num">
                                      <p:cBhvr additive="repl">
                                        <p:cTn id="131" dur="500" fill="hold"/>
                                        <p:tgtEl>
                                          <p:spTgt spid="868"/>
                                        </p:tgtEl>
                                        <p:attrNameLst>
                                          <p:attrName>ppt_h</p:attrName>
                                        </p:attrNameLst>
                                      </p:cBhvr>
                                      <p:tavLst>
                                        <p:tav tm="0">
                                          <p:val>
                                            <p:fltVal val="0"/>
                                          </p:val>
                                        </p:tav>
                                        <p:tav tm="100000">
                                          <p:val>
                                            <p:strVal val="#ppt_h"/>
                                          </p:val>
                                        </p:tav>
                                      </p:tavLst>
                                    </p:anim>
                                  </p:childTnLst>
                                </p:cTn>
                              </p:par>
                            </p:childTnLst>
                          </p:cTn>
                        </p:par>
                        <p:par>
                          <p:cTn id="132" fill="hold">
                            <p:stCondLst>
                              <p:cond delay="2000"/>
                            </p:stCondLst>
                            <p:childTnLst>
                              <p:par>
                                <p:cTn id="133" nodeType="afterEffect" fill="hold" presetClass="entr" presetID="22" presetSubtype="1">
                                  <p:stCondLst>
                                    <p:cond delay="0"/>
                                  </p:stCondLst>
                                  <p:childTnLst>
                                    <p:set>
                                      <p:cBhvr>
                                        <p:cTn id="134" dur="1" fill="hold">
                                          <p:stCondLst>
                                            <p:cond delay="0"/>
                                          </p:stCondLst>
                                        </p:cTn>
                                        <p:tgtEl>
                                          <p:spTgt spid="873"/>
                                        </p:tgtEl>
                                        <p:attrNameLst>
                                          <p:attrName>style.visibility</p:attrName>
                                        </p:attrNameLst>
                                      </p:cBhvr>
                                      <p:to>
                                        <p:strVal val="visible"/>
                                      </p:to>
                                    </p:set>
                                    <p:animEffect filter="wipe(up)" transition="in">
                                      <p:cBhvr additive="repl">
                                        <p:cTn id="135" dur="500"/>
                                        <p:tgtEl>
                                          <p:spTgt spid="873"/>
                                        </p:tgtEl>
                                      </p:cBhvr>
                                    </p:animEffect>
                                  </p:childTnLst>
                                </p:cTn>
                              </p:par>
                            </p:childTnLst>
                          </p:cTn>
                        </p:par>
                        <p:par>
                          <p:cTn id="136" fill="hold">
                            <p:stCondLst>
                              <p:cond delay="2500"/>
                            </p:stCondLst>
                            <p:childTnLst>
                              <p:par>
                                <p:cTn id="137" nodeType="afterEffect" fill="hold" presetClass="entr" presetID="23" presetSubtype="16">
                                  <p:stCondLst>
                                    <p:cond delay="0"/>
                                  </p:stCondLst>
                                  <p:childTnLst>
                                    <p:set>
                                      <p:cBhvr>
                                        <p:cTn id="138" dur="1" fill="hold">
                                          <p:stCondLst>
                                            <p:cond delay="0"/>
                                          </p:stCondLst>
                                        </p:cTn>
                                        <p:tgtEl>
                                          <p:spTgt spid="877"/>
                                        </p:tgtEl>
                                        <p:attrNameLst>
                                          <p:attrName>style.visibility</p:attrName>
                                        </p:attrNameLst>
                                      </p:cBhvr>
                                      <p:to>
                                        <p:strVal val="visible"/>
                                      </p:to>
                                    </p:set>
                                    <p:anim calcmode="lin" valueType="num">
                                      <p:cBhvr additive="repl">
                                        <p:cTn id="139" dur="500" fill="hold"/>
                                        <p:tgtEl>
                                          <p:spTgt spid="877"/>
                                        </p:tgtEl>
                                        <p:attrNameLst>
                                          <p:attrName>ppt_w</p:attrName>
                                        </p:attrNameLst>
                                      </p:cBhvr>
                                      <p:tavLst>
                                        <p:tav tm="0">
                                          <p:val>
                                            <p:fltVal val="0"/>
                                          </p:val>
                                        </p:tav>
                                        <p:tav tm="100000">
                                          <p:val>
                                            <p:strVal val="#ppt_w"/>
                                          </p:val>
                                        </p:tav>
                                      </p:tavLst>
                                    </p:anim>
                                    <p:anim calcmode="lin" valueType="num">
                                      <p:cBhvr additive="repl">
                                        <p:cTn id="140" dur="500" fill="hold"/>
                                        <p:tgtEl>
                                          <p:spTgt spid="877"/>
                                        </p:tgtEl>
                                        <p:attrNameLst>
                                          <p:attrName>ppt_h</p:attrName>
                                        </p:attrNameLst>
                                      </p:cBhvr>
                                      <p:tavLst>
                                        <p:tav tm="0">
                                          <p:val>
                                            <p:fltVal val="0"/>
                                          </p:val>
                                        </p:tav>
                                        <p:tav tm="100000">
                                          <p:val>
                                            <p:strVal val="#ppt_h"/>
                                          </p:val>
                                        </p:tav>
                                      </p:tavLst>
                                    </p:anim>
                                  </p:childTnLst>
                                </p:cTn>
                              </p:par>
                            </p:childTnLst>
                          </p:cTn>
                        </p:par>
                        <p:par>
                          <p:cTn id="141" fill="hold">
                            <p:stCondLst>
                              <p:cond delay="3000"/>
                            </p:stCondLst>
                            <p:childTnLst>
                              <p:par>
                                <p:cTn id="142" nodeType="afterEffect" fill="hold" presetClass="entr" presetID="22" presetSubtype="2">
                                  <p:stCondLst>
                                    <p:cond delay="0"/>
                                  </p:stCondLst>
                                  <p:childTnLst>
                                    <p:set>
                                      <p:cBhvr>
                                        <p:cTn id="143" dur="1" fill="hold">
                                          <p:stCondLst>
                                            <p:cond delay="0"/>
                                          </p:stCondLst>
                                        </p:cTn>
                                        <p:tgtEl>
                                          <p:spTgt spid="872"/>
                                        </p:tgtEl>
                                        <p:attrNameLst>
                                          <p:attrName>style.visibility</p:attrName>
                                        </p:attrNameLst>
                                      </p:cBhvr>
                                      <p:to>
                                        <p:strVal val="visible"/>
                                      </p:to>
                                    </p:set>
                                    <p:animEffect filter="wipe(right)" transition="in">
                                      <p:cBhvr additive="repl">
                                        <p:cTn id="144" dur="500"/>
                                        <p:tgtEl>
                                          <p:spTgt spid="872"/>
                                        </p:tgtEl>
                                      </p:cBhvr>
                                    </p:animEffect>
                                  </p:childTnLst>
                                </p:cTn>
                              </p:par>
                            </p:childTnLst>
                          </p:cTn>
                        </p:par>
                        <p:par>
                          <p:cTn id="145" fill="hold">
                            <p:stCondLst>
                              <p:cond delay="3500"/>
                            </p:stCondLst>
                            <p:childTnLst>
                              <p:par>
                                <p:cTn id="146" nodeType="afterEffect" fill="hold" presetClass="entr" presetID="23" presetSubtype="16">
                                  <p:stCondLst>
                                    <p:cond delay="0"/>
                                  </p:stCondLst>
                                  <p:childTnLst>
                                    <p:set>
                                      <p:cBhvr>
                                        <p:cTn id="147" dur="1" fill="hold">
                                          <p:stCondLst>
                                            <p:cond delay="0"/>
                                          </p:stCondLst>
                                        </p:cTn>
                                        <p:tgtEl>
                                          <p:spTgt spid="869"/>
                                        </p:tgtEl>
                                        <p:attrNameLst>
                                          <p:attrName>style.visibility</p:attrName>
                                        </p:attrNameLst>
                                      </p:cBhvr>
                                      <p:to>
                                        <p:strVal val="visible"/>
                                      </p:to>
                                    </p:set>
                                    <p:anim calcmode="lin" valueType="num">
                                      <p:cBhvr additive="repl">
                                        <p:cTn id="148" dur="500" fill="hold"/>
                                        <p:tgtEl>
                                          <p:spTgt spid="869"/>
                                        </p:tgtEl>
                                        <p:attrNameLst>
                                          <p:attrName>ppt_w</p:attrName>
                                        </p:attrNameLst>
                                      </p:cBhvr>
                                      <p:tavLst>
                                        <p:tav tm="0">
                                          <p:val>
                                            <p:fltVal val="0"/>
                                          </p:val>
                                        </p:tav>
                                        <p:tav tm="100000">
                                          <p:val>
                                            <p:strVal val="#ppt_w"/>
                                          </p:val>
                                        </p:tav>
                                      </p:tavLst>
                                    </p:anim>
                                    <p:anim calcmode="lin" valueType="num">
                                      <p:cBhvr additive="repl">
                                        <p:cTn id="149" dur="500" fill="hold"/>
                                        <p:tgtEl>
                                          <p:spTgt spid="869"/>
                                        </p:tgtEl>
                                        <p:attrNameLst>
                                          <p:attrName>ppt_h</p:attrName>
                                        </p:attrNameLst>
                                      </p:cBhvr>
                                      <p:tavLst>
                                        <p:tav tm="0">
                                          <p:val>
                                            <p:fltVal val="0"/>
                                          </p:val>
                                        </p:tav>
                                        <p:tav tm="100000">
                                          <p:val>
                                            <p:strVal val="#ppt_h"/>
                                          </p:val>
                                        </p:tav>
                                      </p:tavLst>
                                    </p:anim>
                                  </p:childTnLst>
                                </p:cTn>
                              </p:par>
                            </p:childTnLst>
                          </p:cTn>
                        </p:par>
                        <p:par>
                          <p:cTn id="150" fill="hold">
                            <p:stCondLst>
                              <p:cond delay="4000"/>
                            </p:stCondLst>
                            <p:childTnLst>
                              <p:par>
                                <p:cTn id="151" nodeType="afterEffect" fill="hold" presetClass="entr" presetID="22" presetSubtype="1">
                                  <p:stCondLst>
                                    <p:cond delay="0"/>
                                  </p:stCondLst>
                                  <p:childTnLst>
                                    <p:set>
                                      <p:cBhvr>
                                        <p:cTn id="152" dur="1" fill="hold">
                                          <p:stCondLst>
                                            <p:cond delay="0"/>
                                          </p:stCondLst>
                                        </p:cTn>
                                        <p:tgtEl>
                                          <p:spTgt spid="865"/>
                                        </p:tgtEl>
                                        <p:attrNameLst>
                                          <p:attrName>style.visibility</p:attrName>
                                        </p:attrNameLst>
                                      </p:cBhvr>
                                      <p:to>
                                        <p:strVal val="visible"/>
                                      </p:to>
                                    </p:set>
                                    <p:animEffect filter="wipe(up)" transition="in">
                                      <p:cBhvr additive="repl">
                                        <p:cTn id="153" dur="5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84" name="Shape 163"/>
          <p:cNvCxnSpPr/>
          <p:nvPr/>
        </p:nvCxnSpPr>
        <p:spPr>
          <a:xfrm>
            <a:off x="2292120" y="3714480"/>
            <a:ext cx="1080" cy="470520"/>
          </a:xfrm>
          <a:prstGeom prst="straightConnector1">
            <a:avLst/>
          </a:prstGeom>
          <a:ln w="9360">
            <a:solidFill>
              <a:srgbClr val="d9d9d9"/>
            </a:solidFill>
            <a:miter/>
          </a:ln>
        </p:spPr>
      </p:cxnSp>
      <p:cxnSp>
        <p:nvCxnSpPr>
          <p:cNvPr id="885" name="Shape 164"/>
          <p:cNvCxnSpPr/>
          <p:nvPr/>
        </p:nvCxnSpPr>
        <p:spPr>
          <a:xfrm>
            <a:off x="4211280" y="3714480"/>
            <a:ext cx="1080" cy="470520"/>
          </a:xfrm>
          <a:prstGeom prst="straightConnector1">
            <a:avLst/>
          </a:prstGeom>
          <a:ln w="9360">
            <a:solidFill>
              <a:srgbClr val="d9d9d9"/>
            </a:solidFill>
            <a:miter/>
          </a:ln>
        </p:spPr>
      </p:cxnSp>
      <p:cxnSp>
        <p:nvCxnSpPr>
          <p:cNvPr id="886" name="Shape 165"/>
          <p:cNvCxnSpPr/>
          <p:nvPr/>
        </p:nvCxnSpPr>
        <p:spPr>
          <a:xfrm>
            <a:off x="7951320" y="3714480"/>
            <a:ext cx="1080" cy="470520"/>
          </a:xfrm>
          <a:prstGeom prst="straightConnector1">
            <a:avLst/>
          </a:prstGeom>
          <a:ln w="9360">
            <a:solidFill>
              <a:srgbClr val="d9d9d9"/>
            </a:solidFill>
            <a:miter/>
          </a:ln>
        </p:spPr>
      </p:cxnSp>
      <p:cxnSp>
        <p:nvCxnSpPr>
          <p:cNvPr id="887" name="Shape 166"/>
          <p:cNvCxnSpPr/>
          <p:nvPr/>
        </p:nvCxnSpPr>
        <p:spPr>
          <a:xfrm>
            <a:off x="9869040" y="3714480"/>
            <a:ext cx="1080" cy="470520"/>
          </a:xfrm>
          <a:prstGeom prst="straightConnector1">
            <a:avLst/>
          </a:prstGeom>
          <a:ln w="9360">
            <a:solidFill>
              <a:srgbClr val="d9d9d9"/>
            </a:solidFill>
            <a:miter/>
          </a:ln>
        </p:spPr>
      </p:cxnSp>
      <p:cxnSp>
        <p:nvCxnSpPr>
          <p:cNvPr id="888" name="Shape 167"/>
          <p:cNvCxnSpPr/>
          <p:nvPr/>
        </p:nvCxnSpPr>
        <p:spPr>
          <a:xfrm>
            <a:off x="6086160" y="3466800"/>
            <a:ext cx="1080" cy="717840"/>
          </a:xfrm>
          <a:prstGeom prst="straightConnector1">
            <a:avLst/>
          </a:prstGeom>
          <a:ln w="9360">
            <a:solidFill>
              <a:srgbClr val="d9d9d9"/>
            </a:solidFill>
            <a:miter/>
          </a:ln>
        </p:spPr>
      </p:cxnSp>
      <p:cxnSp>
        <p:nvCxnSpPr>
          <p:cNvPr id="889" name="Shape 168"/>
          <p:cNvCxnSpPr/>
          <p:nvPr/>
        </p:nvCxnSpPr>
        <p:spPr>
          <a:xfrm>
            <a:off x="2292120" y="3714480"/>
            <a:ext cx="7577640" cy="1080"/>
          </a:xfrm>
          <a:prstGeom prst="straightConnector1">
            <a:avLst/>
          </a:prstGeom>
          <a:ln w="12600">
            <a:solidFill>
              <a:srgbClr val="d8d8d8"/>
            </a:solidFill>
            <a:miter/>
          </a:ln>
        </p:spPr>
      </p:cxnSp>
      <p:sp>
        <p:nvSpPr>
          <p:cNvPr id="890" name="Shape 169"/>
          <p:cNvSpPr/>
          <p:nvPr/>
        </p:nvSpPr>
        <p:spPr>
          <a:xfrm>
            <a:off x="5349960" y="2041560"/>
            <a:ext cx="1425600" cy="1425600"/>
          </a:xfrm>
          <a:prstGeom prst="ellipse">
            <a:avLst/>
          </a:prstGeom>
          <a:solidFill>
            <a:srgbClr val="494949">
              <a:alpha val="20000"/>
            </a:srgbClr>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494949"/>
                </a:solidFill>
                <a:latin typeface="Lato"/>
                <a:ea typeface="Lato"/>
              </a:rPr>
              <a:t>ADMIN</a:t>
            </a:r>
            <a:endParaRPr b="0" lang="en-US" sz="1900" spc="-1" strike="noStrike">
              <a:solidFill>
                <a:srgbClr val="494949"/>
              </a:solidFill>
              <a:latin typeface="Open Sans Light"/>
            </a:endParaRPr>
          </a:p>
        </p:txBody>
      </p:sp>
      <p:sp>
        <p:nvSpPr>
          <p:cNvPr id="891" name="Shape 170"/>
          <p:cNvSpPr/>
          <p:nvPr/>
        </p:nvSpPr>
        <p:spPr>
          <a:xfrm>
            <a:off x="1846440" y="4024440"/>
            <a:ext cx="884160" cy="884160"/>
          </a:xfrm>
          <a:prstGeom prst="ellipse">
            <a:avLst/>
          </a:prstGeom>
          <a:solidFill>
            <a:srgbClr val="00a09c"/>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92" name="Shape 171"/>
          <p:cNvSpPr/>
          <p:nvPr/>
        </p:nvSpPr>
        <p:spPr>
          <a:xfrm>
            <a:off x="3746520" y="4024440"/>
            <a:ext cx="884160" cy="884160"/>
          </a:xfrm>
          <a:prstGeom prst="ellipse">
            <a:avLst/>
          </a:prstGeom>
          <a:solidFill>
            <a:srgbClr val="0098a5"/>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93" name="Shape 172"/>
          <p:cNvSpPr/>
          <p:nvPr/>
        </p:nvSpPr>
        <p:spPr>
          <a:xfrm>
            <a:off x="5645160" y="4024440"/>
            <a:ext cx="884160" cy="884160"/>
          </a:xfrm>
          <a:prstGeom prst="ellipse">
            <a:avLst/>
          </a:prstGeom>
          <a:solidFill>
            <a:srgbClr val="1991ab"/>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94" name="Shape 173"/>
          <p:cNvSpPr/>
          <p:nvPr/>
        </p:nvSpPr>
        <p:spPr>
          <a:xfrm>
            <a:off x="7535880" y="4024440"/>
            <a:ext cx="884160" cy="884160"/>
          </a:xfrm>
          <a:prstGeom prst="ellipse">
            <a:avLst/>
          </a:prstGeom>
          <a:solidFill>
            <a:srgbClr val="2b85ae"/>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95" name="Shape 174"/>
          <p:cNvSpPr/>
          <p:nvPr/>
        </p:nvSpPr>
        <p:spPr>
          <a:xfrm>
            <a:off x="9437760" y="4024440"/>
            <a:ext cx="884160" cy="884160"/>
          </a:xfrm>
          <a:prstGeom prst="ellipse">
            <a:avLst/>
          </a:prstGeom>
          <a:solidFill>
            <a:srgbClr val="4175a9"/>
          </a:solid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896" name="Shape 175"/>
          <p:cNvSpPr/>
          <p:nvPr/>
        </p:nvSpPr>
        <p:spPr>
          <a:xfrm>
            <a:off x="1616040" y="5022720"/>
            <a:ext cx="1355760" cy="747720"/>
          </a:xfrm>
          <a:prstGeom prst="rect">
            <a:avLst/>
          </a:prstGeom>
          <a:noFill/>
          <a:ln w="0">
            <a:noFill/>
          </a:ln>
        </p:spPr>
        <p:style>
          <a:lnRef idx="0"/>
          <a:fillRef idx="0"/>
          <a:effectRef idx="0"/>
          <a:fontRef idx="minor"/>
        </p:style>
        <p:txBody>
          <a:bodyPr anchor="t">
            <a:no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494949"/>
                </a:solidFill>
                <a:latin typeface="Lato"/>
                <a:ea typeface="Lato"/>
              </a:rPr>
              <a:t>Finances</a:t>
            </a:r>
            <a:endParaRPr b="0" lang="en-US" sz="1800" spc="-1" strike="noStrike">
              <a:solidFill>
                <a:srgbClr val="494949"/>
              </a:solidFill>
              <a:latin typeface="Open Sans Light"/>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494949"/>
                </a:solidFill>
                <a:latin typeface="Open Sans Light"/>
                <a:ea typeface="Lato"/>
              </a:rPr>
              <a:t>Write here something about</a:t>
            </a:r>
            <a:endParaRPr b="0" lang="en-US" sz="1100" spc="-1" strike="noStrike">
              <a:solidFill>
                <a:srgbClr val="494949"/>
              </a:solidFill>
              <a:latin typeface="Open Sans Light"/>
            </a:endParaRPr>
          </a:p>
        </p:txBody>
      </p:sp>
      <p:sp>
        <p:nvSpPr>
          <p:cNvPr id="897" name="Shape 176"/>
          <p:cNvSpPr/>
          <p:nvPr/>
        </p:nvSpPr>
        <p:spPr>
          <a:xfrm>
            <a:off x="3519360" y="5022720"/>
            <a:ext cx="1354320" cy="747720"/>
          </a:xfrm>
          <a:prstGeom prst="rect">
            <a:avLst/>
          </a:prstGeom>
          <a:noFill/>
          <a:ln w="0">
            <a:noFill/>
          </a:ln>
        </p:spPr>
        <p:style>
          <a:lnRef idx="0"/>
          <a:fillRef idx="0"/>
          <a:effectRef idx="0"/>
          <a:fontRef idx="minor"/>
        </p:style>
        <p:txBody>
          <a:bodyPr anchor="t">
            <a:no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494949"/>
                </a:solidFill>
                <a:latin typeface="Lato"/>
                <a:ea typeface="Lato"/>
              </a:rPr>
              <a:t>Marketing</a:t>
            </a:r>
            <a:endParaRPr b="0" lang="en-US" sz="1800" spc="-1" strike="noStrike">
              <a:solidFill>
                <a:srgbClr val="494949"/>
              </a:solidFill>
              <a:latin typeface="Open Sans Light"/>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494949"/>
                </a:solidFill>
                <a:latin typeface="Open Sans Light"/>
                <a:ea typeface="Lato"/>
              </a:rPr>
              <a:t>Write here something about</a:t>
            </a:r>
            <a:endParaRPr b="0" lang="en-US" sz="1100" spc="-1" strike="noStrike">
              <a:solidFill>
                <a:srgbClr val="494949"/>
              </a:solidFill>
              <a:latin typeface="Open Sans Light"/>
            </a:endParaRPr>
          </a:p>
        </p:txBody>
      </p:sp>
      <p:sp>
        <p:nvSpPr>
          <p:cNvPr id="898" name="Shape 177"/>
          <p:cNvSpPr/>
          <p:nvPr/>
        </p:nvSpPr>
        <p:spPr>
          <a:xfrm>
            <a:off x="5429160" y="5022720"/>
            <a:ext cx="1354320" cy="747720"/>
          </a:xfrm>
          <a:prstGeom prst="rect">
            <a:avLst/>
          </a:prstGeom>
          <a:noFill/>
          <a:ln w="0">
            <a:noFill/>
          </a:ln>
        </p:spPr>
        <p:style>
          <a:lnRef idx="0"/>
          <a:fillRef idx="0"/>
          <a:effectRef idx="0"/>
          <a:fontRef idx="minor"/>
        </p:style>
        <p:txBody>
          <a:bodyPr anchor="t">
            <a:no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494949"/>
                </a:solidFill>
                <a:latin typeface="Lato"/>
                <a:ea typeface="Lato"/>
              </a:rPr>
              <a:t>HR</a:t>
            </a:r>
            <a:endParaRPr b="0" lang="en-US" sz="1800" spc="-1" strike="noStrike">
              <a:solidFill>
                <a:srgbClr val="494949"/>
              </a:solidFill>
              <a:latin typeface="Open Sans Light"/>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494949"/>
                </a:solidFill>
                <a:latin typeface="Open Sans Light"/>
                <a:ea typeface="Lato"/>
              </a:rPr>
              <a:t>Write here something about</a:t>
            </a:r>
            <a:endParaRPr b="0" lang="en-US" sz="1100" spc="-1" strike="noStrike">
              <a:solidFill>
                <a:srgbClr val="494949"/>
              </a:solidFill>
              <a:latin typeface="Open Sans Light"/>
            </a:endParaRPr>
          </a:p>
        </p:txBody>
      </p:sp>
      <p:sp>
        <p:nvSpPr>
          <p:cNvPr id="899" name="Shape 178"/>
          <p:cNvSpPr/>
          <p:nvPr/>
        </p:nvSpPr>
        <p:spPr>
          <a:xfrm>
            <a:off x="7308720" y="5022720"/>
            <a:ext cx="1354320" cy="747720"/>
          </a:xfrm>
          <a:prstGeom prst="rect">
            <a:avLst/>
          </a:prstGeom>
          <a:noFill/>
          <a:ln w="0">
            <a:noFill/>
          </a:ln>
        </p:spPr>
        <p:style>
          <a:lnRef idx="0"/>
          <a:fillRef idx="0"/>
          <a:effectRef idx="0"/>
          <a:fontRef idx="minor"/>
        </p:style>
        <p:txBody>
          <a:bodyPr anchor="t">
            <a:no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494949"/>
                </a:solidFill>
                <a:latin typeface="Lato"/>
                <a:ea typeface="Lato"/>
              </a:rPr>
              <a:t>Commerce</a:t>
            </a:r>
            <a:endParaRPr b="0" lang="en-US" sz="1800" spc="-1" strike="noStrike">
              <a:solidFill>
                <a:srgbClr val="494949"/>
              </a:solidFill>
              <a:latin typeface="Open Sans Light"/>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494949"/>
                </a:solidFill>
                <a:latin typeface="Open Sans Light"/>
                <a:ea typeface="Lato"/>
              </a:rPr>
              <a:t>Write here something about</a:t>
            </a:r>
            <a:endParaRPr b="0" lang="en-US" sz="1100" spc="-1" strike="noStrike">
              <a:solidFill>
                <a:srgbClr val="494949"/>
              </a:solidFill>
              <a:latin typeface="Open Sans Light"/>
            </a:endParaRPr>
          </a:p>
        </p:txBody>
      </p:sp>
      <p:sp>
        <p:nvSpPr>
          <p:cNvPr id="900" name="Shape 179"/>
          <p:cNvSpPr/>
          <p:nvPr/>
        </p:nvSpPr>
        <p:spPr>
          <a:xfrm>
            <a:off x="9220320" y="5022720"/>
            <a:ext cx="1355760" cy="747720"/>
          </a:xfrm>
          <a:prstGeom prst="rect">
            <a:avLst/>
          </a:prstGeom>
          <a:noFill/>
          <a:ln w="0">
            <a:noFill/>
          </a:ln>
        </p:spPr>
        <p:style>
          <a:lnRef idx="0"/>
          <a:fillRef idx="0"/>
          <a:effectRef idx="0"/>
          <a:fontRef idx="minor"/>
        </p:style>
        <p:txBody>
          <a:bodyPr anchor="t">
            <a:no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494949"/>
                </a:solidFill>
                <a:latin typeface="Lato"/>
                <a:ea typeface="Lato"/>
              </a:rPr>
              <a:t>Production</a:t>
            </a:r>
            <a:endParaRPr b="0" lang="en-US" sz="1800" spc="-1" strike="noStrike">
              <a:solidFill>
                <a:srgbClr val="494949"/>
              </a:solidFill>
              <a:latin typeface="Open Sans Light"/>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494949"/>
                </a:solidFill>
                <a:latin typeface="Open Sans Light"/>
                <a:ea typeface="Lato"/>
              </a:rPr>
              <a:t>Write here something about</a:t>
            </a:r>
            <a:endParaRPr b="0" lang="en-US" sz="1100" spc="-1" strike="noStrike">
              <a:solidFill>
                <a:srgbClr val="494949"/>
              </a:solidFill>
              <a:latin typeface="Open Sans Light"/>
            </a:endParaRPr>
          </a:p>
        </p:txBody>
      </p:sp>
      <p:sp>
        <p:nvSpPr>
          <p:cNvPr id="901" name="Shape 180"/>
          <p:cNvSpPr/>
          <p:nvPr/>
        </p:nvSpPr>
        <p:spPr>
          <a:xfrm>
            <a:off x="7790040" y="4303800"/>
            <a:ext cx="347400" cy="349200"/>
          </a:xfrm>
          <a:custGeom>
            <a:avLst/>
            <a:gdLst>
              <a:gd name="textAreaLeft" fmla="*/ 0 w 347400"/>
              <a:gd name="textAreaRight" fmla="*/ 347760 w 347400"/>
              <a:gd name="textAreaTop" fmla="*/ 0 h 349200"/>
              <a:gd name="textAreaBottom" fmla="*/ 349560 h 34920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16920" rIns="16920" tIns="8280" bIns="8280" anchor="ctr">
            <a:noAutofit/>
          </a:bodyPr>
          <a:p>
            <a:endParaRPr b="0" lang="en-US" sz="1800" spc="-1" strike="noStrike">
              <a:solidFill>
                <a:srgbClr val="494949"/>
              </a:solidFill>
              <a:latin typeface="Open Sans Light"/>
            </a:endParaRPr>
          </a:p>
        </p:txBody>
      </p:sp>
      <p:sp>
        <p:nvSpPr>
          <p:cNvPr id="902" name="Shape 181"/>
          <p:cNvSpPr/>
          <p:nvPr/>
        </p:nvSpPr>
        <p:spPr>
          <a:xfrm>
            <a:off x="2125800" y="4292640"/>
            <a:ext cx="304560" cy="349200"/>
          </a:xfrm>
          <a:custGeom>
            <a:avLst/>
            <a:gdLst>
              <a:gd name="textAreaLeft" fmla="*/ 0 w 304560"/>
              <a:gd name="textAreaRight" fmla="*/ 304920 w 304560"/>
              <a:gd name="textAreaTop" fmla="*/ 0 h 349200"/>
              <a:gd name="textAreaBottom" fmla="*/ 349560 h 3492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16920" rIns="16920" tIns="8280" bIns="8280" anchor="ctr">
            <a:noAutofit/>
          </a:bodyPr>
          <a:p>
            <a:endParaRPr b="0" lang="en-US" sz="1800" spc="-1" strike="noStrike">
              <a:solidFill>
                <a:srgbClr val="494949"/>
              </a:solidFill>
              <a:latin typeface="Open Sans Light"/>
            </a:endParaRPr>
          </a:p>
        </p:txBody>
      </p:sp>
      <p:sp>
        <p:nvSpPr>
          <p:cNvPr id="903" name="Shape 182"/>
          <p:cNvSpPr/>
          <p:nvPr/>
        </p:nvSpPr>
        <p:spPr>
          <a:xfrm>
            <a:off x="4029120" y="4278240"/>
            <a:ext cx="338040" cy="349200"/>
          </a:xfrm>
          <a:custGeom>
            <a:avLst/>
            <a:gdLst>
              <a:gd name="textAreaLeft" fmla="*/ 0 w 338040"/>
              <a:gd name="textAreaRight" fmla="*/ 338040 w 338040"/>
              <a:gd name="textAreaTop" fmla="*/ 0 h 349200"/>
              <a:gd name="textAreaBottom" fmla="*/ 349560 h 3492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16920" rIns="16920" tIns="8280" bIns="8280" anchor="ctr">
            <a:noAutofit/>
          </a:bodyPr>
          <a:p>
            <a:endParaRPr b="0" lang="en-US" sz="1800" spc="-1" strike="noStrike">
              <a:solidFill>
                <a:srgbClr val="494949"/>
              </a:solidFill>
              <a:latin typeface="Open Sans Light"/>
            </a:endParaRPr>
          </a:p>
        </p:txBody>
      </p:sp>
      <p:sp>
        <p:nvSpPr>
          <p:cNvPr id="904" name="Shape 183"/>
          <p:cNvSpPr/>
          <p:nvPr/>
        </p:nvSpPr>
        <p:spPr>
          <a:xfrm>
            <a:off x="5905440" y="4278240"/>
            <a:ext cx="366840" cy="349200"/>
          </a:xfrm>
          <a:custGeom>
            <a:avLst/>
            <a:gdLst>
              <a:gd name="textAreaLeft" fmla="*/ 0 w 366840"/>
              <a:gd name="textAreaRight" fmla="*/ 367200 w 366840"/>
              <a:gd name="textAreaTop" fmla="*/ 0 h 349200"/>
              <a:gd name="textAreaBottom" fmla="*/ 349560 h 3492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16920" rIns="16920" tIns="8280" bIns="8280" anchor="ctr">
            <a:noAutofit/>
          </a:bodyPr>
          <a:p>
            <a:endParaRPr b="0" lang="en-US" sz="1800" spc="-1" strike="noStrike">
              <a:solidFill>
                <a:srgbClr val="494949"/>
              </a:solidFill>
              <a:latin typeface="Open Sans Light"/>
            </a:endParaRPr>
          </a:p>
        </p:txBody>
      </p:sp>
      <p:sp>
        <p:nvSpPr>
          <p:cNvPr id="905" name="Shape 184"/>
          <p:cNvSpPr/>
          <p:nvPr/>
        </p:nvSpPr>
        <p:spPr>
          <a:xfrm>
            <a:off x="9666360" y="4303800"/>
            <a:ext cx="388800" cy="350640"/>
          </a:xfrm>
          <a:custGeom>
            <a:avLst/>
            <a:gdLst>
              <a:gd name="textAreaLeft" fmla="*/ 0 w 388800"/>
              <a:gd name="textAreaRight" fmla="*/ 389160 w 388800"/>
              <a:gd name="textAreaTop" fmla="*/ 0 h 350640"/>
              <a:gd name="textAreaBottom" fmla="*/ 351000 h 3506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16920" rIns="16920" tIns="8280" bIns="8280" anchor="ctr">
            <a:noAutofit/>
          </a:bodyPr>
          <a:p>
            <a:endParaRPr b="0" lang="en-US" sz="1800" spc="-1" strike="noStrike">
              <a:solidFill>
                <a:srgbClr val="494949"/>
              </a:solidFill>
              <a:latin typeface="Open Sans Light"/>
            </a:endParaRPr>
          </a:p>
        </p:txBody>
      </p:sp>
      <p:sp>
        <p:nvSpPr>
          <p:cNvPr id="906" name="PlaceHolder 1"/>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d3f51"/>
                </a:solidFill>
                <a:latin typeface="Lato Heavy"/>
              </a:rPr>
              <a:t>OUR ORGANIZATION</a:t>
            </a:r>
            <a:endParaRPr b="0" lang="en-US" sz="3600" spc="-1" strike="noStrike">
              <a:solidFill>
                <a:srgbClr val="494949"/>
              </a:solidFill>
              <a:latin typeface="Lato Heavy"/>
            </a:endParaRPr>
          </a:p>
        </p:txBody>
      </p:sp>
      <p:sp>
        <p:nvSpPr>
          <p:cNvPr id="907" name="PlaceHolder 2"/>
          <p:cNvSpPr>
            <a:spLocks noGrp="1"/>
          </p:cNvSpPr>
          <p:nvPr>
            <p:ph/>
          </p:nvPr>
        </p:nvSpPr>
        <p:spPr>
          <a:xfrm>
            <a:off x="1523880" y="1285920"/>
            <a:ext cx="9144000" cy="247680"/>
          </a:xfrm>
          <a:prstGeom prst="rect">
            <a:avLst/>
          </a:prstGeom>
          <a:noFill/>
          <a:ln w="0">
            <a:noFill/>
          </a:ln>
        </p:spPr>
        <p:txBody>
          <a:bodyPr lIns="0" rIns="0" tIns="0" bIns="0" anchor="t">
            <a:normAutofit/>
          </a:bodyPr>
          <a:p>
            <a:pPr indent="0" algn="ctr">
              <a:lnSpc>
                <a:spcPts val="1397"/>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373737"/>
                </a:solidFill>
                <a:latin typeface="Open Sans Light"/>
              </a:rPr>
              <a:t>write your relevant text here</a:t>
            </a:r>
            <a:endParaRPr b="0" lang="en-US" sz="1000" spc="-1" strike="noStrike">
              <a:solidFill>
                <a:srgbClr val="494949"/>
              </a:solidFill>
              <a:latin typeface="Open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hape 62"/>
          <p:cNvSpPr/>
          <p:nvPr/>
        </p:nvSpPr>
        <p:spPr>
          <a:xfrm flipH="1">
            <a:off x="1066680" y="5300640"/>
            <a:ext cx="10058400" cy="0"/>
          </a:xfrm>
          <a:prstGeom prst="line">
            <a:avLst/>
          </a:prstGeom>
          <a:ln cap="rnd" w="9360">
            <a:solidFill>
              <a:srgbClr val="5267a5"/>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09" name="PlaceHolder 1"/>
          <p:cNvSpPr>
            <a:spLocks noGrp="1"/>
          </p:cNvSpPr>
          <p:nvPr>
            <p:ph/>
          </p:nvPr>
        </p:nvSpPr>
        <p:spPr>
          <a:xfrm>
            <a:off x="2109960" y="2405160"/>
            <a:ext cx="2489040" cy="574560"/>
          </a:xfrm>
          <a:prstGeom prst="rect">
            <a:avLst/>
          </a:prstGeom>
          <a:noFill/>
          <a:ln w="0">
            <a:noFill/>
          </a:ln>
        </p:spPr>
        <p:txBody>
          <a:bodyPr lIns="0" rIns="0" anchor="t">
            <a:normAutofit fontScale="97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 tarakacheok tok</a:t>
            </a:r>
            <a:endParaRPr b="0" lang="en-US" sz="1000" spc="-1" strike="noStrike">
              <a:solidFill>
                <a:srgbClr val="494949"/>
              </a:solidFill>
              <a:latin typeface="Open Sans Light"/>
            </a:endParaRPr>
          </a:p>
        </p:txBody>
      </p:sp>
      <p:sp>
        <p:nvSpPr>
          <p:cNvPr id="910" name="PlaceHolder 2"/>
          <p:cNvSpPr>
            <a:spLocks noGrp="1"/>
          </p:cNvSpPr>
          <p:nvPr>
            <p:ph/>
          </p:nvPr>
        </p:nvSpPr>
        <p:spPr>
          <a:xfrm>
            <a:off x="1066680" y="5637240"/>
            <a:ext cx="10058400" cy="665280"/>
          </a:xfrm>
          <a:prstGeom prst="rect">
            <a:avLst/>
          </a:prstGeom>
          <a:noFill/>
          <a:ln w="0">
            <a:noFill/>
          </a:ln>
        </p:spPr>
        <p:txBody>
          <a:bodyPr lIns="0" rIns="0" anchor="t">
            <a:normAutofit/>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a:t>
            </a:r>
            <a:endParaRPr b="0" lang="en-US" sz="1000" spc="-1" strike="noStrike">
              <a:solidFill>
                <a:srgbClr val="494949"/>
              </a:solidFill>
              <a:latin typeface="Open Sans Light"/>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494949"/>
              </a:solidFill>
              <a:latin typeface="Open Sans Light"/>
            </a:endParaRPr>
          </a:p>
        </p:txBody>
      </p:sp>
      <p:sp>
        <p:nvSpPr>
          <p:cNvPr id="911" name="Oval 30"/>
          <p:cNvSpPr/>
          <p:nvPr/>
        </p:nvSpPr>
        <p:spPr>
          <a:xfrm>
            <a:off x="1066680" y="2201760"/>
            <a:ext cx="719280" cy="719280"/>
          </a:xfrm>
          <a:prstGeom prst="ellipse">
            <a:avLst/>
          </a:prstGeom>
          <a:noFill/>
          <a:ln w="6480">
            <a:solidFill>
              <a:srgbClr val="00a09c"/>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nvGrpSpPr>
          <p:cNvPr id="912" name="Group 44"/>
          <p:cNvGrpSpPr/>
          <p:nvPr/>
        </p:nvGrpSpPr>
        <p:grpSpPr>
          <a:xfrm>
            <a:off x="1244520" y="2408400"/>
            <a:ext cx="363600" cy="307800"/>
            <a:chOff x="1244520" y="2408400"/>
            <a:chExt cx="363600" cy="307800"/>
          </a:xfrm>
        </p:grpSpPr>
        <p:sp>
          <p:nvSpPr>
            <p:cNvPr id="913" name="Freeform 6"/>
            <p:cNvSpPr/>
            <p:nvPr/>
          </p:nvSpPr>
          <p:spPr>
            <a:xfrm>
              <a:off x="1244520" y="2408400"/>
              <a:ext cx="363600" cy="272520"/>
            </a:xfrm>
            <a:custGeom>
              <a:avLst/>
              <a:gdLst/>
              <a:ahLst/>
              <a:rect l="l" t="t" r="r" b="b"/>
              <a:pathLst>
                <a:path w="160" h="120">
                  <a:moveTo>
                    <a:pt x="160" y="112"/>
                  </a:moveTo>
                  <a:cubicBezTo>
                    <a:pt x="160" y="116"/>
                    <a:pt x="156" y="120"/>
                    <a:pt x="152" y="120"/>
                  </a:cubicBezTo>
                  <a:cubicBezTo>
                    <a:pt x="8" y="120"/>
                    <a:pt x="8" y="120"/>
                    <a:pt x="8" y="120"/>
                  </a:cubicBezTo>
                  <a:cubicBezTo>
                    <a:pt x="4" y="120"/>
                    <a:pt x="0" y="116"/>
                    <a:pt x="0" y="112"/>
                  </a:cubicBezTo>
                  <a:cubicBezTo>
                    <a:pt x="0" y="8"/>
                    <a:pt x="0" y="8"/>
                    <a:pt x="0" y="8"/>
                  </a:cubicBezTo>
                  <a:cubicBezTo>
                    <a:pt x="0" y="4"/>
                    <a:pt x="4" y="0"/>
                    <a:pt x="8" y="0"/>
                  </a:cubicBezTo>
                  <a:cubicBezTo>
                    <a:pt x="152" y="0"/>
                    <a:pt x="152" y="0"/>
                    <a:pt x="152" y="0"/>
                  </a:cubicBezTo>
                  <a:cubicBezTo>
                    <a:pt x="156" y="0"/>
                    <a:pt x="160" y="4"/>
                    <a:pt x="160" y="8"/>
                  </a:cubicBezTo>
                  <a:lnTo>
                    <a:pt x="160" y="112"/>
                  </a:lnTo>
                  <a:close/>
                </a:path>
              </a:pathLst>
            </a:custGeom>
            <a:solidFill>
              <a:srgbClr val="00a09c"/>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sp>
          <p:nvSpPr>
            <p:cNvPr id="914" name="Rectangle 7"/>
            <p:cNvSpPr/>
            <p:nvPr/>
          </p:nvSpPr>
          <p:spPr>
            <a:xfrm>
              <a:off x="1271160" y="2435040"/>
              <a:ext cx="30996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15" name="Rectangle 8"/>
            <p:cNvSpPr/>
            <p:nvPr/>
          </p:nvSpPr>
          <p:spPr>
            <a:xfrm>
              <a:off x="1389600" y="2680920"/>
              <a:ext cx="82800" cy="16920"/>
            </a:xfrm>
            <a:prstGeom prst="rect">
              <a:avLst/>
            </a:prstGeom>
            <a:solidFill>
              <a:srgbClr val="00a09c"/>
            </a:solidFill>
            <a:ln w="0">
              <a:noFill/>
            </a:ln>
          </p:spPr>
          <p:style>
            <a:lnRef idx="0"/>
            <a:fillRef idx="0"/>
            <a:effectRef idx="0"/>
            <a:fontRef idx="minor"/>
          </p:style>
          <p:txBody>
            <a:bodyPr lIns="90000" rIns="90000" tIns="-29880" bIns="-2988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16" name="Rectangle 9"/>
            <p:cNvSpPr/>
            <p:nvPr/>
          </p:nvSpPr>
          <p:spPr>
            <a:xfrm>
              <a:off x="1317600" y="2698200"/>
              <a:ext cx="227160" cy="18000"/>
            </a:xfrm>
            <a:prstGeom prst="rect">
              <a:avLst/>
            </a:prstGeom>
            <a:solidFill>
              <a:srgbClr val="00a09c"/>
            </a:solidFill>
            <a:ln w="0">
              <a:noFill/>
            </a:ln>
          </p:spPr>
          <p:style>
            <a:lnRef idx="0"/>
            <a:fillRef idx="0"/>
            <a:effectRef idx="0"/>
            <a:fontRef idx="minor"/>
          </p:style>
          <p:txBody>
            <a:bodyPr lIns="90000" rIns="90000" tIns="-28800" bIns="-28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grpSp>
      <p:sp>
        <p:nvSpPr>
          <p:cNvPr id="917" name="Oval 53"/>
          <p:cNvSpPr/>
          <p:nvPr/>
        </p:nvSpPr>
        <p:spPr>
          <a:xfrm>
            <a:off x="1066680" y="3794040"/>
            <a:ext cx="719280" cy="720720"/>
          </a:xfrm>
          <a:prstGeom prst="ellipse">
            <a:avLst/>
          </a:prstGeom>
          <a:noFill/>
          <a:ln w="6480">
            <a:solidFill>
              <a:srgbClr val="2b85ae"/>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18" name="Freeform 6"/>
          <p:cNvSpPr/>
          <p:nvPr/>
        </p:nvSpPr>
        <p:spPr>
          <a:xfrm>
            <a:off x="1217520" y="3940200"/>
            <a:ext cx="426960" cy="428760"/>
          </a:xfrm>
          <a:custGeom>
            <a:avLst/>
            <a:gdLst/>
            <a:ahLst/>
            <a:rect l="l" t="t" r="r" b="b"/>
            <a:pathLst>
              <a:path w="130" h="130">
                <a:moveTo>
                  <a:pt x="107" y="23"/>
                </a:moveTo>
                <a:cubicBezTo>
                  <a:pt x="83" y="0"/>
                  <a:pt x="46" y="0"/>
                  <a:pt x="23" y="23"/>
                </a:cubicBezTo>
                <a:cubicBezTo>
                  <a:pt x="0" y="46"/>
                  <a:pt x="0" y="84"/>
                  <a:pt x="23" y="107"/>
                </a:cubicBezTo>
                <a:cubicBezTo>
                  <a:pt x="46" y="130"/>
                  <a:pt x="83" y="130"/>
                  <a:pt x="107" y="107"/>
                </a:cubicBezTo>
                <a:cubicBezTo>
                  <a:pt x="130" y="84"/>
                  <a:pt x="130" y="46"/>
                  <a:pt x="107" y="23"/>
                </a:cubicBezTo>
                <a:close/>
                <a:moveTo>
                  <a:pt x="75" y="82"/>
                </a:moveTo>
                <a:cubicBezTo>
                  <a:pt x="45" y="99"/>
                  <a:pt x="45" y="99"/>
                  <a:pt x="45" y="99"/>
                </a:cubicBezTo>
                <a:cubicBezTo>
                  <a:pt x="45" y="65"/>
                  <a:pt x="45" y="65"/>
                  <a:pt x="45" y="65"/>
                </a:cubicBezTo>
                <a:cubicBezTo>
                  <a:pt x="45" y="30"/>
                  <a:pt x="45" y="30"/>
                  <a:pt x="45" y="30"/>
                </a:cubicBezTo>
                <a:cubicBezTo>
                  <a:pt x="75" y="48"/>
                  <a:pt x="75" y="48"/>
                  <a:pt x="75" y="48"/>
                </a:cubicBezTo>
                <a:cubicBezTo>
                  <a:pt x="104" y="65"/>
                  <a:pt x="104" y="65"/>
                  <a:pt x="104" y="65"/>
                </a:cubicBezTo>
                <a:lnTo>
                  <a:pt x="75" y="82"/>
                </a:lnTo>
                <a:close/>
              </a:path>
            </a:pathLst>
          </a:custGeom>
          <a:solidFill>
            <a:srgbClr val="2b85ae"/>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sp>
        <p:nvSpPr>
          <p:cNvPr id="919" name="Oval 56"/>
          <p:cNvSpPr/>
          <p:nvPr/>
        </p:nvSpPr>
        <p:spPr>
          <a:xfrm>
            <a:off x="6539040" y="2201760"/>
            <a:ext cx="718920" cy="719280"/>
          </a:xfrm>
          <a:prstGeom prst="ellipse">
            <a:avLst/>
          </a:prstGeom>
          <a:noFill/>
          <a:ln w="6480">
            <a:solidFill>
              <a:srgbClr val="5267a5"/>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20" name="Freeform 31"/>
          <p:cNvSpPr/>
          <p:nvPr/>
        </p:nvSpPr>
        <p:spPr>
          <a:xfrm>
            <a:off x="6732720" y="2408400"/>
            <a:ext cx="331560" cy="288720"/>
          </a:xfrm>
          <a:custGeom>
            <a:avLst/>
            <a:gdLst/>
            <a:ahLst/>
            <a:rect l="l" t="t" r="r" b="b"/>
            <a:pathLst>
              <a:path w="471" h="414">
                <a:moveTo>
                  <a:pt x="176" y="154"/>
                </a:moveTo>
                <a:lnTo>
                  <a:pt x="247" y="177"/>
                </a:lnTo>
                <a:lnTo>
                  <a:pt x="318" y="94"/>
                </a:lnTo>
                <a:lnTo>
                  <a:pt x="329" y="83"/>
                </a:lnTo>
                <a:lnTo>
                  <a:pt x="377" y="118"/>
                </a:lnTo>
                <a:lnTo>
                  <a:pt x="377" y="59"/>
                </a:lnTo>
                <a:lnTo>
                  <a:pt x="377" y="0"/>
                </a:lnTo>
                <a:lnTo>
                  <a:pt x="318" y="12"/>
                </a:lnTo>
                <a:lnTo>
                  <a:pt x="259" y="23"/>
                </a:lnTo>
                <a:lnTo>
                  <a:pt x="306" y="71"/>
                </a:lnTo>
                <a:lnTo>
                  <a:pt x="235" y="142"/>
                </a:lnTo>
                <a:lnTo>
                  <a:pt x="165" y="118"/>
                </a:lnTo>
                <a:lnTo>
                  <a:pt x="118" y="201"/>
                </a:lnTo>
                <a:lnTo>
                  <a:pt x="47" y="177"/>
                </a:lnTo>
                <a:lnTo>
                  <a:pt x="12" y="284"/>
                </a:lnTo>
                <a:lnTo>
                  <a:pt x="0" y="307"/>
                </a:lnTo>
                <a:lnTo>
                  <a:pt x="23" y="319"/>
                </a:lnTo>
                <a:lnTo>
                  <a:pt x="59" y="213"/>
                </a:lnTo>
                <a:lnTo>
                  <a:pt x="129" y="236"/>
                </a:lnTo>
                <a:lnTo>
                  <a:pt x="176" y="154"/>
                </a:lnTo>
                <a:lnTo>
                  <a:pt x="176" y="154"/>
                </a:lnTo>
                <a:close/>
                <a:moveTo>
                  <a:pt x="141" y="414"/>
                </a:moveTo>
                <a:lnTo>
                  <a:pt x="141" y="319"/>
                </a:lnTo>
                <a:lnTo>
                  <a:pt x="82" y="319"/>
                </a:lnTo>
                <a:lnTo>
                  <a:pt x="82" y="414"/>
                </a:lnTo>
                <a:lnTo>
                  <a:pt x="141" y="414"/>
                </a:lnTo>
                <a:lnTo>
                  <a:pt x="141" y="414"/>
                </a:lnTo>
                <a:close/>
                <a:moveTo>
                  <a:pt x="223" y="414"/>
                </a:moveTo>
                <a:lnTo>
                  <a:pt x="165" y="414"/>
                </a:lnTo>
                <a:lnTo>
                  <a:pt x="165" y="284"/>
                </a:lnTo>
                <a:lnTo>
                  <a:pt x="223" y="284"/>
                </a:lnTo>
                <a:lnTo>
                  <a:pt x="223" y="414"/>
                </a:lnTo>
                <a:lnTo>
                  <a:pt x="223" y="414"/>
                </a:lnTo>
                <a:close/>
                <a:moveTo>
                  <a:pt x="306" y="414"/>
                </a:moveTo>
                <a:lnTo>
                  <a:pt x="247" y="414"/>
                </a:lnTo>
                <a:lnTo>
                  <a:pt x="247" y="236"/>
                </a:lnTo>
                <a:lnTo>
                  <a:pt x="306" y="236"/>
                </a:lnTo>
                <a:lnTo>
                  <a:pt x="306" y="414"/>
                </a:lnTo>
                <a:lnTo>
                  <a:pt x="306" y="414"/>
                </a:lnTo>
                <a:close/>
                <a:moveTo>
                  <a:pt x="388" y="414"/>
                </a:moveTo>
                <a:lnTo>
                  <a:pt x="329" y="414"/>
                </a:lnTo>
                <a:lnTo>
                  <a:pt x="329" y="189"/>
                </a:lnTo>
                <a:lnTo>
                  <a:pt x="388" y="189"/>
                </a:lnTo>
                <a:lnTo>
                  <a:pt x="388" y="414"/>
                </a:lnTo>
                <a:lnTo>
                  <a:pt x="388" y="414"/>
                </a:lnTo>
                <a:close/>
                <a:moveTo>
                  <a:pt x="412" y="130"/>
                </a:moveTo>
                <a:lnTo>
                  <a:pt x="412" y="414"/>
                </a:lnTo>
                <a:lnTo>
                  <a:pt x="471" y="414"/>
                </a:lnTo>
                <a:lnTo>
                  <a:pt x="471" y="130"/>
                </a:lnTo>
                <a:lnTo>
                  <a:pt x="412" y="130"/>
                </a:lnTo>
                <a:close/>
              </a:path>
            </a:pathLst>
          </a:custGeom>
          <a:solidFill>
            <a:srgbClr val="5267a5"/>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sp>
        <p:nvSpPr>
          <p:cNvPr id="921" name="Oval 59"/>
          <p:cNvSpPr/>
          <p:nvPr/>
        </p:nvSpPr>
        <p:spPr>
          <a:xfrm>
            <a:off x="6539040" y="3794040"/>
            <a:ext cx="718920" cy="720720"/>
          </a:xfrm>
          <a:prstGeom prst="ellipse">
            <a:avLst/>
          </a:prstGeom>
          <a:noFill/>
          <a:ln w="6480">
            <a:solidFill>
              <a:srgbClr val="1991ab"/>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22" name="Freeform 50"/>
          <p:cNvSpPr/>
          <p:nvPr/>
        </p:nvSpPr>
        <p:spPr>
          <a:xfrm>
            <a:off x="6715080" y="3971880"/>
            <a:ext cx="366840" cy="366840"/>
          </a:xfrm>
          <a:custGeom>
            <a:avLst/>
            <a:gdLst/>
            <a:ahLst/>
            <a:rect l="l" t="t" r="r" b="b"/>
            <a:pathLst>
              <a:path w="32" h="32">
                <a:moveTo>
                  <a:pt x="16" y="8"/>
                </a:moveTo>
                <a:cubicBezTo>
                  <a:pt x="20" y="8"/>
                  <a:pt x="24" y="11"/>
                  <a:pt x="24" y="16"/>
                </a:cubicBezTo>
                <a:cubicBezTo>
                  <a:pt x="24" y="20"/>
                  <a:pt x="20" y="24"/>
                  <a:pt x="16" y="24"/>
                </a:cubicBezTo>
                <a:cubicBezTo>
                  <a:pt x="11" y="24"/>
                  <a:pt x="8" y="20"/>
                  <a:pt x="8" y="16"/>
                </a:cubicBezTo>
                <a:cubicBezTo>
                  <a:pt x="8" y="11"/>
                  <a:pt x="11" y="8"/>
                  <a:pt x="16" y="8"/>
                </a:cubicBezTo>
                <a:close/>
                <a:moveTo>
                  <a:pt x="18" y="0"/>
                </a:moveTo>
                <a:cubicBezTo>
                  <a:pt x="17" y="0"/>
                  <a:pt x="17" y="0"/>
                  <a:pt x="16" y="0"/>
                </a:cubicBezTo>
                <a:cubicBezTo>
                  <a:pt x="15" y="0"/>
                  <a:pt x="14" y="0"/>
                  <a:pt x="13" y="0"/>
                </a:cubicBezTo>
                <a:cubicBezTo>
                  <a:pt x="12" y="4"/>
                  <a:pt x="12" y="4"/>
                  <a:pt x="12" y="4"/>
                </a:cubicBezTo>
                <a:cubicBezTo>
                  <a:pt x="8" y="1"/>
                  <a:pt x="8" y="1"/>
                  <a:pt x="8" y="1"/>
                </a:cubicBezTo>
                <a:cubicBezTo>
                  <a:pt x="7" y="2"/>
                  <a:pt x="6" y="3"/>
                  <a:pt x="4" y="4"/>
                </a:cubicBezTo>
                <a:cubicBezTo>
                  <a:pt x="6" y="9"/>
                  <a:pt x="6" y="9"/>
                  <a:pt x="6" y="9"/>
                </a:cubicBezTo>
                <a:cubicBezTo>
                  <a:pt x="1" y="8"/>
                  <a:pt x="1" y="8"/>
                  <a:pt x="1" y="8"/>
                </a:cubicBezTo>
                <a:cubicBezTo>
                  <a:pt x="1" y="10"/>
                  <a:pt x="0" y="11"/>
                  <a:pt x="0" y="13"/>
                </a:cubicBezTo>
                <a:cubicBezTo>
                  <a:pt x="4" y="16"/>
                  <a:pt x="4" y="16"/>
                  <a:pt x="4" y="16"/>
                </a:cubicBezTo>
                <a:cubicBezTo>
                  <a:pt x="0" y="18"/>
                  <a:pt x="0" y="18"/>
                  <a:pt x="0" y="18"/>
                </a:cubicBezTo>
                <a:cubicBezTo>
                  <a:pt x="0" y="20"/>
                  <a:pt x="1" y="22"/>
                  <a:pt x="1" y="23"/>
                </a:cubicBezTo>
                <a:cubicBezTo>
                  <a:pt x="6" y="23"/>
                  <a:pt x="6" y="23"/>
                  <a:pt x="6" y="23"/>
                </a:cubicBezTo>
                <a:cubicBezTo>
                  <a:pt x="4" y="27"/>
                  <a:pt x="4" y="27"/>
                  <a:pt x="4" y="27"/>
                </a:cubicBezTo>
                <a:cubicBezTo>
                  <a:pt x="6" y="28"/>
                  <a:pt x="7" y="29"/>
                  <a:pt x="8" y="30"/>
                </a:cubicBezTo>
                <a:cubicBezTo>
                  <a:pt x="12" y="27"/>
                  <a:pt x="12" y="27"/>
                  <a:pt x="12" y="27"/>
                </a:cubicBezTo>
                <a:cubicBezTo>
                  <a:pt x="13" y="32"/>
                  <a:pt x="13" y="32"/>
                  <a:pt x="13" y="32"/>
                </a:cubicBezTo>
                <a:cubicBezTo>
                  <a:pt x="14" y="32"/>
                  <a:pt x="15" y="32"/>
                  <a:pt x="16" y="32"/>
                </a:cubicBezTo>
                <a:cubicBezTo>
                  <a:pt x="17" y="32"/>
                  <a:pt x="17" y="32"/>
                  <a:pt x="18" y="32"/>
                </a:cubicBezTo>
                <a:cubicBezTo>
                  <a:pt x="19" y="27"/>
                  <a:pt x="19" y="27"/>
                  <a:pt x="19" y="27"/>
                </a:cubicBezTo>
                <a:cubicBezTo>
                  <a:pt x="23" y="30"/>
                  <a:pt x="23" y="30"/>
                  <a:pt x="23" y="30"/>
                </a:cubicBezTo>
                <a:cubicBezTo>
                  <a:pt x="25" y="29"/>
                  <a:pt x="26" y="28"/>
                  <a:pt x="27" y="27"/>
                </a:cubicBezTo>
                <a:cubicBezTo>
                  <a:pt x="25" y="23"/>
                  <a:pt x="25" y="23"/>
                  <a:pt x="25" y="23"/>
                </a:cubicBezTo>
                <a:cubicBezTo>
                  <a:pt x="30" y="23"/>
                  <a:pt x="30" y="23"/>
                  <a:pt x="30" y="23"/>
                </a:cubicBezTo>
                <a:cubicBezTo>
                  <a:pt x="31" y="22"/>
                  <a:pt x="31" y="20"/>
                  <a:pt x="32" y="18"/>
                </a:cubicBezTo>
                <a:cubicBezTo>
                  <a:pt x="28" y="16"/>
                  <a:pt x="28" y="16"/>
                  <a:pt x="28" y="16"/>
                </a:cubicBezTo>
                <a:cubicBezTo>
                  <a:pt x="32" y="13"/>
                  <a:pt x="32" y="13"/>
                  <a:pt x="32" y="13"/>
                </a:cubicBezTo>
                <a:cubicBezTo>
                  <a:pt x="31" y="11"/>
                  <a:pt x="31" y="10"/>
                  <a:pt x="30" y="8"/>
                </a:cubicBezTo>
                <a:cubicBezTo>
                  <a:pt x="25" y="9"/>
                  <a:pt x="25" y="9"/>
                  <a:pt x="25" y="9"/>
                </a:cubicBezTo>
                <a:cubicBezTo>
                  <a:pt x="27" y="4"/>
                  <a:pt x="27" y="4"/>
                  <a:pt x="27" y="4"/>
                </a:cubicBezTo>
                <a:cubicBezTo>
                  <a:pt x="26" y="3"/>
                  <a:pt x="25" y="2"/>
                  <a:pt x="23" y="1"/>
                </a:cubicBezTo>
                <a:cubicBezTo>
                  <a:pt x="19" y="4"/>
                  <a:pt x="19" y="4"/>
                  <a:pt x="19" y="4"/>
                </a:cubicBezTo>
                <a:lnTo>
                  <a:pt x="18" y="0"/>
                </a:lnTo>
                <a:close/>
              </a:path>
            </a:pathLst>
          </a:custGeom>
          <a:solidFill>
            <a:srgbClr val="1991ab"/>
          </a:solidFill>
          <a:ln w="0">
            <a:noFill/>
          </a:ln>
        </p:spPr>
        <p:style>
          <a:lnRef idx="0"/>
          <a:fillRef idx="0"/>
          <a:effectRef idx="0"/>
          <a:fontRef idx="minor"/>
        </p:style>
        <p:txBody>
          <a:bodyPr anchor="t">
            <a:noAutofit/>
          </a:bodyPr>
          <a:p>
            <a:endParaRPr b="0" lang="en-US" sz="1800" spc="-1" strike="noStrike">
              <a:solidFill>
                <a:srgbClr val="494949"/>
              </a:solidFill>
              <a:latin typeface="Open Sans Light"/>
            </a:endParaRPr>
          </a:p>
        </p:txBody>
      </p:sp>
      <p:sp>
        <p:nvSpPr>
          <p:cNvPr id="923" name="PlaceHolder 3"/>
          <p:cNvSpPr>
            <a:spLocks noGrp="1"/>
          </p:cNvSpPr>
          <p:nvPr>
            <p:ph/>
          </p:nvPr>
        </p:nvSpPr>
        <p:spPr>
          <a:xfrm>
            <a:off x="2109600" y="2131560"/>
            <a:ext cx="1957320" cy="273240"/>
          </a:xfrm>
          <a:prstGeom prst="rect">
            <a:avLst/>
          </a:prstGeom>
          <a:noFill/>
          <a:ln w="0">
            <a:noFill/>
          </a:ln>
        </p:spPr>
        <p:txBody>
          <a:bodyPr lIns="0" rIns="0" anchor="t">
            <a:normAutofit fontScale="83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898989"/>
                </a:solidFill>
                <a:latin typeface="Lato Heavy"/>
              </a:rPr>
              <a:t>PROJECTING</a:t>
            </a:r>
            <a:endParaRPr b="0" lang="en-US" sz="1600" spc="-1" strike="noStrike">
              <a:solidFill>
                <a:srgbClr val="494949"/>
              </a:solidFill>
              <a:latin typeface="Open Sans Light"/>
            </a:endParaRPr>
          </a:p>
        </p:txBody>
      </p:sp>
      <p:sp>
        <p:nvSpPr>
          <p:cNvPr id="924" name="PlaceHolder 4"/>
          <p:cNvSpPr>
            <a:spLocks noGrp="1"/>
          </p:cNvSpPr>
          <p:nvPr>
            <p:ph/>
          </p:nvPr>
        </p:nvSpPr>
        <p:spPr>
          <a:xfrm>
            <a:off x="7567200" y="2428920"/>
            <a:ext cx="2489400" cy="574560"/>
          </a:xfrm>
          <a:prstGeom prst="rect">
            <a:avLst/>
          </a:prstGeom>
          <a:noFill/>
          <a:ln w="0">
            <a:noFill/>
          </a:ln>
        </p:spPr>
        <p:txBody>
          <a:bodyPr lIns="0" rIns="0" anchor="t">
            <a:normAutofit fontScale="97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 tarakacheok tok</a:t>
            </a:r>
            <a:endParaRPr b="0" lang="en-US" sz="1000" spc="-1" strike="noStrike">
              <a:solidFill>
                <a:srgbClr val="494949"/>
              </a:solidFill>
              <a:latin typeface="Open Sans Light"/>
            </a:endParaRPr>
          </a:p>
        </p:txBody>
      </p:sp>
      <p:sp>
        <p:nvSpPr>
          <p:cNvPr id="925" name="PlaceHolder 5"/>
          <p:cNvSpPr>
            <a:spLocks noGrp="1"/>
          </p:cNvSpPr>
          <p:nvPr>
            <p:ph/>
          </p:nvPr>
        </p:nvSpPr>
        <p:spPr>
          <a:xfrm>
            <a:off x="7567560" y="2155320"/>
            <a:ext cx="2162160" cy="249480"/>
          </a:xfrm>
          <a:prstGeom prst="rect">
            <a:avLst/>
          </a:prstGeom>
          <a:noFill/>
          <a:ln w="0">
            <a:noFill/>
          </a:ln>
        </p:spPr>
        <p:txBody>
          <a:bodyPr lIns="0" rIns="0" anchor="t">
            <a:normAutofit fontScale="72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898989"/>
                </a:solidFill>
                <a:latin typeface="Lato Heavy"/>
              </a:rPr>
              <a:t>PROMOTING</a:t>
            </a:r>
            <a:endParaRPr b="0" lang="en-US" sz="1600" spc="-1" strike="noStrike">
              <a:solidFill>
                <a:srgbClr val="494949"/>
              </a:solidFill>
              <a:latin typeface="Open Sans Light"/>
            </a:endParaRPr>
          </a:p>
        </p:txBody>
      </p:sp>
      <p:sp>
        <p:nvSpPr>
          <p:cNvPr id="926" name="PlaceHolder 6"/>
          <p:cNvSpPr>
            <a:spLocks noGrp="1"/>
          </p:cNvSpPr>
          <p:nvPr>
            <p:ph/>
          </p:nvPr>
        </p:nvSpPr>
        <p:spPr>
          <a:xfrm>
            <a:off x="2109960" y="3987360"/>
            <a:ext cx="2489040" cy="574920"/>
          </a:xfrm>
          <a:prstGeom prst="rect">
            <a:avLst/>
          </a:prstGeom>
          <a:noFill/>
          <a:ln w="0">
            <a:noFill/>
          </a:ln>
        </p:spPr>
        <p:txBody>
          <a:bodyPr lIns="0" rIns="0" anchor="t">
            <a:normAutofit fontScale="97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 tarakacheok tok</a:t>
            </a:r>
            <a:endParaRPr b="0" lang="en-US" sz="1000" spc="-1" strike="noStrike">
              <a:solidFill>
                <a:srgbClr val="494949"/>
              </a:solidFill>
              <a:latin typeface="Open Sans Light"/>
            </a:endParaRPr>
          </a:p>
        </p:txBody>
      </p:sp>
      <p:sp>
        <p:nvSpPr>
          <p:cNvPr id="927" name="PlaceHolder 7"/>
          <p:cNvSpPr>
            <a:spLocks noGrp="1"/>
          </p:cNvSpPr>
          <p:nvPr>
            <p:ph/>
          </p:nvPr>
        </p:nvSpPr>
        <p:spPr>
          <a:xfrm>
            <a:off x="2109600" y="3716280"/>
            <a:ext cx="2214360" cy="223920"/>
          </a:xfrm>
          <a:prstGeom prst="rect">
            <a:avLst/>
          </a:prstGeom>
          <a:noFill/>
          <a:ln w="0">
            <a:noFill/>
          </a:ln>
        </p:spPr>
        <p:txBody>
          <a:bodyPr lIns="0" rIns="0" anchor="t">
            <a:normAutofit fontScale="61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898989"/>
                </a:solidFill>
                <a:latin typeface="Lato Heavy"/>
              </a:rPr>
              <a:t>PRODUCTING</a:t>
            </a:r>
            <a:endParaRPr b="0" lang="en-US" sz="1600" spc="-1" strike="noStrike">
              <a:solidFill>
                <a:srgbClr val="494949"/>
              </a:solidFill>
              <a:latin typeface="Open Sans Light"/>
            </a:endParaRPr>
          </a:p>
        </p:txBody>
      </p:sp>
      <p:sp>
        <p:nvSpPr>
          <p:cNvPr id="928" name="PlaceHolder 8"/>
          <p:cNvSpPr>
            <a:spLocks noGrp="1"/>
          </p:cNvSpPr>
          <p:nvPr>
            <p:ph/>
          </p:nvPr>
        </p:nvSpPr>
        <p:spPr>
          <a:xfrm>
            <a:off x="7567200" y="4011120"/>
            <a:ext cx="2489400" cy="574920"/>
          </a:xfrm>
          <a:prstGeom prst="rect">
            <a:avLst/>
          </a:prstGeom>
          <a:noFill/>
          <a:ln w="0">
            <a:noFill/>
          </a:ln>
        </p:spPr>
        <p:txBody>
          <a:bodyPr lIns="0" rIns="0" anchor="t">
            <a:normAutofit fontScale="97000"/>
          </a:bodyPr>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rem ipsum long hana nunok doloramet,lorem consectetur baraka simanuk hem barakachem tarakacheok tok</a:t>
            </a:r>
            <a:endParaRPr b="0" lang="en-US" sz="1000" spc="-1" strike="noStrike">
              <a:solidFill>
                <a:srgbClr val="494949"/>
              </a:solidFill>
              <a:latin typeface="Open Sans Light"/>
            </a:endParaRPr>
          </a:p>
        </p:txBody>
      </p:sp>
      <p:sp>
        <p:nvSpPr>
          <p:cNvPr id="929" name="PlaceHolder 9"/>
          <p:cNvSpPr>
            <a:spLocks noGrp="1"/>
          </p:cNvSpPr>
          <p:nvPr>
            <p:ph/>
          </p:nvPr>
        </p:nvSpPr>
        <p:spPr>
          <a:xfrm>
            <a:off x="7567200" y="3738600"/>
            <a:ext cx="1096920" cy="217440"/>
          </a:xfrm>
          <a:prstGeom prst="rect">
            <a:avLst/>
          </a:prstGeom>
          <a:noFill/>
          <a:ln w="0">
            <a:noFill/>
          </a:ln>
        </p:spPr>
        <p:txBody>
          <a:bodyPr lIns="0" rIns="0" anchor="t">
            <a:normAutofit fontScale="58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898989"/>
                </a:solidFill>
                <a:latin typeface="Lato Heavy"/>
              </a:rPr>
              <a:t>SUPPORT</a:t>
            </a:r>
            <a:endParaRPr b="0" lang="en-US" sz="1600" spc="-1" strike="noStrike">
              <a:solidFill>
                <a:srgbClr val="494949"/>
              </a:solidFill>
              <a:latin typeface="Open Sans Light"/>
            </a:endParaRPr>
          </a:p>
        </p:txBody>
      </p:sp>
      <p:sp>
        <p:nvSpPr>
          <p:cNvPr id="930" name="PlaceHolder 10"/>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2d3f51"/>
                </a:solidFill>
                <a:latin typeface="Lato Heavy"/>
              </a:rPr>
              <a:t>OUR VISION</a:t>
            </a:r>
            <a:endParaRPr b="0" lang="en-US" sz="3600" spc="-1" strike="noStrike">
              <a:solidFill>
                <a:srgbClr val="494949"/>
              </a:solidFill>
              <a:latin typeface="Lato Heavy"/>
            </a:endParaRPr>
          </a:p>
        </p:txBody>
      </p:sp>
      <p:sp>
        <p:nvSpPr>
          <p:cNvPr id="931" name="PlaceHolder 11"/>
          <p:cNvSpPr>
            <a:spLocks noGrp="1"/>
          </p:cNvSpPr>
          <p:nvPr>
            <p:ph/>
          </p:nvPr>
        </p:nvSpPr>
        <p:spPr>
          <a:xfrm>
            <a:off x="1523880" y="1285920"/>
            <a:ext cx="9144000" cy="247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923">
                                            <p:txEl>
                                              <p:pRg st="0" end="0"/>
                                            </p:txEl>
                                          </p:spTgt>
                                        </p:tgtEl>
                                        <p:attrNameLst>
                                          <p:attrName>style.visibility</p:attrName>
                                        </p:attrNameLst>
                                      </p:cBhvr>
                                      <p:to>
                                        <p:strVal val="visible"/>
                                      </p:to>
                                    </p:set>
                                    <p:animEffect filter="wipe(left)" transition="in">
                                      <p:cBhvr additive="repl">
                                        <p:cTn id="160" dur="500"/>
                                        <p:tgtEl>
                                          <p:spTgt spid="923">
                                            <p:txEl>
                                              <p:pRg st="0" end="0"/>
                                            </p:txEl>
                                          </p:spTgt>
                                        </p:tgtEl>
                                      </p:cBhvr>
                                    </p:animEffect>
                                  </p:childTnLst>
                                </p:cTn>
                              </p:par>
                            </p:childTnLst>
                          </p:cTn>
                        </p:par>
                        <p:par>
                          <p:cTn id="161" fill="hold">
                            <p:stCondLst>
                              <p:cond delay="500"/>
                            </p:stCondLst>
                            <p:childTnLst>
                              <p:par>
                                <p:cTn id="162" nodeType="afterEffect" fill="hold" presetClass="entr" presetID="18" presetSubtype="6">
                                  <p:stCondLst>
                                    <p:cond delay="0"/>
                                  </p:stCondLst>
                                  <p:childTnLst>
                                    <p:set>
                                      <p:cBhvr>
                                        <p:cTn id="163" dur="1" fill="hold">
                                          <p:stCondLst>
                                            <p:cond delay="0"/>
                                          </p:stCondLst>
                                        </p:cTn>
                                        <p:tgtEl>
                                          <p:spTgt spid="909">
                                            <p:txEl>
                                              <p:pRg st="0" end="0"/>
                                            </p:txEl>
                                          </p:spTgt>
                                        </p:tgtEl>
                                        <p:attrNameLst>
                                          <p:attrName>style.visibility</p:attrName>
                                        </p:attrNameLst>
                                      </p:cBhvr>
                                      <p:to>
                                        <p:strVal val="visible"/>
                                      </p:to>
                                    </p:set>
                                    <p:animEffect filter="strips(downRight)" transition="in">
                                      <p:cBhvr additive="repl">
                                        <p:cTn id="164" dur="500"/>
                                        <p:tgtEl>
                                          <p:spTgt spid="909">
                                            <p:txEl>
                                              <p:pRg st="0" end="0"/>
                                            </p:txEl>
                                          </p:spTgt>
                                        </p:tgtEl>
                                      </p:cBhvr>
                                    </p:animEffect>
                                  </p:childTnLst>
                                </p:cTn>
                              </p:par>
                            </p:childTnLst>
                          </p:cTn>
                        </p:par>
                        <p:par>
                          <p:cTn id="165" fill="hold">
                            <p:stCondLst>
                              <p:cond delay="1000"/>
                            </p:stCondLst>
                            <p:childTnLst>
                              <p:par>
                                <p:cTn id="166" nodeType="afterEffect" fill="hold" presetClass="entr" presetID="22" presetSubtype="8">
                                  <p:stCondLst>
                                    <p:cond delay="0"/>
                                  </p:stCondLst>
                                  <p:childTnLst>
                                    <p:set>
                                      <p:cBhvr>
                                        <p:cTn id="167" dur="1" fill="hold">
                                          <p:stCondLst>
                                            <p:cond delay="0"/>
                                          </p:stCondLst>
                                        </p:cTn>
                                        <p:tgtEl>
                                          <p:spTgt spid="927">
                                            <p:txEl>
                                              <p:pRg st="0" end="0"/>
                                            </p:txEl>
                                          </p:spTgt>
                                        </p:tgtEl>
                                        <p:attrNameLst>
                                          <p:attrName>style.visibility</p:attrName>
                                        </p:attrNameLst>
                                      </p:cBhvr>
                                      <p:to>
                                        <p:strVal val="visible"/>
                                      </p:to>
                                    </p:set>
                                    <p:animEffect filter="wipe(left)" transition="in">
                                      <p:cBhvr additive="repl">
                                        <p:cTn id="168" dur="500"/>
                                        <p:tgtEl>
                                          <p:spTgt spid="927">
                                            <p:txEl>
                                              <p:pRg st="0" end="0"/>
                                            </p:txEl>
                                          </p:spTgt>
                                        </p:tgtEl>
                                      </p:cBhvr>
                                    </p:animEffect>
                                  </p:childTnLst>
                                </p:cTn>
                              </p:par>
                            </p:childTnLst>
                          </p:cTn>
                        </p:par>
                        <p:par>
                          <p:cTn id="169" fill="hold">
                            <p:stCondLst>
                              <p:cond delay="1500"/>
                            </p:stCondLst>
                            <p:childTnLst>
                              <p:par>
                                <p:cTn id="170" nodeType="afterEffect" fill="hold" presetClass="entr" presetID="18" presetSubtype="6">
                                  <p:stCondLst>
                                    <p:cond delay="0"/>
                                  </p:stCondLst>
                                  <p:childTnLst>
                                    <p:set>
                                      <p:cBhvr>
                                        <p:cTn id="171" dur="1" fill="hold">
                                          <p:stCondLst>
                                            <p:cond delay="0"/>
                                          </p:stCondLst>
                                        </p:cTn>
                                        <p:tgtEl>
                                          <p:spTgt spid="926">
                                            <p:txEl>
                                              <p:pRg st="0" end="0"/>
                                            </p:txEl>
                                          </p:spTgt>
                                        </p:tgtEl>
                                        <p:attrNameLst>
                                          <p:attrName>style.visibility</p:attrName>
                                        </p:attrNameLst>
                                      </p:cBhvr>
                                      <p:to>
                                        <p:strVal val="visible"/>
                                      </p:to>
                                    </p:set>
                                    <p:animEffect filter="strips(downRight)" transition="in">
                                      <p:cBhvr additive="repl">
                                        <p:cTn id="172" dur="500"/>
                                        <p:tgtEl>
                                          <p:spTgt spid="926">
                                            <p:txEl>
                                              <p:pRg st="0" end="0"/>
                                            </p:txEl>
                                          </p:spTgt>
                                        </p:tgtEl>
                                      </p:cBhvr>
                                    </p:animEffect>
                                  </p:childTnLst>
                                </p:cTn>
                              </p:par>
                            </p:childTnLst>
                          </p:cTn>
                        </p:par>
                        <p:par>
                          <p:cTn id="173" fill="hold">
                            <p:stCondLst>
                              <p:cond delay="2000"/>
                            </p:stCondLst>
                            <p:childTnLst>
                              <p:par>
                                <p:cTn id="174" nodeType="afterEffect" fill="hold" presetClass="entr" presetID="22" presetSubtype="8">
                                  <p:stCondLst>
                                    <p:cond delay="0"/>
                                  </p:stCondLst>
                                  <p:childTnLst>
                                    <p:set>
                                      <p:cBhvr>
                                        <p:cTn id="175" dur="1" fill="hold">
                                          <p:stCondLst>
                                            <p:cond delay="0"/>
                                          </p:stCondLst>
                                        </p:cTn>
                                        <p:tgtEl>
                                          <p:spTgt spid="925">
                                            <p:txEl>
                                              <p:pRg st="0" end="0"/>
                                            </p:txEl>
                                          </p:spTgt>
                                        </p:tgtEl>
                                        <p:attrNameLst>
                                          <p:attrName>style.visibility</p:attrName>
                                        </p:attrNameLst>
                                      </p:cBhvr>
                                      <p:to>
                                        <p:strVal val="visible"/>
                                      </p:to>
                                    </p:set>
                                    <p:animEffect filter="wipe(left)" transition="in">
                                      <p:cBhvr additive="repl">
                                        <p:cTn id="176" dur="500"/>
                                        <p:tgtEl>
                                          <p:spTgt spid="925">
                                            <p:txEl>
                                              <p:pRg st="0" end="0"/>
                                            </p:txEl>
                                          </p:spTgt>
                                        </p:tgtEl>
                                      </p:cBhvr>
                                    </p:animEffect>
                                  </p:childTnLst>
                                </p:cTn>
                              </p:par>
                            </p:childTnLst>
                          </p:cTn>
                        </p:par>
                        <p:par>
                          <p:cTn id="177" fill="hold">
                            <p:stCondLst>
                              <p:cond delay="2500"/>
                            </p:stCondLst>
                            <p:childTnLst>
                              <p:par>
                                <p:cTn id="178" nodeType="afterEffect" fill="hold" presetClass="entr" presetID="18" presetSubtype="6">
                                  <p:stCondLst>
                                    <p:cond delay="0"/>
                                  </p:stCondLst>
                                  <p:childTnLst>
                                    <p:set>
                                      <p:cBhvr>
                                        <p:cTn id="179" dur="1" fill="hold">
                                          <p:stCondLst>
                                            <p:cond delay="0"/>
                                          </p:stCondLst>
                                        </p:cTn>
                                        <p:tgtEl>
                                          <p:spTgt spid="924">
                                            <p:txEl>
                                              <p:pRg st="0" end="0"/>
                                            </p:txEl>
                                          </p:spTgt>
                                        </p:tgtEl>
                                        <p:attrNameLst>
                                          <p:attrName>style.visibility</p:attrName>
                                        </p:attrNameLst>
                                      </p:cBhvr>
                                      <p:to>
                                        <p:strVal val="visible"/>
                                      </p:to>
                                    </p:set>
                                    <p:animEffect filter="strips(downRight)" transition="in">
                                      <p:cBhvr additive="repl">
                                        <p:cTn id="180" dur="500"/>
                                        <p:tgtEl>
                                          <p:spTgt spid="924">
                                            <p:txEl>
                                              <p:pRg st="0" end="0"/>
                                            </p:txEl>
                                          </p:spTgt>
                                        </p:tgtEl>
                                      </p:cBhvr>
                                    </p:animEffect>
                                  </p:childTnLst>
                                </p:cTn>
                              </p:par>
                            </p:childTnLst>
                          </p:cTn>
                        </p:par>
                        <p:par>
                          <p:cTn id="181" fill="hold">
                            <p:stCondLst>
                              <p:cond delay="3000"/>
                            </p:stCondLst>
                            <p:childTnLst>
                              <p:par>
                                <p:cTn id="182" nodeType="afterEffect" fill="hold" presetClass="entr" presetID="22" presetSubtype="8">
                                  <p:stCondLst>
                                    <p:cond delay="0"/>
                                  </p:stCondLst>
                                  <p:childTnLst>
                                    <p:set>
                                      <p:cBhvr>
                                        <p:cTn id="183" dur="1" fill="hold">
                                          <p:stCondLst>
                                            <p:cond delay="0"/>
                                          </p:stCondLst>
                                        </p:cTn>
                                        <p:tgtEl>
                                          <p:spTgt spid="929">
                                            <p:txEl>
                                              <p:pRg st="0" end="0"/>
                                            </p:txEl>
                                          </p:spTgt>
                                        </p:tgtEl>
                                        <p:attrNameLst>
                                          <p:attrName>style.visibility</p:attrName>
                                        </p:attrNameLst>
                                      </p:cBhvr>
                                      <p:to>
                                        <p:strVal val="visible"/>
                                      </p:to>
                                    </p:set>
                                    <p:animEffect filter="wipe(left)" transition="in">
                                      <p:cBhvr additive="repl">
                                        <p:cTn id="184" dur="500"/>
                                        <p:tgtEl>
                                          <p:spTgt spid="929">
                                            <p:txEl>
                                              <p:pRg st="0" end="0"/>
                                            </p:txEl>
                                          </p:spTgt>
                                        </p:tgtEl>
                                      </p:cBhvr>
                                    </p:animEffect>
                                  </p:childTnLst>
                                </p:cTn>
                              </p:par>
                            </p:childTnLst>
                          </p:cTn>
                        </p:par>
                        <p:par>
                          <p:cTn id="185" fill="hold">
                            <p:stCondLst>
                              <p:cond delay="3500"/>
                            </p:stCondLst>
                            <p:childTnLst>
                              <p:par>
                                <p:cTn id="186" nodeType="afterEffect" fill="hold" presetClass="entr" presetID="18" presetSubtype="6">
                                  <p:stCondLst>
                                    <p:cond delay="0"/>
                                  </p:stCondLst>
                                  <p:childTnLst>
                                    <p:set>
                                      <p:cBhvr>
                                        <p:cTn id="187" dur="1" fill="hold">
                                          <p:stCondLst>
                                            <p:cond delay="0"/>
                                          </p:stCondLst>
                                        </p:cTn>
                                        <p:tgtEl>
                                          <p:spTgt spid="928">
                                            <p:txEl>
                                              <p:pRg st="0" end="0"/>
                                            </p:txEl>
                                          </p:spTgt>
                                        </p:tgtEl>
                                        <p:attrNameLst>
                                          <p:attrName>style.visibility</p:attrName>
                                        </p:attrNameLst>
                                      </p:cBhvr>
                                      <p:to>
                                        <p:strVal val="visible"/>
                                      </p:to>
                                    </p:set>
                                    <p:animEffect filter="strips(downRight)" transition="in">
                                      <p:cBhvr additive="repl">
                                        <p:cTn id="188" dur="500"/>
                                        <p:tgtEl>
                                          <p:spTgt spid="928">
                                            <p:txEl>
                                              <p:pRg st="0" end="0"/>
                                            </p:txEl>
                                          </p:spTgt>
                                        </p:tgtEl>
                                      </p:cBhvr>
                                    </p:animEffect>
                                  </p:childTnLst>
                                </p:cTn>
                              </p:par>
                            </p:childTnLst>
                          </p:cTn>
                        </p:par>
                        <p:par>
                          <p:cTn id="189" fill="hold">
                            <p:stCondLst>
                              <p:cond delay="4000"/>
                            </p:stCondLst>
                            <p:childTnLst>
                              <p:par>
                                <p:cTn id="190" nodeType="afterEffect" fill="hold" presetClass="entr" presetID="10">
                                  <p:stCondLst>
                                    <p:cond delay="0"/>
                                  </p:stCondLst>
                                  <p:childTnLst>
                                    <p:set>
                                      <p:cBhvr>
                                        <p:cTn id="191" dur="1" fill="hold">
                                          <p:stCondLst>
                                            <p:cond delay="0"/>
                                          </p:stCondLst>
                                        </p:cTn>
                                        <p:tgtEl>
                                          <p:spTgt spid="908"/>
                                        </p:tgtEl>
                                        <p:attrNameLst>
                                          <p:attrName>style.visibility</p:attrName>
                                        </p:attrNameLst>
                                      </p:cBhvr>
                                      <p:to>
                                        <p:strVal val="visible"/>
                                      </p:to>
                                    </p:set>
                                    <p:animEffect filter="fade" transition="in">
                                      <p:cBhvr additive="repl">
                                        <p:cTn id="192" dur="500"/>
                                        <p:tgtEl>
                                          <p:spTgt spid="908"/>
                                        </p:tgtEl>
                                      </p:cBhvr>
                                    </p:animEffect>
                                  </p:childTnLst>
                                </p:cTn>
                              </p:par>
                            </p:childTnLst>
                          </p:cTn>
                        </p:par>
                        <p:par>
                          <p:cTn id="193" fill="hold">
                            <p:stCondLst>
                              <p:cond delay="4500"/>
                            </p:stCondLst>
                            <p:childTnLst>
                              <p:par>
                                <p:cTn id="194" nodeType="afterEffect" fill="hold" presetClass="entr" presetID="22" presetSubtype="8">
                                  <p:stCondLst>
                                    <p:cond delay="0"/>
                                  </p:stCondLst>
                                  <p:childTnLst>
                                    <p:set>
                                      <p:cBhvr>
                                        <p:cTn id="195" dur="1" fill="hold">
                                          <p:stCondLst>
                                            <p:cond delay="0"/>
                                          </p:stCondLst>
                                        </p:cTn>
                                        <p:tgtEl>
                                          <p:spTgt spid="910">
                                            <p:txEl>
                                              <p:pRg st="0" end="0"/>
                                            </p:txEl>
                                          </p:spTgt>
                                        </p:tgtEl>
                                        <p:attrNameLst>
                                          <p:attrName>style.visibility</p:attrName>
                                        </p:attrNameLst>
                                      </p:cBhvr>
                                      <p:to>
                                        <p:strVal val="visible"/>
                                      </p:to>
                                    </p:set>
                                    <p:animEffect filter="wipe(left)" transition="in">
                                      <p:cBhvr additive="repl">
                                        <p:cTn id="196" dur="500"/>
                                        <p:tgtEl>
                                          <p:spTgt spid="9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hape 650"/>
          <p:cNvSpPr/>
          <p:nvPr/>
        </p:nvSpPr>
        <p:spPr>
          <a:xfrm>
            <a:off x="2284560" y="2268360"/>
            <a:ext cx="898200" cy="897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5267a5"/>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33" name="Shape 651"/>
          <p:cNvSpPr/>
          <p:nvPr/>
        </p:nvSpPr>
        <p:spPr>
          <a:xfrm>
            <a:off x="2187720" y="1955880"/>
            <a:ext cx="549000" cy="78264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34" name="Shape 652"/>
          <p:cNvSpPr/>
          <p:nvPr/>
        </p:nvSpPr>
        <p:spPr>
          <a:xfrm>
            <a:off x="4535640" y="2268360"/>
            <a:ext cx="898200" cy="897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4175a9"/>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35" name="Shape 653"/>
          <p:cNvSpPr/>
          <p:nvPr/>
        </p:nvSpPr>
        <p:spPr>
          <a:xfrm>
            <a:off x="4416480" y="1741320"/>
            <a:ext cx="571320" cy="135432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36" name="Shape 654"/>
          <p:cNvSpPr/>
          <p:nvPr/>
        </p:nvSpPr>
        <p:spPr>
          <a:xfrm>
            <a:off x="6788160" y="2268360"/>
            <a:ext cx="896760" cy="897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2b85ae"/>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37" name="Shape 655"/>
          <p:cNvSpPr/>
          <p:nvPr/>
        </p:nvSpPr>
        <p:spPr>
          <a:xfrm>
            <a:off x="6667560" y="1670040"/>
            <a:ext cx="571320" cy="154152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38" name="Shape 656"/>
          <p:cNvSpPr/>
          <p:nvPr/>
        </p:nvSpPr>
        <p:spPr>
          <a:xfrm>
            <a:off x="9039240" y="2268360"/>
            <a:ext cx="896760" cy="897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1991ab"/>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39" name="Shape 657"/>
          <p:cNvSpPr/>
          <p:nvPr/>
        </p:nvSpPr>
        <p:spPr>
          <a:xfrm>
            <a:off x="9023400" y="2133720"/>
            <a:ext cx="468360" cy="30780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40" name="Shape 666"/>
          <p:cNvSpPr/>
          <p:nvPr/>
        </p:nvSpPr>
        <p:spPr>
          <a:xfrm>
            <a:off x="3409920" y="4338720"/>
            <a:ext cx="898560" cy="8985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0098a5"/>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41" name="Shape 667"/>
          <p:cNvSpPr/>
          <p:nvPr/>
        </p:nvSpPr>
        <p:spPr>
          <a:xfrm>
            <a:off x="3252960" y="4097160"/>
            <a:ext cx="609480" cy="125100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42" name="Shape 668"/>
          <p:cNvSpPr/>
          <p:nvPr/>
        </p:nvSpPr>
        <p:spPr>
          <a:xfrm>
            <a:off x="5662440" y="4338720"/>
            <a:ext cx="897120" cy="8985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00a09c"/>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43" name="Shape 669"/>
          <p:cNvSpPr/>
          <p:nvPr/>
        </p:nvSpPr>
        <p:spPr>
          <a:xfrm>
            <a:off x="5646600" y="4210200"/>
            <a:ext cx="466920" cy="18576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44" name="Shape 670"/>
          <p:cNvSpPr/>
          <p:nvPr/>
        </p:nvSpPr>
        <p:spPr>
          <a:xfrm>
            <a:off x="7913520" y="4338720"/>
            <a:ext cx="897120" cy="8985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noFill/>
          <a:ln w="50760">
            <a:solidFill>
              <a:srgbClr val="494949"/>
            </a:solidFill>
            <a:miter/>
          </a:ln>
        </p:spPr>
        <p:style>
          <a:lnRef idx="0"/>
          <a:fillRef idx="0"/>
          <a:effectRef idx="0"/>
          <a:fontRef idx="minor"/>
        </p:style>
        <p:txBody>
          <a:bodyPr lIns="50760" rIns="50760" tIns="50760" bIns="50760" anchor="ctr">
            <a:noAutofit/>
          </a:bodyPr>
          <a:p>
            <a:endParaRPr b="0" lang="en-US" sz="1800" spc="-1" strike="noStrike">
              <a:solidFill>
                <a:srgbClr val="494949"/>
              </a:solidFill>
              <a:latin typeface="Open Sans Light"/>
            </a:endParaRPr>
          </a:p>
        </p:txBody>
      </p:sp>
      <p:sp>
        <p:nvSpPr>
          <p:cNvPr id="945" name="Shape 671"/>
          <p:cNvSpPr/>
          <p:nvPr/>
        </p:nvSpPr>
        <p:spPr>
          <a:xfrm>
            <a:off x="7797960" y="4137120"/>
            <a:ext cx="568080" cy="102852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46" name="Shape 678"/>
          <p:cNvSpPr/>
          <p:nvPr/>
        </p:nvSpPr>
        <p:spPr>
          <a:xfrm>
            <a:off x="4861080" y="2514600"/>
            <a:ext cx="239400" cy="387360"/>
          </a:xfrm>
          <a:custGeom>
            <a:avLst/>
            <a:gdLst/>
            <a:ahLst/>
            <a:rect l="l" t="t" r="r" b="b"/>
            <a:pathLst>
              <a:path w="17648" h="21126">
                <a:moveTo>
                  <a:pt x="11560" y="0"/>
                </a:moveTo>
                <a:lnTo>
                  <a:pt x="9120" y="0"/>
                </a:lnTo>
                <a:lnTo>
                  <a:pt x="9120" y="14690"/>
                </a:lnTo>
                <a:cubicBezTo>
                  <a:pt x="7770" y="14305"/>
                  <a:pt x="6024" y="14300"/>
                  <a:pt x="4302" y="14763"/>
                </a:cubicBezTo>
                <a:cubicBezTo>
                  <a:pt x="1215" y="15592"/>
                  <a:pt x="-624" y="17611"/>
                  <a:pt x="195" y="19269"/>
                </a:cubicBezTo>
                <a:cubicBezTo>
                  <a:pt x="1012" y="20929"/>
                  <a:pt x="4176" y="21600"/>
                  <a:pt x="7262" y="20771"/>
                </a:cubicBezTo>
                <a:cubicBezTo>
                  <a:pt x="9884" y="20067"/>
                  <a:pt x="11598" y="18505"/>
                  <a:pt x="11556" y="17035"/>
                </a:cubicBezTo>
                <a:lnTo>
                  <a:pt x="11560" y="5021"/>
                </a:lnTo>
                <a:cubicBezTo>
                  <a:pt x="15816" y="5517"/>
                  <a:pt x="16107" y="9491"/>
                  <a:pt x="15598" y="10604"/>
                </a:cubicBezTo>
                <a:cubicBezTo>
                  <a:pt x="15403" y="11027"/>
                  <a:pt x="15744" y="11343"/>
                  <a:pt x="16387" y="10604"/>
                </a:cubicBezTo>
                <a:cubicBezTo>
                  <a:pt x="20976" y="5333"/>
                  <a:pt x="11560" y="3007"/>
                  <a:pt x="11560" y="0"/>
                </a:cubicBezTo>
                <a:close/>
              </a:path>
            </a:pathLst>
          </a:custGeom>
          <a:solidFill>
            <a:srgbClr val="4175a9"/>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47" name="Shape 679"/>
          <p:cNvSpPr/>
          <p:nvPr/>
        </p:nvSpPr>
        <p:spPr>
          <a:xfrm>
            <a:off x="9288360" y="2573280"/>
            <a:ext cx="398520" cy="285840"/>
          </a:xfrm>
          <a:custGeom>
            <a:avLst/>
            <a:gdLst/>
            <a:ahLst/>
            <a:rect l="l" t="t" r="r" b="b"/>
            <a:pathLst>
              <a:path w="21600" h="21600">
                <a:moveTo>
                  <a:pt x="2348" y="2618"/>
                </a:moveTo>
                <a:cubicBezTo>
                  <a:pt x="13148" y="2618"/>
                  <a:pt x="13148" y="2618"/>
                  <a:pt x="13148" y="2618"/>
                </a:cubicBezTo>
                <a:cubicBezTo>
                  <a:pt x="13148" y="2618"/>
                  <a:pt x="13148" y="2618"/>
                  <a:pt x="13148" y="2618"/>
                </a:cubicBezTo>
                <a:cubicBezTo>
                  <a:pt x="13148" y="1309"/>
                  <a:pt x="13148" y="1309"/>
                  <a:pt x="13148" y="1309"/>
                </a:cubicBezTo>
                <a:cubicBezTo>
                  <a:pt x="13148" y="655"/>
                  <a:pt x="13148" y="0"/>
                  <a:pt x="13617" y="0"/>
                </a:cubicBezTo>
                <a:cubicBezTo>
                  <a:pt x="17843" y="0"/>
                  <a:pt x="17843" y="0"/>
                  <a:pt x="17843" y="0"/>
                </a:cubicBezTo>
                <a:cubicBezTo>
                  <a:pt x="18313" y="0"/>
                  <a:pt x="18783" y="655"/>
                  <a:pt x="18783" y="1309"/>
                </a:cubicBezTo>
                <a:cubicBezTo>
                  <a:pt x="18783" y="2618"/>
                  <a:pt x="18783" y="2618"/>
                  <a:pt x="18783" y="2618"/>
                </a:cubicBezTo>
                <a:cubicBezTo>
                  <a:pt x="18783" y="2618"/>
                  <a:pt x="18783" y="2618"/>
                  <a:pt x="18783" y="2618"/>
                </a:cubicBezTo>
                <a:cubicBezTo>
                  <a:pt x="19252" y="2618"/>
                  <a:pt x="19252" y="2618"/>
                  <a:pt x="19252" y="2618"/>
                </a:cubicBezTo>
                <a:cubicBezTo>
                  <a:pt x="20661" y="2618"/>
                  <a:pt x="21600" y="3927"/>
                  <a:pt x="21600" y="5891"/>
                </a:cubicBezTo>
                <a:cubicBezTo>
                  <a:pt x="21600" y="18327"/>
                  <a:pt x="21600" y="18327"/>
                  <a:pt x="21600" y="18327"/>
                </a:cubicBezTo>
                <a:cubicBezTo>
                  <a:pt x="21600" y="20291"/>
                  <a:pt x="20661" y="21600"/>
                  <a:pt x="19252" y="21600"/>
                </a:cubicBezTo>
                <a:cubicBezTo>
                  <a:pt x="2348" y="21600"/>
                  <a:pt x="2348" y="21600"/>
                  <a:pt x="2348" y="21600"/>
                </a:cubicBezTo>
                <a:cubicBezTo>
                  <a:pt x="939" y="21600"/>
                  <a:pt x="0" y="20291"/>
                  <a:pt x="0" y="18327"/>
                </a:cubicBezTo>
                <a:cubicBezTo>
                  <a:pt x="0" y="5891"/>
                  <a:pt x="0" y="5891"/>
                  <a:pt x="0" y="5891"/>
                </a:cubicBezTo>
                <a:cubicBezTo>
                  <a:pt x="0" y="3927"/>
                  <a:pt x="939" y="2618"/>
                  <a:pt x="2348" y="2618"/>
                </a:cubicBezTo>
                <a:close/>
                <a:moveTo>
                  <a:pt x="14087" y="2618"/>
                </a:moveTo>
                <a:cubicBezTo>
                  <a:pt x="17374" y="2618"/>
                  <a:pt x="17374" y="2618"/>
                  <a:pt x="17374" y="2618"/>
                </a:cubicBezTo>
                <a:cubicBezTo>
                  <a:pt x="17374" y="1309"/>
                  <a:pt x="17374" y="1309"/>
                  <a:pt x="17374" y="1309"/>
                </a:cubicBezTo>
                <a:cubicBezTo>
                  <a:pt x="14087" y="1309"/>
                  <a:pt x="14087" y="1309"/>
                  <a:pt x="14087" y="1309"/>
                </a:cubicBezTo>
                <a:cubicBezTo>
                  <a:pt x="14087" y="2618"/>
                  <a:pt x="14087" y="2618"/>
                  <a:pt x="14087" y="2618"/>
                </a:cubicBezTo>
                <a:close/>
                <a:moveTo>
                  <a:pt x="11270" y="4582"/>
                </a:moveTo>
                <a:cubicBezTo>
                  <a:pt x="7983" y="4582"/>
                  <a:pt x="5635" y="7855"/>
                  <a:pt x="5635" y="12436"/>
                </a:cubicBezTo>
                <a:cubicBezTo>
                  <a:pt x="5635" y="16364"/>
                  <a:pt x="7983" y="19636"/>
                  <a:pt x="11270" y="19636"/>
                </a:cubicBezTo>
                <a:cubicBezTo>
                  <a:pt x="14087" y="19636"/>
                  <a:pt x="16435" y="16364"/>
                  <a:pt x="16435" y="12436"/>
                </a:cubicBezTo>
                <a:cubicBezTo>
                  <a:pt x="16435" y="7855"/>
                  <a:pt x="14087" y="4582"/>
                  <a:pt x="11270" y="4582"/>
                </a:cubicBezTo>
                <a:close/>
                <a:moveTo>
                  <a:pt x="14557" y="12436"/>
                </a:moveTo>
                <a:cubicBezTo>
                  <a:pt x="14557" y="9818"/>
                  <a:pt x="13148" y="7200"/>
                  <a:pt x="11270" y="7200"/>
                </a:cubicBezTo>
                <a:cubicBezTo>
                  <a:pt x="8922" y="7200"/>
                  <a:pt x="7513" y="9818"/>
                  <a:pt x="7513" y="12436"/>
                </a:cubicBezTo>
                <a:cubicBezTo>
                  <a:pt x="7513" y="15055"/>
                  <a:pt x="8922" y="17018"/>
                  <a:pt x="11270" y="17018"/>
                </a:cubicBezTo>
                <a:cubicBezTo>
                  <a:pt x="13148" y="17018"/>
                  <a:pt x="14557" y="15055"/>
                  <a:pt x="14557" y="12436"/>
                </a:cubicBezTo>
                <a:close/>
                <a:moveTo>
                  <a:pt x="11270" y="6545"/>
                </a:moveTo>
                <a:cubicBezTo>
                  <a:pt x="8452" y="6545"/>
                  <a:pt x="6574" y="9164"/>
                  <a:pt x="6574" y="12436"/>
                </a:cubicBezTo>
                <a:cubicBezTo>
                  <a:pt x="6574" y="15709"/>
                  <a:pt x="8452" y="18327"/>
                  <a:pt x="11270" y="18327"/>
                </a:cubicBezTo>
                <a:cubicBezTo>
                  <a:pt x="13617" y="18327"/>
                  <a:pt x="15496" y="15709"/>
                  <a:pt x="15496" y="12436"/>
                </a:cubicBezTo>
                <a:cubicBezTo>
                  <a:pt x="15496" y="9164"/>
                  <a:pt x="13617" y="6545"/>
                  <a:pt x="11270" y="6545"/>
                </a:cubicBezTo>
                <a:close/>
              </a:path>
            </a:pathLst>
          </a:custGeom>
          <a:solidFill>
            <a:srgbClr val="1991ab"/>
          </a:solidFill>
          <a:ln w="0">
            <a:noFill/>
          </a:ln>
        </p:spPr>
        <p:style>
          <a:lnRef idx="0"/>
          <a:fillRef idx="0"/>
          <a:effectRef idx="0"/>
          <a:fontRef idx="minor"/>
        </p:style>
        <p:txBody>
          <a:bodyPr lIns="0" rIns="0" tIns="0" bIns="0" anchor="t">
            <a:noAutofit/>
          </a:bodyPr>
          <a:p>
            <a:endParaRPr b="0" lang="en-US" sz="1800" spc="-1" strike="noStrike">
              <a:solidFill>
                <a:srgbClr val="494949"/>
              </a:solidFill>
              <a:latin typeface="Open Sans Light"/>
            </a:endParaRPr>
          </a:p>
        </p:txBody>
      </p:sp>
      <p:sp>
        <p:nvSpPr>
          <p:cNvPr id="948" name="Shape 680"/>
          <p:cNvSpPr/>
          <p:nvPr/>
        </p:nvSpPr>
        <p:spPr>
          <a:xfrm>
            <a:off x="3691080" y="4619520"/>
            <a:ext cx="336240" cy="336600"/>
          </a:xfrm>
          <a:custGeom>
            <a:avLst/>
            <a:gdLst/>
            <a:ahLst/>
            <a:rect l="l" t="t" r="r" b="b"/>
            <a:pathLst>
              <a:path w="21600" h="21600">
                <a:moveTo>
                  <a:pt x="7856" y="13527"/>
                </a:moveTo>
                <a:lnTo>
                  <a:pt x="21138" y="9731"/>
                </a:lnTo>
                <a:cubicBezTo>
                  <a:pt x="21392" y="9659"/>
                  <a:pt x="21600" y="9385"/>
                  <a:pt x="21600" y="9120"/>
                </a:cubicBezTo>
                <a:lnTo>
                  <a:pt x="21600" y="2520"/>
                </a:lnTo>
                <a:lnTo>
                  <a:pt x="4680" y="2520"/>
                </a:lnTo>
                <a:lnTo>
                  <a:pt x="4680" y="481"/>
                </a:lnTo>
                <a:cubicBezTo>
                  <a:pt x="4680" y="217"/>
                  <a:pt x="4465" y="0"/>
                  <a:pt x="4200" y="0"/>
                </a:cubicBezTo>
                <a:lnTo>
                  <a:pt x="480" y="0"/>
                </a:lnTo>
                <a:cubicBezTo>
                  <a:pt x="217" y="0"/>
                  <a:pt x="0" y="217"/>
                  <a:pt x="0" y="481"/>
                </a:cubicBezTo>
                <a:lnTo>
                  <a:pt x="0" y="2400"/>
                </a:lnTo>
                <a:lnTo>
                  <a:pt x="2332" y="2400"/>
                </a:lnTo>
                <a:lnTo>
                  <a:pt x="4693" y="13269"/>
                </a:lnTo>
                <a:lnTo>
                  <a:pt x="4920" y="14400"/>
                </a:lnTo>
                <a:lnTo>
                  <a:pt x="4920" y="16200"/>
                </a:lnTo>
                <a:cubicBezTo>
                  <a:pt x="4920" y="16463"/>
                  <a:pt x="5137" y="16680"/>
                  <a:pt x="5400" y="16680"/>
                </a:cubicBezTo>
                <a:lnTo>
                  <a:pt x="6001" y="16680"/>
                </a:lnTo>
                <a:lnTo>
                  <a:pt x="17999" y="16680"/>
                </a:lnTo>
                <a:lnTo>
                  <a:pt x="21119" y="16680"/>
                </a:lnTo>
                <a:cubicBezTo>
                  <a:pt x="21383" y="16680"/>
                  <a:pt x="21600" y="16463"/>
                  <a:pt x="21600" y="16200"/>
                </a:cubicBezTo>
                <a:lnTo>
                  <a:pt x="21600" y="14400"/>
                </a:lnTo>
                <a:lnTo>
                  <a:pt x="8103" y="14400"/>
                </a:lnTo>
                <a:cubicBezTo>
                  <a:pt x="6723" y="14400"/>
                  <a:pt x="6694" y="13860"/>
                  <a:pt x="7856" y="13527"/>
                </a:cubicBezTo>
                <a:close/>
                <a:moveTo>
                  <a:pt x="15599" y="19200"/>
                </a:moveTo>
                <a:cubicBezTo>
                  <a:pt x="15599" y="20525"/>
                  <a:pt x="16674" y="21600"/>
                  <a:pt x="17999" y="21600"/>
                </a:cubicBezTo>
                <a:cubicBezTo>
                  <a:pt x="19326" y="21600"/>
                  <a:pt x="20399" y="20525"/>
                  <a:pt x="20399" y="19200"/>
                </a:cubicBezTo>
                <a:cubicBezTo>
                  <a:pt x="20399" y="17874"/>
                  <a:pt x="19326" y="16800"/>
                  <a:pt x="17999" y="16800"/>
                </a:cubicBezTo>
                <a:cubicBezTo>
                  <a:pt x="16674" y="16800"/>
                  <a:pt x="15599" y="17874"/>
                  <a:pt x="15599" y="19200"/>
                </a:cubicBezTo>
                <a:close/>
                <a:moveTo>
                  <a:pt x="3599" y="19200"/>
                </a:moveTo>
                <a:cubicBezTo>
                  <a:pt x="3599" y="20525"/>
                  <a:pt x="4674" y="21600"/>
                  <a:pt x="6001" y="21600"/>
                </a:cubicBezTo>
                <a:cubicBezTo>
                  <a:pt x="7326" y="21600"/>
                  <a:pt x="8399" y="20525"/>
                  <a:pt x="8399" y="19200"/>
                </a:cubicBezTo>
                <a:cubicBezTo>
                  <a:pt x="8399" y="17874"/>
                  <a:pt x="7326" y="16800"/>
                  <a:pt x="6001" y="16800"/>
                </a:cubicBezTo>
                <a:cubicBezTo>
                  <a:pt x="4674" y="16800"/>
                  <a:pt x="3599" y="17874"/>
                  <a:pt x="3599" y="19200"/>
                </a:cubicBezTo>
                <a:close/>
              </a:path>
            </a:pathLst>
          </a:custGeom>
          <a:solidFill>
            <a:srgbClr val="0098a5"/>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49" name="Shape 681"/>
          <p:cNvSpPr/>
          <p:nvPr/>
        </p:nvSpPr>
        <p:spPr>
          <a:xfrm>
            <a:off x="5965920" y="4579920"/>
            <a:ext cx="290520" cy="415800"/>
          </a:xfrm>
          <a:custGeom>
            <a:avLst/>
            <a:gdLst/>
            <a:ahLst/>
            <a:rect l="l" t="t" r="r" b="b"/>
            <a:pathLst>
              <a:path w="20957" h="21276">
                <a:moveTo>
                  <a:pt x="1877" y="21023"/>
                </a:moveTo>
                <a:cubicBezTo>
                  <a:pt x="2335" y="19958"/>
                  <a:pt x="3030" y="18458"/>
                  <a:pt x="3960" y="16288"/>
                </a:cubicBezTo>
                <a:cubicBezTo>
                  <a:pt x="8011" y="15823"/>
                  <a:pt x="9689" y="16658"/>
                  <a:pt x="12261" y="13325"/>
                </a:cubicBezTo>
                <a:cubicBezTo>
                  <a:pt x="10172" y="13789"/>
                  <a:pt x="7654" y="12465"/>
                  <a:pt x="7789" y="11892"/>
                </a:cubicBezTo>
                <a:cubicBezTo>
                  <a:pt x="7924" y="11318"/>
                  <a:pt x="13647" y="12306"/>
                  <a:pt x="17393" y="8447"/>
                </a:cubicBezTo>
                <a:cubicBezTo>
                  <a:pt x="12670" y="9202"/>
                  <a:pt x="11160" y="7540"/>
                  <a:pt x="11769" y="7289"/>
                </a:cubicBezTo>
                <a:cubicBezTo>
                  <a:pt x="13175" y="6708"/>
                  <a:pt x="17348" y="7048"/>
                  <a:pt x="19572" y="5477"/>
                </a:cubicBezTo>
                <a:cubicBezTo>
                  <a:pt x="20719" y="4669"/>
                  <a:pt x="21256" y="2702"/>
                  <a:pt x="20789" y="2000"/>
                </a:cubicBezTo>
                <a:cubicBezTo>
                  <a:pt x="20229" y="1153"/>
                  <a:pt x="16813" y="-111"/>
                  <a:pt x="14931" y="7"/>
                </a:cubicBezTo>
                <a:cubicBezTo>
                  <a:pt x="13047" y="126"/>
                  <a:pt x="10093" y="5208"/>
                  <a:pt x="9217" y="5168"/>
                </a:cubicBezTo>
                <a:cubicBezTo>
                  <a:pt x="8341" y="5128"/>
                  <a:pt x="8166" y="2892"/>
                  <a:pt x="9694" y="813"/>
                </a:cubicBezTo>
                <a:cubicBezTo>
                  <a:pt x="8081" y="1330"/>
                  <a:pt x="5127" y="2940"/>
                  <a:pt x="4200" y="4315"/>
                </a:cubicBezTo>
                <a:cubicBezTo>
                  <a:pt x="2475" y="6874"/>
                  <a:pt x="4362" y="12744"/>
                  <a:pt x="3757" y="12953"/>
                </a:cubicBezTo>
                <a:cubicBezTo>
                  <a:pt x="3151" y="13163"/>
                  <a:pt x="1114" y="10259"/>
                  <a:pt x="505" y="8944"/>
                </a:cubicBezTo>
                <a:cubicBezTo>
                  <a:pt x="-324" y="10961"/>
                  <a:pt x="-344" y="12982"/>
                  <a:pt x="2082" y="15667"/>
                </a:cubicBezTo>
                <a:cubicBezTo>
                  <a:pt x="1167" y="17429"/>
                  <a:pt x="667" y="19457"/>
                  <a:pt x="592" y="20487"/>
                </a:cubicBezTo>
                <a:cubicBezTo>
                  <a:pt x="557" y="21312"/>
                  <a:pt x="1675" y="21489"/>
                  <a:pt x="1877" y="21023"/>
                </a:cubicBezTo>
                <a:close/>
              </a:path>
            </a:pathLst>
          </a:custGeom>
          <a:solidFill>
            <a:srgbClr val="00a09c"/>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50" name="Shape 682"/>
          <p:cNvSpPr/>
          <p:nvPr/>
        </p:nvSpPr>
        <p:spPr>
          <a:xfrm>
            <a:off x="2521080" y="2549520"/>
            <a:ext cx="425160" cy="334800"/>
          </a:xfrm>
          <a:custGeom>
            <a:avLst/>
            <a:gdLst/>
            <a:ahLst/>
            <a:rect l="l" t="t" r="r" b="b"/>
            <a:pathLst>
              <a:path w="20317" h="19134">
                <a:moveTo>
                  <a:pt x="5102" y="1944"/>
                </a:moveTo>
                <a:cubicBezTo>
                  <a:pt x="971" y="4812"/>
                  <a:pt x="1208" y="9482"/>
                  <a:pt x="1350" y="11210"/>
                </a:cubicBezTo>
                <a:cubicBezTo>
                  <a:pt x="6685" y="3649"/>
                  <a:pt x="14666" y="4016"/>
                  <a:pt x="14666" y="4016"/>
                </a:cubicBezTo>
                <a:cubicBezTo>
                  <a:pt x="14666" y="4016"/>
                  <a:pt x="3354" y="8659"/>
                  <a:pt x="31" y="17966"/>
                </a:cubicBezTo>
                <a:cubicBezTo>
                  <a:pt x="-231" y="18701"/>
                  <a:pt x="1262" y="19657"/>
                  <a:pt x="1603" y="18788"/>
                </a:cubicBezTo>
                <a:cubicBezTo>
                  <a:pt x="2620" y="16199"/>
                  <a:pt x="4039" y="14258"/>
                  <a:pt x="4039" y="14258"/>
                </a:cubicBezTo>
                <a:cubicBezTo>
                  <a:pt x="6130" y="15189"/>
                  <a:pt x="9747" y="16280"/>
                  <a:pt x="12312" y="14121"/>
                </a:cubicBezTo>
                <a:cubicBezTo>
                  <a:pt x="15719" y="11254"/>
                  <a:pt x="15370" y="4897"/>
                  <a:pt x="20233" y="1801"/>
                </a:cubicBezTo>
                <a:cubicBezTo>
                  <a:pt x="21369" y="1079"/>
                  <a:pt x="10701" y="-1943"/>
                  <a:pt x="5102" y="1944"/>
                </a:cubicBezTo>
                <a:close/>
              </a:path>
            </a:pathLst>
          </a:custGeom>
          <a:solidFill>
            <a:srgbClr val="5267a5"/>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51" name="Shape 683"/>
          <p:cNvSpPr/>
          <p:nvPr/>
        </p:nvSpPr>
        <p:spPr>
          <a:xfrm>
            <a:off x="8201160" y="4576680"/>
            <a:ext cx="322200" cy="335160"/>
          </a:xfrm>
          <a:custGeom>
            <a:avLst/>
            <a:gdLst/>
            <a:ahLst/>
            <a:rect l="l" t="t" r="r" b="b"/>
            <a:pathLst>
              <a:path w="20630" h="21387">
                <a:moveTo>
                  <a:pt x="15651" y="10439"/>
                </a:moveTo>
                <a:cubicBezTo>
                  <a:pt x="14876" y="10985"/>
                  <a:pt x="13809" y="10794"/>
                  <a:pt x="13267" y="10015"/>
                </a:cubicBezTo>
                <a:cubicBezTo>
                  <a:pt x="12724" y="9235"/>
                  <a:pt x="12913" y="8160"/>
                  <a:pt x="13688" y="7614"/>
                </a:cubicBezTo>
                <a:cubicBezTo>
                  <a:pt x="14302" y="7180"/>
                  <a:pt x="15100" y="7212"/>
                  <a:pt x="15674" y="7633"/>
                </a:cubicBezTo>
                <a:cubicBezTo>
                  <a:pt x="15386" y="7808"/>
                  <a:pt x="15187" y="7909"/>
                  <a:pt x="15149" y="7927"/>
                </a:cubicBezTo>
                <a:cubicBezTo>
                  <a:pt x="14829" y="8080"/>
                  <a:pt x="14692" y="8465"/>
                  <a:pt x="14842" y="8787"/>
                </a:cubicBezTo>
                <a:cubicBezTo>
                  <a:pt x="14952" y="9021"/>
                  <a:pt x="15183" y="9159"/>
                  <a:pt x="15425" y="9159"/>
                </a:cubicBezTo>
                <a:cubicBezTo>
                  <a:pt x="15515" y="9159"/>
                  <a:pt x="15608" y="9138"/>
                  <a:pt x="15698" y="9096"/>
                </a:cubicBezTo>
                <a:cubicBezTo>
                  <a:pt x="15903" y="8999"/>
                  <a:pt x="16125" y="8881"/>
                  <a:pt x="16356" y="8743"/>
                </a:cubicBezTo>
                <a:cubicBezTo>
                  <a:pt x="16460" y="9377"/>
                  <a:pt x="16209" y="10045"/>
                  <a:pt x="15651" y="10439"/>
                </a:cubicBezTo>
                <a:close/>
                <a:moveTo>
                  <a:pt x="20298" y="434"/>
                </a:moveTo>
                <a:cubicBezTo>
                  <a:pt x="20181" y="97"/>
                  <a:pt x="19814" y="-81"/>
                  <a:pt x="19481" y="36"/>
                </a:cubicBezTo>
                <a:cubicBezTo>
                  <a:pt x="19146" y="153"/>
                  <a:pt x="18970" y="523"/>
                  <a:pt x="19086" y="859"/>
                </a:cubicBezTo>
                <a:cubicBezTo>
                  <a:pt x="20075" y="3715"/>
                  <a:pt x="18112" y="5846"/>
                  <a:pt x="16617" y="6988"/>
                </a:cubicBezTo>
                <a:lnTo>
                  <a:pt x="16012" y="6118"/>
                </a:lnTo>
                <a:cubicBezTo>
                  <a:pt x="15810" y="5827"/>
                  <a:pt x="15355" y="5583"/>
                  <a:pt x="15003" y="5578"/>
                </a:cubicBezTo>
                <a:lnTo>
                  <a:pt x="11612" y="5594"/>
                </a:lnTo>
                <a:cubicBezTo>
                  <a:pt x="11260" y="5588"/>
                  <a:pt x="10735" y="5751"/>
                  <a:pt x="10445" y="5955"/>
                </a:cubicBezTo>
                <a:lnTo>
                  <a:pt x="457" y="13000"/>
                </a:lnTo>
                <a:cubicBezTo>
                  <a:pt x="-27" y="13341"/>
                  <a:pt x="-145" y="14013"/>
                  <a:pt x="194" y="14500"/>
                </a:cubicBezTo>
                <a:lnTo>
                  <a:pt x="4734" y="21032"/>
                </a:lnTo>
                <a:cubicBezTo>
                  <a:pt x="5073" y="21519"/>
                  <a:pt x="5618" y="21461"/>
                  <a:pt x="6101" y="21120"/>
                </a:cubicBezTo>
                <a:lnTo>
                  <a:pt x="16090" y="14075"/>
                </a:lnTo>
                <a:cubicBezTo>
                  <a:pt x="16378" y="13870"/>
                  <a:pt x="16709" y="13429"/>
                  <a:pt x="16826" y="13093"/>
                </a:cubicBezTo>
                <a:lnTo>
                  <a:pt x="17888" y="9729"/>
                </a:lnTo>
                <a:cubicBezTo>
                  <a:pt x="18003" y="9393"/>
                  <a:pt x="17932" y="8880"/>
                  <a:pt x="17730" y="8589"/>
                </a:cubicBezTo>
                <a:lnTo>
                  <a:pt x="17361" y="8058"/>
                </a:lnTo>
                <a:cubicBezTo>
                  <a:pt x="19371" y="6513"/>
                  <a:pt x="21455" y="3778"/>
                  <a:pt x="20298" y="434"/>
                </a:cubicBezTo>
                <a:close/>
              </a:path>
            </a:pathLst>
          </a:custGeom>
          <a:solidFill>
            <a:srgbClr val="494949"/>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52" name="Shape 684"/>
          <p:cNvSpPr/>
          <p:nvPr/>
        </p:nvSpPr>
        <p:spPr>
          <a:xfrm>
            <a:off x="7238880" y="3125880"/>
            <a:ext cx="466920" cy="135000"/>
          </a:xfrm>
          <a:prstGeom prst="rect">
            <a:avLst/>
          </a:prstGeom>
          <a:solidFill>
            <a:srgbClr val="ffffff">
              <a:alpha val="87000"/>
            </a:srgbClr>
          </a:solidFill>
          <a:ln w="0">
            <a:noFill/>
          </a:ln>
        </p:spPr>
        <p:style>
          <a:lnRef idx="0"/>
          <a:fillRef idx="0"/>
          <a:effectRef idx="0"/>
          <a:fontRef idx="minor"/>
        </p:style>
        <p:txBody>
          <a:bodyPr lIns="50760" rIns="50760" tIns="50760" bIns="50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94949"/>
              </a:solidFill>
              <a:latin typeface="Open Sans Light"/>
            </a:endParaRPr>
          </a:p>
        </p:txBody>
      </p:sp>
      <p:sp>
        <p:nvSpPr>
          <p:cNvPr id="953" name="Shape 685"/>
          <p:cNvSpPr/>
          <p:nvPr/>
        </p:nvSpPr>
        <p:spPr>
          <a:xfrm>
            <a:off x="7035840" y="2570040"/>
            <a:ext cx="407880" cy="292320"/>
          </a:xfrm>
          <a:custGeom>
            <a:avLst/>
            <a:gdLst/>
            <a:ahLst/>
            <a:rect l="l" t="t" r="r" b="b"/>
            <a:pathLst>
              <a:path w="21600" h="21600">
                <a:moveTo>
                  <a:pt x="8376" y="15428"/>
                </a:moveTo>
                <a:lnTo>
                  <a:pt x="8376" y="6172"/>
                </a:lnTo>
                <a:lnTo>
                  <a:pt x="13886" y="10798"/>
                </a:lnTo>
                <a:cubicBezTo>
                  <a:pt x="13886" y="10798"/>
                  <a:pt x="8376" y="15428"/>
                  <a:pt x="8376" y="15428"/>
                </a:cubicBezTo>
                <a:close/>
                <a:moveTo>
                  <a:pt x="21600" y="3084"/>
                </a:moveTo>
                <a:lnTo>
                  <a:pt x="21600" y="1234"/>
                </a:lnTo>
                <a:cubicBezTo>
                  <a:pt x="21600" y="554"/>
                  <a:pt x="21205" y="0"/>
                  <a:pt x="20719" y="0"/>
                </a:cubicBezTo>
                <a:lnTo>
                  <a:pt x="881" y="0"/>
                </a:lnTo>
                <a:cubicBezTo>
                  <a:pt x="394" y="0"/>
                  <a:pt x="0" y="554"/>
                  <a:pt x="0" y="1234"/>
                </a:cubicBezTo>
                <a:lnTo>
                  <a:pt x="0" y="3084"/>
                </a:lnTo>
                <a:lnTo>
                  <a:pt x="2204" y="3084"/>
                </a:lnTo>
                <a:lnTo>
                  <a:pt x="2204" y="6172"/>
                </a:lnTo>
                <a:lnTo>
                  <a:pt x="0" y="6172"/>
                </a:lnTo>
                <a:lnTo>
                  <a:pt x="0" y="9256"/>
                </a:lnTo>
                <a:lnTo>
                  <a:pt x="2204" y="9256"/>
                </a:lnTo>
                <a:lnTo>
                  <a:pt x="2204" y="12344"/>
                </a:lnTo>
                <a:lnTo>
                  <a:pt x="0" y="12344"/>
                </a:lnTo>
                <a:lnTo>
                  <a:pt x="0" y="15428"/>
                </a:lnTo>
                <a:lnTo>
                  <a:pt x="2204" y="15428"/>
                </a:lnTo>
                <a:lnTo>
                  <a:pt x="2204" y="18516"/>
                </a:lnTo>
                <a:lnTo>
                  <a:pt x="0" y="18516"/>
                </a:lnTo>
                <a:lnTo>
                  <a:pt x="0" y="20366"/>
                </a:lnTo>
                <a:cubicBezTo>
                  <a:pt x="0" y="21046"/>
                  <a:pt x="394" y="21600"/>
                  <a:pt x="881" y="21600"/>
                </a:cubicBezTo>
                <a:lnTo>
                  <a:pt x="20719" y="21600"/>
                </a:lnTo>
                <a:cubicBezTo>
                  <a:pt x="21205" y="21600"/>
                  <a:pt x="21600" y="21046"/>
                  <a:pt x="21600" y="20366"/>
                </a:cubicBezTo>
                <a:lnTo>
                  <a:pt x="21600" y="18516"/>
                </a:lnTo>
                <a:lnTo>
                  <a:pt x="19396" y="18516"/>
                </a:lnTo>
                <a:lnTo>
                  <a:pt x="19396" y="15428"/>
                </a:lnTo>
                <a:lnTo>
                  <a:pt x="21600" y="15428"/>
                </a:lnTo>
                <a:lnTo>
                  <a:pt x="21600" y="12344"/>
                </a:lnTo>
                <a:lnTo>
                  <a:pt x="19396" y="12344"/>
                </a:lnTo>
                <a:lnTo>
                  <a:pt x="19396" y="9256"/>
                </a:lnTo>
                <a:lnTo>
                  <a:pt x="21600" y="9256"/>
                </a:lnTo>
                <a:lnTo>
                  <a:pt x="21600" y="6172"/>
                </a:lnTo>
                <a:lnTo>
                  <a:pt x="19396" y="6172"/>
                </a:lnTo>
                <a:lnTo>
                  <a:pt x="19396" y="3084"/>
                </a:lnTo>
                <a:cubicBezTo>
                  <a:pt x="19396" y="3084"/>
                  <a:pt x="21600" y="3084"/>
                  <a:pt x="21600" y="3084"/>
                </a:cubicBezTo>
                <a:close/>
              </a:path>
            </a:pathLst>
          </a:custGeom>
          <a:solidFill>
            <a:srgbClr val="2b85ae"/>
          </a:solidFill>
          <a:ln w="0">
            <a:noFill/>
          </a:ln>
        </p:spPr>
        <p:style>
          <a:lnRef idx="0"/>
          <a:fillRef idx="0"/>
          <a:effectRef idx="0"/>
          <a:fontRef idx="minor"/>
        </p:style>
        <p:txBody>
          <a:bodyPr lIns="37800" rIns="37800" tIns="37800" bIns="37800" anchor="ctr">
            <a:noAutofit/>
          </a:bodyPr>
          <a:p>
            <a:endParaRPr b="0" lang="en-US" sz="1800" spc="-1" strike="noStrike">
              <a:solidFill>
                <a:srgbClr val="494949"/>
              </a:solidFill>
              <a:latin typeface="Open Sans Light"/>
            </a:endParaRPr>
          </a:p>
        </p:txBody>
      </p:sp>
      <p:sp>
        <p:nvSpPr>
          <p:cNvPr id="954" name="PlaceHolder 1"/>
          <p:cNvSpPr>
            <a:spLocks noGrp="1"/>
          </p:cNvSpPr>
          <p:nvPr>
            <p:ph/>
          </p:nvPr>
        </p:nvSpPr>
        <p:spPr>
          <a:xfrm>
            <a:off x="1695600" y="3602160"/>
            <a:ext cx="2046240" cy="2808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55" name="PlaceHolder 2"/>
          <p:cNvSpPr>
            <a:spLocks noGrp="1"/>
          </p:cNvSpPr>
          <p:nvPr>
            <p:ph/>
          </p:nvPr>
        </p:nvSpPr>
        <p:spPr>
          <a:xfrm>
            <a:off x="3965400" y="3601800"/>
            <a:ext cx="2044800" cy="29844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56" name="PlaceHolder 3"/>
          <p:cNvSpPr>
            <a:spLocks noGrp="1"/>
          </p:cNvSpPr>
          <p:nvPr>
            <p:ph/>
          </p:nvPr>
        </p:nvSpPr>
        <p:spPr>
          <a:xfrm>
            <a:off x="6199200" y="3602160"/>
            <a:ext cx="2044800" cy="2808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57" name="PlaceHolder 4"/>
          <p:cNvSpPr>
            <a:spLocks noGrp="1"/>
          </p:cNvSpPr>
          <p:nvPr>
            <p:ph/>
          </p:nvPr>
        </p:nvSpPr>
        <p:spPr>
          <a:xfrm>
            <a:off x="8453520" y="3602160"/>
            <a:ext cx="2046240" cy="29664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58" name="PlaceHolder 5"/>
          <p:cNvSpPr>
            <a:spLocks noGrp="1"/>
          </p:cNvSpPr>
          <p:nvPr>
            <p:ph/>
          </p:nvPr>
        </p:nvSpPr>
        <p:spPr>
          <a:xfrm>
            <a:off x="2822400" y="5679720"/>
            <a:ext cx="2044800" cy="2970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59" name="PlaceHolder 6"/>
          <p:cNvSpPr>
            <a:spLocks noGrp="1"/>
          </p:cNvSpPr>
          <p:nvPr>
            <p:ph/>
          </p:nvPr>
        </p:nvSpPr>
        <p:spPr>
          <a:xfrm>
            <a:off x="5100480" y="5678640"/>
            <a:ext cx="2044800" cy="28080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60" name="PlaceHolder 7"/>
          <p:cNvSpPr>
            <a:spLocks noGrp="1"/>
          </p:cNvSpPr>
          <p:nvPr>
            <p:ph/>
          </p:nvPr>
        </p:nvSpPr>
        <p:spPr>
          <a:xfrm>
            <a:off x="7354800" y="5678280"/>
            <a:ext cx="2046240" cy="298440"/>
          </a:xfrm>
          <a:prstGeom prst="rect">
            <a:avLst/>
          </a:prstGeom>
          <a:noFill/>
          <a:ln w="0">
            <a:noFill/>
          </a:ln>
        </p:spPr>
        <p:txBody>
          <a:bodyPr lIns="0" rIns="0" anchor="t">
            <a:normAutofit/>
          </a:bodyPr>
          <a:p>
            <a:pPr indent="0" algn="ctr">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898989"/>
                </a:solidFill>
                <a:latin typeface="Open Sans Light"/>
              </a:rPr>
              <a:t>Body text here or lookoloramet</a:t>
            </a:r>
            <a:endParaRPr b="0" lang="en-US" sz="1000" spc="-1" strike="noStrike">
              <a:solidFill>
                <a:srgbClr val="494949"/>
              </a:solidFill>
              <a:latin typeface="Open Sans Light"/>
            </a:endParaRPr>
          </a:p>
        </p:txBody>
      </p:sp>
      <p:sp>
        <p:nvSpPr>
          <p:cNvPr id="961" name="PlaceHolder 8"/>
          <p:cNvSpPr>
            <a:spLocks noGrp="1"/>
          </p:cNvSpPr>
          <p:nvPr>
            <p:ph/>
          </p:nvPr>
        </p:nvSpPr>
        <p:spPr>
          <a:xfrm>
            <a:off x="1971360" y="3366720"/>
            <a:ext cx="1523880" cy="244440"/>
          </a:xfrm>
          <a:prstGeom prst="rect">
            <a:avLst/>
          </a:prstGeom>
          <a:noFill/>
          <a:ln w="0">
            <a:noFill/>
          </a:ln>
        </p:spPr>
        <p:txBody>
          <a:bodyPr lIns="0" rIns="0" anchor="ctr">
            <a:normAutofit fontScale="7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COPYRIGHTING</a:t>
            </a:r>
            <a:endParaRPr b="0" lang="en-US" sz="1400" spc="-1" strike="noStrike">
              <a:solidFill>
                <a:srgbClr val="494949"/>
              </a:solidFill>
              <a:latin typeface="Open Sans Light"/>
            </a:endParaRPr>
          </a:p>
        </p:txBody>
      </p:sp>
      <p:sp>
        <p:nvSpPr>
          <p:cNvPr id="962" name="PlaceHolder 9"/>
          <p:cNvSpPr>
            <a:spLocks noGrp="1"/>
          </p:cNvSpPr>
          <p:nvPr>
            <p:ph/>
          </p:nvPr>
        </p:nvSpPr>
        <p:spPr>
          <a:xfrm>
            <a:off x="4219200" y="3366720"/>
            <a:ext cx="1523880" cy="235080"/>
          </a:xfrm>
          <a:prstGeom prst="rect">
            <a:avLst/>
          </a:prstGeom>
          <a:noFill/>
          <a:ln w="0">
            <a:noFill/>
          </a:ln>
        </p:spPr>
        <p:txBody>
          <a:bodyPr lIns="0" rIns="0" anchor="ctr">
            <a:normAutofit fontScale="75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MUSIC</a:t>
            </a:r>
            <a:endParaRPr b="0" lang="en-US" sz="1400" spc="-1" strike="noStrike">
              <a:solidFill>
                <a:srgbClr val="494949"/>
              </a:solidFill>
              <a:latin typeface="Open Sans Light"/>
            </a:endParaRPr>
          </a:p>
        </p:txBody>
      </p:sp>
      <p:sp>
        <p:nvSpPr>
          <p:cNvPr id="963" name="PlaceHolder 10"/>
          <p:cNvSpPr>
            <a:spLocks noGrp="1"/>
          </p:cNvSpPr>
          <p:nvPr>
            <p:ph/>
          </p:nvPr>
        </p:nvSpPr>
        <p:spPr>
          <a:xfrm>
            <a:off x="6473520" y="3362400"/>
            <a:ext cx="1523880" cy="239760"/>
          </a:xfrm>
          <a:prstGeom prst="rect">
            <a:avLst/>
          </a:prstGeom>
          <a:noFill/>
          <a:ln w="0">
            <a:noFill/>
          </a:ln>
        </p:spPr>
        <p:txBody>
          <a:bodyPr lIns="0" rIns="0" anchor="ctr">
            <a:normAutofit fontScale="77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VIDEO STUDIO</a:t>
            </a:r>
            <a:endParaRPr b="0" lang="en-US" sz="1400" spc="-1" strike="noStrike">
              <a:solidFill>
                <a:srgbClr val="494949"/>
              </a:solidFill>
              <a:latin typeface="Open Sans Light"/>
            </a:endParaRPr>
          </a:p>
        </p:txBody>
      </p:sp>
      <p:sp>
        <p:nvSpPr>
          <p:cNvPr id="964" name="PlaceHolder 11"/>
          <p:cNvSpPr>
            <a:spLocks noGrp="1"/>
          </p:cNvSpPr>
          <p:nvPr>
            <p:ph/>
          </p:nvPr>
        </p:nvSpPr>
        <p:spPr>
          <a:xfrm>
            <a:off x="8721360" y="3362400"/>
            <a:ext cx="1523880" cy="239760"/>
          </a:xfrm>
          <a:prstGeom prst="rect">
            <a:avLst/>
          </a:prstGeom>
          <a:noFill/>
          <a:ln w="0">
            <a:noFill/>
          </a:ln>
        </p:spPr>
        <p:txBody>
          <a:bodyPr lIns="0" rIns="0" anchor="ctr">
            <a:normAutofit fontScale="77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PHOTOGRAPHY</a:t>
            </a:r>
            <a:endParaRPr b="0" lang="en-US" sz="1400" spc="-1" strike="noStrike">
              <a:solidFill>
                <a:srgbClr val="494949"/>
              </a:solidFill>
              <a:latin typeface="Open Sans Light"/>
            </a:endParaRPr>
          </a:p>
        </p:txBody>
      </p:sp>
      <p:sp>
        <p:nvSpPr>
          <p:cNvPr id="965" name="PlaceHolder 12"/>
          <p:cNvSpPr>
            <a:spLocks noGrp="1"/>
          </p:cNvSpPr>
          <p:nvPr>
            <p:ph/>
          </p:nvPr>
        </p:nvSpPr>
        <p:spPr>
          <a:xfrm>
            <a:off x="3093840" y="5438520"/>
            <a:ext cx="1523880" cy="244440"/>
          </a:xfrm>
          <a:prstGeom prst="rect">
            <a:avLst/>
          </a:prstGeom>
          <a:noFill/>
          <a:ln w="0">
            <a:noFill/>
          </a:ln>
        </p:spPr>
        <p:txBody>
          <a:bodyPr lIns="0" rIns="0" anchor="ctr">
            <a:normAutofit fontScale="7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MARKETING</a:t>
            </a:r>
            <a:endParaRPr b="0" lang="en-US" sz="1400" spc="-1" strike="noStrike">
              <a:solidFill>
                <a:srgbClr val="494949"/>
              </a:solidFill>
              <a:latin typeface="Open Sans Light"/>
            </a:endParaRPr>
          </a:p>
        </p:txBody>
      </p:sp>
      <p:sp>
        <p:nvSpPr>
          <p:cNvPr id="966" name="PlaceHolder 13"/>
          <p:cNvSpPr>
            <a:spLocks noGrp="1"/>
          </p:cNvSpPr>
          <p:nvPr>
            <p:ph/>
          </p:nvPr>
        </p:nvSpPr>
        <p:spPr>
          <a:xfrm>
            <a:off x="5333760" y="5438520"/>
            <a:ext cx="1523880" cy="244440"/>
          </a:xfrm>
          <a:prstGeom prst="rect">
            <a:avLst/>
          </a:prstGeom>
          <a:noFill/>
          <a:ln w="0">
            <a:noFill/>
          </a:ln>
        </p:spPr>
        <p:txBody>
          <a:bodyPr lIns="0" rIns="0" anchor="ctr">
            <a:normAutofit fontScale="7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GRAPHIC DESIGN</a:t>
            </a:r>
            <a:endParaRPr b="0" lang="en-US" sz="1400" spc="-1" strike="noStrike">
              <a:solidFill>
                <a:srgbClr val="494949"/>
              </a:solidFill>
              <a:latin typeface="Open Sans Light"/>
            </a:endParaRPr>
          </a:p>
        </p:txBody>
      </p:sp>
      <p:sp>
        <p:nvSpPr>
          <p:cNvPr id="967" name="PlaceHolder 14"/>
          <p:cNvSpPr>
            <a:spLocks noGrp="1"/>
          </p:cNvSpPr>
          <p:nvPr>
            <p:ph/>
          </p:nvPr>
        </p:nvSpPr>
        <p:spPr>
          <a:xfrm>
            <a:off x="7599240" y="5438520"/>
            <a:ext cx="1524240" cy="244440"/>
          </a:xfrm>
          <a:prstGeom prst="rect">
            <a:avLst/>
          </a:prstGeom>
          <a:noFill/>
          <a:ln w="0">
            <a:noFill/>
          </a:ln>
        </p:spPr>
        <p:txBody>
          <a:bodyPr lIns="0" rIns="0" anchor="ctr">
            <a:normAutofit fontScale="79000"/>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898989"/>
                </a:solidFill>
                <a:latin typeface="Lato Heavy"/>
              </a:rPr>
              <a:t>BRANDING</a:t>
            </a:r>
            <a:endParaRPr b="0" lang="en-US" sz="1400" spc="-1" strike="noStrike">
              <a:solidFill>
                <a:srgbClr val="494949"/>
              </a:solidFill>
              <a:latin typeface="Open Sans Light"/>
            </a:endParaRPr>
          </a:p>
        </p:txBody>
      </p:sp>
      <p:sp>
        <p:nvSpPr>
          <p:cNvPr id="968" name="PlaceHolder 15"/>
          <p:cNvSpPr>
            <a:spLocks noGrp="1"/>
          </p:cNvSpPr>
          <p:nvPr>
            <p:ph type="title"/>
          </p:nvPr>
        </p:nvSpPr>
        <p:spPr>
          <a:xfrm>
            <a:off x="1523880" y="619200"/>
            <a:ext cx="9144000" cy="536400"/>
          </a:xfrm>
          <a:prstGeom prst="rect">
            <a:avLst/>
          </a:prstGeom>
          <a:noFill/>
          <a:ln w="0">
            <a:noFill/>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3600" spc="-1" strike="noStrike">
                <a:solidFill>
                  <a:srgbClr val="2d3f51"/>
                </a:solidFill>
                <a:latin typeface="Lato Heavy"/>
              </a:rPr>
              <a:t>OUR </a:t>
            </a:r>
            <a:r>
              <a:rPr b="0" lang="en-US" sz="3600" spc="-1" strike="noStrike">
                <a:solidFill>
                  <a:srgbClr val="2d3f51"/>
                </a:solidFill>
                <a:latin typeface="Lato Heavy"/>
              </a:rPr>
              <a:t>MISSION &amp; VI</a:t>
            </a:r>
            <a:r>
              <a:rPr b="0" lang="id-ID" sz="3600" spc="-1" strike="noStrike">
                <a:solidFill>
                  <a:srgbClr val="2d3f51"/>
                </a:solidFill>
                <a:latin typeface="Lato Heavy"/>
              </a:rPr>
              <a:t>S</a:t>
            </a:r>
            <a:r>
              <a:rPr b="0" lang="en-US" sz="3600" spc="-1" strike="noStrike">
                <a:solidFill>
                  <a:srgbClr val="2d3f51"/>
                </a:solidFill>
                <a:latin typeface="Lato Heavy"/>
              </a:rPr>
              <a:t>ION</a:t>
            </a:r>
            <a:endParaRPr b="0" lang="en-US" sz="3600" spc="-1" strike="noStrike">
              <a:solidFill>
                <a:srgbClr val="494949"/>
              </a:solidFill>
              <a:latin typeface="Lato Heavy"/>
            </a:endParaRPr>
          </a:p>
        </p:txBody>
      </p:sp>
      <p:sp>
        <p:nvSpPr>
          <p:cNvPr id="969" name="PlaceHolder 16"/>
          <p:cNvSpPr>
            <a:spLocks noGrp="1"/>
          </p:cNvSpPr>
          <p:nvPr>
            <p:ph/>
          </p:nvPr>
        </p:nvSpPr>
        <p:spPr>
          <a:xfrm>
            <a:off x="1523880" y="1285920"/>
            <a:ext cx="9144000" cy="247680"/>
          </a:xfrm>
          <a:prstGeom prst="rect">
            <a:avLst/>
          </a:prstGeom>
          <a:noFill/>
          <a:ln w="0">
            <a:noFill/>
          </a:ln>
        </p:spPr>
        <p:txBody>
          <a:bodyPr lIns="0" rIns="0"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898989"/>
                </a:solidFill>
                <a:latin typeface="Open Sans Light"/>
              </a:rPr>
              <a:t>write your relevant text here</a:t>
            </a:r>
            <a:endParaRPr b="0" lang="en-US" sz="1000" spc="-1" strike="noStrike">
              <a:solidFill>
                <a:srgbClr val="494949"/>
              </a:solidFill>
              <a:latin typeface="Open Sans Light"/>
            </a:endParaRPr>
          </a:p>
        </p:txBody>
      </p:sp>
    </p:spTree>
  </p:cSld>
  <p:transition spd="med">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950"/>
                                        </p:tgtEl>
                                        <p:attrNameLst>
                                          <p:attrName>style.visibility</p:attrName>
                                        </p:attrNameLst>
                                      </p:cBhvr>
                                      <p:to>
                                        <p:strVal val="visible"/>
                                      </p:to>
                                    </p:set>
                                    <p:animEffect filter="fade" transition="in">
                                      <p:cBhvr additive="repl">
                                        <p:cTn id="203" dur="500"/>
                                        <p:tgtEl>
                                          <p:spTgt spid="950"/>
                                        </p:tgtEl>
                                      </p:cBhvr>
                                    </p:animEffect>
                                  </p:childTnLst>
                                </p:cTn>
                              </p:par>
                            </p:childTnLst>
                          </p:cTn>
                        </p:par>
                        <p:par>
                          <p:cTn id="204" fill="hold">
                            <p:stCondLst>
                              <p:cond delay="500"/>
                            </p:stCondLst>
                            <p:childTnLst>
                              <p:par>
                                <p:cTn id="205" nodeType="afterEffect" fill="hold" presetClass="entr" presetID="22" presetSubtype="2">
                                  <p:stCondLst>
                                    <p:cond delay="0"/>
                                  </p:stCondLst>
                                  <p:childTnLst>
                                    <p:set>
                                      <p:cBhvr>
                                        <p:cTn id="206" dur="1" fill="hold">
                                          <p:stCondLst>
                                            <p:cond delay="0"/>
                                          </p:stCondLst>
                                        </p:cTn>
                                        <p:tgtEl>
                                          <p:spTgt spid="932"/>
                                        </p:tgtEl>
                                        <p:attrNameLst>
                                          <p:attrName>style.visibility</p:attrName>
                                        </p:attrNameLst>
                                      </p:cBhvr>
                                      <p:to>
                                        <p:strVal val="visible"/>
                                      </p:to>
                                    </p:set>
                                    <p:animEffect filter="wipe(right)" transition="in">
                                      <p:cBhvr additive="repl">
                                        <p:cTn id="207" dur="500"/>
                                        <p:tgtEl>
                                          <p:spTgt spid="932"/>
                                        </p:tgtEl>
                                      </p:cBhvr>
                                    </p:animEffect>
                                  </p:childTnLst>
                                </p:cTn>
                              </p:par>
                            </p:childTnLst>
                          </p:cTn>
                        </p:par>
                        <p:par>
                          <p:cTn id="208" fill="hold">
                            <p:stCondLst>
                              <p:cond delay="1000"/>
                            </p:stCondLst>
                            <p:childTnLst>
                              <p:par>
                                <p:cTn id="209" nodeType="afterEffect" fill="hold" presetClass="entr" presetID="10">
                                  <p:stCondLst>
                                    <p:cond delay="0"/>
                                  </p:stCondLst>
                                  <p:childTnLst>
                                    <p:set>
                                      <p:cBhvr>
                                        <p:cTn id="210" dur="1" fill="hold">
                                          <p:stCondLst>
                                            <p:cond delay="0"/>
                                          </p:stCondLst>
                                        </p:cTn>
                                        <p:tgtEl>
                                          <p:spTgt spid="961">
                                            <p:txEl>
                                              <p:pRg st="0" end="0"/>
                                            </p:txEl>
                                          </p:spTgt>
                                        </p:tgtEl>
                                        <p:attrNameLst>
                                          <p:attrName>style.visibility</p:attrName>
                                        </p:attrNameLst>
                                      </p:cBhvr>
                                      <p:to>
                                        <p:strVal val="visible"/>
                                      </p:to>
                                    </p:set>
                                    <p:animEffect filter="fade" transition="in">
                                      <p:cBhvr additive="repl">
                                        <p:cTn id="211" dur="500"/>
                                        <p:tgtEl>
                                          <p:spTgt spid="961">
                                            <p:txEl>
                                              <p:pRg st="0" end="0"/>
                                            </p:txEl>
                                          </p:spTgt>
                                        </p:tgtEl>
                                      </p:cBhvr>
                                    </p:animEffect>
                                  </p:childTnLst>
                                </p:cTn>
                              </p:par>
                            </p:childTnLst>
                          </p:cTn>
                        </p:par>
                        <p:par>
                          <p:cTn id="212" fill="hold">
                            <p:stCondLst>
                              <p:cond delay="1500"/>
                            </p:stCondLst>
                            <p:childTnLst>
                              <p:par>
                                <p:cTn id="213" nodeType="afterEffect" fill="hold" presetClass="entr" presetID="18" presetSubtype="6">
                                  <p:stCondLst>
                                    <p:cond delay="0"/>
                                  </p:stCondLst>
                                  <p:childTnLst>
                                    <p:set>
                                      <p:cBhvr>
                                        <p:cTn id="214" dur="1" fill="hold">
                                          <p:stCondLst>
                                            <p:cond delay="0"/>
                                          </p:stCondLst>
                                        </p:cTn>
                                        <p:tgtEl>
                                          <p:spTgt spid="954">
                                            <p:txEl>
                                              <p:pRg st="0" end="0"/>
                                            </p:txEl>
                                          </p:spTgt>
                                        </p:tgtEl>
                                        <p:attrNameLst>
                                          <p:attrName>style.visibility</p:attrName>
                                        </p:attrNameLst>
                                      </p:cBhvr>
                                      <p:to>
                                        <p:strVal val="visible"/>
                                      </p:to>
                                    </p:set>
                                    <p:animEffect filter="strips(downRight)" transition="in">
                                      <p:cBhvr additive="repl">
                                        <p:cTn id="215" dur="500"/>
                                        <p:tgtEl>
                                          <p:spTgt spid="954">
                                            <p:txEl>
                                              <p:pRg st="0" end="0"/>
                                            </p:txEl>
                                          </p:spTgt>
                                        </p:tgtEl>
                                      </p:cBhvr>
                                    </p:animEffect>
                                  </p:childTnLst>
                                </p:cTn>
                              </p:par>
                            </p:childTnLst>
                          </p:cTn>
                        </p:par>
                        <p:par>
                          <p:cTn id="216" fill="hold">
                            <p:stCondLst>
                              <p:cond delay="2000"/>
                            </p:stCondLst>
                            <p:childTnLst>
                              <p:par>
                                <p:cTn id="217" nodeType="afterEffect" fill="hold" presetClass="entr" presetID="10">
                                  <p:stCondLst>
                                    <p:cond delay="0"/>
                                  </p:stCondLst>
                                  <p:childTnLst>
                                    <p:set>
                                      <p:cBhvr>
                                        <p:cTn id="218" dur="1" fill="hold">
                                          <p:stCondLst>
                                            <p:cond delay="0"/>
                                          </p:stCondLst>
                                        </p:cTn>
                                        <p:tgtEl>
                                          <p:spTgt spid="946"/>
                                        </p:tgtEl>
                                        <p:attrNameLst>
                                          <p:attrName>style.visibility</p:attrName>
                                        </p:attrNameLst>
                                      </p:cBhvr>
                                      <p:to>
                                        <p:strVal val="visible"/>
                                      </p:to>
                                    </p:set>
                                    <p:animEffect filter="fade" transition="in">
                                      <p:cBhvr additive="repl">
                                        <p:cTn id="219" dur="500"/>
                                        <p:tgtEl>
                                          <p:spTgt spid="946"/>
                                        </p:tgtEl>
                                      </p:cBhvr>
                                    </p:animEffect>
                                  </p:childTnLst>
                                </p:cTn>
                              </p:par>
                            </p:childTnLst>
                          </p:cTn>
                        </p:par>
                        <p:par>
                          <p:cTn id="220" fill="hold">
                            <p:stCondLst>
                              <p:cond delay="2500"/>
                            </p:stCondLst>
                            <p:childTnLst>
                              <p:par>
                                <p:cTn id="221" nodeType="afterEffect" fill="hold" presetClass="entr" presetID="22" presetSubtype="2">
                                  <p:stCondLst>
                                    <p:cond delay="0"/>
                                  </p:stCondLst>
                                  <p:childTnLst>
                                    <p:set>
                                      <p:cBhvr>
                                        <p:cTn id="222" dur="1" fill="hold">
                                          <p:stCondLst>
                                            <p:cond delay="0"/>
                                          </p:stCondLst>
                                        </p:cTn>
                                        <p:tgtEl>
                                          <p:spTgt spid="934"/>
                                        </p:tgtEl>
                                        <p:attrNameLst>
                                          <p:attrName>style.visibility</p:attrName>
                                        </p:attrNameLst>
                                      </p:cBhvr>
                                      <p:to>
                                        <p:strVal val="visible"/>
                                      </p:to>
                                    </p:set>
                                    <p:animEffect filter="wipe(right)" transition="in">
                                      <p:cBhvr additive="repl">
                                        <p:cTn id="223" dur="500"/>
                                        <p:tgtEl>
                                          <p:spTgt spid="934"/>
                                        </p:tgtEl>
                                      </p:cBhvr>
                                    </p:animEffect>
                                  </p:childTnLst>
                                </p:cTn>
                              </p:par>
                            </p:childTnLst>
                          </p:cTn>
                        </p:par>
                        <p:par>
                          <p:cTn id="224" fill="hold">
                            <p:stCondLst>
                              <p:cond delay="3000"/>
                            </p:stCondLst>
                            <p:childTnLst>
                              <p:par>
                                <p:cTn id="225" nodeType="afterEffect" fill="hold" presetClass="entr" presetID="10">
                                  <p:stCondLst>
                                    <p:cond delay="0"/>
                                  </p:stCondLst>
                                  <p:childTnLst>
                                    <p:set>
                                      <p:cBhvr>
                                        <p:cTn id="226" dur="1" fill="hold">
                                          <p:stCondLst>
                                            <p:cond delay="0"/>
                                          </p:stCondLst>
                                        </p:cTn>
                                        <p:tgtEl>
                                          <p:spTgt spid="962">
                                            <p:txEl>
                                              <p:pRg st="0" end="0"/>
                                            </p:txEl>
                                          </p:spTgt>
                                        </p:tgtEl>
                                        <p:attrNameLst>
                                          <p:attrName>style.visibility</p:attrName>
                                        </p:attrNameLst>
                                      </p:cBhvr>
                                      <p:to>
                                        <p:strVal val="visible"/>
                                      </p:to>
                                    </p:set>
                                    <p:animEffect filter="fade" transition="in">
                                      <p:cBhvr additive="repl">
                                        <p:cTn id="227" dur="500"/>
                                        <p:tgtEl>
                                          <p:spTgt spid="962">
                                            <p:txEl>
                                              <p:pRg st="0" end="0"/>
                                            </p:txEl>
                                          </p:spTgt>
                                        </p:tgtEl>
                                      </p:cBhvr>
                                    </p:animEffect>
                                  </p:childTnLst>
                                </p:cTn>
                              </p:par>
                            </p:childTnLst>
                          </p:cTn>
                        </p:par>
                        <p:par>
                          <p:cTn id="228" fill="hold">
                            <p:stCondLst>
                              <p:cond delay="3500"/>
                            </p:stCondLst>
                            <p:childTnLst>
                              <p:par>
                                <p:cTn id="229" nodeType="afterEffect" fill="hold" presetClass="entr" presetID="18" presetSubtype="6">
                                  <p:stCondLst>
                                    <p:cond delay="0"/>
                                  </p:stCondLst>
                                  <p:childTnLst>
                                    <p:set>
                                      <p:cBhvr>
                                        <p:cTn id="230" dur="1" fill="hold">
                                          <p:stCondLst>
                                            <p:cond delay="0"/>
                                          </p:stCondLst>
                                        </p:cTn>
                                        <p:tgtEl>
                                          <p:spTgt spid="955">
                                            <p:txEl>
                                              <p:pRg st="0" end="0"/>
                                            </p:txEl>
                                          </p:spTgt>
                                        </p:tgtEl>
                                        <p:attrNameLst>
                                          <p:attrName>style.visibility</p:attrName>
                                        </p:attrNameLst>
                                      </p:cBhvr>
                                      <p:to>
                                        <p:strVal val="visible"/>
                                      </p:to>
                                    </p:set>
                                    <p:animEffect filter="strips(downRight)" transition="in">
                                      <p:cBhvr additive="repl">
                                        <p:cTn id="231" dur="500"/>
                                        <p:tgtEl>
                                          <p:spTgt spid="955">
                                            <p:txEl>
                                              <p:pRg st="0" end="0"/>
                                            </p:txEl>
                                          </p:spTgt>
                                        </p:tgtEl>
                                      </p:cBhvr>
                                    </p:animEffect>
                                  </p:childTnLst>
                                </p:cTn>
                              </p:par>
                            </p:childTnLst>
                          </p:cTn>
                        </p:par>
                        <p:par>
                          <p:cTn id="232" fill="hold">
                            <p:stCondLst>
                              <p:cond delay="4000"/>
                            </p:stCondLst>
                            <p:childTnLst>
                              <p:par>
                                <p:cTn id="233" nodeType="afterEffect" fill="hold" presetClass="entr" presetID="10">
                                  <p:stCondLst>
                                    <p:cond delay="0"/>
                                  </p:stCondLst>
                                  <p:childTnLst>
                                    <p:set>
                                      <p:cBhvr>
                                        <p:cTn id="234" dur="1" fill="hold">
                                          <p:stCondLst>
                                            <p:cond delay="0"/>
                                          </p:stCondLst>
                                        </p:cTn>
                                        <p:tgtEl>
                                          <p:spTgt spid="953"/>
                                        </p:tgtEl>
                                        <p:attrNameLst>
                                          <p:attrName>style.visibility</p:attrName>
                                        </p:attrNameLst>
                                      </p:cBhvr>
                                      <p:to>
                                        <p:strVal val="visible"/>
                                      </p:to>
                                    </p:set>
                                    <p:animEffect filter="fade" transition="in">
                                      <p:cBhvr additive="repl">
                                        <p:cTn id="235" dur="500"/>
                                        <p:tgtEl>
                                          <p:spTgt spid="953"/>
                                        </p:tgtEl>
                                      </p:cBhvr>
                                    </p:animEffect>
                                  </p:childTnLst>
                                </p:cTn>
                              </p:par>
                            </p:childTnLst>
                          </p:cTn>
                        </p:par>
                        <p:par>
                          <p:cTn id="236" fill="hold">
                            <p:stCondLst>
                              <p:cond delay="4500"/>
                            </p:stCondLst>
                            <p:childTnLst>
                              <p:par>
                                <p:cTn id="237" nodeType="afterEffect" fill="hold" presetClass="entr" presetID="22" presetSubtype="2">
                                  <p:stCondLst>
                                    <p:cond delay="0"/>
                                  </p:stCondLst>
                                  <p:childTnLst>
                                    <p:set>
                                      <p:cBhvr>
                                        <p:cTn id="238" dur="1" fill="hold">
                                          <p:stCondLst>
                                            <p:cond delay="0"/>
                                          </p:stCondLst>
                                        </p:cTn>
                                        <p:tgtEl>
                                          <p:spTgt spid="936"/>
                                        </p:tgtEl>
                                        <p:attrNameLst>
                                          <p:attrName>style.visibility</p:attrName>
                                        </p:attrNameLst>
                                      </p:cBhvr>
                                      <p:to>
                                        <p:strVal val="visible"/>
                                      </p:to>
                                    </p:set>
                                    <p:animEffect filter="wipe(right)" transition="in">
                                      <p:cBhvr additive="repl">
                                        <p:cTn id="239" dur="500"/>
                                        <p:tgtEl>
                                          <p:spTgt spid="936"/>
                                        </p:tgtEl>
                                      </p:cBhvr>
                                    </p:animEffect>
                                  </p:childTnLst>
                                </p:cTn>
                              </p:par>
                            </p:childTnLst>
                          </p:cTn>
                        </p:par>
                        <p:par>
                          <p:cTn id="240" fill="hold">
                            <p:stCondLst>
                              <p:cond delay="5000"/>
                            </p:stCondLst>
                            <p:childTnLst>
                              <p:par>
                                <p:cTn id="241" nodeType="afterEffect" fill="hold" presetClass="entr" presetID="10">
                                  <p:stCondLst>
                                    <p:cond delay="0"/>
                                  </p:stCondLst>
                                  <p:childTnLst>
                                    <p:set>
                                      <p:cBhvr>
                                        <p:cTn id="242" dur="1" fill="hold">
                                          <p:stCondLst>
                                            <p:cond delay="0"/>
                                          </p:stCondLst>
                                        </p:cTn>
                                        <p:tgtEl>
                                          <p:spTgt spid="963">
                                            <p:txEl>
                                              <p:pRg st="0" end="0"/>
                                            </p:txEl>
                                          </p:spTgt>
                                        </p:tgtEl>
                                        <p:attrNameLst>
                                          <p:attrName>style.visibility</p:attrName>
                                        </p:attrNameLst>
                                      </p:cBhvr>
                                      <p:to>
                                        <p:strVal val="visible"/>
                                      </p:to>
                                    </p:set>
                                    <p:animEffect filter="fade" transition="in">
                                      <p:cBhvr additive="repl">
                                        <p:cTn id="243" dur="500"/>
                                        <p:tgtEl>
                                          <p:spTgt spid="963">
                                            <p:txEl>
                                              <p:pRg st="0" end="0"/>
                                            </p:txEl>
                                          </p:spTgt>
                                        </p:tgtEl>
                                      </p:cBhvr>
                                    </p:animEffect>
                                  </p:childTnLst>
                                </p:cTn>
                              </p:par>
                            </p:childTnLst>
                          </p:cTn>
                        </p:par>
                        <p:par>
                          <p:cTn id="244" fill="hold">
                            <p:stCondLst>
                              <p:cond delay="5500"/>
                            </p:stCondLst>
                            <p:childTnLst>
                              <p:par>
                                <p:cTn id="245" nodeType="afterEffect" fill="hold" presetClass="entr" presetID="18" presetSubtype="6">
                                  <p:stCondLst>
                                    <p:cond delay="0"/>
                                  </p:stCondLst>
                                  <p:childTnLst>
                                    <p:set>
                                      <p:cBhvr>
                                        <p:cTn id="246" dur="1" fill="hold">
                                          <p:stCondLst>
                                            <p:cond delay="0"/>
                                          </p:stCondLst>
                                        </p:cTn>
                                        <p:tgtEl>
                                          <p:spTgt spid="956">
                                            <p:txEl>
                                              <p:pRg st="0" end="0"/>
                                            </p:txEl>
                                          </p:spTgt>
                                        </p:tgtEl>
                                        <p:attrNameLst>
                                          <p:attrName>style.visibility</p:attrName>
                                        </p:attrNameLst>
                                      </p:cBhvr>
                                      <p:to>
                                        <p:strVal val="visible"/>
                                      </p:to>
                                    </p:set>
                                    <p:animEffect filter="strips(downRight)" transition="in">
                                      <p:cBhvr additive="repl">
                                        <p:cTn id="247" dur="500"/>
                                        <p:tgtEl>
                                          <p:spTgt spid="956">
                                            <p:txEl>
                                              <p:pRg st="0" end="0"/>
                                            </p:txEl>
                                          </p:spTgt>
                                        </p:tgtEl>
                                      </p:cBhvr>
                                    </p:animEffect>
                                  </p:childTnLst>
                                </p:cTn>
                              </p:par>
                            </p:childTnLst>
                          </p:cTn>
                        </p:par>
                        <p:par>
                          <p:cTn id="248" fill="hold">
                            <p:stCondLst>
                              <p:cond delay="6000"/>
                            </p:stCondLst>
                            <p:childTnLst>
                              <p:par>
                                <p:cTn id="249" nodeType="afterEffect" fill="hold" presetClass="entr" presetID="10">
                                  <p:stCondLst>
                                    <p:cond delay="0"/>
                                  </p:stCondLst>
                                  <p:childTnLst>
                                    <p:set>
                                      <p:cBhvr>
                                        <p:cTn id="250" dur="1" fill="hold">
                                          <p:stCondLst>
                                            <p:cond delay="0"/>
                                          </p:stCondLst>
                                        </p:cTn>
                                        <p:tgtEl>
                                          <p:spTgt spid="947"/>
                                        </p:tgtEl>
                                        <p:attrNameLst>
                                          <p:attrName>style.visibility</p:attrName>
                                        </p:attrNameLst>
                                      </p:cBhvr>
                                      <p:to>
                                        <p:strVal val="visible"/>
                                      </p:to>
                                    </p:set>
                                    <p:animEffect filter="fade" transition="in">
                                      <p:cBhvr additive="repl">
                                        <p:cTn id="251" dur="500"/>
                                        <p:tgtEl>
                                          <p:spTgt spid="947"/>
                                        </p:tgtEl>
                                      </p:cBhvr>
                                    </p:animEffect>
                                  </p:childTnLst>
                                </p:cTn>
                              </p:par>
                            </p:childTnLst>
                          </p:cTn>
                        </p:par>
                        <p:par>
                          <p:cTn id="252" fill="hold">
                            <p:stCondLst>
                              <p:cond delay="6500"/>
                            </p:stCondLst>
                            <p:childTnLst>
                              <p:par>
                                <p:cTn id="253" nodeType="afterEffect" fill="hold" presetClass="entr" presetID="22" presetSubtype="2">
                                  <p:stCondLst>
                                    <p:cond delay="0"/>
                                  </p:stCondLst>
                                  <p:childTnLst>
                                    <p:set>
                                      <p:cBhvr>
                                        <p:cTn id="254" dur="1" fill="hold">
                                          <p:stCondLst>
                                            <p:cond delay="0"/>
                                          </p:stCondLst>
                                        </p:cTn>
                                        <p:tgtEl>
                                          <p:spTgt spid="938"/>
                                        </p:tgtEl>
                                        <p:attrNameLst>
                                          <p:attrName>style.visibility</p:attrName>
                                        </p:attrNameLst>
                                      </p:cBhvr>
                                      <p:to>
                                        <p:strVal val="visible"/>
                                      </p:to>
                                    </p:set>
                                    <p:animEffect filter="wipe(right)" transition="in">
                                      <p:cBhvr additive="repl">
                                        <p:cTn id="255" dur="500"/>
                                        <p:tgtEl>
                                          <p:spTgt spid="938"/>
                                        </p:tgtEl>
                                      </p:cBhvr>
                                    </p:animEffect>
                                  </p:childTnLst>
                                </p:cTn>
                              </p:par>
                            </p:childTnLst>
                          </p:cTn>
                        </p:par>
                        <p:par>
                          <p:cTn id="256" fill="hold">
                            <p:stCondLst>
                              <p:cond delay="7000"/>
                            </p:stCondLst>
                            <p:childTnLst>
                              <p:par>
                                <p:cTn id="257" nodeType="afterEffect" fill="hold" presetClass="entr" presetID="10">
                                  <p:stCondLst>
                                    <p:cond delay="0"/>
                                  </p:stCondLst>
                                  <p:childTnLst>
                                    <p:set>
                                      <p:cBhvr>
                                        <p:cTn id="258" dur="1" fill="hold">
                                          <p:stCondLst>
                                            <p:cond delay="0"/>
                                          </p:stCondLst>
                                        </p:cTn>
                                        <p:tgtEl>
                                          <p:spTgt spid="964">
                                            <p:txEl>
                                              <p:pRg st="0" end="0"/>
                                            </p:txEl>
                                          </p:spTgt>
                                        </p:tgtEl>
                                        <p:attrNameLst>
                                          <p:attrName>style.visibility</p:attrName>
                                        </p:attrNameLst>
                                      </p:cBhvr>
                                      <p:to>
                                        <p:strVal val="visible"/>
                                      </p:to>
                                    </p:set>
                                    <p:animEffect filter="fade" transition="in">
                                      <p:cBhvr additive="repl">
                                        <p:cTn id="259" dur="500"/>
                                        <p:tgtEl>
                                          <p:spTgt spid="964">
                                            <p:txEl>
                                              <p:pRg st="0" end="0"/>
                                            </p:txEl>
                                          </p:spTgt>
                                        </p:tgtEl>
                                      </p:cBhvr>
                                    </p:animEffect>
                                  </p:childTnLst>
                                </p:cTn>
                              </p:par>
                            </p:childTnLst>
                          </p:cTn>
                        </p:par>
                        <p:par>
                          <p:cTn id="260" fill="hold">
                            <p:stCondLst>
                              <p:cond delay="7500"/>
                            </p:stCondLst>
                            <p:childTnLst>
                              <p:par>
                                <p:cTn id="261" nodeType="afterEffect" fill="hold" presetClass="entr" presetID="18" presetSubtype="6">
                                  <p:stCondLst>
                                    <p:cond delay="0"/>
                                  </p:stCondLst>
                                  <p:childTnLst>
                                    <p:set>
                                      <p:cBhvr>
                                        <p:cTn id="262" dur="1" fill="hold">
                                          <p:stCondLst>
                                            <p:cond delay="0"/>
                                          </p:stCondLst>
                                        </p:cTn>
                                        <p:tgtEl>
                                          <p:spTgt spid="957">
                                            <p:txEl>
                                              <p:pRg st="0" end="0"/>
                                            </p:txEl>
                                          </p:spTgt>
                                        </p:tgtEl>
                                        <p:attrNameLst>
                                          <p:attrName>style.visibility</p:attrName>
                                        </p:attrNameLst>
                                      </p:cBhvr>
                                      <p:to>
                                        <p:strVal val="visible"/>
                                      </p:to>
                                    </p:set>
                                    <p:animEffect filter="strips(downRight)" transition="in">
                                      <p:cBhvr additive="repl">
                                        <p:cTn id="263" dur="500"/>
                                        <p:tgtEl>
                                          <p:spTgt spid="957">
                                            <p:txEl>
                                              <p:pRg st="0" end="0"/>
                                            </p:txEl>
                                          </p:spTgt>
                                        </p:tgtEl>
                                      </p:cBhvr>
                                    </p:animEffect>
                                  </p:childTnLst>
                                </p:cTn>
                              </p:par>
                            </p:childTnLst>
                          </p:cTn>
                        </p:par>
                        <p:par>
                          <p:cTn id="264" fill="hold">
                            <p:stCondLst>
                              <p:cond delay="8000"/>
                            </p:stCondLst>
                            <p:childTnLst>
                              <p:par>
                                <p:cTn id="265" nodeType="afterEffect" fill="hold" presetClass="entr" presetID="10">
                                  <p:stCondLst>
                                    <p:cond delay="0"/>
                                  </p:stCondLst>
                                  <p:childTnLst>
                                    <p:set>
                                      <p:cBhvr>
                                        <p:cTn id="266" dur="1" fill="hold">
                                          <p:stCondLst>
                                            <p:cond delay="0"/>
                                          </p:stCondLst>
                                        </p:cTn>
                                        <p:tgtEl>
                                          <p:spTgt spid="948"/>
                                        </p:tgtEl>
                                        <p:attrNameLst>
                                          <p:attrName>style.visibility</p:attrName>
                                        </p:attrNameLst>
                                      </p:cBhvr>
                                      <p:to>
                                        <p:strVal val="visible"/>
                                      </p:to>
                                    </p:set>
                                    <p:animEffect filter="fade" transition="in">
                                      <p:cBhvr additive="repl">
                                        <p:cTn id="267" dur="500"/>
                                        <p:tgtEl>
                                          <p:spTgt spid="948"/>
                                        </p:tgtEl>
                                      </p:cBhvr>
                                    </p:animEffect>
                                  </p:childTnLst>
                                </p:cTn>
                              </p:par>
                            </p:childTnLst>
                          </p:cTn>
                        </p:par>
                        <p:par>
                          <p:cTn id="268" fill="hold">
                            <p:stCondLst>
                              <p:cond delay="8500"/>
                            </p:stCondLst>
                            <p:childTnLst>
                              <p:par>
                                <p:cTn id="269" nodeType="afterEffect" fill="hold" presetClass="entr" presetID="22" presetSubtype="2">
                                  <p:stCondLst>
                                    <p:cond delay="0"/>
                                  </p:stCondLst>
                                  <p:childTnLst>
                                    <p:set>
                                      <p:cBhvr>
                                        <p:cTn id="270" dur="1" fill="hold">
                                          <p:stCondLst>
                                            <p:cond delay="0"/>
                                          </p:stCondLst>
                                        </p:cTn>
                                        <p:tgtEl>
                                          <p:spTgt spid="940"/>
                                        </p:tgtEl>
                                        <p:attrNameLst>
                                          <p:attrName>style.visibility</p:attrName>
                                        </p:attrNameLst>
                                      </p:cBhvr>
                                      <p:to>
                                        <p:strVal val="visible"/>
                                      </p:to>
                                    </p:set>
                                    <p:animEffect filter="wipe(right)" transition="in">
                                      <p:cBhvr additive="repl">
                                        <p:cTn id="271" dur="500"/>
                                        <p:tgtEl>
                                          <p:spTgt spid="940"/>
                                        </p:tgtEl>
                                      </p:cBhvr>
                                    </p:animEffect>
                                  </p:childTnLst>
                                </p:cTn>
                              </p:par>
                            </p:childTnLst>
                          </p:cTn>
                        </p:par>
                        <p:par>
                          <p:cTn id="272" fill="hold">
                            <p:stCondLst>
                              <p:cond delay="9000"/>
                            </p:stCondLst>
                            <p:childTnLst>
                              <p:par>
                                <p:cTn id="273" nodeType="afterEffect" fill="hold" presetClass="entr" presetID="10">
                                  <p:stCondLst>
                                    <p:cond delay="0"/>
                                  </p:stCondLst>
                                  <p:childTnLst>
                                    <p:set>
                                      <p:cBhvr>
                                        <p:cTn id="274" dur="1" fill="hold">
                                          <p:stCondLst>
                                            <p:cond delay="0"/>
                                          </p:stCondLst>
                                        </p:cTn>
                                        <p:tgtEl>
                                          <p:spTgt spid="965">
                                            <p:txEl>
                                              <p:pRg st="0" end="0"/>
                                            </p:txEl>
                                          </p:spTgt>
                                        </p:tgtEl>
                                        <p:attrNameLst>
                                          <p:attrName>style.visibility</p:attrName>
                                        </p:attrNameLst>
                                      </p:cBhvr>
                                      <p:to>
                                        <p:strVal val="visible"/>
                                      </p:to>
                                    </p:set>
                                    <p:animEffect filter="fade" transition="in">
                                      <p:cBhvr additive="repl">
                                        <p:cTn id="275" dur="500"/>
                                        <p:tgtEl>
                                          <p:spTgt spid="965">
                                            <p:txEl>
                                              <p:pRg st="0" end="0"/>
                                            </p:txEl>
                                          </p:spTgt>
                                        </p:tgtEl>
                                      </p:cBhvr>
                                    </p:animEffect>
                                  </p:childTnLst>
                                </p:cTn>
                              </p:par>
                            </p:childTnLst>
                          </p:cTn>
                        </p:par>
                        <p:par>
                          <p:cTn id="276" fill="hold">
                            <p:stCondLst>
                              <p:cond delay="9500"/>
                            </p:stCondLst>
                            <p:childTnLst>
                              <p:par>
                                <p:cTn id="277" nodeType="afterEffect" fill="hold" presetClass="entr" presetID="18" presetSubtype="6">
                                  <p:stCondLst>
                                    <p:cond delay="0"/>
                                  </p:stCondLst>
                                  <p:childTnLst>
                                    <p:set>
                                      <p:cBhvr>
                                        <p:cTn id="278" dur="1" fill="hold">
                                          <p:stCondLst>
                                            <p:cond delay="0"/>
                                          </p:stCondLst>
                                        </p:cTn>
                                        <p:tgtEl>
                                          <p:spTgt spid="958">
                                            <p:txEl>
                                              <p:pRg st="0" end="0"/>
                                            </p:txEl>
                                          </p:spTgt>
                                        </p:tgtEl>
                                        <p:attrNameLst>
                                          <p:attrName>style.visibility</p:attrName>
                                        </p:attrNameLst>
                                      </p:cBhvr>
                                      <p:to>
                                        <p:strVal val="visible"/>
                                      </p:to>
                                    </p:set>
                                    <p:animEffect filter="strips(downRight)" transition="in">
                                      <p:cBhvr additive="repl">
                                        <p:cTn id="279" dur="500"/>
                                        <p:tgtEl>
                                          <p:spTgt spid="958">
                                            <p:txEl>
                                              <p:pRg st="0" end="0"/>
                                            </p:txEl>
                                          </p:spTgt>
                                        </p:tgtEl>
                                      </p:cBhvr>
                                    </p:animEffect>
                                  </p:childTnLst>
                                </p:cTn>
                              </p:par>
                            </p:childTnLst>
                          </p:cTn>
                        </p:par>
                        <p:par>
                          <p:cTn id="280" fill="hold">
                            <p:stCondLst>
                              <p:cond delay="10000"/>
                            </p:stCondLst>
                            <p:childTnLst>
                              <p:par>
                                <p:cTn id="281" nodeType="afterEffect" fill="hold" presetClass="entr" presetID="10">
                                  <p:stCondLst>
                                    <p:cond delay="0"/>
                                  </p:stCondLst>
                                  <p:childTnLst>
                                    <p:set>
                                      <p:cBhvr>
                                        <p:cTn id="282" dur="1" fill="hold">
                                          <p:stCondLst>
                                            <p:cond delay="0"/>
                                          </p:stCondLst>
                                        </p:cTn>
                                        <p:tgtEl>
                                          <p:spTgt spid="949"/>
                                        </p:tgtEl>
                                        <p:attrNameLst>
                                          <p:attrName>style.visibility</p:attrName>
                                        </p:attrNameLst>
                                      </p:cBhvr>
                                      <p:to>
                                        <p:strVal val="visible"/>
                                      </p:to>
                                    </p:set>
                                    <p:animEffect filter="fade" transition="in">
                                      <p:cBhvr additive="repl">
                                        <p:cTn id="283" dur="500"/>
                                        <p:tgtEl>
                                          <p:spTgt spid="949"/>
                                        </p:tgtEl>
                                      </p:cBhvr>
                                    </p:animEffect>
                                  </p:childTnLst>
                                </p:cTn>
                              </p:par>
                            </p:childTnLst>
                          </p:cTn>
                        </p:par>
                        <p:par>
                          <p:cTn id="284" fill="hold">
                            <p:stCondLst>
                              <p:cond delay="10500"/>
                            </p:stCondLst>
                            <p:childTnLst>
                              <p:par>
                                <p:cTn id="285" nodeType="afterEffect" fill="hold" presetClass="entr" presetID="22" presetSubtype="2">
                                  <p:stCondLst>
                                    <p:cond delay="0"/>
                                  </p:stCondLst>
                                  <p:childTnLst>
                                    <p:set>
                                      <p:cBhvr>
                                        <p:cTn id="286" dur="1" fill="hold">
                                          <p:stCondLst>
                                            <p:cond delay="0"/>
                                          </p:stCondLst>
                                        </p:cTn>
                                        <p:tgtEl>
                                          <p:spTgt spid="942"/>
                                        </p:tgtEl>
                                        <p:attrNameLst>
                                          <p:attrName>style.visibility</p:attrName>
                                        </p:attrNameLst>
                                      </p:cBhvr>
                                      <p:to>
                                        <p:strVal val="visible"/>
                                      </p:to>
                                    </p:set>
                                    <p:animEffect filter="wipe(right)" transition="in">
                                      <p:cBhvr additive="repl">
                                        <p:cTn id="287" dur="500"/>
                                        <p:tgtEl>
                                          <p:spTgt spid="942"/>
                                        </p:tgtEl>
                                      </p:cBhvr>
                                    </p:animEffect>
                                  </p:childTnLst>
                                </p:cTn>
                              </p:par>
                            </p:childTnLst>
                          </p:cTn>
                        </p:par>
                        <p:par>
                          <p:cTn id="288" fill="hold">
                            <p:stCondLst>
                              <p:cond delay="11000"/>
                            </p:stCondLst>
                            <p:childTnLst>
                              <p:par>
                                <p:cTn id="289" nodeType="afterEffect" fill="hold" presetClass="entr" presetID="10">
                                  <p:stCondLst>
                                    <p:cond delay="0"/>
                                  </p:stCondLst>
                                  <p:childTnLst>
                                    <p:set>
                                      <p:cBhvr>
                                        <p:cTn id="290" dur="1" fill="hold">
                                          <p:stCondLst>
                                            <p:cond delay="0"/>
                                          </p:stCondLst>
                                        </p:cTn>
                                        <p:tgtEl>
                                          <p:spTgt spid="966">
                                            <p:txEl>
                                              <p:pRg st="0" end="0"/>
                                            </p:txEl>
                                          </p:spTgt>
                                        </p:tgtEl>
                                        <p:attrNameLst>
                                          <p:attrName>style.visibility</p:attrName>
                                        </p:attrNameLst>
                                      </p:cBhvr>
                                      <p:to>
                                        <p:strVal val="visible"/>
                                      </p:to>
                                    </p:set>
                                    <p:animEffect filter="fade" transition="in">
                                      <p:cBhvr additive="repl">
                                        <p:cTn id="291" dur="500"/>
                                        <p:tgtEl>
                                          <p:spTgt spid="966">
                                            <p:txEl>
                                              <p:pRg st="0" end="0"/>
                                            </p:txEl>
                                          </p:spTgt>
                                        </p:tgtEl>
                                      </p:cBhvr>
                                    </p:animEffect>
                                  </p:childTnLst>
                                </p:cTn>
                              </p:par>
                            </p:childTnLst>
                          </p:cTn>
                        </p:par>
                        <p:par>
                          <p:cTn id="292" fill="hold">
                            <p:stCondLst>
                              <p:cond delay="11500"/>
                            </p:stCondLst>
                            <p:childTnLst>
                              <p:par>
                                <p:cTn id="293" nodeType="afterEffect" fill="hold" presetClass="entr" presetID="18" presetSubtype="6">
                                  <p:stCondLst>
                                    <p:cond delay="0"/>
                                  </p:stCondLst>
                                  <p:childTnLst>
                                    <p:set>
                                      <p:cBhvr>
                                        <p:cTn id="294" dur="1" fill="hold">
                                          <p:stCondLst>
                                            <p:cond delay="0"/>
                                          </p:stCondLst>
                                        </p:cTn>
                                        <p:tgtEl>
                                          <p:spTgt spid="959">
                                            <p:txEl>
                                              <p:pRg st="0" end="0"/>
                                            </p:txEl>
                                          </p:spTgt>
                                        </p:tgtEl>
                                        <p:attrNameLst>
                                          <p:attrName>style.visibility</p:attrName>
                                        </p:attrNameLst>
                                      </p:cBhvr>
                                      <p:to>
                                        <p:strVal val="visible"/>
                                      </p:to>
                                    </p:set>
                                    <p:animEffect filter="strips(downRight)" transition="in">
                                      <p:cBhvr additive="repl">
                                        <p:cTn id="295" dur="500"/>
                                        <p:tgtEl>
                                          <p:spTgt spid="959">
                                            <p:txEl>
                                              <p:pRg st="0" end="0"/>
                                            </p:txEl>
                                          </p:spTgt>
                                        </p:tgtEl>
                                      </p:cBhvr>
                                    </p:animEffect>
                                  </p:childTnLst>
                                </p:cTn>
                              </p:par>
                            </p:childTnLst>
                          </p:cTn>
                        </p:par>
                        <p:par>
                          <p:cTn id="296" fill="hold">
                            <p:stCondLst>
                              <p:cond delay="12000"/>
                            </p:stCondLst>
                            <p:childTnLst>
                              <p:par>
                                <p:cTn id="297" nodeType="afterEffect" fill="hold" presetClass="entr" presetID="10">
                                  <p:stCondLst>
                                    <p:cond delay="0"/>
                                  </p:stCondLst>
                                  <p:childTnLst>
                                    <p:set>
                                      <p:cBhvr>
                                        <p:cTn id="298" dur="1" fill="hold">
                                          <p:stCondLst>
                                            <p:cond delay="0"/>
                                          </p:stCondLst>
                                        </p:cTn>
                                        <p:tgtEl>
                                          <p:spTgt spid="951"/>
                                        </p:tgtEl>
                                        <p:attrNameLst>
                                          <p:attrName>style.visibility</p:attrName>
                                        </p:attrNameLst>
                                      </p:cBhvr>
                                      <p:to>
                                        <p:strVal val="visible"/>
                                      </p:to>
                                    </p:set>
                                    <p:animEffect filter="fade" transition="in">
                                      <p:cBhvr additive="repl">
                                        <p:cTn id="299" dur="500"/>
                                        <p:tgtEl>
                                          <p:spTgt spid="951"/>
                                        </p:tgtEl>
                                      </p:cBhvr>
                                    </p:animEffect>
                                  </p:childTnLst>
                                </p:cTn>
                              </p:par>
                            </p:childTnLst>
                          </p:cTn>
                        </p:par>
                        <p:par>
                          <p:cTn id="300" fill="hold">
                            <p:stCondLst>
                              <p:cond delay="12500"/>
                            </p:stCondLst>
                            <p:childTnLst>
                              <p:par>
                                <p:cTn id="301" nodeType="afterEffect" fill="hold" presetClass="entr" presetID="22" presetSubtype="2">
                                  <p:stCondLst>
                                    <p:cond delay="0"/>
                                  </p:stCondLst>
                                  <p:childTnLst>
                                    <p:set>
                                      <p:cBhvr>
                                        <p:cTn id="302" dur="1" fill="hold">
                                          <p:stCondLst>
                                            <p:cond delay="0"/>
                                          </p:stCondLst>
                                        </p:cTn>
                                        <p:tgtEl>
                                          <p:spTgt spid="944"/>
                                        </p:tgtEl>
                                        <p:attrNameLst>
                                          <p:attrName>style.visibility</p:attrName>
                                        </p:attrNameLst>
                                      </p:cBhvr>
                                      <p:to>
                                        <p:strVal val="visible"/>
                                      </p:to>
                                    </p:set>
                                    <p:animEffect filter="wipe(right)" transition="in">
                                      <p:cBhvr additive="repl">
                                        <p:cTn id="303" dur="500"/>
                                        <p:tgtEl>
                                          <p:spTgt spid="944"/>
                                        </p:tgtEl>
                                      </p:cBhvr>
                                    </p:animEffect>
                                  </p:childTnLst>
                                </p:cTn>
                              </p:par>
                            </p:childTnLst>
                          </p:cTn>
                        </p:par>
                        <p:par>
                          <p:cTn id="304" fill="hold">
                            <p:stCondLst>
                              <p:cond delay="13000"/>
                            </p:stCondLst>
                            <p:childTnLst>
                              <p:par>
                                <p:cTn id="305" nodeType="afterEffect" fill="hold" presetClass="entr" presetID="10">
                                  <p:stCondLst>
                                    <p:cond delay="0"/>
                                  </p:stCondLst>
                                  <p:childTnLst>
                                    <p:set>
                                      <p:cBhvr>
                                        <p:cTn id="306" dur="1" fill="hold">
                                          <p:stCondLst>
                                            <p:cond delay="0"/>
                                          </p:stCondLst>
                                        </p:cTn>
                                        <p:tgtEl>
                                          <p:spTgt spid="967">
                                            <p:txEl>
                                              <p:pRg st="0" end="0"/>
                                            </p:txEl>
                                          </p:spTgt>
                                        </p:tgtEl>
                                        <p:attrNameLst>
                                          <p:attrName>style.visibility</p:attrName>
                                        </p:attrNameLst>
                                      </p:cBhvr>
                                      <p:to>
                                        <p:strVal val="visible"/>
                                      </p:to>
                                    </p:set>
                                    <p:animEffect filter="fade" transition="in">
                                      <p:cBhvr additive="repl">
                                        <p:cTn id="307" dur="500"/>
                                        <p:tgtEl>
                                          <p:spTgt spid="967">
                                            <p:txEl>
                                              <p:pRg st="0" end="0"/>
                                            </p:txEl>
                                          </p:spTgt>
                                        </p:tgtEl>
                                      </p:cBhvr>
                                    </p:animEffect>
                                  </p:childTnLst>
                                </p:cTn>
                              </p:par>
                            </p:childTnLst>
                          </p:cTn>
                        </p:par>
                        <p:par>
                          <p:cTn id="308" fill="hold">
                            <p:stCondLst>
                              <p:cond delay="13500"/>
                            </p:stCondLst>
                            <p:childTnLst>
                              <p:par>
                                <p:cTn id="309" nodeType="afterEffect" fill="hold" presetClass="entr" presetID="18" presetSubtype="6">
                                  <p:stCondLst>
                                    <p:cond delay="0"/>
                                  </p:stCondLst>
                                  <p:childTnLst>
                                    <p:set>
                                      <p:cBhvr>
                                        <p:cTn id="310" dur="1" fill="hold">
                                          <p:stCondLst>
                                            <p:cond delay="0"/>
                                          </p:stCondLst>
                                        </p:cTn>
                                        <p:tgtEl>
                                          <p:spTgt spid="960">
                                            <p:txEl>
                                              <p:pRg st="0" end="0"/>
                                            </p:txEl>
                                          </p:spTgt>
                                        </p:tgtEl>
                                        <p:attrNameLst>
                                          <p:attrName>style.visibility</p:attrName>
                                        </p:attrNameLst>
                                      </p:cBhvr>
                                      <p:to>
                                        <p:strVal val="visible"/>
                                      </p:to>
                                    </p:set>
                                    <p:animEffect filter="strips(downRight)" transition="in">
                                      <p:cBhvr additive="repl">
                                        <p:cTn id="311" dur="500"/>
                                        <p:tgtEl>
                                          <p:spTgt spid="9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3T08:09:55Z</dcterms:created>
  <dc:creator>M</dc:creator>
  <dc:description/>
  <dc:language>en-US</dc:language>
  <cp:lastModifiedBy>Pragya</cp:lastModifiedBy>
  <dcterms:modified xsi:type="dcterms:W3CDTF">2018-06-12T14:44:28Z</dcterms:modified>
  <cp:revision>1040</cp:revision>
  <dc:subject/>
  <dc:title>PowerPoint Presentation</dc:title>
</cp:coreProperties>
</file>